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680" y="4236480"/>
            <a:ext cx="80517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7640" y="198072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680" y="423648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7640" y="423648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2592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4000" y="1980720"/>
            <a:ext cx="2592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6320" y="1980720"/>
            <a:ext cx="2592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680" y="4236480"/>
            <a:ext cx="2592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4000" y="4236480"/>
            <a:ext cx="2592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6320" y="4236480"/>
            <a:ext cx="2592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392904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97640" y="1980720"/>
            <a:ext cx="392904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49500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7640" y="1980720"/>
            <a:ext cx="392904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1680" y="423648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392904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7640" y="198072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97640" y="423648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7640" y="198072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1680" y="4236480"/>
            <a:ext cx="80517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1680" y="4236480"/>
            <a:ext cx="80517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7640" y="198072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1680" y="423648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97640" y="423648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2592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4000" y="1980720"/>
            <a:ext cx="2592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6320" y="1980720"/>
            <a:ext cx="2592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680" y="4236480"/>
            <a:ext cx="2592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4000" y="4236480"/>
            <a:ext cx="2592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6320" y="4236480"/>
            <a:ext cx="25923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392904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7640" y="1980720"/>
            <a:ext cx="392904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9500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7640" y="1980720"/>
            <a:ext cx="392904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680" y="423648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392904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7640" y="198072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7640" y="423648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7640" y="1980720"/>
            <a:ext cx="392904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680" y="4236480"/>
            <a:ext cx="80517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Line 4"/>
          <p:cNvSpPr/>
          <p:nvPr/>
        </p:nvSpPr>
        <p:spPr>
          <a:xfrm>
            <a:off x="2639880" y="638280"/>
            <a:ext cx="0" cy="5540400"/>
          </a:xfrm>
          <a:prstGeom prst="line">
            <a:avLst/>
          </a:prstGeom>
          <a:ln w="9360">
            <a:solidFill>
              <a:srgbClr val="fff0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467080" y="2657160"/>
            <a:ext cx="6184800" cy="30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nfectious Diseas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HOD final logo.psd"/>
          <p:cNvPicPr/>
          <p:nvPr/>
        </p:nvPicPr>
        <p:blipFill>
          <a:blip r:embed="rId2"/>
          <a:stretch/>
        </p:blipFill>
        <p:spPr>
          <a:xfrm>
            <a:off x="419040" y="644400"/>
            <a:ext cx="2095560" cy="806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2651040" y="1047600"/>
            <a:ext cx="6035760" cy="84240"/>
          </a:xfrm>
          <a:prstGeom prst="rect">
            <a:avLst/>
          </a:prstGeom>
          <a:solidFill>
            <a:srgbClr val="ffd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 of Transmi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link in the chain of infe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that agents use to move from reservoirs through portals of exit into potential host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s of transmission include direct and indirect contact, air, and common vehicl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rtal of Ent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1680" y="1827360"/>
            <a:ext cx="805176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link in the chain of infe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primary portals of entry are the respiratory system, the digestive system, and breaks in ski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secondary portals of entry include the genital tract and the conjunctiv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hree ways for an agent to gain entry to a potential hos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can infect cells in one of the portal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can enter body through skin that has been broken through trauma, bite, or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ction can be congen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w H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link in the chain of infe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s people who can get sick when they become exposed to a disease-causing microorganism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thods of Transmi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cont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the a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common vehicle and ve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rect Conta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1956960"/>
            <a:ext cx="805176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iest way for pathogens to infect someon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to person (kissing, sharing stra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to person (petting a dog, scooping cat lit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 to unborn child (from placenta to fe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direct Conta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rect contact is another method of transmission of pathogens to human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ease-causing organisms can live on doorknobs, telephones, and computer keyboard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an become infected if an infected person has used the equipment before you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irbor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oplets and particles are airborne methods of transmissio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erculosis and influenza are two types of infectious diseases that have the ability to spread both through droplet and particle transmiss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Vehicle and Vec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1600" y="1956960"/>
            <a:ext cx="796932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ctious diseases can spread through insect carriers and even through foo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ct carriers are often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ctor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ctors can transmit germs to humans by landing on or biting them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cooked meat and unwashed fruits and vegetables are often carriers for germs, as is unclean, unpurified wa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x Major Causes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 Infectious Dise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sitic w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ter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8120" y="1947960"/>
            <a:ext cx="81694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scopic, single-celled organisms that can be found practically anywher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types, named for shap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cci (spher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illi (rodli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rilla (spi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1680" y="1924200"/>
            <a:ext cx="805176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fectious disea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 the chain of infe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 the transmission methods of infectious ag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he six major causes of infectious diseas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 the difference between controllable and uncontrollable risk facto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teria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(continued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types of bacteria can live in the body without causing harm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include pertussi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Bordetella pertussis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yme disea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Borrelia burgdorferi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peptic ulcer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Helicobacter pylori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erculosi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Mycobacterium tuberculosis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pneumoni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Mycoplasm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r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7680" y="1944720"/>
            <a:ext cx="805176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ctious parasites made up of a protein shell that encloses either deoxyribonucleic acid (DNA) or ribonucleic acid (RNA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’t reproduce by themselves, so they’re dependent on other living beings for reproductio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to their unique makeup, diseases caused by viruses are among some of the most contagiou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include the common cold (rhinovirus), genital warts (human papillomaviruses), influenza (influenza A and B), chicken pox (varicella zoster), and genital herpes (herpes simplex 1 and 2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g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41440" y="1943280"/>
            <a:ext cx="805176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-celled or multicelled plant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licate by budding or making spor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fungal infections come from environmental exposure to the spor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include yeast infection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Candida albicans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thlete’s foot (dermatophyte fungi), and histoplasmosi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Histoplasma capsulatum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tozo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-celled organisms that usually can live independently of a host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mitted by feces or contaminated water or foo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include giardiasi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Giardia lambli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chomoniasi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Trichomonas vaginalis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amoebic dysente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Entamoeba histolytic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asitic Wo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82480" y="1947960"/>
            <a:ext cx="805176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lminth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st of the pathoge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ve on or in a ho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infect people who unintentionally consume worm eggs either in food or wate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vae can break through and burrow into the ski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include pinworm infection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Enterobius vermiculari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okworm infection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Necator americanu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roundworm infection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Ascaris lumbricoide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st solely of protein material but lack DNA and RNA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le for the spread of bovine spongiform encephalopathy (BSE), or mad cow disea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eases caused by prions are usually characterized by spongelike holes in the brain, dementia, and weaknes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rollable and Uncontrollable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sk Fac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quire and maintain a strong immune system to avoid disea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rcise da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t a well-balanced di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enough sle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smoke or use illegal drugs; do limit alcohol consumption, manage stress, and get vacc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tice good hygi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risk factors can’t be avoid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ernal Barri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50800" y="1947960"/>
            <a:ext cx="80517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line of defense against invading pathoge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 both physical and chemical barri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n is one of the most important barri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cous membranes, hair, and cilia are other examples of external physical barri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iva and stomach acid are examples of external chemical barri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nate Immune Syst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3360" y="1938240"/>
            <a:ext cx="80517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nent of the immune system that is present from birt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st-response system designed to remove any foreign matter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s inflammation at the site where a pathogen breaches the external defenses of the bod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nate Immune System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(continued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nflammation causes redness, pain, warmth, or swelling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s the body identify bacteria and activates cells to clear dead cell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es and removes foreign substances in the organs, tissues, blood, and lym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(continued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680" y="1968480"/>
            <a:ext cx="80517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 the components of the external defenses and immune system of the bod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common infectious diseases and their causes, symptoms, and treat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quired immunodeficiency syndrom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IDS) and the virus that causes 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ways to protect yourself from infectious diseas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quired Immune Syst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nent of the immune system that grows as you are exposed to a variety of disease-causing pathogen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wo parts are active and passive immunit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immunity targets specific foreign particles. Vaccinations are considered part of the active immun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immunity is from another source, such as immunity from the mother passed through the placenta or breast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Infectious Dise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c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luenza (flu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terial meningit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tussis (whooping cough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onucleosis (mon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st Nile vir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95360"/>
            <a:ext cx="853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Col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2880" y="1936800"/>
            <a:ext cx="805212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ute rhinit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be caused by more than 200 types of rhinovirus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contagious viral infection that is generally spread by person-to-person contact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Cold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(continued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ly symptoms include runny or stuffy nose, nasal discharge, mild muscle aches, and sore throat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ys to alleviate symptom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ink plenty of flui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plenty of r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t we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ver-the-counter medications to ease muscle ach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rgle with salt 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loze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fluenz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680" y="1937880"/>
            <a:ext cx="805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d by the influenza viru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ction of the respiratory tract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ly transmitted by drople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ized by headaches, severe muscle aches, sudden onset fatigue and weakness, and sudden onset of a high fever, chills, sore throat, and cough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 plenty of rest, drink lots of fluids, and  use aspirin when neede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ningit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680" y="1937880"/>
            <a:ext cx="805176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ingitis is inflammation of the meninges, the membranes covering the brain and spinal cor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caused by bacteria or viru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al meningitis is often mild, but bacterial meningitis requires immediate attention because it can be fata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ptoms of bacterial meningitis include sudden onset of a high fever, sudden onset of a severe headache, acute fatigue, nausea, and a stiff neck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ccine (Menactra) is now available for meningococcal meningitis and the other three types of bacterial meningiti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ertus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71680" y="1931760"/>
            <a:ext cx="80517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tussis is an infection of the respiratory tract also known a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ooping coug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ptoms include runny nose, slight fever, and nasal conges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inctive symptom is a dry cough, resulting in coughing bouts that can last for several minutes and that end with a whooping soun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be treated with antibiotic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uberculo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52600" y="1946160"/>
            <a:ext cx="80517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berculosis is a chronic bacterial infection caused b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sump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ite de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eads from person to person through the air when an infected person coughs, sneezes, or even speak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ptoms include fever, weight loss, weakness, night sweats, chest pain, coughing, and coughing of bloo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treated with antibioti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nonucleosis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9220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n a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issing disea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Epstein-Barr viru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ead through contact with the saliva of an infected perso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ptoms are sore throat, fever, swollen glands, headache, chills, nausea, and severe and persistent fatigue and weaknes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at least 1 or 2 months of res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ment involves getting lots of bed rest, eating a balanced diet, drinking adequate amounts of fluid, and using over-the-counter medications such as aspirin and lozeng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neumon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neumonia is an infection of the lungs and lower respiratory tract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d by bacteria, viruses, or fungi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common form is bacterial pneumon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istics of pneumonia are high fever, severe chest pains, shortness of breath, chills, and a productive cough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n Infectious Diseas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680" y="1954080"/>
            <a:ext cx="805176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fectious disease is a disease that can spread easily from one person to anoth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st Nile Vir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1680" y="1933200"/>
            <a:ext cx="80517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mitted by mosquitoes that have bitten wild birds—usually crows and jays—that serve as reservoirs for the viru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s and symptoms include headache, fever, diarrhea, nausea, vomiting, skin rash, backache, swollen lymph glands, and lack of appetit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rely, the virus can cause encephalitis or   meningoencephaliti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xually Transmitted Infe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 and AI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patitis 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phil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lamyd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norrh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ital her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ital wa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lvic inflammatory disease (PI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V and AI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1943280"/>
            <a:ext cx="80517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DS stand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quired immunodeficiency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irus that causes AIDS is the human immunodeficiency virus (HIV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V damages the immune system, making it difficult for the body to fight off disease-causing organism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DS usually has no signs or symptoms in the early st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later stages, signs and symptoms include swollen lymph nodes, diarrhea, weight loss, fever, cough, and shortness of breath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gns and Symptoms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 Full-Blown AI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52600" y="1953720"/>
            <a:ext cx="805176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use night swea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lls that last for several wee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ver higher than 100 °F (38 °C) that lasts for several wee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y coug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ness of bre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istent diarrh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gns and Symptoms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 Full-Blown AIDS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(continued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ions on the tongue or in the mou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urred v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onic fatig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ollen lymph no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pid weight lo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HIV Is Transmitt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xual transmiss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infected bloo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mother to chi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organ transpl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the use of unsterilized medical equi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tection From HI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e safe sex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share needl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receive blood overseas if you can help 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 tested for HIV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patitis 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71680" y="1931760"/>
            <a:ext cx="805176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ous liver disease caused by the hepatitis B virus (HBV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mitted from one person to another through sexual contact, through shared use of needles, and from mother to child during pregnancy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also spread through close nonsexual contact; by exposure to infected blood; and by contact with mucous membran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ymptoms of Hepatitis 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680" y="1930320"/>
            <a:ext cx="805176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us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s of appet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k ur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dominal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und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int pai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tection From Hepatitis 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 vaccinat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latex condoms when engaging in sexual activit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share needles or syring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sure all needles and syringes are sterile if you are getting a tattoo or body pierc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in of Infe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by which a pathogen transmits a diseas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 distinct li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r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l of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of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l of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yphil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d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reponema pallidu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teria.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be treated with antibiotic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mitted through direct contact with a syphilis sor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mary Stage of Syphil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680" y="1965240"/>
            <a:ext cx="805176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hancre sore develops, usually at the site of the infectio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males, the sore is usually near the penis or scrotum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females, the sore is usually on the cervix or vaginal wal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condary Stage of Syphil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stage is characterized by white patches on the skin, lesions on mucous membranes, hair loss, fever, headache, fatigue, weight loss, and swollen lymph nod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ions can appear 3 weeks to 1 year after the chancre sore has disappear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rtiary Stage of Syphil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hird stage is characterized by damage to the central nervous syste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effects include blindness, senility, dementia, and cardiovascular damag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lamydi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ction of the urogenital tract caused by the bacteri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lamydia trachomat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mitted from one infected person to another through oral, vaginal, or anal sex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cted mothers can also pass the bacteria to their babies during vaginal childbirth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ymptoms of Chlamyd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935000"/>
            <a:ext cx="80517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ximately 75% of infected women and 50% of infected men experience no signs or sympto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men might experience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ing sensation when urin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normal vaginal dis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back and abdominal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eding between menstrual peri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ful inter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 might experience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ile dis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ing sensation when urin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ing around the opening of the pe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norrhe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680" y="1942920"/>
            <a:ext cx="8051760" cy="44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d by the bacteri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isseria gonorrhoea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ead by contact through the mouth, vagina, penis, or anus or from infected mother to child during delive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fects the linings of the urethra, genital tract, pharynx, and rectum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be treated with antibiotic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ital Her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71680" y="1944720"/>
            <a:ext cx="80517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the herpes simplex virus types 1 (HSV-1) and 2 (HSV-2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cases caused by HSV-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s the body through tiny breaks in the skin or mucous membranes through either sexual contact or skin-to-skin contac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zed by pain, itching, burning sensation when urinating, and sores in the genital area, along with headache, fever, muscle aches, and swollen lymph nodes in the groi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ure is avail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ital War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941480"/>
            <a:ext cx="80517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the human papillomavirus (HPV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found in the skin of the penis, vulva, and anus; in the vagina, cervix, or rectum; or in the mouth or throa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ts can appear as either flesh-colored bumps or have a cauliflower-like appearance and are soft, moist, and pin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cause itching in the genital area along with bleeding and pain during intercours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ure, but warts can be removed using medications or health care workers can surgically remove th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95360"/>
            <a:ext cx="85341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elvic Inflammatory Diseas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71680" y="1947960"/>
            <a:ext cx="80517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ction of the female reproductive organs, including the uterus and fallopian tub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D is a frequent and serious complication from untreated sexually transmitted infections such as gonorrhea and chlamydi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ptoms include painful intercourse, painful urination, heavy and odorous vaginal discharge, pain in the lower back and abdomen, and irregular menstrual bleeding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treated with antibioti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297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nks in the Chain of Infe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4" descr="fig.ID_01.jpg"/>
          <p:cNvPicPr/>
          <p:nvPr/>
        </p:nvPicPr>
        <p:blipFill>
          <a:blip r:embed="rId1"/>
          <a:stretch/>
        </p:blipFill>
        <p:spPr>
          <a:xfrm>
            <a:off x="1625760" y="1434960"/>
            <a:ext cx="5906880" cy="498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tection From Infectious Diseases: Immuniz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7840" y="1941120"/>
            <a:ext cx="80326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sure your vaccinations are up to da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’s especially important for college students to receive the meningitis and HPV vaccin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tection From Infectious Diseases: Hand Wash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680" y="1941480"/>
            <a:ext cx="805176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h your hands often with soap and wa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h for at least 20 second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tection From Infectious Diseases: Safe Sex Pract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939680"/>
            <a:ext cx="80517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e abstinence, if possi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latex condo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in a long-term, mutually monogamous relationshi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d sexual activity with any partner whose sexual history you don’t know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 excessive use of alcohol or other drugs because such use can impair judgment, which could lead to risky sexual practi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link in the chain of infe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s any disease-causing microorganis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thoge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rm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be bacteria, viruses, fungi, protozoa, parasitic worms, or pr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xample is the influenza viru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ervoi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680" y="1793880"/>
            <a:ext cx="805176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link in the chain of infe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al environment where an agent can live, grow, and reproduc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, the reservoir is the body of an infected person; other examples of reservoirs include animals and soi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ts continue to live and grow in the reservoir before they’re transmitted to oth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rtal of Ex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80517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link in the chain of infe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e agents take out of the reservoirs on their way to causing disease in other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 portals of exit are the respiratory, digestive, urinary, and reproductive systems, as well as bloo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9:53:31Z</dcterms:created>
  <dc:creator/>
  <dc:description/>
  <dc:language>en-US</dc:language>
  <cp:lastModifiedBy>derekc</cp:lastModifiedBy>
  <dcterms:modified xsi:type="dcterms:W3CDTF">2009-04-13T19:26:12Z</dcterms:modified>
  <cp:revision>88</cp:revision>
  <dc:subject/>
  <dc:title>Presentation Package</dc:title>
</cp:coreProperties>
</file>