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6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AC25-D9B9-4DEB-A5F0-031C8D1FE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188-8F84-4F1F-B2BB-4B15FD3A62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edominant pathogen in H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of 463 hospitals in 2006-2007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65 of device-associated SA infections are MR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A can be carried in the nares for more than 1 year; in one study, subsequent MRSA infections occurred in 29% of patients within 18 months of a previous colonization or inf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0EB0-E31F-4EE5-BFCA-BEE62CCBF0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istance develops due to acquisition of van gene clusters on mobile genetic elements that are transferable between enterococcal st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st Related Risk Facto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VRE colonization , Enterococcal stool density, Immunodeficiency, Transplant recipient, Clostridium difficile diarrhea , Renal insufficiency, Severity of underlying ill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ealthcare facilitie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CU Admission, Proximity to a patient with VRE, Length of hospitalization, Multiple unit stays, Enteral feedings (Total perienteral nutriti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dic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Number, type, and duration of antibiotic therapy, Vancomycin use, 3rd Generation Cephalosporin utilization, Anti-anaerobic antibiotics (such as Clindamycin), Flouroquinolones (such as Ciprofloxac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51D-0E87-4CB9-ABA1-6DA3E926FA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A257-4E93-41CE-93B4-E3738CC1AF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k of Enterobacteriaceae infections high among patients with a pathologic intra-abdominal condition /surg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inary tract infection both catheterized and non catheterized patients because of the proximity of the urethral meatus to the anus. Recent Prolonged hospitalization,  LTC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361B-E3E4-4E0D-A09C-53FEC1B22A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mainly occurs in KP, reported in other Enterobecteriacea, few reports in Pseudomon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C0CB-B1ED-4241-8C36-97706DBE68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A85E-E8D4-470C-B093-A1D5B7ED2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F48-6007-46CE-AE8D-D21249365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9A3D-86AC-4C25-8E92-B5D44A9AD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1EE4-EA28-410A-AC49-74C5652A4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834-4DF3-4A64-9F40-DC0DED45CA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A7B-1B3C-4D83-91B7-ABB564577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DC4-943B-4071-BDE4-3A83F0922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8B8-722B-49BF-BB9D-1523C66E99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vitro survival time 329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days survival on Formica, 12 days on stainles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4 months on dry surf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agenvoort JHT, Joosten EJAJ. J Hosp Infect 2002;52:226-2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bster C et al. Infect Control Hosp Epidemiol 2000;21:24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Wendt C et al. J Clin Microbiol 1997;35:1394-13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species &gt;2/3 of Acinetobacter infections are due to A. bauman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lonize the pharynx intermittently in 7% of the general population and in addition can be isolated from sputum, urine, stool, and vaginal dis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R-AB carriage and natural history have not been well stud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colonization are 25 to 40% among healthy individuals and up to 75% for hospitalized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D955-6CC2-4F49-81E9-169CF8998B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lonize the pharynx intermittently in 7% of the general population and in addition can be isolated from sputum, urine, stool, and vaginal dis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R-AB carriage and natural history have not been well stud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colonization are 25 to 40% among healthy individuals and up to 75% for hospitalized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198-2ED7-4B4B-B20B-6ED0501E61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rvoirs: 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: 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ist areas axilla, ears, perine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E0E8-C5B0-45CD-836A-1115D17AE1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BE90-CCF8-440B-A8EB-9F1A4D8C85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A5D-AB66-43E7-9B83-0BB30E42D5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positive means (Dark blue when use gram s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ligate anaerobes does not require O2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xins are required to cause disease. A is the major toxins B can also cause the same illnes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I used to be called C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1552-DE7A-452B-9990-6A76009AAF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s, devices commodes, bathing tubs, and electronic rectal thermomet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infection can be endogenous or ex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D735-68DD-4B86-A6D3-E2AEF9BC71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acquire C diff at the HCF 1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ntact with a healthc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 with transient hand coloniz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ntact with the contaminated environment, or (3) by direct contact with a patient with CD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e of acquisition during hospitalization increases linearly with time and can be as high as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4 weeks of hospit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4396-39B0-4AE7-B40E-AB8864C6C9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877-B074-469E-B93F-DBB61B6076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8BB-A473-4BD3-B559-CB0D01A654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8954-DC61-4612-8068-56A2A8AF6B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nization Pressu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t is defined as the proportion of patients colonized with a particular organism in a defined geographic area within a hospital/healthcare facility during a specified ti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timicrobial Pressur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creased antimicrobial use leads to selective pressure on normal flora resulting in emergence of  MD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1084-66FA-430F-B3BF-5F48F172CE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B20-6704-4DA0-816D-1557867E80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38E-BC23-4109-BFA0-6284A85EA8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1EB9-EB82-4B04-9A55-272B4C2159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2304-4327-4D6A-AA21-52B0C1D313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A carriage varied substantially across 10 nursing homes. Overall point prevalence was 31% (range, 7%–5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us 6% in hospitals and 9%–24% in intensive care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ta-Lactam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icillins, cephalosporins, cephamycins, carbapenems, monobact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81F4-9262-4EAB-B67F-B8DBC3FE73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153-9B91-473D-A8F5-1D138B48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877-EE3E-4837-A9F6-ABB88F56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DEC67-5687-4514-891E-8FF0CA7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FADD3-0C76-4BED-BFF9-B714EE22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91456-2970-4C45-9299-77530C1D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46B93-7815-4D83-B2F3-DB87005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250DE-2860-4791-AD2A-478B8FA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73CBE-F4F8-4AFA-9B90-6B8D9246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933EA-D8B7-4BB7-9EDB-FCB53E81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117E1-16B5-4B8D-B3F9-E10DCCB9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81C93-5D6D-4A7F-9191-FADAFB6E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7AF1B-AE62-472B-8DAE-8C6CBB5C1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384-B5EF-478A-80C6-FA603776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56C2D-9857-42D3-AF86-94BB37D01F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D2B96-FCCE-4EB2-84F6-F4748341922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53FB4-0B8F-4BC6-9513-13D36AB9B0D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5AC31-33A9-402D-896D-6F9B5667E5C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7429A-C323-43E2-A4E1-61FE0AB240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B0CD7-66B9-4B77-9466-10BA3C0E0C4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56402-2DF5-45A6-929D-6A6D6358E6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405BC-3F7B-47BD-9C81-ED9E0681E7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1D272-9F0F-47D3-B5AA-837F9A8EEE4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A88EC-37FA-42CB-AD13-083C5E8D9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9ED-A4D4-4D80-B04B-F461B925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756C8-A7F9-4431-B735-F6CF445DE79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9174B9-738C-4F95-A31C-D3017FCA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958366-D2A4-44C3-898A-27AE5601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C02554-C11C-47F4-8FE4-7E454341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0BE5D5-D8FC-434C-9547-931765C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F1B8A8-8021-4456-8504-C77325C1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DC4290-AB2A-4465-9208-C1B52B5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4E4CBF-48E3-4B11-B4AD-28D2DA1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923E2F-A7E7-406E-BBC4-3A61F2F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0A0C11-0E48-4D9B-BE11-D812C4E2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8553-4331-4FFB-8372-E00B786E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DF5F52-2170-43AD-9FD9-7B9359E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42C9E4-F249-40DB-92F1-EDF5F896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F2C541-1801-4A99-A297-878794B9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AD7F6-97BB-4610-B281-DD90DF7A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41798-C5FD-42C1-B306-5DF29646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D7073-2B3F-4997-A01E-6036E959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305F8-7491-41C8-84CF-8C10A796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FBFE0-BEE0-4160-9F12-2345E206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9FBEA-0924-4531-80A2-D043AB50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8B695-4D48-4243-BE0A-46AD1DC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6E4B-E18D-4B8F-B78A-BEB1EC73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598C4-5CED-4AB6-8C49-83C66CB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1DFAA-639C-49A1-BEC6-FB2ECBC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91D54-9623-4CA9-823A-2765077F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EC83E-4B9D-45F7-A955-2BBE4C00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8605F-0459-48E2-AF13-7D0CF0C4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9F22BA-BE7D-4570-BE14-CE05EA3A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CBC648-AEF7-4FCE-A62C-BEA36420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1DA71D-54DE-4906-8468-C9C8EFCD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DBD322-41AA-4D1C-B3A9-EED22DC0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D60361-8383-4E8F-B562-18C4AC35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9FC1-9C57-4496-A4E9-DFEAFC2E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5449CC-609A-454E-860A-ECFC247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13F805-7937-4596-91A5-9D407C3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4204A1-F6E5-4489-920B-BC626E67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6AF34A-4494-42AA-89A0-C908E2F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EE4D39-CEFD-4113-9058-07C1C60C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FCB239-3D68-4FBD-B2AC-BC23E7B0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0C9282-2C31-4E4A-819A-C5A94014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345DA9-9038-4119-86EB-3845133E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C2B15D-143F-4A90-81FD-EC506709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70135F-F440-47C5-ACA4-D6C650D0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B95-73D4-468F-93C9-DD1FE59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CBD9FA-4D53-470B-87D7-4CA6207D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7E9F59-F280-4798-B0AA-E7A379B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1BFF9A-0E8B-4C89-904F-6877A641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6AFB15-3335-4D0C-8E77-21E1B0A6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7E63A3-3973-4B7E-8D5F-DE513BE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062891-747C-4197-98D3-E068666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7C5C70-4746-408E-9813-8245D90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210110-BB16-490C-8B45-F566BC5B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5656DE-8495-458E-BC34-15B5A5A4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1FCF61-C23C-47EC-8758-217AA0D4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202-AE91-4381-83E8-2834B3D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1EDE52-0083-4F40-9952-B6C38A54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9F2B49-DC7E-40EB-945B-E0D12AAA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34AAE7-C030-4E80-83D2-E43E4A34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5CCCB0-0731-4913-B64D-CA1CEFC1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D4415F-8925-48C0-B6AF-715724D5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4153B3-75FA-42A5-BB97-E0E6D50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7A142D-8643-4946-8555-559D12C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4D573E-3C0C-41F8-AC78-99CF2F1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7F77D1-9828-425A-943B-6A95B598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903365-BF56-4994-B92F-AAA52B34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422-84BC-45DA-B3AA-61BC7D3D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375D75-E25C-4854-A65D-338CD4E6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30BC5F-EE84-420B-87A9-A99AC5F0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E2EBE9-DD55-44D5-A9A3-F0DE1C63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4EF124-FA93-4C5F-8946-54EFF046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CE8117-85C0-4BE9-8F9A-28796BD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65B461-F1CE-495E-B9C3-97C3EC3A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06F9FB-EE0B-4BE1-ABE6-99D3B90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CF4C12-CC4C-497D-8071-78A33CAC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F33255-7AEC-485D-BC99-9D1C372F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D137E8-650C-4EBC-9339-F271C428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D684-DDB0-4D49-9559-00BBAFE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BC8B81-33B0-4430-B397-B57AD32D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6B9699-A64E-4045-A85C-B10D0FF9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108E75-DDFF-4C6D-82B3-0B30ABB2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059-3CF7-402F-9381-40C850D1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4BA-39ED-41EC-A807-BDE0E810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F92-1CC0-496E-9CAD-91C95C8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9C0B-3230-4945-A71A-25E4C443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40C7-0B38-4A9F-95F6-EAB4B352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02D-FA83-4F07-A58C-114918EB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A323-F1FA-4E3E-B5CD-2965E9CF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B3CC-425B-4CC7-80B6-687CC60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67FC-A6FD-4229-88A1-94E1FA0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3CE8-C176-4B27-A07E-CB6846B0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E3CBC-D096-4DBE-9C44-8989AD60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18D-7B38-4018-96F1-5EC61BA7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D40B-73EC-41FF-8DCE-CACB7589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8812-5B1B-41FE-B4E8-44825DA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7A6C-3348-4BD5-8DE3-5AE16F3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ACEE-6F04-4019-8612-AAC9B710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A605-6926-48A0-BBFD-DCA11C61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994C-AFBC-443D-BF73-7D94922E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311D-E6B0-40D2-81C2-0C5BDED7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A53A-A761-4543-A800-4C60A06B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6818-421D-4DA0-A0CB-7FCB308C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0A36-E354-4838-9405-2CA7036B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F98-3C30-4567-812C-531D7D59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7772-82E7-4D9E-B70A-7F3AF2CF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D834-0E70-431D-989D-8C151555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359D-C5D0-46BE-8C86-BDDA1FA0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B98D-665C-4F69-8026-0224CC4F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3CEC-A640-4F77-A9A1-D273AFA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EF97-954E-43DF-A4E3-E8FBC73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FCBA-8FEA-4798-BEBC-83ADB471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D8F3-0A52-4339-B447-33AC0491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E1A8-381C-4E59-A2AD-2B1A33E0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E019-7C41-4C43-9D44-8A0233C6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52E-6583-48B3-97FB-5AD3068E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A003-692A-4AC3-8B46-89769B47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A761-CED0-4A9D-9CD5-0E84C7FA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AB96-FF1E-4693-B4D9-1BF16231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BA37-4302-43B4-A762-47944081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73701-8F82-4826-8FCB-1DD377A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FA7F-81C1-457F-8292-C6B4CEA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2C6A1-1B98-4E70-8E10-76E6EE3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3907-3214-4EF5-8E89-97E457DB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80CF-5E46-4D88-A8F6-1D858C23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B645-D6B2-42C5-8735-82CD6F81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FF2-90F7-47BF-A890-234559D0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72C6-83B4-49D0-868B-8B20EE3A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FC04-FBC1-48D8-AD80-21D92865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7E5F-1758-453C-9DE4-D4906EAE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C7760-4E46-4395-BBAC-6E60A696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9F8D7-6E3A-4EA5-82B9-A5DECCF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36928-D3E0-4DDE-BBDE-71A50724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3D16-8C51-4C2A-AB97-D5225FB4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8D30-DAF3-4013-99CC-6E7A71F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4398-11E9-4BB2-BD40-96770604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5388F-8A02-428A-8850-10DB21A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213-B5F0-4402-A2AA-12755AA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0231-483E-4D7E-B17D-0677E792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B4E1-55DE-4906-9950-025D4960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F626-C473-4850-9CB7-6C6E1A4B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1DC4E-094F-48C6-A54C-6A660471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4BCC0-2A3D-4CC4-8251-55269782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AD7C-8009-4E05-A442-D1E4E019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FF0F-6D1D-433F-BAE3-D7D46320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A4793-ECEE-4842-95A4-FBA1B2F0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03DC1-0816-41F0-AA8D-38EA37D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0D6C-2DCE-4209-8EF7-B81FFF9C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C27-B8AA-4EC8-8263-9E0E96F3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E478-AE44-4F35-BBDD-CAFE134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AD8CF-82C5-4CBA-A202-B719168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6763F-1773-4C3B-91F4-6BC9F90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C3207-3194-4736-8B1E-9BE6A9AA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8D11C-7A3D-4351-B1BB-1808B897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9F29-5B62-4EAD-BBBB-CBB875FD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1EF32-F0AB-45E3-AA5A-C224AD47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2F8C7-C61C-46A0-AEBD-6CB8325F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EDC1-7E26-413D-B334-7CD0B2D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FA19-DFE5-47DF-926B-02F15B3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7D7-A019-4EDB-AB06-DDBB5B2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9E04A-CFF7-4921-B034-3991F398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AFAD2-DCAE-4121-BB0F-B94E463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30567-C205-439E-8FA0-3F612AF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A35D1-F979-4DC1-9E89-6632008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C1CC1-8A2A-446B-BF9B-8113A96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D442D-9D16-4492-9305-66436D5F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0613-BA7B-4DAA-A046-FDB48605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B87D2-E660-4260-8C30-28D7444B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D707E-181E-4310-9DA8-C6C12AC8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59EBA-B357-472A-B9B2-6F8C74A7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16B6-F1E9-4737-962B-E34B62937B1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AFFC-8F4F-46F1-8595-9F3DC92F4D3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Documents and Settings\c492301\My Documents\My Pictures\New Image.JPG"/>
          <p:cNvPicPr/>
          <p:nvPr/>
        </p:nvPicPr>
        <p:blipFill>
          <a:blip r:embed="rId4"/>
          <a:stretch/>
        </p:blipFill>
        <p:spPr>
          <a:xfrm>
            <a:off x="5715000" y="6248520"/>
            <a:ext cx="2895480" cy="4572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15"/>
          <p:cNvSpPr/>
          <p:nvPr/>
        </p:nvSpPr>
        <p:spPr>
          <a:xfrm flipV="1" rot="10800000">
            <a:off x="2742840" y="61995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ffice of Epidemiology and preventive Services 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vision of Infectious Disease Epidemiology 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2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378A-7736-46A0-AA77-E061177FB1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7E1A-F2BB-452E-97F4-4269F6D60A5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169B-0CA2-4A4B-803C-0203CA87E7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6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AADA-16B1-4633-A84D-F89F1416500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54D1-C8F5-4A3B-A39B-5577E9A9456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90A2-B360-440E-BE5A-A10E997E703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0657-06C1-4246-9519-BB9EA07D4A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65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CA56-C481-4AD3-B00A-CCCA0795331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BF5-8EA7-47F4-9889-40B8DBD0BFB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46F3-8456-47A8-8BBA-B13430C540D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38DB-260B-48B0-82E2-AD76E4C49DB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7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738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39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741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42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DBD-63D1-4F64-B8F2-AD5245F2A96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441F-91E3-417C-B2C6-A15E09BDA8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78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8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79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83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3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83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84E1-48D6-4EC5-8F40-68F6C97089D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BDA1-9297-47F8-BED0-806DC5B3B0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D08-1108-487E-9570-D703733E23D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0421-E982-4404-894B-696E232D36E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596-2C7E-4601-B938-3EBE8E1413D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D499-E4C1-4540-8D6D-A7C9D4084E8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D43-C646-407F-8F21-FB39E2EF5A6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592F-3C7A-41CD-97FA-D1DC6C5605D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2CBF-674C-4E02-9170-836544E86ED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2D92-A53C-4DA7-8C7D-172572CD06A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273B-1E7F-47BE-BAB5-B59CDAC79D1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6A23-6039-404B-AE5B-6EC95F7D1B9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62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63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4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5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66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7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8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9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0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71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2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3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2FD8-2877-4389-9DAB-FA19B5029F7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246-71AE-4F21-9BE5-46782E7588A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1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7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grpSp>
          <p:nvGrpSpPr>
            <p:cNvPr id="419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2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pic>
          <p:nvPicPr>
            <p:cNvPr id="42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F149-07BE-409B-A6E6-9ADAC91DFE27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3844-4F85-44A7-95B3-714DC84B421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Title 1" descr=""/>
          <p:cNvPicPr/>
          <p:nvPr/>
        </p:nvPicPr>
        <p:blipFill>
          <a:blip r:embed="rId1"/>
          <a:stretch/>
        </p:blipFill>
        <p:spPr>
          <a:xfrm>
            <a:off x="450720" y="1146240"/>
            <a:ext cx="8388360" cy="229212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y Dr. Sherif I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34FF-870F-46CE-B454-FE28B1C8DCC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3" name="Picture 2" descr="C:\Documents and Settings\c492301\My Documents\My Pictures\New Image.JPG"/>
          <p:cNvPicPr/>
          <p:nvPr/>
        </p:nvPicPr>
        <p:blipFill>
          <a:blip r:embed="rId2"/>
          <a:stretch/>
        </p:blipFill>
        <p:spPr>
          <a:xfrm>
            <a:off x="2938320" y="6019920"/>
            <a:ext cx="308160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9-65 % of HA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HS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4,360 invasive MRSA infections annually/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,650 associated dea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6% of all invasive MRSA  are HA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phylococcus aureu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insic virul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 a wide range of life threatening inf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 to different environmental condi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urvive in the environment 1-56 day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E04F-2EB9-4324-AFFA-254A053C601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RSA colonization generally precedes infe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k of developing MRSA infection among colonized individuals is 29% in 18 month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ionale for prevention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transmission from colonized to un-colonized individual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infection in colonized individual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RSA-specific strategies (Decolonization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 MRSA-specific strategies (reduce device-associated infect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EB26-9041-4615-B4BE-E611C11265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erobic Gram positive cocci that inhabitant of GI tract and female genital trac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ndemic in most U.S. hospit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25% all enterococcal isolates are V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sistance is commonly seen in isolates of 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eci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than 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ecal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isk factors (Host, Healthcare facility, Antimicrobial exposur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0A1F-6D13-47EE-A212-73257327A88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6" name="Title 3" descr=""/>
          <p:cNvPicPr/>
          <p:nvPr/>
        </p:nvPicPr>
        <p:blipFill>
          <a:blip r:embed="rId1"/>
          <a:stretch/>
        </p:blipFill>
        <p:spPr>
          <a:xfrm>
            <a:off x="304920" y="219240"/>
            <a:ext cx="86500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ervoirs: ….. and …….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mission: ……and …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mon sites of infection: urinary tract, surgical wound, blood stream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rtality rate is 2 times higher in VRE  than VSE infections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urvives  on environmen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days – week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0647-EB7F-4B6F-947B-197C844BE73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0456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ucose ferment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erobacteriace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odborn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monella, Shig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care-associat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obac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es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loac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 and Healthcare-associat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ebsie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es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herichia col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–glucose fermen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inetobacter baumanni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eudomonas aeruginos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022-7919-4471-A8A1-81E264809BD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 human gut flora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ironment (soil &amp; wate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cause of community and HA inf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de range of infections (UTI, Bacteremia, pneumonia, wound infecti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mon cause of outpatient UT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ebsi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counted for 15% all HAIs reported to NHSN 200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8594-8C72-40FA-83B7-F5C63804BF1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57200" y="17524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 lactama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istant to B-lactams for dec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ended spectrum B-lactamases  (ESBL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istant to 3rd generation cephalosporins, monobactam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nosocomial however 34% from patients with no healthcare contac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apene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last line of defense for treat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B298-1CD7-4949-A347-7335EE3BB25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8" name="Title 1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36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rbapenem-Resista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erobacteriaceae (CRE)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istanc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production of a carbapenemase also known as KP carbapenemase (KPC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ides on transferable plasmids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wide spread transmission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mits options for treatment  (Polymyxins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problems with nephrotoxicity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..and ….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mission; …..and 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1DF4-80C7-4FC1-BDBA-509DD1CE9F2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31" name="Title 1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36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6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9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1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3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4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8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1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2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Freeform 24"/>
          <p:cNvSpPr/>
          <p:nvPr/>
        </p:nvSpPr>
        <p:spPr>
          <a:xfrm>
            <a:off x="838080" y="288144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5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6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Freeform 28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Freeform 30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Freeform 31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3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4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Freeform 40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Freeform 41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Freeform 42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1" name="Freeform 43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Freeform 44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3" name="Freeform 45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4" name="Freeform 46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Freeform 47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Freeform 48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Freeform 49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Freeform 50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Freeform 51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Freeform 52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Freeform 53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Freeform 54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Freeform 55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Freeform 56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5" name="Freeform 57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Freeform 58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Freeform 59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8" name="Freeform 60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9" name="Freeform 61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Freeform 62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Freeform 63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2" name="Freeform 64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3" name="Freeform 65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Freeform 66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Freeform 67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6" name="Freeform 68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7" name="Freeform 69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Freeform 70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9" name="Freeform 71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0" name="Freeform 72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Freeform 73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Freeform 74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Freeform 75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Freeform 76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5" name="Freeform 77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Freeform 78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Freeform 79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Freeform 80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Freeform 81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Freeform 82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Freeform 83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2" name="Freeform 84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3" name="Freeform 85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4" name="Freeform 86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Freeform 87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6" name="Freeform 88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7" name="Freeform 89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Freeform 90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9" name="Freeform 91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Freeform 92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Freeform 93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Freeform 94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Freeform 95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4" name="Freeform 96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Freeform 97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Freeform 98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Freeform 99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8" name="Freeform 100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Freeform 101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0" name="Freeform 102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1" name="Freeform 103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Freeform 104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Freeform 105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4" name="Freeform 106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5" name="Freeform 107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6" name="Freeform 108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Freeform 109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Freeform 110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9" name="Freeform 111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Freeform 112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Freeform 113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Freeform 114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4352760" y="2786040"/>
            <a:ext cx="158760" cy="204840"/>
          </a:xfrm>
          <a:custGeom>
            <a:avLst/>
            <a:gdLst>
              <a:gd name="textAreaLeft" fmla="*/ 0 w 158760"/>
              <a:gd name="textAreaRight" fmla="*/ 159120 w 158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9" h="257">
                <a:moveTo>
                  <a:pt x="204" y="49"/>
                </a:moveTo>
                <a:lnTo>
                  <a:pt x="108" y="49"/>
                </a:lnTo>
                <a:lnTo>
                  <a:pt x="119" y="8"/>
                </a:lnTo>
                <a:lnTo>
                  <a:pt x="11" y="0"/>
                </a:lnTo>
                <a:lnTo>
                  <a:pt x="23" y="123"/>
                </a:lnTo>
                <a:lnTo>
                  <a:pt x="48" y="154"/>
                </a:lnTo>
                <a:lnTo>
                  <a:pt x="0" y="207"/>
                </a:lnTo>
                <a:lnTo>
                  <a:pt x="59" y="257"/>
                </a:lnTo>
                <a:lnTo>
                  <a:pt x="119" y="226"/>
                </a:lnTo>
                <a:lnTo>
                  <a:pt x="204" y="207"/>
                </a:lnTo>
                <a:lnTo>
                  <a:pt x="229" y="197"/>
                </a:lnTo>
                <a:lnTo>
                  <a:pt x="229" y="133"/>
                </a:lnTo>
                <a:lnTo>
                  <a:pt x="216" y="82"/>
                </a:lnTo>
                <a:lnTo>
                  <a:pt x="216" y="41"/>
                </a:lnTo>
                <a:lnTo>
                  <a:pt x="181" y="70"/>
                </a:lnTo>
                <a:lnTo>
                  <a:pt x="204" y="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Text Box 171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5" name="Freeform 177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Text Box 179"/>
          <p:cNvSpPr/>
          <p:nvPr/>
        </p:nvSpPr>
        <p:spPr>
          <a:xfrm>
            <a:off x="733320" y="617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eographical Distribution of                                    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8" name="Rectangle 145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Text Box 162"/>
          <p:cNvSpPr/>
          <p:nvPr/>
        </p:nvSpPr>
        <p:spPr>
          <a:xfrm>
            <a:off x="6934320" y="4572000"/>
            <a:ext cx="2209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0" name="TextBox 150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56B-CD59-458B-800B-364ACA46C5D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4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5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9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1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3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4" name="Freeform 24"/>
          <p:cNvSpPr/>
          <p:nvPr/>
        </p:nvSpPr>
        <p:spPr>
          <a:xfrm>
            <a:off x="838080" y="288144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5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6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7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8" name="Freeform 28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Freeform 30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1" name="Freeform 31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2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3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4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5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6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7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8" name="Freeform 40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Freeform 41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0" name="Freeform 42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1" name="Freeform 43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2" name="Freeform 44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3" name="Freeform 45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Freeform 46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5" name="Freeform 47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6" name="Freeform 48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7" name="Freeform 49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Freeform 50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9" name="Freeform 51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0" name="Freeform 52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1" name="Freeform 53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2" name="Freeform 54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3" name="Freeform 55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Freeform 56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5" name="Freeform 57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6" name="Freeform 58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Freeform 59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8" name="Freeform 60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9" name="Freeform 61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0" name="Freeform 62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Freeform 63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Freeform 64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Freeform 65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4" name="Freeform 66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5" name="Freeform 67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Freeform 68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Freeform 69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8" name="Freeform 70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9" name="Freeform 71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Freeform 72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Freeform 73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2" name="Freeform 74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3" name="Freeform 75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Freeform 76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5" name="Freeform 77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6" name="Freeform 78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Freeform 79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Freeform 80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Freeform 81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0" name="Freeform 82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1" name="Freeform 83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Freeform 84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Freeform 85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Freeform 86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Freeform 87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Freeform 88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7" name="Freeform 89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8" name="Freeform 90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9" name="Freeform 91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0" name="Freeform 92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1" name="Freeform 93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2" name="Freeform 94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3" name="Freeform 95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4" name="Freeform 96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ff00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5" name="Freeform 97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6" name="Freeform 98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7" name="Freeform 99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8" name="Freeform 100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9" name="Freeform 101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Freeform 102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1" name="Freeform 103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2" name="Freeform 104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3" name="Freeform 105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4" name="Freeform 106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5" name="Freeform 107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6" name="Freeform 108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7" name="Freeform 109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8" name="Freeform 110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9" name="Freeform 111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0" name="Freeform 112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1" name="Freeform 113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2" name="Freeform 114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3" name="Freeform 115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4" name="Freeform 116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5" name="Freeform 117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6" name="Freeform 118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7" name="Freeform 119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8" name="Freeform 120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9" name="Freeform 121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0" name="Freeform 122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1" name="Freeform 123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2" name="Freeform 124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3" name="Freeform 125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4" name="Freeform 126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5" name="Freeform 127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6" name="Freeform 128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7" name="Freeform 129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8" name="Freeform 130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9" name="Freeform 131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0" name="Freeform 132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1" name="Freeform 133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2" name="Freeform 134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3" name="Freeform 135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4" name="Freeform 136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5" name="Freeform 137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6" name="Freeform 138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7" name="Freeform 139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8" name="Freeform 140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9" name="Freeform 141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0" name="Freeform 142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1" name="Freeform 143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2" name="Freeform 144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3" name="Freeform 145"/>
          <p:cNvSpPr/>
          <p:nvPr/>
        </p:nvSpPr>
        <p:spPr>
          <a:xfrm>
            <a:off x="4352760" y="2786040"/>
            <a:ext cx="158760" cy="204840"/>
          </a:xfrm>
          <a:custGeom>
            <a:avLst/>
            <a:gdLst>
              <a:gd name="textAreaLeft" fmla="*/ 0 w 158760"/>
              <a:gd name="textAreaRight" fmla="*/ 159120 w 158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9" h="257">
                <a:moveTo>
                  <a:pt x="204" y="49"/>
                </a:moveTo>
                <a:lnTo>
                  <a:pt x="108" y="49"/>
                </a:lnTo>
                <a:lnTo>
                  <a:pt x="119" y="8"/>
                </a:lnTo>
                <a:lnTo>
                  <a:pt x="11" y="0"/>
                </a:lnTo>
                <a:lnTo>
                  <a:pt x="23" y="123"/>
                </a:lnTo>
                <a:lnTo>
                  <a:pt x="48" y="154"/>
                </a:lnTo>
                <a:lnTo>
                  <a:pt x="0" y="207"/>
                </a:lnTo>
                <a:lnTo>
                  <a:pt x="59" y="257"/>
                </a:lnTo>
                <a:lnTo>
                  <a:pt x="119" y="226"/>
                </a:lnTo>
                <a:lnTo>
                  <a:pt x="204" y="207"/>
                </a:lnTo>
                <a:lnTo>
                  <a:pt x="229" y="197"/>
                </a:lnTo>
                <a:lnTo>
                  <a:pt x="229" y="133"/>
                </a:lnTo>
                <a:lnTo>
                  <a:pt x="216" y="82"/>
                </a:lnTo>
                <a:lnTo>
                  <a:pt x="216" y="41"/>
                </a:lnTo>
                <a:lnTo>
                  <a:pt x="181" y="70"/>
                </a:lnTo>
                <a:lnTo>
                  <a:pt x="204" y="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4" name="Rectangle 158"/>
          <p:cNvSpPr/>
          <p:nvPr/>
        </p:nvSpPr>
        <p:spPr>
          <a:xfrm>
            <a:off x="6705720" y="46036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5" name="Rectangle 159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6" name="Text Box 162"/>
          <p:cNvSpPr/>
          <p:nvPr/>
        </p:nvSpPr>
        <p:spPr>
          <a:xfrm>
            <a:off x="6934320" y="4572000"/>
            <a:ext cx="2209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idespread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7" name="Text Box 171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8" name="Freeform 177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9" name="Text Box 179"/>
          <p:cNvSpPr/>
          <p:nvPr/>
        </p:nvSpPr>
        <p:spPr>
          <a:xfrm>
            <a:off x="690840" y="617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558800" y="325440"/>
            <a:ext cx="53546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Arial Narrow"/>
                <a:ea typeface="Arial"/>
              </a:rPr>
              <a:t>Geographical Distribution of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1" name="TextBox 151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5C85-0E01-401A-A9A0-E5362A9717E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epidemiology of MDR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 of transmiss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of infec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le of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specific MDRO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vention strategie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C51-753B-4EB8-9E22-921763AEDEE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6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4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5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6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7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8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9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0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1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3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4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5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6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7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8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9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0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1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2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3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4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5" name="Freeform 24"/>
          <p:cNvSpPr/>
          <p:nvPr/>
        </p:nvSpPr>
        <p:spPr>
          <a:xfrm>
            <a:off x="838080" y="289548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6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8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0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1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2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3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4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5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6" name="Freeform 38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7" name="Freeform 39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8" name="Freeform 40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9" name="Freeform 41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0" name="Freeform 42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1" name="Freeform 43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2" name="Freeform 44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3" name="Freeform 45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4" name="Freeform 46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5" name="Freeform 47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6" name="Freeform 48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7" name="Freeform 49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8" name="Freeform 50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9" name="Freeform 51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0" name="Freeform 52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1" name="Freeform 53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2" name="Freeform 54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3" name="Freeform 55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4" name="Freeform 56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5" name="Freeform 57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6" name="Freeform 58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7" name="Freeform 59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8" name="Freeform 60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9" name="Freeform 61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0" name="Freeform 62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1" name="Freeform 63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2" name="Freeform 64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3" name="Freeform 65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4" name="Freeform 66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5" name="Freeform 67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6" name="Freeform 68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7" name="Freeform 69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8" name="Freeform 70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9" name="Freeform 71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Freeform 72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Freeform 73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2" name="Freeform 74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3" name="Freeform 75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4" name="Freeform 76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5" name="Freeform 77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6" name="Freeform 78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7" name="Freeform 81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8" name="Freeform 82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9" name="Freeform 83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0" name="Freeform 84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1" name="Freeform 85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2" name="Freeform 86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3" name="Freeform 87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4" name="Freeform 88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5" name="Freeform 89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6" name="Freeform 90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7" name="Freeform 91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8" name="Freeform 92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9" name="Freeform 93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0" name="Freeform 94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1" name="Freeform 95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2" name="Freeform 96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3" name="Freeform 97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4" name="Freeform 98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5" name="Freeform 99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6" name="Freeform 100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7" name="Freeform 101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8" name="Freeform 102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9" name="Freeform 103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0" name="Freeform 104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1" name="Freeform 105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2" name="Freeform 106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3" name="Freeform 107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4" name="Freeform 108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5" name="Freeform 109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6" name="Freeform 110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7" name="Freeform 111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8" name="Freeform 112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9" name="Freeform 113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0" name="Freeform 114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1" name="Freeform 115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2" name="Freeform 116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3" name="Freeform 117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4" name="Freeform 118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5" name="Freeform 119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6" name="Freeform 120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7" name="Freeform 121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8" name="Freeform 122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9" name="Freeform 123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0" name="Freeform 124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1" name="Freeform 125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2" name="Freeform 126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3" name="Freeform 127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4" name="Freeform 128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5" name="Freeform 130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6" name="Freeform 131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7" name="Freeform 132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8" name="Freeform 133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9" name="Freeform 134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0" name="Freeform 135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1" name="Freeform 136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2" name="Freeform 137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3" name="Freeform 138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4" name="Freeform 139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5" name="Freeform 140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6" name="Freeform 141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7" name="Freeform 142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8" name="Freeform 79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9" name="Freeform 80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0" name="Text Box 147"/>
          <p:cNvSpPr/>
          <p:nvPr/>
        </p:nvSpPr>
        <p:spPr>
          <a:xfrm>
            <a:off x="6934320" y="494676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1" name="Text Box 148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2" name="Freeform 149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3" name="Freeform 28"/>
          <p:cNvSpPr/>
          <p:nvPr/>
        </p:nvSpPr>
        <p:spPr>
          <a:xfrm>
            <a:off x="655308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4" name="Text Box 146"/>
          <p:cNvSpPr/>
          <p:nvPr/>
        </p:nvSpPr>
        <p:spPr>
          <a:xfrm>
            <a:off x="733320" y="617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558800" y="338040"/>
            <a:ext cx="52531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Arial Narrow"/>
                <a:ea typeface="Arial"/>
              </a:rPr>
              <a:t>Geographical Distribution of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6" name="Rectangle 145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7" name="Text Box 162"/>
          <p:cNvSpPr/>
          <p:nvPr/>
        </p:nvSpPr>
        <p:spPr>
          <a:xfrm>
            <a:off x="6934320" y="4572000"/>
            <a:ext cx="2209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and Widespread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8" name="TextBox 147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0F9A-7CF6-4D91-ABA0-3CE63A67F64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Rectangl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229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1" name=""/>
          <p:cNvGraphicFramePr/>
          <p:nvPr/>
        </p:nvGraphicFramePr>
        <p:xfrm>
          <a:off x="228600" y="1143000"/>
          <a:ext cx="8559720" cy="515160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228600"/>
                <a:gridCol w="2362320"/>
                <a:gridCol w="2082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timicrob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timicrob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ka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loramphenic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ox/cl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profloxa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picill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rta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ztreo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tami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azol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i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podo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ro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ota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ipercillin/Ta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tote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obramy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ox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imeth/Sulf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tazid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ymyxin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 &gt;4mg/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triax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lis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 &gt;4mg/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ep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gecyc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Rectangle 2" descr=""/>
          <p:cNvPicPr/>
          <p:nvPr/>
        </p:nvPicPr>
        <p:blipFill>
          <a:blip r:embed="rId1"/>
          <a:stretch/>
        </p:blipFill>
        <p:spPr>
          <a:xfrm>
            <a:off x="1517760" y="231840"/>
            <a:ext cx="625464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3" name="Object 3"/>
          <p:cNvGraphicFramePr/>
          <p:nvPr/>
        </p:nvGraphicFramePr>
        <p:xfrm>
          <a:off x="838080" y="1219320"/>
          <a:ext cx="7589880" cy="51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758988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AutoShape 4"/>
          <p:cNvSpPr/>
          <p:nvPr/>
        </p:nvSpPr>
        <p:spPr>
          <a:xfrm>
            <a:off x="4495680" y="1981080"/>
            <a:ext cx="19814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&lt;0.00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6" name="AutoShape 5"/>
          <p:cNvSpPr/>
          <p:nvPr/>
        </p:nvSpPr>
        <p:spPr>
          <a:xfrm>
            <a:off x="2209680" y="1371600"/>
            <a:ext cx="19814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&lt;0.00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7" name="Text Box 6"/>
          <p:cNvSpPr/>
          <p:nvPr/>
        </p:nvSpPr>
        <p:spPr>
          <a:xfrm>
            <a:off x="324324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8" name="Text Box 7"/>
          <p:cNvSpPr/>
          <p:nvPr/>
        </p:nvSpPr>
        <p:spPr>
          <a:xfrm>
            <a:off x="255744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9" name="Text Box 8"/>
          <p:cNvSpPr/>
          <p:nvPr/>
        </p:nvSpPr>
        <p:spPr>
          <a:xfrm>
            <a:off x="556740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0" name="Text Box 9"/>
          <p:cNvSpPr/>
          <p:nvPr/>
        </p:nvSpPr>
        <p:spPr>
          <a:xfrm>
            <a:off x="492444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1" name="Text Box 10"/>
          <p:cNvSpPr/>
          <p:nvPr/>
        </p:nvSpPr>
        <p:spPr>
          <a:xfrm>
            <a:off x="16002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R 3.71 (1.97-7.01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2" name="Text Box 11"/>
          <p:cNvSpPr/>
          <p:nvPr/>
        </p:nvSpPr>
        <p:spPr>
          <a:xfrm>
            <a:off x="4614840" y="613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R 4.5 (2.16-9.35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ew clinical case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rge reservoir of colonized patients in LTCF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lonization rate was as high as 49% in one outbreak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Recipe for CRKP outbreaks: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ction control breaches (lack of complianc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recognized colonized residents serving as reservoirs for transmis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5CB6-6F3E-4140-8361-770C531E36E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on-motile gram negative bacteria (32 specie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biquitou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widely distributed in nature (soil, water, food, sewage) &amp; the hospital 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DR-Ab is primarily a nosocomial patho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Long survival time on inanimate surface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extensive environmental contamin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ransmission …. and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 and 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590F-3199-4F0B-A8D9-759484D5291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98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1400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3104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Most common gram negative carried by skin of HCP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common gram negative carried by skin of HC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uently colonizes tracheostomy sit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lorohexidine resis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609120" y="2093760"/>
            <a:ext cx="3886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piratory care equip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d rails, Bedside tables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ttresses, Pillow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rtains, door hand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yboard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oor mops, sink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4645080" y="2133720"/>
            <a:ext cx="3889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 humidifier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care ite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und care proced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car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usion pum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monitors and X-ray bo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6EDA-7055-4D23-A39C-73B9816A9D2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4" name="Rectangle 7"/>
          <p:cNvSpPr/>
          <p:nvPr/>
        </p:nvSpPr>
        <p:spPr>
          <a:xfrm>
            <a:off x="1219320" y="1447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despread environmental contaminat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inetobacter mainly cau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neumonia (Ventilator-associated pneumonia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rinary trac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acteremi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kin/wound infection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inetobac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ute care (ICUs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ditionally, associated with outbreak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TAC &amp; LTCF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jured military personne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utbreak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ortality rates up to 75%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DA99-D45A-4D7E-BAA4-EDF8D1ED33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erobic gram-negative rod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biquitous in soil and wat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oist environment (hydrophilic) (e.g. sink drains, vegetables, river water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. aeruginos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is an opportunistic infec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arely colonize healthy individual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 Risk individu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mmuno-compromised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rn patient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atients on mechanical ventilatio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ystic fibrosis patient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D540-B8C1-45C8-9FF7-B5386EFC437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10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0% of all hospital-acquired infec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ften cause severe life threatening H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n be found everywher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n be community acquired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 healthcare facilities:  respiratory equipment, food, sinks, taps, toilets, weak disinfectants, showers and mops, uncooked vegetables, flower water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nsmission …..and ………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ervoirs ……. and ………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nization precedes infection in 50% of c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681F-7A51-45A0-B83C-939E92DA80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 txBox="1"/>
          <p:nvPr/>
        </p:nvSpPr>
        <p:spPr>
          <a:xfrm>
            <a:off x="456840" y="137124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re Measur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ministrative suppor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rveillanc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 place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/staff cohort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nd hygien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tocol for lab no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vice us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vironmental measur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nitor complianc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ducation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timicrobial stewardshi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876560" y="1444320"/>
            <a:ext cx="38098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lemental Measur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emptive isol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urveillance cult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lorohexidine bath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22A1-22A6-4FF5-AA77-4C1597D31FC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ition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organisms, predominantly bacteria, that are resistant to one or more classes of antimicrobial ag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ortanc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options for treat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the length of stay and cost of hospitaliz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admission to and stay in IC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mortality rat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FACB-CCA1-4197-AADE-B2322EA9E52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 positive spore forming bacillus (rods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ligate anaerob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of the GI Flora 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3% of healthy adul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% of children &lt; 12 mon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strains produce toxins A &amp; B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xins-producing strains ca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dif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(CDI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I ranges from mild, moderate, to severe and even fatal illnes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4130-6477-4D42-A3A0-7F740406F19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" descr="B2201548-Clostridium_difficile_bacteria,_TEM-SPL.jpg"/>
          <p:cNvPicPr/>
          <p:nvPr/>
        </p:nvPicPr>
        <p:blipFill>
          <a:blip r:embed="rId2"/>
          <a:stretch/>
        </p:blipFill>
        <p:spPr>
          <a:xfrm>
            <a:off x="5562720" y="2209680"/>
            <a:ext cx="2666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nsmission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ecal – oral rou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hands of healthcare worke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al surface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erson to person in hospitals and LTCF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servoir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uman: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lonized or infected person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. dif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spores can survive for up 5 months on environmental surfac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FBA3-2124-4128-B8BC-830C2277703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ommon cause of nosocomial antibiotic-associated diarrhea (AAD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common infectious cause of acute diarrheal illness in LTCF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only nosocomial organism that is anaerobic and forms spor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ve dose is &lt; 10 spor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AF6-2ED5-46E1-BDA9-048AE32D65A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8" name=""/>
          <p:cNvGraphicFramePr/>
          <p:nvPr/>
        </p:nvGraphicFramePr>
        <p:xfrm>
          <a:off x="228600" y="1523880"/>
          <a:ext cx="8686800" cy="3962520"/>
        </p:xfrm>
        <a:graphic>
          <a:graphicData uri="http://schemas.openxmlformats.org/drawingml/2006/table">
            <a:tbl>
              <a:tblPr/>
              <a:tblGrid>
                <a:gridCol w="3459240"/>
                <a:gridCol w="1608120"/>
                <a:gridCol w="1447920"/>
                <a:gridCol w="21715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annual cas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annual dea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ospital-onset, hospital acquired (HO-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.3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rsing home-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.2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142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E51-A2D8-4497-82D2-C446F0763CE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0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llness caused by toxin-producing strains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. diffic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anges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ymptomatic carriers  = Coloniz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ld or moderate diarrhe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seudo membranous colitis that can be fata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dian time between exposure to onset of CDI symptoms is of 2–3 day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sk of developing CDI after exposure ranges between  5-10 days to 10 week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441-D14C-4C82-BA95-C636B29FAB4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Slide Number Placeholder 3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47AF-D672-4697-80E8-6C10582AC51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36" name="TextBox 3"/>
          <p:cNvSpPr/>
          <p:nvPr/>
        </p:nvSpPr>
        <p:spPr>
          <a:xfrm>
            <a:off x="2590920" y="2590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Lucida Sans Unicode"/>
              </a:rPr>
              <a:t>Antimicrobial stewardship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7" name="Freeform 19"/>
          <p:cNvSpPr/>
          <p:nvPr/>
        </p:nvSpPr>
        <p:spPr>
          <a:xfrm>
            <a:off x="7010280" y="4343400"/>
            <a:ext cx="1447920" cy="2133720"/>
          </a:xfrm>
          <a:prstGeom prst="pie">
            <a:avLst/>
          </a:prstGeom>
          <a:solidFill>
            <a:srgbClr val="a317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1438" name="Group 4"/>
          <p:cNvGrpSpPr/>
          <p:nvPr/>
        </p:nvGrpSpPr>
        <p:grpSpPr>
          <a:xfrm>
            <a:off x="7086600" y="1752480"/>
            <a:ext cx="1599840" cy="2438280"/>
            <a:chOff x="7086600" y="1752480"/>
            <a:chExt cx="1599840" cy="2438280"/>
          </a:xfrm>
        </p:grpSpPr>
        <p:sp>
          <p:nvSpPr>
            <p:cNvPr id="1439" name="AutoShape 3"/>
            <p:cNvSpPr/>
            <p:nvPr/>
          </p:nvSpPr>
          <p:spPr>
            <a:xfrm>
              <a:off x="7086600" y="1752480"/>
              <a:ext cx="159156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0" name="Freeform 5"/>
            <p:cNvSpPr/>
            <p:nvPr/>
          </p:nvSpPr>
          <p:spPr>
            <a:xfrm>
              <a:off x="7086600" y="1752480"/>
              <a:ext cx="1599120" cy="2438280"/>
            </a:xfrm>
            <a:custGeom>
              <a:avLst/>
              <a:gdLst/>
              <a:ahLst/>
              <a:rect l="l" t="t" r="r" b="b"/>
              <a:pathLst>
                <a:path w="1543" h="1298">
                  <a:moveTo>
                    <a:pt x="0" y="369"/>
                  </a:moveTo>
                  <a:lnTo>
                    <a:pt x="1" y="452"/>
                  </a:lnTo>
                  <a:lnTo>
                    <a:pt x="46" y="460"/>
                  </a:lnTo>
                  <a:lnTo>
                    <a:pt x="38" y="482"/>
                  </a:lnTo>
                  <a:lnTo>
                    <a:pt x="34" y="495"/>
                  </a:lnTo>
                  <a:lnTo>
                    <a:pt x="169" y="528"/>
                  </a:lnTo>
                  <a:lnTo>
                    <a:pt x="184" y="680"/>
                  </a:lnTo>
                  <a:lnTo>
                    <a:pt x="290" y="702"/>
                  </a:lnTo>
                  <a:lnTo>
                    <a:pt x="307" y="767"/>
                  </a:lnTo>
                  <a:lnTo>
                    <a:pt x="324" y="833"/>
                  </a:lnTo>
                  <a:lnTo>
                    <a:pt x="330" y="865"/>
                  </a:lnTo>
                  <a:lnTo>
                    <a:pt x="337" y="898"/>
                  </a:lnTo>
                  <a:lnTo>
                    <a:pt x="341" y="931"/>
                  </a:lnTo>
                  <a:lnTo>
                    <a:pt x="344" y="963"/>
                  </a:lnTo>
                  <a:lnTo>
                    <a:pt x="347" y="996"/>
                  </a:lnTo>
                  <a:lnTo>
                    <a:pt x="347" y="1029"/>
                  </a:lnTo>
                  <a:lnTo>
                    <a:pt x="344" y="1062"/>
                  </a:lnTo>
                  <a:lnTo>
                    <a:pt x="340" y="1095"/>
                  </a:lnTo>
                  <a:lnTo>
                    <a:pt x="333" y="1127"/>
                  </a:lnTo>
                  <a:lnTo>
                    <a:pt x="324" y="1160"/>
                  </a:lnTo>
                  <a:lnTo>
                    <a:pt x="311" y="1193"/>
                  </a:lnTo>
                  <a:lnTo>
                    <a:pt x="303" y="1209"/>
                  </a:lnTo>
                  <a:lnTo>
                    <a:pt x="295" y="1225"/>
                  </a:lnTo>
                  <a:lnTo>
                    <a:pt x="295" y="1225"/>
                  </a:lnTo>
                  <a:lnTo>
                    <a:pt x="349" y="1233"/>
                  </a:lnTo>
                  <a:lnTo>
                    <a:pt x="318" y="1272"/>
                  </a:lnTo>
                  <a:lnTo>
                    <a:pt x="348" y="1296"/>
                  </a:lnTo>
                  <a:lnTo>
                    <a:pt x="572" y="1296"/>
                  </a:lnTo>
                  <a:lnTo>
                    <a:pt x="600" y="1289"/>
                  </a:lnTo>
                  <a:lnTo>
                    <a:pt x="600" y="1230"/>
                  </a:lnTo>
                  <a:lnTo>
                    <a:pt x="651" y="1220"/>
                  </a:lnTo>
                  <a:lnTo>
                    <a:pt x="768" y="762"/>
                  </a:lnTo>
                  <a:lnTo>
                    <a:pt x="873" y="1055"/>
                  </a:lnTo>
                  <a:lnTo>
                    <a:pt x="871" y="1067"/>
                  </a:lnTo>
                  <a:lnTo>
                    <a:pt x="871" y="1079"/>
                  </a:lnTo>
                  <a:lnTo>
                    <a:pt x="873" y="1090"/>
                  </a:lnTo>
                  <a:lnTo>
                    <a:pt x="876" y="1102"/>
                  </a:lnTo>
                  <a:lnTo>
                    <a:pt x="880" y="1114"/>
                  </a:lnTo>
                  <a:lnTo>
                    <a:pt x="885" y="1126"/>
                  </a:lnTo>
                  <a:lnTo>
                    <a:pt x="892" y="1137"/>
                  </a:lnTo>
                  <a:lnTo>
                    <a:pt x="899" y="1149"/>
                  </a:lnTo>
                  <a:lnTo>
                    <a:pt x="907" y="1161"/>
                  </a:lnTo>
                  <a:lnTo>
                    <a:pt x="916" y="1172"/>
                  </a:lnTo>
                  <a:lnTo>
                    <a:pt x="927" y="1184"/>
                  </a:lnTo>
                  <a:lnTo>
                    <a:pt x="939" y="1195"/>
                  </a:lnTo>
                  <a:lnTo>
                    <a:pt x="952" y="1207"/>
                  </a:lnTo>
                  <a:lnTo>
                    <a:pt x="965" y="1218"/>
                  </a:lnTo>
                  <a:lnTo>
                    <a:pt x="980" y="1229"/>
                  </a:lnTo>
                  <a:lnTo>
                    <a:pt x="997" y="1240"/>
                  </a:lnTo>
                  <a:lnTo>
                    <a:pt x="977" y="1291"/>
                  </a:lnTo>
                  <a:lnTo>
                    <a:pt x="1018" y="1298"/>
                  </a:lnTo>
                  <a:lnTo>
                    <a:pt x="1241" y="1298"/>
                  </a:lnTo>
                  <a:lnTo>
                    <a:pt x="1244" y="1294"/>
                  </a:lnTo>
                  <a:lnTo>
                    <a:pt x="1245" y="1290"/>
                  </a:lnTo>
                  <a:lnTo>
                    <a:pt x="1245" y="1282"/>
                  </a:lnTo>
                  <a:lnTo>
                    <a:pt x="1243" y="1274"/>
                  </a:lnTo>
                  <a:lnTo>
                    <a:pt x="1239" y="1267"/>
                  </a:lnTo>
                  <a:lnTo>
                    <a:pt x="1230" y="1259"/>
                  </a:lnTo>
                  <a:lnTo>
                    <a:pt x="1221" y="1252"/>
                  </a:lnTo>
                  <a:lnTo>
                    <a:pt x="1210" y="1245"/>
                  </a:lnTo>
                  <a:lnTo>
                    <a:pt x="1196" y="1238"/>
                  </a:lnTo>
                  <a:lnTo>
                    <a:pt x="1228" y="1234"/>
                  </a:lnTo>
                  <a:lnTo>
                    <a:pt x="1207" y="699"/>
                  </a:lnTo>
                  <a:lnTo>
                    <a:pt x="1339" y="685"/>
                  </a:lnTo>
                  <a:lnTo>
                    <a:pt x="1312" y="556"/>
                  </a:lnTo>
                  <a:lnTo>
                    <a:pt x="1543" y="428"/>
                  </a:lnTo>
                  <a:lnTo>
                    <a:pt x="1490" y="315"/>
                  </a:lnTo>
                  <a:lnTo>
                    <a:pt x="1336" y="214"/>
                  </a:lnTo>
                  <a:lnTo>
                    <a:pt x="945" y="174"/>
                  </a:lnTo>
                  <a:lnTo>
                    <a:pt x="939" y="135"/>
                  </a:lnTo>
                  <a:lnTo>
                    <a:pt x="980" y="124"/>
                  </a:lnTo>
                  <a:lnTo>
                    <a:pt x="1021" y="65"/>
                  </a:lnTo>
                  <a:lnTo>
                    <a:pt x="927" y="12"/>
                  </a:lnTo>
                  <a:lnTo>
                    <a:pt x="706" y="0"/>
                  </a:lnTo>
                  <a:lnTo>
                    <a:pt x="583" y="12"/>
                  </a:lnTo>
                  <a:lnTo>
                    <a:pt x="468" y="68"/>
                  </a:lnTo>
                  <a:lnTo>
                    <a:pt x="553" y="132"/>
                  </a:lnTo>
                  <a:lnTo>
                    <a:pt x="589" y="135"/>
                  </a:lnTo>
                  <a:lnTo>
                    <a:pt x="589" y="161"/>
                  </a:lnTo>
                  <a:lnTo>
                    <a:pt x="540" y="175"/>
                  </a:lnTo>
                  <a:lnTo>
                    <a:pt x="132" y="213"/>
                  </a:lnTo>
                  <a:lnTo>
                    <a:pt x="114" y="222"/>
                  </a:lnTo>
                  <a:lnTo>
                    <a:pt x="101" y="232"/>
                  </a:lnTo>
                  <a:lnTo>
                    <a:pt x="87" y="241"/>
                  </a:lnTo>
                  <a:lnTo>
                    <a:pt x="75" y="251"/>
                  </a:lnTo>
                  <a:lnTo>
                    <a:pt x="64" y="260"/>
                  </a:lnTo>
                  <a:lnTo>
                    <a:pt x="56" y="270"/>
                  </a:lnTo>
                  <a:lnTo>
                    <a:pt x="48" y="280"/>
                  </a:lnTo>
                  <a:lnTo>
                    <a:pt x="41" y="289"/>
                  </a:lnTo>
                  <a:lnTo>
                    <a:pt x="29" y="309"/>
                  </a:lnTo>
                  <a:lnTo>
                    <a:pt x="19" y="329"/>
                  </a:lnTo>
                  <a:lnTo>
                    <a:pt x="15" y="339"/>
                  </a:lnTo>
                  <a:lnTo>
                    <a:pt x="11" y="34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7d3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1" name="Freeform 6"/>
            <p:cNvSpPr/>
            <p:nvPr/>
          </p:nvSpPr>
          <p:spPr>
            <a:xfrm>
              <a:off x="7086600" y="2445480"/>
              <a:ext cx="301320" cy="625320"/>
            </a:xfrm>
            <a:custGeom>
              <a:avLst/>
              <a:gdLst/>
              <a:ahLst/>
              <a:rect l="l" t="t" r="r" b="b"/>
              <a:pathLst>
                <a:path w="291" h="33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45" y="92"/>
                  </a:lnTo>
                  <a:lnTo>
                    <a:pt x="45" y="91"/>
                  </a:lnTo>
                  <a:lnTo>
                    <a:pt x="38" y="113"/>
                  </a:lnTo>
                  <a:lnTo>
                    <a:pt x="33" y="126"/>
                  </a:lnTo>
                  <a:lnTo>
                    <a:pt x="33" y="126"/>
                  </a:lnTo>
                  <a:lnTo>
                    <a:pt x="169" y="159"/>
                  </a:lnTo>
                  <a:lnTo>
                    <a:pt x="169" y="159"/>
                  </a:lnTo>
                  <a:lnTo>
                    <a:pt x="184" y="311"/>
                  </a:lnTo>
                  <a:lnTo>
                    <a:pt x="184" y="311"/>
                  </a:lnTo>
                  <a:lnTo>
                    <a:pt x="290" y="333"/>
                  </a:lnTo>
                  <a:lnTo>
                    <a:pt x="291" y="333"/>
                  </a:lnTo>
                  <a:lnTo>
                    <a:pt x="291" y="333"/>
                  </a:lnTo>
                  <a:lnTo>
                    <a:pt x="185" y="311"/>
                  </a:lnTo>
                  <a:lnTo>
                    <a:pt x="185" y="311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9" y="113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2" name="Freeform 7"/>
            <p:cNvSpPr/>
            <p:nvPr/>
          </p:nvSpPr>
          <p:spPr>
            <a:xfrm>
              <a:off x="7387200" y="3071160"/>
              <a:ext cx="58680" cy="982800"/>
            </a:xfrm>
            <a:custGeom>
              <a:avLst/>
              <a:gdLst/>
              <a:ahLst/>
              <a:rect l="l" t="t" r="r" b="b"/>
              <a:pathLst>
                <a:path w="57" h="52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8" y="33"/>
                  </a:lnTo>
                  <a:lnTo>
                    <a:pt x="12" y="49"/>
                  </a:lnTo>
                  <a:lnTo>
                    <a:pt x="17" y="65"/>
                  </a:lnTo>
                  <a:lnTo>
                    <a:pt x="21" y="81"/>
                  </a:lnTo>
                  <a:lnTo>
                    <a:pt x="25" y="98"/>
                  </a:lnTo>
                  <a:lnTo>
                    <a:pt x="29" y="114"/>
                  </a:lnTo>
                  <a:lnTo>
                    <a:pt x="34" y="131"/>
                  </a:lnTo>
                  <a:lnTo>
                    <a:pt x="36" y="147"/>
                  </a:lnTo>
                  <a:lnTo>
                    <a:pt x="40" y="163"/>
                  </a:lnTo>
                  <a:lnTo>
                    <a:pt x="46" y="196"/>
                  </a:lnTo>
                  <a:lnTo>
                    <a:pt x="49" y="212"/>
                  </a:lnTo>
                  <a:lnTo>
                    <a:pt x="50" y="229"/>
                  </a:lnTo>
                  <a:lnTo>
                    <a:pt x="53" y="245"/>
                  </a:lnTo>
                  <a:lnTo>
                    <a:pt x="54" y="261"/>
                  </a:lnTo>
                  <a:lnTo>
                    <a:pt x="55" y="310"/>
                  </a:lnTo>
                  <a:lnTo>
                    <a:pt x="55" y="327"/>
                  </a:lnTo>
                  <a:lnTo>
                    <a:pt x="53" y="360"/>
                  </a:lnTo>
                  <a:lnTo>
                    <a:pt x="51" y="376"/>
                  </a:lnTo>
                  <a:lnTo>
                    <a:pt x="49" y="392"/>
                  </a:lnTo>
                  <a:lnTo>
                    <a:pt x="46" y="409"/>
                  </a:lnTo>
                  <a:lnTo>
                    <a:pt x="42" y="425"/>
                  </a:lnTo>
                  <a:lnTo>
                    <a:pt x="38" y="442"/>
                  </a:lnTo>
                  <a:lnTo>
                    <a:pt x="32" y="458"/>
                  </a:lnTo>
                  <a:lnTo>
                    <a:pt x="27" y="474"/>
                  </a:lnTo>
                  <a:lnTo>
                    <a:pt x="20" y="490"/>
                  </a:lnTo>
                  <a:lnTo>
                    <a:pt x="5" y="523"/>
                  </a:lnTo>
                  <a:lnTo>
                    <a:pt x="5" y="523"/>
                  </a:lnTo>
                  <a:lnTo>
                    <a:pt x="6" y="523"/>
                  </a:lnTo>
                  <a:lnTo>
                    <a:pt x="6" y="523"/>
                  </a:lnTo>
                  <a:lnTo>
                    <a:pt x="21" y="490"/>
                  </a:lnTo>
                  <a:lnTo>
                    <a:pt x="27" y="474"/>
                  </a:lnTo>
                  <a:lnTo>
                    <a:pt x="34" y="458"/>
                  </a:lnTo>
                  <a:lnTo>
                    <a:pt x="38" y="442"/>
                  </a:lnTo>
                  <a:lnTo>
                    <a:pt x="43" y="425"/>
                  </a:lnTo>
                  <a:lnTo>
                    <a:pt x="46" y="409"/>
                  </a:lnTo>
                  <a:lnTo>
                    <a:pt x="50" y="392"/>
                  </a:lnTo>
                  <a:lnTo>
                    <a:pt x="53" y="376"/>
                  </a:lnTo>
                  <a:lnTo>
                    <a:pt x="54" y="360"/>
                  </a:lnTo>
                  <a:lnTo>
                    <a:pt x="57" y="327"/>
                  </a:lnTo>
                  <a:lnTo>
                    <a:pt x="57" y="310"/>
                  </a:lnTo>
                  <a:lnTo>
                    <a:pt x="55" y="261"/>
                  </a:lnTo>
                  <a:lnTo>
                    <a:pt x="53" y="245"/>
                  </a:lnTo>
                  <a:lnTo>
                    <a:pt x="51" y="229"/>
                  </a:lnTo>
                  <a:lnTo>
                    <a:pt x="49" y="212"/>
                  </a:lnTo>
                  <a:lnTo>
                    <a:pt x="47" y="196"/>
                  </a:lnTo>
                  <a:lnTo>
                    <a:pt x="40" y="163"/>
                  </a:lnTo>
                  <a:lnTo>
                    <a:pt x="38" y="147"/>
                  </a:lnTo>
                  <a:lnTo>
                    <a:pt x="34" y="131"/>
                  </a:lnTo>
                  <a:lnTo>
                    <a:pt x="29" y="114"/>
                  </a:lnTo>
                  <a:lnTo>
                    <a:pt x="25" y="98"/>
                  </a:lnTo>
                  <a:lnTo>
                    <a:pt x="21" y="81"/>
                  </a:lnTo>
                  <a:lnTo>
                    <a:pt x="17" y="65"/>
                  </a:lnTo>
                  <a:lnTo>
                    <a:pt x="13" y="49"/>
                  </a:lnTo>
                  <a:lnTo>
                    <a:pt x="9" y="33"/>
                  </a:lnTo>
                  <a:lnTo>
                    <a:pt x="4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3" name="Freeform 8"/>
            <p:cNvSpPr/>
            <p:nvPr/>
          </p:nvSpPr>
          <p:spPr>
            <a:xfrm>
              <a:off x="7392240" y="3183840"/>
              <a:ext cx="599040" cy="1003320"/>
            </a:xfrm>
            <a:custGeom>
              <a:avLst/>
              <a:gdLst/>
              <a:ahLst/>
              <a:rect l="l" t="t" r="r" b="b"/>
              <a:pathLst>
                <a:path w="578" h="534">
                  <a:moveTo>
                    <a:pt x="0" y="463"/>
                  </a:moveTo>
                  <a:lnTo>
                    <a:pt x="0" y="463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4" y="471"/>
                  </a:lnTo>
                  <a:lnTo>
                    <a:pt x="53" y="471"/>
                  </a:lnTo>
                  <a:lnTo>
                    <a:pt x="23" y="510"/>
                  </a:lnTo>
                  <a:lnTo>
                    <a:pt x="52" y="534"/>
                  </a:lnTo>
                  <a:lnTo>
                    <a:pt x="52" y="534"/>
                  </a:lnTo>
                  <a:lnTo>
                    <a:pt x="53" y="534"/>
                  </a:lnTo>
                  <a:lnTo>
                    <a:pt x="277" y="534"/>
                  </a:lnTo>
                  <a:lnTo>
                    <a:pt x="279" y="534"/>
                  </a:lnTo>
                  <a:lnTo>
                    <a:pt x="306" y="527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56" y="458"/>
                  </a:lnTo>
                  <a:lnTo>
                    <a:pt x="356" y="458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576" y="293"/>
                  </a:lnTo>
                  <a:lnTo>
                    <a:pt x="576" y="293"/>
                  </a:lnTo>
                  <a:lnTo>
                    <a:pt x="578" y="293"/>
                  </a:lnTo>
                  <a:lnTo>
                    <a:pt x="578" y="293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355" y="458"/>
                  </a:lnTo>
                  <a:lnTo>
                    <a:pt x="355" y="458"/>
                  </a:lnTo>
                  <a:lnTo>
                    <a:pt x="305" y="467"/>
                  </a:lnTo>
                  <a:lnTo>
                    <a:pt x="305" y="468"/>
                  </a:lnTo>
                  <a:lnTo>
                    <a:pt x="305" y="527"/>
                  </a:lnTo>
                  <a:lnTo>
                    <a:pt x="305" y="527"/>
                  </a:lnTo>
                  <a:lnTo>
                    <a:pt x="277" y="534"/>
                  </a:lnTo>
                  <a:lnTo>
                    <a:pt x="277" y="534"/>
                  </a:lnTo>
                  <a:lnTo>
                    <a:pt x="53" y="534"/>
                  </a:lnTo>
                  <a:lnTo>
                    <a:pt x="53" y="534"/>
                  </a:lnTo>
                  <a:lnTo>
                    <a:pt x="24" y="510"/>
                  </a:lnTo>
                  <a:lnTo>
                    <a:pt x="54" y="471"/>
                  </a:lnTo>
                  <a:lnTo>
                    <a:pt x="54" y="471"/>
                  </a:lnTo>
                  <a:lnTo>
                    <a:pt x="54" y="471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4" name="Freeform 9"/>
            <p:cNvSpPr/>
            <p:nvPr/>
          </p:nvSpPr>
          <p:spPr>
            <a:xfrm>
              <a:off x="7988040" y="3732840"/>
              <a:ext cx="131400" cy="349200"/>
            </a:xfrm>
            <a:custGeom>
              <a:avLst/>
              <a:gdLst/>
              <a:ahLst/>
              <a:rect l="l" t="t" r="r" b="b"/>
              <a:pathLst>
                <a:path w="127" h="186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10" y="60"/>
                  </a:lnTo>
                  <a:lnTo>
                    <a:pt x="11" y="66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20" y="83"/>
                  </a:lnTo>
                  <a:lnTo>
                    <a:pt x="25" y="89"/>
                  </a:lnTo>
                  <a:lnTo>
                    <a:pt x="29" y="95"/>
                  </a:lnTo>
                  <a:lnTo>
                    <a:pt x="31" y="101"/>
                  </a:lnTo>
                  <a:lnTo>
                    <a:pt x="41" y="112"/>
                  </a:lnTo>
                  <a:lnTo>
                    <a:pt x="50" y="124"/>
                  </a:lnTo>
                  <a:lnTo>
                    <a:pt x="56" y="129"/>
                  </a:lnTo>
                  <a:lnTo>
                    <a:pt x="61" y="135"/>
                  </a:lnTo>
                  <a:lnTo>
                    <a:pt x="68" y="141"/>
                  </a:lnTo>
                  <a:lnTo>
                    <a:pt x="73" y="147"/>
                  </a:lnTo>
                  <a:lnTo>
                    <a:pt x="80" y="152"/>
                  </a:lnTo>
                  <a:lnTo>
                    <a:pt x="87" y="158"/>
                  </a:lnTo>
                  <a:lnTo>
                    <a:pt x="101" y="169"/>
                  </a:lnTo>
                  <a:lnTo>
                    <a:pt x="109" y="175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17" y="181"/>
                  </a:lnTo>
                  <a:lnTo>
                    <a:pt x="110" y="175"/>
                  </a:lnTo>
                  <a:lnTo>
                    <a:pt x="102" y="169"/>
                  </a:lnTo>
                  <a:lnTo>
                    <a:pt x="88" y="158"/>
                  </a:lnTo>
                  <a:lnTo>
                    <a:pt x="82" y="152"/>
                  </a:lnTo>
                  <a:lnTo>
                    <a:pt x="75" y="147"/>
                  </a:lnTo>
                  <a:lnTo>
                    <a:pt x="69" y="141"/>
                  </a:lnTo>
                  <a:lnTo>
                    <a:pt x="63" y="135"/>
                  </a:lnTo>
                  <a:lnTo>
                    <a:pt x="57" y="129"/>
                  </a:lnTo>
                  <a:lnTo>
                    <a:pt x="52" y="124"/>
                  </a:lnTo>
                  <a:lnTo>
                    <a:pt x="41" y="112"/>
                  </a:lnTo>
                  <a:lnTo>
                    <a:pt x="33" y="101"/>
                  </a:lnTo>
                  <a:lnTo>
                    <a:pt x="29" y="95"/>
                  </a:lnTo>
                  <a:lnTo>
                    <a:pt x="25" y="89"/>
                  </a:lnTo>
                  <a:lnTo>
                    <a:pt x="20" y="83"/>
                  </a:lnTo>
                  <a:lnTo>
                    <a:pt x="18" y="77"/>
                  </a:lnTo>
                  <a:lnTo>
                    <a:pt x="15" y="72"/>
                  </a:lnTo>
                  <a:lnTo>
                    <a:pt x="12" y="66"/>
                  </a:lnTo>
                  <a:lnTo>
                    <a:pt x="10" y="60"/>
                  </a:lnTo>
                  <a:lnTo>
                    <a:pt x="7" y="54"/>
                  </a:lnTo>
                  <a:lnTo>
                    <a:pt x="6" y="48"/>
                  </a:lnTo>
                  <a:lnTo>
                    <a:pt x="4" y="42"/>
                  </a:lnTo>
                  <a:lnTo>
                    <a:pt x="3" y="30"/>
                  </a:lnTo>
                  <a:lnTo>
                    <a:pt x="1" y="18"/>
                  </a:lnTo>
                  <a:lnTo>
                    <a:pt x="1" y="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5" name="Freeform 10"/>
            <p:cNvSpPr/>
            <p:nvPr/>
          </p:nvSpPr>
          <p:spPr>
            <a:xfrm>
              <a:off x="8097840" y="4082040"/>
              <a:ext cx="276480" cy="108360"/>
            </a:xfrm>
            <a:custGeom>
              <a:avLst/>
              <a:gdLst/>
              <a:ahLst/>
              <a:rect l="l" t="t" r="r" b="b"/>
              <a:pathLst>
                <a:path w="267" h="58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1" y="58"/>
                  </a:lnTo>
                  <a:lnTo>
                    <a:pt x="267" y="58"/>
                  </a:lnTo>
                  <a:lnTo>
                    <a:pt x="267" y="58"/>
                  </a:lnTo>
                  <a:lnTo>
                    <a:pt x="265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6" name="Freeform 11"/>
            <p:cNvSpPr/>
            <p:nvPr/>
          </p:nvSpPr>
          <p:spPr>
            <a:xfrm>
              <a:off x="8325000" y="4078440"/>
              <a:ext cx="51480" cy="11232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46" y="60"/>
                  </a:moveTo>
                  <a:lnTo>
                    <a:pt x="46" y="60"/>
                  </a:lnTo>
                  <a:lnTo>
                    <a:pt x="48" y="60"/>
                  </a:lnTo>
                  <a:lnTo>
                    <a:pt x="48" y="58"/>
                  </a:lnTo>
                  <a:lnTo>
                    <a:pt x="49" y="56"/>
                  </a:lnTo>
                  <a:lnTo>
                    <a:pt x="49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9" y="38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4" y="31"/>
                  </a:lnTo>
                  <a:lnTo>
                    <a:pt x="44" y="29"/>
                  </a:lnTo>
                  <a:lnTo>
                    <a:pt x="42" y="27"/>
                  </a:lnTo>
                  <a:lnTo>
                    <a:pt x="39" y="25"/>
                  </a:lnTo>
                  <a:lnTo>
                    <a:pt x="38" y="23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6" y="14"/>
                  </a:lnTo>
                  <a:lnTo>
                    <a:pt x="23" y="12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19" y="10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7"/>
                  </a:lnTo>
                  <a:lnTo>
                    <a:pt x="37" y="23"/>
                  </a:lnTo>
                  <a:lnTo>
                    <a:pt x="38" y="25"/>
                  </a:lnTo>
                  <a:lnTo>
                    <a:pt x="41" y="27"/>
                  </a:lnTo>
                  <a:lnTo>
                    <a:pt x="42" y="29"/>
                  </a:lnTo>
                  <a:lnTo>
                    <a:pt x="44" y="31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8" y="38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9" y="50"/>
                  </a:lnTo>
                  <a:lnTo>
                    <a:pt x="49" y="52"/>
                  </a:lnTo>
                  <a:lnTo>
                    <a:pt x="48" y="54"/>
                  </a:lnTo>
                  <a:lnTo>
                    <a:pt x="48" y="56"/>
                  </a:lnTo>
                  <a:lnTo>
                    <a:pt x="46" y="58"/>
                  </a:lnTo>
                  <a:lnTo>
                    <a:pt x="46" y="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7" name="Freeform 12"/>
            <p:cNvSpPr/>
            <p:nvPr/>
          </p:nvSpPr>
          <p:spPr>
            <a:xfrm>
              <a:off x="7223040" y="1752480"/>
              <a:ext cx="1463400" cy="2325960"/>
            </a:xfrm>
            <a:custGeom>
              <a:avLst/>
              <a:gdLst/>
              <a:ahLst/>
              <a:rect l="l" t="t" r="r" b="b"/>
              <a:pathLst>
                <a:path w="1412" h="1238">
                  <a:moveTo>
                    <a:pt x="1064" y="1238"/>
                  </a:moveTo>
                  <a:lnTo>
                    <a:pt x="1063" y="1238"/>
                  </a:lnTo>
                  <a:lnTo>
                    <a:pt x="1063" y="1238"/>
                  </a:lnTo>
                  <a:lnTo>
                    <a:pt x="1064" y="1238"/>
                  </a:lnTo>
                  <a:lnTo>
                    <a:pt x="1096" y="1235"/>
                  </a:lnTo>
                  <a:lnTo>
                    <a:pt x="1097" y="1235"/>
                  </a:lnTo>
                  <a:lnTo>
                    <a:pt x="1097" y="1234"/>
                  </a:lnTo>
                  <a:lnTo>
                    <a:pt x="1077" y="699"/>
                  </a:lnTo>
                  <a:lnTo>
                    <a:pt x="1075" y="699"/>
                  </a:lnTo>
                  <a:lnTo>
                    <a:pt x="1207" y="685"/>
                  </a:lnTo>
                  <a:lnTo>
                    <a:pt x="1208" y="685"/>
                  </a:lnTo>
                  <a:lnTo>
                    <a:pt x="1208" y="685"/>
                  </a:lnTo>
                  <a:lnTo>
                    <a:pt x="1181" y="556"/>
                  </a:lnTo>
                  <a:lnTo>
                    <a:pt x="1412" y="428"/>
                  </a:lnTo>
                  <a:lnTo>
                    <a:pt x="1358" y="315"/>
                  </a:lnTo>
                  <a:lnTo>
                    <a:pt x="1204" y="214"/>
                  </a:lnTo>
                  <a:lnTo>
                    <a:pt x="1204" y="214"/>
                  </a:lnTo>
                  <a:lnTo>
                    <a:pt x="1204" y="214"/>
                  </a:lnTo>
                  <a:lnTo>
                    <a:pt x="813" y="174"/>
                  </a:lnTo>
                  <a:lnTo>
                    <a:pt x="814" y="174"/>
                  </a:lnTo>
                  <a:lnTo>
                    <a:pt x="809" y="135"/>
                  </a:lnTo>
                  <a:lnTo>
                    <a:pt x="809" y="135"/>
                  </a:lnTo>
                  <a:lnTo>
                    <a:pt x="850" y="124"/>
                  </a:lnTo>
                  <a:lnTo>
                    <a:pt x="850" y="124"/>
                  </a:lnTo>
                  <a:lnTo>
                    <a:pt x="889" y="65"/>
                  </a:lnTo>
                  <a:lnTo>
                    <a:pt x="795" y="12"/>
                  </a:lnTo>
                  <a:lnTo>
                    <a:pt x="795" y="12"/>
                  </a:lnTo>
                  <a:lnTo>
                    <a:pt x="795" y="12"/>
                  </a:lnTo>
                  <a:lnTo>
                    <a:pt x="574" y="0"/>
                  </a:lnTo>
                  <a:lnTo>
                    <a:pt x="451" y="12"/>
                  </a:lnTo>
                  <a:lnTo>
                    <a:pt x="451" y="12"/>
                  </a:lnTo>
                  <a:lnTo>
                    <a:pt x="451" y="12"/>
                  </a:lnTo>
                  <a:lnTo>
                    <a:pt x="334" y="68"/>
                  </a:lnTo>
                  <a:lnTo>
                    <a:pt x="420" y="132"/>
                  </a:lnTo>
                  <a:lnTo>
                    <a:pt x="420" y="132"/>
                  </a:lnTo>
                  <a:lnTo>
                    <a:pt x="421" y="132"/>
                  </a:lnTo>
                  <a:lnTo>
                    <a:pt x="457" y="135"/>
                  </a:lnTo>
                  <a:lnTo>
                    <a:pt x="455" y="135"/>
                  </a:lnTo>
                  <a:lnTo>
                    <a:pt x="455" y="161"/>
                  </a:lnTo>
                  <a:lnTo>
                    <a:pt x="455" y="160"/>
                  </a:lnTo>
                  <a:lnTo>
                    <a:pt x="406" y="175"/>
                  </a:lnTo>
                  <a:lnTo>
                    <a:pt x="408" y="17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408" y="175"/>
                  </a:lnTo>
                  <a:lnTo>
                    <a:pt x="408" y="175"/>
                  </a:lnTo>
                  <a:lnTo>
                    <a:pt x="457" y="161"/>
                  </a:lnTo>
                  <a:lnTo>
                    <a:pt x="457" y="161"/>
                  </a:lnTo>
                  <a:lnTo>
                    <a:pt x="457" y="135"/>
                  </a:lnTo>
                  <a:lnTo>
                    <a:pt x="457" y="134"/>
                  </a:lnTo>
                  <a:lnTo>
                    <a:pt x="457" y="134"/>
                  </a:lnTo>
                  <a:lnTo>
                    <a:pt x="421" y="132"/>
                  </a:lnTo>
                  <a:lnTo>
                    <a:pt x="421" y="132"/>
                  </a:lnTo>
                  <a:lnTo>
                    <a:pt x="336" y="68"/>
                  </a:lnTo>
                  <a:lnTo>
                    <a:pt x="451" y="12"/>
                  </a:lnTo>
                  <a:lnTo>
                    <a:pt x="451" y="13"/>
                  </a:lnTo>
                  <a:lnTo>
                    <a:pt x="574" y="0"/>
                  </a:lnTo>
                  <a:lnTo>
                    <a:pt x="795" y="13"/>
                  </a:lnTo>
                  <a:lnTo>
                    <a:pt x="794" y="12"/>
                  </a:lnTo>
                  <a:lnTo>
                    <a:pt x="889" y="65"/>
                  </a:lnTo>
                  <a:lnTo>
                    <a:pt x="848" y="124"/>
                  </a:lnTo>
                  <a:lnTo>
                    <a:pt x="848" y="124"/>
                  </a:lnTo>
                  <a:lnTo>
                    <a:pt x="807" y="134"/>
                  </a:lnTo>
                  <a:lnTo>
                    <a:pt x="807" y="135"/>
                  </a:lnTo>
                  <a:lnTo>
                    <a:pt x="813" y="174"/>
                  </a:lnTo>
                  <a:lnTo>
                    <a:pt x="813" y="174"/>
                  </a:lnTo>
                  <a:lnTo>
                    <a:pt x="813" y="174"/>
                  </a:lnTo>
                  <a:lnTo>
                    <a:pt x="1204" y="214"/>
                  </a:lnTo>
                  <a:lnTo>
                    <a:pt x="1203" y="214"/>
                  </a:lnTo>
                  <a:lnTo>
                    <a:pt x="1357" y="315"/>
                  </a:lnTo>
                  <a:lnTo>
                    <a:pt x="1411" y="428"/>
                  </a:lnTo>
                  <a:lnTo>
                    <a:pt x="1180" y="556"/>
                  </a:lnTo>
                  <a:lnTo>
                    <a:pt x="1207" y="685"/>
                  </a:lnTo>
                  <a:lnTo>
                    <a:pt x="1207" y="685"/>
                  </a:lnTo>
                  <a:lnTo>
                    <a:pt x="1075" y="699"/>
                  </a:lnTo>
                  <a:lnTo>
                    <a:pt x="1075" y="699"/>
                  </a:lnTo>
                  <a:lnTo>
                    <a:pt x="1075" y="699"/>
                  </a:lnTo>
                  <a:lnTo>
                    <a:pt x="1096" y="1234"/>
                  </a:lnTo>
                  <a:lnTo>
                    <a:pt x="1096" y="1234"/>
                  </a:lnTo>
                  <a:lnTo>
                    <a:pt x="1064" y="12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8" name="Freeform 13"/>
            <p:cNvSpPr/>
            <p:nvPr/>
          </p:nvSpPr>
          <p:spPr>
            <a:xfrm>
              <a:off x="7086600" y="2152440"/>
              <a:ext cx="136440" cy="293040"/>
            </a:xfrm>
            <a:custGeom>
              <a:avLst/>
              <a:gdLst/>
              <a:ahLst/>
              <a:rect l="l" t="t" r="r" b="b"/>
              <a:pathLst>
                <a:path w="132" h="156">
                  <a:moveTo>
                    <a:pt x="132" y="0"/>
                  </a:move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2" y="5"/>
                  </a:lnTo>
                  <a:lnTo>
                    <a:pt x="114" y="9"/>
                  </a:lnTo>
                  <a:lnTo>
                    <a:pt x="98" y="19"/>
                  </a:lnTo>
                  <a:lnTo>
                    <a:pt x="91" y="23"/>
                  </a:lnTo>
                  <a:lnTo>
                    <a:pt x="79" y="33"/>
                  </a:lnTo>
                  <a:lnTo>
                    <a:pt x="73" y="38"/>
                  </a:lnTo>
                  <a:lnTo>
                    <a:pt x="68" y="42"/>
                  </a:lnTo>
                  <a:lnTo>
                    <a:pt x="58" y="52"/>
                  </a:lnTo>
                  <a:lnTo>
                    <a:pt x="54" y="57"/>
                  </a:lnTo>
                  <a:lnTo>
                    <a:pt x="50" y="61"/>
                  </a:lnTo>
                  <a:lnTo>
                    <a:pt x="46" y="66"/>
                  </a:lnTo>
                  <a:lnTo>
                    <a:pt x="44" y="71"/>
                  </a:lnTo>
                  <a:lnTo>
                    <a:pt x="39" y="76"/>
                  </a:lnTo>
                  <a:lnTo>
                    <a:pt x="37" y="81"/>
                  </a:lnTo>
                  <a:lnTo>
                    <a:pt x="31" y="91"/>
                  </a:lnTo>
                  <a:lnTo>
                    <a:pt x="26" y="101"/>
                  </a:lnTo>
                  <a:lnTo>
                    <a:pt x="23" y="106"/>
                  </a:lnTo>
                  <a:lnTo>
                    <a:pt x="20" y="111"/>
                  </a:lnTo>
                  <a:lnTo>
                    <a:pt x="19" y="116"/>
                  </a:lnTo>
                  <a:lnTo>
                    <a:pt x="16" y="121"/>
                  </a:lnTo>
                  <a:lnTo>
                    <a:pt x="14" y="126"/>
                  </a:lnTo>
                  <a:lnTo>
                    <a:pt x="10" y="136"/>
                  </a:lnTo>
                  <a:lnTo>
                    <a:pt x="7" y="141"/>
                  </a:lnTo>
                  <a:lnTo>
                    <a:pt x="4" y="146"/>
                  </a:lnTo>
                  <a:lnTo>
                    <a:pt x="1" y="151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3" y="151"/>
                  </a:lnTo>
                  <a:lnTo>
                    <a:pt x="5" y="146"/>
                  </a:lnTo>
                  <a:lnTo>
                    <a:pt x="8" y="141"/>
                  </a:lnTo>
                  <a:lnTo>
                    <a:pt x="11" y="136"/>
                  </a:lnTo>
                  <a:lnTo>
                    <a:pt x="15" y="126"/>
                  </a:lnTo>
                  <a:lnTo>
                    <a:pt x="18" y="121"/>
                  </a:lnTo>
                  <a:lnTo>
                    <a:pt x="19" y="116"/>
                  </a:lnTo>
                  <a:lnTo>
                    <a:pt x="22" y="111"/>
                  </a:lnTo>
                  <a:lnTo>
                    <a:pt x="24" y="106"/>
                  </a:lnTo>
                  <a:lnTo>
                    <a:pt x="27" y="101"/>
                  </a:lnTo>
                  <a:lnTo>
                    <a:pt x="31" y="91"/>
                  </a:lnTo>
                  <a:lnTo>
                    <a:pt x="38" y="81"/>
                  </a:lnTo>
                  <a:lnTo>
                    <a:pt x="41" y="76"/>
                  </a:lnTo>
                  <a:lnTo>
                    <a:pt x="44" y="71"/>
                  </a:lnTo>
                  <a:lnTo>
                    <a:pt x="48" y="66"/>
                  </a:lnTo>
                  <a:lnTo>
                    <a:pt x="52" y="61"/>
                  </a:lnTo>
                  <a:lnTo>
                    <a:pt x="56" y="57"/>
                  </a:lnTo>
                  <a:lnTo>
                    <a:pt x="60" y="52"/>
                  </a:lnTo>
                  <a:lnTo>
                    <a:pt x="69" y="42"/>
                  </a:lnTo>
                  <a:lnTo>
                    <a:pt x="75" y="38"/>
                  </a:lnTo>
                  <a:lnTo>
                    <a:pt x="80" y="33"/>
                  </a:lnTo>
                  <a:lnTo>
                    <a:pt x="92" y="23"/>
                  </a:lnTo>
                  <a:lnTo>
                    <a:pt x="99" y="19"/>
                  </a:lnTo>
                  <a:lnTo>
                    <a:pt x="114" y="9"/>
                  </a:lnTo>
                  <a:lnTo>
                    <a:pt x="124" y="5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449" name="Freeform 5"/>
          <p:cNvSpPr/>
          <p:nvPr/>
        </p:nvSpPr>
        <p:spPr>
          <a:xfrm>
            <a:off x="380880" y="2057400"/>
            <a:ext cx="1981440" cy="2976480"/>
          </a:xfrm>
          <a:custGeom>
            <a:avLst/>
            <a:gdLst/>
            <a:ahLst/>
            <a:rect l="l" t="t" r="r" b="b"/>
            <a:pathLst>
              <a:path w="1543" h="1298">
                <a:moveTo>
                  <a:pt x="0" y="369"/>
                </a:moveTo>
                <a:lnTo>
                  <a:pt x="1" y="452"/>
                </a:lnTo>
                <a:lnTo>
                  <a:pt x="46" y="460"/>
                </a:lnTo>
                <a:lnTo>
                  <a:pt x="38" y="482"/>
                </a:lnTo>
                <a:lnTo>
                  <a:pt x="34" y="495"/>
                </a:lnTo>
                <a:lnTo>
                  <a:pt x="169" y="528"/>
                </a:lnTo>
                <a:lnTo>
                  <a:pt x="184" y="680"/>
                </a:lnTo>
                <a:lnTo>
                  <a:pt x="290" y="702"/>
                </a:lnTo>
                <a:lnTo>
                  <a:pt x="307" y="767"/>
                </a:lnTo>
                <a:lnTo>
                  <a:pt x="324" y="833"/>
                </a:lnTo>
                <a:lnTo>
                  <a:pt x="330" y="865"/>
                </a:lnTo>
                <a:lnTo>
                  <a:pt x="337" y="898"/>
                </a:lnTo>
                <a:lnTo>
                  <a:pt x="341" y="931"/>
                </a:lnTo>
                <a:lnTo>
                  <a:pt x="344" y="963"/>
                </a:lnTo>
                <a:lnTo>
                  <a:pt x="347" y="996"/>
                </a:lnTo>
                <a:lnTo>
                  <a:pt x="347" y="1029"/>
                </a:lnTo>
                <a:lnTo>
                  <a:pt x="344" y="1062"/>
                </a:lnTo>
                <a:lnTo>
                  <a:pt x="340" y="1095"/>
                </a:lnTo>
                <a:lnTo>
                  <a:pt x="333" y="1127"/>
                </a:lnTo>
                <a:lnTo>
                  <a:pt x="324" y="1160"/>
                </a:lnTo>
                <a:lnTo>
                  <a:pt x="311" y="1193"/>
                </a:lnTo>
                <a:lnTo>
                  <a:pt x="303" y="1209"/>
                </a:lnTo>
                <a:lnTo>
                  <a:pt x="295" y="1225"/>
                </a:lnTo>
                <a:lnTo>
                  <a:pt x="295" y="1225"/>
                </a:lnTo>
                <a:lnTo>
                  <a:pt x="349" y="1233"/>
                </a:lnTo>
                <a:lnTo>
                  <a:pt x="318" y="1272"/>
                </a:lnTo>
                <a:lnTo>
                  <a:pt x="348" y="1296"/>
                </a:lnTo>
                <a:lnTo>
                  <a:pt x="572" y="1296"/>
                </a:lnTo>
                <a:lnTo>
                  <a:pt x="600" y="1289"/>
                </a:lnTo>
                <a:lnTo>
                  <a:pt x="600" y="1230"/>
                </a:lnTo>
                <a:lnTo>
                  <a:pt x="651" y="1220"/>
                </a:lnTo>
                <a:lnTo>
                  <a:pt x="768" y="762"/>
                </a:lnTo>
                <a:lnTo>
                  <a:pt x="873" y="1055"/>
                </a:lnTo>
                <a:lnTo>
                  <a:pt x="871" y="1067"/>
                </a:lnTo>
                <a:lnTo>
                  <a:pt x="871" y="1079"/>
                </a:lnTo>
                <a:lnTo>
                  <a:pt x="873" y="1090"/>
                </a:lnTo>
                <a:lnTo>
                  <a:pt x="876" y="1102"/>
                </a:lnTo>
                <a:lnTo>
                  <a:pt x="880" y="1114"/>
                </a:lnTo>
                <a:lnTo>
                  <a:pt x="885" y="1126"/>
                </a:lnTo>
                <a:lnTo>
                  <a:pt x="892" y="1137"/>
                </a:lnTo>
                <a:lnTo>
                  <a:pt x="899" y="1149"/>
                </a:lnTo>
                <a:lnTo>
                  <a:pt x="907" y="1161"/>
                </a:lnTo>
                <a:lnTo>
                  <a:pt x="916" y="1172"/>
                </a:lnTo>
                <a:lnTo>
                  <a:pt x="927" y="1184"/>
                </a:lnTo>
                <a:lnTo>
                  <a:pt x="939" y="1195"/>
                </a:lnTo>
                <a:lnTo>
                  <a:pt x="952" y="1207"/>
                </a:lnTo>
                <a:lnTo>
                  <a:pt x="965" y="1218"/>
                </a:lnTo>
                <a:lnTo>
                  <a:pt x="980" y="1229"/>
                </a:lnTo>
                <a:lnTo>
                  <a:pt x="997" y="1240"/>
                </a:lnTo>
                <a:lnTo>
                  <a:pt x="977" y="1291"/>
                </a:lnTo>
                <a:lnTo>
                  <a:pt x="1018" y="1298"/>
                </a:lnTo>
                <a:lnTo>
                  <a:pt x="1241" y="1298"/>
                </a:lnTo>
                <a:lnTo>
                  <a:pt x="1244" y="1294"/>
                </a:lnTo>
                <a:lnTo>
                  <a:pt x="1245" y="1290"/>
                </a:lnTo>
                <a:lnTo>
                  <a:pt x="1245" y="1282"/>
                </a:lnTo>
                <a:lnTo>
                  <a:pt x="1243" y="1274"/>
                </a:lnTo>
                <a:lnTo>
                  <a:pt x="1239" y="1267"/>
                </a:lnTo>
                <a:lnTo>
                  <a:pt x="1230" y="1259"/>
                </a:lnTo>
                <a:lnTo>
                  <a:pt x="1221" y="1252"/>
                </a:lnTo>
                <a:lnTo>
                  <a:pt x="1210" y="1245"/>
                </a:lnTo>
                <a:lnTo>
                  <a:pt x="1196" y="1238"/>
                </a:lnTo>
                <a:lnTo>
                  <a:pt x="1228" y="1234"/>
                </a:lnTo>
                <a:lnTo>
                  <a:pt x="1207" y="699"/>
                </a:lnTo>
                <a:lnTo>
                  <a:pt x="1339" y="685"/>
                </a:lnTo>
                <a:lnTo>
                  <a:pt x="1312" y="556"/>
                </a:lnTo>
                <a:lnTo>
                  <a:pt x="1543" y="428"/>
                </a:lnTo>
                <a:lnTo>
                  <a:pt x="1490" y="315"/>
                </a:lnTo>
                <a:lnTo>
                  <a:pt x="1336" y="214"/>
                </a:lnTo>
                <a:lnTo>
                  <a:pt x="945" y="174"/>
                </a:lnTo>
                <a:lnTo>
                  <a:pt x="939" y="135"/>
                </a:lnTo>
                <a:lnTo>
                  <a:pt x="980" y="124"/>
                </a:lnTo>
                <a:lnTo>
                  <a:pt x="1021" y="65"/>
                </a:lnTo>
                <a:lnTo>
                  <a:pt x="927" y="12"/>
                </a:lnTo>
                <a:lnTo>
                  <a:pt x="706" y="0"/>
                </a:lnTo>
                <a:lnTo>
                  <a:pt x="583" y="12"/>
                </a:lnTo>
                <a:lnTo>
                  <a:pt x="468" y="68"/>
                </a:lnTo>
                <a:lnTo>
                  <a:pt x="553" y="132"/>
                </a:lnTo>
                <a:lnTo>
                  <a:pt x="589" y="135"/>
                </a:lnTo>
                <a:lnTo>
                  <a:pt x="589" y="161"/>
                </a:lnTo>
                <a:lnTo>
                  <a:pt x="540" y="175"/>
                </a:lnTo>
                <a:lnTo>
                  <a:pt x="132" y="213"/>
                </a:lnTo>
                <a:lnTo>
                  <a:pt x="114" y="222"/>
                </a:lnTo>
                <a:lnTo>
                  <a:pt x="101" y="232"/>
                </a:lnTo>
                <a:lnTo>
                  <a:pt x="87" y="241"/>
                </a:lnTo>
                <a:lnTo>
                  <a:pt x="75" y="251"/>
                </a:lnTo>
                <a:lnTo>
                  <a:pt x="64" y="260"/>
                </a:lnTo>
                <a:lnTo>
                  <a:pt x="56" y="270"/>
                </a:lnTo>
                <a:lnTo>
                  <a:pt x="48" y="280"/>
                </a:lnTo>
                <a:lnTo>
                  <a:pt x="41" y="289"/>
                </a:lnTo>
                <a:lnTo>
                  <a:pt x="29" y="309"/>
                </a:lnTo>
                <a:lnTo>
                  <a:pt x="19" y="329"/>
                </a:lnTo>
                <a:lnTo>
                  <a:pt x="15" y="339"/>
                </a:lnTo>
                <a:lnTo>
                  <a:pt x="11" y="349"/>
                </a:lnTo>
                <a:lnTo>
                  <a:pt x="0" y="369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1450" name="Straight Arrow Connector 30"/>
          <p:cNvCxnSpPr/>
          <p:nvPr/>
        </p:nvCxnSpPr>
        <p:spPr>
          <a:xfrm>
            <a:off x="2057400" y="3733560"/>
            <a:ext cx="320112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1" name="Straight Arrow Connector 38"/>
          <p:cNvCxnSpPr/>
          <p:nvPr/>
        </p:nvCxnSpPr>
        <p:spPr>
          <a:xfrm flipV="1">
            <a:off x="5181480" y="2894760"/>
            <a:ext cx="1905840" cy="83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2" name="Straight Arrow Connector 44"/>
          <p:cNvCxnSpPr/>
          <p:nvPr/>
        </p:nvCxnSpPr>
        <p:spPr>
          <a:xfrm>
            <a:off x="5181480" y="3733920"/>
            <a:ext cx="1982160" cy="1676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3" name="TextBox 49"/>
          <p:cNvSpPr/>
          <p:nvPr/>
        </p:nvSpPr>
        <p:spPr>
          <a:xfrm>
            <a:off x="304920" y="52578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mitted to healthcare facility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4" name="TextBox 50"/>
          <p:cNvSpPr/>
          <p:nvPr/>
        </p:nvSpPr>
        <p:spPr>
          <a:xfrm>
            <a:off x="2598120" y="3276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timicrobials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5" name="TextBox 51"/>
          <p:cNvSpPr/>
          <p:nvPr/>
        </p:nvSpPr>
        <p:spPr>
          <a:xfrm>
            <a:off x="1981080" y="3886200"/>
            <a:ext cx="36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 Dif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xposure &amp; acquisi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6" name="TextBox 53"/>
          <p:cNvSpPr/>
          <p:nvPr/>
        </p:nvSpPr>
        <p:spPr>
          <a:xfrm>
            <a:off x="525780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lonized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symptoms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7" name="TextBox 54"/>
          <p:cNvSpPr/>
          <p:nvPr/>
        </p:nvSpPr>
        <p:spPr>
          <a:xfrm>
            <a:off x="4876920" y="5486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ected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ptomatic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8" name="Multiply 26"/>
          <p:cNvSpPr/>
          <p:nvPr/>
        </p:nvSpPr>
        <p:spPr>
          <a:xfrm>
            <a:off x="2971800" y="3048120"/>
            <a:ext cx="914400" cy="76176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62248" y="251855"/>
                </a:moveTo>
                <a:lnTo>
                  <a:pt x="276984" y="114172"/>
                </a:lnTo>
                <a:lnTo>
                  <a:pt x="457200" y="264352"/>
                </a:lnTo>
                <a:lnTo>
                  <a:pt x="637416" y="114172"/>
                </a:lnTo>
                <a:lnTo>
                  <a:pt x="752152" y="251855"/>
                </a:lnTo>
                <a:lnTo>
                  <a:pt x="597177" y="381000"/>
                </a:lnTo>
                <a:lnTo>
                  <a:pt x="752152" y="510145"/>
                </a:lnTo>
                <a:lnTo>
                  <a:pt x="637416" y="647828"/>
                </a:lnTo>
                <a:lnTo>
                  <a:pt x="457200" y="497648"/>
                </a:lnTo>
                <a:lnTo>
                  <a:pt x="276984" y="647828"/>
                </a:lnTo>
                <a:lnTo>
                  <a:pt x="162248" y="510145"/>
                </a:lnTo>
                <a:lnTo>
                  <a:pt x="317223" y="381000"/>
                </a:lnTo>
                <a:lnTo>
                  <a:pt x="162248" y="25185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9" name="Multiply 27"/>
          <p:cNvSpPr/>
          <p:nvPr/>
        </p:nvSpPr>
        <p:spPr>
          <a:xfrm>
            <a:off x="2971800" y="3733920"/>
            <a:ext cx="914400" cy="76176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62248" y="251855"/>
                </a:moveTo>
                <a:lnTo>
                  <a:pt x="276984" y="114172"/>
                </a:lnTo>
                <a:lnTo>
                  <a:pt x="457200" y="264352"/>
                </a:lnTo>
                <a:lnTo>
                  <a:pt x="637416" y="114172"/>
                </a:lnTo>
                <a:lnTo>
                  <a:pt x="752152" y="251855"/>
                </a:lnTo>
                <a:lnTo>
                  <a:pt x="597177" y="381000"/>
                </a:lnTo>
                <a:lnTo>
                  <a:pt x="752152" y="510145"/>
                </a:lnTo>
                <a:lnTo>
                  <a:pt x="637416" y="647828"/>
                </a:lnTo>
                <a:lnTo>
                  <a:pt x="457200" y="497648"/>
                </a:lnTo>
                <a:lnTo>
                  <a:pt x="276984" y="647828"/>
                </a:lnTo>
                <a:lnTo>
                  <a:pt x="162248" y="510145"/>
                </a:lnTo>
                <a:lnTo>
                  <a:pt x="317223" y="381000"/>
                </a:lnTo>
                <a:lnTo>
                  <a:pt x="162248" y="25185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0" name="TextBox 29"/>
          <p:cNvSpPr/>
          <p:nvPr/>
        </p:nvSpPr>
        <p:spPr>
          <a:xfrm>
            <a:off x="205740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Lucida Sans Unicode"/>
              </a:rPr>
              <a:t>Optimizing Environmental cleaning and Hand Hygien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4495680" y="1523880"/>
            <a:ext cx="4267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pplemental Measur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tend (CP) beyond duration of diarrhea (48 hours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sumptive isolation for symptomatic patient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soap and water for HH before exiting room of a patient with CD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universal glove use on units with high CDI rat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sodium hypochlorite (bleach) - containing agents for environmental clean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an antimicrobial stewardship progra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6055-4D42-4630-B9F7-54E884EFFB3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63" name="Title 1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64" name="TextBox 3"/>
          <p:cNvSpPr/>
          <p:nvPr/>
        </p:nvSpPr>
        <p:spPr>
          <a:xfrm>
            <a:off x="228600" y="1447920"/>
            <a:ext cx="426708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re Measu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urveillan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act Precautions (CP) for duration of diarrhe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Hand hygiene (HH)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edicated equipment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leaning and disinfection of equipment and environ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aboratory-based alert system for immediate notification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ducate HCP, housekeeping, admin staff, patients, families, visitors, about CDI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onitor complian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5" name="TextBox 4"/>
          <p:cNvSpPr/>
          <p:nvPr/>
        </p:nvSpPr>
        <p:spPr>
          <a:xfrm>
            <a:off x="563868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 placement (factors to consider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nd hygiene (HH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lov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n gloves upon room entr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 gloves after contact with infectious material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 gloves when moving from contaminated to non contaminated sit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move gloves and HH before leaving the room or caring for another patient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wn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n gown upon room entr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move and discard gloves before removing gown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iscarding gown before exiting the room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ter gown and gloves removal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H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ake sure not to touch any potentially contaminated environmental surface in the room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 (BP cuff, stethoscope, thermometer, etc.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F479-C4E5-4997-A641-2C5B1BDF916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of implementing CP in LTCF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 should be used for the following residents with MDR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pendent on HCP in their activities of daily lif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entilator-depend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ontinent of stoo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und with difficult to contain discharg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 can be relaxed for all others residents with MDROs (consider resident’s mental status and personal hygien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ndard precautions should be observed all tim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ignage for HCP and visito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EDA-0CB2-4AAB-8E09-A9664E0522F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DROs represent a major clinical and infection control challenge particularly in LTCF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cannot do it alon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Regional approach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ggressive infection control approach work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ppropriate antimicrobial us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ining and education (HCP, Patients, Families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(intrafacility and interfacilities)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5115-89E1-413D-880F-58278D5F80A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missio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ly person to person through hands of healthcare personnel (HCP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ct with contaminated environmental surfac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depends 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vulnerable pati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imicrobial press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nization press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herence to infection control measur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t movement among healthcare faciliti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A6AA-5D3D-4BDB-B51E-852F751C988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uring morning rounds you were assigned rooms 103 and 107 for the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oom 10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 contact precaution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 2 patien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1 was recently treated for CRKP UTI, has a Foley catheter and is stool incontin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 2 is CRKP colonized and has a deep bedsore in the right buttock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oom # 107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 two residents admitted for short term rehabilitation S/P total knee replacement. One of them is stool incontinen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E115-AFF4-4EC2-A2DA-5D935243453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533520" y="1481040"/>
            <a:ext cx="8153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type of precautions would you use upon entering Room 103 and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is this type of organism transmitt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type of precautions will you be using for room 107 and 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think it is a good practice to provide care for these two rooms in the same day? Please explain why and what is the best practice in this situation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 2 in room 103 is ambulatory and he wants to go to the activity room.  What would you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chedule, all four patients are due for bathing.  Specify who would go firs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1FA8-9A75-48F4-B412-3EE8FDE7FD6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80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F967-1465-4403-B2EF-DBD5E5E7A9B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A/APIC Guideline: Infection Prevention and Control in the Long-Term Care Facil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dhhr.wv.gov/oeps/disease/AtoZ/Documents/SHEA%20Guide%20to%20LTCF%20Infection%20Control%20Jul08.pdf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eline for Isolation Precautions: Preventing Transmission of Infectious Agents in Healthcare Settin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cdc.gov/hicpac/pdf/isolation/Isolation2007.pdf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of Multidrug-Resistant Organisms In Healthcare Settings, 200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cdc.gov/hicpac/pdf/MDRO/MDROGuideline2006.pdf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DE Websi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dhhr.wv.gov/oeps/disease/HAI/Pages/default.aspx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Healthcare-Associated Infections http://www.cdc.gov/hai/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SHEA “Train the Trainer” May 2011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Prevention of Common Emerging MDROs       “Alex Kallen, MD, MPH” DHQP,  CD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0AC7-3DF4-4B41-83FE-D816C3CAFE7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85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servoi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cted and colonized patien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al surfaces &amp; patient care equi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k factor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nization, age &gt; 65, ICU admission, long hospital stay, frequent hospitalizations, invasive procedures, indwelling devices, underlying diseases, enteral feeding, LTCFs, antimicrobial expos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89A-5781-4F8E-83BD-DB7DC40931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5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person who has culture-positive for an MDRO and displays signs or symptoms of infec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on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person who has culture-positive for an MDRO but has no signs or symptoms of infec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057B-E0C2-4B8C-8B19-9F5F31D863A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erococcus faecium  (VR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phylococcus aureus (MRSA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stridium difficile    (C. Diff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netobacter baumanni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udomonas aeruginos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erobacteriaceae (CRKP/CRE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0082-0E6E-40D6-A6D0-B8108E60DC1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icillin‐Resi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phylococcus aure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MRSA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ncomycin‐Resi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erococ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VRE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EF8-0294-4914-AC0E-F6D362FC708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ph aureus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0" i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resistant to beta‐lacta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sal colonization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general population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5-30 % for 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&lt; 2% for MR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ther colonization sites: rectum, axilla, throat, wound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igher carriage among HCP, dialysis patients, diabetics, IV drug use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. and……..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nsmission…… and………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A1A9-9D97-4341-93CC-C4EF46C5E2C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22:32:38Z</dcterms:created>
  <dc:creator>sherif ibrahim</dc:creator>
  <dc:description/>
  <dc:language>en-US</dc:language>
  <cp:lastModifiedBy>Armstrong, Brett E</cp:lastModifiedBy>
  <dcterms:modified xsi:type="dcterms:W3CDTF">2012-11-20T16:10:32Z</dcterms:modified>
  <cp:revision>161</cp:revision>
  <dc:subject/>
  <dc:title>PowerPoint Presentation</dc:title>
</cp:coreProperties>
</file>