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7.jpeg" ContentType="image/jpeg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6.jpeg" ContentType="image/jpeg"/>
  <Override PartName="/ppt/media/image18.png" ContentType="image/png"/>
  <Override PartName="/ppt/media/image36.jpeg" ContentType="image/jpeg"/>
  <Override PartName="/ppt/media/image20.png" ContentType="image/png"/>
  <Override PartName="/ppt/media/image13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dt" idx="4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ftr" idx="4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 type="sldNum" idx="4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B68F-77ED-48F7-8F45-C41E8F035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5566-A7A5-47BA-A107-D2596395FB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edominant pathogen in H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rvey of 463 hospitals in 2006-2007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65 of device-associated SA infections are MR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A can be carried in the nares for more than 1 year; in one study, subsequent MRSA infections occurred in 29% of patients within 18 months of a previous colonization or inf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48E7-B6D6-436F-9AF3-022B0B03FB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servoirs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zed and  infected individuals (frequent contact with the healthcare syste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ansmiss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 to person mainly through hands of HCP and direct contact with contaminated environmental serv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sistance develops due to acquisition of van gene clusters on mobile genetic elements that are transferable between enterococcal st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st Related Risk Factor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VRE colonization , Enterococcal stool density, Immunodeficiency, Transplant recipient, Clostridium difficile diarrhea , Renal insufficiency, Severity of underlying illn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ealthcare facilities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ICU Admission, Proximity to a patient with VRE, Length of hospitalization, Multiple unit stays, Enteral feedings (Total perienteral nutritio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dicati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Number, type, and duration of antibiotic therapy, Vancomycin use, 3rd Generation Cephalosporin utilization, Anti-anaerobic antibiotics (such as Clindamycin), Flouroquinolones (such as Ciprofloxac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341C-0501-4AB2-B95F-276FE7B3E1F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7F42-B9B0-49E1-970F-6DDCBB314E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k of Enterobacteriaceae infections high among patients with a pathologic intra-abdominal condition /surg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inary tract infection both catheterized and non catheterized patients because of the proximity of the urethral meatus to the anus. Recent Prolonged hospitalization,  LTC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1798-912C-4F93-A92F-19D1520440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 mainly occurs in KP, reported in other Enterobecteriacea, few reports in Pseudomon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servoirs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zed and  infected individuals (frequent contact with the healthcare syste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ansmiss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 to person mainly through hands of HCP and direct contact with contaminated environmental serv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3E4C-6BAD-4516-A8E0-27A7E22CC5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7659-91AE-4CE2-8BE2-430352E54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DD21-8B9A-4B59-8BE3-90BE20D6A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7560"/>
          </a:xfrm>
          <a:prstGeom prst="rect">
            <a:avLst/>
          </a:prstGeom>
          <a:ln w="0">
            <a:noFill/>
          </a:ln>
        </p:spPr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D3AF-C979-4B66-ABBD-BA71A1AA8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8D67-D99F-4FE6-A22E-BCBC460C7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756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FCE1-D333-49BD-96F0-4FB4DDC5EE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AAB5-FBD9-47F2-8275-FD8D40765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5DF8-1A7B-4D05-A2D7-649A9418F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756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5D97-C1FC-4000-AB89-95C7BE4BCE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servoirs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zed and  infected individuals (frequent contact with the healthcare syste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ansmiss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 to person mainly through hands of HCP and direct contact with contaminated environmental serv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vitro survival time 329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days survival on Formica, 12 days on stainless st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4 months on dry surf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agenvoort JHT, Joosten EJAJ. J Hosp Infect 2002;52:226-22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bster C et al. Infect Control Hosp Epidemiol 2000;21:24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Wendt C et al. J Clin Microbiol 1997;35:1394-139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 species &gt;2/3 of Acinetobacter infections are due to A. bauman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a colonize the pharynx intermittently in 7% of the general population and in addition can be isolated from sputum, urine, stool, and vaginal dis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DR-AB carriage and natural history have not been well studi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colonization are 25 to 40% among healthy individuals and up to 75% for hospitalized pati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694F-BF35-4E55-84F8-3B66995F1F9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a colonize the pharynx intermittently in 7% of the general population and in addition can be isolated from sputum, urine, stool, and vaginal dis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DR-AB carriage and natural history have not been well studi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colonization are 25 to 40% among healthy individuals and up to 75% for hospitalized pati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A7C2-64E6-4003-9D4B-66EB48FC05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rvoirs: colonized and  infected individuals (frequent contact with the healthcare syste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mission: Person to person mainly through hands of HCP and direct contact with contaminated environmental serv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zati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moist areas axilla, ears, perine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74C6-4337-4C00-BBC3-05F99EFDC9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FC2C-9363-4866-97FE-8FC4393084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D0B1-1845-403F-8289-CEB71C97E8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positive means (Dark blue when use gram s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ligate anaerobes does not require O2 to surv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xins are required to cause disease. A is the major toxins B can also cause the same illness a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I used to be called C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92E2-4AD8-48BC-8C6A-3AAB0E21C1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s, devices commodes, bathing tubs, and electronic rectal thermomet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infection can be endogenous or exoge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29FF-2E53-4527-83FD-552AB7847F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acquire C diff at the HCF 1-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ontact with a healthc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 with transient hand coloniza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contact with the contaminated environment, or (3) by direct contact with a patient with CD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te of acquisition during hospitalization increases linearly with time and can be as high as 4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4 weeks of hospit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628B-7B96-4317-A745-C33743773C3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E735-46A5-4350-8BC7-11BE73D36C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228B-7133-4583-9C48-57800DFDA9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4927-58B0-4379-B3AB-CEE1C34199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onization Pressu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It is defined as the proportion of patients colonized with a particular organism in a defined geographic area within a hospital/healthcare facility during a specified ti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ntimicrobial Pressur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ncreased antimicrobial use leads to selective pressure on normal flora resulting in emergence of  MDR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78E8-F191-4AA8-BE15-B2FCB85731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A09C-AA9C-41E6-98BA-04B55BAC6C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81AE-F75D-40D9-A1BF-3613742163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49D6-8D17-466D-BCE4-35EF8D06D8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B2CE-9F18-40C1-9262-2CBD74F0EB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A carriage varied substantially across 10 nursing homes. Overall point prevalence was 31% (range, 7%–52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sus 6% in hospitals and 9%–24% in intensive care un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servoirs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zed and  infected individuals (frequent contact with the healthcare syste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ransmiss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Person to person mainly through hands of HCP and direct contact with contaminated environmental serv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ta-Lactams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icillins, cephalosporins, cephamycins, carbapenems, monobact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F718-5480-4281-A9EA-9A10531272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9CC8-5813-46EB-89EA-2C3C2739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ABB-F9AE-47BF-8B31-05395613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EB556-E517-4C66-AC91-A36F82DD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89739-10C8-444D-AEAB-CB936354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52185-00F5-40E4-9BD9-1E934D79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D98F8-B549-4721-8493-AC6CF544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692F5-9D24-4158-9CC8-180DDA14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766C2-CB4B-459E-9E06-42E14A03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842DD-B959-4667-862C-3752E88D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1DF5E-F4AE-4818-B4D3-E9C2DE62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ED449-4610-436E-9467-75C31029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7711EB-A833-4CB1-AEA7-3CD566AD6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300-9AF3-47BA-81BD-E0A18AD7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323C7A-1279-480B-8BBA-4CC7037B67D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877F53-BDCE-4CC4-95F2-0DF1D70BFEC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8C128B-90D2-4082-8032-03AEC631827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46FEA3-051C-4E25-8625-FD2D6521028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5534E-5FBA-4A7E-8618-AFC7D8FC86A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805DF3-4696-4260-B8FC-C8B65A6DA2F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1E7DA-2227-4802-B1BA-87B52F9BB35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ECC84-8130-46EA-8D57-B0570CFF0FC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06499D-C1D8-448C-BFB5-5827AB81138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1553B-9813-4FCE-B50B-5C718D5EC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3DEC-A7C0-4A0B-9C4F-D126CE4C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4A794-1669-4FD0-99C0-315AD00558D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99C262-A704-47B3-B696-0ADF3CF4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2F5B02-175E-481D-B152-9FE0D4F2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DE6FC6-6253-4819-B793-A18744E5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C78763-2811-4DA3-B939-35A6F2BE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68C273-EB7E-47F2-98F1-F2409DED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8C12F2-7FBF-46A7-BC19-09DD7FE3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8E8DA8-66CA-4160-8EB6-6816B258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9274AD-08A2-4F28-AEBA-D8FA6D8A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904407-645F-4ADA-B16E-E18A77DF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A3C6-5134-4732-9210-C0A58422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07BD05-3697-4967-A3F0-4CAEB732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D91C21-3D03-4CCF-8E0B-F6A33DD9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E37DD2-9EE1-4808-AB94-751147B5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B293B1-6FC0-42E3-B6D8-17FE78B1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328090-DB11-4CCF-B83B-474D6076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586EB-95E0-4673-B98E-D573142E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9D5C99-3268-4D88-990F-91F7A473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CC8A3-8B4B-4E53-BCED-E48F8A02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FABB82-B9DE-40B6-9DD4-90F3CB07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3BDD5-902A-48E8-ADE3-E62B60AB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401E-BBD4-4DF1-AA71-ABA6D149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00249-BB6D-4F54-8EB4-1DAD9EBB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A6F0D-6B80-47A2-A596-8E6FA719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D2489-C552-428A-94F9-C88C82BA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556D5-D38A-4AE9-878A-4819F4D8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815AC-5028-40F2-9B93-07DD7EE5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FBD0F1-8F83-460C-9635-61C2204B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11914D-3024-4AB7-8BE5-167EC9C8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DC0F44-A3C0-4A34-AED3-AFEB118D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EEEEA2-0392-4023-BFBB-9612419E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68249FB-51B6-4149-A7CC-89C0E16F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0842-9F3B-455B-956B-7C640B61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19D186-1A4A-4BB9-980B-F4E908CE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8B371B-98A2-427E-BA92-51082171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EC0EA4-18B5-48F1-920D-1BB9E8FF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68F1D7A-6AF8-4046-B671-F6559984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8771427-C595-4B9D-B051-C5611BC1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BFE3B4-CA73-4D23-B6D1-374ED23E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5074BBA-4572-4532-828F-74DADE33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E18C679-D21F-4815-A538-6318D9C2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0E9221-8875-4A90-9A39-01AD347F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D0F4324-9682-449C-A254-928FC713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FF2F-4140-43EC-9F0D-90329E50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A3CB5AA-9D68-4E5B-909C-6906BE83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95EF8CF-1288-40A2-8262-CB02A336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0B337D2-A679-4E59-883F-EA925BBD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B198358-E0D6-4547-BB62-107450D3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31CBEFA-6578-4FEC-9564-79D315C8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01C91D-A1FD-4B84-BC29-52A0AB54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A245528-5B84-4999-8C46-DABADC68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6E7542-4519-4E7E-870B-6635ED14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2F771C2-2BCC-41C3-B009-778E0D74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6BA206E-96E3-40D9-B529-9D7EE04F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3D1C-1E0C-4B95-B86E-0D8C00C5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D460790-AE03-4861-9637-EDF5DCA7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CF48406-B429-43EC-96A8-42301ACE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9CB0F3E-5A01-4BA0-A163-79D028E0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7725464-A079-47FC-849C-9389BCCD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98D8118-571A-4A59-825C-B02D4020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0019575-0193-4FFA-8B85-050BD1D5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672F1E9-A993-4C21-9907-A84AEF90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F464992-A6FA-47EF-BA64-3C1FD92D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D04B846-BAC1-4BB4-8DF9-6BFC5335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F3D1159-8D7F-4FCD-AAEA-8AD9B206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C2C2-7873-4527-8687-7033DFC2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BE01EEF-F403-4C40-9009-8268465B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5B1B67A-52C0-46F1-89B1-52EFA053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8484301-D620-4F22-930D-B9F0D7AA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A9BAC3C-611C-4B3C-92A2-F6C8447C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EB7B533-9E9C-4C68-B127-ECCD88ED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D1CDAD3-499F-4B8F-B2A9-96DC4212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6E2047B-6487-4117-848D-DBB927A7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97879B0-4E15-4F00-8197-3A681E94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69A06C1-AEF5-41A6-9A47-A4355A08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6F9E6F9-34E0-4334-AD0E-83A5DE04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7CBA-2687-4BE3-96AF-F0FED35F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235CBD7-E767-4B55-8E80-4429632F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17CCF7F-FBFF-426A-B96F-DA5F842D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65C07B2-F52E-4272-9754-12B41F12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522-A76E-4D8D-93D3-22D4A39A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1875-0AF5-41FE-80EB-2F68639D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5F5F-25EF-477C-A41B-C1A31A12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5BBC-22D8-4670-8566-8A16BB23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28DF-B517-4260-A84E-703CDF4D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F97A-8C37-4F3C-8FA5-45D5B69C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D6119-F954-4132-B0CC-B98EB1BF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C321-4F67-425E-A763-EDD62312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0A430-061D-4A67-97BB-879F3AD6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EFB81-983C-41E1-9F2D-E8FBCED4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1219E-CAE1-4A1D-99A9-7FA0E4A5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04B-AF5B-4A87-BAE6-4EF1B471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004C2-0590-439D-B802-07A62AD9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2AE5E-28D3-4569-B383-D71BF376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1E013-1D63-41D4-95E6-46681DBC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F22DE-3B6A-43D7-A7E4-78872D3D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A014A-CDF1-4E03-B8F0-DFF27A16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5689D-97EA-4B11-8B03-4D4F998E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749EC-E6C9-4546-ABAE-A655AFC6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4522F-C0D3-47E9-A848-2E07EC52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28954-6C81-4112-8885-64F6BB4C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6B361-E359-419E-A41F-7EFB8491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DB14-5495-4CB0-8D2D-5A806634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5CC0F-261F-4413-909E-B33FF628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A50C0-C063-4D97-9043-9070982E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CA17A-415A-48D4-890C-11A3B2C3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C3329-3369-468F-AA5C-E1661AB5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C6136-EC92-46D3-B217-EA46F78C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70F56-9132-4E33-9953-3ABAE7CA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AE300-2A09-4CFA-B303-A48B7B4A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EB7A0-B4A4-43B7-8D59-2E8C2AD7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E6FBE-3DF1-45D0-9088-888A28AF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69506-2362-431C-9A3E-E5E58118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64C1-B352-4A2A-8382-761D2316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13731-6E3B-4A08-88AE-8D7D4E10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09CDF-31F3-4D63-AA7C-214F5276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1E629-FB50-44A6-A151-1331A0B6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24380-01FB-49AB-BE0C-DF285BA9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80128-5CCC-4D24-AEB2-72A1CE55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E7AF3-4E0B-4AA2-BBDD-D5F908CB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8CA5B-357C-41DF-A210-0F080C3C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21413-AD11-48F9-B658-7C28A54C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72479-313B-4A36-8BF8-0B1F6D5D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14308-674E-4491-8E5C-C3F4CB56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C15-4CBC-41B0-BF89-00166C0A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88508-F83C-43A5-B85E-6A33650E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2072B-915F-46DB-9D21-DCE1B914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3524B-203B-4126-922C-F5C6EABE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4B2BB-73D4-4664-BBD5-4EBA9C22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6BCA3-3A74-44E2-BBC3-D0F6B504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26F0C-A90A-493E-A72A-A121A5CD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826B0-56A4-4BDA-A81C-A72DED5B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7D63B-1C2C-4A02-9F20-C617208F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EF31D-D5FD-4A12-A75D-B732A7D1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0B733-5855-44CE-95AA-BB8C0A7F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D1E-B345-44E1-BF26-2198331F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3FA3A-1565-453E-B2D4-74F306F5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FE99C-2F18-4E59-816F-D6E2DEC5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285D1-7DD5-4736-BE4A-D406D6B5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068B1-D238-474F-B890-5F77FFE7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E2201-F88E-4A36-A887-0A096B03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F8E00-5369-4BF2-A8FB-5FCFE37E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A4266-F7DC-4DD0-8A6B-E3AF8042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91A30-5601-4360-A9C0-052EA8DC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4EB23-E0FC-413E-86D8-297C1FEE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13BEF-B941-4E57-8E4B-8E369B8E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FFA-2EE7-48E7-945E-0B759048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A59B4-4C2A-4E0D-982E-8C8FFEEF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9B618-21B6-4365-A91E-9FCB48E9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A8F23-8681-4639-A033-E3BE6715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D02F6-C9F3-4184-A506-2B127200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C143C-6AFE-442F-8C87-14467F0F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93254-698A-426E-B42D-B4F97E6C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13BFC-AE96-4D17-9AC0-F428F50F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E60B9-9EDA-4FFD-AD17-5CC0AE1B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80426-FFCA-4DAF-8F5D-512264D4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25F11-1CFC-4883-B3E3-C6E58158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7A8-F4BA-48CF-A2E6-1AF96B30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A5837-2ADA-487D-87C7-7A43CF0C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6917B-8330-4DF3-8313-0F6BFBB8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9C233-9BE9-4714-ADEF-7C1297C4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C0A74-094D-4279-B3F6-E7A5239B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86D60-3BCB-4545-8DCF-E44ED37A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C3904-9B3F-445B-B042-B8141359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18DB9-DB03-42C6-847A-167D81B9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94765-9139-418F-90AC-649EE905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8CEAE-F189-49CC-BF54-ED0613A2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0829D-2766-4155-A4EC-C865750C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CA3E-B5F5-4BFE-9460-2E7278CD191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708E-CAEE-4266-AAA2-530C3DFCD26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C:\Documents and Settings\c492301\My Documents\My Pictures\New Image.JPG"/>
          <p:cNvPicPr/>
          <p:nvPr/>
        </p:nvPicPr>
        <p:blipFill>
          <a:blip r:embed="rId4"/>
          <a:stretch/>
        </p:blipFill>
        <p:spPr>
          <a:xfrm>
            <a:off x="5715000" y="6248520"/>
            <a:ext cx="2895480" cy="4572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15"/>
          <p:cNvSpPr/>
          <p:nvPr/>
        </p:nvSpPr>
        <p:spPr>
          <a:xfrm flipV="1" rot="10800000">
            <a:off x="2742840" y="61995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Office of Epidemiology and preventive Services </a:t>
            </a: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ivision of Infectious Disease Epidemiology </a:t>
            </a:r>
            <a:endParaRPr b="0" lang="en-US" sz="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2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C4DB-162D-4B0F-A3D5-DECEE567C51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1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17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4E9B-6E85-42C1-9044-07D7E9E654F0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1B66-EC20-4D5C-80C6-5B28EFECC67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56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6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56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C06B-F7A6-4C50-9BDF-12D91710ECC9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E290-41F7-40B3-B5A6-9BE5F8FF105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7F18-F94E-41C8-BF76-109E39BF4622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EF3A-4780-406B-8DDA-75C6D0573FC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65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51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653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3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9337-9AE6-4CCD-9208-EA3CDFE5F961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3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B43B-36DE-4C8A-BCDA-FCAD393F4E6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CF2F-CD7E-41B9-B850-F0F8C790501B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3F4F-DDC8-4AF8-A12E-79ED599BB85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7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738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39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741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42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3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4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3765-4173-4B3D-BC51-A312927D8BA3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4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4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1127-F9E8-47E7-866E-049059B9AB3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78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8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79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83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3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83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5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pic>
        <p:nvPicPr>
          <p:cNvPr id="5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0E7D-3184-456D-8635-9238BD43D1F2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04C4-AD7E-49ED-A730-BB56C4DF711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AD74-712D-45D8-809B-63F19FE04E74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9480-8DB6-4FDD-8ECF-811AE831A09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0337-DEE5-452A-B5DC-5A385C609DC2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ACCB-996D-45A0-9556-26ECBF0D85D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BE80-928F-4D18-AC14-D5FCFAC6073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708D-E2C4-4F43-BCC1-4296E4AD349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4AB8-43B2-4A0C-A410-68FC6D2FF43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3DFA-811E-43F7-8E60-68D978742E8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3F22-4186-4F70-874E-281554F445B8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6839-D472-46C0-9686-377FFB7BE65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62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63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64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65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66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67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68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69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70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71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72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73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9CF8-11D8-41ED-838C-2E1896CEB135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9C38-6CAA-4116-9FCD-EB0233FE91F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416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17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18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grpSp>
          <p:nvGrpSpPr>
            <p:cNvPr id="419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420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rbel"/>
                </a:endParaRPr>
              </a:p>
            </p:txBody>
          </p:sp>
        </p:grpSp>
        <p:pic>
          <p:nvPicPr>
            <p:cNvPr id="42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77A2-822A-4A5F-8709-976988E62DBC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1239-ABBA-4A9E-BE52-E5B4B7263A9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20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0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0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0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0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Title 1" descr=""/>
          <p:cNvPicPr/>
          <p:nvPr/>
        </p:nvPicPr>
        <p:blipFill>
          <a:blip r:embed="rId1"/>
          <a:stretch/>
        </p:blipFill>
        <p:spPr>
          <a:xfrm>
            <a:off x="450720" y="1146240"/>
            <a:ext cx="8388360" cy="229212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By Dr. Sherif Ibrahi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5150-F506-4434-9303-144305B85A3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83" name="Picture 2" descr="C:\Documents and Settings\c492301\My Documents\My Pictures\New Image.JPG"/>
          <p:cNvPicPr/>
          <p:nvPr/>
        </p:nvPicPr>
        <p:blipFill>
          <a:blip r:embed="rId2"/>
          <a:stretch/>
        </p:blipFill>
        <p:spPr>
          <a:xfrm>
            <a:off x="2938320" y="6019920"/>
            <a:ext cx="3081600" cy="7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9-65 % of HA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p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NHS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4,360 invasive MRSA infections annually/U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,650 associated death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6% of all invasive MRSA  are HAI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phylococcus aureus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insic virulen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 a wide range of life threatening infec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apt to different environmental condi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survive in the environment 1-56 day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AC48-227E-41A1-BC53-95C55AA0DC1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1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RSA colonization generally precedes infec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isk of developing MRSA infection among colonized individuals is 29% in 18 month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ationale for prevention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vent transmission from colonized to un-colonized individual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vent infection in colonized individual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RSA-specific strategies (Decolonization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 MRSA-specific strategies (reduce device-associated infection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1833-262B-4C7E-BD0E-7D8F8A327D8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1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erobic Gram positive cocci that inhabitant of GI tract and female genital trac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Endemic in most U.S. hospit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25% all enterococcal isolates are V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esistance is commonly seen in isolates of E.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aeciu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than E.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aecal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isk factors (Host, Healthcare facility, Antimicrobial exposure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5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38A0-F9DF-4FF1-A8A6-5491845A988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16" name="Title 3" descr=""/>
          <p:cNvPicPr/>
          <p:nvPr/>
        </p:nvPicPr>
        <p:blipFill>
          <a:blip r:embed="rId1"/>
          <a:stretch/>
        </p:blipFill>
        <p:spPr>
          <a:xfrm>
            <a:off x="304920" y="219240"/>
            <a:ext cx="865008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servoirs: ….. and …….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nsmission: ……and ……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mon sites of infection: urinary tract, surgical wound, blood stream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ortality rate is 2 times higher in VRE  than VSE infections 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urvives  on environmen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days – weeks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21C1-BC92-4BBB-A1E6-DF82926B92C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1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304560" y="14810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lucose fermenter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erobacteriacea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odborn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lmonella, Shigel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lthcare-associate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obac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es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 cloaca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unity and Healthcare-associate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ebsiell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es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. pneumonia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cherichia col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–glucose ferment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inetobacter baumanni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seudomonas aeruginosa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10EC-8922-4C59-9CC7-781AC6A0A3C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2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 human gut flora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vironment (soil &amp; water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ant cause of community and HA infec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de range of infections (UTI, Bacteremia, pneumonia, wound infectio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 col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common cause of outpatient UTI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 col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ebsiel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counted for 15% all HAIs reported to NHSN 2007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3A79-9ED7-45BD-ABD7-76B42C0C91D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2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 txBox="1"/>
          <p:nvPr/>
        </p:nvSpPr>
        <p:spPr>
          <a:xfrm>
            <a:off x="457200" y="175248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 lactama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sistant to B-lactams for decad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tended spectrum B-lactamases  (ESBL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sistant to 3rd generation cephalosporins, monobactam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nosocomial however 34% from patients with no healthcare contact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bapene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last line of defense for treatment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15F6-9E6F-4D96-9361-872296C277C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28" name="Title 1" descr=""/>
          <p:cNvPicPr/>
          <p:nvPr/>
        </p:nvPicPr>
        <p:blipFill>
          <a:blip r:embed="rId1"/>
          <a:stretch/>
        </p:blipFill>
        <p:spPr>
          <a:xfrm>
            <a:off x="444600" y="219240"/>
            <a:ext cx="8364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rbapenem-Resistan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erobacteriaceae (CRE)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sistanc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production of a carbapenemase also known as KP carbapenemase (KPC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sides on transferable plasmids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wide spread transmission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imits options for treatment  (Polymyxins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problems with nephrotoxicity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servoirs: ……..and ….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ansmission; …..and ……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8DE8-EC99-4EFE-B87B-C8D41F50C63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31" name="Title 1" descr=""/>
          <p:cNvPicPr/>
          <p:nvPr/>
        </p:nvPicPr>
        <p:blipFill>
          <a:blip r:embed="rId1"/>
          <a:stretch/>
        </p:blipFill>
        <p:spPr>
          <a:xfrm>
            <a:off x="444600" y="219240"/>
            <a:ext cx="8364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Freeform 2"/>
          <p:cNvSpPr/>
          <p:nvPr/>
        </p:nvSpPr>
        <p:spPr>
          <a:xfrm>
            <a:off x="5137200" y="4413240"/>
            <a:ext cx="473040" cy="763560"/>
          </a:xfrm>
          <a:custGeom>
            <a:avLst/>
            <a:gdLst>
              <a:gd name="textAreaLeft" fmla="*/ 0 w 473040"/>
              <a:gd name="textAreaRight" fmla="*/ 473400 w 4730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686" h="962">
                <a:moveTo>
                  <a:pt x="0" y="36"/>
                </a:moveTo>
                <a:lnTo>
                  <a:pt x="16" y="55"/>
                </a:lnTo>
                <a:lnTo>
                  <a:pt x="0" y="647"/>
                </a:lnTo>
                <a:lnTo>
                  <a:pt x="41" y="935"/>
                </a:lnTo>
                <a:lnTo>
                  <a:pt x="91" y="943"/>
                </a:lnTo>
                <a:lnTo>
                  <a:pt x="110" y="854"/>
                </a:lnTo>
                <a:lnTo>
                  <a:pt x="128" y="878"/>
                </a:lnTo>
                <a:lnTo>
                  <a:pt x="131" y="921"/>
                </a:lnTo>
                <a:lnTo>
                  <a:pt x="158" y="941"/>
                </a:lnTo>
                <a:lnTo>
                  <a:pt x="120" y="962"/>
                </a:lnTo>
                <a:lnTo>
                  <a:pt x="214" y="940"/>
                </a:lnTo>
                <a:lnTo>
                  <a:pt x="234" y="914"/>
                </a:lnTo>
                <a:lnTo>
                  <a:pt x="218" y="899"/>
                </a:lnTo>
                <a:lnTo>
                  <a:pt x="230" y="875"/>
                </a:lnTo>
                <a:lnTo>
                  <a:pt x="180" y="835"/>
                </a:lnTo>
                <a:lnTo>
                  <a:pt x="184" y="806"/>
                </a:lnTo>
                <a:lnTo>
                  <a:pt x="686" y="769"/>
                </a:lnTo>
                <a:lnTo>
                  <a:pt x="642" y="614"/>
                </a:lnTo>
                <a:lnTo>
                  <a:pt x="650" y="560"/>
                </a:lnTo>
                <a:lnTo>
                  <a:pt x="669" y="525"/>
                </a:lnTo>
                <a:lnTo>
                  <a:pt x="652" y="472"/>
                </a:lnTo>
                <a:lnTo>
                  <a:pt x="605" y="407"/>
                </a:lnTo>
                <a:lnTo>
                  <a:pt x="476" y="0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3" name="Freeform 3"/>
          <p:cNvSpPr/>
          <p:nvPr/>
        </p:nvSpPr>
        <p:spPr>
          <a:xfrm>
            <a:off x="5137200" y="4413240"/>
            <a:ext cx="473040" cy="763560"/>
          </a:xfrm>
          <a:custGeom>
            <a:avLst/>
            <a:gdLst>
              <a:gd name="textAreaLeft" fmla="*/ 0 w 473040"/>
              <a:gd name="textAreaRight" fmla="*/ 473400 w 4730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686" h="962">
                <a:moveTo>
                  <a:pt x="0" y="36"/>
                </a:moveTo>
                <a:lnTo>
                  <a:pt x="16" y="55"/>
                </a:lnTo>
                <a:lnTo>
                  <a:pt x="0" y="647"/>
                </a:lnTo>
                <a:lnTo>
                  <a:pt x="41" y="935"/>
                </a:lnTo>
                <a:lnTo>
                  <a:pt x="91" y="943"/>
                </a:lnTo>
                <a:lnTo>
                  <a:pt x="110" y="854"/>
                </a:lnTo>
                <a:lnTo>
                  <a:pt x="128" y="878"/>
                </a:lnTo>
                <a:lnTo>
                  <a:pt x="131" y="921"/>
                </a:lnTo>
                <a:lnTo>
                  <a:pt x="158" y="941"/>
                </a:lnTo>
                <a:lnTo>
                  <a:pt x="120" y="962"/>
                </a:lnTo>
                <a:lnTo>
                  <a:pt x="214" y="940"/>
                </a:lnTo>
                <a:lnTo>
                  <a:pt x="234" y="914"/>
                </a:lnTo>
                <a:lnTo>
                  <a:pt x="218" y="899"/>
                </a:lnTo>
                <a:lnTo>
                  <a:pt x="230" y="875"/>
                </a:lnTo>
                <a:lnTo>
                  <a:pt x="180" y="835"/>
                </a:lnTo>
                <a:lnTo>
                  <a:pt x="184" y="806"/>
                </a:lnTo>
                <a:lnTo>
                  <a:pt x="686" y="769"/>
                </a:lnTo>
                <a:lnTo>
                  <a:pt x="642" y="614"/>
                </a:lnTo>
                <a:lnTo>
                  <a:pt x="650" y="560"/>
                </a:lnTo>
                <a:lnTo>
                  <a:pt x="669" y="525"/>
                </a:lnTo>
                <a:lnTo>
                  <a:pt x="652" y="472"/>
                </a:lnTo>
                <a:lnTo>
                  <a:pt x="605" y="407"/>
                </a:lnTo>
                <a:lnTo>
                  <a:pt x="476" y="0"/>
                </a:lnTo>
                <a:lnTo>
                  <a:pt x="0" y="3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4" name="Freeform 4"/>
          <p:cNvSpPr/>
          <p:nvPr/>
        </p:nvSpPr>
        <p:spPr>
          <a:xfrm>
            <a:off x="1069920" y="5842080"/>
            <a:ext cx="63720" cy="28440"/>
          </a:xfrm>
          <a:custGeom>
            <a:avLst/>
            <a:gdLst>
              <a:gd name="textAreaLeft" fmla="*/ 0 w 63720"/>
              <a:gd name="textAreaRight" fmla="*/ 64080 w 637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8" h="38">
                <a:moveTo>
                  <a:pt x="0" y="38"/>
                </a:moveTo>
                <a:lnTo>
                  <a:pt x="23" y="17"/>
                </a:lnTo>
                <a:lnTo>
                  <a:pt x="84" y="0"/>
                </a:lnTo>
                <a:lnTo>
                  <a:pt x="88" y="7"/>
                </a:lnTo>
                <a:lnTo>
                  <a:pt x="0" y="3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5" name="Freeform 5"/>
          <p:cNvSpPr/>
          <p:nvPr/>
        </p:nvSpPr>
        <p:spPr>
          <a:xfrm>
            <a:off x="1069920" y="5842080"/>
            <a:ext cx="63720" cy="28440"/>
          </a:xfrm>
          <a:custGeom>
            <a:avLst/>
            <a:gdLst>
              <a:gd name="textAreaLeft" fmla="*/ 0 w 63720"/>
              <a:gd name="textAreaRight" fmla="*/ 64080 w 637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8" h="38">
                <a:moveTo>
                  <a:pt x="0" y="38"/>
                </a:moveTo>
                <a:lnTo>
                  <a:pt x="23" y="17"/>
                </a:lnTo>
                <a:lnTo>
                  <a:pt x="84" y="0"/>
                </a:lnTo>
                <a:lnTo>
                  <a:pt x="88" y="7"/>
                </a:lnTo>
                <a:lnTo>
                  <a:pt x="0" y="3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6" name="Freeform 6"/>
          <p:cNvSpPr/>
          <p:nvPr/>
        </p:nvSpPr>
        <p:spPr>
          <a:xfrm>
            <a:off x="1162080" y="582768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0" h="31">
                <a:moveTo>
                  <a:pt x="0" y="31"/>
                </a:moveTo>
                <a:lnTo>
                  <a:pt x="11" y="0"/>
                </a:lnTo>
                <a:lnTo>
                  <a:pt x="50" y="7"/>
                </a:lnTo>
                <a:lnTo>
                  <a:pt x="46" y="24"/>
                </a:lnTo>
                <a:lnTo>
                  <a:pt x="0" y="3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7" name="Freeform 7"/>
          <p:cNvSpPr/>
          <p:nvPr/>
        </p:nvSpPr>
        <p:spPr>
          <a:xfrm>
            <a:off x="1162080" y="582768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0" h="31">
                <a:moveTo>
                  <a:pt x="0" y="31"/>
                </a:moveTo>
                <a:lnTo>
                  <a:pt x="11" y="0"/>
                </a:lnTo>
                <a:lnTo>
                  <a:pt x="50" y="7"/>
                </a:lnTo>
                <a:lnTo>
                  <a:pt x="46" y="24"/>
                </a:lnTo>
                <a:lnTo>
                  <a:pt x="0" y="3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8" name="Freeform 8"/>
          <p:cNvSpPr/>
          <p:nvPr/>
        </p:nvSpPr>
        <p:spPr>
          <a:xfrm>
            <a:off x="1239840" y="5800680"/>
            <a:ext cx="68400" cy="23760"/>
          </a:xfrm>
          <a:custGeom>
            <a:avLst/>
            <a:gdLst>
              <a:gd name="textAreaLeft" fmla="*/ 0 w 68400"/>
              <a:gd name="textAreaRight" fmla="*/ 68760 w 684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99" h="30">
                <a:moveTo>
                  <a:pt x="0" y="30"/>
                </a:moveTo>
                <a:lnTo>
                  <a:pt x="24" y="0"/>
                </a:lnTo>
                <a:lnTo>
                  <a:pt x="83" y="0"/>
                </a:lnTo>
                <a:lnTo>
                  <a:pt x="99" y="30"/>
                </a:lnTo>
                <a:lnTo>
                  <a:pt x="35" y="22"/>
                </a:lnTo>
                <a:lnTo>
                  <a:pt x="0" y="3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9" name="Freeform 9"/>
          <p:cNvSpPr/>
          <p:nvPr/>
        </p:nvSpPr>
        <p:spPr>
          <a:xfrm>
            <a:off x="1239840" y="5800680"/>
            <a:ext cx="68400" cy="23760"/>
          </a:xfrm>
          <a:custGeom>
            <a:avLst/>
            <a:gdLst>
              <a:gd name="textAreaLeft" fmla="*/ 0 w 68400"/>
              <a:gd name="textAreaRight" fmla="*/ 68760 w 684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99" h="30">
                <a:moveTo>
                  <a:pt x="0" y="30"/>
                </a:moveTo>
                <a:lnTo>
                  <a:pt x="24" y="0"/>
                </a:lnTo>
                <a:lnTo>
                  <a:pt x="83" y="0"/>
                </a:lnTo>
                <a:lnTo>
                  <a:pt x="99" y="30"/>
                </a:lnTo>
                <a:lnTo>
                  <a:pt x="35" y="22"/>
                </a:lnTo>
                <a:lnTo>
                  <a:pt x="0" y="3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0" name="Freeform 10"/>
          <p:cNvSpPr/>
          <p:nvPr/>
        </p:nvSpPr>
        <p:spPr>
          <a:xfrm>
            <a:off x="1301760" y="4853160"/>
            <a:ext cx="1200240" cy="100008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740" h="1261">
                <a:moveTo>
                  <a:pt x="0" y="1205"/>
                </a:moveTo>
                <a:lnTo>
                  <a:pt x="15" y="1183"/>
                </a:lnTo>
                <a:lnTo>
                  <a:pt x="27" y="1186"/>
                </a:lnTo>
                <a:lnTo>
                  <a:pt x="100" y="1143"/>
                </a:lnTo>
                <a:lnTo>
                  <a:pt x="144" y="1152"/>
                </a:lnTo>
                <a:lnTo>
                  <a:pt x="152" y="1167"/>
                </a:lnTo>
                <a:lnTo>
                  <a:pt x="158" y="1150"/>
                </a:lnTo>
                <a:lnTo>
                  <a:pt x="200" y="1124"/>
                </a:lnTo>
                <a:lnTo>
                  <a:pt x="270" y="1104"/>
                </a:lnTo>
                <a:lnTo>
                  <a:pt x="331" y="1059"/>
                </a:lnTo>
                <a:lnTo>
                  <a:pt x="343" y="1063"/>
                </a:lnTo>
                <a:lnTo>
                  <a:pt x="354" y="1006"/>
                </a:lnTo>
                <a:lnTo>
                  <a:pt x="393" y="965"/>
                </a:lnTo>
                <a:lnTo>
                  <a:pt x="329" y="969"/>
                </a:lnTo>
                <a:lnTo>
                  <a:pt x="339" y="946"/>
                </a:lnTo>
                <a:lnTo>
                  <a:pt x="358" y="948"/>
                </a:lnTo>
                <a:lnTo>
                  <a:pt x="339" y="938"/>
                </a:lnTo>
                <a:lnTo>
                  <a:pt x="308" y="965"/>
                </a:lnTo>
                <a:lnTo>
                  <a:pt x="304" y="982"/>
                </a:lnTo>
                <a:lnTo>
                  <a:pt x="268" y="941"/>
                </a:lnTo>
                <a:lnTo>
                  <a:pt x="256" y="946"/>
                </a:lnTo>
                <a:lnTo>
                  <a:pt x="237" y="926"/>
                </a:lnTo>
                <a:lnTo>
                  <a:pt x="189" y="943"/>
                </a:lnTo>
                <a:lnTo>
                  <a:pt x="177" y="945"/>
                </a:lnTo>
                <a:lnTo>
                  <a:pt x="137" y="934"/>
                </a:lnTo>
                <a:lnTo>
                  <a:pt x="177" y="905"/>
                </a:lnTo>
                <a:lnTo>
                  <a:pt x="168" y="897"/>
                </a:lnTo>
                <a:lnTo>
                  <a:pt x="179" y="876"/>
                </a:lnTo>
                <a:lnTo>
                  <a:pt x="171" y="815"/>
                </a:lnTo>
                <a:lnTo>
                  <a:pt x="195" y="784"/>
                </a:lnTo>
                <a:lnTo>
                  <a:pt x="160" y="806"/>
                </a:lnTo>
                <a:lnTo>
                  <a:pt x="160" y="827"/>
                </a:lnTo>
                <a:lnTo>
                  <a:pt x="129" y="844"/>
                </a:lnTo>
                <a:lnTo>
                  <a:pt x="89" y="832"/>
                </a:lnTo>
                <a:lnTo>
                  <a:pt x="77" y="784"/>
                </a:lnTo>
                <a:lnTo>
                  <a:pt x="48" y="763"/>
                </a:lnTo>
                <a:lnTo>
                  <a:pt x="50" y="748"/>
                </a:lnTo>
                <a:lnTo>
                  <a:pt x="65" y="748"/>
                </a:lnTo>
                <a:lnTo>
                  <a:pt x="75" y="736"/>
                </a:lnTo>
                <a:lnTo>
                  <a:pt x="89" y="732"/>
                </a:lnTo>
                <a:lnTo>
                  <a:pt x="75" y="731"/>
                </a:lnTo>
                <a:lnTo>
                  <a:pt x="85" y="722"/>
                </a:lnTo>
                <a:lnTo>
                  <a:pt x="69" y="705"/>
                </a:lnTo>
                <a:lnTo>
                  <a:pt x="62" y="714"/>
                </a:lnTo>
                <a:lnTo>
                  <a:pt x="38" y="678"/>
                </a:lnTo>
                <a:lnTo>
                  <a:pt x="54" y="650"/>
                </a:lnTo>
                <a:lnTo>
                  <a:pt x="133" y="604"/>
                </a:lnTo>
                <a:lnTo>
                  <a:pt x="152" y="571"/>
                </a:lnTo>
                <a:lnTo>
                  <a:pt x="171" y="566"/>
                </a:lnTo>
                <a:lnTo>
                  <a:pt x="210" y="585"/>
                </a:lnTo>
                <a:lnTo>
                  <a:pt x="237" y="580"/>
                </a:lnTo>
                <a:lnTo>
                  <a:pt x="248" y="565"/>
                </a:lnTo>
                <a:lnTo>
                  <a:pt x="308" y="571"/>
                </a:lnTo>
                <a:lnTo>
                  <a:pt x="320" y="522"/>
                </a:lnTo>
                <a:lnTo>
                  <a:pt x="304" y="503"/>
                </a:lnTo>
                <a:lnTo>
                  <a:pt x="343" y="484"/>
                </a:lnTo>
                <a:lnTo>
                  <a:pt x="308" y="472"/>
                </a:lnTo>
                <a:lnTo>
                  <a:pt x="256" y="501"/>
                </a:lnTo>
                <a:lnTo>
                  <a:pt x="252" y="474"/>
                </a:lnTo>
                <a:lnTo>
                  <a:pt x="166" y="470"/>
                </a:lnTo>
                <a:lnTo>
                  <a:pt x="127" y="441"/>
                </a:lnTo>
                <a:lnTo>
                  <a:pt x="121" y="390"/>
                </a:lnTo>
                <a:lnTo>
                  <a:pt x="150" y="400"/>
                </a:lnTo>
                <a:lnTo>
                  <a:pt x="89" y="344"/>
                </a:lnTo>
                <a:lnTo>
                  <a:pt x="248" y="316"/>
                </a:lnTo>
                <a:lnTo>
                  <a:pt x="272" y="323"/>
                </a:lnTo>
                <a:lnTo>
                  <a:pt x="248" y="345"/>
                </a:lnTo>
                <a:lnTo>
                  <a:pt x="333" y="381"/>
                </a:lnTo>
                <a:lnTo>
                  <a:pt x="368" y="371"/>
                </a:lnTo>
                <a:lnTo>
                  <a:pt x="366" y="359"/>
                </a:lnTo>
                <a:lnTo>
                  <a:pt x="335" y="352"/>
                </a:lnTo>
                <a:lnTo>
                  <a:pt x="320" y="303"/>
                </a:lnTo>
                <a:lnTo>
                  <a:pt x="343" y="320"/>
                </a:lnTo>
                <a:lnTo>
                  <a:pt x="349" y="345"/>
                </a:lnTo>
                <a:lnTo>
                  <a:pt x="385" y="364"/>
                </a:lnTo>
                <a:lnTo>
                  <a:pt x="420" y="363"/>
                </a:lnTo>
                <a:lnTo>
                  <a:pt x="412" y="344"/>
                </a:lnTo>
                <a:lnTo>
                  <a:pt x="353" y="333"/>
                </a:lnTo>
                <a:lnTo>
                  <a:pt x="364" y="303"/>
                </a:lnTo>
                <a:lnTo>
                  <a:pt x="293" y="282"/>
                </a:lnTo>
                <a:lnTo>
                  <a:pt x="293" y="244"/>
                </a:lnTo>
                <a:lnTo>
                  <a:pt x="272" y="215"/>
                </a:lnTo>
                <a:lnTo>
                  <a:pt x="218" y="164"/>
                </a:lnTo>
                <a:lnTo>
                  <a:pt x="239" y="160"/>
                </a:lnTo>
                <a:lnTo>
                  <a:pt x="262" y="123"/>
                </a:lnTo>
                <a:lnTo>
                  <a:pt x="322" y="140"/>
                </a:lnTo>
                <a:lnTo>
                  <a:pt x="366" y="121"/>
                </a:lnTo>
                <a:lnTo>
                  <a:pt x="432" y="51"/>
                </a:lnTo>
                <a:lnTo>
                  <a:pt x="453" y="61"/>
                </a:lnTo>
                <a:lnTo>
                  <a:pt x="495" y="39"/>
                </a:lnTo>
                <a:lnTo>
                  <a:pt x="495" y="59"/>
                </a:lnTo>
                <a:lnTo>
                  <a:pt x="518" y="53"/>
                </a:lnTo>
                <a:lnTo>
                  <a:pt x="507" y="42"/>
                </a:lnTo>
                <a:lnTo>
                  <a:pt x="568" y="35"/>
                </a:lnTo>
                <a:lnTo>
                  <a:pt x="613" y="0"/>
                </a:lnTo>
                <a:lnTo>
                  <a:pt x="643" y="22"/>
                </a:lnTo>
                <a:lnTo>
                  <a:pt x="632" y="51"/>
                </a:lnTo>
                <a:lnTo>
                  <a:pt x="655" y="53"/>
                </a:lnTo>
                <a:lnTo>
                  <a:pt x="661" y="25"/>
                </a:lnTo>
                <a:lnTo>
                  <a:pt x="690" y="59"/>
                </a:lnTo>
                <a:lnTo>
                  <a:pt x="740" y="59"/>
                </a:lnTo>
                <a:lnTo>
                  <a:pt x="746" y="90"/>
                </a:lnTo>
                <a:lnTo>
                  <a:pt x="838" y="99"/>
                </a:lnTo>
                <a:lnTo>
                  <a:pt x="834" y="114"/>
                </a:lnTo>
                <a:lnTo>
                  <a:pt x="857" y="104"/>
                </a:lnTo>
                <a:lnTo>
                  <a:pt x="880" y="128"/>
                </a:lnTo>
                <a:lnTo>
                  <a:pt x="927" y="123"/>
                </a:lnTo>
                <a:lnTo>
                  <a:pt x="973" y="140"/>
                </a:lnTo>
                <a:lnTo>
                  <a:pt x="1017" y="123"/>
                </a:lnTo>
                <a:lnTo>
                  <a:pt x="1017" y="130"/>
                </a:lnTo>
                <a:lnTo>
                  <a:pt x="1033" y="126"/>
                </a:lnTo>
                <a:lnTo>
                  <a:pt x="1104" y="159"/>
                </a:lnTo>
                <a:lnTo>
                  <a:pt x="1162" y="890"/>
                </a:lnTo>
                <a:lnTo>
                  <a:pt x="1245" y="885"/>
                </a:lnTo>
                <a:lnTo>
                  <a:pt x="1243" y="905"/>
                </a:lnTo>
                <a:lnTo>
                  <a:pt x="1272" y="926"/>
                </a:lnTo>
                <a:lnTo>
                  <a:pt x="1322" y="962"/>
                </a:lnTo>
                <a:lnTo>
                  <a:pt x="1331" y="982"/>
                </a:lnTo>
                <a:lnTo>
                  <a:pt x="1372" y="958"/>
                </a:lnTo>
                <a:lnTo>
                  <a:pt x="1385" y="928"/>
                </a:lnTo>
                <a:lnTo>
                  <a:pt x="1410" y="916"/>
                </a:lnTo>
                <a:lnTo>
                  <a:pt x="1416" y="912"/>
                </a:lnTo>
                <a:lnTo>
                  <a:pt x="1443" y="928"/>
                </a:lnTo>
                <a:lnTo>
                  <a:pt x="1439" y="948"/>
                </a:lnTo>
                <a:lnTo>
                  <a:pt x="1460" y="950"/>
                </a:lnTo>
                <a:lnTo>
                  <a:pt x="1470" y="958"/>
                </a:lnTo>
                <a:lnTo>
                  <a:pt x="1478" y="972"/>
                </a:lnTo>
                <a:lnTo>
                  <a:pt x="1507" y="984"/>
                </a:lnTo>
                <a:lnTo>
                  <a:pt x="1630" y="1133"/>
                </a:lnTo>
                <a:lnTo>
                  <a:pt x="1670" y="1142"/>
                </a:lnTo>
                <a:lnTo>
                  <a:pt x="1732" y="1162"/>
                </a:lnTo>
                <a:lnTo>
                  <a:pt x="1740" y="1174"/>
                </a:lnTo>
                <a:lnTo>
                  <a:pt x="1722" y="1183"/>
                </a:lnTo>
                <a:lnTo>
                  <a:pt x="1730" y="1210"/>
                </a:lnTo>
                <a:lnTo>
                  <a:pt x="1719" y="1261"/>
                </a:lnTo>
                <a:lnTo>
                  <a:pt x="1711" y="1249"/>
                </a:lnTo>
                <a:lnTo>
                  <a:pt x="1699" y="1260"/>
                </a:lnTo>
                <a:lnTo>
                  <a:pt x="1684" y="1248"/>
                </a:lnTo>
                <a:lnTo>
                  <a:pt x="1703" y="1236"/>
                </a:lnTo>
                <a:lnTo>
                  <a:pt x="1688" y="1217"/>
                </a:lnTo>
                <a:lnTo>
                  <a:pt x="1688" y="1205"/>
                </a:lnTo>
                <a:lnTo>
                  <a:pt x="1670" y="1172"/>
                </a:lnTo>
                <a:lnTo>
                  <a:pt x="1659" y="1172"/>
                </a:lnTo>
                <a:lnTo>
                  <a:pt x="1638" y="1183"/>
                </a:lnTo>
                <a:lnTo>
                  <a:pt x="1634" y="1203"/>
                </a:lnTo>
                <a:lnTo>
                  <a:pt x="1615" y="1207"/>
                </a:lnTo>
                <a:lnTo>
                  <a:pt x="1615" y="1203"/>
                </a:lnTo>
                <a:lnTo>
                  <a:pt x="1626" y="1183"/>
                </a:lnTo>
                <a:lnTo>
                  <a:pt x="1630" y="1162"/>
                </a:lnTo>
                <a:lnTo>
                  <a:pt x="1618" y="1171"/>
                </a:lnTo>
                <a:lnTo>
                  <a:pt x="1615" y="1183"/>
                </a:lnTo>
                <a:lnTo>
                  <a:pt x="1566" y="1162"/>
                </a:lnTo>
                <a:lnTo>
                  <a:pt x="1570" y="1154"/>
                </a:lnTo>
                <a:lnTo>
                  <a:pt x="1593" y="1154"/>
                </a:lnTo>
                <a:lnTo>
                  <a:pt x="1595" y="1138"/>
                </a:lnTo>
                <a:lnTo>
                  <a:pt x="1615" y="1133"/>
                </a:lnTo>
                <a:lnTo>
                  <a:pt x="1611" y="1124"/>
                </a:lnTo>
                <a:lnTo>
                  <a:pt x="1588" y="1128"/>
                </a:lnTo>
                <a:lnTo>
                  <a:pt x="1580" y="1104"/>
                </a:lnTo>
                <a:lnTo>
                  <a:pt x="1536" y="1100"/>
                </a:lnTo>
                <a:lnTo>
                  <a:pt x="1520" y="1070"/>
                </a:lnTo>
                <a:lnTo>
                  <a:pt x="1536" y="1044"/>
                </a:lnTo>
                <a:lnTo>
                  <a:pt x="1520" y="1047"/>
                </a:lnTo>
                <a:lnTo>
                  <a:pt x="1512" y="1030"/>
                </a:lnTo>
                <a:lnTo>
                  <a:pt x="1503" y="1035"/>
                </a:lnTo>
                <a:lnTo>
                  <a:pt x="1493" y="1029"/>
                </a:lnTo>
                <a:lnTo>
                  <a:pt x="1507" y="1005"/>
                </a:lnTo>
                <a:lnTo>
                  <a:pt x="1497" y="1005"/>
                </a:lnTo>
                <a:lnTo>
                  <a:pt x="1493" y="1015"/>
                </a:lnTo>
                <a:lnTo>
                  <a:pt x="1478" y="1020"/>
                </a:lnTo>
                <a:lnTo>
                  <a:pt x="1460" y="1013"/>
                </a:lnTo>
                <a:lnTo>
                  <a:pt x="1457" y="993"/>
                </a:lnTo>
                <a:lnTo>
                  <a:pt x="1435" y="969"/>
                </a:lnTo>
                <a:lnTo>
                  <a:pt x="1435" y="952"/>
                </a:lnTo>
                <a:lnTo>
                  <a:pt x="1428" y="950"/>
                </a:lnTo>
                <a:lnTo>
                  <a:pt x="1424" y="931"/>
                </a:lnTo>
                <a:lnTo>
                  <a:pt x="1422" y="938"/>
                </a:lnTo>
                <a:lnTo>
                  <a:pt x="1432" y="982"/>
                </a:lnTo>
                <a:lnTo>
                  <a:pt x="1449" y="1013"/>
                </a:lnTo>
                <a:lnTo>
                  <a:pt x="1512" y="1054"/>
                </a:lnTo>
                <a:lnTo>
                  <a:pt x="1512" y="1063"/>
                </a:lnTo>
                <a:lnTo>
                  <a:pt x="1499" y="1063"/>
                </a:lnTo>
                <a:lnTo>
                  <a:pt x="1497" y="1070"/>
                </a:lnTo>
                <a:lnTo>
                  <a:pt x="1507" y="1068"/>
                </a:lnTo>
                <a:lnTo>
                  <a:pt x="1514" y="1097"/>
                </a:lnTo>
                <a:lnTo>
                  <a:pt x="1555" y="1114"/>
                </a:lnTo>
                <a:lnTo>
                  <a:pt x="1576" y="1143"/>
                </a:lnTo>
                <a:lnTo>
                  <a:pt x="1528" y="1152"/>
                </a:lnTo>
                <a:lnTo>
                  <a:pt x="1507" y="1205"/>
                </a:lnTo>
                <a:lnTo>
                  <a:pt x="1493" y="1121"/>
                </a:lnTo>
                <a:lnTo>
                  <a:pt x="1482" y="1112"/>
                </a:lnTo>
                <a:lnTo>
                  <a:pt x="1482" y="1097"/>
                </a:lnTo>
                <a:lnTo>
                  <a:pt x="1489" y="1092"/>
                </a:lnTo>
                <a:lnTo>
                  <a:pt x="1451" y="1027"/>
                </a:lnTo>
                <a:lnTo>
                  <a:pt x="1439" y="1023"/>
                </a:lnTo>
                <a:lnTo>
                  <a:pt x="1430" y="1013"/>
                </a:lnTo>
                <a:lnTo>
                  <a:pt x="1416" y="1013"/>
                </a:lnTo>
                <a:lnTo>
                  <a:pt x="1408" y="1008"/>
                </a:lnTo>
                <a:lnTo>
                  <a:pt x="1399" y="972"/>
                </a:lnTo>
                <a:lnTo>
                  <a:pt x="1393" y="989"/>
                </a:lnTo>
                <a:lnTo>
                  <a:pt x="1360" y="979"/>
                </a:lnTo>
                <a:lnTo>
                  <a:pt x="1353" y="984"/>
                </a:lnTo>
                <a:lnTo>
                  <a:pt x="1393" y="1005"/>
                </a:lnTo>
                <a:lnTo>
                  <a:pt x="1372" y="1011"/>
                </a:lnTo>
                <a:lnTo>
                  <a:pt x="1376" y="1029"/>
                </a:lnTo>
                <a:lnTo>
                  <a:pt x="1345" y="1017"/>
                </a:lnTo>
                <a:lnTo>
                  <a:pt x="1302" y="982"/>
                </a:lnTo>
                <a:lnTo>
                  <a:pt x="1239" y="958"/>
                </a:lnTo>
                <a:lnTo>
                  <a:pt x="1196" y="955"/>
                </a:lnTo>
                <a:lnTo>
                  <a:pt x="1225" y="921"/>
                </a:lnTo>
                <a:lnTo>
                  <a:pt x="1241" y="938"/>
                </a:lnTo>
                <a:lnTo>
                  <a:pt x="1243" y="921"/>
                </a:lnTo>
                <a:lnTo>
                  <a:pt x="1218" y="905"/>
                </a:lnTo>
                <a:lnTo>
                  <a:pt x="1200" y="934"/>
                </a:lnTo>
                <a:lnTo>
                  <a:pt x="1162" y="934"/>
                </a:lnTo>
                <a:lnTo>
                  <a:pt x="1006" y="921"/>
                </a:lnTo>
                <a:lnTo>
                  <a:pt x="1010" y="898"/>
                </a:lnTo>
                <a:lnTo>
                  <a:pt x="994" y="905"/>
                </a:lnTo>
                <a:lnTo>
                  <a:pt x="975" y="885"/>
                </a:lnTo>
                <a:lnTo>
                  <a:pt x="952" y="895"/>
                </a:lnTo>
                <a:lnTo>
                  <a:pt x="944" y="883"/>
                </a:lnTo>
                <a:lnTo>
                  <a:pt x="902" y="897"/>
                </a:lnTo>
                <a:lnTo>
                  <a:pt x="900" y="885"/>
                </a:lnTo>
                <a:lnTo>
                  <a:pt x="917" y="864"/>
                </a:lnTo>
                <a:lnTo>
                  <a:pt x="906" y="862"/>
                </a:lnTo>
                <a:lnTo>
                  <a:pt x="919" y="854"/>
                </a:lnTo>
                <a:lnTo>
                  <a:pt x="873" y="857"/>
                </a:lnTo>
                <a:lnTo>
                  <a:pt x="855" y="844"/>
                </a:lnTo>
                <a:lnTo>
                  <a:pt x="842" y="854"/>
                </a:lnTo>
                <a:lnTo>
                  <a:pt x="834" y="844"/>
                </a:lnTo>
                <a:lnTo>
                  <a:pt x="846" y="832"/>
                </a:lnTo>
                <a:lnTo>
                  <a:pt x="823" y="837"/>
                </a:lnTo>
                <a:lnTo>
                  <a:pt x="825" y="844"/>
                </a:lnTo>
                <a:lnTo>
                  <a:pt x="811" y="854"/>
                </a:lnTo>
                <a:lnTo>
                  <a:pt x="830" y="854"/>
                </a:lnTo>
                <a:lnTo>
                  <a:pt x="823" y="876"/>
                </a:lnTo>
                <a:lnTo>
                  <a:pt x="842" y="885"/>
                </a:lnTo>
                <a:lnTo>
                  <a:pt x="861" y="895"/>
                </a:lnTo>
                <a:lnTo>
                  <a:pt x="888" y="885"/>
                </a:lnTo>
                <a:lnTo>
                  <a:pt x="884" y="931"/>
                </a:lnTo>
                <a:lnTo>
                  <a:pt x="838" y="934"/>
                </a:lnTo>
                <a:lnTo>
                  <a:pt x="838" y="919"/>
                </a:lnTo>
                <a:lnTo>
                  <a:pt x="823" y="910"/>
                </a:lnTo>
                <a:lnTo>
                  <a:pt x="786" y="924"/>
                </a:lnTo>
                <a:lnTo>
                  <a:pt x="784" y="910"/>
                </a:lnTo>
                <a:lnTo>
                  <a:pt x="773" y="921"/>
                </a:lnTo>
                <a:lnTo>
                  <a:pt x="769" y="905"/>
                </a:lnTo>
                <a:lnTo>
                  <a:pt x="740" y="905"/>
                </a:lnTo>
                <a:lnTo>
                  <a:pt x="761" y="931"/>
                </a:lnTo>
                <a:lnTo>
                  <a:pt x="759" y="938"/>
                </a:lnTo>
                <a:lnTo>
                  <a:pt x="748" y="934"/>
                </a:lnTo>
                <a:lnTo>
                  <a:pt x="717" y="948"/>
                </a:lnTo>
                <a:lnTo>
                  <a:pt x="709" y="943"/>
                </a:lnTo>
                <a:lnTo>
                  <a:pt x="686" y="979"/>
                </a:lnTo>
                <a:lnTo>
                  <a:pt x="672" y="965"/>
                </a:lnTo>
                <a:lnTo>
                  <a:pt x="667" y="972"/>
                </a:lnTo>
                <a:lnTo>
                  <a:pt x="643" y="969"/>
                </a:lnTo>
                <a:lnTo>
                  <a:pt x="640" y="950"/>
                </a:lnTo>
                <a:lnTo>
                  <a:pt x="669" y="950"/>
                </a:lnTo>
                <a:lnTo>
                  <a:pt x="686" y="934"/>
                </a:lnTo>
                <a:lnTo>
                  <a:pt x="640" y="934"/>
                </a:lnTo>
                <a:lnTo>
                  <a:pt x="678" y="851"/>
                </a:lnTo>
                <a:lnTo>
                  <a:pt x="749" y="837"/>
                </a:lnTo>
                <a:lnTo>
                  <a:pt x="740" y="816"/>
                </a:lnTo>
                <a:lnTo>
                  <a:pt x="784" y="796"/>
                </a:lnTo>
                <a:lnTo>
                  <a:pt x="724" y="808"/>
                </a:lnTo>
                <a:lnTo>
                  <a:pt x="736" y="767"/>
                </a:lnTo>
                <a:lnTo>
                  <a:pt x="705" y="816"/>
                </a:lnTo>
                <a:lnTo>
                  <a:pt x="669" y="832"/>
                </a:lnTo>
                <a:lnTo>
                  <a:pt x="624" y="881"/>
                </a:lnTo>
                <a:lnTo>
                  <a:pt x="593" y="881"/>
                </a:lnTo>
                <a:lnTo>
                  <a:pt x="609" y="905"/>
                </a:lnTo>
                <a:lnTo>
                  <a:pt x="530" y="962"/>
                </a:lnTo>
                <a:lnTo>
                  <a:pt x="566" y="972"/>
                </a:lnTo>
                <a:lnTo>
                  <a:pt x="557" y="998"/>
                </a:lnTo>
                <a:lnTo>
                  <a:pt x="381" y="1112"/>
                </a:lnTo>
                <a:lnTo>
                  <a:pt x="254" y="1142"/>
                </a:lnTo>
                <a:lnTo>
                  <a:pt x="293" y="1155"/>
                </a:lnTo>
                <a:lnTo>
                  <a:pt x="216" y="1191"/>
                </a:lnTo>
                <a:lnTo>
                  <a:pt x="200" y="1174"/>
                </a:lnTo>
                <a:lnTo>
                  <a:pt x="148" y="1191"/>
                </a:lnTo>
                <a:lnTo>
                  <a:pt x="108" y="1191"/>
                </a:lnTo>
                <a:lnTo>
                  <a:pt x="108" y="1171"/>
                </a:lnTo>
                <a:lnTo>
                  <a:pt x="60" y="1212"/>
                </a:lnTo>
                <a:lnTo>
                  <a:pt x="44" y="1210"/>
                </a:lnTo>
                <a:lnTo>
                  <a:pt x="44" y="1190"/>
                </a:lnTo>
                <a:lnTo>
                  <a:pt x="35" y="1210"/>
                </a:lnTo>
                <a:lnTo>
                  <a:pt x="0" y="120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1" name="Freeform 11"/>
          <p:cNvSpPr/>
          <p:nvPr/>
        </p:nvSpPr>
        <p:spPr>
          <a:xfrm>
            <a:off x="1301760" y="4853160"/>
            <a:ext cx="1200240" cy="100008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740" h="1261">
                <a:moveTo>
                  <a:pt x="0" y="1205"/>
                </a:moveTo>
                <a:lnTo>
                  <a:pt x="15" y="1183"/>
                </a:lnTo>
                <a:lnTo>
                  <a:pt x="27" y="1186"/>
                </a:lnTo>
                <a:lnTo>
                  <a:pt x="100" y="1143"/>
                </a:lnTo>
                <a:lnTo>
                  <a:pt x="144" y="1152"/>
                </a:lnTo>
                <a:lnTo>
                  <a:pt x="152" y="1167"/>
                </a:lnTo>
                <a:lnTo>
                  <a:pt x="158" y="1150"/>
                </a:lnTo>
                <a:lnTo>
                  <a:pt x="200" y="1124"/>
                </a:lnTo>
                <a:lnTo>
                  <a:pt x="270" y="1104"/>
                </a:lnTo>
                <a:lnTo>
                  <a:pt x="331" y="1059"/>
                </a:lnTo>
                <a:lnTo>
                  <a:pt x="343" y="1063"/>
                </a:lnTo>
                <a:lnTo>
                  <a:pt x="354" y="1006"/>
                </a:lnTo>
                <a:lnTo>
                  <a:pt x="393" y="965"/>
                </a:lnTo>
                <a:lnTo>
                  <a:pt x="329" y="969"/>
                </a:lnTo>
                <a:lnTo>
                  <a:pt x="339" y="946"/>
                </a:lnTo>
                <a:lnTo>
                  <a:pt x="358" y="948"/>
                </a:lnTo>
                <a:lnTo>
                  <a:pt x="339" y="938"/>
                </a:lnTo>
                <a:lnTo>
                  <a:pt x="308" y="965"/>
                </a:lnTo>
                <a:lnTo>
                  <a:pt x="304" y="982"/>
                </a:lnTo>
                <a:lnTo>
                  <a:pt x="268" y="941"/>
                </a:lnTo>
                <a:lnTo>
                  <a:pt x="256" y="946"/>
                </a:lnTo>
                <a:lnTo>
                  <a:pt x="237" y="926"/>
                </a:lnTo>
                <a:lnTo>
                  <a:pt x="189" y="943"/>
                </a:lnTo>
                <a:lnTo>
                  <a:pt x="177" y="945"/>
                </a:lnTo>
                <a:lnTo>
                  <a:pt x="137" y="934"/>
                </a:lnTo>
                <a:lnTo>
                  <a:pt x="177" y="905"/>
                </a:lnTo>
                <a:lnTo>
                  <a:pt x="168" y="897"/>
                </a:lnTo>
                <a:lnTo>
                  <a:pt x="179" y="876"/>
                </a:lnTo>
                <a:lnTo>
                  <a:pt x="171" y="815"/>
                </a:lnTo>
                <a:lnTo>
                  <a:pt x="195" y="784"/>
                </a:lnTo>
                <a:lnTo>
                  <a:pt x="160" y="806"/>
                </a:lnTo>
                <a:lnTo>
                  <a:pt x="160" y="827"/>
                </a:lnTo>
                <a:lnTo>
                  <a:pt x="129" y="844"/>
                </a:lnTo>
                <a:lnTo>
                  <a:pt x="89" y="832"/>
                </a:lnTo>
                <a:lnTo>
                  <a:pt x="77" y="784"/>
                </a:lnTo>
                <a:lnTo>
                  <a:pt x="48" y="763"/>
                </a:lnTo>
                <a:lnTo>
                  <a:pt x="50" y="748"/>
                </a:lnTo>
                <a:lnTo>
                  <a:pt x="65" y="748"/>
                </a:lnTo>
                <a:lnTo>
                  <a:pt x="75" y="736"/>
                </a:lnTo>
                <a:lnTo>
                  <a:pt x="89" y="732"/>
                </a:lnTo>
                <a:lnTo>
                  <a:pt x="75" y="731"/>
                </a:lnTo>
                <a:lnTo>
                  <a:pt x="85" y="722"/>
                </a:lnTo>
                <a:lnTo>
                  <a:pt x="69" y="705"/>
                </a:lnTo>
                <a:lnTo>
                  <a:pt x="62" y="714"/>
                </a:lnTo>
                <a:lnTo>
                  <a:pt x="38" y="678"/>
                </a:lnTo>
                <a:lnTo>
                  <a:pt x="54" y="650"/>
                </a:lnTo>
                <a:lnTo>
                  <a:pt x="133" y="604"/>
                </a:lnTo>
                <a:lnTo>
                  <a:pt x="152" y="571"/>
                </a:lnTo>
                <a:lnTo>
                  <a:pt x="171" y="566"/>
                </a:lnTo>
                <a:lnTo>
                  <a:pt x="210" y="585"/>
                </a:lnTo>
                <a:lnTo>
                  <a:pt x="237" y="580"/>
                </a:lnTo>
                <a:lnTo>
                  <a:pt x="248" y="565"/>
                </a:lnTo>
                <a:lnTo>
                  <a:pt x="308" y="571"/>
                </a:lnTo>
                <a:lnTo>
                  <a:pt x="320" y="522"/>
                </a:lnTo>
                <a:lnTo>
                  <a:pt x="304" y="503"/>
                </a:lnTo>
                <a:lnTo>
                  <a:pt x="343" y="484"/>
                </a:lnTo>
                <a:lnTo>
                  <a:pt x="308" y="472"/>
                </a:lnTo>
                <a:lnTo>
                  <a:pt x="256" y="501"/>
                </a:lnTo>
                <a:lnTo>
                  <a:pt x="252" y="474"/>
                </a:lnTo>
                <a:lnTo>
                  <a:pt x="166" y="470"/>
                </a:lnTo>
                <a:lnTo>
                  <a:pt x="127" y="441"/>
                </a:lnTo>
                <a:lnTo>
                  <a:pt x="121" y="390"/>
                </a:lnTo>
                <a:lnTo>
                  <a:pt x="150" y="400"/>
                </a:lnTo>
                <a:lnTo>
                  <a:pt x="89" y="344"/>
                </a:lnTo>
                <a:lnTo>
                  <a:pt x="248" y="316"/>
                </a:lnTo>
                <a:lnTo>
                  <a:pt x="272" y="323"/>
                </a:lnTo>
                <a:lnTo>
                  <a:pt x="248" y="345"/>
                </a:lnTo>
                <a:lnTo>
                  <a:pt x="333" y="381"/>
                </a:lnTo>
                <a:lnTo>
                  <a:pt x="368" y="371"/>
                </a:lnTo>
                <a:lnTo>
                  <a:pt x="366" y="359"/>
                </a:lnTo>
                <a:lnTo>
                  <a:pt x="335" y="352"/>
                </a:lnTo>
                <a:lnTo>
                  <a:pt x="320" y="303"/>
                </a:lnTo>
                <a:lnTo>
                  <a:pt x="343" y="320"/>
                </a:lnTo>
                <a:lnTo>
                  <a:pt x="349" y="345"/>
                </a:lnTo>
                <a:lnTo>
                  <a:pt x="385" y="364"/>
                </a:lnTo>
                <a:lnTo>
                  <a:pt x="420" y="363"/>
                </a:lnTo>
                <a:lnTo>
                  <a:pt x="412" y="344"/>
                </a:lnTo>
                <a:lnTo>
                  <a:pt x="353" y="333"/>
                </a:lnTo>
                <a:lnTo>
                  <a:pt x="364" y="303"/>
                </a:lnTo>
                <a:lnTo>
                  <a:pt x="293" y="282"/>
                </a:lnTo>
                <a:lnTo>
                  <a:pt x="293" y="244"/>
                </a:lnTo>
                <a:lnTo>
                  <a:pt x="272" y="215"/>
                </a:lnTo>
                <a:lnTo>
                  <a:pt x="218" y="164"/>
                </a:lnTo>
                <a:lnTo>
                  <a:pt x="239" y="160"/>
                </a:lnTo>
                <a:lnTo>
                  <a:pt x="262" y="123"/>
                </a:lnTo>
                <a:lnTo>
                  <a:pt x="322" y="140"/>
                </a:lnTo>
                <a:lnTo>
                  <a:pt x="366" y="121"/>
                </a:lnTo>
                <a:lnTo>
                  <a:pt x="432" y="51"/>
                </a:lnTo>
                <a:lnTo>
                  <a:pt x="453" y="61"/>
                </a:lnTo>
                <a:lnTo>
                  <a:pt x="495" y="39"/>
                </a:lnTo>
                <a:lnTo>
                  <a:pt x="495" y="59"/>
                </a:lnTo>
                <a:lnTo>
                  <a:pt x="518" y="53"/>
                </a:lnTo>
                <a:lnTo>
                  <a:pt x="507" y="42"/>
                </a:lnTo>
                <a:lnTo>
                  <a:pt x="568" y="35"/>
                </a:lnTo>
                <a:lnTo>
                  <a:pt x="613" y="0"/>
                </a:lnTo>
                <a:lnTo>
                  <a:pt x="643" y="22"/>
                </a:lnTo>
                <a:lnTo>
                  <a:pt x="632" y="51"/>
                </a:lnTo>
                <a:lnTo>
                  <a:pt x="655" y="53"/>
                </a:lnTo>
                <a:lnTo>
                  <a:pt x="661" y="25"/>
                </a:lnTo>
                <a:lnTo>
                  <a:pt x="690" y="59"/>
                </a:lnTo>
                <a:lnTo>
                  <a:pt x="740" y="59"/>
                </a:lnTo>
                <a:lnTo>
                  <a:pt x="746" y="90"/>
                </a:lnTo>
                <a:lnTo>
                  <a:pt x="838" y="99"/>
                </a:lnTo>
                <a:lnTo>
                  <a:pt x="834" y="114"/>
                </a:lnTo>
                <a:lnTo>
                  <a:pt x="857" y="104"/>
                </a:lnTo>
                <a:lnTo>
                  <a:pt x="880" y="128"/>
                </a:lnTo>
                <a:lnTo>
                  <a:pt x="927" y="123"/>
                </a:lnTo>
                <a:lnTo>
                  <a:pt x="973" y="140"/>
                </a:lnTo>
                <a:lnTo>
                  <a:pt x="1017" y="123"/>
                </a:lnTo>
                <a:lnTo>
                  <a:pt x="1017" y="130"/>
                </a:lnTo>
                <a:lnTo>
                  <a:pt x="1033" y="126"/>
                </a:lnTo>
                <a:lnTo>
                  <a:pt x="1104" y="159"/>
                </a:lnTo>
                <a:lnTo>
                  <a:pt x="1162" y="890"/>
                </a:lnTo>
                <a:lnTo>
                  <a:pt x="1245" y="885"/>
                </a:lnTo>
                <a:lnTo>
                  <a:pt x="1243" y="905"/>
                </a:lnTo>
                <a:lnTo>
                  <a:pt x="1272" y="926"/>
                </a:lnTo>
                <a:lnTo>
                  <a:pt x="1322" y="962"/>
                </a:lnTo>
                <a:lnTo>
                  <a:pt x="1331" y="982"/>
                </a:lnTo>
                <a:lnTo>
                  <a:pt x="1372" y="958"/>
                </a:lnTo>
                <a:lnTo>
                  <a:pt x="1385" y="928"/>
                </a:lnTo>
                <a:lnTo>
                  <a:pt x="1410" y="916"/>
                </a:lnTo>
                <a:lnTo>
                  <a:pt x="1416" y="912"/>
                </a:lnTo>
                <a:lnTo>
                  <a:pt x="1443" y="928"/>
                </a:lnTo>
                <a:lnTo>
                  <a:pt x="1439" y="948"/>
                </a:lnTo>
                <a:lnTo>
                  <a:pt x="1460" y="950"/>
                </a:lnTo>
                <a:lnTo>
                  <a:pt x="1470" y="958"/>
                </a:lnTo>
                <a:lnTo>
                  <a:pt x="1478" y="972"/>
                </a:lnTo>
                <a:lnTo>
                  <a:pt x="1507" y="984"/>
                </a:lnTo>
                <a:lnTo>
                  <a:pt x="1630" y="1133"/>
                </a:lnTo>
                <a:lnTo>
                  <a:pt x="1670" y="1142"/>
                </a:lnTo>
                <a:lnTo>
                  <a:pt x="1732" y="1162"/>
                </a:lnTo>
                <a:lnTo>
                  <a:pt x="1740" y="1174"/>
                </a:lnTo>
                <a:lnTo>
                  <a:pt x="1722" y="1183"/>
                </a:lnTo>
                <a:lnTo>
                  <a:pt x="1730" y="1210"/>
                </a:lnTo>
                <a:lnTo>
                  <a:pt x="1719" y="1261"/>
                </a:lnTo>
                <a:lnTo>
                  <a:pt x="1711" y="1249"/>
                </a:lnTo>
                <a:lnTo>
                  <a:pt x="1699" y="1260"/>
                </a:lnTo>
                <a:lnTo>
                  <a:pt x="1684" y="1248"/>
                </a:lnTo>
                <a:lnTo>
                  <a:pt x="1703" y="1236"/>
                </a:lnTo>
                <a:lnTo>
                  <a:pt x="1688" y="1217"/>
                </a:lnTo>
                <a:lnTo>
                  <a:pt x="1688" y="1205"/>
                </a:lnTo>
                <a:lnTo>
                  <a:pt x="1670" y="1172"/>
                </a:lnTo>
                <a:lnTo>
                  <a:pt x="1659" y="1172"/>
                </a:lnTo>
                <a:lnTo>
                  <a:pt x="1638" y="1183"/>
                </a:lnTo>
                <a:lnTo>
                  <a:pt x="1634" y="1203"/>
                </a:lnTo>
                <a:lnTo>
                  <a:pt x="1615" y="1207"/>
                </a:lnTo>
                <a:lnTo>
                  <a:pt x="1615" y="1203"/>
                </a:lnTo>
                <a:lnTo>
                  <a:pt x="1626" y="1183"/>
                </a:lnTo>
                <a:lnTo>
                  <a:pt x="1630" y="1162"/>
                </a:lnTo>
                <a:lnTo>
                  <a:pt x="1618" y="1171"/>
                </a:lnTo>
                <a:lnTo>
                  <a:pt x="1615" y="1183"/>
                </a:lnTo>
                <a:lnTo>
                  <a:pt x="1566" y="1162"/>
                </a:lnTo>
                <a:lnTo>
                  <a:pt x="1570" y="1154"/>
                </a:lnTo>
                <a:lnTo>
                  <a:pt x="1593" y="1154"/>
                </a:lnTo>
                <a:lnTo>
                  <a:pt x="1595" y="1138"/>
                </a:lnTo>
                <a:lnTo>
                  <a:pt x="1615" y="1133"/>
                </a:lnTo>
                <a:lnTo>
                  <a:pt x="1611" y="1124"/>
                </a:lnTo>
                <a:lnTo>
                  <a:pt x="1588" y="1128"/>
                </a:lnTo>
                <a:lnTo>
                  <a:pt x="1580" y="1104"/>
                </a:lnTo>
                <a:lnTo>
                  <a:pt x="1536" y="1100"/>
                </a:lnTo>
                <a:lnTo>
                  <a:pt x="1520" y="1070"/>
                </a:lnTo>
                <a:lnTo>
                  <a:pt x="1536" y="1044"/>
                </a:lnTo>
                <a:lnTo>
                  <a:pt x="1520" y="1047"/>
                </a:lnTo>
                <a:lnTo>
                  <a:pt x="1512" y="1030"/>
                </a:lnTo>
                <a:lnTo>
                  <a:pt x="1503" y="1035"/>
                </a:lnTo>
                <a:lnTo>
                  <a:pt x="1493" y="1029"/>
                </a:lnTo>
                <a:lnTo>
                  <a:pt x="1507" y="1005"/>
                </a:lnTo>
                <a:lnTo>
                  <a:pt x="1497" y="1005"/>
                </a:lnTo>
                <a:lnTo>
                  <a:pt x="1493" y="1015"/>
                </a:lnTo>
                <a:lnTo>
                  <a:pt x="1478" y="1020"/>
                </a:lnTo>
                <a:lnTo>
                  <a:pt x="1460" y="1013"/>
                </a:lnTo>
                <a:lnTo>
                  <a:pt x="1457" y="993"/>
                </a:lnTo>
                <a:lnTo>
                  <a:pt x="1435" y="969"/>
                </a:lnTo>
                <a:lnTo>
                  <a:pt x="1435" y="952"/>
                </a:lnTo>
                <a:lnTo>
                  <a:pt x="1428" y="950"/>
                </a:lnTo>
                <a:lnTo>
                  <a:pt x="1424" y="931"/>
                </a:lnTo>
                <a:lnTo>
                  <a:pt x="1422" y="938"/>
                </a:lnTo>
                <a:lnTo>
                  <a:pt x="1432" y="982"/>
                </a:lnTo>
                <a:lnTo>
                  <a:pt x="1449" y="1013"/>
                </a:lnTo>
                <a:lnTo>
                  <a:pt x="1512" y="1054"/>
                </a:lnTo>
                <a:lnTo>
                  <a:pt x="1512" y="1063"/>
                </a:lnTo>
                <a:lnTo>
                  <a:pt x="1499" y="1063"/>
                </a:lnTo>
                <a:lnTo>
                  <a:pt x="1497" y="1070"/>
                </a:lnTo>
                <a:lnTo>
                  <a:pt x="1507" y="1068"/>
                </a:lnTo>
                <a:lnTo>
                  <a:pt x="1514" y="1097"/>
                </a:lnTo>
                <a:lnTo>
                  <a:pt x="1555" y="1114"/>
                </a:lnTo>
                <a:lnTo>
                  <a:pt x="1576" y="1143"/>
                </a:lnTo>
                <a:lnTo>
                  <a:pt x="1528" y="1152"/>
                </a:lnTo>
                <a:lnTo>
                  <a:pt x="1507" y="1205"/>
                </a:lnTo>
                <a:lnTo>
                  <a:pt x="1493" y="1121"/>
                </a:lnTo>
                <a:lnTo>
                  <a:pt x="1482" y="1112"/>
                </a:lnTo>
                <a:lnTo>
                  <a:pt x="1482" y="1097"/>
                </a:lnTo>
                <a:lnTo>
                  <a:pt x="1489" y="1092"/>
                </a:lnTo>
                <a:lnTo>
                  <a:pt x="1451" y="1027"/>
                </a:lnTo>
                <a:lnTo>
                  <a:pt x="1439" y="1023"/>
                </a:lnTo>
                <a:lnTo>
                  <a:pt x="1430" y="1013"/>
                </a:lnTo>
                <a:lnTo>
                  <a:pt x="1416" y="1013"/>
                </a:lnTo>
                <a:lnTo>
                  <a:pt x="1408" y="1008"/>
                </a:lnTo>
                <a:lnTo>
                  <a:pt x="1399" y="972"/>
                </a:lnTo>
                <a:lnTo>
                  <a:pt x="1393" y="989"/>
                </a:lnTo>
                <a:lnTo>
                  <a:pt x="1360" y="979"/>
                </a:lnTo>
                <a:lnTo>
                  <a:pt x="1353" y="984"/>
                </a:lnTo>
                <a:lnTo>
                  <a:pt x="1393" y="1005"/>
                </a:lnTo>
                <a:lnTo>
                  <a:pt x="1372" y="1011"/>
                </a:lnTo>
                <a:lnTo>
                  <a:pt x="1376" y="1029"/>
                </a:lnTo>
                <a:lnTo>
                  <a:pt x="1345" y="1017"/>
                </a:lnTo>
                <a:lnTo>
                  <a:pt x="1302" y="982"/>
                </a:lnTo>
                <a:lnTo>
                  <a:pt x="1239" y="958"/>
                </a:lnTo>
                <a:lnTo>
                  <a:pt x="1196" y="955"/>
                </a:lnTo>
                <a:lnTo>
                  <a:pt x="1225" y="921"/>
                </a:lnTo>
                <a:lnTo>
                  <a:pt x="1241" y="938"/>
                </a:lnTo>
                <a:lnTo>
                  <a:pt x="1243" y="921"/>
                </a:lnTo>
                <a:lnTo>
                  <a:pt x="1218" y="905"/>
                </a:lnTo>
                <a:lnTo>
                  <a:pt x="1200" y="934"/>
                </a:lnTo>
                <a:lnTo>
                  <a:pt x="1162" y="934"/>
                </a:lnTo>
                <a:lnTo>
                  <a:pt x="1006" y="921"/>
                </a:lnTo>
                <a:lnTo>
                  <a:pt x="1010" y="898"/>
                </a:lnTo>
                <a:lnTo>
                  <a:pt x="994" y="905"/>
                </a:lnTo>
                <a:lnTo>
                  <a:pt x="975" y="885"/>
                </a:lnTo>
                <a:lnTo>
                  <a:pt x="952" y="895"/>
                </a:lnTo>
                <a:lnTo>
                  <a:pt x="944" y="883"/>
                </a:lnTo>
                <a:lnTo>
                  <a:pt x="902" y="897"/>
                </a:lnTo>
                <a:lnTo>
                  <a:pt x="900" y="885"/>
                </a:lnTo>
                <a:lnTo>
                  <a:pt x="917" y="864"/>
                </a:lnTo>
                <a:lnTo>
                  <a:pt x="906" y="862"/>
                </a:lnTo>
                <a:lnTo>
                  <a:pt x="919" y="854"/>
                </a:lnTo>
                <a:lnTo>
                  <a:pt x="873" y="857"/>
                </a:lnTo>
                <a:lnTo>
                  <a:pt x="855" y="844"/>
                </a:lnTo>
                <a:lnTo>
                  <a:pt x="842" y="854"/>
                </a:lnTo>
                <a:lnTo>
                  <a:pt x="834" y="844"/>
                </a:lnTo>
                <a:lnTo>
                  <a:pt x="846" y="832"/>
                </a:lnTo>
                <a:lnTo>
                  <a:pt x="823" y="837"/>
                </a:lnTo>
                <a:lnTo>
                  <a:pt x="825" y="844"/>
                </a:lnTo>
                <a:lnTo>
                  <a:pt x="811" y="854"/>
                </a:lnTo>
                <a:lnTo>
                  <a:pt x="830" y="854"/>
                </a:lnTo>
                <a:lnTo>
                  <a:pt x="823" y="876"/>
                </a:lnTo>
                <a:lnTo>
                  <a:pt x="842" y="885"/>
                </a:lnTo>
                <a:lnTo>
                  <a:pt x="861" y="895"/>
                </a:lnTo>
                <a:lnTo>
                  <a:pt x="888" y="885"/>
                </a:lnTo>
                <a:lnTo>
                  <a:pt x="884" y="931"/>
                </a:lnTo>
                <a:lnTo>
                  <a:pt x="838" y="934"/>
                </a:lnTo>
                <a:lnTo>
                  <a:pt x="838" y="919"/>
                </a:lnTo>
                <a:lnTo>
                  <a:pt x="823" y="910"/>
                </a:lnTo>
                <a:lnTo>
                  <a:pt x="786" y="924"/>
                </a:lnTo>
                <a:lnTo>
                  <a:pt x="784" y="910"/>
                </a:lnTo>
                <a:lnTo>
                  <a:pt x="773" y="921"/>
                </a:lnTo>
                <a:lnTo>
                  <a:pt x="769" y="905"/>
                </a:lnTo>
                <a:lnTo>
                  <a:pt x="740" y="905"/>
                </a:lnTo>
                <a:lnTo>
                  <a:pt x="761" y="931"/>
                </a:lnTo>
                <a:lnTo>
                  <a:pt x="759" y="938"/>
                </a:lnTo>
                <a:lnTo>
                  <a:pt x="748" y="934"/>
                </a:lnTo>
                <a:lnTo>
                  <a:pt x="717" y="948"/>
                </a:lnTo>
                <a:lnTo>
                  <a:pt x="709" y="943"/>
                </a:lnTo>
                <a:lnTo>
                  <a:pt x="686" y="979"/>
                </a:lnTo>
                <a:lnTo>
                  <a:pt x="672" y="965"/>
                </a:lnTo>
                <a:lnTo>
                  <a:pt x="667" y="972"/>
                </a:lnTo>
                <a:lnTo>
                  <a:pt x="643" y="969"/>
                </a:lnTo>
                <a:lnTo>
                  <a:pt x="640" y="950"/>
                </a:lnTo>
                <a:lnTo>
                  <a:pt x="669" y="950"/>
                </a:lnTo>
                <a:lnTo>
                  <a:pt x="686" y="934"/>
                </a:lnTo>
                <a:lnTo>
                  <a:pt x="640" y="934"/>
                </a:lnTo>
                <a:lnTo>
                  <a:pt x="678" y="851"/>
                </a:lnTo>
                <a:lnTo>
                  <a:pt x="749" y="837"/>
                </a:lnTo>
                <a:lnTo>
                  <a:pt x="740" y="816"/>
                </a:lnTo>
                <a:lnTo>
                  <a:pt x="784" y="796"/>
                </a:lnTo>
                <a:lnTo>
                  <a:pt x="724" y="808"/>
                </a:lnTo>
                <a:lnTo>
                  <a:pt x="736" y="767"/>
                </a:lnTo>
                <a:lnTo>
                  <a:pt x="705" y="816"/>
                </a:lnTo>
                <a:lnTo>
                  <a:pt x="669" y="832"/>
                </a:lnTo>
                <a:lnTo>
                  <a:pt x="624" y="881"/>
                </a:lnTo>
                <a:lnTo>
                  <a:pt x="593" y="881"/>
                </a:lnTo>
                <a:lnTo>
                  <a:pt x="609" y="905"/>
                </a:lnTo>
                <a:lnTo>
                  <a:pt x="530" y="962"/>
                </a:lnTo>
                <a:lnTo>
                  <a:pt x="566" y="972"/>
                </a:lnTo>
                <a:lnTo>
                  <a:pt x="557" y="998"/>
                </a:lnTo>
                <a:lnTo>
                  <a:pt x="381" y="1112"/>
                </a:lnTo>
                <a:lnTo>
                  <a:pt x="254" y="1142"/>
                </a:lnTo>
                <a:lnTo>
                  <a:pt x="293" y="1155"/>
                </a:lnTo>
                <a:lnTo>
                  <a:pt x="216" y="1191"/>
                </a:lnTo>
                <a:lnTo>
                  <a:pt x="200" y="1174"/>
                </a:lnTo>
                <a:lnTo>
                  <a:pt x="148" y="1191"/>
                </a:lnTo>
                <a:lnTo>
                  <a:pt x="108" y="1191"/>
                </a:lnTo>
                <a:lnTo>
                  <a:pt x="108" y="1171"/>
                </a:lnTo>
                <a:lnTo>
                  <a:pt x="60" y="1212"/>
                </a:lnTo>
                <a:lnTo>
                  <a:pt x="44" y="1210"/>
                </a:lnTo>
                <a:lnTo>
                  <a:pt x="44" y="1190"/>
                </a:lnTo>
                <a:lnTo>
                  <a:pt x="35" y="1210"/>
                </a:lnTo>
                <a:lnTo>
                  <a:pt x="0" y="1205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2" name="Freeform 12"/>
          <p:cNvSpPr/>
          <p:nvPr/>
        </p:nvSpPr>
        <p:spPr>
          <a:xfrm>
            <a:off x="1622520" y="5664240"/>
            <a:ext cx="117360" cy="119160"/>
          </a:xfrm>
          <a:custGeom>
            <a:avLst/>
            <a:gdLst>
              <a:gd name="textAreaLeft" fmla="*/ 0 w 117360"/>
              <a:gd name="textAreaRight" fmla="*/ 117720 w 1173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72" h="149">
                <a:moveTo>
                  <a:pt x="0" y="149"/>
                </a:moveTo>
                <a:lnTo>
                  <a:pt x="47" y="110"/>
                </a:lnTo>
                <a:lnTo>
                  <a:pt x="16" y="60"/>
                </a:lnTo>
                <a:lnTo>
                  <a:pt x="62" y="74"/>
                </a:lnTo>
                <a:lnTo>
                  <a:pt x="131" y="0"/>
                </a:lnTo>
                <a:lnTo>
                  <a:pt x="172" y="9"/>
                </a:lnTo>
                <a:lnTo>
                  <a:pt x="135" y="81"/>
                </a:lnTo>
                <a:lnTo>
                  <a:pt x="0" y="14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3" name="Freeform 13"/>
          <p:cNvSpPr/>
          <p:nvPr/>
        </p:nvSpPr>
        <p:spPr>
          <a:xfrm>
            <a:off x="1622520" y="5664240"/>
            <a:ext cx="117360" cy="119160"/>
          </a:xfrm>
          <a:custGeom>
            <a:avLst/>
            <a:gdLst>
              <a:gd name="textAreaLeft" fmla="*/ 0 w 117360"/>
              <a:gd name="textAreaRight" fmla="*/ 117720 w 1173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72" h="149">
                <a:moveTo>
                  <a:pt x="0" y="149"/>
                </a:moveTo>
                <a:lnTo>
                  <a:pt x="47" y="110"/>
                </a:lnTo>
                <a:lnTo>
                  <a:pt x="16" y="60"/>
                </a:lnTo>
                <a:lnTo>
                  <a:pt x="62" y="74"/>
                </a:lnTo>
                <a:lnTo>
                  <a:pt x="131" y="0"/>
                </a:lnTo>
                <a:lnTo>
                  <a:pt x="172" y="9"/>
                </a:lnTo>
                <a:lnTo>
                  <a:pt x="135" y="81"/>
                </a:lnTo>
                <a:lnTo>
                  <a:pt x="0" y="14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4" name="Freeform 14"/>
          <p:cNvSpPr/>
          <p:nvPr/>
        </p:nvSpPr>
        <p:spPr>
          <a:xfrm>
            <a:off x="2254320" y="5657760"/>
            <a:ext cx="71280" cy="133560"/>
          </a:xfrm>
          <a:custGeom>
            <a:avLst/>
            <a:gdLst>
              <a:gd name="textAreaLeft" fmla="*/ 0 w 71280"/>
              <a:gd name="textAreaRight" fmla="*/ 71640 w 712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03" h="168">
                <a:moveTo>
                  <a:pt x="0" y="48"/>
                </a:moveTo>
                <a:lnTo>
                  <a:pt x="24" y="0"/>
                </a:lnTo>
                <a:lnTo>
                  <a:pt x="76" y="48"/>
                </a:lnTo>
                <a:lnTo>
                  <a:pt x="103" y="168"/>
                </a:lnTo>
                <a:lnTo>
                  <a:pt x="0" y="4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5" name="Freeform 15"/>
          <p:cNvSpPr/>
          <p:nvPr/>
        </p:nvSpPr>
        <p:spPr>
          <a:xfrm>
            <a:off x="2254320" y="5657760"/>
            <a:ext cx="71280" cy="133560"/>
          </a:xfrm>
          <a:custGeom>
            <a:avLst/>
            <a:gdLst>
              <a:gd name="textAreaLeft" fmla="*/ 0 w 71280"/>
              <a:gd name="textAreaRight" fmla="*/ 71640 w 712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03" h="168">
                <a:moveTo>
                  <a:pt x="0" y="48"/>
                </a:moveTo>
                <a:lnTo>
                  <a:pt x="24" y="0"/>
                </a:lnTo>
                <a:lnTo>
                  <a:pt x="76" y="48"/>
                </a:lnTo>
                <a:lnTo>
                  <a:pt x="103" y="168"/>
                </a:lnTo>
                <a:lnTo>
                  <a:pt x="0" y="4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6" name="Freeform 16"/>
          <p:cNvSpPr/>
          <p:nvPr/>
        </p:nvSpPr>
        <p:spPr>
          <a:xfrm>
            <a:off x="2362320" y="5791320"/>
            <a:ext cx="66600" cy="75960"/>
          </a:xfrm>
          <a:custGeom>
            <a:avLst/>
            <a:gdLst>
              <a:gd name="textAreaLeft" fmla="*/ 0 w 66600"/>
              <a:gd name="textAreaRight" fmla="*/ 66960 w 66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97" h="94">
                <a:moveTo>
                  <a:pt x="0" y="0"/>
                </a:moveTo>
                <a:lnTo>
                  <a:pt x="10" y="63"/>
                </a:lnTo>
                <a:lnTo>
                  <a:pt x="97" y="94"/>
                </a:lnTo>
                <a:lnTo>
                  <a:pt x="47" y="1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7" name="Freeform 17"/>
          <p:cNvSpPr/>
          <p:nvPr/>
        </p:nvSpPr>
        <p:spPr>
          <a:xfrm>
            <a:off x="2362320" y="5791320"/>
            <a:ext cx="66600" cy="75960"/>
          </a:xfrm>
          <a:custGeom>
            <a:avLst/>
            <a:gdLst>
              <a:gd name="textAreaLeft" fmla="*/ 0 w 66600"/>
              <a:gd name="textAreaRight" fmla="*/ 66960 w 66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97" h="94">
                <a:moveTo>
                  <a:pt x="0" y="0"/>
                </a:moveTo>
                <a:lnTo>
                  <a:pt x="10" y="63"/>
                </a:lnTo>
                <a:lnTo>
                  <a:pt x="97" y="94"/>
                </a:lnTo>
                <a:lnTo>
                  <a:pt x="47" y="1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8" name="Freeform 18"/>
          <p:cNvSpPr/>
          <p:nvPr/>
        </p:nvSpPr>
        <p:spPr>
          <a:xfrm>
            <a:off x="2438280" y="5791320"/>
            <a:ext cx="20880" cy="41040"/>
          </a:xfrm>
          <a:custGeom>
            <a:avLst/>
            <a:gdLst>
              <a:gd name="textAreaLeft" fmla="*/ 0 w 20880"/>
              <a:gd name="textAreaRight" fmla="*/ 20880 w 208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9" h="53">
                <a:moveTo>
                  <a:pt x="0" y="53"/>
                </a:moveTo>
                <a:lnTo>
                  <a:pt x="6" y="0"/>
                </a:lnTo>
                <a:lnTo>
                  <a:pt x="29" y="42"/>
                </a:lnTo>
                <a:lnTo>
                  <a:pt x="0" y="5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9" name="Freeform 19"/>
          <p:cNvSpPr/>
          <p:nvPr/>
        </p:nvSpPr>
        <p:spPr>
          <a:xfrm>
            <a:off x="2438280" y="5791320"/>
            <a:ext cx="20880" cy="41040"/>
          </a:xfrm>
          <a:custGeom>
            <a:avLst/>
            <a:gdLst>
              <a:gd name="textAreaLeft" fmla="*/ 0 w 20880"/>
              <a:gd name="textAreaRight" fmla="*/ 20880 w 208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9" h="53">
                <a:moveTo>
                  <a:pt x="0" y="53"/>
                </a:moveTo>
                <a:lnTo>
                  <a:pt x="6" y="0"/>
                </a:lnTo>
                <a:lnTo>
                  <a:pt x="29" y="42"/>
                </a:lnTo>
                <a:lnTo>
                  <a:pt x="0" y="5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0" name="Freeform 20"/>
          <p:cNvSpPr/>
          <p:nvPr/>
        </p:nvSpPr>
        <p:spPr>
          <a:xfrm>
            <a:off x="1681200" y="3944880"/>
            <a:ext cx="849240" cy="973080"/>
          </a:xfrm>
          <a:custGeom>
            <a:avLst/>
            <a:gdLst>
              <a:gd name="textAreaLeft" fmla="*/ 0 w 849240"/>
              <a:gd name="textAreaRight" fmla="*/ 849600 w 8492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229" h="1228">
                <a:moveTo>
                  <a:pt x="0" y="839"/>
                </a:moveTo>
                <a:lnTo>
                  <a:pt x="79" y="781"/>
                </a:lnTo>
                <a:lnTo>
                  <a:pt x="46" y="731"/>
                </a:lnTo>
                <a:lnTo>
                  <a:pt x="64" y="666"/>
                </a:lnTo>
                <a:lnTo>
                  <a:pt x="145" y="550"/>
                </a:lnTo>
                <a:lnTo>
                  <a:pt x="202" y="519"/>
                </a:lnTo>
                <a:lnTo>
                  <a:pt x="168" y="476"/>
                </a:lnTo>
                <a:lnTo>
                  <a:pt x="146" y="363"/>
                </a:lnTo>
                <a:lnTo>
                  <a:pt x="172" y="158"/>
                </a:lnTo>
                <a:lnTo>
                  <a:pt x="212" y="148"/>
                </a:lnTo>
                <a:lnTo>
                  <a:pt x="283" y="182"/>
                </a:lnTo>
                <a:lnTo>
                  <a:pt x="341" y="0"/>
                </a:lnTo>
                <a:lnTo>
                  <a:pt x="1229" y="130"/>
                </a:lnTo>
                <a:lnTo>
                  <a:pt x="1044" y="1228"/>
                </a:lnTo>
                <a:lnTo>
                  <a:pt x="773" y="1190"/>
                </a:lnTo>
                <a:lnTo>
                  <a:pt x="601" y="1149"/>
                </a:lnTo>
                <a:lnTo>
                  <a:pt x="252" y="973"/>
                </a:lnTo>
                <a:lnTo>
                  <a:pt x="0" y="83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1" name="Freeform 21"/>
          <p:cNvSpPr/>
          <p:nvPr/>
        </p:nvSpPr>
        <p:spPr>
          <a:xfrm>
            <a:off x="1681200" y="3944880"/>
            <a:ext cx="849240" cy="973080"/>
          </a:xfrm>
          <a:custGeom>
            <a:avLst/>
            <a:gdLst>
              <a:gd name="textAreaLeft" fmla="*/ 0 w 849240"/>
              <a:gd name="textAreaRight" fmla="*/ 849600 w 8492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229" h="1228">
                <a:moveTo>
                  <a:pt x="0" y="839"/>
                </a:moveTo>
                <a:lnTo>
                  <a:pt x="79" y="781"/>
                </a:lnTo>
                <a:lnTo>
                  <a:pt x="46" y="731"/>
                </a:lnTo>
                <a:lnTo>
                  <a:pt x="64" y="666"/>
                </a:lnTo>
                <a:lnTo>
                  <a:pt x="145" y="550"/>
                </a:lnTo>
                <a:lnTo>
                  <a:pt x="202" y="519"/>
                </a:lnTo>
                <a:lnTo>
                  <a:pt x="168" y="476"/>
                </a:lnTo>
                <a:lnTo>
                  <a:pt x="146" y="363"/>
                </a:lnTo>
                <a:lnTo>
                  <a:pt x="172" y="158"/>
                </a:lnTo>
                <a:lnTo>
                  <a:pt x="212" y="148"/>
                </a:lnTo>
                <a:lnTo>
                  <a:pt x="283" y="182"/>
                </a:lnTo>
                <a:lnTo>
                  <a:pt x="341" y="0"/>
                </a:lnTo>
                <a:lnTo>
                  <a:pt x="1229" y="130"/>
                </a:lnTo>
                <a:lnTo>
                  <a:pt x="1044" y="1228"/>
                </a:lnTo>
                <a:lnTo>
                  <a:pt x="773" y="1190"/>
                </a:lnTo>
                <a:lnTo>
                  <a:pt x="601" y="1149"/>
                </a:lnTo>
                <a:lnTo>
                  <a:pt x="252" y="973"/>
                </a:lnTo>
                <a:lnTo>
                  <a:pt x="0" y="839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2" name="Freeform 22"/>
          <p:cNvSpPr/>
          <p:nvPr/>
        </p:nvSpPr>
        <p:spPr>
          <a:xfrm>
            <a:off x="4316400" y="4222800"/>
            <a:ext cx="627120" cy="558720"/>
          </a:xfrm>
          <a:custGeom>
            <a:avLst/>
            <a:gdLst>
              <a:gd name="textAreaLeft" fmla="*/ 0 w 627120"/>
              <a:gd name="textAreaRight" fmla="*/ 627480 w 62712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907" h="706">
                <a:moveTo>
                  <a:pt x="0" y="24"/>
                </a:moveTo>
                <a:lnTo>
                  <a:pt x="36" y="242"/>
                </a:lnTo>
                <a:lnTo>
                  <a:pt x="29" y="581"/>
                </a:lnTo>
                <a:lnTo>
                  <a:pt x="48" y="601"/>
                </a:lnTo>
                <a:lnTo>
                  <a:pt x="113" y="600"/>
                </a:lnTo>
                <a:lnTo>
                  <a:pt x="115" y="706"/>
                </a:lnTo>
                <a:lnTo>
                  <a:pt x="655" y="699"/>
                </a:lnTo>
                <a:lnTo>
                  <a:pt x="643" y="591"/>
                </a:lnTo>
                <a:lnTo>
                  <a:pt x="691" y="476"/>
                </a:lnTo>
                <a:lnTo>
                  <a:pt x="757" y="392"/>
                </a:lnTo>
                <a:lnTo>
                  <a:pt x="753" y="372"/>
                </a:lnTo>
                <a:lnTo>
                  <a:pt x="805" y="300"/>
                </a:lnTo>
                <a:lnTo>
                  <a:pt x="828" y="220"/>
                </a:lnTo>
                <a:lnTo>
                  <a:pt x="821" y="213"/>
                </a:lnTo>
                <a:lnTo>
                  <a:pt x="865" y="182"/>
                </a:lnTo>
                <a:lnTo>
                  <a:pt x="907" y="110"/>
                </a:lnTo>
                <a:lnTo>
                  <a:pt x="894" y="96"/>
                </a:lnTo>
                <a:lnTo>
                  <a:pt x="772" y="101"/>
                </a:lnTo>
                <a:lnTo>
                  <a:pt x="805" y="60"/>
                </a:lnTo>
                <a:lnTo>
                  <a:pt x="794" y="0"/>
                </a:lnTo>
                <a:lnTo>
                  <a:pt x="0" y="2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3" name="Freeform 23"/>
          <p:cNvSpPr/>
          <p:nvPr/>
        </p:nvSpPr>
        <p:spPr>
          <a:xfrm>
            <a:off x="4316400" y="4222800"/>
            <a:ext cx="627120" cy="558720"/>
          </a:xfrm>
          <a:custGeom>
            <a:avLst/>
            <a:gdLst>
              <a:gd name="textAreaLeft" fmla="*/ 0 w 627120"/>
              <a:gd name="textAreaRight" fmla="*/ 627480 w 62712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907" h="706">
                <a:moveTo>
                  <a:pt x="0" y="24"/>
                </a:moveTo>
                <a:lnTo>
                  <a:pt x="36" y="242"/>
                </a:lnTo>
                <a:lnTo>
                  <a:pt x="29" y="581"/>
                </a:lnTo>
                <a:lnTo>
                  <a:pt x="48" y="601"/>
                </a:lnTo>
                <a:lnTo>
                  <a:pt x="113" y="600"/>
                </a:lnTo>
                <a:lnTo>
                  <a:pt x="115" y="706"/>
                </a:lnTo>
                <a:lnTo>
                  <a:pt x="655" y="699"/>
                </a:lnTo>
                <a:lnTo>
                  <a:pt x="643" y="591"/>
                </a:lnTo>
                <a:lnTo>
                  <a:pt x="691" y="476"/>
                </a:lnTo>
                <a:lnTo>
                  <a:pt x="757" y="392"/>
                </a:lnTo>
                <a:lnTo>
                  <a:pt x="753" y="372"/>
                </a:lnTo>
                <a:lnTo>
                  <a:pt x="805" y="300"/>
                </a:lnTo>
                <a:lnTo>
                  <a:pt x="828" y="220"/>
                </a:lnTo>
                <a:lnTo>
                  <a:pt x="821" y="213"/>
                </a:lnTo>
                <a:lnTo>
                  <a:pt x="865" y="182"/>
                </a:lnTo>
                <a:lnTo>
                  <a:pt x="907" y="110"/>
                </a:lnTo>
                <a:lnTo>
                  <a:pt x="894" y="96"/>
                </a:lnTo>
                <a:lnTo>
                  <a:pt x="772" y="101"/>
                </a:lnTo>
                <a:lnTo>
                  <a:pt x="805" y="60"/>
                </a:lnTo>
                <a:lnTo>
                  <a:pt x="794" y="0"/>
                </a:lnTo>
                <a:lnTo>
                  <a:pt x="0" y="24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4" name="Freeform 24"/>
          <p:cNvSpPr/>
          <p:nvPr/>
        </p:nvSpPr>
        <p:spPr>
          <a:xfrm>
            <a:off x="838080" y="2881440"/>
            <a:ext cx="982800" cy="1670040"/>
          </a:xfrm>
          <a:custGeom>
            <a:avLst/>
            <a:gdLst>
              <a:gd name="textAreaLeft" fmla="*/ 0 w 982800"/>
              <a:gd name="textAreaRight" fmla="*/ 983160 w 98280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1425" h="2108">
                <a:moveTo>
                  <a:pt x="30" y="382"/>
                </a:moveTo>
                <a:lnTo>
                  <a:pt x="48" y="428"/>
                </a:lnTo>
                <a:lnTo>
                  <a:pt x="7" y="593"/>
                </a:lnTo>
                <a:lnTo>
                  <a:pt x="34" y="641"/>
                </a:lnTo>
                <a:lnTo>
                  <a:pt x="146" y="858"/>
                </a:lnTo>
                <a:lnTo>
                  <a:pt x="158" y="855"/>
                </a:lnTo>
                <a:lnTo>
                  <a:pt x="163" y="805"/>
                </a:lnTo>
                <a:lnTo>
                  <a:pt x="183" y="798"/>
                </a:lnTo>
                <a:lnTo>
                  <a:pt x="202" y="810"/>
                </a:lnTo>
                <a:lnTo>
                  <a:pt x="167" y="838"/>
                </a:lnTo>
                <a:lnTo>
                  <a:pt x="183" y="855"/>
                </a:lnTo>
                <a:lnTo>
                  <a:pt x="210" y="947"/>
                </a:lnTo>
                <a:lnTo>
                  <a:pt x="192" y="942"/>
                </a:lnTo>
                <a:lnTo>
                  <a:pt x="152" y="906"/>
                </a:lnTo>
                <a:lnTo>
                  <a:pt x="163" y="870"/>
                </a:lnTo>
                <a:lnTo>
                  <a:pt x="144" y="874"/>
                </a:lnTo>
                <a:lnTo>
                  <a:pt x="121" y="911"/>
                </a:lnTo>
                <a:lnTo>
                  <a:pt x="131" y="997"/>
                </a:lnTo>
                <a:lnTo>
                  <a:pt x="152" y="1035"/>
                </a:lnTo>
                <a:lnTo>
                  <a:pt x="202" y="1069"/>
                </a:lnTo>
                <a:lnTo>
                  <a:pt x="188" y="1110"/>
                </a:lnTo>
                <a:lnTo>
                  <a:pt x="158" y="1118"/>
                </a:lnTo>
                <a:lnTo>
                  <a:pt x="152" y="1173"/>
                </a:lnTo>
                <a:lnTo>
                  <a:pt x="223" y="1298"/>
                </a:lnTo>
                <a:lnTo>
                  <a:pt x="279" y="1375"/>
                </a:lnTo>
                <a:lnTo>
                  <a:pt x="269" y="1422"/>
                </a:lnTo>
                <a:lnTo>
                  <a:pt x="304" y="1452"/>
                </a:lnTo>
                <a:lnTo>
                  <a:pt x="291" y="1481"/>
                </a:lnTo>
                <a:lnTo>
                  <a:pt x="267" y="1555"/>
                </a:lnTo>
                <a:lnTo>
                  <a:pt x="294" y="1582"/>
                </a:lnTo>
                <a:lnTo>
                  <a:pt x="468" y="1634"/>
                </a:lnTo>
                <a:lnTo>
                  <a:pt x="539" y="1718"/>
                </a:lnTo>
                <a:lnTo>
                  <a:pt x="622" y="1745"/>
                </a:lnTo>
                <a:lnTo>
                  <a:pt x="624" y="1795"/>
                </a:lnTo>
                <a:lnTo>
                  <a:pt x="680" y="1807"/>
                </a:lnTo>
                <a:lnTo>
                  <a:pt x="751" y="1894"/>
                </a:lnTo>
                <a:lnTo>
                  <a:pt x="791" y="1966"/>
                </a:lnTo>
                <a:lnTo>
                  <a:pt x="795" y="2079"/>
                </a:lnTo>
                <a:lnTo>
                  <a:pt x="1302" y="2108"/>
                </a:lnTo>
                <a:lnTo>
                  <a:pt x="1269" y="2058"/>
                </a:lnTo>
                <a:lnTo>
                  <a:pt x="1287" y="1993"/>
                </a:lnTo>
                <a:lnTo>
                  <a:pt x="1368" y="1877"/>
                </a:lnTo>
                <a:lnTo>
                  <a:pt x="1425" y="1846"/>
                </a:lnTo>
                <a:lnTo>
                  <a:pt x="1391" y="1803"/>
                </a:lnTo>
                <a:lnTo>
                  <a:pt x="1369" y="1690"/>
                </a:lnTo>
                <a:lnTo>
                  <a:pt x="691" y="814"/>
                </a:lnTo>
                <a:lnTo>
                  <a:pt x="641" y="726"/>
                </a:lnTo>
                <a:lnTo>
                  <a:pt x="811" y="165"/>
                </a:lnTo>
                <a:lnTo>
                  <a:pt x="134" y="0"/>
                </a:lnTo>
                <a:lnTo>
                  <a:pt x="117" y="35"/>
                </a:lnTo>
                <a:lnTo>
                  <a:pt x="121" y="107"/>
                </a:lnTo>
                <a:lnTo>
                  <a:pt x="0" y="281"/>
                </a:lnTo>
                <a:lnTo>
                  <a:pt x="30" y="38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5" name="Freeform 25"/>
          <p:cNvSpPr/>
          <p:nvPr/>
        </p:nvSpPr>
        <p:spPr>
          <a:xfrm>
            <a:off x="2538360" y="3429000"/>
            <a:ext cx="901800" cy="706320"/>
          </a:xfrm>
          <a:custGeom>
            <a:avLst/>
            <a:gdLst>
              <a:gd name="textAreaLeft" fmla="*/ 0 w 901800"/>
              <a:gd name="textAreaRight" fmla="*/ 902160 w 901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1312" h="893">
                <a:moveTo>
                  <a:pt x="0" y="780"/>
                </a:moveTo>
                <a:lnTo>
                  <a:pt x="129" y="0"/>
                </a:lnTo>
                <a:lnTo>
                  <a:pt x="973" y="84"/>
                </a:lnTo>
                <a:lnTo>
                  <a:pt x="1312" y="108"/>
                </a:lnTo>
                <a:lnTo>
                  <a:pt x="1299" y="304"/>
                </a:lnTo>
                <a:lnTo>
                  <a:pt x="1253" y="893"/>
                </a:lnTo>
                <a:lnTo>
                  <a:pt x="1081" y="882"/>
                </a:lnTo>
                <a:lnTo>
                  <a:pt x="542" y="840"/>
                </a:lnTo>
                <a:lnTo>
                  <a:pt x="0" y="7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6" name="Freeform 26"/>
          <p:cNvSpPr/>
          <p:nvPr/>
        </p:nvSpPr>
        <p:spPr>
          <a:xfrm>
            <a:off x="2530440" y="3429000"/>
            <a:ext cx="901800" cy="706320"/>
          </a:xfrm>
          <a:custGeom>
            <a:avLst/>
            <a:gdLst>
              <a:gd name="textAreaLeft" fmla="*/ 0 w 901800"/>
              <a:gd name="textAreaRight" fmla="*/ 902160 w 901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1312" h="893">
                <a:moveTo>
                  <a:pt x="0" y="780"/>
                </a:moveTo>
                <a:lnTo>
                  <a:pt x="129" y="0"/>
                </a:lnTo>
                <a:lnTo>
                  <a:pt x="973" y="84"/>
                </a:lnTo>
                <a:lnTo>
                  <a:pt x="1312" y="108"/>
                </a:lnTo>
                <a:lnTo>
                  <a:pt x="1299" y="304"/>
                </a:lnTo>
                <a:lnTo>
                  <a:pt x="1253" y="893"/>
                </a:lnTo>
                <a:lnTo>
                  <a:pt x="1081" y="882"/>
                </a:lnTo>
                <a:lnTo>
                  <a:pt x="542" y="840"/>
                </a:lnTo>
                <a:lnTo>
                  <a:pt x="0" y="78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7" name="Freeform 27"/>
          <p:cNvSpPr/>
          <p:nvPr/>
        </p:nvSpPr>
        <p:spPr>
          <a:xfrm>
            <a:off x="6732720" y="3046320"/>
            <a:ext cx="212760" cy="201600"/>
          </a:xfrm>
          <a:custGeom>
            <a:avLst/>
            <a:gdLst>
              <a:gd name="textAreaLeft" fmla="*/ 0 w 212760"/>
              <a:gd name="textAreaRight" fmla="*/ 213120 w 2127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308" h="251">
                <a:moveTo>
                  <a:pt x="0" y="49"/>
                </a:moveTo>
                <a:lnTo>
                  <a:pt x="25" y="181"/>
                </a:lnTo>
                <a:lnTo>
                  <a:pt x="25" y="251"/>
                </a:lnTo>
                <a:lnTo>
                  <a:pt x="48" y="246"/>
                </a:lnTo>
                <a:lnTo>
                  <a:pt x="63" y="226"/>
                </a:lnTo>
                <a:lnTo>
                  <a:pt x="106" y="208"/>
                </a:lnTo>
                <a:lnTo>
                  <a:pt x="127" y="176"/>
                </a:lnTo>
                <a:lnTo>
                  <a:pt x="140" y="181"/>
                </a:lnTo>
                <a:lnTo>
                  <a:pt x="175" y="169"/>
                </a:lnTo>
                <a:lnTo>
                  <a:pt x="223" y="162"/>
                </a:lnTo>
                <a:lnTo>
                  <a:pt x="223" y="149"/>
                </a:lnTo>
                <a:lnTo>
                  <a:pt x="237" y="159"/>
                </a:lnTo>
                <a:lnTo>
                  <a:pt x="252" y="145"/>
                </a:lnTo>
                <a:lnTo>
                  <a:pt x="277" y="138"/>
                </a:lnTo>
                <a:lnTo>
                  <a:pt x="308" y="128"/>
                </a:lnTo>
                <a:lnTo>
                  <a:pt x="279" y="0"/>
                </a:lnTo>
                <a:lnTo>
                  <a:pt x="0" y="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4e5b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8" name="Freeform 28"/>
          <p:cNvSpPr/>
          <p:nvPr/>
        </p:nvSpPr>
        <p:spPr>
          <a:xfrm>
            <a:off x="6545160" y="3475080"/>
            <a:ext cx="130320" cy="216000"/>
          </a:xfrm>
          <a:custGeom>
            <a:avLst/>
            <a:gdLst>
              <a:gd name="textAreaLeft" fmla="*/ 0 w 130320"/>
              <a:gd name="textAreaRight" fmla="*/ 130680 w 13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89" h="268">
                <a:moveTo>
                  <a:pt x="0" y="27"/>
                </a:moveTo>
                <a:lnTo>
                  <a:pt x="25" y="0"/>
                </a:lnTo>
                <a:lnTo>
                  <a:pt x="61" y="0"/>
                </a:lnTo>
                <a:lnTo>
                  <a:pt x="48" y="29"/>
                </a:lnTo>
                <a:lnTo>
                  <a:pt x="40" y="37"/>
                </a:lnTo>
                <a:lnTo>
                  <a:pt x="48" y="68"/>
                </a:lnTo>
                <a:lnTo>
                  <a:pt x="65" y="89"/>
                </a:lnTo>
                <a:lnTo>
                  <a:pt x="92" y="111"/>
                </a:lnTo>
                <a:lnTo>
                  <a:pt x="102" y="140"/>
                </a:lnTo>
                <a:lnTo>
                  <a:pt x="119" y="166"/>
                </a:lnTo>
                <a:lnTo>
                  <a:pt x="139" y="179"/>
                </a:lnTo>
                <a:lnTo>
                  <a:pt x="169" y="188"/>
                </a:lnTo>
                <a:lnTo>
                  <a:pt x="183" y="212"/>
                </a:lnTo>
                <a:lnTo>
                  <a:pt x="158" y="234"/>
                </a:lnTo>
                <a:lnTo>
                  <a:pt x="183" y="229"/>
                </a:lnTo>
                <a:lnTo>
                  <a:pt x="189" y="250"/>
                </a:lnTo>
                <a:lnTo>
                  <a:pt x="140" y="260"/>
                </a:lnTo>
                <a:lnTo>
                  <a:pt x="75" y="268"/>
                </a:lnTo>
                <a:lnTo>
                  <a:pt x="71" y="251"/>
                </a:lnTo>
                <a:lnTo>
                  <a:pt x="0" y="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9" name="Freeform 29"/>
          <p:cNvSpPr/>
          <p:nvPr/>
        </p:nvSpPr>
        <p:spPr>
          <a:xfrm>
            <a:off x="6545160" y="3475080"/>
            <a:ext cx="130320" cy="216000"/>
          </a:xfrm>
          <a:custGeom>
            <a:avLst/>
            <a:gdLst>
              <a:gd name="textAreaLeft" fmla="*/ 0 w 130320"/>
              <a:gd name="textAreaRight" fmla="*/ 130680 w 13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89" h="268">
                <a:moveTo>
                  <a:pt x="0" y="27"/>
                </a:moveTo>
                <a:lnTo>
                  <a:pt x="25" y="0"/>
                </a:lnTo>
                <a:lnTo>
                  <a:pt x="61" y="0"/>
                </a:lnTo>
                <a:lnTo>
                  <a:pt x="48" y="29"/>
                </a:lnTo>
                <a:lnTo>
                  <a:pt x="40" y="37"/>
                </a:lnTo>
                <a:lnTo>
                  <a:pt x="48" y="68"/>
                </a:lnTo>
                <a:lnTo>
                  <a:pt x="65" y="89"/>
                </a:lnTo>
                <a:lnTo>
                  <a:pt x="92" y="111"/>
                </a:lnTo>
                <a:lnTo>
                  <a:pt x="102" y="140"/>
                </a:lnTo>
                <a:lnTo>
                  <a:pt x="119" y="166"/>
                </a:lnTo>
                <a:lnTo>
                  <a:pt x="139" y="179"/>
                </a:lnTo>
                <a:lnTo>
                  <a:pt x="169" y="188"/>
                </a:lnTo>
                <a:lnTo>
                  <a:pt x="183" y="212"/>
                </a:lnTo>
                <a:lnTo>
                  <a:pt x="158" y="234"/>
                </a:lnTo>
                <a:lnTo>
                  <a:pt x="183" y="229"/>
                </a:lnTo>
                <a:lnTo>
                  <a:pt x="189" y="250"/>
                </a:lnTo>
                <a:lnTo>
                  <a:pt x="140" y="260"/>
                </a:lnTo>
                <a:lnTo>
                  <a:pt x="75" y="268"/>
                </a:lnTo>
                <a:lnTo>
                  <a:pt x="71" y="251"/>
                </a:lnTo>
                <a:lnTo>
                  <a:pt x="0" y="27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0" name="Freeform 30"/>
          <p:cNvSpPr/>
          <p:nvPr/>
        </p:nvSpPr>
        <p:spPr>
          <a:xfrm>
            <a:off x="6413400" y="3643200"/>
            <a:ext cx="20880" cy="27000"/>
          </a:xfrm>
          <a:custGeom>
            <a:avLst/>
            <a:gdLst>
              <a:gd name="textAreaLeft" fmla="*/ 0 w 20880"/>
              <a:gd name="textAreaRight" fmla="*/ 20880 w 208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9" h="34">
                <a:moveTo>
                  <a:pt x="0" y="9"/>
                </a:moveTo>
                <a:lnTo>
                  <a:pt x="19" y="0"/>
                </a:lnTo>
                <a:lnTo>
                  <a:pt x="29" y="19"/>
                </a:lnTo>
                <a:lnTo>
                  <a:pt x="21" y="34"/>
                </a:lnTo>
                <a:lnTo>
                  <a:pt x="0" y="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1" name="Freeform 31"/>
          <p:cNvSpPr/>
          <p:nvPr/>
        </p:nvSpPr>
        <p:spPr>
          <a:xfrm>
            <a:off x="6413400" y="3643200"/>
            <a:ext cx="20880" cy="27000"/>
          </a:xfrm>
          <a:custGeom>
            <a:avLst/>
            <a:gdLst>
              <a:gd name="textAreaLeft" fmla="*/ 0 w 20880"/>
              <a:gd name="textAreaRight" fmla="*/ 20880 w 208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9" h="34">
                <a:moveTo>
                  <a:pt x="0" y="9"/>
                </a:moveTo>
                <a:lnTo>
                  <a:pt x="19" y="0"/>
                </a:lnTo>
                <a:lnTo>
                  <a:pt x="29" y="19"/>
                </a:lnTo>
                <a:lnTo>
                  <a:pt x="21" y="34"/>
                </a:lnTo>
                <a:lnTo>
                  <a:pt x="0" y="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2" name="Freeform 32"/>
          <p:cNvSpPr/>
          <p:nvPr/>
        </p:nvSpPr>
        <p:spPr>
          <a:xfrm>
            <a:off x="5261040" y="4997520"/>
            <a:ext cx="1130400" cy="8445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637" h="1065">
                <a:moveTo>
                  <a:pt x="4" y="70"/>
                </a:moveTo>
                <a:lnTo>
                  <a:pt x="0" y="99"/>
                </a:lnTo>
                <a:lnTo>
                  <a:pt x="50" y="139"/>
                </a:lnTo>
                <a:lnTo>
                  <a:pt x="38" y="163"/>
                </a:lnTo>
                <a:lnTo>
                  <a:pt x="54" y="178"/>
                </a:lnTo>
                <a:lnTo>
                  <a:pt x="34" y="204"/>
                </a:lnTo>
                <a:lnTo>
                  <a:pt x="73" y="192"/>
                </a:lnTo>
                <a:lnTo>
                  <a:pt x="90" y="171"/>
                </a:lnTo>
                <a:lnTo>
                  <a:pt x="90" y="151"/>
                </a:lnTo>
                <a:lnTo>
                  <a:pt x="108" y="163"/>
                </a:lnTo>
                <a:lnTo>
                  <a:pt x="123" y="144"/>
                </a:lnTo>
                <a:lnTo>
                  <a:pt x="136" y="163"/>
                </a:lnTo>
                <a:lnTo>
                  <a:pt x="98" y="187"/>
                </a:lnTo>
                <a:lnTo>
                  <a:pt x="206" y="164"/>
                </a:lnTo>
                <a:lnTo>
                  <a:pt x="227" y="146"/>
                </a:lnTo>
                <a:lnTo>
                  <a:pt x="241" y="154"/>
                </a:lnTo>
                <a:lnTo>
                  <a:pt x="281" y="144"/>
                </a:lnTo>
                <a:lnTo>
                  <a:pt x="300" y="156"/>
                </a:lnTo>
                <a:lnTo>
                  <a:pt x="227" y="163"/>
                </a:lnTo>
                <a:lnTo>
                  <a:pt x="250" y="170"/>
                </a:lnTo>
                <a:lnTo>
                  <a:pt x="331" y="185"/>
                </a:lnTo>
                <a:lnTo>
                  <a:pt x="381" y="209"/>
                </a:lnTo>
                <a:lnTo>
                  <a:pt x="366" y="176"/>
                </a:lnTo>
                <a:lnTo>
                  <a:pt x="393" y="202"/>
                </a:lnTo>
                <a:lnTo>
                  <a:pt x="427" y="205"/>
                </a:lnTo>
                <a:lnTo>
                  <a:pt x="397" y="214"/>
                </a:lnTo>
                <a:lnTo>
                  <a:pt x="452" y="240"/>
                </a:lnTo>
                <a:lnTo>
                  <a:pt x="472" y="260"/>
                </a:lnTo>
                <a:lnTo>
                  <a:pt x="472" y="283"/>
                </a:lnTo>
                <a:lnTo>
                  <a:pt x="451" y="255"/>
                </a:lnTo>
                <a:lnTo>
                  <a:pt x="462" y="291"/>
                </a:lnTo>
                <a:lnTo>
                  <a:pt x="506" y="277"/>
                </a:lnTo>
                <a:lnTo>
                  <a:pt x="533" y="276"/>
                </a:lnTo>
                <a:lnTo>
                  <a:pt x="555" y="260"/>
                </a:lnTo>
                <a:lnTo>
                  <a:pt x="562" y="271"/>
                </a:lnTo>
                <a:lnTo>
                  <a:pt x="620" y="231"/>
                </a:lnTo>
                <a:lnTo>
                  <a:pt x="659" y="229"/>
                </a:lnTo>
                <a:lnTo>
                  <a:pt x="645" y="217"/>
                </a:lnTo>
                <a:lnTo>
                  <a:pt x="670" y="187"/>
                </a:lnTo>
                <a:lnTo>
                  <a:pt x="728" y="185"/>
                </a:lnTo>
                <a:lnTo>
                  <a:pt x="788" y="211"/>
                </a:lnTo>
                <a:lnTo>
                  <a:pt x="824" y="248"/>
                </a:lnTo>
                <a:lnTo>
                  <a:pt x="853" y="255"/>
                </a:lnTo>
                <a:lnTo>
                  <a:pt x="861" y="283"/>
                </a:lnTo>
                <a:lnTo>
                  <a:pt x="899" y="300"/>
                </a:lnTo>
                <a:lnTo>
                  <a:pt x="915" y="320"/>
                </a:lnTo>
                <a:lnTo>
                  <a:pt x="934" y="337"/>
                </a:lnTo>
                <a:lnTo>
                  <a:pt x="986" y="341"/>
                </a:lnTo>
                <a:lnTo>
                  <a:pt x="1005" y="368"/>
                </a:lnTo>
                <a:lnTo>
                  <a:pt x="1034" y="426"/>
                </a:lnTo>
                <a:lnTo>
                  <a:pt x="1019" y="531"/>
                </a:lnTo>
                <a:lnTo>
                  <a:pt x="1023" y="596"/>
                </a:lnTo>
                <a:lnTo>
                  <a:pt x="1056" y="616"/>
                </a:lnTo>
                <a:lnTo>
                  <a:pt x="1061" y="584"/>
                </a:lnTo>
                <a:lnTo>
                  <a:pt x="1038" y="575"/>
                </a:lnTo>
                <a:lnTo>
                  <a:pt x="1044" y="553"/>
                </a:lnTo>
                <a:lnTo>
                  <a:pt x="1054" y="560"/>
                </a:lnTo>
                <a:lnTo>
                  <a:pt x="1077" y="565"/>
                </a:lnTo>
                <a:lnTo>
                  <a:pt x="1082" y="586"/>
                </a:lnTo>
                <a:lnTo>
                  <a:pt x="1098" y="562"/>
                </a:lnTo>
                <a:lnTo>
                  <a:pt x="1109" y="582"/>
                </a:lnTo>
                <a:lnTo>
                  <a:pt x="1065" y="652"/>
                </a:lnTo>
                <a:lnTo>
                  <a:pt x="1063" y="663"/>
                </a:lnTo>
                <a:lnTo>
                  <a:pt x="1092" y="675"/>
                </a:lnTo>
                <a:lnTo>
                  <a:pt x="1115" y="729"/>
                </a:lnTo>
                <a:lnTo>
                  <a:pt x="1146" y="757"/>
                </a:lnTo>
                <a:lnTo>
                  <a:pt x="1163" y="777"/>
                </a:lnTo>
                <a:lnTo>
                  <a:pt x="1188" y="777"/>
                </a:lnTo>
                <a:lnTo>
                  <a:pt x="1161" y="745"/>
                </a:lnTo>
                <a:lnTo>
                  <a:pt x="1183" y="750"/>
                </a:lnTo>
                <a:lnTo>
                  <a:pt x="1208" y="745"/>
                </a:lnTo>
                <a:lnTo>
                  <a:pt x="1196" y="757"/>
                </a:lnTo>
                <a:lnTo>
                  <a:pt x="1206" y="784"/>
                </a:lnTo>
                <a:lnTo>
                  <a:pt x="1217" y="824"/>
                </a:lnTo>
                <a:lnTo>
                  <a:pt x="1256" y="839"/>
                </a:lnTo>
                <a:lnTo>
                  <a:pt x="1266" y="863"/>
                </a:lnTo>
                <a:lnTo>
                  <a:pt x="1300" y="933"/>
                </a:lnTo>
                <a:lnTo>
                  <a:pt x="1345" y="933"/>
                </a:lnTo>
                <a:lnTo>
                  <a:pt x="1381" y="952"/>
                </a:lnTo>
                <a:lnTo>
                  <a:pt x="1439" y="1022"/>
                </a:lnTo>
                <a:lnTo>
                  <a:pt x="1489" y="1029"/>
                </a:lnTo>
                <a:lnTo>
                  <a:pt x="1491" y="1044"/>
                </a:lnTo>
                <a:lnTo>
                  <a:pt x="1477" y="1051"/>
                </a:lnTo>
                <a:lnTo>
                  <a:pt x="1439" y="1036"/>
                </a:lnTo>
                <a:lnTo>
                  <a:pt x="1454" y="1065"/>
                </a:lnTo>
                <a:lnTo>
                  <a:pt x="1501" y="1055"/>
                </a:lnTo>
                <a:lnTo>
                  <a:pt x="1541" y="1055"/>
                </a:lnTo>
                <a:lnTo>
                  <a:pt x="1558" y="1036"/>
                </a:lnTo>
                <a:lnTo>
                  <a:pt x="1593" y="1034"/>
                </a:lnTo>
                <a:lnTo>
                  <a:pt x="1610" y="1002"/>
                </a:lnTo>
                <a:lnTo>
                  <a:pt x="1605" y="961"/>
                </a:lnTo>
                <a:lnTo>
                  <a:pt x="1622" y="913"/>
                </a:lnTo>
                <a:lnTo>
                  <a:pt x="1637" y="916"/>
                </a:lnTo>
                <a:lnTo>
                  <a:pt x="1622" y="745"/>
                </a:lnTo>
                <a:lnTo>
                  <a:pt x="1605" y="695"/>
                </a:lnTo>
                <a:lnTo>
                  <a:pt x="1427" y="447"/>
                </a:lnTo>
                <a:lnTo>
                  <a:pt x="1385" y="366"/>
                </a:lnTo>
                <a:lnTo>
                  <a:pt x="1404" y="366"/>
                </a:lnTo>
                <a:lnTo>
                  <a:pt x="1289" y="209"/>
                </a:lnTo>
                <a:lnTo>
                  <a:pt x="1208" y="43"/>
                </a:lnTo>
                <a:lnTo>
                  <a:pt x="1206" y="14"/>
                </a:lnTo>
                <a:lnTo>
                  <a:pt x="1183" y="10"/>
                </a:lnTo>
                <a:lnTo>
                  <a:pt x="1106" y="0"/>
                </a:lnTo>
                <a:lnTo>
                  <a:pt x="1084" y="21"/>
                </a:lnTo>
                <a:lnTo>
                  <a:pt x="1100" y="92"/>
                </a:lnTo>
                <a:lnTo>
                  <a:pt x="1065" y="91"/>
                </a:lnTo>
                <a:lnTo>
                  <a:pt x="1061" y="57"/>
                </a:lnTo>
                <a:lnTo>
                  <a:pt x="541" y="84"/>
                </a:lnTo>
                <a:lnTo>
                  <a:pt x="506" y="33"/>
                </a:lnTo>
                <a:lnTo>
                  <a:pt x="4" y="70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3" name="Freeform 33"/>
          <p:cNvSpPr/>
          <p:nvPr/>
        </p:nvSpPr>
        <p:spPr>
          <a:xfrm>
            <a:off x="5261040" y="4997520"/>
            <a:ext cx="1130400" cy="8445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637" h="1065">
                <a:moveTo>
                  <a:pt x="4" y="70"/>
                </a:moveTo>
                <a:lnTo>
                  <a:pt x="0" y="99"/>
                </a:lnTo>
                <a:lnTo>
                  <a:pt x="50" y="139"/>
                </a:lnTo>
                <a:lnTo>
                  <a:pt x="38" y="163"/>
                </a:lnTo>
                <a:lnTo>
                  <a:pt x="54" y="178"/>
                </a:lnTo>
                <a:lnTo>
                  <a:pt x="34" y="204"/>
                </a:lnTo>
                <a:lnTo>
                  <a:pt x="73" y="192"/>
                </a:lnTo>
                <a:lnTo>
                  <a:pt x="90" y="171"/>
                </a:lnTo>
                <a:lnTo>
                  <a:pt x="90" y="151"/>
                </a:lnTo>
                <a:lnTo>
                  <a:pt x="108" y="163"/>
                </a:lnTo>
                <a:lnTo>
                  <a:pt x="123" y="144"/>
                </a:lnTo>
                <a:lnTo>
                  <a:pt x="136" y="163"/>
                </a:lnTo>
                <a:lnTo>
                  <a:pt x="98" y="187"/>
                </a:lnTo>
                <a:lnTo>
                  <a:pt x="206" y="164"/>
                </a:lnTo>
                <a:lnTo>
                  <a:pt x="227" y="146"/>
                </a:lnTo>
                <a:lnTo>
                  <a:pt x="241" y="154"/>
                </a:lnTo>
                <a:lnTo>
                  <a:pt x="281" y="144"/>
                </a:lnTo>
                <a:lnTo>
                  <a:pt x="300" y="156"/>
                </a:lnTo>
                <a:lnTo>
                  <a:pt x="227" y="163"/>
                </a:lnTo>
                <a:lnTo>
                  <a:pt x="250" y="170"/>
                </a:lnTo>
                <a:lnTo>
                  <a:pt x="331" y="185"/>
                </a:lnTo>
                <a:lnTo>
                  <a:pt x="381" y="209"/>
                </a:lnTo>
                <a:lnTo>
                  <a:pt x="366" y="176"/>
                </a:lnTo>
                <a:lnTo>
                  <a:pt x="393" y="202"/>
                </a:lnTo>
                <a:lnTo>
                  <a:pt x="427" y="205"/>
                </a:lnTo>
                <a:lnTo>
                  <a:pt x="397" y="214"/>
                </a:lnTo>
                <a:lnTo>
                  <a:pt x="452" y="240"/>
                </a:lnTo>
                <a:lnTo>
                  <a:pt x="472" y="260"/>
                </a:lnTo>
                <a:lnTo>
                  <a:pt x="472" y="283"/>
                </a:lnTo>
                <a:lnTo>
                  <a:pt x="451" y="255"/>
                </a:lnTo>
                <a:lnTo>
                  <a:pt x="462" y="291"/>
                </a:lnTo>
                <a:lnTo>
                  <a:pt x="506" y="277"/>
                </a:lnTo>
                <a:lnTo>
                  <a:pt x="533" y="276"/>
                </a:lnTo>
                <a:lnTo>
                  <a:pt x="555" y="260"/>
                </a:lnTo>
                <a:lnTo>
                  <a:pt x="562" y="271"/>
                </a:lnTo>
                <a:lnTo>
                  <a:pt x="620" y="231"/>
                </a:lnTo>
                <a:lnTo>
                  <a:pt x="659" y="229"/>
                </a:lnTo>
                <a:lnTo>
                  <a:pt x="645" y="217"/>
                </a:lnTo>
                <a:lnTo>
                  <a:pt x="670" y="187"/>
                </a:lnTo>
                <a:lnTo>
                  <a:pt x="728" y="185"/>
                </a:lnTo>
                <a:lnTo>
                  <a:pt x="788" y="211"/>
                </a:lnTo>
                <a:lnTo>
                  <a:pt x="824" y="248"/>
                </a:lnTo>
                <a:lnTo>
                  <a:pt x="853" y="255"/>
                </a:lnTo>
                <a:lnTo>
                  <a:pt x="861" y="283"/>
                </a:lnTo>
                <a:lnTo>
                  <a:pt x="899" y="300"/>
                </a:lnTo>
                <a:lnTo>
                  <a:pt x="915" y="320"/>
                </a:lnTo>
                <a:lnTo>
                  <a:pt x="934" y="337"/>
                </a:lnTo>
                <a:lnTo>
                  <a:pt x="986" y="341"/>
                </a:lnTo>
                <a:lnTo>
                  <a:pt x="1005" y="368"/>
                </a:lnTo>
                <a:lnTo>
                  <a:pt x="1034" y="426"/>
                </a:lnTo>
                <a:lnTo>
                  <a:pt x="1019" y="531"/>
                </a:lnTo>
                <a:lnTo>
                  <a:pt x="1023" y="596"/>
                </a:lnTo>
                <a:lnTo>
                  <a:pt x="1056" y="616"/>
                </a:lnTo>
                <a:lnTo>
                  <a:pt x="1061" y="584"/>
                </a:lnTo>
                <a:lnTo>
                  <a:pt x="1038" y="575"/>
                </a:lnTo>
                <a:lnTo>
                  <a:pt x="1044" y="553"/>
                </a:lnTo>
                <a:lnTo>
                  <a:pt x="1054" y="560"/>
                </a:lnTo>
                <a:lnTo>
                  <a:pt x="1077" y="565"/>
                </a:lnTo>
                <a:lnTo>
                  <a:pt x="1082" y="586"/>
                </a:lnTo>
                <a:lnTo>
                  <a:pt x="1098" y="562"/>
                </a:lnTo>
                <a:lnTo>
                  <a:pt x="1109" y="582"/>
                </a:lnTo>
                <a:lnTo>
                  <a:pt x="1065" y="652"/>
                </a:lnTo>
                <a:lnTo>
                  <a:pt x="1063" y="663"/>
                </a:lnTo>
                <a:lnTo>
                  <a:pt x="1092" y="675"/>
                </a:lnTo>
                <a:lnTo>
                  <a:pt x="1115" y="729"/>
                </a:lnTo>
                <a:lnTo>
                  <a:pt x="1146" y="757"/>
                </a:lnTo>
                <a:lnTo>
                  <a:pt x="1163" y="777"/>
                </a:lnTo>
                <a:lnTo>
                  <a:pt x="1188" y="777"/>
                </a:lnTo>
                <a:lnTo>
                  <a:pt x="1161" y="745"/>
                </a:lnTo>
                <a:lnTo>
                  <a:pt x="1183" y="750"/>
                </a:lnTo>
                <a:lnTo>
                  <a:pt x="1208" y="745"/>
                </a:lnTo>
                <a:lnTo>
                  <a:pt x="1196" y="757"/>
                </a:lnTo>
                <a:lnTo>
                  <a:pt x="1206" y="784"/>
                </a:lnTo>
                <a:lnTo>
                  <a:pt x="1217" y="824"/>
                </a:lnTo>
                <a:lnTo>
                  <a:pt x="1256" y="839"/>
                </a:lnTo>
                <a:lnTo>
                  <a:pt x="1266" y="863"/>
                </a:lnTo>
                <a:lnTo>
                  <a:pt x="1300" y="933"/>
                </a:lnTo>
                <a:lnTo>
                  <a:pt x="1345" y="933"/>
                </a:lnTo>
                <a:lnTo>
                  <a:pt x="1381" y="952"/>
                </a:lnTo>
                <a:lnTo>
                  <a:pt x="1439" y="1022"/>
                </a:lnTo>
                <a:lnTo>
                  <a:pt x="1489" y="1029"/>
                </a:lnTo>
                <a:lnTo>
                  <a:pt x="1491" y="1044"/>
                </a:lnTo>
                <a:lnTo>
                  <a:pt x="1477" y="1051"/>
                </a:lnTo>
                <a:lnTo>
                  <a:pt x="1439" y="1036"/>
                </a:lnTo>
                <a:lnTo>
                  <a:pt x="1454" y="1065"/>
                </a:lnTo>
                <a:lnTo>
                  <a:pt x="1501" y="1055"/>
                </a:lnTo>
                <a:lnTo>
                  <a:pt x="1541" y="1055"/>
                </a:lnTo>
                <a:lnTo>
                  <a:pt x="1558" y="1036"/>
                </a:lnTo>
                <a:lnTo>
                  <a:pt x="1593" y="1034"/>
                </a:lnTo>
                <a:lnTo>
                  <a:pt x="1610" y="1002"/>
                </a:lnTo>
                <a:lnTo>
                  <a:pt x="1605" y="961"/>
                </a:lnTo>
                <a:lnTo>
                  <a:pt x="1622" y="913"/>
                </a:lnTo>
                <a:lnTo>
                  <a:pt x="1637" y="916"/>
                </a:lnTo>
                <a:lnTo>
                  <a:pt x="1622" y="745"/>
                </a:lnTo>
                <a:lnTo>
                  <a:pt x="1605" y="695"/>
                </a:lnTo>
                <a:lnTo>
                  <a:pt x="1427" y="447"/>
                </a:lnTo>
                <a:lnTo>
                  <a:pt x="1385" y="366"/>
                </a:lnTo>
                <a:lnTo>
                  <a:pt x="1404" y="366"/>
                </a:lnTo>
                <a:lnTo>
                  <a:pt x="1289" y="209"/>
                </a:lnTo>
                <a:lnTo>
                  <a:pt x="1208" y="43"/>
                </a:lnTo>
                <a:lnTo>
                  <a:pt x="1206" y="14"/>
                </a:lnTo>
                <a:lnTo>
                  <a:pt x="1183" y="10"/>
                </a:lnTo>
                <a:lnTo>
                  <a:pt x="1106" y="0"/>
                </a:lnTo>
                <a:lnTo>
                  <a:pt x="1084" y="21"/>
                </a:lnTo>
                <a:lnTo>
                  <a:pt x="1100" y="92"/>
                </a:lnTo>
                <a:lnTo>
                  <a:pt x="1065" y="91"/>
                </a:lnTo>
                <a:lnTo>
                  <a:pt x="1061" y="57"/>
                </a:lnTo>
                <a:lnTo>
                  <a:pt x="541" y="84"/>
                </a:lnTo>
                <a:lnTo>
                  <a:pt x="506" y="33"/>
                </a:lnTo>
                <a:lnTo>
                  <a:pt x="4" y="70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4" name="Freeform 34"/>
          <p:cNvSpPr/>
          <p:nvPr/>
        </p:nvSpPr>
        <p:spPr>
          <a:xfrm>
            <a:off x="6192720" y="5905440"/>
            <a:ext cx="60480" cy="38160"/>
          </a:xfrm>
          <a:custGeom>
            <a:avLst/>
            <a:gdLst>
              <a:gd name="textAreaLeft" fmla="*/ 0 w 60480"/>
              <a:gd name="textAreaRight" fmla="*/ 60840 w 60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85" h="48">
                <a:moveTo>
                  <a:pt x="0" y="48"/>
                </a:moveTo>
                <a:lnTo>
                  <a:pt x="8" y="23"/>
                </a:lnTo>
                <a:lnTo>
                  <a:pt x="35" y="19"/>
                </a:lnTo>
                <a:lnTo>
                  <a:pt x="39" y="0"/>
                </a:lnTo>
                <a:lnTo>
                  <a:pt x="85" y="21"/>
                </a:lnTo>
                <a:lnTo>
                  <a:pt x="41" y="35"/>
                </a:lnTo>
                <a:lnTo>
                  <a:pt x="18" y="28"/>
                </a:lnTo>
                <a:lnTo>
                  <a:pt x="23" y="42"/>
                </a:lnTo>
                <a:lnTo>
                  <a:pt x="0" y="4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5" name="Freeform 35"/>
          <p:cNvSpPr/>
          <p:nvPr/>
        </p:nvSpPr>
        <p:spPr>
          <a:xfrm>
            <a:off x="6192720" y="5905440"/>
            <a:ext cx="60480" cy="38160"/>
          </a:xfrm>
          <a:custGeom>
            <a:avLst/>
            <a:gdLst>
              <a:gd name="textAreaLeft" fmla="*/ 0 w 60480"/>
              <a:gd name="textAreaRight" fmla="*/ 60840 w 60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85" h="48">
                <a:moveTo>
                  <a:pt x="0" y="48"/>
                </a:moveTo>
                <a:lnTo>
                  <a:pt x="8" y="23"/>
                </a:lnTo>
                <a:lnTo>
                  <a:pt x="35" y="19"/>
                </a:lnTo>
                <a:lnTo>
                  <a:pt x="39" y="0"/>
                </a:lnTo>
                <a:lnTo>
                  <a:pt x="85" y="21"/>
                </a:lnTo>
                <a:lnTo>
                  <a:pt x="41" y="35"/>
                </a:lnTo>
                <a:lnTo>
                  <a:pt x="18" y="28"/>
                </a:lnTo>
                <a:lnTo>
                  <a:pt x="23" y="42"/>
                </a:lnTo>
                <a:lnTo>
                  <a:pt x="0" y="4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6" name="Freeform 36"/>
          <p:cNvSpPr/>
          <p:nvPr/>
        </p:nvSpPr>
        <p:spPr>
          <a:xfrm>
            <a:off x="6273720" y="5881680"/>
            <a:ext cx="47880" cy="30240"/>
          </a:xfrm>
          <a:custGeom>
            <a:avLst/>
            <a:gdLst>
              <a:gd name="textAreaLeft" fmla="*/ 0 w 47880"/>
              <a:gd name="textAreaRight" fmla="*/ 48240 w 47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7" h="38">
                <a:moveTo>
                  <a:pt x="0" y="36"/>
                </a:moveTo>
                <a:lnTo>
                  <a:pt x="9" y="38"/>
                </a:lnTo>
                <a:lnTo>
                  <a:pt x="67" y="0"/>
                </a:lnTo>
                <a:lnTo>
                  <a:pt x="17" y="28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7" name="Freeform 37"/>
          <p:cNvSpPr/>
          <p:nvPr/>
        </p:nvSpPr>
        <p:spPr>
          <a:xfrm>
            <a:off x="6273720" y="5881680"/>
            <a:ext cx="47880" cy="30240"/>
          </a:xfrm>
          <a:custGeom>
            <a:avLst/>
            <a:gdLst>
              <a:gd name="textAreaLeft" fmla="*/ 0 w 47880"/>
              <a:gd name="textAreaRight" fmla="*/ 48240 w 47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7" h="38">
                <a:moveTo>
                  <a:pt x="0" y="36"/>
                </a:moveTo>
                <a:lnTo>
                  <a:pt x="9" y="38"/>
                </a:lnTo>
                <a:lnTo>
                  <a:pt x="67" y="0"/>
                </a:lnTo>
                <a:lnTo>
                  <a:pt x="17" y="28"/>
                </a:lnTo>
                <a:lnTo>
                  <a:pt x="0" y="3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8" name="Freeform 40"/>
          <p:cNvSpPr/>
          <p:nvPr/>
        </p:nvSpPr>
        <p:spPr>
          <a:xfrm>
            <a:off x="5464080" y="4378320"/>
            <a:ext cx="676440" cy="692280"/>
          </a:xfrm>
          <a:custGeom>
            <a:avLst/>
            <a:gdLst>
              <a:gd name="textAreaLeft" fmla="*/ 0 w 676440"/>
              <a:gd name="textAreaRight" fmla="*/ 676800 w 676440"/>
              <a:gd name="textAreaTop" fmla="*/ 0 h 692280"/>
              <a:gd name="textAreaBottom" fmla="*/ 692280 h 692280"/>
            </a:gdLst>
            <a:ahLst/>
            <a:rect l="textAreaLeft" t="textAreaTop" r="textAreaRight" b="textAreaBottom"/>
            <a:pathLst>
              <a:path w="979" h="874">
                <a:moveTo>
                  <a:pt x="0" y="46"/>
                </a:moveTo>
                <a:lnTo>
                  <a:pt x="129" y="453"/>
                </a:lnTo>
                <a:lnTo>
                  <a:pt x="176" y="518"/>
                </a:lnTo>
                <a:lnTo>
                  <a:pt x="193" y="571"/>
                </a:lnTo>
                <a:lnTo>
                  <a:pt x="174" y="606"/>
                </a:lnTo>
                <a:lnTo>
                  <a:pt x="166" y="660"/>
                </a:lnTo>
                <a:lnTo>
                  <a:pt x="210" y="815"/>
                </a:lnTo>
                <a:lnTo>
                  <a:pt x="245" y="866"/>
                </a:lnTo>
                <a:lnTo>
                  <a:pt x="765" y="839"/>
                </a:lnTo>
                <a:lnTo>
                  <a:pt x="769" y="873"/>
                </a:lnTo>
                <a:lnTo>
                  <a:pt x="804" y="874"/>
                </a:lnTo>
                <a:lnTo>
                  <a:pt x="788" y="803"/>
                </a:lnTo>
                <a:lnTo>
                  <a:pt x="810" y="782"/>
                </a:lnTo>
                <a:lnTo>
                  <a:pt x="887" y="792"/>
                </a:lnTo>
                <a:lnTo>
                  <a:pt x="898" y="744"/>
                </a:lnTo>
                <a:lnTo>
                  <a:pt x="887" y="738"/>
                </a:lnTo>
                <a:lnTo>
                  <a:pt x="906" y="726"/>
                </a:lnTo>
                <a:lnTo>
                  <a:pt x="875" y="714"/>
                </a:lnTo>
                <a:lnTo>
                  <a:pt x="891" y="696"/>
                </a:lnTo>
                <a:lnTo>
                  <a:pt x="887" y="672"/>
                </a:lnTo>
                <a:lnTo>
                  <a:pt x="921" y="652"/>
                </a:lnTo>
                <a:lnTo>
                  <a:pt x="910" y="626"/>
                </a:lnTo>
                <a:lnTo>
                  <a:pt x="925" y="619"/>
                </a:lnTo>
                <a:lnTo>
                  <a:pt x="935" y="595"/>
                </a:lnTo>
                <a:lnTo>
                  <a:pt x="921" y="589"/>
                </a:lnTo>
                <a:lnTo>
                  <a:pt x="948" y="571"/>
                </a:lnTo>
                <a:lnTo>
                  <a:pt x="933" y="554"/>
                </a:lnTo>
                <a:lnTo>
                  <a:pt x="956" y="554"/>
                </a:lnTo>
                <a:lnTo>
                  <a:pt x="979" y="530"/>
                </a:lnTo>
                <a:lnTo>
                  <a:pt x="970" y="518"/>
                </a:lnTo>
                <a:lnTo>
                  <a:pt x="937" y="515"/>
                </a:lnTo>
                <a:lnTo>
                  <a:pt x="914" y="489"/>
                </a:lnTo>
                <a:lnTo>
                  <a:pt x="875" y="431"/>
                </a:lnTo>
                <a:lnTo>
                  <a:pt x="854" y="424"/>
                </a:lnTo>
                <a:lnTo>
                  <a:pt x="808" y="344"/>
                </a:lnTo>
                <a:lnTo>
                  <a:pt x="746" y="311"/>
                </a:lnTo>
                <a:lnTo>
                  <a:pt x="702" y="256"/>
                </a:lnTo>
                <a:lnTo>
                  <a:pt x="594" y="186"/>
                </a:lnTo>
                <a:lnTo>
                  <a:pt x="538" y="125"/>
                </a:lnTo>
                <a:lnTo>
                  <a:pt x="420" y="61"/>
                </a:lnTo>
                <a:lnTo>
                  <a:pt x="457" y="0"/>
                </a:lnTo>
                <a:lnTo>
                  <a:pt x="235" y="20"/>
                </a:lnTo>
                <a:lnTo>
                  <a:pt x="0" y="4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9" name="Freeform 41"/>
          <p:cNvSpPr/>
          <p:nvPr/>
        </p:nvSpPr>
        <p:spPr>
          <a:xfrm>
            <a:off x="5464080" y="4378320"/>
            <a:ext cx="676440" cy="692280"/>
          </a:xfrm>
          <a:custGeom>
            <a:avLst/>
            <a:gdLst>
              <a:gd name="textAreaLeft" fmla="*/ 0 w 676440"/>
              <a:gd name="textAreaRight" fmla="*/ 676800 w 676440"/>
              <a:gd name="textAreaTop" fmla="*/ 0 h 692280"/>
              <a:gd name="textAreaBottom" fmla="*/ 692280 h 692280"/>
            </a:gdLst>
            <a:ahLst/>
            <a:rect l="textAreaLeft" t="textAreaTop" r="textAreaRight" b="textAreaBottom"/>
            <a:pathLst>
              <a:path w="979" h="874">
                <a:moveTo>
                  <a:pt x="0" y="46"/>
                </a:moveTo>
                <a:lnTo>
                  <a:pt x="129" y="453"/>
                </a:lnTo>
                <a:lnTo>
                  <a:pt x="176" y="518"/>
                </a:lnTo>
                <a:lnTo>
                  <a:pt x="193" y="571"/>
                </a:lnTo>
                <a:lnTo>
                  <a:pt x="174" y="606"/>
                </a:lnTo>
                <a:lnTo>
                  <a:pt x="166" y="660"/>
                </a:lnTo>
                <a:lnTo>
                  <a:pt x="210" y="815"/>
                </a:lnTo>
                <a:lnTo>
                  <a:pt x="245" y="866"/>
                </a:lnTo>
                <a:lnTo>
                  <a:pt x="765" y="839"/>
                </a:lnTo>
                <a:lnTo>
                  <a:pt x="769" y="873"/>
                </a:lnTo>
                <a:lnTo>
                  <a:pt x="804" y="874"/>
                </a:lnTo>
                <a:lnTo>
                  <a:pt x="788" y="803"/>
                </a:lnTo>
                <a:lnTo>
                  <a:pt x="810" y="782"/>
                </a:lnTo>
                <a:lnTo>
                  <a:pt x="887" y="792"/>
                </a:lnTo>
                <a:lnTo>
                  <a:pt x="898" y="744"/>
                </a:lnTo>
                <a:lnTo>
                  <a:pt x="887" y="738"/>
                </a:lnTo>
                <a:lnTo>
                  <a:pt x="906" y="726"/>
                </a:lnTo>
                <a:lnTo>
                  <a:pt x="875" y="714"/>
                </a:lnTo>
                <a:lnTo>
                  <a:pt x="891" y="696"/>
                </a:lnTo>
                <a:lnTo>
                  <a:pt x="887" y="672"/>
                </a:lnTo>
                <a:lnTo>
                  <a:pt x="921" y="652"/>
                </a:lnTo>
                <a:lnTo>
                  <a:pt x="910" y="626"/>
                </a:lnTo>
                <a:lnTo>
                  <a:pt x="925" y="619"/>
                </a:lnTo>
                <a:lnTo>
                  <a:pt x="935" y="595"/>
                </a:lnTo>
                <a:lnTo>
                  <a:pt x="921" y="589"/>
                </a:lnTo>
                <a:lnTo>
                  <a:pt x="948" y="571"/>
                </a:lnTo>
                <a:lnTo>
                  <a:pt x="933" y="554"/>
                </a:lnTo>
                <a:lnTo>
                  <a:pt x="956" y="554"/>
                </a:lnTo>
                <a:lnTo>
                  <a:pt x="979" y="530"/>
                </a:lnTo>
                <a:lnTo>
                  <a:pt x="970" y="518"/>
                </a:lnTo>
                <a:lnTo>
                  <a:pt x="937" y="515"/>
                </a:lnTo>
                <a:lnTo>
                  <a:pt x="914" y="489"/>
                </a:lnTo>
                <a:lnTo>
                  <a:pt x="875" y="431"/>
                </a:lnTo>
                <a:lnTo>
                  <a:pt x="854" y="424"/>
                </a:lnTo>
                <a:lnTo>
                  <a:pt x="808" y="344"/>
                </a:lnTo>
                <a:lnTo>
                  <a:pt x="746" y="311"/>
                </a:lnTo>
                <a:lnTo>
                  <a:pt x="702" y="256"/>
                </a:lnTo>
                <a:lnTo>
                  <a:pt x="594" y="186"/>
                </a:lnTo>
                <a:lnTo>
                  <a:pt x="538" y="125"/>
                </a:lnTo>
                <a:lnTo>
                  <a:pt x="420" y="61"/>
                </a:lnTo>
                <a:lnTo>
                  <a:pt x="457" y="0"/>
                </a:lnTo>
                <a:lnTo>
                  <a:pt x="235" y="20"/>
                </a:lnTo>
                <a:lnTo>
                  <a:pt x="0" y="4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0" name="Freeform 42"/>
          <p:cNvSpPr/>
          <p:nvPr/>
        </p:nvSpPr>
        <p:spPr>
          <a:xfrm>
            <a:off x="2444760" y="5315040"/>
            <a:ext cx="71280" cy="60120"/>
          </a:xfrm>
          <a:custGeom>
            <a:avLst/>
            <a:gdLst>
              <a:gd name="textAreaLeft" fmla="*/ 0 w 71280"/>
              <a:gd name="textAreaRight" fmla="*/ 71640 w 712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04" h="74">
                <a:moveTo>
                  <a:pt x="0" y="43"/>
                </a:moveTo>
                <a:lnTo>
                  <a:pt x="38" y="74"/>
                </a:lnTo>
                <a:lnTo>
                  <a:pt x="62" y="74"/>
                </a:lnTo>
                <a:lnTo>
                  <a:pt x="94" y="57"/>
                </a:lnTo>
                <a:lnTo>
                  <a:pt x="104" y="16"/>
                </a:lnTo>
                <a:lnTo>
                  <a:pt x="81" y="0"/>
                </a:lnTo>
                <a:lnTo>
                  <a:pt x="50" y="2"/>
                </a:lnTo>
                <a:lnTo>
                  <a:pt x="0" y="4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1" name="Freeform 43"/>
          <p:cNvSpPr/>
          <p:nvPr/>
        </p:nvSpPr>
        <p:spPr>
          <a:xfrm>
            <a:off x="2444760" y="5315040"/>
            <a:ext cx="71280" cy="60120"/>
          </a:xfrm>
          <a:custGeom>
            <a:avLst/>
            <a:gdLst>
              <a:gd name="textAreaLeft" fmla="*/ 0 w 71280"/>
              <a:gd name="textAreaRight" fmla="*/ 71640 w 712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04" h="74">
                <a:moveTo>
                  <a:pt x="0" y="43"/>
                </a:moveTo>
                <a:lnTo>
                  <a:pt x="38" y="74"/>
                </a:lnTo>
                <a:lnTo>
                  <a:pt x="62" y="74"/>
                </a:lnTo>
                <a:lnTo>
                  <a:pt x="94" y="57"/>
                </a:lnTo>
                <a:lnTo>
                  <a:pt x="104" y="16"/>
                </a:lnTo>
                <a:lnTo>
                  <a:pt x="81" y="0"/>
                </a:lnTo>
                <a:lnTo>
                  <a:pt x="50" y="2"/>
                </a:lnTo>
                <a:lnTo>
                  <a:pt x="0" y="4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2" name="Freeform 44"/>
          <p:cNvSpPr/>
          <p:nvPr/>
        </p:nvSpPr>
        <p:spPr>
          <a:xfrm>
            <a:off x="2665440" y="5400720"/>
            <a:ext cx="88920" cy="71280"/>
          </a:xfrm>
          <a:custGeom>
            <a:avLst/>
            <a:gdLst>
              <a:gd name="textAreaLeft" fmla="*/ 0 w 88920"/>
              <a:gd name="textAreaRight" fmla="*/ 89280 w 88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5" h="90">
                <a:moveTo>
                  <a:pt x="0" y="24"/>
                </a:moveTo>
                <a:lnTo>
                  <a:pt x="29" y="73"/>
                </a:lnTo>
                <a:lnTo>
                  <a:pt x="56" y="73"/>
                </a:lnTo>
                <a:lnTo>
                  <a:pt x="59" y="59"/>
                </a:lnTo>
                <a:lnTo>
                  <a:pt x="94" y="90"/>
                </a:lnTo>
                <a:lnTo>
                  <a:pt x="125" y="85"/>
                </a:lnTo>
                <a:lnTo>
                  <a:pt x="117" y="53"/>
                </a:lnTo>
                <a:lnTo>
                  <a:pt x="88" y="47"/>
                </a:lnTo>
                <a:lnTo>
                  <a:pt x="65" y="0"/>
                </a:lnTo>
                <a:lnTo>
                  <a:pt x="0" y="2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3" name="Freeform 45"/>
          <p:cNvSpPr/>
          <p:nvPr/>
        </p:nvSpPr>
        <p:spPr>
          <a:xfrm>
            <a:off x="2665440" y="5400720"/>
            <a:ext cx="88920" cy="71280"/>
          </a:xfrm>
          <a:custGeom>
            <a:avLst/>
            <a:gdLst>
              <a:gd name="textAreaLeft" fmla="*/ 0 w 88920"/>
              <a:gd name="textAreaRight" fmla="*/ 89280 w 88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5" h="90">
                <a:moveTo>
                  <a:pt x="0" y="24"/>
                </a:moveTo>
                <a:lnTo>
                  <a:pt x="29" y="73"/>
                </a:lnTo>
                <a:lnTo>
                  <a:pt x="56" y="73"/>
                </a:lnTo>
                <a:lnTo>
                  <a:pt x="59" y="59"/>
                </a:lnTo>
                <a:lnTo>
                  <a:pt x="94" y="90"/>
                </a:lnTo>
                <a:lnTo>
                  <a:pt x="125" y="85"/>
                </a:lnTo>
                <a:lnTo>
                  <a:pt x="117" y="53"/>
                </a:lnTo>
                <a:lnTo>
                  <a:pt x="88" y="47"/>
                </a:lnTo>
                <a:lnTo>
                  <a:pt x="65" y="0"/>
                </a:lnTo>
                <a:lnTo>
                  <a:pt x="0" y="24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4" name="Freeform 46"/>
          <p:cNvSpPr/>
          <p:nvPr/>
        </p:nvSpPr>
        <p:spPr>
          <a:xfrm>
            <a:off x="2803680" y="5473800"/>
            <a:ext cx="83880" cy="25200"/>
          </a:xfrm>
          <a:custGeom>
            <a:avLst/>
            <a:gdLst>
              <a:gd name="textAreaLeft" fmla="*/ 0 w 83880"/>
              <a:gd name="textAreaRight" fmla="*/ 84240 w 83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5" h="29">
                <a:moveTo>
                  <a:pt x="0" y="22"/>
                </a:moveTo>
                <a:lnTo>
                  <a:pt x="16" y="0"/>
                </a:lnTo>
                <a:lnTo>
                  <a:pt x="125" y="10"/>
                </a:lnTo>
                <a:lnTo>
                  <a:pt x="104" y="29"/>
                </a:lnTo>
                <a:lnTo>
                  <a:pt x="0" y="2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5" name="Freeform 47"/>
          <p:cNvSpPr/>
          <p:nvPr/>
        </p:nvSpPr>
        <p:spPr>
          <a:xfrm>
            <a:off x="2803680" y="5473800"/>
            <a:ext cx="83880" cy="25200"/>
          </a:xfrm>
          <a:custGeom>
            <a:avLst/>
            <a:gdLst>
              <a:gd name="textAreaLeft" fmla="*/ 0 w 83880"/>
              <a:gd name="textAreaRight" fmla="*/ 84240 w 83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5" h="29">
                <a:moveTo>
                  <a:pt x="0" y="22"/>
                </a:moveTo>
                <a:lnTo>
                  <a:pt x="16" y="0"/>
                </a:lnTo>
                <a:lnTo>
                  <a:pt x="125" y="10"/>
                </a:lnTo>
                <a:lnTo>
                  <a:pt x="104" y="29"/>
                </a:lnTo>
                <a:lnTo>
                  <a:pt x="0" y="2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6" name="Freeform 48"/>
          <p:cNvSpPr/>
          <p:nvPr/>
        </p:nvSpPr>
        <p:spPr>
          <a:xfrm>
            <a:off x="2843280" y="5521320"/>
            <a:ext cx="33120" cy="27000"/>
          </a:xfrm>
          <a:custGeom>
            <a:avLst/>
            <a:gdLst>
              <a:gd name="textAreaLeft" fmla="*/ 0 w 33120"/>
              <a:gd name="textAreaRight" fmla="*/ 33480 w 33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8" h="32">
                <a:moveTo>
                  <a:pt x="0" y="0"/>
                </a:moveTo>
                <a:lnTo>
                  <a:pt x="15" y="32"/>
                </a:lnTo>
                <a:lnTo>
                  <a:pt x="48" y="20"/>
                </a:lnTo>
                <a:lnTo>
                  <a:pt x="33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7" name="Freeform 49"/>
          <p:cNvSpPr/>
          <p:nvPr/>
        </p:nvSpPr>
        <p:spPr>
          <a:xfrm>
            <a:off x="2843280" y="5521320"/>
            <a:ext cx="33120" cy="27000"/>
          </a:xfrm>
          <a:custGeom>
            <a:avLst/>
            <a:gdLst>
              <a:gd name="textAreaLeft" fmla="*/ 0 w 33120"/>
              <a:gd name="textAreaRight" fmla="*/ 33480 w 33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8" h="32">
                <a:moveTo>
                  <a:pt x="0" y="0"/>
                </a:moveTo>
                <a:lnTo>
                  <a:pt x="15" y="32"/>
                </a:lnTo>
                <a:lnTo>
                  <a:pt x="48" y="20"/>
                </a:lnTo>
                <a:lnTo>
                  <a:pt x="33" y="0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8" name="Freeform 50"/>
          <p:cNvSpPr/>
          <p:nvPr/>
        </p:nvSpPr>
        <p:spPr>
          <a:xfrm>
            <a:off x="2894040" y="5500800"/>
            <a:ext cx="108000" cy="64800"/>
          </a:xfrm>
          <a:custGeom>
            <a:avLst/>
            <a:gdLst>
              <a:gd name="textAreaLeft" fmla="*/ 0 w 108000"/>
              <a:gd name="textAreaRight" fmla="*/ 108360 w 1080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58" h="82">
                <a:moveTo>
                  <a:pt x="0" y="21"/>
                </a:moveTo>
                <a:lnTo>
                  <a:pt x="21" y="0"/>
                </a:lnTo>
                <a:lnTo>
                  <a:pt x="45" y="21"/>
                </a:lnTo>
                <a:lnTo>
                  <a:pt x="97" y="17"/>
                </a:lnTo>
                <a:lnTo>
                  <a:pt x="158" y="55"/>
                </a:lnTo>
                <a:lnTo>
                  <a:pt x="135" y="69"/>
                </a:lnTo>
                <a:lnTo>
                  <a:pt x="64" y="82"/>
                </a:lnTo>
                <a:lnTo>
                  <a:pt x="48" y="46"/>
                </a:lnTo>
                <a:lnTo>
                  <a:pt x="21" y="46"/>
                </a:lnTo>
                <a:lnTo>
                  <a:pt x="0" y="2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9" name="Freeform 51"/>
          <p:cNvSpPr/>
          <p:nvPr/>
        </p:nvSpPr>
        <p:spPr>
          <a:xfrm>
            <a:off x="2894040" y="5500800"/>
            <a:ext cx="108000" cy="64800"/>
          </a:xfrm>
          <a:custGeom>
            <a:avLst/>
            <a:gdLst>
              <a:gd name="textAreaLeft" fmla="*/ 0 w 108000"/>
              <a:gd name="textAreaRight" fmla="*/ 108360 w 1080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58" h="82">
                <a:moveTo>
                  <a:pt x="0" y="21"/>
                </a:moveTo>
                <a:lnTo>
                  <a:pt x="21" y="0"/>
                </a:lnTo>
                <a:lnTo>
                  <a:pt x="45" y="21"/>
                </a:lnTo>
                <a:lnTo>
                  <a:pt x="97" y="17"/>
                </a:lnTo>
                <a:lnTo>
                  <a:pt x="158" y="55"/>
                </a:lnTo>
                <a:lnTo>
                  <a:pt x="135" y="69"/>
                </a:lnTo>
                <a:lnTo>
                  <a:pt x="64" y="82"/>
                </a:lnTo>
                <a:lnTo>
                  <a:pt x="48" y="46"/>
                </a:lnTo>
                <a:lnTo>
                  <a:pt x="21" y="46"/>
                </a:lnTo>
                <a:lnTo>
                  <a:pt x="0" y="2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0" name="Freeform 52"/>
          <p:cNvSpPr/>
          <p:nvPr/>
        </p:nvSpPr>
        <p:spPr>
          <a:xfrm>
            <a:off x="2989440" y="5619600"/>
            <a:ext cx="179280" cy="200160"/>
          </a:xfrm>
          <a:custGeom>
            <a:avLst/>
            <a:gdLst>
              <a:gd name="textAreaLeft" fmla="*/ 0 w 179280"/>
              <a:gd name="textAreaRight" fmla="*/ 179640 w 1792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62" h="254">
                <a:moveTo>
                  <a:pt x="0" y="98"/>
                </a:moveTo>
                <a:lnTo>
                  <a:pt x="35" y="170"/>
                </a:lnTo>
                <a:lnTo>
                  <a:pt x="29" y="226"/>
                </a:lnTo>
                <a:lnTo>
                  <a:pt x="83" y="254"/>
                </a:lnTo>
                <a:lnTo>
                  <a:pt x="115" y="211"/>
                </a:lnTo>
                <a:lnTo>
                  <a:pt x="227" y="171"/>
                </a:lnTo>
                <a:lnTo>
                  <a:pt x="262" y="139"/>
                </a:lnTo>
                <a:lnTo>
                  <a:pt x="171" y="48"/>
                </a:lnTo>
                <a:lnTo>
                  <a:pt x="40" y="0"/>
                </a:lnTo>
                <a:lnTo>
                  <a:pt x="29" y="14"/>
                </a:lnTo>
                <a:lnTo>
                  <a:pt x="44" y="52"/>
                </a:lnTo>
                <a:lnTo>
                  <a:pt x="0" y="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1" name="Freeform 53"/>
          <p:cNvSpPr/>
          <p:nvPr/>
        </p:nvSpPr>
        <p:spPr>
          <a:xfrm>
            <a:off x="2989440" y="5619600"/>
            <a:ext cx="179280" cy="200160"/>
          </a:xfrm>
          <a:custGeom>
            <a:avLst/>
            <a:gdLst>
              <a:gd name="textAreaLeft" fmla="*/ 0 w 179280"/>
              <a:gd name="textAreaRight" fmla="*/ 179640 w 1792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62" h="254">
                <a:moveTo>
                  <a:pt x="0" y="98"/>
                </a:moveTo>
                <a:lnTo>
                  <a:pt x="35" y="170"/>
                </a:lnTo>
                <a:lnTo>
                  <a:pt x="29" y="226"/>
                </a:lnTo>
                <a:lnTo>
                  <a:pt x="83" y="254"/>
                </a:lnTo>
                <a:lnTo>
                  <a:pt x="115" y="211"/>
                </a:lnTo>
                <a:lnTo>
                  <a:pt x="227" y="171"/>
                </a:lnTo>
                <a:lnTo>
                  <a:pt x="262" y="139"/>
                </a:lnTo>
                <a:lnTo>
                  <a:pt x="171" y="48"/>
                </a:lnTo>
                <a:lnTo>
                  <a:pt x="40" y="0"/>
                </a:lnTo>
                <a:lnTo>
                  <a:pt x="29" y="14"/>
                </a:lnTo>
                <a:lnTo>
                  <a:pt x="44" y="52"/>
                </a:lnTo>
                <a:lnTo>
                  <a:pt x="0" y="9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2" name="Freeform 54"/>
          <p:cNvSpPr/>
          <p:nvPr/>
        </p:nvSpPr>
        <p:spPr>
          <a:xfrm>
            <a:off x="1730520" y="2054160"/>
            <a:ext cx="744480" cy="1185840"/>
          </a:xfrm>
          <a:custGeom>
            <a:avLst/>
            <a:gdLst>
              <a:gd name="textAreaLeft" fmla="*/ 0 w 744480"/>
              <a:gd name="textAreaRight" fmla="*/ 744840 w 7444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077" h="1495">
                <a:moveTo>
                  <a:pt x="0" y="1329"/>
                </a:moveTo>
                <a:lnTo>
                  <a:pt x="87" y="1007"/>
                </a:lnTo>
                <a:lnTo>
                  <a:pt x="129" y="923"/>
                </a:lnTo>
                <a:lnTo>
                  <a:pt x="91" y="882"/>
                </a:lnTo>
                <a:lnTo>
                  <a:pt x="99" y="844"/>
                </a:lnTo>
                <a:lnTo>
                  <a:pt x="168" y="790"/>
                </a:lnTo>
                <a:lnTo>
                  <a:pt x="224" y="714"/>
                </a:lnTo>
                <a:lnTo>
                  <a:pt x="274" y="651"/>
                </a:lnTo>
                <a:lnTo>
                  <a:pt x="235" y="601"/>
                </a:lnTo>
                <a:lnTo>
                  <a:pt x="220" y="567"/>
                </a:lnTo>
                <a:lnTo>
                  <a:pt x="226" y="485"/>
                </a:lnTo>
                <a:lnTo>
                  <a:pt x="359" y="0"/>
                </a:lnTo>
                <a:lnTo>
                  <a:pt x="503" y="28"/>
                </a:lnTo>
                <a:lnTo>
                  <a:pt x="455" y="218"/>
                </a:lnTo>
                <a:lnTo>
                  <a:pt x="486" y="283"/>
                </a:lnTo>
                <a:lnTo>
                  <a:pt x="490" y="327"/>
                </a:lnTo>
                <a:lnTo>
                  <a:pt x="472" y="332"/>
                </a:lnTo>
                <a:lnTo>
                  <a:pt x="528" y="377"/>
                </a:lnTo>
                <a:lnTo>
                  <a:pt x="584" y="499"/>
                </a:lnTo>
                <a:lnTo>
                  <a:pt x="603" y="492"/>
                </a:lnTo>
                <a:lnTo>
                  <a:pt x="605" y="512"/>
                </a:lnTo>
                <a:lnTo>
                  <a:pt x="632" y="517"/>
                </a:lnTo>
                <a:lnTo>
                  <a:pt x="653" y="519"/>
                </a:lnTo>
                <a:lnTo>
                  <a:pt x="601" y="608"/>
                </a:lnTo>
                <a:lnTo>
                  <a:pt x="609" y="666"/>
                </a:lnTo>
                <a:lnTo>
                  <a:pt x="571" y="723"/>
                </a:lnTo>
                <a:lnTo>
                  <a:pt x="598" y="747"/>
                </a:lnTo>
                <a:lnTo>
                  <a:pt x="669" y="711"/>
                </a:lnTo>
                <a:lnTo>
                  <a:pt x="725" y="901"/>
                </a:lnTo>
                <a:lnTo>
                  <a:pt x="756" y="909"/>
                </a:lnTo>
                <a:lnTo>
                  <a:pt x="763" y="969"/>
                </a:lnTo>
                <a:lnTo>
                  <a:pt x="792" y="993"/>
                </a:lnTo>
                <a:lnTo>
                  <a:pt x="813" y="971"/>
                </a:lnTo>
                <a:lnTo>
                  <a:pt x="860" y="990"/>
                </a:lnTo>
                <a:lnTo>
                  <a:pt x="890" y="969"/>
                </a:lnTo>
                <a:lnTo>
                  <a:pt x="993" y="988"/>
                </a:lnTo>
                <a:lnTo>
                  <a:pt x="1014" y="992"/>
                </a:lnTo>
                <a:lnTo>
                  <a:pt x="1037" y="952"/>
                </a:lnTo>
                <a:lnTo>
                  <a:pt x="1077" y="1014"/>
                </a:lnTo>
                <a:lnTo>
                  <a:pt x="985" y="1495"/>
                </a:lnTo>
                <a:lnTo>
                  <a:pt x="490" y="1420"/>
                </a:lnTo>
                <a:lnTo>
                  <a:pt x="0" y="132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3" name="Freeform 55"/>
          <p:cNvSpPr/>
          <p:nvPr/>
        </p:nvSpPr>
        <p:spPr>
          <a:xfrm>
            <a:off x="1730520" y="2054160"/>
            <a:ext cx="744480" cy="1185840"/>
          </a:xfrm>
          <a:custGeom>
            <a:avLst/>
            <a:gdLst>
              <a:gd name="textAreaLeft" fmla="*/ 0 w 744480"/>
              <a:gd name="textAreaRight" fmla="*/ 744840 w 7444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077" h="1495">
                <a:moveTo>
                  <a:pt x="0" y="1329"/>
                </a:moveTo>
                <a:lnTo>
                  <a:pt x="87" y="1007"/>
                </a:lnTo>
                <a:lnTo>
                  <a:pt x="129" y="923"/>
                </a:lnTo>
                <a:lnTo>
                  <a:pt x="91" y="882"/>
                </a:lnTo>
                <a:lnTo>
                  <a:pt x="99" y="844"/>
                </a:lnTo>
                <a:lnTo>
                  <a:pt x="168" y="790"/>
                </a:lnTo>
                <a:lnTo>
                  <a:pt x="224" y="714"/>
                </a:lnTo>
                <a:lnTo>
                  <a:pt x="274" y="651"/>
                </a:lnTo>
                <a:lnTo>
                  <a:pt x="235" y="601"/>
                </a:lnTo>
                <a:lnTo>
                  <a:pt x="220" y="567"/>
                </a:lnTo>
                <a:lnTo>
                  <a:pt x="226" y="485"/>
                </a:lnTo>
                <a:lnTo>
                  <a:pt x="359" y="0"/>
                </a:lnTo>
                <a:lnTo>
                  <a:pt x="503" y="28"/>
                </a:lnTo>
                <a:lnTo>
                  <a:pt x="455" y="218"/>
                </a:lnTo>
                <a:lnTo>
                  <a:pt x="486" y="283"/>
                </a:lnTo>
                <a:lnTo>
                  <a:pt x="490" y="327"/>
                </a:lnTo>
                <a:lnTo>
                  <a:pt x="472" y="332"/>
                </a:lnTo>
                <a:lnTo>
                  <a:pt x="528" y="377"/>
                </a:lnTo>
                <a:lnTo>
                  <a:pt x="584" y="499"/>
                </a:lnTo>
                <a:lnTo>
                  <a:pt x="603" y="492"/>
                </a:lnTo>
                <a:lnTo>
                  <a:pt x="605" y="512"/>
                </a:lnTo>
                <a:lnTo>
                  <a:pt x="632" y="517"/>
                </a:lnTo>
                <a:lnTo>
                  <a:pt x="653" y="519"/>
                </a:lnTo>
                <a:lnTo>
                  <a:pt x="601" y="608"/>
                </a:lnTo>
                <a:lnTo>
                  <a:pt x="609" y="666"/>
                </a:lnTo>
                <a:lnTo>
                  <a:pt x="571" y="723"/>
                </a:lnTo>
                <a:lnTo>
                  <a:pt x="598" y="747"/>
                </a:lnTo>
                <a:lnTo>
                  <a:pt x="669" y="711"/>
                </a:lnTo>
                <a:lnTo>
                  <a:pt x="725" y="901"/>
                </a:lnTo>
                <a:lnTo>
                  <a:pt x="756" y="909"/>
                </a:lnTo>
                <a:lnTo>
                  <a:pt x="763" y="969"/>
                </a:lnTo>
                <a:lnTo>
                  <a:pt x="792" y="993"/>
                </a:lnTo>
                <a:lnTo>
                  <a:pt x="813" y="971"/>
                </a:lnTo>
                <a:lnTo>
                  <a:pt x="860" y="990"/>
                </a:lnTo>
                <a:lnTo>
                  <a:pt x="890" y="969"/>
                </a:lnTo>
                <a:lnTo>
                  <a:pt x="993" y="988"/>
                </a:lnTo>
                <a:lnTo>
                  <a:pt x="1014" y="992"/>
                </a:lnTo>
                <a:lnTo>
                  <a:pt x="1037" y="952"/>
                </a:lnTo>
                <a:lnTo>
                  <a:pt x="1077" y="1014"/>
                </a:lnTo>
                <a:lnTo>
                  <a:pt x="985" y="1495"/>
                </a:lnTo>
                <a:lnTo>
                  <a:pt x="490" y="1420"/>
                </a:lnTo>
                <a:lnTo>
                  <a:pt x="0" y="1329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4" name="Freeform 56"/>
          <p:cNvSpPr/>
          <p:nvPr/>
        </p:nvSpPr>
        <p:spPr>
          <a:xfrm>
            <a:off x="4681440" y="3270240"/>
            <a:ext cx="486000" cy="870120"/>
          </a:xfrm>
          <a:custGeom>
            <a:avLst/>
            <a:gdLst>
              <a:gd name="textAreaLeft" fmla="*/ 0 w 486000"/>
              <a:gd name="textAreaRight" fmla="*/ 486360 w 48600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709" h="1098">
                <a:moveTo>
                  <a:pt x="0" y="485"/>
                </a:moveTo>
                <a:lnTo>
                  <a:pt x="15" y="451"/>
                </a:lnTo>
                <a:lnTo>
                  <a:pt x="61" y="386"/>
                </a:lnTo>
                <a:lnTo>
                  <a:pt x="88" y="312"/>
                </a:lnTo>
                <a:lnTo>
                  <a:pt x="61" y="259"/>
                </a:lnTo>
                <a:lnTo>
                  <a:pt x="185" y="180"/>
                </a:lnTo>
                <a:lnTo>
                  <a:pt x="210" y="136"/>
                </a:lnTo>
                <a:lnTo>
                  <a:pt x="210" y="117"/>
                </a:lnTo>
                <a:lnTo>
                  <a:pt x="121" y="28"/>
                </a:lnTo>
                <a:lnTo>
                  <a:pt x="595" y="0"/>
                </a:lnTo>
                <a:lnTo>
                  <a:pt x="607" y="69"/>
                </a:lnTo>
                <a:lnTo>
                  <a:pt x="653" y="149"/>
                </a:lnTo>
                <a:lnTo>
                  <a:pt x="693" y="565"/>
                </a:lnTo>
                <a:lnTo>
                  <a:pt x="684" y="653"/>
                </a:lnTo>
                <a:lnTo>
                  <a:pt x="709" y="704"/>
                </a:lnTo>
                <a:lnTo>
                  <a:pt x="682" y="798"/>
                </a:lnTo>
                <a:lnTo>
                  <a:pt x="645" y="841"/>
                </a:lnTo>
                <a:lnTo>
                  <a:pt x="626" y="908"/>
                </a:lnTo>
                <a:lnTo>
                  <a:pt x="643" y="927"/>
                </a:lnTo>
                <a:lnTo>
                  <a:pt x="628" y="969"/>
                </a:lnTo>
                <a:lnTo>
                  <a:pt x="637" y="985"/>
                </a:lnTo>
                <a:lnTo>
                  <a:pt x="582" y="1005"/>
                </a:lnTo>
                <a:lnTo>
                  <a:pt x="570" y="1074"/>
                </a:lnTo>
                <a:lnTo>
                  <a:pt x="491" y="1048"/>
                </a:lnTo>
                <a:lnTo>
                  <a:pt x="447" y="1083"/>
                </a:lnTo>
                <a:lnTo>
                  <a:pt x="449" y="1098"/>
                </a:lnTo>
                <a:lnTo>
                  <a:pt x="422" y="1096"/>
                </a:lnTo>
                <a:lnTo>
                  <a:pt x="393" y="1048"/>
                </a:lnTo>
                <a:lnTo>
                  <a:pt x="379" y="985"/>
                </a:lnTo>
                <a:lnTo>
                  <a:pt x="348" y="946"/>
                </a:lnTo>
                <a:lnTo>
                  <a:pt x="300" y="927"/>
                </a:lnTo>
                <a:lnTo>
                  <a:pt x="242" y="886"/>
                </a:lnTo>
                <a:lnTo>
                  <a:pt x="221" y="833"/>
                </a:lnTo>
                <a:lnTo>
                  <a:pt x="254" y="747"/>
                </a:lnTo>
                <a:lnTo>
                  <a:pt x="225" y="728"/>
                </a:lnTo>
                <a:lnTo>
                  <a:pt x="156" y="730"/>
                </a:lnTo>
                <a:lnTo>
                  <a:pt x="144" y="677"/>
                </a:lnTo>
                <a:lnTo>
                  <a:pt x="29" y="572"/>
                </a:lnTo>
                <a:lnTo>
                  <a:pt x="0" y="48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5" name="Freeform 57"/>
          <p:cNvSpPr/>
          <p:nvPr/>
        </p:nvSpPr>
        <p:spPr>
          <a:xfrm>
            <a:off x="4681440" y="3270240"/>
            <a:ext cx="486000" cy="870120"/>
          </a:xfrm>
          <a:custGeom>
            <a:avLst/>
            <a:gdLst>
              <a:gd name="textAreaLeft" fmla="*/ 0 w 486000"/>
              <a:gd name="textAreaRight" fmla="*/ 486360 w 48600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709" h="1098">
                <a:moveTo>
                  <a:pt x="0" y="485"/>
                </a:moveTo>
                <a:lnTo>
                  <a:pt x="15" y="451"/>
                </a:lnTo>
                <a:lnTo>
                  <a:pt x="61" y="386"/>
                </a:lnTo>
                <a:lnTo>
                  <a:pt x="88" y="312"/>
                </a:lnTo>
                <a:lnTo>
                  <a:pt x="61" y="259"/>
                </a:lnTo>
                <a:lnTo>
                  <a:pt x="185" y="180"/>
                </a:lnTo>
                <a:lnTo>
                  <a:pt x="210" y="136"/>
                </a:lnTo>
                <a:lnTo>
                  <a:pt x="210" y="117"/>
                </a:lnTo>
                <a:lnTo>
                  <a:pt x="121" y="28"/>
                </a:lnTo>
                <a:lnTo>
                  <a:pt x="595" y="0"/>
                </a:lnTo>
                <a:lnTo>
                  <a:pt x="607" y="69"/>
                </a:lnTo>
                <a:lnTo>
                  <a:pt x="653" y="149"/>
                </a:lnTo>
                <a:lnTo>
                  <a:pt x="693" y="565"/>
                </a:lnTo>
                <a:lnTo>
                  <a:pt x="684" y="653"/>
                </a:lnTo>
                <a:lnTo>
                  <a:pt x="709" y="704"/>
                </a:lnTo>
                <a:lnTo>
                  <a:pt x="682" y="798"/>
                </a:lnTo>
                <a:lnTo>
                  <a:pt x="645" y="841"/>
                </a:lnTo>
                <a:lnTo>
                  <a:pt x="626" y="908"/>
                </a:lnTo>
                <a:lnTo>
                  <a:pt x="643" y="927"/>
                </a:lnTo>
                <a:lnTo>
                  <a:pt x="628" y="969"/>
                </a:lnTo>
                <a:lnTo>
                  <a:pt x="637" y="985"/>
                </a:lnTo>
                <a:lnTo>
                  <a:pt x="582" y="1005"/>
                </a:lnTo>
                <a:lnTo>
                  <a:pt x="570" y="1074"/>
                </a:lnTo>
                <a:lnTo>
                  <a:pt x="491" y="1048"/>
                </a:lnTo>
                <a:lnTo>
                  <a:pt x="447" y="1083"/>
                </a:lnTo>
                <a:lnTo>
                  <a:pt x="449" y="1098"/>
                </a:lnTo>
                <a:lnTo>
                  <a:pt x="422" y="1096"/>
                </a:lnTo>
                <a:lnTo>
                  <a:pt x="393" y="1048"/>
                </a:lnTo>
                <a:lnTo>
                  <a:pt x="379" y="985"/>
                </a:lnTo>
                <a:lnTo>
                  <a:pt x="348" y="946"/>
                </a:lnTo>
                <a:lnTo>
                  <a:pt x="300" y="927"/>
                </a:lnTo>
                <a:lnTo>
                  <a:pt x="242" y="886"/>
                </a:lnTo>
                <a:lnTo>
                  <a:pt x="221" y="833"/>
                </a:lnTo>
                <a:lnTo>
                  <a:pt x="254" y="747"/>
                </a:lnTo>
                <a:lnTo>
                  <a:pt x="225" y="728"/>
                </a:lnTo>
                <a:lnTo>
                  <a:pt x="156" y="730"/>
                </a:lnTo>
                <a:lnTo>
                  <a:pt x="144" y="677"/>
                </a:lnTo>
                <a:lnTo>
                  <a:pt x="29" y="572"/>
                </a:lnTo>
                <a:lnTo>
                  <a:pt x="0" y="485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6" name="Freeform 58"/>
          <p:cNvSpPr/>
          <p:nvPr/>
        </p:nvSpPr>
        <p:spPr>
          <a:xfrm>
            <a:off x="5111640" y="3351240"/>
            <a:ext cx="385920" cy="652320"/>
          </a:xfrm>
          <a:custGeom>
            <a:avLst/>
            <a:gdLst>
              <a:gd name="textAreaLeft" fmla="*/ 0 w 385920"/>
              <a:gd name="textAreaRight" fmla="*/ 386280 w 385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559" h="826">
                <a:moveTo>
                  <a:pt x="0" y="807"/>
                </a:moveTo>
                <a:lnTo>
                  <a:pt x="17" y="826"/>
                </a:lnTo>
                <a:lnTo>
                  <a:pt x="33" y="803"/>
                </a:lnTo>
                <a:lnTo>
                  <a:pt x="115" y="790"/>
                </a:lnTo>
                <a:lnTo>
                  <a:pt x="141" y="797"/>
                </a:lnTo>
                <a:lnTo>
                  <a:pt x="229" y="773"/>
                </a:lnTo>
                <a:lnTo>
                  <a:pt x="260" y="797"/>
                </a:lnTo>
                <a:lnTo>
                  <a:pt x="289" y="740"/>
                </a:lnTo>
                <a:lnTo>
                  <a:pt x="314" y="725"/>
                </a:lnTo>
                <a:lnTo>
                  <a:pt x="378" y="755"/>
                </a:lnTo>
                <a:lnTo>
                  <a:pt x="387" y="721"/>
                </a:lnTo>
                <a:lnTo>
                  <a:pt x="455" y="648"/>
                </a:lnTo>
                <a:lnTo>
                  <a:pt x="470" y="603"/>
                </a:lnTo>
                <a:lnTo>
                  <a:pt x="497" y="610"/>
                </a:lnTo>
                <a:lnTo>
                  <a:pt x="559" y="572"/>
                </a:lnTo>
                <a:lnTo>
                  <a:pt x="541" y="540"/>
                </a:lnTo>
                <a:lnTo>
                  <a:pt x="549" y="519"/>
                </a:lnTo>
                <a:lnTo>
                  <a:pt x="489" y="14"/>
                </a:lnTo>
                <a:lnTo>
                  <a:pt x="482" y="0"/>
                </a:lnTo>
                <a:lnTo>
                  <a:pt x="148" y="33"/>
                </a:lnTo>
                <a:lnTo>
                  <a:pt x="83" y="64"/>
                </a:lnTo>
                <a:lnTo>
                  <a:pt x="27" y="48"/>
                </a:lnTo>
                <a:lnTo>
                  <a:pt x="67" y="464"/>
                </a:lnTo>
                <a:lnTo>
                  <a:pt x="58" y="552"/>
                </a:lnTo>
                <a:lnTo>
                  <a:pt x="83" y="603"/>
                </a:lnTo>
                <a:lnTo>
                  <a:pt x="56" y="697"/>
                </a:lnTo>
                <a:lnTo>
                  <a:pt x="19" y="740"/>
                </a:lnTo>
                <a:lnTo>
                  <a:pt x="0" y="80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7" name="Freeform 59"/>
          <p:cNvSpPr/>
          <p:nvPr/>
        </p:nvSpPr>
        <p:spPr>
          <a:xfrm>
            <a:off x="5111640" y="3351240"/>
            <a:ext cx="385920" cy="652320"/>
          </a:xfrm>
          <a:custGeom>
            <a:avLst/>
            <a:gdLst>
              <a:gd name="textAreaLeft" fmla="*/ 0 w 385920"/>
              <a:gd name="textAreaRight" fmla="*/ 386280 w 385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559" h="826">
                <a:moveTo>
                  <a:pt x="0" y="807"/>
                </a:moveTo>
                <a:lnTo>
                  <a:pt x="17" y="826"/>
                </a:lnTo>
                <a:lnTo>
                  <a:pt x="33" y="803"/>
                </a:lnTo>
                <a:lnTo>
                  <a:pt x="115" y="790"/>
                </a:lnTo>
                <a:lnTo>
                  <a:pt x="141" y="797"/>
                </a:lnTo>
                <a:lnTo>
                  <a:pt x="229" y="773"/>
                </a:lnTo>
                <a:lnTo>
                  <a:pt x="260" y="797"/>
                </a:lnTo>
                <a:lnTo>
                  <a:pt x="289" y="740"/>
                </a:lnTo>
                <a:lnTo>
                  <a:pt x="314" y="725"/>
                </a:lnTo>
                <a:lnTo>
                  <a:pt x="378" y="755"/>
                </a:lnTo>
                <a:lnTo>
                  <a:pt x="387" y="721"/>
                </a:lnTo>
                <a:lnTo>
                  <a:pt x="455" y="648"/>
                </a:lnTo>
                <a:lnTo>
                  <a:pt x="470" y="603"/>
                </a:lnTo>
                <a:lnTo>
                  <a:pt x="497" y="610"/>
                </a:lnTo>
                <a:lnTo>
                  <a:pt x="559" y="572"/>
                </a:lnTo>
                <a:lnTo>
                  <a:pt x="541" y="540"/>
                </a:lnTo>
                <a:lnTo>
                  <a:pt x="549" y="519"/>
                </a:lnTo>
                <a:lnTo>
                  <a:pt x="489" y="14"/>
                </a:lnTo>
                <a:lnTo>
                  <a:pt x="482" y="0"/>
                </a:lnTo>
                <a:lnTo>
                  <a:pt x="148" y="33"/>
                </a:lnTo>
                <a:lnTo>
                  <a:pt x="83" y="64"/>
                </a:lnTo>
                <a:lnTo>
                  <a:pt x="27" y="48"/>
                </a:lnTo>
                <a:lnTo>
                  <a:pt x="67" y="464"/>
                </a:lnTo>
                <a:lnTo>
                  <a:pt x="58" y="552"/>
                </a:lnTo>
                <a:lnTo>
                  <a:pt x="83" y="603"/>
                </a:lnTo>
                <a:lnTo>
                  <a:pt x="56" y="697"/>
                </a:lnTo>
                <a:lnTo>
                  <a:pt x="19" y="740"/>
                </a:lnTo>
                <a:lnTo>
                  <a:pt x="0" y="807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8" name="Freeform 60"/>
          <p:cNvSpPr/>
          <p:nvPr/>
        </p:nvSpPr>
        <p:spPr>
          <a:xfrm>
            <a:off x="4083120" y="3141720"/>
            <a:ext cx="744480" cy="484200"/>
          </a:xfrm>
          <a:custGeom>
            <a:avLst/>
            <a:gdLst>
              <a:gd name="textAreaLeft" fmla="*/ 0 w 744480"/>
              <a:gd name="textAreaRight" fmla="*/ 744840 w 7444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75" h="613">
                <a:moveTo>
                  <a:pt x="0" y="12"/>
                </a:moveTo>
                <a:lnTo>
                  <a:pt x="2" y="58"/>
                </a:lnTo>
                <a:lnTo>
                  <a:pt x="21" y="96"/>
                </a:lnTo>
                <a:lnTo>
                  <a:pt x="9" y="130"/>
                </a:lnTo>
                <a:lnTo>
                  <a:pt x="19" y="214"/>
                </a:lnTo>
                <a:lnTo>
                  <a:pt x="73" y="334"/>
                </a:lnTo>
                <a:lnTo>
                  <a:pt x="73" y="373"/>
                </a:lnTo>
                <a:lnTo>
                  <a:pt x="106" y="429"/>
                </a:lnTo>
                <a:lnTo>
                  <a:pt x="121" y="522"/>
                </a:lnTo>
                <a:lnTo>
                  <a:pt x="113" y="549"/>
                </a:lnTo>
                <a:lnTo>
                  <a:pt x="133" y="582"/>
                </a:lnTo>
                <a:lnTo>
                  <a:pt x="826" y="568"/>
                </a:lnTo>
                <a:lnTo>
                  <a:pt x="880" y="613"/>
                </a:lnTo>
                <a:lnTo>
                  <a:pt x="926" y="548"/>
                </a:lnTo>
                <a:lnTo>
                  <a:pt x="953" y="474"/>
                </a:lnTo>
                <a:lnTo>
                  <a:pt x="926" y="421"/>
                </a:lnTo>
                <a:lnTo>
                  <a:pt x="1050" y="342"/>
                </a:lnTo>
                <a:lnTo>
                  <a:pt x="1075" y="298"/>
                </a:lnTo>
                <a:lnTo>
                  <a:pt x="1075" y="279"/>
                </a:lnTo>
                <a:lnTo>
                  <a:pt x="986" y="190"/>
                </a:lnTo>
                <a:lnTo>
                  <a:pt x="897" y="99"/>
                </a:lnTo>
                <a:lnTo>
                  <a:pt x="880" y="0"/>
                </a:lnTo>
                <a:lnTo>
                  <a:pt x="25" y="13"/>
                </a:lnTo>
                <a:lnTo>
                  <a:pt x="0" y="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9" name="Freeform 61"/>
          <p:cNvSpPr/>
          <p:nvPr/>
        </p:nvSpPr>
        <p:spPr>
          <a:xfrm>
            <a:off x="4083120" y="3141720"/>
            <a:ext cx="744480" cy="484200"/>
          </a:xfrm>
          <a:custGeom>
            <a:avLst/>
            <a:gdLst>
              <a:gd name="textAreaLeft" fmla="*/ 0 w 744480"/>
              <a:gd name="textAreaRight" fmla="*/ 744840 w 7444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75" h="613">
                <a:moveTo>
                  <a:pt x="0" y="12"/>
                </a:moveTo>
                <a:lnTo>
                  <a:pt x="2" y="58"/>
                </a:lnTo>
                <a:lnTo>
                  <a:pt x="21" y="96"/>
                </a:lnTo>
                <a:lnTo>
                  <a:pt x="9" y="130"/>
                </a:lnTo>
                <a:lnTo>
                  <a:pt x="19" y="214"/>
                </a:lnTo>
                <a:lnTo>
                  <a:pt x="73" y="334"/>
                </a:lnTo>
                <a:lnTo>
                  <a:pt x="73" y="373"/>
                </a:lnTo>
                <a:lnTo>
                  <a:pt x="106" y="429"/>
                </a:lnTo>
                <a:lnTo>
                  <a:pt x="121" y="522"/>
                </a:lnTo>
                <a:lnTo>
                  <a:pt x="113" y="549"/>
                </a:lnTo>
                <a:lnTo>
                  <a:pt x="133" y="582"/>
                </a:lnTo>
                <a:lnTo>
                  <a:pt x="826" y="568"/>
                </a:lnTo>
                <a:lnTo>
                  <a:pt x="880" y="613"/>
                </a:lnTo>
                <a:lnTo>
                  <a:pt x="926" y="548"/>
                </a:lnTo>
                <a:lnTo>
                  <a:pt x="953" y="474"/>
                </a:lnTo>
                <a:lnTo>
                  <a:pt x="926" y="421"/>
                </a:lnTo>
                <a:lnTo>
                  <a:pt x="1050" y="342"/>
                </a:lnTo>
                <a:lnTo>
                  <a:pt x="1075" y="298"/>
                </a:lnTo>
                <a:lnTo>
                  <a:pt x="1075" y="279"/>
                </a:lnTo>
                <a:lnTo>
                  <a:pt x="986" y="190"/>
                </a:lnTo>
                <a:lnTo>
                  <a:pt x="897" y="99"/>
                </a:lnTo>
                <a:lnTo>
                  <a:pt x="880" y="0"/>
                </a:lnTo>
                <a:lnTo>
                  <a:pt x="25" y="13"/>
                </a:lnTo>
                <a:lnTo>
                  <a:pt x="0" y="1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0" name="Freeform 62"/>
          <p:cNvSpPr/>
          <p:nvPr/>
        </p:nvSpPr>
        <p:spPr>
          <a:xfrm>
            <a:off x="3392640" y="3670200"/>
            <a:ext cx="925200" cy="493920"/>
          </a:xfrm>
          <a:custGeom>
            <a:avLst/>
            <a:gdLst>
              <a:gd name="textAreaLeft" fmla="*/ 0 w 925200"/>
              <a:gd name="textAreaRight" fmla="*/ 925560 w 92520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341" h="622">
                <a:moveTo>
                  <a:pt x="0" y="589"/>
                </a:moveTo>
                <a:lnTo>
                  <a:pt x="46" y="0"/>
                </a:lnTo>
                <a:lnTo>
                  <a:pt x="545" y="23"/>
                </a:lnTo>
                <a:lnTo>
                  <a:pt x="1208" y="30"/>
                </a:lnTo>
                <a:lnTo>
                  <a:pt x="1242" y="57"/>
                </a:lnTo>
                <a:lnTo>
                  <a:pt x="1266" y="52"/>
                </a:lnTo>
                <a:lnTo>
                  <a:pt x="1285" y="67"/>
                </a:lnTo>
                <a:lnTo>
                  <a:pt x="1287" y="81"/>
                </a:lnTo>
                <a:lnTo>
                  <a:pt x="1269" y="81"/>
                </a:lnTo>
                <a:lnTo>
                  <a:pt x="1246" y="124"/>
                </a:lnTo>
                <a:lnTo>
                  <a:pt x="1298" y="189"/>
                </a:lnTo>
                <a:lnTo>
                  <a:pt x="1341" y="199"/>
                </a:lnTo>
                <a:lnTo>
                  <a:pt x="1333" y="619"/>
                </a:lnTo>
                <a:lnTo>
                  <a:pt x="765" y="622"/>
                </a:lnTo>
                <a:lnTo>
                  <a:pt x="0" y="5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1" name="Freeform 63"/>
          <p:cNvSpPr/>
          <p:nvPr/>
        </p:nvSpPr>
        <p:spPr>
          <a:xfrm>
            <a:off x="3392640" y="3670200"/>
            <a:ext cx="925200" cy="493920"/>
          </a:xfrm>
          <a:custGeom>
            <a:avLst/>
            <a:gdLst>
              <a:gd name="textAreaLeft" fmla="*/ 0 w 925200"/>
              <a:gd name="textAreaRight" fmla="*/ 925560 w 92520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341" h="622">
                <a:moveTo>
                  <a:pt x="0" y="589"/>
                </a:moveTo>
                <a:lnTo>
                  <a:pt x="46" y="0"/>
                </a:lnTo>
                <a:lnTo>
                  <a:pt x="545" y="23"/>
                </a:lnTo>
                <a:lnTo>
                  <a:pt x="1208" y="30"/>
                </a:lnTo>
                <a:lnTo>
                  <a:pt x="1242" y="57"/>
                </a:lnTo>
                <a:lnTo>
                  <a:pt x="1266" y="52"/>
                </a:lnTo>
                <a:lnTo>
                  <a:pt x="1285" y="67"/>
                </a:lnTo>
                <a:lnTo>
                  <a:pt x="1287" y="81"/>
                </a:lnTo>
                <a:lnTo>
                  <a:pt x="1269" y="81"/>
                </a:lnTo>
                <a:lnTo>
                  <a:pt x="1246" y="124"/>
                </a:lnTo>
                <a:lnTo>
                  <a:pt x="1298" y="189"/>
                </a:lnTo>
                <a:lnTo>
                  <a:pt x="1341" y="199"/>
                </a:lnTo>
                <a:lnTo>
                  <a:pt x="1333" y="619"/>
                </a:lnTo>
                <a:lnTo>
                  <a:pt x="765" y="622"/>
                </a:lnTo>
                <a:lnTo>
                  <a:pt x="0" y="58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2" name="Freeform 64"/>
          <p:cNvSpPr/>
          <p:nvPr/>
        </p:nvSpPr>
        <p:spPr>
          <a:xfrm>
            <a:off x="4967280" y="3760920"/>
            <a:ext cx="903240" cy="457200"/>
          </a:xfrm>
          <a:custGeom>
            <a:avLst/>
            <a:gdLst>
              <a:gd name="textAreaLeft" fmla="*/ 0 w 903240"/>
              <a:gd name="textAreaRight" fmla="*/ 903600 w 903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306" h="576">
                <a:moveTo>
                  <a:pt x="0" y="576"/>
                </a:moveTo>
                <a:lnTo>
                  <a:pt x="11" y="548"/>
                </a:lnTo>
                <a:lnTo>
                  <a:pt x="38" y="545"/>
                </a:lnTo>
                <a:lnTo>
                  <a:pt x="48" y="483"/>
                </a:lnTo>
                <a:lnTo>
                  <a:pt x="31" y="478"/>
                </a:lnTo>
                <a:lnTo>
                  <a:pt x="29" y="463"/>
                </a:lnTo>
                <a:lnTo>
                  <a:pt x="73" y="428"/>
                </a:lnTo>
                <a:lnTo>
                  <a:pt x="152" y="454"/>
                </a:lnTo>
                <a:lnTo>
                  <a:pt x="164" y="385"/>
                </a:lnTo>
                <a:lnTo>
                  <a:pt x="219" y="365"/>
                </a:lnTo>
                <a:lnTo>
                  <a:pt x="210" y="349"/>
                </a:lnTo>
                <a:lnTo>
                  <a:pt x="225" y="307"/>
                </a:lnTo>
                <a:lnTo>
                  <a:pt x="241" y="284"/>
                </a:lnTo>
                <a:lnTo>
                  <a:pt x="323" y="271"/>
                </a:lnTo>
                <a:lnTo>
                  <a:pt x="349" y="278"/>
                </a:lnTo>
                <a:lnTo>
                  <a:pt x="437" y="254"/>
                </a:lnTo>
                <a:lnTo>
                  <a:pt x="468" y="278"/>
                </a:lnTo>
                <a:lnTo>
                  <a:pt x="497" y="221"/>
                </a:lnTo>
                <a:lnTo>
                  <a:pt x="522" y="206"/>
                </a:lnTo>
                <a:lnTo>
                  <a:pt x="586" y="236"/>
                </a:lnTo>
                <a:lnTo>
                  <a:pt x="595" y="202"/>
                </a:lnTo>
                <a:lnTo>
                  <a:pt x="663" y="129"/>
                </a:lnTo>
                <a:lnTo>
                  <a:pt x="678" y="84"/>
                </a:lnTo>
                <a:lnTo>
                  <a:pt x="705" y="91"/>
                </a:lnTo>
                <a:lnTo>
                  <a:pt x="767" y="53"/>
                </a:lnTo>
                <a:lnTo>
                  <a:pt x="749" y="21"/>
                </a:lnTo>
                <a:lnTo>
                  <a:pt x="757" y="0"/>
                </a:lnTo>
                <a:lnTo>
                  <a:pt x="815" y="0"/>
                </a:lnTo>
                <a:lnTo>
                  <a:pt x="851" y="10"/>
                </a:lnTo>
                <a:lnTo>
                  <a:pt x="869" y="46"/>
                </a:lnTo>
                <a:lnTo>
                  <a:pt x="930" y="55"/>
                </a:lnTo>
                <a:lnTo>
                  <a:pt x="963" y="70"/>
                </a:lnTo>
                <a:lnTo>
                  <a:pt x="1046" y="67"/>
                </a:lnTo>
                <a:lnTo>
                  <a:pt x="1083" y="46"/>
                </a:lnTo>
                <a:lnTo>
                  <a:pt x="1171" y="94"/>
                </a:lnTo>
                <a:lnTo>
                  <a:pt x="1204" y="190"/>
                </a:lnTo>
                <a:lnTo>
                  <a:pt x="1239" y="223"/>
                </a:lnTo>
                <a:lnTo>
                  <a:pt x="1306" y="257"/>
                </a:lnTo>
                <a:lnTo>
                  <a:pt x="1258" y="307"/>
                </a:lnTo>
                <a:lnTo>
                  <a:pt x="1212" y="334"/>
                </a:lnTo>
                <a:lnTo>
                  <a:pt x="1165" y="384"/>
                </a:lnTo>
                <a:lnTo>
                  <a:pt x="1165" y="399"/>
                </a:lnTo>
                <a:lnTo>
                  <a:pt x="1034" y="473"/>
                </a:lnTo>
                <a:lnTo>
                  <a:pt x="314" y="531"/>
                </a:lnTo>
                <a:lnTo>
                  <a:pt x="241" y="528"/>
                </a:lnTo>
                <a:lnTo>
                  <a:pt x="241" y="562"/>
                </a:lnTo>
                <a:lnTo>
                  <a:pt x="0" y="5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3" name="Freeform 65"/>
          <p:cNvSpPr/>
          <p:nvPr/>
        </p:nvSpPr>
        <p:spPr>
          <a:xfrm>
            <a:off x="4967280" y="3760920"/>
            <a:ext cx="903240" cy="457200"/>
          </a:xfrm>
          <a:custGeom>
            <a:avLst/>
            <a:gdLst>
              <a:gd name="textAreaLeft" fmla="*/ 0 w 903240"/>
              <a:gd name="textAreaRight" fmla="*/ 903600 w 903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306" h="576">
                <a:moveTo>
                  <a:pt x="0" y="576"/>
                </a:moveTo>
                <a:lnTo>
                  <a:pt x="11" y="548"/>
                </a:lnTo>
                <a:lnTo>
                  <a:pt x="38" y="545"/>
                </a:lnTo>
                <a:lnTo>
                  <a:pt x="48" y="483"/>
                </a:lnTo>
                <a:lnTo>
                  <a:pt x="31" y="478"/>
                </a:lnTo>
                <a:lnTo>
                  <a:pt x="29" y="463"/>
                </a:lnTo>
                <a:lnTo>
                  <a:pt x="73" y="428"/>
                </a:lnTo>
                <a:lnTo>
                  <a:pt x="152" y="454"/>
                </a:lnTo>
                <a:lnTo>
                  <a:pt x="164" y="385"/>
                </a:lnTo>
                <a:lnTo>
                  <a:pt x="219" y="365"/>
                </a:lnTo>
                <a:lnTo>
                  <a:pt x="210" y="349"/>
                </a:lnTo>
                <a:lnTo>
                  <a:pt x="225" y="307"/>
                </a:lnTo>
                <a:lnTo>
                  <a:pt x="241" y="284"/>
                </a:lnTo>
                <a:lnTo>
                  <a:pt x="323" y="271"/>
                </a:lnTo>
                <a:lnTo>
                  <a:pt x="349" y="278"/>
                </a:lnTo>
                <a:lnTo>
                  <a:pt x="437" y="254"/>
                </a:lnTo>
                <a:lnTo>
                  <a:pt x="468" y="278"/>
                </a:lnTo>
                <a:lnTo>
                  <a:pt x="497" y="221"/>
                </a:lnTo>
                <a:lnTo>
                  <a:pt x="522" y="206"/>
                </a:lnTo>
                <a:lnTo>
                  <a:pt x="586" y="236"/>
                </a:lnTo>
                <a:lnTo>
                  <a:pt x="595" y="202"/>
                </a:lnTo>
                <a:lnTo>
                  <a:pt x="663" y="129"/>
                </a:lnTo>
                <a:lnTo>
                  <a:pt x="678" y="84"/>
                </a:lnTo>
                <a:lnTo>
                  <a:pt x="705" y="91"/>
                </a:lnTo>
                <a:lnTo>
                  <a:pt x="767" y="53"/>
                </a:lnTo>
                <a:lnTo>
                  <a:pt x="749" y="21"/>
                </a:lnTo>
                <a:lnTo>
                  <a:pt x="757" y="0"/>
                </a:lnTo>
                <a:lnTo>
                  <a:pt x="815" y="0"/>
                </a:lnTo>
                <a:lnTo>
                  <a:pt x="851" y="10"/>
                </a:lnTo>
                <a:lnTo>
                  <a:pt x="869" y="46"/>
                </a:lnTo>
                <a:lnTo>
                  <a:pt x="930" y="55"/>
                </a:lnTo>
                <a:lnTo>
                  <a:pt x="963" y="70"/>
                </a:lnTo>
                <a:lnTo>
                  <a:pt x="1046" y="67"/>
                </a:lnTo>
                <a:lnTo>
                  <a:pt x="1083" y="46"/>
                </a:lnTo>
                <a:lnTo>
                  <a:pt x="1171" y="94"/>
                </a:lnTo>
                <a:lnTo>
                  <a:pt x="1204" y="190"/>
                </a:lnTo>
                <a:lnTo>
                  <a:pt x="1239" y="223"/>
                </a:lnTo>
                <a:lnTo>
                  <a:pt x="1306" y="257"/>
                </a:lnTo>
                <a:lnTo>
                  <a:pt x="1258" y="307"/>
                </a:lnTo>
                <a:lnTo>
                  <a:pt x="1212" y="334"/>
                </a:lnTo>
                <a:lnTo>
                  <a:pt x="1165" y="384"/>
                </a:lnTo>
                <a:lnTo>
                  <a:pt x="1165" y="399"/>
                </a:lnTo>
                <a:lnTo>
                  <a:pt x="1034" y="473"/>
                </a:lnTo>
                <a:lnTo>
                  <a:pt x="314" y="531"/>
                </a:lnTo>
                <a:lnTo>
                  <a:pt x="241" y="528"/>
                </a:lnTo>
                <a:lnTo>
                  <a:pt x="241" y="562"/>
                </a:lnTo>
                <a:lnTo>
                  <a:pt x="0" y="57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4" name="Freeform 66"/>
          <p:cNvSpPr/>
          <p:nvPr/>
        </p:nvSpPr>
        <p:spPr>
          <a:xfrm>
            <a:off x="4397400" y="4775040"/>
            <a:ext cx="693720" cy="611280"/>
          </a:xfrm>
          <a:custGeom>
            <a:avLst/>
            <a:gdLst>
              <a:gd name="textAreaLeft" fmla="*/ 0 w 693720"/>
              <a:gd name="textAreaRight" fmla="*/ 694080 w 6937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1010" h="769">
                <a:moveTo>
                  <a:pt x="0" y="7"/>
                </a:moveTo>
                <a:lnTo>
                  <a:pt x="12" y="212"/>
                </a:lnTo>
                <a:lnTo>
                  <a:pt x="39" y="238"/>
                </a:lnTo>
                <a:lnTo>
                  <a:pt x="49" y="289"/>
                </a:lnTo>
                <a:lnTo>
                  <a:pt x="104" y="363"/>
                </a:lnTo>
                <a:lnTo>
                  <a:pt x="101" y="425"/>
                </a:lnTo>
                <a:lnTo>
                  <a:pt x="70" y="484"/>
                </a:lnTo>
                <a:lnTo>
                  <a:pt x="72" y="519"/>
                </a:lnTo>
                <a:lnTo>
                  <a:pt x="81" y="550"/>
                </a:lnTo>
                <a:lnTo>
                  <a:pt x="77" y="584"/>
                </a:lnTo>
                <a:lnTo>
                  <a:pt x="58" y="606"/>
                </a:lnTo>
                <a:lnTo>
                  <a:pt x="35" y="633"/>
                </a:lnTo>
                <a:lnTo>
                  <a:pt x="50" y="649"/>
                </a:lnTo>
                <a:lnTo>
                  <a:pt x="187" y="633"/>
                </a:lnTo>
                <a:lnTo>
                  <a:pt x="295" y="675"/>
                </a:lnTo>
                <a:lnTo>
                  <a:pt x="401" y="668"/>
                </a:lnTo>
                <a:lnTo>
                  <a:pt x="390" y="642"/>
                </a:lnTo>
                <a:lnTo>
                  <a:pt x="422" y="620"/>
                </a:lnTo>
                <a:lnTo>
                  <a:pt x="496" y="633"/>
                </a:lnTo>
                <a:lnTo>
                  <a:pt x="507" y="678"/>
                </a:lnTo>
                <a:lnTo>
                  <a:pt x="528" y="671"/>
                </a:lnTo>
                <a:lnTo>
                  <a:pt x="559" y="681"/>
                </a:lnTo>
                <a:lnTo>
                  <a:pt x="588" y="709"/>
                </a:lnTo>
                <a:lnTo>
                  <a:pt x="596" y="734"/>
                </a:lnTo>
                <a:lnTo>
                  <a:pt x="627" y="740"/>
                </a:lnTo>
                <a:lnTo>
                  <a:pt x="657" y="755"/>
                </a:lnTo>
                <a:lnTo>
                  <a:pt x="682" y="748"/>
                </a:lnTo>
                <a:lnTo>
                  <a:pt x="706" y="726"/>
                </a:lnTo>
                <a:lnTo>
                  <a:pt x="702" y="709"/>
                </a:lnTo>
                <a:lnTo>
                  <a:pt x="733" y="733"/>
                </a:lnTo>
                <a:lnTo>
                  <a:pt x="748" y="712"/>
                </a:lnTo>
                <a:lnTo>
                  <a:pt x="771" y="752"/>
                </a:lnTo>
                <a:lnTo>
                  <a:pt x="802" y="733"/>
                </a:lnTo>
                <a:lnTo>
                  <a:pt x="815" y="721"/>
                </a:lnTo>
                <a:lnTo>
                  <a:pt x="802" y="709"/>
                </a:lnTo>
                <a:lnTo>
                  <a:pt x="806" y="675"/>
                </a:lnTo>
                <a:lnTo>
                  <a:pt x="815" y="675"/>
                </a:lnTo>
                <a:lnTo>
                  <a:pt x="842" y="678"/>
                </a:lnTo>
                <a:lnTo>
                  <a:pt x="850" y="702"/>
                </a:lnTo>
                <a:lnTo>
                  <a:pt x="883" y="700"/>
                </a:lnTo>
                <a:lnTo>
                  <a:pt x="912" y="716"/>
                </a:lnTo>
                <a:lnTo>
                  <a:pt x="916" y="712"/>
                </a:lnTo>
                <a:lnTo>
                  <a:pt x="927" y="729"/>
                </a:lnTo>
                <a:lnTo>
                  <a:pt x="950" y="741"/>
                </a:lnTo>
                <a:lnTo>
                  <a:pt x="939" y="769"/>
                </a:lnTo>
                <a:lnTo>
                  <a:pt x="966" y="741"/>
                </a:lnTo>
                <a:lnTo>
                  <a:pt x="987" y="758"/>
                </a:lnTo>
                <a:lnTo>
                  <a:pt x="987" y="740"/>
                </a:lnTo>
                <a:lnTo>
                  <a:pt x="1010" y="733"/>
                </a:lnTo>
                <a:lnTo>
                  <a:pt x="1010" y="719"/>
                </a:lnTo>
                <a:lnTo>
                  <a:pt x="985" y="716"/>
                </a:lnTo>
                <a:lnTo>
                  <a:pt x="970" y="702"/>
                </a:lnTo>
                <a:lnTo>
                  <a:pt x="946" y="704"/>
                </a:lnTo>
                <a:lnTo>
                  <a:pt x="937" y="683"/>
                </a:lnTo>
                <a:lnTo>
                  <a:pt x="912" y="683"/>
                </a:lnTo>
                <a:lnTo>
                  <a:pt x="889" y="645"/>
                </a:lnTo>
                <a:lnTo>
                  <a:pt x="902" y="637"/>
                </a:lnTo>
                <a:lnTo>
                  <a:pt x="923" y="627"/>
                </a:lnTo>
                <a:lnTo>
                  <a:pt x="927" y="606"/>
                </a:lnTo>
                <a:lnTo>
                  <a:pt x="944" y="604"/>
                </a:lnTo>
                <a:lnTo>
                  <a:pt x="970" y="582"/>
                </a:lnTo>
                <a:lnTo>
                  <a:pt x="962" y="574"/>
                </a:lnTo>
                <a:lnTo>
                  <a:pt x="962" y="534"/>
                </a:lnTo>
                <a:lnTo>
                  <a:pt x="933" y="555"/>
                </a:lnTo>
                <a:lnTo>
                  <a:pt x="904" y="560"/>
                </a:lnTo>
                <a:lnTo>
                  <a:pt x="879" y="592"/>
                </a:lnTo>
                <a:lnTo>
                  <a:pt x="837" y="574"/>
                </a:lnTo>
                <a:lnTo>
                  <a:pt x="842" y="562"/>
                </a:lnTo>
                <a:lnTo>
                  <a:pt x="862" y="555"/>
                </a:lnTo>
                <a:lnTo>
                  <a:pt x="862" y="562"/>
                </a:lnTo>
                <a:lnTo>
                  <a:pt x="873" y="541"/>
                </a:lnTo>
                <a:lnTo>
                  <a:pt x="858" y="548"/>
                </a:lnTo>
                <a:lnTo>
                  <a:pt x="850" y="539"/>
                </a:lnTo>
                <a:lnTo>
                  <a:pt x="846" y="550"/>
                </a:lnTo>
                <a:lnTo>
                  <a:pt x="827" y="541"/>
                </a:lnTo>
                <a:lnTo>
                  <a:pt x="810" y="562"/>
                </a:lnTo>
                <a:lnTo>
                  <a:pt x="779" y="567"/>
                </a:lnTo>
                <a:lnTo>
                  <a:pt x="721" y="555"/>
                </a:lnTo>
                <a:lnTo>
                  <a:pt x="719" y="543"/>
                </a:lnTo>
                <a:lnTo>
                  <a:pt x="754" y="500"/>
                </a:lnTo>
                <a:lnTo>
                  <a:pt x="785" y="502"/>
                </a:lnTo>
                <a:lnTo>
                  <a:pt x="808" y="519"/>
                </a:lnTo>
                <a:lnTo>
                  <a:pt x="894" y="534"/>
                </a:lnTo>
                <a:lnTo>
                  <a:pt x="831" y="442"/>
                </a:lnTo>
                <a:lnTo>
                  <a:pt x="842" y="377"/>
                </a:lnTo>
                <a:lnTo>
                  <a:pt x="478" y="387"/>
                </a:lnTo>
                <a:lnTo>
                  <a:pt x="480" y="353"/>
                </a:lnTo>
                <a:lnTo>
                  <a:pt x="523" y="243"/>
                </a:lnTo>
                <a:lnTo>
                  <a:pt x="584" y="173"/>
                </a:lnTo>
                <a:lnTo>
                  <a:pt x="565" y="151"/>
                </a:lnTo>
                <a:lnTo>
                  <a:pt x="573" y="80"/>
                </a:lnTo>
                <a:lnTo>
                  <a:pt x="540" y="0"/>
                </a:lnTo>
                <a:lnTo>
                  <a:pt x="0" y="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5" name="Freeform 67"/>
          <p:cNvSpPr/>
          <p:nvPr/>
        </p:nvSpPr>
        <p:spPr>
          <a:xfrm>
            <a:off x="4397400" y="4775040"/>
            <a:ext cx="693720" cy="611280"/>
          </a:xfrm>
          <a:custGeom>
            <a:avLst/>
            <a:gdLst>
              <a:gd name="textAreaLeft" fmla="*/ 0 w 693720"/>
              <a:gd name="textAreaRight" fmla="*/ 694080 w 6937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1010" h="769">
                <a:moveTo>
                  <a:pt x="0" y="7"/>
                </a:moveTo>
                <a:lnTo>
                  <a:pt x="12" y="212"/>
                </a:lnTo>
                <a:lnTo>
                  <a:pt x="39" y="238"/>
                </a:lnTo>
                <a:lnTo>
                  <a:pt x="49" y="289"/>
                </a:lnTo>
                <a:lnTo>
                  <a:pt x="104" y="363"/>
                </a:lnTo>
                <a:lnTo>
                  <a:pt x="101" y="425"/>
                </a:lnTo>
                <a:lnTo>
                  <a:pt x="70" y="484"/>
                </a:lnTo>
                <a:lnTo>
                  <a:pt x="72" y="519"/>
                </a:lnTo>
                <a:lnTo>
                  <a:pt x="81" y="550"/>
                </a:lnTo>
                <a:lnTo>
                  <a:pt x="77" y="584"/>
                </a:lnTo>
                <a:lnTo>
                  <a:pt x="58" y="606"/>
                </a:lnTo>
                <a:lnTo>
                  <a:pt x="35" y="633"/>
                </a:lnTo>
                <a:lnTo>
                  <a:pt x="50" y="649"/>
                </a:lnTo>
                <a:lnTo>
                  <a:pt x="187" y="633"/>
                </a:lnTo>
                <a:lnTo>
                  <a:pt x="295" y="675"/>
                </a:lnTo>
                <a:lnTo>
                  <a:pt x="401" y="668"/>
                </a:lnTo>
                <a:lnTo>
                  <a:pt x="390" y="642"/>
                </a:lnTo>
                <a:lnTo>
                  <a:pt x="422" y="620"/>
                </a:lnTo>
                <a:lnTo>
                  <a:pt x="496" y="633"/>
                </a:lnTo>
                <a:lnTo>
                  <a:pt x="507" y="678"/>
                </a:lnTo>
                <a:lnTo>
                  <a:pt x="528" y="671"/>
                </a:lnTo>
                <a:lnTo>
                  <a:pt x="559" y="681"/>
                </a:lnTo>
                <a:lnTo>
                  <a:pt x="588" y="709"/>
                </a:lnTo>
                <a:lnTo>
                  <a:pt x="596" y="734"/>
                </a:lnTo>
                <a:lnTo>
                  <a:pt x="627" y="740"/>
                </a:lnTo>
                <a:lnTo>
                  <a:pt x="657" y="755"/>
                </a:lnTo>
                <a:lnTo>
                  <a:pt x="682" y="748"/>
                </a:lnTo>
                <a:lnTo>
                  <a:pt x="706" y="726"/>
                </a:lnTo>
                <a:lnTo>
                  <a:pt x="702" y="709"/>
                </a:lnTo>
                <a:lnTo>
                  <a:pt x="733" y="733"/>
                </a:lnTo>
                <a:lnTo>
                  <a:pt x="748" y="712"/>
                </a:lnTo>
                <a:lnTo>
                  <a:pt x="771" y="752"/>
                </a:lnTo>
                <a:lnTo>
                  <a:pt x="802" y="733"/>
                </a:lnTo>
                <a:lnTo>
                  <a:pt x="815" y="721"/>
                </a:lnTo>
                <a:lnTo>
                  <a:pt x="802" y="709"/>
                </a:lnTo>
                <a:lnTo>
                  <a:pt x="806" y="675"/>
                </a:lnTo>
                <a:lnTo>
                  <a:pt x="815" y="675"/>
                </a:lnTo>
                <a:lnTo>
                  <a:pt x="842" y="678"/>
                </a:lnTo>
                <a:lnTo>
                  <a:pt x="850" y="702"/>
                </a:lnTo>
                <a:lnTo>
                  <a:pt x="883" y="700"/>
                </a:lnTo>
                <a:lnTo>
                  <a:pt x="912" y="716"/>
                </a:lnTo>
                <a:lnTo>
                  <a:pt x="916" y="712"/>
                </a:lnTo>
                <a:lnTo>
                  <a:pt x="927" y="729"/>
                </a:lnTo>
                <a:lnTo>
                  <a:pt x="950" y="741"/>
                </a:lnTo>
                <a:lnTo>
                  <a:pt x="939" y="769"/>
                </a:lnTo>
                <a:lnTo>
                  <a:pt x="966" y="741"/>
                </a:lnTo>
                <a:lnTo>
                  <a:pt x="987" y="758"/>
                </a:lnTo>
                <a:lnTo>
                  <a:pt x="987" y="740"/>
                </a:lnTo>
                <a:lnTo>
                  <a:pt x="1010" y="733"/>
                </a:lnTo>
                <a:lnTo>
                  <a:pt x="1010" y="719"/>
                </a:lnTo>
                <a:lnTo>
                  <a:pt x="985" y="716"/>
                </a:lnTo>
                <a:lnTo>
                  <a:pt x="970" y="702"/>
                </a:lnTo>
                <a:lnTo>
                  <a:pt x="946" y="704"/>
                </a:lnTo>
                <a:lnTo>
                  <a:pt x="937" y="683"/>
                </a:lnTo>
                <a:lnTo>
                  <a:pt x="912" y="683"/>
                </a:lnTo>
                <a:lnTo>
                  <a:pt x="889" y="645"/>
                </a:lnTo>
                <a:lnTo>
                  <a:pt x="902" y="637"/>
                </a:lnTo>
                <a:lnTo>
                  <a:pt x="923" y="627"/>
                </a:lnTo>
                <a:lnTo>
                  <a:pt x="927" y="606"/>
                </a:lnTo>
                <a:lnTo>
                  <a:pt x="944" y="604"/>
                </a:lnTo>
                <a:lnTo>
                  <a:pt x="970" y="582"/>
                </a:lnTo>
                <a:lnTo>
                  <a:pt x="962" y="574"/>
                </a:lnTo>
                <a:lnTo>
                  <a:pt x="962" y="534"/>
                </a:lnTo>
                <a:lnTo>
                  <a:pt x="933" y="555"/>
                </a:lnTo>
                <a:lnTo>
                  <a:pt x="904" y="560"/>
                </a:lnTo>
                <a:lnTo>
                  <a:pt x="879" y="592"/>
                </a:lnTo>
                <a:lnTo>
                  <a:pt x="837" y="574"/>
                </a:lnTo>
                <a:lnTo>
                  <a:pt x="842" y="562"/>
                </a:lnTo>
                <a:lnTo>
                  <a:pt x="862" y="555"/>
                </a:lnTo>
                <a:lnTo>
                  <a:pt x="862" y="562"/>
                </a:lnTo>
                <a:lnTo>
                  <a:pt x="873" y="541"/>
                </a:lnTo>
                <a:lnTo>
                  <a:pt x="858" y="548"/>
                </a:lnTo>
                <a:lnTo>
                  <a:pt x="850" y="539"/>
                </a:lnTo>
                <a:lnTo>
                  <a:pt x="846" y="550"/>
                </a:lnTo>
                <a:lnTo>
                  <a:pt x="827" y="541"/>
                </a:lnTo>
                <a:lnTo>
                  <a:pt x="810" y="562"/>
                </a:lnTo>
                <a:lnTo>
                  <a:pt x="779" y="567"/>
                </a:lnTo>
                <a:lnTo>
                  <a:pt x="721" y="555"/>
                </a:lnTo>
                <a:lnTo>
                  <a:pt x="719" y="543"/>
                </a:lnTo>
                <a:lnTo>
                  <a:pt x="754" y="500"/>
                </a:lnTo>
                <a:lnTo>
                  <a:pt x="785" y="502"/>
                </a:lnTo>
                <a:lnTo>
                  <a:pt x="808" y="519"/>
                </a:lnTo>
                <a:lnTo>
                  <a:pt x="894" y="534"/>
                </a:lnTo>
                <a:lnTo>
                  <a:pt x="831" y="442"/>
                </a:lnTo>
                <a:lnTo>
                  <a:pt x="842" y="377"/>
                </a:lnTo>
                <a:lnTo>
                  <a:pt x="478" y="387"/>
                </a:lnTo>
                <a:lnTo>
                  <a:pt x="480" y="353"/>
                </a:lnTo>
                <a:lnTo>
                  <a:pt x="523" y="243"/>
                </a:lnTo>
                <a:lnTo>
                  <a:pt x="584" y="173"/>
                </a:lnTo>
                <a:lnTo>
                  <a:pt x="565" y="151"/>
                </a:lnTo>
                <a:lnTo>
                  <a:pt x="573" y="80"/>
                </a:lnTo>
                <a:lnTo>
                  <a:pt x="540" y="0"/>
                </a:lnTo>
                <a:lnTo>
                  <a:pt x="0" y="7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6" name="Freeform 68"/>
          <p:cNvSpPr/>
          <p:nvPr/>
        </p:nvSpPr>
        <p:spPr>
          <a:xfrm>
            <a:off x="6873840" y="2143080"/>
            <a:ext cx="452520" cy="709560"/>
          </a:xfrm>
          <a:custGeom>
            <a:avLst/>
            <a:gdLst>
              <a:gd name="textAreaLeft" fmla="*/ 0 w 452520"/>
              <a:gd name="textAreaRight" fmla="*/ 452880 w 452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659" h="897">
                <a:moveTo>
                  <a:pt x="0" y="488"/>
                </a:moveTo>
                <a:lnTo>
                  <a:pt x="38" y="489"/>
                </a:lnTo>
                <a:lnTo>
                  <a:pt x="42" y="433"/>
                </a:lnTo>
                <a:lnTo>
                  <a:pt x="88" y="351"/>
                </a:lnTo>
                <a:lnTo>
                  <a:pt x="67" y="294"/>
                </a:lnTo>
                <a:lnTo>
                  <a:pt x="86" y="217"/>
                </a:lnTo>
                <a:lnTo>
                  <a:pt x="85" y="186"/>
                </a:lnTo>
                <a:lnTo>
                  <a:pt x="160" y="15"/>
                </a:lnTo>
                <a:lnTo>
                  <a:pt x="181" y="15"/>
                </a:lnTo>
                <a:lnTo>
                  <a:pt x="191" y="49"/>
                </a:lnTo>
                <a:lnTo>
                  <a:pt x="283" y="18"/>
                </a:lnTo>
                <a:lnTo>
                  <a:pt x="285" y="8"/>
                </a:lnTo>
                <a:lnTo>
                  <a:pt x="312" y="0"/>
                </a:lnTo>
                <a:lnTo>
                  <a:pt x="362" y="20"/>
                </a:lnTo>
                <a:lnTo>
                  <a:pt x="401" y="49"/>
                </a:lnTo>
                <a:lnTo>
                  <a:pt x="483" y="297"/>
                </a:lnTo>
                <a:lnTo>
                  <a:pt x="541" y="299"/>
                </a:lnTo>
                <a:lnTo>
                  <a:pt x="551" y="313"/>
                </a:lnTo>
                <a:lnTo>
                  <a:pt x="543" y="320"/>
                </a:lnTo>
                <a:lnTo>
                  <a:pt x="587" y="380"/>
                </a:lnTo>
                <a:lnTo>
                  <a:pt x="595" y="366"/>
                </a:lnTo>
                <a:lnTo>
                  <a:pt x="643" y="404"/>
                </a:lnTo>
                <a:lnTo>
                  <a:pt x="624" y="414"/>
                </a:lnTo>
                <a:lnTo>
                  <a:pt x="628" y="422"/>
                </a:lnTo>
                <a:lnTo>
                  <a:pt x="659" y="422"/>
                </a:lnTo>
                <a:lnTo>
                  <a:pt x="638" y="470"/>
                </a:lnTo>
                <a:lnTo>
                  <a:pt x="609" y="464"/>
                </a:lnTo>
                <a:lnTo>
                  <a:pt x="587" y="482"/>
                </a:lnTo>
                <a:lnTo>
                  <a:pt x="589" y="501"/>
                </a:lnTo>
                <a:lnTo>
                  <a:pt x="568" y="515"/>
                </a:lnTo>
                <a:lnTo>
                  <a:pt x="547" y="506"/>
                </a:lnTo>
                <a:lnTo>
                  <a:pt x="549" y="539"/>
                </a:lnTo>
                <a:lnTo>
                  <a:pt x="530" y="527"/>
                </a:lnTo>
                <a:lnTo>
                  <a:pt x="524" y="561"/>
                </a:lnTo>
                <a:lnTo>
                  <a:pt x="495" y="532"/>
                </a:lnTo>
                <a:lnTo>
                  <a:pt x="470" y="559"/>
                </a:lnTo>
                <a:lnTo>
                  <a:pt x="443" y="570"/>
                </a:lnTo>
                <a:lnTo>
                  <a:pt x="437" y="599"/>
                </a:lnTo>
                <a:lnTo>
                  <a:pt x="408" y="590"/>
                </a:lnTo>
                <a:lnTo>
                  <a:pt x="420" y="570"/>
                </a:lnTo>
                <a:lnTo>
                  <a:pt x="401" y="546"/>
                </a:lnTo>
                <a:lnTo>
                  <a:pt x="377" y="580"/>
                </a:lnTo>
                <a:lnTo>
                  <a:pt x="387" y="654"/>
                </a:lnTo>
                <a:lnTo>
                  <a:pt x="374" y="671"/>
                </a:lnTo>
                <a:lnTo>
                  <a:pt x="352" y="674"/>
                </a:lnTo>
                <a:lnTo>
                  <a:pt x="339" y="671"/>
                </a:lnTo>
                <a:lnTo>
                  <a:pt x="316" y="712"/>
                </a:lnTo>
                <a:lnTo>
                  <a:pt x="285" y="712"/>
                </a:lnTo>
                <a:lnTo>
                  <a:pt x="291" y="748"/>
                </a:lnTo>
                <a:lnTo>
                  <a:pt x="271" y="720"/>
                </a:lnTo>
                <a:lnTo>
                  <a:pt x="229" y="749"/>
                </a:lnTo>
                <a:lnTo>
                  <a:pt x="221" y="773"/>
                </a:lnTo>
                <a:lnTo>
                  <a:pt x="237" y="789"/>
                </a:lnTo>
                <a:lnTo>
                  <a:pt x="216" y="797"/>
                </a:lnTo>
                <a:lnTo>
                  <a:pt x="221" y="823"/>
                </a:lnTo>
                <a:lnTo>
                  <a:pt x="202" y="842"/>
                </a:lnTo>
                <a:lnTo>
                  <a:pt x="198" y="897"/>
                </a:lnTo>
                <a:lnTo>
                  <a:pt x="183" y="897"/>
                </a:lnTo>
                <a:lnTo>
                  <a:pt x="123" y="825"/>
                </a:lnTo>
                <a:lnTo>
                  <a:pt x="0" y="4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7" name="Freeform 69"/>
          <p:cNvSpPr/>
          <p:nvPr/>
        </p:nvSpPr>
        <p:spPr>
          <a:xfrm>
            <a:off x="6873840" y="2143080"/>
            <a:ext cx="452520" cy="709560"/>
          </a:xfrm>
          <a:custGeom>
            <a:avLst/>
            <a:gdLst>
              <a:gd name="textAreaLeft" fmla="*/ 0 w 452520"/>
              <a:gd name="textAreaRight" fmla="*/ 452880 w 452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659" h="897">
                <a:moveTo>
                  <a:pt x="0" y="488"/>
                </a:moveTo>
                <a:lnTo>
                  <a:pt x="38" y="489"/>
                </a:lnTo>
                <a:lnTo>
                  <a:pt x="42" y="433"/>
                </a:lnTo>
                <a:lnTo>
                  <a:pt x="88" y="351"/>
                </a:lnTo>
                <a:lnTo>
                  <a:pt x="67" y="294"/>
                </a:lnTo>
                <a:lnTo>
                  <a:pt x="86" y="217"/>
                </a:lnTo>
                <a:lnTo>
                  <a:pt x="85" y="186"/>
                </a:lnTo>
                <a:lnTo>
                  <a:pt x="160" y="15"/>
                </a:lnTo>
                <a:lnTo>
                  <a:pt x="181" y="15"/>
                </a:lnTo>
                <a:lnTo>
                  <a:pt x="191" y="49"/>
                </a:lnTo>
                <a:lnTo>
                  <a:pt x="283" y="18"/>
                </a:lnTo>
                <a:lnTo>
                  <a:pt x="285" y="8"/>
                </a:lnTo>
                <a:lnTo>
                  <a:pt x="312" y="0"/>
                </a:lnTo>
                <a:lnTo>
                  <a:pt x="362" y="20"/>
                </a:lnTo>
                <a:lnTo>
                  <a:pt x="401" y="49"/>
                </a:lnTo>
                <a:lnTo>
                  <a:pt x="483" y="297"/>
                </a:lnTo>
                <a:lnTo>
                  <a:pt x="541" y="299"/>
                </a:lnTo>
                <a:lnTo>
                  <a:pt x="551" y="313"/>
                </a:lnTo>
                <a:lnTo>
                  <a:pt x="543" y="320"/>
                </a:lnTo>
                <a:lnTo>
                  <a:pt x="587" y="380"/>
                </a:lnTo>
                <a:lnTo>
                  <a:pt x="595" y="366"/>
                </a:lnTo>
                <a:lnTo>
                  <a:pt x="643" y="404"/>
                </a:lnTo>
                <a:lnTo>
                  <a:pt x="624" y="414"/>
                </a:lnTo>
                <a:lnTo>
                  <a:pt x="628" y="422"/>
                </a:lnTo>
                <a:lnTo>
                  <a:pt x="659" y="422"/>
                </a:lnTo>
                <a:lnTo>
                  <a:pt x="638" y="470"/>
                </a:lnTo>
                <a:lnTo>
                  <a:pt x="609" y="464"/>
                </a:lnTo>
                <a:lnTo>
                  <a:pt x="587" y="482"/>
                </a:lnTo>
                <a:lnTo>
                  <a:pt x="589" y="501"/>
                </a:lnTo>
                <a:lnTo>
                  <a:pt x="568" y="515"/>
                </a:lnTo>
                <a:lnTo>
                  <a:pt x="547" y="506"/>
                </a:lnTo>
                <a:lnTo>
                  <a:pt x="549" y="539"/>
                </a:lnTo>
                <a:lnTo>
                  <a:pt x="530" y="527"/>
                </a:lnTo>
                <a:lnTo>
                  <a:pt x="524" y="561"/>
                </a:lnTo>
                <a:lnTo>
                  <a:pt x="495" y="532"/>
                </a:lnTo>
                <a:lnTo>
                  <a:pt x="470" y="559"/>
                </a:lnTo>
                <a:lnTo>
                  <a:pt x="443" y="570"/>
                </a:lnTo>
                <a:lnTo>
                  <a:pt x="437" y="599"/>
                </a:lnTo>
                <a:lnTo>
                  <a:pt x="408" y="590"/>
                </a:lnTo>
                <a:lnTo>
                  <a:pt x="420" y="570"/>
                </a:lnTo>
                <a:lnTo>
                  <a:pt x="401" y="546"/>
                </a:lnTo>
                <a:lnTo>
                  <a:pt x="377" y="580"/>
                </a:lnTo>
                <a:lnTo>
                  <a:pt x="387" y="654"/>
                </a:lnTo>
                <a:lnTo>
                  <a:pt x="374" y="671"/>
                </a:lnTo>
                <a:lnTo>
                  <a:pt x="352" y="674"/>
                </a:lnTo>
                <a:lnTo>
                  <a:pt x="339" y="671"/>
                </a:lnTo>
                <a:lnTo>
                  <a:pt x="316" y="712"/>
                </a:lnTo>
                <a:lnTo>
                  <a:pt x="285" y="712"/>
                </a:lnTo>
                <a:lnTo>
                  <a:pt x="291" y="748"/>
                </a:lnTo>
                <a:lnTo>
                  <a:pt x="271" y="720"/>
                </a:lnTo>
                <a:lnTo>
                  <a:pt x="229" y="749"/>
                </a:lnTo>
                <a:lnTo>
                  <a:pt x="221" y="773"/>
                </a:lnTo>
                <a:lnTo>
                  <a:pt x="237" y="789"/>
                </a:lnTo>
                <a:lnTo>
                  <a:pt x="216" y="797"/>
                </a:lnTo>
                <a:lnTo>
                  <a:pt x="221" y="823"/>
                </a:lnTo>
                <a:lnTo>
                  <a:pt x="202" y="842"/>
                </a:lnTo>
                <a:lnTo>
                  <a:pt x="198" y="897"/>
                </a:lnTo>
                <a:lnTo>
                  <a:pt x="183" y="897"/>
                </a:lnTo>
                <a:lnTo>
                  <a:pt x="123" y="825"/>
                </a:lnTo>
                <a:lnTo>
                  <a:pt x="0" y="48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8" name="Freeform 70"/>
          <p:cNvSpPr/>
          <p:nvPr/>
        </p:nvSpPr>
        <p:spPr>
          <a:xfrm>
            <a:off x="6113520" y="3498840"/>
            <a:ext cx="561960" cy="277920"/>
          </a:xfrm>
          <a:custGeom>
            <a:avLst/>
            <a:gdLst>
              <a:gd name="textAreaLeft" fmla="*/ 0 w 561960"/>
              <a:gd name="textAreaRight" fmla="*/ 562320 w 5619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817" h="351">
                <a:moveTo>
                  <a:pt x="0" y="104"/>
                </a:moveTo>
                <a:lnTo>
                  <a:pt x="21" y="204"/>
                </a:lnTo>
                <a:lnTo>
                  <a:pt x="81" y="142"/>
                </a:lnTo>
                <a:lnTo>
                  <a:pt x="181" y="118"/>
                </a:lnTo>
                <a:lnTo>
                  <a:pt x="196" y="91"/>
                </a:lnTo>
                <a:lnTo>
                  <a:pt x="250" y="87"/>
                </a:lnTo>
                <a:lnTo>
                  <a:pt x="296" y="104"/>
                </a:lnTo>
                <a:lnTo>
                  <a:pt x="321" y="134"/>
                </a:lnTo>
                <a:lnTo>
                  <a:pt x="368" y="144"/>
                </a:lnTo>
                <a:lnTo>
                  <a:pt x="395" y="176"/>
                </a:lnTo>
                <a:lnTo>
                  <a:pt x="437" y="192"/>
                </a:lnTo>
                <a:lnTo>
                  <a:pt x="456" y="183"/>
                </a:lnTo>
                <a:lnTo>
                  <a:pt x="466" y="202"/>
                </a:lnTo>
                <a:lnTo>
                  <a:pt x="458" y="217"/>
                </a:lnTo>
                <a:lnTo>
                  <a:pt x="454" y="238"/>
                </a:lnTo>
                <a:lnTo>
                  <a:pt x="426" y="283"/>
                </a:lnTo>
                <a:lnTo>
                  <a:pt x="437" y="312"/>
                </a:lnTo>
                <a:lnTo>
                  <a:pt x="474" y="298"/>
                </a:lnTo>
                <a:lnTo>
                  <a:pt x="474" y="284"/>
                </a:lnTo>
                <a:lnTo>
                  <a:pt x="501" y="312"/>
                </a:lnTo>
                <a:lnTo>
                  <a:pt x="508" y="298"/>
                </a:lnTo>
                <a:lnTo>
                  <a:pt x="528" y="322"/>
                </a:lnTo>
                <a:lnTo>
                  <a:pt x="535" y="312"/>
                </a:lnTo>
                <a:lnTo>
                  <a:pt x="570" y="322"/>
                </a:lnTo>
                <a:lnTo>
                  <a:pt x="585" y="317"/>
                </a:lnTo>
                <a:lnTo>
                  <a:pt x="616" y="341"/>
                </a:lnTo>
                <a:lnTo>
                  <a:pt x="593" y="301"/>
                </a:lnTo>
                <a:lnTo>
                  <a:pt x="535" y="267"/>
                </a:lnTo>
                <a:lnTo>
                  <a:pt x="589" y="291"/>
                </a:lnTo>
                <a:lnTo>
                  <a:pt x="557" y="253"/>
                </a:lnTo>
                <a:lnTo>
                  <a:pt x="547" y="219"/>
                </a:lnTo>
                <a:lnTo>
                  <a:pt x="553" y="142"/>
                </a:lnTo>
                <a:lnTo>
                  <a:pt x="520" y="125"/>
                </a:lnTo>
                <a:lnTo>
                  <a:pt x="585" y="74"/>
                </a:lnTo>
                <a:lnTo>
                  <a:pt x="589" y="41"/>
                </a:lnTo>
                <a:lnTo>
                  <a:pt x="626" y="45"/>
                </a:lnTo>
                <a:lnTo>
                  <a:pt x="618" y="74"/>
                </a:lnTo>
                <a:lnTo>
                  <a:pt x="591" y="84"/>
                </a:lnTo>
                <a:lnTo>
                  <a:pt x="578" y="113"/>
                </a:lnTo>
                <a:lnTo>
                  <a:pt x="585" y="140"/>
                </a:lnTo>
                <a:lnTo>
                  <a:pt x="603" y="130"/>
                </a:lnTo>
                <a:lnTo>
                  <a:pt x="595" y="163"/>
                </a:lnTo>
                <a:lnTo>
                  <a:pt x="603" y="176"/>
                </a:lnTo>
                <a:lnTo>
                  <a:pt x="607" y="194"/>
                </a:lnTo>
                <a:lnTo>
                  <a:pt x="589" y="185"/>
                </a:lnTo>
                <a:lnTo>
                  <a:pt x="582" y="209"/>
                </a:lnTo>
                <a:lnTo>
                  <a:pt x="622" y="204"/>
                </a:lnTo>
                <a:lnTo>
                  <a:pt x="618" y="219"/>
                </a:lnTo>
                <a:lnTo>
                  <a:pt x="639" y="233"/>
                </a:lnTo>
                <a:lnTo>
                  <a:pt x="603" y="231"/>
                </a:lnTo>
                <a:lnTo>
                  <a:pt x="614" y="277"/>
                </a:lnTo>
                <a:lnTo>
                  <a:pt x="653" y="296"/>
                </a:lnTo>
                <a:lnTo>
                  <a:pt x="676" y="272"/>
                </a:lnTo>
                <a:lnTo>
                  <a:pt x="680" y="312"/>
                </a:lnTo>
                <a:lnTo>
                  <a:pt x="707" y="305"/>
                </a:lnTo>
                <a:lnTo>
                  <a:pt x="691" y="322"/>
                </a:lnTo>
                <a:lnTo>
                  <a:pt x="711" y="322"/>
                </a:lnTo>
                <a:lnTo>
                  <a:pt x="697" y="342"/>
                </a:lnTo>
                <a:lnTo>
                  <a:pt x="703" y="351"/>
                </a:lnTo>
                <a:lnTo>
                  <a:pt x="741" y="334"/>
                </a:lnTo>
                <a:lnTo>
                  <a:pt x="786" y="313"/>
                </a:lnTo>
                <a:lnTo>
                  <a:pt x="801" y="269"/>
                </a:lnTo>
                <a:lnTo>
                  <a:pt x="805" y="296"/>
                </a:lnTo>
                <a:lnTo>
                  <a:pt x="801" y="312"/>
                </a:lnTo>
                <a:lnTo>
                  <a:pt x="790" y="332"/>
                </a:lnTo>
                <a:lnTo>
                  <a:pt x="794" y="348"/>
                </a:lnTo>
                <a:lnTo>
                  <a:pt x="811" y="310"/>
                </a:lnTo>
                <a:lnTo>
                  <a:pt x="817" y="223"/>
                </a:lnTo>
                <a:lnTo>
                  <a:pt x="768" y="233"/>
                </a:lnTo>
                <a:lnTo>
                  <a:pt x="703" y="241"/>
                </a:lnTo>
                <a:lnTo>
                  <a:pt x="699" y="224"/>
                </a:lnTo>
                <a:lnTo>
                  <a:pt x="62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9" name="Freeform 71"/>
          <p:cNvSpPr/>
          <p:nvPr/>
        </p:nvSpPr>
        <p:spPr>
          <a:xfrm>
            <a:off x="6113520" y="3498840"/>
            <a:ext cx="561960" cy="277920"/>
          </a:xfrm>
          <a:custGeom>
            <a:avLst/>
            <a:gdLst>
              <a:gd name="textAreaLeft" fmla="*/ 0 w 561960"/>
              <a:gd name="textAreaRight" fmla="*/ 562320 w 5619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817" h="351">
                <a:moveTo>
                  <a:pt x="0" y="104"/>
                </a:moveTo>
                <a:lnTo>
                  <a:pt x="21" y="204"/>
                </a:lnTo>
                <a:lnTo>
                  <a:pt x="81" y="142"/>
                </a:lnTo>
                <a:lnTo>
                  <a:pt x="181" y="118"/>
                </a:lnTo>
                <a:lnTo>
                  <a:pt x="196" y="91"/>
                </a:lnTo>
                <a:lnTo>
                  <a:pt x="250" y="87"/>
                </a:lnTo>
                <a:lnTo>
                  <a:pt x="296" y="104"/>
                </a:lnTo>
                <a:lnTo>
                  <a:pt x="321" y="134"/>
                </a:lnTo>
                <a:lnTo>
                  <a:pt x="368" y="144"/>
                </a:lnTo>
                <a:lnTo>
                  <a:pt x="395" y="176"/>
                </a:lnTo>
                <a:lnTo>
                  <a:pt x="437" y="192"/>
                </a:lnTo>
                <a:lnTo>
                  <a:pt x="456" y="183"/>
                </a:lnTo>
                <a:lnTo>
                  <a:pt x="466" y="202"/>
                </a:lnTo>
                <a:lnTo>
                  <a:pt x="458" y="217"/>
                </a:lnTo>
                <a:lnTo>
                  <a:pt x="454" y="238"/>
                </a:lnTo>
                <a:lnTo>
                  <a:pt x="426" y="283"/>
                </a:lnTo>
                <a:lnTo>
                  <a:pt x="437" y="312"/>
                </a:lnTo>
                <a:lnTo>
                  <a:pt x="474" y="298"/>
                </a:lnTo>
                <a:lnTo>
                  <a:pt x="474" y="284"/>
                </a:lnTo>
                <a:lnTo>
                  <a:pt x="501" y="312"/>
                </a:lnTo>
                <a:lnTo>
                  <a:pt x="508" y="298"/>
                </a:lnTo>
                <a:lnTo>
                  <a:pt x="528" y="322"/>
                </a:lnTo>
                <a:lnTo>
                  <a:pt x="535" y="312"/>
                </a:lnTo>
                <a:lnTo>
                  <a:pt x="570" y="322"/>
                </a:lnTo>
                <a:lnTo>
                  <a:pt x="585" y="317"/>
                </a:lnTo>
                <a:lnTo>
                  <a:pt x="616" y="341"/>
                </a:lnTo>
                <a:lnTo>
                  <a:pt x="593" y="301"/>
                </a:lnTo>
                <a:lnTo>
                  <a:pt x="535" y="267"/>
                </a:lnTo>
                <a:lnTo>
                  <a:pt x="589" y="291"/>
                </a:lnTo>
                <a:lnTo>
                  <a:pt x="557" y="253"/>
                </a:lnTo>
                <a:lnTo>
                  <a:pt x="547" y="219"/>
                </a:lnTo>
                <a:lnTo>
                  <a:pt x="553" y="142"/>
                </a:lnTo>
                <a:lnTo>
                  <a:pt x="520" y="125"/>
                </a:lnTo>
                <a:lnTo>
                  <a:pt x="585" y="74"/>
                </a:lnTo>
                <a:lnTo>
                  <a:pt x="589" y="41"/>
                </a:lnTo>
                <a:lnTo>
                  <a:pt x="626" y="45"/>
                </a:lnTo>
                <a:lnTo>
                  <a:pt x="618" y="74"/>
                </a:lnTo>
                <a:lnTo>
                  <a:pt x="591" y="84"/>
                </a:lnTo>
                <a:lnTo>
                  <a:pt x="578" y="113"/>
                </a:lnTo>
                <a:lnTo>
                  <a:pt x="585" y="140"/>
                </a:lnTo>
                <a:lnTo>
                  <a:pt x="603" y="130"/>
                </a:lnTo>
                <a:lnTo>
                  <a:pt x="595" y="163"/>
                </a:lnTo>
                <a:lnTo>
                  <a:pt x="603" y="176"/>
                </a:lnTo>
                <a:lnTo>
                  <a:pt x="607" y="194"/>
                </a:lnTo>
                <a:lnTo>
                  <a:pt x="589" y="185"/>
                </a:lnTo>
                <a:lnTo>
                  <a:pt x="582" y="209"/>
                </a:lnTo>
                <a:lnTo>
                  <a:pt x="622" y="204"/>
                </a:lnTo>
                <a:lnTo>
                  <a:pt x="618" y="219"/>
                </a:lnTo>
                <a:lnTo>
                  <a:pt x="639" y="233"/>
                </a:lnTo>
                <a:lnTo>
                  <a:pt x="603" y="231"/>
                </a:lnTo>
                <a:lnTo>
                  <a:pt x="614" y="277"/>
                </a:lnTo>
                <a:lnTo>
                  <a:pt x="653" y="296"/>
                </a:lnTo>
                <a:lnTo>
                  <a:pt x="676" y="272"/>
                </a:lnTo>
                <a:lnTo>
                  <a:pt x="680" y="312"/>
                </a:lnTo>
                <a:lnTo>
                  <a:pt x="707" y="305"/>
                </a:lnTo>
                <a:lnTo>
                  <a:pt x="691" y="322"/>
                </a:lnTo>
                <a:lnTo>
                  <a:pt x="711" y="322"/>
                </a:lnTo>
                <a:lnTo>
                  <a:pt x="697" y="342"/>
                </a:lnTo>
                <a:lnTo>
                  <a:pt x="703" y="351"/>
                </a:lnTo>
                <a:lnTo>
                  <a:pt x="741" y="334"/>
                </a:lnTo>
                <a:lnTo>
                  <a:pt x="786" y="313"/>
                </a:lnTo>
                <a:lnTo>
                  <a:pt x="801" y="269"/>
                </a:lnTo>
                <a:lnTo>
                  <a:pt x="805" y="296"/>
                </a:lnTo>
                <a:lnTo>
                  <a:pt x="801" y="312"/>
                </a:lnTo>
                <a:lnTo>
                  <a:pt x="790" y="332"/>
                </a:lnTo>
                <a:lnTo>
                  <a:pt x="794" y="348"/>
                </a:lnTo>
                <a:lnTo>
                  <a:pt x="811" y="310"/>
                </a:lnTo>
                <a:lnTo>
                  <a:pt x="817" y="223"/>
                </a:lnTo>
                <a:lnTo>
                  <a:pt x="768" y="233"/>
                </a:lnTo>
                <a:lnTo>
                  <a:pt x="703" y="241"/>
                </a:lnTo>
                <a:lnTo>
                  <a:pt x="699" y="224"/>
                </a:lnTo>
                <a:lnTo>
                  <a:pt x="628" y="0"/>
                </a:lnTo>
                <a:lnTo>
                  <a:pt x="0" y="104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0" name="Freeform 72"/>
          <p:cNvSpPr/>
          <p:nvPr/>
        </p:nvSpPr>
        <p:spPr>
          <a:xfrm>
            <a:off x="6730920" y="2892600"/>
            <a:ext cx="416160" cy="207720"/>
          </a:xfrm>
          <a:custGeom>
            <a:avLst/>
            <a:gdLst>
              <a:gd name="textAreaLeft" fmla="*/ 0 w 416160"/>
              <a:gd name="textAreaRight" fmla="*/ 416520 w 4161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03" h="262">
                <a:moveTo>
                  <a:pt x="0" y="105"/>
                </a:moveTo>
                <a:lnTo>
                  <a:pt x="2" y="245"/>
                </a:lnTo>
                <a:lnTo>
                  <a:pt x="281" y="196"/>
                </a:lnTo>
                <a:lnTo>
                  <a:pt x="329" y="180"/>
                </a:lnTo>
                <a:lnTo>
                  <a:pt x="350" y="182"/>
                </a:lnTo>
                <a:lnTo>
                  <a:pt x="371" y="223"/>
                </a:lnTo>
                <a:lnTo>
                  <a:pt x="404" y="226"/>
                </a:lnTo>
                <a:lnTo>
                  <a:pt x="420" y="261"/>
                </a:lnTo>
                <a:lnTo>
                  <a:pt x="441" y="262"/>
                </a:lnTo>
                <a:lnTo>
                  <a:pt x="447" y="240"/>
                </a:lnTo>
                <a:lnTo>
                  <a:pt x="464" y="232"/>
                </a:lnTo>
                <a:lnTo>
                  <a:pt x="470" y="206"/>
                </a:lnTo>
                <a:lnTo>
                  <a:pt x="481" y="206"/>
                </a:lnTo>
                <a:lnTo>
                  <a:pt x="491" y="242"/>
                </a:lnTo>
                <a:lnTo>
                  <a:pt x="522" y="233"/>
                </a:lnTo>
                <a:lnTo>
                  <a:pt x="526" y="216"/>
                </a:lnTo>
                <a:lnTo>
                  <a:pt x="562" y="201"/>
                </a:lnTo>
                <a:lnTo>
                  <a:pt x="585" y="196"/>
                </a:lnTo>
                <a:lnTo>
                  <a:pt x="603" y="209"/>
                </a:lnTo>
                <a:lnTo>
                  <a:pt x="595" y="172"/>
                </a:lnTo>
                <a:lnTo>
                  <a:pt x="568" y="129"/>
                </a:lnTo>
                <a:lnTo>
                  <a:pt x="549" y="122"/>
                </a:lnTo>
                <a:lnTo>
                  <a:pt x="531" y="124"/>
                </a:lnTo>
                <a:lnTo>
                  <a:pt x="533" y="134"/>
                </a:lnTo>
                <a:lnTo>
                  <a:pt x="545" y="134"/>
                </a:lnTo>
                <a:lnTo>
                  <a:pt x="558" y="134"/>
                </a:lnTo>
                <a:lnTo>
                  <a:pt x="572" y="148"/>
                </a:lnTo>
                <a:lnTo>
                  <a:pt x="580" y="165"/>
                </a:lnTo>
                <a:lnTo>
                  <a:pt x="572" y="178"/>
                </a:lnTo>
                <a:lnTo>
                  <a:pt x="524" y="197"/>
                </a:lnTo>
                <a:lnTo>
                  <a:pt x="499" y="187"/>
                </a:lnTo>
                <a:lnTo>
                  <a:pt x="485" y="165"/>
                </a:lnTo>
                <a:lnTo>
                  <a:pt x="464" y="160"/>
                </a:lnTo>
                <a:lnTo>
                  <a:pt x="468" y="146"/>
                </a:lnTo>
                <a:lnTo>
                  <a:pt x="443" y="120"/>
                </a:lnTo>
                <a:lnTo>
                  <a:pt x="412" y="108"/>
                </a:lnTo>
                <a:lnTo>
                  <a:pt x="410" y="122"/>
                </a:lnTo>
                <a:lnTo>
                  <a:pt x="389" y="115"/>
                </a:lnTo>
                <a:lnTo>
                  <a:pt x="381" y="100"/>
                </a:lnTo>
                <a:lnTo>
                  <a:pt x="387" y="84"/>
                </a:lnTo>
                <a:lnTo>
                  <a:pt x="406" y="72"/>
                </a:lnTo>
                <a:lnTo>
                  <a:pt x="398" y="60"/>
                </a:lnTo>
                <a:lnTo>
                  <a:pt x="425" y="43"/>
                </a:lnTo>
                <a:lnTo>
                  <a:pt x="398" y="24"/>
                </a:lnTo>
                <a:lnTo>
                  <a:pt x="387" y="0"/>
                </a:lnTo>
                <a:lnTo>
                  <a:pt x="331" y="36"/>
                </a:lnTo>
                <a:lnTo>
                  <a:pt x="129" y="81"/>
                </a:lnTo>
                <a:lnTo>
                  <a:pt x="0" y="105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4e5b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1" name="Freeform 73"/>
          <p:cNvSpPr/>
          <p:nvPr/>
        </p:nvSpPr>
        <p:spPr>
          <a:xfrm>
            <a:off x="7062840" y="3094200"/>
            <a:ext cx="38160" cy="31680"/>
          </a:xfrm>
          <a:custGeom>
            <a:avLst/>
            <a:gdLst>
              <a:gd name="textAreaLeft" fmla="*/ 0 w 38160"/>
              <a:gd name="textAreaRight" fmla="*/ 38520 w 38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6" h="39">
                <a:moveTo>
                  <a:pt x="0" y="39"/>
                </a:moveTo>
                <a:lnTo>
                  <a:pt x="23" y="0"/>
                </a:lnTo>
                <a:lnTo>
                  <a:pt x="56" y="17"/>
                </a:lnTo>
                <a:lnTo>
                  <a:pt x="0" y="3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2" name="Freeform 74"/>
          <p:cNvSpPr/>
          <p:nvPr/>
        </p:nvSpPr>
        <p:spPr>
          <a:xfrm>
            <a:off x="7062840" y="3094200"/>
            <a:ext cx="38160" cy="31680"/>
          </a:xfrm>
          <a:custGeom>
            <a:avLst/>
            <a:gdLst>
              <a:gd name="textAreaLeft" fmla="*/ 0 w 38160"/>
              <a:gd name="textAreaRight" fmla="*/ 38520 w 38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6" h="39">
                <a:moveTo>
                  <a:pt x="0" y="39"/>
                </a:moveTo>
                <a:lnTo>
                  <a:pt x="23" y="0"/>
                </a:lnTo>
                <a:lnTo>
                  <a:pt x="56" y="17"/>
                </a:lnTo>
                <a:lnTo>
                  <a:pt x="0" y="39"/>
                </a:lnTo>
              </a:path>
            </a:pathLst>
          </a:custGeom>
          <a:solidFill>
            <a:srgbClr val="c0c0c0"/>
          </a:solidFill>
          <a:ln cap="sq" w="936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3" name="Freeform 75"/>
          <p:cNvSpPr/>
          <p:nvPr/>
        </p:nvSpPr>
        <p:spPr>
          <a:xfrm>
            <a:off x="7132680" y="3087720"/>
            <a:ext cx="30240" cy="23760"/>
          </a:xfrm>
          <a:custGeom>
            <a:avLst/>
            <a:gdLst>
              <a:gd name="textAreaLeft" fmla="*/ 0 w 30240"/>
              <a:gd name="textAreaRight" fmla="*/ 30600 w 302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3" h="29">
                <a:moveTo>
                  <a:pt x="0" y="29"/>
                </a:moveTo>
                <a:lnTo>
                  <a:pt x="25" y="0"/>
                </a:lnTo>
                <a:lnTo>
                  <a:pt x="43" y="24"/>
                </a:lnTo>
                <a:lnTo>
                  <a:pt x="0" y="2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4" name="Freeform 76"/>
          <p:cNvSpPr/>
          <p:nvPr/>
        </p:nvSpPr>
        <p:spPr>
          <a:xfrm>
            <a:off x="7132680" y="3087720"/>
            <a:ext cx="30240" cy="23760"/>
          </a:xfrm>
          <a:custGeom>
            <a:avLst/>
            <a:gdLst>
              <a:gd name="textAreaLeft" fmla="*/ 0 w 30240"/>
              <a:gd name="textAreaRight" fmla="*/ 30600 w 302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3" h="29">
                <a:moveTo>
                  <a:pt x="0" y="29"/>
                </a:moveTo>
                <a:lnTo>
                  <a:pt x="25" y="0"/>
                </a:lnTo>
                <a:lnTo>
                  <a:pt x="43" y="24"/>
                </a:lnTo>
                <a:lnTo>
                  <a:pt x="0" y="29"/>
                </a:lnTo>
              </a:path>
            </a:pathLst>
          </a:custGeom>
          <a:solidFill>
            <a:srgbClr val="c0c0c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5" name="Freeform 77"/>
          <p:cNvSpPr/>
          <p:nvPr/>
        </p:nvSpPr>
        <p:spPr>
          <a:xfrm>
            <a:off x="4757760" y="2505240"/>
            <a:ext cx="709560" cy="363240"/>
          </a:xfrm>
          <a:custGeom>
            <a:avLst/>
            <a:gdLst>
              <a:gd name="textAreaLeft" fmla="*/ 0 w 709560"/>
              <a:gd name="textAreaRight" fmla="*/ 709920 w 70956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1032" h="458">
                <a:moveTo>
                  <a:pt x="0" y="199"/>
                </a:moveTo>
                <a:lnTo>
                  <a:pt x="80" y="247"/>
                </a:lnTo>
                <a:lnTo>
                  <a:pt x="279" y="291"/>
                </a:lnTo>
                <a:lnTo>
                  <a:pt x="369" y="302"/>
                </a:lnTo>
                <a:lnTo>
                  <a:pt x="383" y="327"/>
                </a:lnTo>
                <a:lnTo>
                  <a:pt x="420" y="338"/>
                </a:lnTo>
                <a:lnTo>
                  <a:pt x="472" y="458"/>
                </a:lnTo>
                <a:lnTo>
                  <a:pt x="516" y="365"/>
                </a:lnTo>
                <a:lnTo>
                  <a:pt x="526" y="345"/>
                </a:lnTo>
                <a:lnTo>
                  <a:pt x="537" y="331"/>
                </a:lnTo>
                <a:lnTo>
                  <a:pt x="537" y="315"/>
                </a:lnTo>
                <a:lnTo>
                  <a:pt x="556" y="290"/>
                </a:lnTo>
                <a:lnTo>
                  <a:pt x="560" y="291"/>
                </a:lnTo>
                <a:lnTo>
                  <a:pt x="554" y="305"/>
                </a:lnTo>
                <a:lnTo>
                  <a:pt x="556" y="333"/>
                </a:lnTo>
                <a:lnTo>
                  <a:pt x="574" y="326"/>
                </a:lnTo>
                <a:lnTo>
                  <a:pt x="583" y="298"/>
                </a:lnTo>
                <a:lnTo>
                  <a:pt x="606" y="302"/>
                </a:lnTo>
                <a:lnTo>
                  <a:pt x="620" y="288"/>
                </a:lnTo>
                <a:lnTo>
                  <a:pt x="624" y="295"/>
                </a:lnTo>
                <a:lnTo>
                  <a:pt x="599" y="338"/>
                </a:lnTo>
                <a:lnTo>
                  <a:pt x="614" y="345"/>
                </a:lnTo>
                <a:lnTo>
                  <a:pt x="631" y="317"/>
                </a:lnTo>
                <a:lnTo>
                  <a:pt x="655" y="305"/>
                </a:lnTo>
                <a:lnTo>
                  <a:pt x="666" y="274"/>
                </a:lnTo>
                <a:lnTo>
                  <a:pt x="726" y="266"/>
                </a:lnTo>
                <a:lnTo>
                  <a:pt x="755" y="262"/>
                </a:lnTo>
                <a:lnTo>
                  <a:pt x="799" y="237"/>
                </a:lnTo>
                <a:lnTo>
                  <a:pt x="865" y="245"/>
                </a:lnTo>
                <a:lnTo>
                  <a:pt x="909" y="271"/>
                </a:lnTo>
                <a:lnTo>
                  <a:pt x="911" y="238"/>
                </a:lnTo>
                <a:lnTo>
                  <a:pt x="934" y="237"/>
                </a:lnTo>
                <a:lnTo>
                  <a:pt x="990" y="240"/>
                </a:lnTo>
                <a:lnTo>
                  <a:pt x="1032" y="230"/>
                </a:lnTo>
                <a:lnTo>
                  <a:pt x="976" y="199"/>
                </a:lnTo>
                <a:lnTo>
                  <a:pt x="963" y="153"/>
                </a:lnTo>
                <a:lnTo>
                  <a:pt x="919" y="160"/>
                </a:lnTo>
                <a:lnTo>
                  <a:pt x="903" y="153"/>
                </a:lnTo>
                <a:lnTo>
                  <a:pt x="886" y="160"/>
                </a:lnTo>
                <a:lnTo>
                  <a:pt x="861" y="155"/>
                </a:lnTo>
                <a:lnTo>
                  <a:pt x="845" y="153"/>
                </a:lnTo>
                <a:lnTo>
                  <a:pt x="841" y="125"/>
                </a:lnTo>
                <a:lnTo>
                  <a:pt x="849" y="98"/>
                </a:lnTo>
                <a:lnTo>
                  <a:pt x="807" y="105"/>
                </a:lnTo>
                <a:lnTo>
                  <a:pt x="764" y="124"/>
                </a:lnTo>
                <a:lnTo>
                  <a:pt x="660" y="137"/>
                </a:lnTo>
                <a:lnTo>
                  <a:pt x="593" y="190"/>
                </a:lnTo>
                <a:lnTo>
                  <a:pt x="579" y="180"/>
                </a:lnTo>
                <a:lnTo>
                  <a:pt x="560" y="187"/>
                </a:lnTo>
                <a:lnTo>
                  <a:pt x="533" y="170"/>
                </a:lnTo>
                <a:lnTo>
                  <a:pt x="516" y="177"/>
                </a:lnTo>
                <a:lnTo>
                  <a:pt x="479" y="182"/>
                </a:lnTo>
                <a:lnTo>
                  <a:pt x="427" y="120"/>
                </a:lnTo>
                <a:lnTo>
                  <a:pt x="366" y="112"/>
                </a:lnTo>
                <a:lnTo>
                  <a:pt x="346" y="112"/>
                </a:lnTo>
                <a:lnTo>
                  <a:pt x="335" y="127"/>
                </a:lnTo>
                <a:lnTo>
                  <a:pt x="344" y="101"/>
                </a:lnTo>
                <a:lnTo>
                  <a:pt x="317" y="122"/>
                </a:lnTo>
                <a:lnTo>
                  <a:pt x="304" y="143"/>
                </a:lnTo>
                <a:lnTo>
                  <a:pt x="308" y="107"/>
                </a:lnTo>
                <a:lnTo>
                  <a:pt x="335" y="57"/>
                </a:lnTo>
                <a:lnTo>
                  <a:pt x="373" y="18"/>
                </a:lnTo>
                <a:lnTo>
                  <a:pt x="408" y="7"/>
                </a:lnTo>
                <a:lnTo>
                  <a:pt x="400" y="0"/>
                </a:lnTo>
                <a:lnTo>
                  <a:pt x="342" y="4"/>
                </a:lnTo>
                <a:lnTo>
                  <a:pt x="304" y="21"/>
                </a:lnTo>
                <a:lnTo>
                  <a:pt x="292" y="40"/>
                </a:lnTo>
                <a:lnTo>
                  <a:pt x="246" y="71"/>
                </a:lnTo>
                <a:lnTo>
                  <a:pt x="225" y="98"/>
                </a:lnTo>
                <a:lnTo>
                  <a:pt x="190" y="107"/>
                </a:lnTo>
                <a:lnTo>
                  <a:pt x="181" y="124"/>
                </a:lnTo>
                <a:lnTo>
                  <a:pt x="156" y="132"/>
                </a:lnTo>
                <a:lnTo>
                  <a:pt x="96" y="143"/>
                </a:lnTo>
                <a:lnTo>
                  <a:pt x="80" y="155"/>
                </a:lnTo>
                <a:lnTo>
                  <a:pt x="53" y="177"/>
                </a:lnTo>
                <a:lnTo>
                  <a:pt x="0" y="1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6" name="Freeform 78"/>
          <p:cNvSpPr/>
          <p:nvPr/>
        </p:nvSpPr>
        <p:spPr>
          <a:xfrm>
            <a:off x="4757760" y="2505240"/>
            <a:ext cx="709560" cy="363240"/>
          </a:xfrm>
          <a:custGeom>
            <a:avLst/>
            <a:gdLst>
              <a:gd name="textAreaLeft" fmla="*/ 0 w 709560"/>
              <a:gd name="textAreaRight" fmla="*/ 709920 w 70956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1032" h="458">
                <a:moveTo>
                  <a:pt x="0" y="199"/>
                </a:moveTo>
                <a:lnTo>
                  <a:pt x="80" y="247"/>
                </a:lnTo>
                <a:lnTo>
                  <a:pt x="279" y="291"/>
                </a:lnTo>
                <a:lnTo>
                  <a:pt x="369" y="302"/>
                </a:lnTo>
                <a:lnTo>
                  <a:pt x="383" y="327"/>
                </a:lnTo>
                <a:lnTo>
                  <a:pt x="420" y="338"/>
                </a:lnTo>
                <a:lnTo>
                  <a:pt x="472" y="458"/>
                </a:lnTo>
                <a:lnTo>
                  <a:pt x="516" y="365"/>
                </a:lnTo>
                <a:lnTo>
                  <a:pt x="526" y="345"/>
                </a:lnTo>
                <a:lnTo>
                  <a:pt x="537" y="331"/>
                </a:lnTo>
                <a:lnTo>
                  <a:pt x="537" y="315"/>
                </a:lnTo>
                <a:lnTo>
                  <a:pt x="556" y="290"/>
                </a:lnTo>
                <a:lnTo>
                  <a:pt x="560" y="291"/>
                </a:lnTo>
                <a:lnTo>
                  <a:pt x="554" y="305"/>
                </a:lnTo>
                <a:lnTo>
                  <a:pt x="556" y="333"/>
                </a:lnTo>
                <a:lnTo>
                  <a:pt x="574" y="326"/>
                </a:lnTo>
                <a:lnTo>
                  <a:pt x="583" y="298"/>
                </a:lnTo>
                <a:lnTo>
                  <a:pt x="606" y="302"/>
                </a:lnTo>
                <a:lnTo>
                  <a:pt x="620" y="288"/>
                </a:lnTo>
                <a:lnTo>
                  <a:pt x="624" y="295"/>
                </a:lnTo>
                <a:lnTo>
                  <a:pt x="599" y="338"/>
                </a:lnTo>
                <a:lnTo>
                  <a:pt x="614" y="345"/>
                </a:lnTo>
                <a:lnTo>
                  <a:pt x="631" y="317"/>
                </a:lnTo>
                <a:lnTo>
                  <a:pt x="655" y="305"/>
                </a:lnTo>
                <a:lnTo>
                  <a:pt x="666" y="274"/>
                </a:lnTo>
                <a:lnTo>
                  <a:pt x="726" y="266"/>
                </a:lnTo>
                <a:lnTo>
                  <a:pt x="755" y="262"/>
                </a:lnTo>
                <a:lnTo>
                  <a:pt x="799" y="237"/>
                </a:lnTo>
                <a:lnTo>
                  <a:pt x="865" y="245"/>
                </a:lnTo>
                <a:lnTo>
                  <a:pt x="909" y="271"/>
                </a:lnTo>
                <a:lnTo>
                  <a:pt x="911" y="238"/>
                </a:lnTo>
                <a:lnTo>
                  <a:pt x="934" y="237"/>
                </a:lnTo>
                <a:lnTo>
                  <a:pt x="990" y="240"/>
                </a:lnTo>
                <a:lnTo>
                  <a:pt x="1032" y="230"/>
                </a:lnTo>
                <a:lnTo>
                  <a:pt x="976" y="199"/>
                </a:lnTo>
                <a:lnTo>
                  <a:pt x="963" y="153"/>
                </a:lnTo>
                <a:lnTo>
                  <a:pt x="919" y="160"/>
                </a:lnTo>
                <a:lnTo>
                  <a:pt x="903" y="153"/>
                </a:lnTo>
                <a:lnTo>
                  <a:pt x="886" y="160"/>
                </a:lnTo>
                <a:lnTo>
                  <a:pt x="861" y="155"/>
                </a:lnTo>
                <a:lnTo>
                  <a:pt x="845" y="153"/>
                </a:lnTo>
                <a:lnTo>
                  <a:pt x="841" y="125"/>
                </a:lnTo>
                <a:lnTo>
                  <a:pt x="849" y="98"/>
                </a:lnTo>
                <a:lnTo>
                  <a:pt x="807" y="105"/>
                </a:lnTo>
                <a:lnTo>
                  <a:pt x="764" y="124"/>
                </a:lnTo>
                <a:lnTo>
                  <a:pt x="660" y="137"/>
                </a:lnTo>
                <a:lnTo>
                  <a:pt x="593" y="190"/>
                </a:lnTo>
                <a:lnTo>
                  <a:pt x="579" y="180"/>
                </a:lnTo>
                <a:lnTo>
                  <a:pt x="560" y="187"/>
                </a:lnTo>
                <a:lnTo>
                  <a:pt x="533" y="170"/>
                </a:lnTo>
                <a:lnTo>
                  <a:pt x="516" y="177"/>
                </a:lnTo>
                <a:lnTo>
                  <a:pt x="479" y="182"/>
                </a:lnTo>
                <a:lnTo>
                  <a:pt x="427" y="120"/>
                </a:lnTo>
                <a:lnTo>
                  <a:pt x="366" y="112"/>
                </a:lnTo>
                <a:lnTo>
                  <a:pt x="346" y="112"/>
                </a:lnTo>
                <a:lnTo>
                  <a:pt x="335" y="127"/>
                </a:lnTo>
                <a:lnTo>
                  <a:pt x="344" y="101"/>
                </a:lnTo>
                <a:lnTo>
                  <a:pt x="317" y="122"/>
                </a:lnTo>
                <a:lnTo>
                  <a:pt x="304" y="143"/>
                </a:lnTo>
                <a:lnTo>
                  <a:pt x="308" y="107"/>
                </a:lnTo>
                <a:lnTo>
                  <a:pt x="335" y="57"/>
                </a:lnTo>
                <a:lnTo>
                  <a:pt x="373" y="18"/>
                </a:lnTo>
                <a:lnTo>
                  <a:pt x="408" y="7"/>
                </a:lnTo>
                <a:lnTo>
                  <a:pt x="400" y="0"/>
                </a:lnTo>
                <a:lnTo>
                  <a:pt x="342" y="4"/>
                </a:lnTo>
                <a:lnTo>
                  <a:pt x="304" y="21"/>
                </a:lnTo>
                <a:lnTo>
                  <a:pt x="292" y="40"/>
                </a:lnTo>
                <a:lnTo>
                  <a:pt x="246" y="71"/>
                </a:lnTo>
                <a:lnTo>
                  <a:pt x="225" y="98"/>
                </a:lnTo>
                <a:lnTo>
                  <a:pt x="190" y="107"/>
                </a:lnTo>
                <a:lnTo>
                  <a:pt x="181" y="124"/>
                </a:lnTo>
                <a:lnTo>
                  <a:pt x="156" y="132"/>
                </a:lnTo>
                <a:lnTo>
                  <a:pt x="96" y="143"/>
                </a:lnTo>
                <a:lnTo>
                  <a:pt x="80" y="155"/>
                </a:lnTo>
                <a:lnTo>
                  <a:pt x="53" y="177"/>
                </a:lnTo>
                <a:lnTo>
                  <a:pt x="0" y="199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7" name="Freeform 79"/>
          <p:cNvSpPr/>
          <p:nvPr/>
        </p:nvSpPr>
        <p:spPr>
          <a:xfrm>
            <a:off x="5214960" y="2728800"/>
            <a:ext cx="479520" cy="646200"/>
          </a:xfrm>
          <a:custGeom>
            <a:avLst/>
            <a:gdLst>
              <a:gd name="textAreaLeft" fmla="*/ 0 w 479520"/>
              <a:gd name="textAreaRight" fmla="*/ 479880 w 47952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694" h="815">
                <a:moveTo>
                  <a:pt x="0" y="815"/>
                </a:moveTo>
                <a:lnTo>
                  <a:pt x="64" y="716"/>
                </a:lnTo>
                <a:lnTo>
                  <a:pt x="79" y="681"/>
                </a:lnTo>
                <a:lnTo>
                  <a:pt x="85" y="609"/>
                </a:lnTo>
                <a:lnTo>
                  <a:pt x="66" y="541"/>
                </a:lnTo>
                <a:lnTo>
                  <a:pt x="29" y="478"/>
                </a:lnTo>
                <a:lnTo>
                  <a:pt x="10" y="442"/>
                </a:lnTo>
                <a:lnTo>
                  <a:pt x="21" y="409"/>
                </a:lnTo>
                <a:lnTo>
                  <a:pt x="4" y="368"/>
                </a:lnTo>
                <a:lnTo>
                  <a:pt x="23" y="339"/>
                </a:lnTo>
                <a:lnTo>
                  <a:pt x="41" y="269"/>
                </a:lnTo>
                <a:lnTo>
                  <a:pt x="35" y="236"/>
                </a:lnTo>
                <a:lnTo>
                  <a:pt x="60" y="214"/>
                </a:lnTo>
                <a:lnTo>
                  <a:pt x="56" y="190"/>
                </a:lnTo>
                <a:lnTo>
                  <a:pt x="97" y="175"/>
                </a:lnTo>
                <a:lnTo>
                  <a:pt x="135" y="127"/>
                </a:lnTo>
                <a:lnTo>
                  <a:pt x="129" y="207"/>
                </a:lnTo>
                <a:lnTo>
                  <a:pt x="158" y="190"/>
                </a:lnTo>
                <a:lnTo>
                  <a:pt x="158" y="121"/>
                </a:lnTo>
                <a:lnTo>
                  <a:pt x="197" y="86"/>
                </a:lnTo>
                <a:lnTo>
                  <a:pt x="224" y="80"/>
                </a:lnTo>
                <a:lnTo>
                  <a:pt x="201" y="68"/>
                </a:lnTo>
                <a:lnTo>
                  <a:pt x="193" y="44"/>
                </a:lnTo>
                <a:lnTo>
                  <a:pt x="208" y="12"/>
                </a:lnTo>
                <a:lnTo>
                  <a:pt x="245" y="0"/>
                </a:lnTo>
                <a:lnTo>
                  <a:pt x="328" y="20"/>
                </a:lnTo>
                <a:lnTo>
                  <a:pt x="357" y="48"/>
                </a:lnTo>
                <a:lnTo>
                  <a:pt x="451" y="65"/>
                </a:lnTo>
                <a:lnTo>
                  <a:pt x="470" y="91"/>
                </a:lnTo>
                <a:lnTo>
                  <a:pt x="497" y="120"/>
                </a:lnTo>
                <a:lnTo>
                  <a:pt x="474" y="120"/>
                </a:lnTo>
                <a:lnTo>
                  <a:pt x="470" y="137"/>
                </a:lnTo>
                <a:lnTo>
                  <a:pt x="501" y="168"/>
                </a:lnTo>
                <a:lnTo>
                  <a:pt x="507" y="223"/>
                </a:lnTo>
                <a:lnTo>
                  <a:pt x="507" y="258"/>
                </a:lnTo>
                <a:lnTo>
                  <a:pt x="478" y="298"/>
                </a:lnTo>
                <a:lnTo>
                  <a:pt x="474" y="318"/>
                </a:lnTo>
                <a:lnTo>
                  <a:pt x="434" y="334"/>
                </a:lnTo>
                <a:lnTo>
                  <a:pt x="428" y="351"/>
                </a:lnTo>
                <a:lnTo>
                  <a:pt x="434" y="392"/>
                </a:lnTo>
                <a:lnTo>
                  <a:pt x="472" y="411"/>
                </a:lnTo>
                <a:lnTo>
                  <a:pt x="505" y="378"/>
                </a:lnTo>
                <a:lnTo>
                  <a:pt x="528" y="332"/>
                </a:lnTo>
                <a:lnTo>
                  <a:pt x="584" y="303"/>
                </a:lnTo>
                <a:lnTo>
                  <a:pt x="623" y="320"/>
                </a:lnTo>
                <a:lnTo>
                  <a:pt x="648" y="371"/>
                </a:lnTo>
                <a:lnTo>
                  <a:pt x="678" y="469"/>
                </a:lnTo>
                <a:lnTo>
                  <a:pt x="694" y="502"/>
                </a:lnTo>
                <a:lnTo>
                  <a:pt x="684" y="527"/>
                </a:lnTo>
                <a:lnTo>
                  <a:pt x="690" y="568"/>
                </a:lnTo>
                <a:lnTo>
                  <a:pt x="678" y="591"/>
                </a:lnTo>
                <a:lnTo>
                  <a:pt x="661" y="568"/>
                </a:lnTo>
                <a:lnTo>
                  <a:pt x="646" y="577"/>
                </a:lnTo>
                <a:lnTo>
                  <a:pt x="642" y="616"/>
                </a:lnTo>
                <a:lnTo>
                  <a:pt x="634" y="633"/>
                </a:lnTo>
                <a:lnTo>
                  <a:pt x="603" y="649"/>
                </a:lnTo>
                <a:lnTo>
                  <a:pt x="601" y="702"/>
                </a:lnTo>
                <a:lnTo>
                  <a:pt x="582" y="722"/>
                </a:lnTo>
                <a:lnTo>
                  <a:pt x="565" y="765"/>
                </a:lnTo>
                <a:lnTo>
                  <a:pt x="341" y="796"/>
                </a:lnTo>
                <a:lnTo>
                  <a:pt x="334" y="782"/>
                </a:lnTo>
                <a:lnTo>
                  <a:pt x="0" y="81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8" name="Freeform 80"/>
          <p:cNvSpPr/>
          <p:nvPr/>
        </p:nvSpPr>
        <p:spPr>
          <a:xfrm>
            <a:off x="5214960" y="2728800"/>
            <a:ext cx="479520" cy="646200"/>
          </a:xfrm>
          <a:custGeom>
            <a:avLst/>
            <a:gdLst>
              <a:gd name="textAreaLeft" fmla="*/ 0 w 479520"/>
              <a:gd name="textAreaRight" fmla="*/ 479880 w 47952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694" h="815">
                <a:moveTo>
                  <a:pt x="0" y="815"/>
                </a:moveTo>
                <a:lnTo>
                  <a:pt x="64" y="716"/>
                </a:lnTo>
                <a:lnTo>
                  <a:pt x="79" y="681"/>
                </a:lnTo>
                <a:lnTo>
                  <a:pt x="85" y="609"/>
                </a:lnTo>
                <a:lnTo>
                  <a:pt x="66" y="541"/>
                </a:lnTo>
                <a:lnTo>
                  <a:pt x="29" y="478"/>
                </a:lnTo>
                <a:lnTo>
                  <a:pt x="10" y="442"/>
                </a:lnTo>
                <a:lnTo>
                  <a:pt x="21" y="409"/>
                </a:lnTo>
                <a:lnTo>
                  <a:pt x="4" y="368"/>
                </a:lnTo>
                <a:lnTo>
                  <a:pt x="23" y="339"/>
                </a:lnTo>
                <a:lnTo>
                  <a:pt x="41" y="269"/>
                </a:lnTo>
                <a:lnTo>
                  <a:pt x="35" y="236"/>
                </a:lnTo>
                <a:lnTo>
                  <a:pt x="60" y="214"/>
                </a:lnTo>
                <a:lnTo>
                  <a:pt x="56" y="190"/>
                </a:lnTo>
                <a:lnTo>
                  <a:pt x="97" y="175"/>
                </a:lnTo>
                <a:lnTo>
                  <a:pt x="135" y="127"/>
                </a:lnTo>
                <a:lnTo>
                  <a:pt x="129" y="207"/>
                </a:lnTo>
                <a:lnTo>
                  <a:pt x="158" y="190"/>
                </a:lnTo>
                <a:lnTo>
                  <a:pt x="158" y="121"/>
                </a:lnTo>
                <a:lnTo>
                  <a:pt x="197" y="86"/>
                </a:lnTo>
                <a:lnTo>
                  <a:pt x="224" y="80"/>
                </a:lnTo>
                <a:lnTo>
                  <a:pt x="201" y="68"/>
                </a:lnTo>
                <a:lnTo>
                  <a:pt x="193" y="44"/>
                </a:lnTo>
                <a:lnTo>
                  <a:pt x="208" y="12"/>
                </a:lnTo>
                <a:lnTo>
                  <a:pt x="245" y="0"/>
                </a:lnTo>
                <a:lnTo>
                  <a:pt x="328" y="20"/>
                </a:lnTo>
                <a:lnTo>
                  <a:pt x="357" y="48"/>
                </a:lnTo>
                <a:lnTo>
                  <a:pt x="451" y="65"/>
                </a:lnTo>
                <a:lnTo>
                  <a:pt x="470" y="91"/>
                </a:lnTo>
                <a:lnTo>
                  <a:pt x="497" y="120"/>
                </a:lnTo>
                <a:lnTo>
                  <a:pt x="474" y="120"/>
                </a:lnTo>
                <a:lnTo>
                  <a:pt x="470" y="137"/>
                </a:lnTo>
                <a:lnTo>
                  <a:pt x="501" y="168"/>
                </a:lnTo>
                <a:lnTo>
                  <a:pt x="507" y="223"/>
                </a:lnTo>
                <a:lnTo>
                  <a:pt x="507" y="258"/>
                </a:lnTo>
                <a:lnTo>
                  <a:pt x="478" y="298"/>
                </a:lnTo>
                <a:lnTo>
                  <a:pt x="474" y="318"/>
                </a:lnTo>
                <a:lnTo>
                  <a:pt x="434" y="334"/>
                </a:lnTo>
                <a:lnTo>
                  <a:pt x="428" y="351"/>
                </a:lnTo>
                <a:lnTo>
                  <a:pt x="434" y="392"/>
                </a:lnTo>
                <a:lnTo>
                  <a:pt x="472" y="411"/>
                </a:lnTo>
                <a:lnTo>
                  <a:pt x="505" y="378"/>
                </a:lnTo>
                <a:lnTo>
                  <a:pt x="528" y="332"/>
                </a:lnTo>
                <a:lnTo>
                  <a:pt x="584" y="303"/>
                </a:lnTo>
                <a:lnTo>
                  <a:pt x="623" y="320"/>
                </a:lnTo>
                <a:lnTo>
                  <a:pt x="648" y="371"/>
                </a:lnTo>
                <a:lnTo>
                  <a:pt x="678" y="469"/>
                </a:lnTo>
                <a:lnTo>
                  <a:pt x="694" y="502"/>
                </a:lnTo>
                <a:lnTo>
                  <a:pt x="684" y="527"/>
                </a:lnTo>
                <a:lnTo>
                  <a:pt x="690" y="568"/>
                </a:lnTo>
                <a:lnTo>
                  <a:pt x="678" y="591"/>
                </a:lnTo>
                <a:lnTo>
                  <a:pt x="661" y="568"/>
                </a:lnTo>
                <a:lnTo>
                  <a:pt x="646" y="577"/>
                </a:lnTo>
                <a:lnTo>
                  <a:pt x="642" y="616"/>
                </a:lnTo>
                <a:lnTo>
                  <a:pt x="634" y="633"/>
                </a:lnTo>
                <a:lnTo>
                  <a:pt x="603" y="649"/>
                </a:lnTo>
                <a:lnTo>
                  <a:pt x="601" y="702"/>
                </a:lnTo>
                <a:lnTo>
                  <a:pt x="582" y="722"/>
                </a:lnTo>
                <a:lnTo>
                  <a:pt x="565" y="765"/>
                </a:lnTo>
                <a:lnTo>
                  <a:pt x="341" y="796"/>
                </a:lnTo>
                <a:lnTo>
                  <a:pt x="334" y="782"/>
                </a:lnTo>
                <a:lnTo>
                  <a:pt x="0" y="815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9" name="Freeform 81"/>
          <p:cNvSpPr/>
          <p:nvPr/>
        </p:nvSpPr>
        <p:spPr>
          <a:xfrm>
            <a:off x="4027320" y="2243160"/>
            <a:ext cx="814680" cy="909720"/>
          </a:xfrm>
          <a:custGeom>
            <a:avLst/>
            <a:gdLst>
              <a:gd name="textAreaLeft" fmla="*/ 0 w 814680"/>
              <a:gd name="textAreaRight" fmla="*/ 815040 w 8146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1185" h="1145">
                <a:moveTo>
                  <a:pt x="0" y="70"/>
                </a:moveTo>
                <a:lnTo>
                  <a:pt x="7" y="233"/>
                </a:lnTo>
                <a:lnTo>
                  <a:pt x="52" y="363"/>
                </a:lnTo>
                <a:lnTo>
                  <a:pt x="59" y="532"/>
                </a:lnTo>
                <a:lnTo>
                  <a:pt x="92" y="668"/>
                </a:lnTo>
                <a:lnTo>
                  <a:pt x="50" y="734"/>
                </a:lnTo>
                <a:lnTo>
                  <a:pt x="110" y="788"/>
                </a:lnTo>
                <a:lnTo>
                  <a:pt x="108" y="1145"/>
                </a:lnTo>
                <a:lnTo>
                  <a:pt x="963" y="1132"/>
                </a:lnTo>
                <a:lnTo>
                  <a:pt x="948" y="1062"/>
                </a:lnTo>
                <a:lnTo>
                  <a:pt x="925" y="1038"/>
                </a:lnTo>
                <a:lnTo>
                  <a:pt x="857" y="1000"/>
                </a:lnTo>
                <a:lnTo>
                  <a:pt x="811" y="955"/>
                </a:lnTo>
                <a:lnTo>
                  <a:pt x="695" y="894"/>
                </a:lnTo>
                <a:lnTo>
                  <a:pt x="697" y="788"/>
                </a:lnTo>
                <a:lnTo>
                  <a:pt x="674" y="721"/>
                </a:lnTo>
                <a:lnTo>
                  <a:pt x="769" y="620"/>
                </a:lnTo>
                <a:lnTo>
                  <a:pt x="761" y="520"/>
                </a:lnTo>
                <a:lnTo>
                  <a:pt x="784" y="503"/>
                </a:lnTo>
                <a:lnTo>
                  <a:pt x="898" y="421"/>
                </a:lnTo>
                <a:lnTo>
                  <a:pt x="957" y="360"/>
                </a:lnTo>
                <a:lnTo>
                  <a:pt x="1034" y="308"/>
                </a:lnTo>
                <a:lnTo>
                  <a:pt x="1185" y="241"/>
                </a:lnTo>
                <a:lnTo>
                  <a:pt x="1129" y="245"/>
                </a:lnTo>
                <a:lnTo>
                  <a:pt x="1077" y="223"/>
                </a:lnTo>
                <a:lnTo>
                  <a:pt x="992" y="231"/>
                </a:lnTo>
                <a:lnTo>
                  <a:pt x="973" y="202"/>
                </a:lnTo>
                <a:lnTo>
                  <a:pt x="946" y="214"/>
                </a:lnTo>
                <a:lnTo>
                  <a:pt x="888" y="245"/>
                </a:lnTo>
                <a:lnTo>
                  <a:pt x="847" y="235"/>
                </a:lnTo>
                <a:lnTo>
                  <a:pt x="830" y="219"/>
                </a:lnTo>
                <a:lnTo>
                  <a:pt x="799" y="212"/>
                </a:lnTo>
                <a:lnTo>
                  <a:pt x="784" y="190"/>
                </a:lnTo>
                <a:lnTo>
                  <a:pt x="753" y="192"/>
                </a:lnTo>
                <a:lnTo>
                  <a:pt x="753" y="212"/>
                </a:lnTo>
                <a:lnTo>
                  <a:pt x="742" y="216"/>
                </a:lnTo>
                <a:lnTo>
                  <a:pt x="718" y="171"/>
                </a:lnTo>
                <a:lnTo>
                  <a:pt x="688" y="171"/>
                </a:lnTo>
                <a:lnTo>
                  <a:pt x="697" y="152"/>
                </a:lnTo>
                <a:lnTo>
                  <a:pt x="630" y="142"/>
                </a:lnTo>
                <a:lnTo>
                  <a:pt x="605" y="140"/>
                </a:lnTo>
                <a:lnTo>
                  <a:pt x="524" y="166"/>
                </a:lnTo>
                <a:lnTo>
                  <a:pt x="510" y="142"/>
                </a:lnTo>
                <a:lnTo>
                  <a:pt x="387" y="120"/>
                </a:lnTo>
                <a:lnTo>
                  <a:pt x="366" y="9"/>
                </a:lnTo>
                <a:lnTo>
                  <a:pt x="312" y="0"/>
                </a:lnTo>
                <a:lnTo>
                  <a:pt x="312" y="72"/>
                </a:lnTo>
                <a:lnTo>
                  <a:pt x="0" y="7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0" name="Freeform 82"/>
          <p:cNvSpPr/>
          <p:nvPr/>
        </p:nvSpPr>
        <p:spPr>
          <a:xfrm>
            <a:off x="4027320" y="2243160"/>
            <a:ext cx="814680" cy="909720"/>
          </a:xfrm>
          <a:custGeom>
            <a:avLst/>
            <a:gdLst>
              <a:gd name="textAreaLeft" fmla="*/ 0 w 814680"/>
              <a:gd name="textAreaRight" fmla="*/ 815040 w 8146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1185" h="1145">
                <a:moveTo>
                  <a:pt x="0" y="70"/>
                </a:moveTo>
                <a:lnTo>
                  <a:pt x="7" y="233"/>
                </a:lnTo>
                <a:lnTo>
                  <a:pt x="52" y="363"/>
                </a:lnTo>
                <a:lnTo>
                  <a:pt x="59" y="532"/>
                </a:lnTo>
                <a:lnTo>
                  <a:pt x="92" y="668"/>
                </a:lnTo>
                <a:lnTo>
                  <a:pt x="50" y="734"/>
                </a:lnTo>
                <a:lnTo>
                  <a:pt x="110" y="788"/>
                </a:lnTo>
                <a:lnTo>
                  <a:pt x="108" y="1145"/>
                </a:lnTo>
                <a:lnTo>
                  <a:pt x="963" y="1132"/>
                </a:lnTo>
                <a:lnTo>
                  <a:pt x="948" y="1062"/>
                </a:lnTo>
                <a:lnTo>
                  <a:pt x="925" y="1038"/>
                </a:lnTo>
                <a:lnTo>
                  <a:pt x="857" y="1000"/>
                </a:lnTo>
                <a:lnTo>
                  <a:pt x="811" y="955"/>
                </a:lnTo>
                <a:lnTo>
                  <a:pt x="695" y="894"/>
                </a:lnTo>
                <a:lnTo>
                  <a:pt x="697" y="788"/>
                </a:lnTo>
                <a:lnTo>
                  <a:pt x="674" y="721"/>
                </a:lnTo>
                <a:lnTo>
                  <a:pt x="769" y="620"/>
                </a:lnTo>
                <a:lnTo>
                  <a:pt x="761" y="520"/>
                </a:lnTo>
                <a:lnTo>
                  <a:pt x="784" y="503"/>
                </a:lnTo>
                <a:lnTo>
                  <a:pt x="898" y="421"/>
                </a:lnTo>
                <a:lnTo>
                  <a:pt x="957" y="360"/>
                </a:lnTo>
                <a:lnTo>
                  <a:pt x="1034" y="308"/>
                </a:lnTo>
                <a:lnTo>
                  <a:pt x="1185" y="241"/>
                </a:lnTo>
                <a:lnTo>
                  <a:pt x="1129" y="245"/>
                </a:lnTo>
                <a:lnTo>
                  <a:pt x="1077" y="223"/>
                </a:lnTo>
                <a:lnTo>
                  <a:pt x="992" y="231"/>
                </a:lnTo>
                <a:lnTo>
                  <a:pt x="973" y="202"/>
                </a:lnTo>
                <a:lnTo>
                  <a:pt x="946" y="214"/>
                </a:lnTo>
                <a:lnTo>
                  <a:pt x="888" y="245"/>
                </a:lnTo>
                <a:lnTo>
                  <a:pt x="847" y="235"/>
                </a:lnTo>
                <a:lnTo>
                  <a:pt x="830" y="219"/>
                </a:lnTo>
                <a:lnTo>
                  <a:pt x="799" y="212"/>
                </a:lnTo>
                <a:lnTo>
                  <a:pt x="784" y="190"/>
                </a:lnTo>
                <a:lnTo>
                  <a:pt x="753" y="192"/>
                </a:lnTo>
                <a:lnTo>
                  <a:pt x="753" y="212"/>
                </a:lnTo>
                <a:lnTo>
                  <a:pt x="742" y="216"/>
                </a:lnTo>
                <a:lnTo>
                  <a:pt x="718" y="171"/>
                </a:lnTo>
                <a:lnTo>
                  <a:pt x="688" y="171"/>
                </a:lnTo>
                <a:lnTo>
                  <a:pt x="697" y="152"/>
                </a:lnTo>
                <a:lnTo>
                  <a:pt x="630" y="142"/>
                </a:lnTo>
                <a:lnTo>
                  <a:pt x="605" y="140"/>
                </a:lnTo>
                <a:lnTo>
                  <a:pt x="524" y="166"/>
                </a:lnTo>
                <a:lnTo>
                  <a:pt x="510" y="142"/>
                </a:lnTo>
                <a:lnTo>
                  <a:pt x="387" y="120"/>
                </a:lnTo>
                <a:lnTo>
                  <a:pt x="366" y="9"/>
                </a:lnTo>
                <a:lnTo>
                  <a:pt x="312" y="0"/>
                </a:lnTo>
                <a:lnTo>
                  <a:pt x="312" y="72"/>
                </a:lnTo>
                <a:lnTo>
                  <a:pt x="0" y="7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1" name="Freeform 83"/>
          <p:cNvSpPr/>
          <p:nvPr/>
        </p:nvSpPr>
        <p:spPr>
          <a:xfrm>
            <a:off x="4726080" y="4441680"/>
            <a:ext cx="438120" cy="758880"/>
          </a:xfrm>
          <a:custGeom>
            <a:avLst/>
            <a:gdLst>
              <a:gd name="textAreaLeft" fmla="*/ 0 w 438120"/>
              <a:gd name="textAreaRight" fmla="*/ 438480 w 4381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638" h="955">
                <a:moveTo>
                  <a:pt x="0" y="808"/>
                </a:moveTo>
                <a:lnTo>
                  <a:pt x="2" y="774"/>
                </a:lnTo>
                <a:lnTo>
                  <a:pt x="45" y="664"/>
                </a:lnTo>
                <a:lnTo>
                  <a:pt x="106" y="594"/>
                </a:lnTo>
                <a:lnTo>
                  <a:pt x="87" y="572"/>
                </a:lnTo>
                <a:lnTo>
                  <a:pt x="95" y="501"/>
                </a:lnTo>
                <a:lnTo>
                  <a:pt x="62" y="421"/>
                </a:lnTo>
                <a:lnTo>
                  <a:pt x="50" y="313"/>
                </a:lnTo>
                <a:lnTo>
                  <a:pt x="98" y="198"/>
                </a:lnTo>
                <a:lnTo>
                  <a:pt x="164" y="114"/>
                </a:lnTo>
                <a:lnTo>
                  <a:pt x="160" y="94"/>
                </a:lnTo>
                <a:lnTo>
                  <a:pt x="212" y="22"/>
                </a:lnTo>
                <a:lnTo>
                  <a:pt x="597" y="0"/>
                </a:lnTo>
                <a:lnTo>
                  <a:pt x="613" y="19"/>
                </a:lnTo>
                <a:lnTo>
                  <a:pt x="597" y="611"/>
                </a:lnTo>
                <a:lnTo>
                  <a:pt x="638" y="899"/>
                </a:lnTo>
                <a:lnTo>
                  <a:pt x="621" y="911"/>
                </a:lnTo>
                <a:lnTo>
                  <a:pt x="597" y="899"/>
                </a:lnTo>
                <a:lnTo>
                  <a:pt x="569" y="911"/>
                </a:lnTo>
                <a:lnTo>
                  <a:pt x="542" y="894"/>
                </a:lnTo>
                <a:lnTo>
                  <a:pt x="540" y="904"/>
                </a:lnTo>
                <a:lnTo>
                  <a:pt x="509" y="907"/>
                </a:lnTo>
                <a:lnTo>
                  <a:pt x="468" y="924"/>
                </a:lnTo>
                <a:lnTo>
                  <a:pt x="455" y="916"/>
                </a:lnTo>
                <a:lnTo>
                  <a:pt x="434" y="947"/>
                </a:lnTo>
                <a:lnTo>
                  <a:pt x="416" y="955"/>
                </a:lnTo>
                <a:lnTo>
                  <a:pt x="353" y="863"/>
                </a:lnTo>
                <a:lnTo>
                  <a:pt x="364" y="798"/>
                </a:lnTo>
                <a:lnTo>
                  <a:pt x="0" y="80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2" name="Freeform 84"/>
          <p:cNvSpPr/>
          <p:nvPr/>
        </p:nvSpPr>
        <p:spPr>
          <a:xfrm>
            <a:off x="4726080" y="4441680"/>
            <a:ext cx="438120" cy="758880"/>
          </a:xfrm>
          <a:custGeom>
            <a:avLst/>
            <a:gdLst>
              <a:gd name="textAreaLeft" fmla="*/ 0 w 438120"/>
              <a:gd name="textAreaRight" fmla="*/ 438480 w 4381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638" h="955">
                <a:moveTo>
                  <a:pt x="0" y="808"/>
                </a:moveTo>
                <a:lnTo>
                  <a:pt x="2" y="774"/>
                </a:lnTo>
                <a:lnTo>
                  <a:pt x="45" y="664"/>
                </a:lnTo>
                <a:lnTo>
                  <a:pt x="106" y="594"/>
                </a:lnTo>
                <a:lnTo>
                  <a:pt x="87" y="572"/>
                </a:lnTo>
                <a:lnTo>
                  <a:pt x="95" y="501"/>
                </a:lnTo>
                <a:lnTo>
                  <a:pt x="62" y="421"/>
                </a:lnTo>
                <a:lnTo>
                  <a:pt x="50" y="313"/>
                </a:lnTo>
                <a:lnTo>
                  <a:pt x="98" y="198"/>
                </a:lnTo>
                <a:lnTo>
                  <a:pt x="164" y="114"/>
                </a:lnTo>
                <a:lnTo>
                  <a:pt x="160" y="94"/>
                </a:lnTo>
                <a:lnTo>
                  <a:pt x="212" y="22"/>
                </a:lnTo>
                <a:lnTo>
                  <a:pt x="597" y="0"/>
                </a:lnTo>
                <a:lnTo>
                  <a:pt x="613" y="19"/>
                </a:lnTo>
                <a:lnTo>
                  <a:pt x="597" y="611"/>
                </a:lnTo>
                <a:lnTo>
                  <a:pt x="638" y="899"/>
                </a:lnTo>
                <a:lnTo>
                  <a:pt x="621" y="911"/>
                </a:lnTo>
                <a:lnTo>
                  <a:pt x="597" y="899"/>
                </a:lnTo>
                <a:lnTo>
                  <a:pt x="569" y="911"/>
                </a:lnTo>
                <a:lnTo>
                  <a:pt x="542" y="894"/>
                </a:lnTo>
                <a:lnTo>
                  <a:pt x="540" y="904"/>
                </a:lnTo>
                <a:lnTo>
                  <a:pt x="509" y="907"/>
                </a:lnTo>
                <a:lnTo>
                  <a:pt x="468" y="924"/>
                </a:lnTo>
                <a:lnTo>
                  <a:pt x="455" y="916"/>
                </a:lnTo>
                <a:lnTo>
                  <a:pt x="434" y="947"/>
                </a:lnTo>
                <a:lnTo>
                  <a:pt x="416" y="955"/>
                </a:lnTo>
                <a:lnTo>
                  <a:pt x="353" y="863"/>
                </a:lnTo>
                <a:lnTo>
                  <a:pt x="364" y="798"/>
                </a:lnTo>
                <a:lnTo>
                  <a:pt x="0" y="808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3" name="Freeform 85"/>
          <p:cNvSpPr/>
          <p:nvPr/>
        </p:nvSpPr>
        <p:spPr>
          <a:xfrm>
            <a:off x="4175280" y="3592440"/>
            <a:ext cx="826920" cy="709560"/>
          </a:xfrm>
          <a:custGeom>
            <a:avLst/>
            <a:gdLst>
              <a:gd name="textAreaLeft" fmla="*/ 0 w 826920"/>
              <a:gd name="textAreaRight" fmla="*/ 827280 w 826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198" h="897">
                <a:moveTo>
                  <a:pt x="0" y="14"/>
                </a:moveTo>
                <a:lnTo>
                  <a:pt x="73" y="129"/>
                </a:lnTo>
                <a:lnTo>
                  <a:pt x="107" y="156"/>
                </a:lnTo>
                <a:lnTo>
                  <a:pt x="131" y="151"/>
                </a:lnTo>
                <a:lnTo>
                  <a:pt x="150" y="166"/>
                </a:lnTo>
                <a:lnTo>
                  <a:pt x="152" y="180"/>
                </a:lnTo>
                <a:lnTo>
                  <a:pt x="134" y="180"/>
                </a:lnTo>
                <a:lnTo>
                  <a:pt x="111" y="223"/>
                </a:lnTo>
                <a:lnTo>
                  <a:pt x="163" y="288"/>
                </a:lnTo>
                <a:lnTo>
                  <a:pt x="206" y="298"/>
                </a:lnTo>
                <a:lnTo>
                  <a:pt x="198" y="718"/>
                </a:lnTo>
                <a:lnTo>
                  <a:pt x="204" y="820"/>
                </a:lnTo>
                <a:lnTo>
                  <a:pt x="998" y="796"/>
                </a:lnTo>
                <a:lnTo>
                  <a:pt x="1009" y="856"/>
                </a:lnTo>
                <a:lnTo>
                  <a:pt x="976" y="897"/>
                </a:lnTo>
                <a:lnTo>
                  <a:pt x="1098" y="892"/>
                </a:lnTo>
                <a:lnTo>
                  <a:pt x="1117" y="856"/>
                </a:lnTo>
                <a:lnTo>
                  <a:pt x="1121" y="820"/>
                </a:lnTo>
                <a:lnTo>
                  <a:pt x="1150" y="790"/>
                </a:lnTo>
                <a:lnTo>
                  <a:pt x="1161" y="762"/>
                </a:lnTo>
                <a:lnTo>
                  <a:pt x="1188" y="759"/>
                </a:lnTo>
                <a:lnTo>
                  <a:pt x="1198" y="697"/>
                </a:lnTo>
                <a:lnTo>
                  <a:pt x="1181" y="692"/>
                </a:lnTo>
                <a:lnTo>
                  <a:pt x="1154" y="690"/>
                </a:lnTo>
                <a:lnTo>
                  <a:pt x="1125" y="642"/>
                </a:lnTo>
                <a:lnTo>
                  <a:pt x="1111" y="579"/>
                </a:lnTo>
                <a:lnTo>
                  <a:pt x="1080" y="540"/>
                </a:lnTo>
                <a:lnTo>
                  <a:pt x="1032" y="521"/>
                </a:lnTo>
                <a:lnTo>
                  <a:pt x="974" y="480"/>
                </a:lnTo>
                <a:lnTo>
                  <a:pt x="953" y="427"/>
                </a:lnTo>
                <a:lnTo>
                  <a:pt x="986" y="341"/>
                </a:lnTo>
                <a:lnTo>
                  <a:pt x="957" y="322"/>
                </a:lnTo>
                <a:lnTo>
                  <a:pt x="888" y="324"/>
                </a:lnTo>
                <a:lnTo>
                  <a:pt x="876" y="271"/>
                </a:lnTo>
                <a:lnTo>
                  <a:pt x="761" y="166"/>
                </a:lnTo>
                <a:lnTo>
                  <a:pt x="732" y="79"/>
                </a:lnTo>
                <a:lnTo>
                  <a:pt x="747" y="45"/>
                </a:lnTo>
                <a:lnTo>
                  <a:pt x="693" y="0"/>
                </a:lnTo>
                <a:lnTo>
                  <a:pt x="0" y="1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4" name="Freeform 86"/>
          <p:cNvSpPr/>
          <p:nvPr/>
        </p:nvSpPr>
        <p:spPr>
          <a:xfrm>
            <a:off x="4175280" y="3592440"/>
            <a:ext cx="826920" cy="709560"/>
          </a:xfrm>
          <a:custGeom>
            <a:avLst/>
            <a:gdLst>
              <a:gd name="textAreaLeft" fmla="*/ 0 w 826920"/>
              <a:gd name="textAreaRight" fmla="*/ 827280 w 826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198" h="897">
                <a:moveTo>
                  <a:pt x="0" y="14"/>
                </a:moveTo>
                <a:lnTo>
                  <a:pt x="73" y="129"/>
                </a:lnTo>
                <a:lnTo>
                  <a:pt x="107" y="156"/>
                </a:lnTo>
                <a:lnTo>
                  <a:pt x="131" y="151"/>
                </a:lnTo>
                <a:lnTo>
                  <a:pt x="150" y="166"/>
                </a:lnTo>
                <a:lnTo>
                  <a:pt x="152" y="180"/>
                </a:lnTo>
                <a:lnTo>
                  <a:pt x="134" y="180"/>
                </a:lnTo>
                <a:lnTo>
                  <a:pt x="111" y="223"/>
                </a:lnTo>
                <a:lnTo>
                  <a:pt x="163" y="288"/>
                </a:lnTo>
                <a:lnTo>
                  <a:pt x="206" y="298"/>
                </a:lnTo>
                <a:lnTo>
                  <a:pt x="198" y="718"/>
                </a:lnTo>
                <a:lnTo>
                  <a:pt x="204" y="820"/>
                </a:lnTo>
                <a:lnTo>
                  <a:pt x="998" y="796"/>
                </a:lnTo>
                <a:lnTo>
                  <a:pt x="1009" y="856"/>
                </a:lnTo>
                <a:lnTo>
                  <a:pt x="976" y="897"/>
                </a:lnTo>
                <a:lnTo>
                  <a:pt x="1098" y="892"/>
                </a:lnTo>
                <a:lnTo>
                  <a:pt x="1117" y="856"/>
                </a:lnTo>
                <a:lnTo>
                  <a:pt x="1121" y="820"/>
                </a:lnTo>
                <a:lnTo>
                  <a:pt x="1150" y="790"/>
                </a:lnTo>
                <a:lnTo>
                  <a:pt x="1161" y="762"/>
                </a:lnTo>
                <a:lnTo>
                  <a:pt x="1188" y="759"/>
                </a:lnTo>
                <a:lnTo>
                  <a:pt x="1198" y="697"/>
                </a:lnTo>
                <a:lnTo>
                  <a:pt x="1181" y="692"/>
                </a:lnTo>
                <a:lnTo>
                  <a:pt x="1154" y="690"/>
                </a:lnTo>
                <a:lnTo>
                  <a:pt x="1125" y="642"/>
                </a:lnTo>
                <a:lnTo>
                  <a:pt x="1111" y="579"/>
                </a:lnTo>
                <a:lnTo>
                  <a:pt x="1080" y="540"/>
                </a:lnTo>
                <a:lnTo>
                  <a:pt x="1032" y="521"/>
                </a:lnTo>
                <a:lnTo>
                  <a:pt x="974" y="480"/>
                </a:lnTo>
                <a:lnTo>
                  <a:pt x="953" y="427"/>
                </a:lnTo>
                <a:lnTo>
                  <a:pt x="986" y="341"/>
                </a:lnTo>
                <a:lnTo>
                  <a:pt x="957" y="322"/>
                </a:lnTo>
                <a:lnTo>
                  <a:pt x="888" y="324"/>
                </a:lnTo>
                <a:lnTo>
                  <a:pt x="876" y="271"/>
                </a:lnTo>
                <a:lnTo>
                  <a:pt x="761" y="166"/>
                </a:lnTo>
                <a:lnTo>
                  <a:pt x="732" y="79"/>
                </a:lnTo>
                <a:lnTo>
                  <a:pt x="747" y="45"/>
                </a:lnTo>
                <a:lnTo>
                  <a:pt x="693" y="0"/>
                </a:lnTo>
                <a:lnTo>
                  <a:pt x="0" y="14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5" name="Freeform 87"/>
          <p:cNvSpPr/>
          <p:nvPr/>
        </p:nvSpPr>
        <p:spPr>
          <a:xfrm>
            <a:off x="2044800" y="2076480"/>
            <a:ext cx="1271520" cy="79848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40" h="1008">
                <a:moveTo>
                  <a:pt x="0" y="190"/>
                </a:moveTo>
                <a:lnTo>
                  <a:pt x="31" y="255"/>
                </a:lnTo>
                <a:lnTo>
                  <a:pt x="35" y="299"/>
                </a:lnTo>
                <a:lnTo>
                  <a:pt x="17" y="304"/>
                </a:lnTo>
                <a:lnTo>
                  <a:pt x="73" y="349"/>
                </a:lnTo>
                <a:lnTo>
                  <a:pt x="129" y="471"/>
                </a:lnTo>
                <a:lnTo>
                  <a:pt x="148" y="464"/>
                </a:lnTo>
                <a:lnTo>
                  <a:pt x="150" y="484"/>
                </a:lnTo>
                <a:lnTo>
                  <a:pt x="177" y="489"/>
                </a:lnTo>
                <a:lnTo>
                  <a:pt x="198" y="491"/>
                </a:lnTo>
                <a:lnTo>
                  <a:pt x="146" y="580"/>
                </a:lnTo>
                <a:lnTo>
                  <a:pt x="154" y="638"/>
                </a:lnTo>
                <a:lnTo>
                  <a:pt x="116" y="695"/>
                </a:lnTo>
                <a:lnTo>
                  <a:pt x="143" y="719"/>
                </a:lnTo>
                <a:lnTo>
                  <a:pt x="214" y="683"/>
                </a:lnTo>
                <a:lnTo>
                  <a:pt x="270" y="873"/>
                </a:lnTo>
                <a:lnTo>
                  <a:pt x="301" y="881"/>
                </a:lnTo>
                <a:lnTo>
                  <a:pt x="308" y="941"/>
                </a:lnTo>
                <a:lnTo>
                  <a:pt x="337" y="965"/>
                </a:lnTo>
                <a:lnTo>
                  <a:pt x="358" y="943"/>
                </a:lnTo>
                <a:lnTo>
                  <a:pt x="405" y="962"/>
                </a:lnTo>
                <a:lnTo>
                  <a:pt x="435" y="941"/>
                </a:lnTo>
                <a:lnTo>
                  <a:pt x="538" y="960"/>
                </a:lnTo>
                <a:lnTo>
                  <a:pt x="559" y="964"/>
                </a:lnTo>
                <a:lnTo>
                  <a:pt x="582" y="924"/>
                </a:lnTo>
                <a:lnTo>
                  <a:pt x="622" y="986"/>
                </a:lnTo>
                <a:lnTo>
                  <a:pt x="644" y="890"/>
                </a:lnTo>
                <a:lnTo>
                  <a:pt x="1141" y="953"/>
                </a:lnTo>
                <a:lnTo>
                  <a:pt x="1759" y="1008"/>
                </a:lnTo>
                <a:lnTo>
                  <a:pt x="1778" y="827"/>
                </a:lnTo>
                <a:lnTo>
                  <a:pt x="1840" y="234"/>
                </a:lnTo>
                <a:lnTo>
                  <a:pt x="1027" y="154"/>
                </a:lnTo>
                <a:lnTo>
                  <a:pt x="618" y="96"/>
                </a:lnTo>
                <a:lnTo>
                  <a:pt x="48" y="0"/>
                </a:lnTo>
                <a:lnTo>
                  <a:pt x="0" y="19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6" name="Freeform 88"/>
          <p:cNvSpPr/>
          <p:nvPr/>
        </p:nvSpPr>
        <p:spPr>
          <a:xfrm>
            <a:off x="2044800" y="2076480"/>
            <a:ext cx="1271520" cy="79848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40" h="1008">
                <a:moveTo>
                  <a:pt x="0" y="190"/>
                </a:moveTo>
                <a:lnTo>
                  <a:pt x="31" y="255"/>
                </a:lnTo>
                <a:lnTo>
                  <a:pt x="35" y="299"/>
                </a:lnTo>
                <a:lnTo>
                  <a:pt x="17" y="304"/>
                </a:lnTo>
                <a:lnTo>
                  <a:pt x="73" y="349"/>
                </a:lnTo>
                <a:lnTo>
                  <a:pt x="129" y="471"/>
                </a:lnTo>
                <a:lnTo>
                  <a:pt x="148" y="464"/>
                </a:lnTo>
                <a:lnTo>
                  <a:pt x="150" y="484"/>
                </a:lnTo>
                <a:lnTo>
                  <a:pt x="177" y="489"/>
                </a:lnTo>
                <a:lnTo>
                  <a:pt x="198" y="491"/>
                </a:lnTo>
                <a:lnTo>
                  <a:pt x="146" y="580"/>
                </a:lnTo>
                <a:lnTo>
                  <a:pt x="154" y="638"/>
                </a:lnTo>
                <a:lnTo>
                  <a:pt x="116" y="695"/>
                </a:lnTo>
                <a:lnTo>
                  <a:pt x="143" y="719"/>
                </a:lnTo>
                <a:lnTo>
                  <a:pt x="214" y="683"/>
                </a:lnTo>
                <a:lnTo>
                  <a:pt x="270" y="873"/>
                </a:lnTo>
                <a:lnTo>
                  <a:pt x="301" y="881"/>
                </a:lnTo>
                <a:lnTo>
                  <a:pt x="308" y="941"/>
                </a:lnTo>
                <a:lnTo>
                  <a:pt x="337" y="965"/>
                </a:lnTo>
                <a:lnTo>
                  <a:pt x="358" y="943"/>
                </a:lnTo>
                <a:lnTo>
                  <a:pt x="405" y="962"/>
                </a:lnTo>
                <a:lnTo>
                  <a:pt x="435" y="941"/>
                </a:lnTo>
                <a:lnTo>
                  <a:pt x="538" y="960"/>
                </a:lnTo>
                <a:lnTo>
                  <a:pt x="559" y="964"/>
                </a:lnTo>
                <a:lnTo>
                  <a:pt x="582" y="924"/>
                </a:lnTo>
                <a:lnTo>
                  <a:pt x="622" y="986"/>
                </a:lnTo>
                <a:lnTo>
                  <a:pt x="644" y="890"/>
                </a:lnTo>
                <a:lnTo>
                  <a:pt x="1141" y="953"/>
                </a:lnTo>
                <a:lnTo>
                  <a:pt x="1759" y="1008"/>
                </a:lnTo>
                <a:lnTo>
                  <a:pt x="1778" y="827"/>
                </a:lnTo>
                <a:lnTo>
                  <a:pt x="1840" y="234"/>
                </a:lnTo>
                <a:lnTo>
                  <a:pt x="1027" y="154"/>
                </a:lnTo>
                <a:lnTo>
                  <a:pt x="618" y="96"/>
                </a:lnTo>
                <a:lnTo>
                  <a:pt x="48" y="0"/>
                </a:lnTo>
                <a:lnTo>
                  <a:pt x="0" y="190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7" name="Freeform 89"/>
          <p:cNvSpPr/>
          <p:nvPr/>
        </p:nvSpPr>
        <p:spPr>
          <a:xfrm>
            <a:off x="3200400" y="3186000"/>
            <a:ext cx="1023840" cy="5065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488" h="641">
                <a:moveTo>
                  <a:pt x="0" y="391"/>
                </a:moveTo>
                <a:lnTo>
                  <a:pt x="43" y="0"/>
                </a:lnTo>
                <a:lnTo>
                  <a:pt x="960" y="48"/>
                </a:lnTo>
                <a:lnTo>
                  <a:pt x="1020" y="88"/>
                </a:lnTo>
                <a:lnTo>
                  <a:pt x="1129" y="86"/>
                </a:lnTo>
                <a:lnTo>
                  <a:pt x="1181" y="94"/>
                </a:lnTo>
                <a:lnTo>
                  <a:pt x="1245" y="117"/>
                </a:lnTo>
                <a:lnTo>
                  <a:pt x="1274" y="151"/>
                </a:lnTo>
                <a:lnTo>
                  <a:pt x="1301" y="158"/>
                </a:lnTo>
                <a:lnTo>
                  <a:pt x="1355" y="278"/>
                </a:lnTo>
                <a:lnTo>
                  <a:pt x="1355" y="317"/>
                </a:lnTo>
                <a:lnTo>
                  <a:pt x="1388" y="373"/>
                </a:lnTo>
                <a:lnTo>
                  <a:pt x="1403" y="466"/>
                </a:lnTo>
                <a:lnTo>
                  <a:pt x="1395" y="493"/>
                </a:lnTo>
                <a:lnTo>
                  <a:pt x="1415" y="526"/>
                </a:lnTo>
                <a:lnTo>
                  <a:pt x="1488" y="641"/>
                </a:lnTo>
                <a:lnTo>
                  <a:pt x="825" y="634"/>
                </a:lnTo>
                <a:lnTo>
                  <a:pt x="326" y="611"/>
                </a:lnTo>
                <a:lnTo>
                  <a:pt x="339" y="415"/>
                </a:lnTo>
                <a:lnTo>
                  <a:pt x="0" y="3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8" name="Freeform 90"/>
          <p:cNvSpPr/>
          <p:nvPr/>
        </p:nvSpPr>
        <p:spPr>
          <a:xfrm>
            <a:off x="3200400" y="3186000"/>
            <a:ext cx="1023840" cy="5065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488" h="641">
                <a:moveTo>
                  <a:pt x="0" y="391"/>
                </a:moveTo>
                <a:lnTo>
                  <a:pt x="43" y="0"/>
                </a:lnTo>
                <a:lnTo>
                  <a:pt x="960" y="48"/>
                </a:lnTo>
                <a:lnTo>
                  <a:pt x="1020" y="88"/>
                </a:lnTo>
                <a:lnTo>
                  <a:pt x="1129" y="86"/>
                </a:lnTo>
                <a:lnTo>
                  <a:pt x="1181" y="94"/>
                </a:lnTo>
                <a:lnTo>
                  <a:pt x="1245" y="117"/>
                </a:lnTo>
                <a:lnTo>
                  <a:pt x="1274" y="151"/>
                </a:lnTo>
                <a:lnTo>
                  <a:pt x="1301" y="158"/>
                </a:lnTo>
                <a:lnTo>
                  <a:pt x="1355" y="278"/>
                </a:lnTo>
                <a:lnTo>
                  <a:pt x="1355" y="317"/>
                </a:lnTo>
                <a:lnTo>
                  <a:pt x="1388" y="373"/>
                </a:lnTo>
                <a:lnTo>
                  <a:pt x="1403" y="466"/>
                </a:lnTo>
                <a:lnTo>
                  <a:pt x="1395" y="493"/>
                </a:lnTo>
                <a:lnTo>
                  <a:pt x="1415" y="526"/>
                </a:lnTo>
                <a:lnTo>
                  <a:pt x="1488" y="641"/>
                </a:lnTo>
                <a:lnTo>
                  <a:pt x="825" y="634"/>
                </a:lnTo>
                <a:lnTo>
                  <a:pt x="326" y="611"/>
                </a:lnTo>
                <a:lnTo>
                  <a:pt x="339" y="415"/>
                </a:lnTo>
                <a:lnTo>
                  <a:pt x="0" y="39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9" name="Freeform 91"/>
          <p:cNvSpPr/>
          <p:nvPr/>
        </p:nvSpPr>
        <p:spPr>
          <a:xfrm>
            <a:off x="1281240" y="3022560"/>
            <a:ext cx="787320" cy="1209600"/>
          </a:xfrm>
          <a:custGeom>
            <a:avLst/>
            <a:gdLst>
              <a:gd name="textAreaLeft" fmla="*/ 0 w 787320"/>
              <a:gd name="textAreaRight" fmla="*/ 787680 w 78732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145" h="1525">
                <a:moveTo>
                  <a:pt x="0" y="561"/>
                </a:moveTo>
                <a:lnTo>
                  <a:pt x="50" y="649"/>
                </a:lnTo>
                <a:lnTo>
                  <a:pt x="728" y="1525"/>
                </a:lnTo>
                <a:lnTo>
                  <a:pt x="754" y="1320"/>
                </a:lnTo>
                <a:lnTo>
                  <a:pt x="794" y="1310"/>
                </a:lnTo>
                <a:lnTo>
                  <a:pt x="865" y="1344"/>
                </a:lnTo>
                <a:lnTo>
                  <a:pt x="923" y="1162"/>
                </a:lnTo>
                <a:lnTo>
                  <a:pt x="1145" y="197"/>
                </a:lnTo>
                <a:lnTo>
                  <a:pt x="655" y="106"/>
                </a:lnTo>
                <a:lnTo>
                  <a:pt x="170" y="0"/>
                </a:lnTo>
                <a:lnTo>
                  <a:pt x="0" y="56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0" name="Freeform 92"/>
          <p:cNvSpPr/>
          <p:nvPr/>
        </p:nvSpPr>
        <p:spPr>
          <a:xfrm>
            <a:off x="1281240" y="3022560"/>
            <a:ext cx="787320" cy="1209600"/>
          </a:xfrm>
          <a:custGeom>
            <a:avLst/>
            <a:gdLst>
              <a:gd name="textAreaLeft" fmla="*/ 0 w 787320"/>
              <a:gd name="textAreaRight" fmla="*/ 787680 w 78732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145" h="1525">
                <a:moveTo>
                  <a:pt x="0" y="561"/>
                </a:moveTo>
                <a:lnTo>
                  <a:pt x="50" y="649"/>
                </a:lnTo>
                <a:lnTo>
                  <a:pt x="728" y="1525"/>
                </a:lnTo>
                <a:lnTo>
                  <a:pt x="754" y="1320"/>
                </a:lnTo>
                <a:lnTo>
                  <a:pt x="794" y="1310"/>
                </a:lnTo>
                <a:lnTo>
                  <a:pt x="865" y="1344"/>
                </a:lnTo>
                <a:lnTo>
                  <a:pt x="923" y="1162"/>
                </a:lnTo>
                <a:lnTo>
                  <a:pt x="1145" y="197"/>
                </a:lnTo>
                <a:lnTo>
                  <a:pt x="655" y="106"/>
                </a:lnTo>
                <a:lnTo>
                  <a:pt x="170" y="0"/>
                </a:lnTo>
                <a:lnTo>
                  <a:pt x="0" y="56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1" name="Freeform 93"/>
          <p:cNvSpPr/>
          <p:nvPr/>
        </p:nvSpPr>
        <p:spPr>
          <a:xfrm>
            <a:off x="6802560" y="2529000"/>
            <a:ext cx="203040" cy="426960"/>
          </a:xfrm>
          <a:custGeom>
            <a:avLst/>
            <a:gdLst>
              <a:gd name="textAreaLeft" fmla="*/ 0 w 203040"/>
              <a:gd name="textAreaRight" fmla="*/ 203400 w 2030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293" h="539">
                <a:moveTo>
                  <a:pt x="0" y="369"/>
                </a:moveTo>
                <a:lnTo>
                  <a:pt x="15" y="251"/>
                </a:lnTo>
                <a:lnTo>
                  <a:pt x="50" y="196"/>
                </a:lnTo>
                <a:lnTo>
                  <a:pt x="54" y="71"/>
                </a:lnTo>
                <a:lnTo>
                  <a:pt x="52" y="27"/>
                </a:lnTo>
                <a:lnTo>
                  <a:pt x="102" y="0"/>
                </a:lnTo>
                <a:lnTo>
                  <a:pt x="225" y="337"/>
                </a:lnTo>
                <a:lnTo>
                  <a:pt x="285" y="409"/>
                </a:lnTo>
                <a:lnTo>
                  <a:pt x="293" y="424"/>
                </a:lnTo>
                <a:lnTo>
                  <a:pt x="283" y="458"/>
                </a:lnTo>
                <a:lnTo>
                  <a:pt x="227" y="494"/>
                </a:lnTo>
                <a:lnTo>
                  <a:pt x="25" y="539"/>
                </a:lnTo>
                <a:lnTo>
                  <a:pt x="0" y="36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2" name="Freeform 94"/>
          <p:cNvSpPr/>
          <p:nvPr/>
        </p:nvSpPr>
        <p:spPr>
          <a:xfrm>
            <a:off x="6802560" y="2529000"/>
            <a:ext cx="203040" cy="426960"/>
          </a:xfrm>
          <a:custGeom>
            <a:avLst/>
            <a:gdLst>
              <a:gd name="textAreaLeft" fmla="*/ 0 w 203040"/>
              <a:gd name="textAreaRight" fmla="*/ 203400 w 2030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293" h="539">
                <a:moveTo>
                  <a:pt x="0" y="369"/>
                </a:moveTo>
                <a:lnTo>
                  <a:pt x="15" y="251"/>
                </a:lnTo>
                <a:lnTo>
                  <a:pt x="50" y="196"/>
                </a:lnTo>
                <a:lnTo>
                  <a:pt x="54" y="71"/>
                </a:lnTo>
                <a:lnTo>
                  <a:pt x="52" y="27"/>
                </a:lnTo>
                <a:lnTo>
                  <a:pt x="102" y="0"/>
                </a:lnTo>
                <a:lnTo>
                  <a:pt x="225" y="337"/>
                </a:lnTo>
                <a:lnTo>
                  <a:pt x="285" y="409"/>
                </a:lnTo>
                <a:lnTo>
                  <a:pt x="293" y="424"/>
                </a:lnTo>
                <a:lnTo>
                  <a:pt x="283" y="458"/>
                </a:lnTo>
                <a:lnTo>
                  <a:pt x="227" y="494"/>
                </a:lnTo>
                <a:lnTo>
                  <a:pt x="25" y="539"/>
                </a:lnTo>
                <a:lnTo>
                  <a:pt x="0" y="36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3" name="Freeform 95"/>
          <p:cNvSpPr/>
          <p:nvPr/>
        </p:nvSpPr>
        <p:spPr>
          <a:xfrm>
            <a:off x="6578640" y="3220920"/>
            <a:ext cx="169920" cy="376200"/>
          </a:xfrm>
          <a:custGeom>
            <a:avLst/>
            <a:gdLst>
              <a:gd name="textAreaLeft" fmla="*/ 0 w 169920"/>
              <a:gd name="textAreaRight" fmla="*/ 170280 w 1699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43" h="474">
                <a:moveTo>
                  <a:pt x="0" y="351"/>
                </a:moveTo>
                <a:lnTo>
                  <a:pt x="13" y="322"/>
                </a:lnTo>
                <a:lnTo>
                  <a:pt x="56" y="299"/>
                </a:lnTo>
                <a:lnTo>
                  <a:pt x="77" y="262"/>
                </a:lnTo>
                <a:lnTo>
                  <a:pt x="112" y="231"/>
                </a:lnTo>
                <a:lnTo>
                  <a:pt x="12" y="161"/>
                </a:lnTo>
                <a:lnTo>
                  <a:pt x="8" y="92"/>
                </a:lnTo>
                <a:lnTo>
                  <a:pt x="54" y="0"/>
                </a:lnTo>
                <a:lnTo>
                  <a:pt x="208" y="46"/>
                </a:lnTo>
                <a:lnTo>
                  <a:pt x="210" y="63"/>
                </a:lnTo>
                <a:lnTo>
                  <a:pt x="193" y="116"/>
                </a:lnTo>
                <a:lnTo>
                  <a:pt x="175" y="130"/>
                </a:lnTo>
                <a:lnTo>
                  <a:pt x="173" y="156"/>
                </a:lnTo>
                <a:lnTo>
                  <a:pt x="189" y="162"/>
                </a:lnTo>
                <a:lnTo>
                  <a:pt x="206" y="161"/>
                </a:lnTo>
                <a:lnTo>
                  <a:pt x="222" y="162"/>
                </a:lnTo>
                <a:lnTo>
                  <a:pt x="218" y="150"/>
                </a:lnTo>
                <a:lnTo>
                  <a:pt x="225" y="156"/>
                </a:lnTo>
                <a:lnTo>
                  <a:pt x="239" y="186"/>
                </a:lnTo>
                <a:lnTo>
                  <a:pt x="243" y="286"/>
                </a:lnTo>
                <a:lnTo>
                  <a:pt x="237" y="260"/>
                </a:lnTo>
                <a:lnTo>
                  <a:pt x="227" y="238"/>
                </a:lnTo>
                <a:lnTo>
                  <a:pt x="225" y="250"/>
                </a:lnTo>
                <a:lnTo>
                  <a:pt x="229" y="274"/>
                </a:lnTo>
                <a:lnTo>
                  <a:pt x="225" y="286"/>
                </a:lnTo>
                <a:lnTo>
                  <a:pt x="227" y="311"/>
                </a:lnTo>
                <a:lnTo>
                  <a:pt x="216" y="340"/>
                </a:lnTo>
                <a:lnTo>
                  <a:pt x="200" y="340"/>
                </a:lnTo>
                <a:lnTo>
                  <a:pt x="206" y="363"/>
                </a:lnTo>
                <a:lnTo>
                  <a:pt x="183" y="397"/>
                </a:lnTo>
                <a:lnTo>
                  <a:pt x="148" y="474"/>
                </a:lnTo>
                <a:lnTo>
                  <a:pt x="135" y="474"/>
                </a:lnTo>
                <a:lnTo>
                  <a:pt x="137" y="443"/>
                </a:lnTo>
                <a:lnTo>
                  <a:pt x="133" y="431"/>
                </a:lnTo>
                <a:lnTo>
                  <a:pt x="91" y="433"/>
                </a:lnTo>
                <a:lnTo>
                  <a:pt x="33" y="402"/>
                </a:lnTo>
                <a:lnTo>
                  <a:pt x="12" y="390"/>
                </a:lnTo>
                <a:lnTo>
                  <a:pt x="0" y="35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4" name="Freeform 96"/>
          <p:cNvSpPr/>
          <p:nvPr/>
        </p:nvSpPr>
        <p:spPr>
          <a:xfrm>
            <a:off x="6553080" y="3220920"/>
            <a:ext cx="195480" cy="360360"/>
          </a:xfrm>
          <a:custGeom>
            <a:avLst/>
            <a:gdLst>
              <a:gd name="textAreaLeft" fmla="*/ 0 w 195480"/>
              <a:gd name="textAreaRight" fmla="*/ 195840 w 1954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43" h="474">
                <a:moveTo>
                  <a:pt x="0" y="351"/>
                </a:moveTo>
                <a:lnTo>
                  <a:pt x="13" y="322"/>
                </a:lnTo>
                <a:lnTo>
                  <a:pt x="56" y="299"/>
                </a:lnTo>
                <a:lnTo>
                  <a:pt x="77" y="262"/>
                </a:lnTo>
                <a:lnTo>
                  <a:pt x="112" y="231"/>
                </a:lnTo>
                <a:lnTo>
                  <a:pt x="12" y="161"/>
                </a:lnTo>
                <a:lnTo>
                  <a:pt x="8" y="92"/>
                </a:lnTo>
                <a:lnTo>
                  <a:pt x="54" y="0"/>
                </a:lnTo>
                <a:lnTo>
                  <a:pt x="208" y="46"/>
                </a:lnTo>
                <a:lnTo>
                  <a:pt x="210" y="63"/>
                </a:lnTo>
                <a:lnTo>
                  <a:pt x="193" y="116"/>
                </a:lnTo>
                <a:lnTo>
                  <a:pt x="175" y="130"/>
                </a:lnTo>
                <a:lnTo>
                  <a:pt x="173" y="156"/>
                </a:lnTo>
                <a:lnTo>
                  <a:pt x="189" y="162"/>
                </a:lnTo>
                <a:lnTo>
                  <a:pt x="206" y="161"/>
                </a:lnTo>
                <a:lnTo>
                  <a:pt x="222" y="162"/>
                </a:lnTo>
                <a:lnTo>
                  <a:pt x="218" y="150"/>
                </a:lnTo>
                <a:lnTo>
                  <a:pt x="225" y="156"/>
                </a:lnTo>
                <a:lnTo>
                  <a:pt x="239" y="186"/>
                </a:lnTo>
                <a:lnTo>
                  <a:pt x="243" y="286"/>
                </a:lnTo>
                <a:lnTo>
                  <a:pt x="237" y="260"/>
                </a:lnTo>
                <a:lnTo>
                  <a:pt x="227" y="238"/>
                </a:lnTo>
                <a:lnTo>
                  <a:pt x="225" y="250"/>
                </a:lnTo>
                <a:lnTo>
                  <a:pt x="229" y="274"/>
                </a:lnTo>
                <a:lnTo>
                  <a:pt x="225" y="286"/>
                </a:lnTo>
                <a:lnTo>
                  <a:pt x="227" y="311"/>
                </a:lnTo>
                <a:lnTo>
                  <a:pt x="216" y="340"/>
                </a:lnTo>
                <a:lnTo>
                  <a:pt x="200" y="340"/>
                </a:lnTo>
                <a:lnTo>
                  <a:pt x="206" y="363"/>
                </a:lnTo>
                <a:lnTo>
                  <a:pt x="183" y="397"/>
                </a:lnTo>
                <a:lnTo>
                  <a:pt x="148" y="474"/>
                </a:lnTo>
                <a:lnTo>
                  <a:pt x="135" y="474"/>
                </a:lnTo>
                <a:lnTo>
                  <a:pt x="137" y="443"/>
                </a:lnTo>
                <a:lnTo>
                  <a:pt x="133" y="431"/>
                </a:lnTo>
                <a:lnTo>
                  <a:pt x="91" y="433"/>
                </a:lnTo>
                <a:lnTo>
                  <a:pt x="33" y="402"/>
                </a:lnTo>
                <a:lnTo>
                  <a:pt x="12" y="390"/>
                </a:lnTo>
                <a:lnTo>
                  <a:pt x="0" y="351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5" name="Freeform 97"/>
          <p:cNvSpPr/>
          <p:nvPr/>
        </p:nvSpPr>
        <p:spPr>
          <a:xfrm>
            <a:off x="2401920" y="4048200"/>
            <a:ext cx="873000" cy="884160"/>
          </a:xfrm>
          <a:custGeom>
            <a:avLst/>
            <a:gdLst>
              <a:gd name="textAreaLeft" fmla="*/ 0 w 873000"/>
              <a:gd name="textAreaRight" fmla="*/ 873360 w 87300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266" h="1117">
                <a:moveTo>
                  <a:pt x="0" y="1098"/>
                </a:moveTo>
                <a:lnTo>
                  <a:pt x="158" y="1117"/>
                </a:lnTo>
                <a:lnTo>
                  <a:pt x="174" y="1031"/>
                </a:lnTo>
                <a:lnTo>
                  <a:pt x="494" y="1067"/>
                </a:lnTo>
                <a:lnTo>
                  <a:pt x="478" y="1026"/>
                </a:lnTo>
                <a:lnTo>
                  <a:pt x="528" y="1030"/>
                </a:lnTo>
                <a:lnTo>
                  <a:pt x="1162" y="1083"/>
                </a:lnTo>
                <a:lnTo>
                  <a:pt x="1257" y="204"/>
                </a:lnTo>
                <a:lnTo>
                  <a:pt x="1266" y="102"/>
                </a:lnTo>
                <a:lnTo>
                  <a:pt x="727" y="60"/>
                </a:lnTo>
                <a:lnTo>
                  <a:pt x="185" y="0"/>
                </a:lnTo>
                <a:lnTo>
                  <a:pt x="0" y="10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6" name="Freeform 98"/>
          <p:cNvSpPr/>
          <p:nvPr/>
        </p:nvSpPr>
        <p:spPr>
          <a:xfrm>
            <a:off x="2401920" y="4048200"/>
            <a:ext cx="873000" cy="884160"/>
          </a:xfrm>
          <a:custGeom>
            <a:avLst/>
            <a:gdLst>
              <a:gd name="textAreaLeft" fmla="*/ 0 w 873000"/>
              <a:gd name="textAreaRight" fmla="*/ 873360 w 87300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266" h="1117">
                <a:moveTo>
                  <a:pt x="0" y="1098"/>
                </a:moveTo>
                <a:lnTo>
                  <a:pt x="158" y="1117"/>
                </a:lnTo>
                <a:lnTo>
                  <a:pt x="174" y="1031"/>
                </a:lnTo>
                <a:lnTo>
                  <a:pt x="494" y="1067"/>
                </a:lnTo>
                <a:lnTo>
                  <a:pt x="478" y="1026"/>
                </a:lnTo>
                <a:lnTo>
                  <a:pt x="528" y="1030"/>
                </a:lnTo>
                <a:lnTo>
                  <a:pt x="1162" y="1083"/>
                </a:lnTo>
                <a:lnTo>
                  <a:pt x="1257" y="204"/>
                </a:lnTo>
                <a:lnTo>
                  <a:pt x="1266" y="102"/>
                </a:lnTo>
                <a:lnTo>
                  <a:pt x="727" y="60"/>
                </a:lnTo>
                <a:lnTo>
                  <a:pt x="185" y="0"/>
                </a:lnTo>
                <a:lnTo>
                  <a:pt x="0" y="109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7" name="Freeform 99"/>
          <p:cNvSpPr/>
          <p:nvPr/>
        </p:nvSpPr>
        <p:spPr>
          <a:xfrm>
            <a:off x="6014880" y="2633760"/>
            <a:ext cx="736920" cy="652320"/>
          </a:xfrm>
          <a:custGeom>
            <a:avLst/>
            <a:gdLst>
              <a:gd name="textAreaLeft" fmla="*/ 0 w 736920"/>
              <a:gd name="textAreaRight" fmla="*/ 737280 w 736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1066" h="824">
                <a:moveTo>
                  <a:pt x="0" y="709"/>
                </a:moveTo>
                <a:lnTo>
                  <a:pt x="35" y="755"/>
                </a:lnTo>
                <a:lnTo>
                  <a:pt x="730" y="642"/>
                </a:lnTo>
                <a:lnTo>
                  <a:pt x="779" y="661"/>
                </a:lnTo>
                <a:lnTo>
                  <a:pt x="807" y="709"/>
                </a:lnTo>
                <a:lnTo>
                  <a:pt x="873" y="742"/>
                </a:lnTo>
                <a:lnTo>
                  <a:pt x="1027" y="788"/>
                </a:lnTo>
                <a:lnTo>
                  <a:pt x="1029" y="805"/>
                </a:lnTo>
                <a:lnTo>
                  <a:pt x="1041" y="824"/>
                </a:lnTo>
                <a:lnTo>
                  <a:pt x="1050" y="814"/>
                </a:lnTo>
                <a:lnTo>
                  <a:pt x="1066" y="774"/>
                </a:lnTo>
                <a:lnTo>
                  <a:pt x="1066" y="704"/>
                </a:lnTo>
                <a:lnTo>
                  <a:pt x="1041" y="572"/>
                </a:lnTo>
                <a:lnTo>
                  <a:pt x="1039" y="432"/>
                </a:lnTo>
                <a:lnTo>
                  <a:pt x="1012" y="322"/>
                </a:lnTo>
                <a:lnTo>
                  <a:pt x="963" y="233"/>
                </a:lnTo>
                <a:lnTo>
                  <a:pt x="954" y="141"/>
                </a:lnTo>
                <a:lnTo>
                  <a:pt x="908" y="0"/>
                </a:lnTo>
                <a:lnTo>
                  <a:pt x="696" y="50"/>
                </a:lnTo>
                <a:lnTo>
                  <a:pt x="678" y="45"/>
                </a:lnTo>
                <a:lnTo>
                  <a:pt x="613" y="93"/>
                </a:lnTo>
                <a:lnTo>
                  <a:pt x="553" y="165"/>
                </a:lnTo>
                <a:lnTo>
                  <a:pt x="547" y="197"/>
                </a:lnTo>
                <a:lnTo>
                  <a:pt x="522" y="228"/>
                </a:lnTo>
                <a:lnTo>
                  <a:pt x="474" y="266"/>
                </a:lnTo>
                <a:lnTo>
                  <a:pt x="495" y="291"/>
                </a:lnTo>
                <a:lnTo>
                  <a:pt x="501" y="273"/>
                </a:lnTo>
                <a:lnTo>
                  <a:pt x="513" y="278"/>
                </a:lnTo>
                <a:lnTo>
                  <a:pt x="507" y="286"/>
                </a:lnTo>
                <a:lnTo>
                  <a:pt x="515" y="291"/>
                </a:lnTo>
                <a:lnTo>
                  <a:pt x="507" y="309"/>
                </a:lnTo>
                <a:lnTo>
                  <a:pt x="501" y="307"/>
                </a:lnTo>
                <a:lnTo>
                  <a:pt x="499" y="317"/>
                </a:lnTo>
                <a:lnTo>
                  <a:pt x="522" y="343"/>
                </a:lnTo>
                <a:lnTo>
                  <a:pt x="522" y="367"/>
                </a:lnTo>
                <a:lnTo>
                  <a:pt x="490" y="382"/>
                </a:lnTo>
                <a:lnTo>
                  <a:pt x="455" y="425"/>
                </a:lnTo>
                <a:lnTo>
                  <a:pt x="418" y="449"/>
                </a:lnTo>
                <a:lnTo>
                  <a:pt x="351" y="451"/>
                </a:lnTo>
                <a:lnTo>
                  <a:pt x="326" y="468"/>
                </a:lnTo>
                <a:lnTo>
                  <a:pt x="287" y="454"/>
                </a:lnTo>
                <a:lnTo>
                  <a:pt x="172" y="464"/>
                </a:lnTo>
                <a:lnTo>
                  <a:pt x="83" y="495"/>
                </a:lnTo>
                <a:lnTo>
                  <a:pt x="91" y="519"/>
                </a:lnTo>
                <a:lnTo>
                  <a:pt x="83" y="533"/>
                </a:lnTo>
                <a:lnTo>
                  <a:pt x="91" y="533"/>
                </a:lnTo>
                <a:lnTo>
                  <a:pt x="104" y="559"/>
                </a:lnTo>
                <a:lnTo>
                  <a:pt x="116" y="557"/>
                </a:lnTo>
                <a:lnTo>
                  <a:pt x="129" y="583"/>
                </a:lnTo>
                <a:lnTo>
                  <a:pt x="127" y="591"/>
                </a:lnTo>
                <a:lnTo>
                  <a:pt x="106" y="603"/>
                </a:lnTo>
                <a:lnTo>
                  <a:pt x="95" y="634"/>
                </a:lnTo>
                <a:lnTo>
                  <a:pt x="0" y="70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8" name="Freeform 100"/>
          <p:cNvSpPr/>
          <p:nvPr/>
        </p:nvSpPr>
        <p:spPr>
          <a:xfrm>
            <a:off x="6014880" y="2633760"/>
            <a:ext cx="736920" cy="652320"/>
          </a:xfrm>
          <a:custGeom>
            <a:avLst/>
            <a:gdLst>
              <a:gd name="textAreaLeft" fmla="*/ 0 w 736920"/>
              <a:gd name="textAreaRight" fmla="*/ 737280 w 736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1066" h="824">
                <a:moveTo>
                  <a:pt x="0" y="709"/>
                </a:moveTo>
                <a:lnTo>
                  <a:pt x="35" y="755"/>
                </a:lnTo>
                <a:lnTo>
                  <a:pt x="730" y="642"/>
                </a:lnTo>
                <a:lnTo>
                  <a:pt x="779" y="661"/>
                </a:lnTo>
                <a:lnTo>
                  <a:pt x="807" y="709"/>
                </a:lnTo>
                <a:lnTo>
                  <a:pt x="873" y="742"/>
                </a:lnTo>
                <a:lnTo>
                  <a:pt x="1027" y="788"/>
                </a:lnTo>
                <a:lnTo>
                  <a:pt x="1029" y="805"/>
                </a:lnTo>
                <a:lnTo>
                  <a:pt x="1041" y="824"/>
                </a:lnTo>
                <a:lnTo>
                  <a:pt x="1050" y="814"/>
                </a:lnTo>
                <a:lnTo>
                  <a:pt x="1066" y="774"/>
                </a:lnTo>
                <a:lnTo>
                  <a:pt x="1066" y="704"/>
                </a:lnTo>
                <a:lnTo>
                  <a:pt x="1041" y="572"/>
                </a:lnTo>
                <a:lnTo>
                  <a:pt x="1039" y="432"/>
                </a:lnTo>
                <a:lnTo>
                  <a:pt x="1012" y="322"/>
                </a:lnTo>
                <a:lnTo>
                  <a:pt x="963" y="233"/>
                </a:lnTo>
                <a:lnTo>
                  <a:pt x="954" y="141"/>
                </a:lnTo>
                <a:lnTo>
                  <a:pt x="908" y="0"/>
                </a:lnTo>
                <a:lnTo>
                  <a:pt x="696" y="50"/>
                </a:lnTo>
                <a:lnTo>
                  <a:pt x="678" y="45"/>
                </a:lnTo>
                <a:lnTo>
                  <a:pt x="613" y="93"/>
                </a:lnTo>
                <a:lnTo>
                  <a:pt x="553" y="165"/>
                </a:lnTo>
                <a:lnTo>
                  <a:pt x="547" y="197"/>
                </a:lnTo>
                <a:lnTo>
                  <a:pt x="522" y="228"/>
                </a:lnTo>
                <a:lnTo>
                  <a:pt x="474" y="266"/>
                </a:lnTo>
                <a:lnTo>
                  <a:pt x="495" y="291"/>
                </a:lnTo>
                <a:lnTo>
                  <a:pt x="501" y="273"/>
                </a:lnTo>
                <a:lnTo>
                  <a:pt x="513" y="278"/>
                </a:lnTo>
                <a:lnTo>
                  <a:pt x="507" y="286"/>
                </a:lnTo>
                <a:lnTo>
                  <a:pt x="515" y="291"/>
                </a:lnTo>
                <a:lnTo>
                  <a:pt x="507" y="309"/>
                </a:lnTo>
                <a:lnTo>
                  <a:pt x="501" y="307"/>
                </a:lnTo>
                <a:lnTo>
                  <a:pt x="499" y="317"/>
                </a:lnTo>
                <a:lnTo>
                  <a:pt x="522" y="343"/>
                </a:lnTo>
                <a:lnTo>
                  <a:pt x="522" y="367"/>
                </a:lnTo>
                <a:lnTo>
                  <a:pt x="490" y="382"/>
                </a:lnTo>
                <a:lnTo>
                  <a:pt x="455" y="425"/>
                </a:lnTo>
                <a:lnTo>
                  <a:pt x="418" y="449"/>
                </a:lnTo>
                <a:lnTo>
                  <a:pt x="351" y="451"/>
                </a:lnTo>
                <a:lnTo>
                  <a:pt x="326" y="468"/>
                </a:lnTo>
                <a:lnTo>
                  <a:pt x="287" y="454"/>
                </a:lnTo>
                <a:lnTo>
                  <a:pt x="172" y="464"/>
                </a:lnTo>
                <a:lnTo>
                  <a:pt x="83" y="495"/>
                </a:lnTo>
                <a:lnTo>
                  <a:pt x="91" y="519"/>
                </a:lnTo>
                <a:lnTo>
                  <a:pt x="83" y="533"/>
                </a:lnTo>
                <a:lnTo>
                  <a:pt x="91" y="533"/>
                </a:lnTo>
                <a:lnTo>
                  <a:pt x="104" y="559"/>
                </a:lnTo>
                <a:lnTo>
                  <a:pt x="116" y="557"/>
                </a:lnTo>
                <a:lnTo>
                  <a:pt x="129" y="583"/>
                </a:lnTo>
                <a:lnTo>
                  <a:pt x="127" y="591"/>
                </a:lnTo>
                <a:lnTo>
                  <a:pt x="106" y="603"/>
                </a:lnTo>
                <a:lnTo>
                  <a:pt x="95" y="634"/>
                </a:lnTo>
                <a:lnTo>
                  <a:pt x="0" y="709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9" name="Freeform 101"/>
          <p:cNvSpPr/>
          <p:nvPr/>
        </p:nvSpPr>
        <p:spPr>
          <a:xfrm>
            <a:off x="6697800" y="3314880"/>
            <a:ext cx="21960" cy="29880"/>
          </a:xfrm>
          <a:custGeom>
            <a:avLst/>
            <a:gdLst>
              <a:gd name="textAreaLeft" fmla="*/ 0 w 21960"/>
              <a:gd name="textAreaRight" fmla="*/ 22320 w 219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1" h="40">
                <a:moveTo>
                  <a:pt x="0" y="40"/>
                </a:moveTo>
                <a:lnTo>
                  <a:pt x="2" y="14"/>
                </a:lnTo>
                <a:lnTo>
                  <a:pt x="20" y="0"/>
                </a:lnTo>
                <a:lnTo>
                  <a:pt x="31" y="7"/>
                </a:lnTo>
                <a:lnTo>
                  <a:pt x="14" y="31"/>
                </a:lnTo>
                <a:lnTo>
                  <a:pt x="0" y="4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0" name="Freeform 102"/>
          <p:cNvSpPr/>
          <p:nvPr/>
        </p:nvSpPr>
        <p:spPr>
          <a:xfrm>
            <a:off x="6697800" y="3314880"/>
            <a:ext cx="21960" cy="29880"/>
          </a:xfrm>
          <a:custGeom>
            <a:avLst/>
            <a:gdLst>
              <a:gd name="textAreaLeft" fmla="*/ 0 w 21960"/>
              <a:gd name="textAreaRight" fmla="*/ 22320 w 219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1" h="40">
                <a:moveTo>
                  <a:pt x="0" y="40"/>
                </a:moveTo>
                <a:lnTo>
                  <a:pt x="2" y="14"/>
                </a:lnTo>
                <a:lnTo>
                  <a:pt x="20" y="0"/>
                </a:lnTo>
                <a:lnTo>
                  <a:pt x="31" y="7"/>
                </a:lnTo>
                <a:lnTo>
                  <a:pt x="14" y="31"/>
                </a:lnTo>
                <a:lnTo>
                  <a:pt x="0" y="40"/>
                </a:lnTo>
              </a:path>
            </a:pathLst>
          </a:custGeom>
          <a:solidFill>
            <a:srgbClr val="c0c0c0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1" name="Freeform 103"/>
          <p:cNvSpPr/>
          <p:nvPr/>
        </p:nvSpPr>
        <p:spPr>
          <a:xfrm>
            <a:off x="5635800" y="3992400"/>
            <a:ext cx="1042920" cy="46692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1538" h="591">
                <a:moveTo>
                  <a:pt x="0" y="463"/>
                </a:moveTo>
                <a:lnTo>
                  <a:pt x="0" y="507"/>
                </a:lnTo>
                <a:lnTo>
                  <a:pt x="222" y="487"/>
                </a:lnTo>
                <a:lnTo>
                  <a:pt x="353" y="428"/>
                </a:lnTo>
                <a:lnTo>
                  <a:pt x="600" y="406"/>
                </a:lnTo>
                <a:lnTo>
                  <a:pt x="700" y="459"/>
                </a:lnTo>
                <a:lnTo>
                  <a:pt x="860" y="442"/>
                </a:lnTo>
                <a:lnTo>
                  <a:pt x="1099" y="591"/>
                </a:lnTo>
                <a:lnTo>
                  <a:pt x="1133" y="572"/>
                </a:lnTo>
                <a:lnTo>
                  <a:pt x="1193" y="570"/>
                </a:lnTo>
                <a:lnTo>
                  <a:pt x="1205" y="531"/>
                </a:lnTo>
                <a:lnTo>
                  <a:pt x="1218" y="552"/>
                </a:lnTo>
                <a:lnTo>
                  <a:pt x="1235" y="483"/>
                </a:lnTo>
                <a:lnTo>
                  <a:pt x="1264" y="449"/>
                </a:lnTo>
                <a:lnTo>
                  <a:pt x="1295" y="428"/>
                </a:lnTo>
                <a:lnTo>
                  <a:pt x="1280" y="420"/>
                </a:lnTo>
                <a:lnTo>
                  <a:pt x="1284" y="406"/>
                </a:lnTo>
                <a:lnTo>
                  <a:pt x="1270" y="389"/>
                </a:lnTo>
                <a:lnTo>
                  <a:pt x="1293" y="406"/>
                </a:lnTo>
                <a:lnTo>
                  <a:pt x="1287" y="413"/>
                </a:lnTo>
                <a:lnTo>
                  <a:pt x="1305" y="420"/>
                </a:lnTo>
                <a:lnTo>
                  <a:pt x="1322" y="404"/>
                </a:lnTo>
                <a:lnTo>
                  <a:pt x="1330" y="399"/>
                </a:lnTo>
                <a:lnTo>
                  <a:pt x="1322" y="375"/>
                </a:lnTo>
                <a:lnTo>
                  <a:pt x="1330" y="372"/>
                </a:lnTo>
                <a:lnTo>
                  <a:pt x="1341" y="389"/>
                </a:lnTo>
                <a:lnTo>
                  <a:pt x="1393" y="367"/>
                </a:lnTo>
                <a:lnTo>
                  <a:pt x="1440" y="365"/>
                </a:lnTo>
                <a:lnTo>
                  <a:pt x="1471" y="315"/>
                </a:lnTo>
                <a:lnTo>
                  <a:pt x="1459" y="303"/>
                </a:lnTo>
                <a:lnTo>
                  <a:pt x="1442" y="320"/>
                </a:lnTo>
                <a:lnTo>
                  <a:pt x="1436" y="295"/>
                </a:lnTo>
                <a:lnTo>
                  <a:pt x="1415" y="312"/>
                </a:lnTo>
                <a:lnTo>
                  <a:pt x="1424" y="327"/>
                </a:lnTo>
                <a:lnTo>
                  <a:pt x="1405" y="319"/>
                </a:lnTo>
                <a:lnTo>
                  <a:pt x="1403" y="336"/>
                </a:lnTo>
                <a:lnTo>
                  <a:pt x="1353" y="331"/>
                </a:lnTo>
                <a:lnTo>
                  <a:pt x="1320" y="310"/>
                </a:lnTo>
                <a:lnTo>
                  <a:pt x="1322" y="300"/>
                </a:lnTo>
                <a:lnTo>
                  <a:pt x="1376" y="327"/>
                </a:lnTo>
                <a:lnTo>
                  <a:pt x="1415" y="285"/>
                </a:lnTo>
                <a:lnTo>
                  <a:pt x="1393" y="281"/>
                </a:lnTo>
                <a:lnTo>
                  <a:pt x="1419" y="250"/>
                </a:lnTo>
                <a:lnTo>
                  <a:pt x="1392" y="259"/>
                </a:lnTo>
                <a:lnTo>
                  <a:pt x="1311" y="231"/>
                </a:lnTo>
                <a:lnTo>
                  <a:pt x="1353" y="226"/>
                </a:lnTo>
                <a:lnTo>
                  <a:pt x="1392" y="240"/>
                </a:lnTo>
                <a:lnTo>
                  <a:pt x="1392" y="231"/>
                </a:lnTo>
                <a:lnTo>
                  <a:pt x="1376" y="213"/>
                </a:lnTo>
                <a:lnTo>
                  <a:pt x="1390" y="213"/>
                </a:lnTo>
                <a:lnTo>
                  <a:pt x="1413" y="202"/>
                </a:lnTo>
                <a:lnTo>
                  <a:pt x="1399" y="219"/>
                </a:lnTo>
                <a:lnTo>
                  <a:pt x="1409" y="237"/>
                </a:lnTo>
                <a:lnTo>
                  <a:pt x="1428" y="221"/>
                </a:lnTo>
                <a:lnTo>
                  <a:pt x="1440" y="240"/>
                </a:lnTo>
                <a:lnTo>
                  <a:pt x="1455" y="237"/>
                </a:lnTo>
                <a:lnTo>
                  <a:pt x="1478" y="237"/>
                </a:lnTo>
                <a:lnTo>
                  <a:pt x="1501" y="213"/>
                </a:lnTo>
                <a:lnTo>
                  <a:pt x="1515" y="177"/>
                </a:lnTo>
                <a:lnTo>
                  <a:pt x="1538" y="172"/>
                </a:lnTo>
                <a:lnTo>
                  <a:pt x="1538" y="151"/>
                </a:lnTo>
                <a:lnTo>
                  <a:pt x="1521" y="118"/>
                </a:lnTo>
                <a:lnTo>
                  <a:pt x="1498" y="118"/>
                </a:lnTo>
                <a:lnTo>
                  <a:pt x="1474" y="172"/>
                </a:lnTo>
                <a:lnTo>
                  <a:pt x="1463" y="144"/>
                </a:lnTo>
                <a:lnTo>
                  <a:pt x="1459" y="108"/>
                </a:lnTo>
                <a:lnTo>
                  <a:pt x="1411" y="129"/>
                </a:lnTo>
                <a:lnTo>
                  <a:pt x="1345" y="141"/>
                </a:lnTo>
                <a:lnTo>
                  <a:pt x="1353" y="115"/>
                </a:lnTo>
                <a:lnTo>
                  <a:pt x="1388" y="100"/>
                </a:lnTo>
                <a:lnTo>
                  <a:pt x="1453" y="77"/>
                </a:lnTo>
                <a:lnTo>
                  <a:pt x="1432" y="50"/>
                </a:lnTo>
                <a:lnTo>
                  <a:pt x="1478" y="69"/>
                </a:lnTo>
                <a:lnTo>
                  <a:pt x="1461" y="45"/>
                </a:lnTo>
                <a:lnTo>
                  <a:pt x="1505" y="77"/>
                </a:lnTo>
                <a:lnTo>
                  <a:pt x="1472" y="23"/>
                </a:lnTo>
                <a:lnTo>
                  <a:pt x="1440" y="0"/>
                </a:lnTo>
                <a:lnTo>
                  <a:pt x="891" y="89"/>
                </a:lnTo>
                <a:lnTo>
                  <a:pt x="440" y="141"/>
                </a:lnTo>
                <a:lnTo>
                  <a:pt x="432" y="185"/>
                </a:lnTo>
                <a:lnTo>
                  <a:pt x="407" y="199"/>
                </a:lnTo>
                <a:lnTo>
                  <a:pt x="376" y="247"/>
                </a:lnTo>
                <a:lnTo>
                  <a:pt x="351" y="243"/>
                </a:lnTo>
                <a:lnTo>
                  <a:pt x="322" y="257"/>
                </a:lnTo>
                <a:lnTo>
                  <a:pt x="303" y="281"/>
                </a:lnTo>
                <a:lnTo>
                  <a:pt x="276" y="266"/>
                </a:lnTo>
                <a:lnTo>
                  <a:pt x="236" y="295"/>
                </a:lnTo>
                <a:lnTo>
                  <a:pt x="230" y="320"/>
                </a:lnTo>
                <a:lnTo>
                  <a:pt x="58" y="410"/>
                </a:lnTo>
                <a:lnTo>
                  <a:pt x="47" y="445"/>
                </a:lnTo>
                <a:lnTo>
                  <a:pt x="0" y="46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2" name="Freeform 104"/>
          <p:cNvSpPr/>
          <p:nvPr/>
        </p:nvSpPr>
        <p:spPr>
          <a:xfrm>
            <a:off x="5629320" y="3992400"/>
            <a:ext cx="1058760" cy="46692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1538" h="591">
                <a:moveTo>
                  <a:pt x="0" y="463"/>
                </a:moveTo>
                <a:lnTo>
                  <a:pt x="0" y="507"/>
                </a:lnTo>
                <a:lnTo>
                  <a:pt x="222" y="487"/>
                </a:lnTo>
                <a:lnTo>
                  <a:pt x="353" y="428"/>
                </a:lnTo>
                <a:lnTo>
                  <a:pt x="600" y="406"/>
                </a:lnTo>
                <a:lnTo>
                  <a:pt x="700" y="459"/>
                </a:lnTo>
                <a:lnTo>
                  <a:pt x="860" y="442"/>
                </a:lnTo>
                <a:lnTo>
                  <a:pt x="1099" y="591"/>
                </a:lnTo>
                <a:lnTo>
                  <a:pt x="1133" y="572"/>
                </a:lnTo>
                <a:lnTo>
                  <a:pt x="1193" y="570"/>
                </a:lnTo>
                <a:lnTo>
                  <a:pt x="1205" y="531"/>
                </a:lnTo>
                <a:lnTo>
                  <a:pt x="1218" y="552"/>
                </a:lnTo>
                <a:lnTo>
                  <a:pt x="1235" y="483"/>
                </a:lnTo>
                <a:lnTo>
                  <a:pt x="1264" y="449"/>
                </a:lnTo>
                <a:lnTo>
                  <a:pt x="1295" y="428"/>
                </a:lnTo>
                <a:lnTo>
                  <a:pt x="1280" y="420"/>
                </a:lnTo>
                <a:lnTo>
                  <a:pt x="1284" y="406"/>
                </a:lnTo>
                <a:lnTo>
                  <a:pt x="1270" y="389"/>
                </a:lnTo>
                <a:lnTo>
                  <a:pt x="1293" y="406"/>
                </a:lnTo>
                <a:lnTo>
                  <a:pt x="1287" y="413"/>
                </a:lnTo>
                <a:lnTo>
                  <a:pt x="1305" y="420"/>
                </a:lnTo>
                <a:lnTo>
                  <a:pt x="1322" y="404"/>
                </a:lnTo>
                <a:lnTo>
                  <a:pt x="1330" y="399"/>
                </a:lnTo>
                <a:lnTo>
                  <a:pt x="1322" y="375"/>
                </a:lnTo>
                <a:lnTo>
                  <a:pt x="1330" y="372"/>
                </a:lnTo>
                <a:lnTo>
                  <a:pt x="1341" y="389"/>
                </a:lnTo>
                <a:lnTo>
                  <a:pt x="1393" y="367"/>
                </a:lnTo>
                <a:lnTo>
                  <a:pt x="1440" y="365"/>
                </a:lnTo>
                <a:lnTo>
                  <a:pt x="1471" y="315"/>
                </a:lnTo>
                <a:lnTo>
                  <a:pt x="1459" y="303"/>
                </a:lnTo>
                <a:lnTo>
                  <a:pt x="1442" y="320"/>
                </a:lnTo>
                <a:lnTo>
                  <a:pt x="1436" y="295"/>
                </a:lnTo>
                <a:lnTo>
                  <a:pt x="1415" y="312"/>
                </a:lnTo>
                <a:lnTo>
                  <a:pt x="1424" y="327"/>
                </a:lnTo>
                <a:lnTo>
                  <a:pt x="1405" y="319"/>
                </a:lnTo>
                <a:lnTo>
                  <a:pt x="1403" y="336"/>
                </a:lnTo>
                <a:lnTo>
                  <a:pt x="1353" y="331"/>
                </a:lnTo>
                <a:lnTo>
                  <a:pt x="1320" y="310"/>
                </a:lnTo>
                <a:lnTo>
                  <a:pt x="1322" y="300"/>
                </a:lnTo>
                <a:lnTo>
                  <a:pt x="1376" y="327"/>
                </a:lnTo>
                <a:lnTo>
                  <a:pt x="1415" y="285"/>
                </a:lnTo>
                <a:lnTo>
                  <a:pt x="1393" y="281"/>
                </a:lnTo>
                <a:lnTo>
                  <a:pt x="1419" y="250"/>
                </a:lnTo>
                <a:lnTo>
                  <a:pt x="1392" y="259"/>
                </a:lnTo>
                <a:lnTo>
                  <a:pt x="1311" y="231"/>
                </a:lnTo>
                <a:lnTo>
                  <a:pt x="1353" y="226"/>
                </a:lnTo>
                <a:lnTo>
                  <a:pt x="1392" y="240"/>
                </a:lnTo>
                <a:lnTo>
                  <a:pt x="1392" y="231"/>
                </a:lnTo>
                <a:lnTo>
                  <a:pt x="1376" y="213"/>
                </a:lnTo>
                <a:lnTo>
                  <a:pt x="1390" y="213"/>
                </a:lnTo>
                <a:lnTo>
                  <a:pt x="1413" y="202"/>
                </a:lnTo>
                <a:lnTo>
                  <a:pt x="1399" y="219"/>
                </a:lnTo>
                <a:lnTo>
                  <a:pt x="1409" y="237"/>
                </a:lnTo>
                <a:lnTo>
                  <a:pt x="1428" y="221"/>
                </a:lnTo>
                <a:lnTo>
                  <a:pt x="1440" y="240"/>
                </a:lnTo>
                <a:lnTo>
                  <a:pt x="1455" y="237"/>
                </a:lnTo>
                <a:lnTo>
                  <a:pt x="1478" y="237"/>
                </a:lnTo>
                <a:lnTo>
                  <a:pt x="1501" y="213"/>
                </a:lnTo>
                <a:lnTo>
                  <a:pt x="1515" y="177"/>
                </a:lnTo>
                <a:lnTo>
                  <a:pt x="1538" y="172"/>
                </a:lnTo>
                <a:lnTo>
                  <a:pt x="1538" y="151"/>
                </a:lnTo>
                <a:lnTo>
                  <a:pt x="1521" y="118"/>
                </a:lnTo>
                <a:lnTo>
                  <a:pt x="1498" y="118"/>
                </a:lnTo>
                <a:lnTo>
                  <a:pt x="1474" y="172"/>
                </a:lnTo>
                <a:lnTo>
                  <a:pt x="1463" y="144"/>
                </a:lnTo>
                <a:lnTo>
                  <a:pt x="1459" y="108"/>
                </a:lnTo>
                <a:lnTo>
                  <a:pt x="1411" y="129"/>
                </a:lnTo>
                <a:lnTo>
                  <a:pt x="1345" y="141"/>
                </a:lnTo>
                <a:lnTo>
                  <a:pt x="1353" y="115"/>
                </a:lnTo>
                <a:lnTo>
                  <a:pt x="1388" y="100"/>
                </a:lnTo>
                <a:lnTo>
                  <a:pt x="1453" y="77"/>
                </a:lnTo>
                <a:lnTo>
                  <a:pt x="1432" y="50"/>
                </a:lnTo>
                <a:lnTo>
                  <a:pt x="1478" y="69"/>
                </a:lnTo>
                <a:lnTo>
                  <a:pt x="1461" y="45"/>
                </a:lnTo>
                <a:lnTo>
                  <a:pt x="1505" y="77"/>
                </a:lnTo>
                <a:lnTo>
                  <a:pt x="1472" y="23"/>
                </a:lnTo>
                <a:lnTo>
                  <a:pt x="1440" y="0"/>
                </a:lnTo>
                <a:lnTo>
                  <a:pt x="891" y="89"/>
                </a:lnTo>
                <a:lnTo>
                  <a:pt x="440" y="141"/>
                </a:lnTo>
                <a:lnTo>
                  <a:pt x="432" y="185"/>
                </a:lnTo>
                <a:lnTo>
                  <a:pt x="407" y="199"/>
                </a:lnTo>
                <a:lnTo>
                  <a:pt x="376" y="247"/>
                </a:lnTo>
                <a:lnTo>
                  <a:pt x="351" y="243"/>
                </a:lnTo>
                <a:lnTo>
                  <a:pt x="322" y="257"/>
                </a:lnTo>
                <a:lnTo>
                  <a:pt x="303" y="281"/>
                </a:lnTo>
                <a:lnTo>
                  <a:pt x="276" y="266"/>
                </a:lnTo>
                <a:lnTo>
                  <a:pt x="236" y="295"/>
                </a:lnTo>
                <a:lnTo>
                  <a:pt x="230" y="320"/>
                </a:lnTo>
                <a:lnTo>
                  <a:pt x="58" y="410"/>
                </a:lnTo>
                <a:lnTo>
                  <a:pt x="47" y="445"/>
                </a:lnTo>
                <a:lnTo>
                  <a:pt x="0" y="463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3" name="Freeform 105"/>
          <p:cNvSpPr/>
          <p:nvPr/>
        </p:nvSpPr>
        <p:spPr>
          <a:xfrm>
            <a:off x="3273480" y="2260440"/>
            <a:ext cx="815760" cy="513000"/>
          </a:xfrm>
          <a:custGeom>
            <a:avLst/>
            <a:gdLst>
              <a:gd name="textAreaLeft" fmla="*/ 0 w 815760"/>
              <a:gd name="textAreaRight" fmla="*/ 816120 w 81576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1187" h="646">
                <a:moveTo>
                  <a:pt x="0" y="593"/>
                </a:moveTo>
                <a:lnTo>
                  <a:pt x="62" y="0"/>
                </a:lnTo>
                <a:lnTo>
                  <a:pt x="646" y="36"/>
                </a:lnTo>
                <a:lnTo>
                  <a:pt x="1095" y="48"/>
                </a:lnTo>
                <a:lnTo>
                  <a:pt x="1102" y="211"/>
                </a:lnTo>
                <a:lnTo>
                  <a:pt x="1147" y="341"/>
                </a:lnTo>
                <a:lnTo>
                  <a:pt x="1154" y="510"/>
                </a:lnTo>
                <a:lnTo>
                  <a:pt x="1187" y="646"/>
                </a:lnTo>
                <a:lnTo>
                  <a:pt x="563" y="627"/>
                </a:lnTo>
                <a:lnTo>
                  <a:pt x="0" y="59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4" name="Freeform 106"/>
          <p:cNvSpPr/>
          <p:nvPr/>
        </p:nvSpPr>
        <p:spPr>
          <a:xfrm>
            <a:off x="3273480" y="2260440"/>
            <a:ext cx="815760" cy="513000"/>
          </a:xfrm>
          <a:custGeom>
            <a:avLst/>
            <a:gdLst>
              <a:gd name="textAreaLeft" fmla="*/ 0 w 815760"/>
              <a:gd name="textAreaRight" fmla="*/ 816120 w 81576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1187" h="646">
                <a:moveTo>
                  <a:pt x="0" y="593"/>
                </a:moveTo>
                <a:lnTo>
                  <a:pt x="62" y="0"/>
                </a:lnTo>
                <a:lnTo>
                  <a:pt x="646" y="36"/>
                </a:lnTo>
                <a:lnTo>
                  <a:pt x="1095" y="48"/>
                </a:lnTo>
                <a:lnTo>
                  <a:pt x="1102" y="211"/>
                </a:lnTo>
                <a:lnTo>
                  <a:pt x="1147" y="341"/>
                </a:lnTo>
                <a:lnTo>
                  <a:pt x="1154" y="510"/>
                </a:lnTo>
                <a:lnTo>
                  <a:pt x="1187" y="646"/>
                </a:lnTo>
                <a:lnTo>
                  <a:pt x="563" y="627"/>
                </a:lnTo>
                <a:lnTo>
                  <a:pt x="0" y="59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5" name="Freeform 107"/>
          <p:cNvSpPr/>
          <p:nvPr/>
        </p:nvSpPr>
        <p:spPr>
          <a:xfrm>
            <a:off x="5451480" y="3254400"/>
            <a:ext cx="517680" cy="581040"/>
          </a:xfrm>
          <a:custGeom>
            <a:avLst/>
            <a:gdLst>
              <a:gd name="textAreaLeft" fmla="*/ 0 w 517680"/>
              <a:gd name="textAreaRight" fmla="*/ 518040 w 51768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w="754" h="734">
                <a:moveTo>
                  <a:pt x="0" y="135"/>
                </a:moveTo>
                <a:lnTo>
                  <a:pt x="60" y="640"/>
                </a:lnTo>
                <a:lnTo>
                  <a:pt x="118" y="640"/>
                </a:lnTo>
                <a:lnTo>
                  <a:pt x="154" y="650"/>
                </a:lnTo>
                <a:lnTo>
                  <a:pt x="172" y="686"/>
                </a:lnTo>
                <a:lnTo>
                  <a:pt x="233" y="695"/>
                </a:lnTo>
                <a:lnTo>
                  <a:pt x="266" y="710"/>
                </a:lnTo>
                <a:lnTo>
                  <a:pt x="349" y="707"/>
                </a:lnTo>
                <a:lnTo>
                  <a:pt x="386" y="686"/>
                </a:lnTo>
                <a:lnTo>
                  <a:pt x="474" y="734"/>
                </a:lnTo>
                <a:lnTo>
                  <a:pt x="530" y="693"/>
                </a:lnTo>
                <a:lnTo>
                  <a:pt x="542" y="613"/>
                </a:lnTo>
                <a:lnTo>
                  <a:pt x="576" y="630"/>
                </a:lnTo>
                <a:lnTo>
                  <a:pt x="594" y="561"/>
                </a:lnTo>
                <a:lnTo>
                  <a:pt x="690" y="502"/>
                </a:lnTo>
                <a:lnTo>
                  <a:pt x="721" y="467"/>
                </a:lnTo>
                <a:lnTo>
                  <a:pt x="744" y="306"/>
                </a:lnTo>
                <a:lnTo>
                  <a:pt x="729" y="272"/>
                </a:lnTo>
                <a:lnTo>
                  <a:pt x="754" y="257"/>
                </a:lnTo>
                <a:lnTo>
                  <a:pt x="702" y="0"/>
                </a:lnTo>
                <a:lnTo>
                  <a:pt x="628" y="34"/>
                </a:lnTo>
                <a:lnTo>
                  <a:pt x="576" y="58"/>
                </a:lnTo>
                <a:lnTo>
                  <a:pt x="553" y="85"/>
                </a:lnTo>
                <a:lnTo>
                  <a:pt x="513" y="120"/>
                </a:lnTo>
                <a:lnTo>
                  <a:pt x="465" y="121"/>
                </a:lnTo>
                <a:lnTo>
                  <a:pt x="416" y="145"/>
                </a:lnTo>
                <a:lnTo>
                  <a:pt x="393" y="156"/>
                </a:lnTo>
                <a:lnTo>
                  <a:pt x="362" y="140"/>
                </a:lnTo>
                <a:lnTo>
                  <a:pt x="320" y="156"/>
                </a:lnTo>
                <a:lnTo>
                  <a:pt x="312" y="149"/>
                </a:lnTo>
                <a:lnTo>
                  <a:pt x="353" y="130"/>
                </a:lnTo>
                <a:lnTo>
                  <a:pt x="349" y="128"/>
                </a:lnTo>
                <a:lnTo>
                  <a:pt x="330" y="121"/>
                </a:lnTo>
                <a:lnTo>
                  <a:pt x="316" y="135"/>
                </a:lnTo>
                <a:lnTo>
                  <a:pt x="247" y="108"/>
                </a:lnTo>
                <a:lnTo>
                  <a:pt x="218" y="120"/>
                </a:lnTo>
                <a:lnTo>
                  <a:pt x="224" y="104"/>
                </a:lnTo>
                <a:lnTo>
                  <a:pt x="0" y="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6" name="Freeform 108"/>
          <p:cNvSpPr/>
          <p:nvPr/>
        </p:nvSpPr>
        <p:spPr>
          <a:xfrm>
            <a:off x="5451480" y="3254400"/>
            <a:ext cx="517680" cy="581040"/>
          </a:xfrm>
          <a:custGeom>
            <a:avLst/>
            <a:gdLst>
              <a:gd name="textAreaLeft" fmla="*/ 0 w 517680"/>
              <a:gd name="textAreaRight" fmla="*/ 518040 w 51768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w="754" h="734">
                <a:moveTo>
                  <a:pt x="0" y="135"/>
                </a:moveTo>
                <a:lnTo>
                  <a:pt x="60" y="640"/>
                </a:lnTo>
                <a:lnTo>
                  <a:pt x="118" y="640"/>
                </a:lnTo>
                <a:lnTo>
                  <a:pt x="154" y="650"/>
                </a:lnTo>
                <a:lnTo>
                  <a:pt x="172" y="686"/>
                </a:lnTo>
                <a:lnTo>
                  <a:pt x="233" y="695"/>
                </a:lnTo>
                <a:lnTo>
                  <a:pt x="266" y="710"/>
                </a:lnTo>
                <a:lnTo>
                  <a:pt x="349" y="707"/>
                </a:lnTo>
                <a:lnTo>
                  <a:pt x="386" y="686"/>
                </a:lnTo>
                <a:lnTo>
                  <a:pt x="474" y="734"/>
                </a:lnTo>
                <a:lnTo>
                  <a:pt x="530" y="693"/>
                </a:lnTo>
                <a:lnTo>
                  <a:pt x="542" y="613"/>
                </a:lnTo>
                <a:lnTo>
                  <a:pt x="576" y="630"/>
                </a:lnTo>
                <a:lnTo>
                  <a:pt x="594" y="561"/>
                </a:lnTo>
                <a:lnTo>
                  <a:pt x="690" y="502"/>
                </a:lnTo>
                <a:lnTo>
                  <a:pt x="721" y="467"/>
                </a:lnTo>
                <a:lnTo>
                  <a:pt x="744" y="306"/>
                </a:lnTo>
                <a:lnTo>
                  <a:pt x="729" y="272"/>
                </a:lnTo>
                <a:lnTo>
                  <a:pt x="754" y="257"/>
                </a:lnTo>
                <a:lnTo>
                  <a:pt x="702" y="0"/>
                </a:lnTo>
                <a:lnTo>
                  <a:pt x="628" y="34"/>
                </a:lnTo>
                <a:lnTo>
                  <a:pt x="576" y="58"/>
                </a:lnTo>
                <a:lnTo>
                  <a:pt x="553" y="85"/>
                </a:lnTo>
                <a:lnTo>
                  <a:pt x="513" y="120"/>
                </a:lnTo>
                <a:lnTo>
                  <a:pt x="465" y="121"/>
                </a:lnTo>
                <a:lnTo>
                  <a:pt x="416" y="145"/>
                </a:lnTo>
                <a:lnTo>
                  <a:pt x="393" y="156"/>
                </a:lnTo>
                <a:lnTo>
                  <a:pt x="362" y="140"/>
                </a:lnTo>
                <a:lnTo>
                  <a:pt x="320" y="156"/>
                </a:lnTo>
                <a:lnTo>
                  <a:pt x="312" y="149"/>
                </a:lnTo>
                <a:lnTo>
                  <a:pt x="353" y="130"/>
                </a:lnTo>
                <a:lnTo>
                  <a:pt x="349" y="128"/>
                </a:lnTo>
                <a:lnTo>
                  <a:pt x="330" y="121"/>
                </a:lnTo>
                <a:lnTo>
                  <a:pt x="316" y="135"/>
                </a:lnTo>
                <a:lnTo>
                  <a:pt x="247" y="108"/>
                </a:lnTo>
                <a:lnTo>
                  <a:pt x="218" y="120"/>
                </a:lnTo>
                <a:lnTo>
                  <a:pt x="224" y="104"/>
                </a:lnTo>
                <a:lnTo>
                  <a:pt x="0" y="135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7" name="Freeform 109"/>
          <p:cNvSpPr/>
          <p:nvPr/>
        </p:nvSpPr>
        <p:spPr>
          <a:xfrm>
            <a:off x="3268800" y="4127400"/>
            <a:ext cx="1073160" cy="55404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556" h="700">
                <a:moveTo>
                  <a:pt x="0" y="102"/>
                </a:moveTo>
                <a:lnTo>
                  <a:pt x="9" y="0"/>
                </a:lnTo>
                <a:lnTo>
                  <a:pt x="181" y="11"/>
                </a:lnTo>
                <a:lnTo>
                  <a:pt x="946" y="44"/>
                </a:lnTo>
                <a:lnTo>
                  <a:pt x="1514" y="41"/>
                </a:lnTo>
                <a:lnTo>
                  <a:pt x="1520" y="143"/>
                </a:lnTo>
                <a:lnTo>
                  <a:pt x="1556" y="361"/>
                </a:lnTo>
                <a:lnTo>
                  <a:pt x="1549" y="700"/>
                </a:lnTo>
                <a:lnTo>
                  <a:pt x="1500" y="686"/>
                </a:lnTo>
                <a:lnTo>
                  <a:pt x="1423" y="640"/>
                </a:lnTo>
                <a:lnTo>
                  <a:pt x="1393" y="654"/>
                </a:lnTo>
                <a:lnTo>
                  <a:pt x="1290" y="660"/>
                </a:lnTo>
                <a:lnTo>
                  <a:pt x="1192" y="690"/>
                </a:lnTo>
                <a:lnTo>
                  <a:pt x="1154" y="659"/>
                </a:lnTo>
                <a:lnTo>
                  <a:pt x="1104" y="667"/>
                </a:lnTo>
                <a:lnTo>
                  <a:pt x="1092" y="642"/>
                </a:lnTo>
                <a:lnTo>
                  <a:pt x="1057" y="664"/>
                </a:lnTo>
                <a:lnTo>
                  <a:pt x="1052" y="691"/>
                </a:lnTo>
                <a:lnTo>
                  <a:pt x="1040" y="654"/>
                </a:lnTo>
                <a:lnTo>
                  <a:pt x="1003" y="674"/>
                </a:lnTo>
                <a:lnTo>
                  <a:pt x="948" y="636"/>
                </a:lnTo>
                <a:lnTo>
                  <a:pt x="917" y="664"/>
                </a:lnTo>
                <a:lnTo>
                  <a:pt x="897" y="648"/>
                </a:lnTo>
                <a:lnTo>
                  <a:pt x="870" y="599"/>
                </a:lnTo>
                <a:lnTo>
                  <a:pt x="818" y="599"/>
                </a:lnTo>
                <a:lnTo>
                  <a:pt x="811" y="612"/>
                </a:lnTo>
                <a:lnTo>
                  <a:pt x="780" y="594"/>
                </a:lnTo>
                <a:lnTo>
                  <a:pt x="753" y="600"/>
                </a:lnTo>
                <a:lnTo>
                  <a:pt x="714" y="587"/>
                </a:lnTo>
                <a:lnTo>
                  <a:pt x="668" y="582"/>
                </a:lnTo>
                <a:lnTo>
                  <a:pt x="670" y="558"/>
                </a:lnTo>
                <a:lnTo>
                  <a:pt x="643" y="534"/>
                </a:lnTo>
                <a:lnTo>
                  <a:pt x="632" y="549"/>
                </a:lnTo>
                <a:lnTo>
                  <a:pt x="578" y="547"/>
                </a:lnTo>
                <a:lnTo>
                  <a:pt x="526" y="508"/>
                </a:lnTo>
                <a:lnTo>
                  <a:pt x="543" y="131"/>
                </a:lnTo>
                <a:lnTo>
                  <a:pt x="0" y="10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8" name="Freeform 110"/>
          <p:cNvSpPr/>
          <p:nvPr/>
        </p:nvSpPr>
        <p:spPr>
          <a:xfrm>
            <a:off x="3268800" y="4127400"/>
            <a:ext cx="1073160" cy="55404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556" h="700">
                <a:moveTo>
                  <a:pt x="0" y="102"/>
                </a:moveTo>
                <a:lnTo>
                  <a:pt x="9" y="0"/>
                </a:lnTo>
                <a:lnTo>
                  <a:pt x="181" y="11"/>
                </a:lnTo>
                <a:lnTo>
                  <a:pt x="946" y="44"/>
                </a:lnTo>
                <a:lnTo>
                  <a:pt x="1514" y="41"/>
                </a:lnTo>
                <a:lnTo>
                  <a:pt x="1520" y="143"/>
                </a:lnTo>
                <a:lnTo>
                  <a:pt x="1556" y="361"/>
                </a:lnTo>
                <a:lnTo>
                  <a:pt x="1549" y="700"/>
                </a:lnTo>
                <a:lnTo>
                  <a:pt x="1500" y="686"/>
                </a:lnTo>
                <a:lnTo>
                  <a:pt x="1423" y="640"/>
                </a:lnTo>
                <a:lnTo>
                  <a:pt x="1393" y="654"/>
                </a:lnTo>
                <a:lnTo>
                  <a:pt x="1290" y="660"/>
                </a:lnTo>
                <a:lnTo>
                  <a:pt x="1192" y="690"/>
                </a:lnTo>
                <a:lnTo>
                  <a:pt x="1154" y="659"/>
                </a:lnTo>
                <a:lnTo>
                  <a:pt x="1104" y="667"/>
                </a:lnTo>
                <a:lnTo>
                  <a:pt x="1092" y="642"/>
                </a:lnTo>
                <a:lnTo>
                  <a:pt x="1057" y="664"/>
                </a:lnTo>
                <a:lnTo>
                  <a:pt x="1052" y="691"/>
                </a:lnTo>
                <a:lnTo>
                  <a:pt x="1040" y="654"/>
                </a:lnTo>
                <a:lnTo>
                  <a:pt x="1003" y="674"/>
                </a:lnTo>
                <a:lnTo>
                  <a:pt x="948" y="636"/>
                </a:lnTo>
                <a:lnTo>
                  <a:pt x="917" y="664"/>
                </a:lnTo>
                <a:lnTo>
                  <a:pt x="897" y="648"/>
                </a:lnTo>
                <a:lnTo>
                  <a:pt x="870" y="599"/>
                </a:lnTo>
                <a:lnTo>
                  <a:pt x="818" y="599"/>
                </a:lnTo>
                <a:lnTo>
                  <a:pt x="811" y="612"/>
                </a:lnTo>
                <a:lnTo>
                  <a:pt x="780" y="594"/>
                </a:lnTo>
                <a:lnTo>
                  <a:pt x="753" y="600"/>
                </a:lnTo>
                <a:lnTo>
                  <a:pt x="714" y="587"/>
                </a:lnTo>
                <a:lnTo>
                  <a:pt x="668" y="582"/>
                </a:lnTo>
                <a:lnTo>
                  <a:pt x="670" y="558"/>
                </a:lnTo>
                <a:lnTo>
                  <a:pt x="643" y="534"/>
                </a:lnTo>
                <a:lnTo>
                  <a:pt x="632" y="549"/>
                </a:lnTo>
                <a:lnTo>
                  <a:pt x="578" y="547"/>
                </a:lnTo>
                <a:lnTo>
                  <a:pt x="526" y="508"/>
                </a:lnTo>
                <a:lnTo>
                  <a:pt x="543" y="131"/>
                </a:lnTo>
                <a:lnTo>
                  <a:pt x="0" y="10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9" name="Freeform 111"/>
          <p:cNvSpPr/>
          <p:nvPr/>
        </p:nvSpPr>
        <p:spPr>
          <a:xfrm>
            <a:off x="930240" y="2270160"/>
            <a:ext cx="990720" cy="836640"/>
          </a:xfrm>
          <a:custGeom>
            <a:avLst/>
            <a:gdLst>
              <a:gd name="textAreaLeft" fmla="*/ 0 w 990720"/>
              <a:gd name="textAreaRight" fmla="*/ 991080 w 9907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436" h="1057">
                <a:moveTo>
                  <a:pt x="0" y="786"/>
                </a:moveTo>
                <a:lnTo>
                  <a:pt x="24" y="596"/>
                </a:lnTo>
                <a:lnTo>
                  <a:pt x="133" y="442"/>
                </a:lnTo>
                <a:lnTo>
                  <a:pt x="313" y="0"/>
                </a:lnTo>
                <a:lnTo>
                  <a:pt x="401" y="26"/>
                </a:lnTo>
                <a:lnTo>
                  <a:pt x="405" y="45"/>
                </a:lnTo>
                <a:lnTo>
                  <a:pt x="428" y="47"/>
                </a:lnTo>
                <a:lnTo>
                  <a:pt x="474" y="124"/>
                </a:lnTo>
                <a:lnTo>
                  <a:pt x="465" y="149"/>
                </a:lnTo>
                <a:lnTo>
                  <a:pt x="536" y="201"/>
                </a:lnTo>
                <a:lnTo>
                  <a:pt x="657" y="197"/>
                </a:lnTo>
                <a:lnTo>
                  <a:pt x="750" y="232"/>
                </a:lnTo>
                <a:lnTo>
                  <a:pt x="792" y="223"/>
                </a:lnTo>
                <a:lnTo>
                  <a:pt x="1070" y="232"/>
                </a:lnTo>
                <a:lnTo>
                  <a:pt x="1382" y="295"/>
                </a:lnTo>
                <a:lnTo>
                  <a:pt x="1397" y="329"/>
                </a:lnTo>
                <a:lnTo>
                  <a:pt x="1436" y="379"/>
                </a:lnTo>
                <a:lnTo>
                  <a:pt x="1386" y="442"/>
                </a:lnTo>
                <a:lnTo>
                  <a:pt x="1330" y="518"/>
                </a:lnTo>
                <a:lnTo>
                  <a:pt x="1261" y="572"/>
                </a:lnTo>
                <a:lnTo>
                  <a:pt x="1253" y="610"/>
                </a:lnTo>
                <a:lnTo>
                  <a:pt x="1291" y="651"/>
                </a:lnTo>
                <a:lnTo>
                  <a:pt x="1249" y="735"/>
                </a:lnTo>
                <a:lnTo>
                  <a:pt x="1162" y="1057"/>
                </a:lnTo>
                <a:lnTo>
                  <a:pt x="677" y="951"/>
                </a:lnTo>
                <a:lnTo>
                  <a:pt x="0" y="78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0" name="Freeform 112"/>
          <p:cNvSpPr/>
          <p:nvPr/>
        </p:nvSpPr>
        <p:spPr>
          <a:xfrm>
            <a:off x="930240" y="2270160"/>
            <a:ext cx="990720" cy="836640"/>
          </a:xfrm>
          <a:custGeom>
            <a:avLst/>
            <a:gdLst>
              <a:gd name="textAreaLeft" fmla="*/ 0 w 990720"/>
              <a:gd name="textAreaRight" fmla="*/ 991080 w 9907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436" h="1057">
                <a:moveTo>
                  <a:pt x="0" y="786"/>
                </a:moveTo>
                <a:lnTo>
                  <a:pt x="24" y="596"/>
                </a:lnTo>
                <a:lnTo>
                  <a:pt x="133" y="442"/>
                </a:lnTo>
                <a:lnTo>
                  <a:pt x="313" y="0"/>
                </a:lnTo>
                <a:lnTo>
                  <a:pt x="401" y="26"/>
                </a:lnTo>
                <a:lnTo>
                  <a:pt x="405" y="45"/>
                </a:lnTo>
                <a:lnTo>
                  <a:pt x="428" y="47"/>
                </a:lnTo>
                <a:lnTo>
                  <a:pt x="474" y="124"/>
                </a:lnTo>
                <a:lnTo>
                  <a:pt x="465" y="149"/>
                </a:lnTo>
                <a:lnTo>
                  <a:pt x="536" y="201"/>
                </a:lnTo>
                <a:lnTo>
                  <a:pt x="657" y="197"/>
                </a:lnTo>
                <a:lnTo>
                  <a:pt x="750" y="232"/>
                </a:lnTo>
                <a:lnTo>
                  <a:pt x="792" y="223"/>
                </a:lnTo>
                <a:lnTo>
                  <a:pt x="1070" y="232"/>
                </a:lnTo>
                <a:lnTo>
                  <a:pt x="1382" y="295"/>
                </a:lnTo>
                <a:lnTo>
                  <a:pt x="1397" y="329"/>
                </a:lnTo>
                <a:lnTo>
                  <a:pt x="1436" y="379"/>
                </a:lnTo>
                <a:lnTo>
                  <a:pt x="1386" y="442"/>
                </a:lnTo>
                <a:lnTo>
                  <a:pt x="1330" y="518"/>
                </a:lnTo>
                <a:lnTo>
                  <a:pt x="1261" y="572"/>
                </a:lnTo>
                <a:lnTo>
                  <a:pt x="1253" y="610"/>
                </a:lnTo>
                <a:lnTo>
                  <a:pt x="1291" y="651"/>
                </a:lnTo>
                <a:lnTo>
                  <a:pt x="1249" y="735"/>
                </a:lnTo>
                <a:lnTo>
                  <a:pt x="1162" y="1057"/>
                </a:lnTo>
                <a:lnTo>
                  <a:pt x="677" y="951"/>
                </a:lnTo>
                <a:lnTo>
                  <a:pt x="0" y="78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1" name="Freeform 113"/>
          <p:cNvSpPr/>
          <p:nvPr/>
        </p:nvSpPr>
        <p:spPr>
          <a:xfrm>
            <a:off x="5934240" y="3143160"/>
            <a:ext cx="722160" cy="457200"/>
          </a:xfrm>
          <a:custGeom>
            <a:avLst/>
            <a:gdLst>
              <a:gd name="textAreaLeft" fmla="*/ 0 w 722160"/>
              <a:gd name="textAreaRight" fmla="*/ 722520 w 722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8" h="579">
                <a:moveTo>
                  <a:pt x="0" y="141"/>
                </a:moveTo>
                <a:lnTo>
                  <a:pt x="52" y="398"/>
                </a:lnTo>
                <a:lnTo>
                  <a:pt x="86" y="579"/>
                </a:lnTo>
                <a:lnTo>
                  <a:pt x="260" y="553"/>
                </a:lnTo>
                <a:lnTo>
                  <a:pt x="888" y="449"/>
                </a:lnTo>
                <a:lnTo>
                  <a:pt x="913" y="422"/>
                </a:lnTo>
                <a:lnTo>
                  <a:pt x="949" y="422"/>
                </a:lnTo>
                <a:lnTo>
                  <a:pt x="992" y="399"/>
                </a:lnTo>
                <a:lnTo>
                  <a:pt x="1013" y="362"/>
                </a:lnTo>
                <a:lnTo>
                  <a:pt x="1048" y="331"/>
                </a:lnTo>
                <a:lnTo>
                  <a:pt x="948" y="261"/>
                </a:lnTo>
                <a:lnTo>
                  <a:pt x="944" y="192"/>
                </a:lnTo>
                <a:lnTo>
                  <a:pt x="990" y="100"/>
                </a:lnTo>
                <a:lnTo>
                  <a:pt x="924" y="67"/>
                </a:lnTo>
                <a:lnTo>
                  <a:pt x="896" y="19"/>
                </a:lnTo>
                <a:lnTo>
                  <a:pt x="847" y="0"/>
                </a:lnTo>
                <a:lnTo>
                  <a:pt x="152" y="113"/>
                </a:lnTo>
                <a:lnTo>
                  <a:pt x="117" y="67"/>
                </a:lnTo>
                <a:lnTo>
                  <a:pt x="0" y="14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2" name="Freeform 114"/>
          <p:cNvSpPr/>
          <p:nvPr/>
        </p:nvSpPr>
        <p:spPr>
          <a:xfrm>
            <a:off x="5934240" y="3143160"/>
            <a:ext cx="722160" cy="457200"/>
          </a:xfrm>
          <a:custGeom>
            <a:avLst/>
            <a:gdLst>
              <a:gd name="textAreaLeft" fmla="*/ 0 w 722160"/>
              <a:gd name="textAreaRight" fmla="*/ 722520 w 722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8" h="579">
                <a:moveTo>
                  <a:pt x="0" y="141"/>
                </a:moveTo>
                <a:lnTo>
                  <a:pt x="52" y="398"/>
                </a:lnTo>
                <a:lnTo>
                  <a:pt x="86" y="579"/>
                </a:lnTo>
                <a:lnTo>
                  <a:pt x="260" y="553"/>
                </a:lnTo>
                <a:lnTo>
                  <a:pt x="888" y="449"/>
                </a:lnTo>
                <a:lnTo>
                  <a:pt x="913" y="422"/>
                </a:lnTo>
                <a:lnTo>
                  <a:pt x="949" y="422"/>
                </a:lnTo>
                <a:lnTo>
                  <a:pt x="992" y="399"/>
                </a:lnTo>
                <a:lnTo>
                  <a:pt x="1013" y="362"/>
                </a:lnTo>
                <a:lnTo>
                  <a:pt x="1048" y="331"/>
                </a:lnTo>
                <a:lnTo>
                  <a:pt x="948" y="261"/>
                </a:lnTo>
                <a:lnTo>
                  <a:pt x="944" y="192"/>
                </a:lnTo>
                <a:lnTo>
                  <a:pt x="990" y="100"/>
                </a:lnTo>
                <a:lnTo>
                  <a:pt x="924" y="67"/>
                </a:lnTo>
                <a:lnTo>
                  <a:pt x="896" y="19"/>
                </a:lnTo>
                <a:lnTo>
                  <a:pt x="847" y="0"/>
                </a:lnTo>
                <a:lnTo>
                  <a:pt x="152" y="113"/>
                </a:lnTo>
                <a:lnTo>
                  <a:pt x="117" y="67"/>
                </a:lnTo>
                <a:lnTo>
                  <a:pt x="0" y="141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3" name="Freeform 115"/>
          <p:cNvSpPr/>
          <p:nvPr/>
        </p:nvSpPr>
        <p:spPr>
          <a:xfrm>
            <a:off x="6924600" y="3035160"/>
            <a:ext cx="95400" cy="117720"/>
          </a:xfrm>
          <a:custGeom>
            <a:avLst/>
            <a:gdLst>
              <a:gd name="textAreaLeft" fmla="*/ 0 w 95400"/>
              <a:gd name="textAreaRight" fmla="*/ 95760 w 9540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139" h="151">
                <a:moveTo>
                  <a:pt x="0" y="16"/>
                </a:moveTo>
                <a:lnTo>
                  <a:pt x="29" y="144"/>
                </a:lnTo>
                <a:lnTo>
                  <a:pt x="35" y="151"/>
                </a:lnTo>
                <a:lnTo>
                  <a:pt x="89" y="123"/>
                </a:lnTo>
                <a:lnTo>
                  <a:pt x="81" y="86"/>
                </a:lnTo>
                <a:lnTo>
                  <a:pt x="92" y="65"/>
                </a:lnTo>
                <a:lnTo>
                  <a:pt x="104" y="81"/>
                </a:lnTo>
                <a:lnTo>
                  <a:pt x="108" y="106"/>
                </a:lnTo>
                <a:lnTo>
                  <a:pt x="123" y="106"/>
                </a:lnTo>
                <a:lnTo>
                  <a:pt x="139" y="81"/>
                </a:lnTo>
                <a:lnTo>
                  <a:pt x="123" y="46"/>
                </a:lnTo>
                <a:lnTo>
                  <a:pt x="90" y="43"/>
                </a:lnTo>
                <a:lnTo>
                  <a:pt x="69" y="2"/>
                </a:lnTo>
                <a:lnTo>
                  <a:pt x="48" y="0"/>
                </a:lnTo>
                <a:lnTo>
                  <a:pt x="0" y="1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4e5b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4" name="Freeform 116"/>
          <p:cNvSpPr/>
          <p:nvPr/>
        </p:nvSpPr>
        <p:spPr>
          <a:xfrm>
            <a:off x="5756400" y="4314960"/>
            <a:ext cx="630000" cy="473040"/>
          </a:xfrm>
          <a:custGeom>
            <a:avLst/>
            <a:gdLst>
              <a:gd name="textAreaLeft" fmla="*/ 0 w 630000"/>
              <a:gd name="textAreaRight" fmla="*/ 630360 w 6300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914" h="599">
                <a:moveTo>
                  <a:pt x="0" y="142"/>
                </a:moveTo>
                <a:lnTo>
                  <a:pt x="37" y="81"/>
                </a:lnTo>
                <a:lnTo>
                  <a:pt x="168" y="22"/>
                </a:lnTo>
                <a:lnTo>
                  <a:pt x="415" y="0"/>
                </a:lnTo>
                <a:lnTo>
                  <a:pt x="515" y="53"/>
                </a:lnTo>
                <a:lnTo>
                  <a:pt x="675" y="36"/>
                </a:lnTo>
                <a:lnTo>
                  <a:pt x="914" y="185"/>
                </a:lnTo>
                <a:lnTo>
                  <a:pt x="844" y="255"/>
                </a:lnTo>
                <a:lnTo>
                  <a:pt x="810" y="300"/>
                </a:lnTo>
                <a:lnTo>
                  <a:pt x="813" y="349"/>
                </a:lnTo>
                <a:lnTo>
                  <a:pt x="750" y="392"/>
                </a:lnTo>
                <a:lnTo>
                  <a:pt x="700" y="461"/>
                </a:lnTo>
                <a:lnTo>
                  <a:pt x="634" y="497"/>
                </a:lnTo>
                <a:lnTo>
                  <a:pt x="600" y="502"/>
                </a:lnTo>
                <a:lnTo>
                  <a:pt x="586" y="545"/>
                </a:lnTo>
                <a:lnTo>
                  <a:pt x="548" y="521"/>
                </a:lnTo>
                <a:lnTo>
                  <a:pt x="582" y="562"/>
                </a:lnTo>
                <a:lnTo>
                  <a:pt x="550" y="599"/>
                </a:lnTo>
                <a:lnTo>
                  <a:pt x="517" y="596"/>
                </a:lnTo>
                <a:lnTo>
                  <a:pt x="494" y="570"/>
                </a:lnTo>
                <a:lnTo>
                  <a:pt x="455" y="512"/>
                </a:lnTo>
                <a:lnTo>
                  <a:pt x="434" y="505"/>
                </a:lnTo>
                <a:lnTo>
                  <a:pt x="388" y="425"/>
                </a:lnTo>
                <a:lnTo>
                  <a:pt x="326" y="392"/>
                </a:lnTo>
                <a:lnTo>
                  <a:pt x="282" y="337"/>
                </a:lnTo>
                <a:lnTo>
                  <a:pt x="174" y="267"/>
                </a:lnTo>
                <a:lnTo>
                  <a:pt x="118" y="206"/>
                </a:lnTo>
                <a:lnTo>
                  <a:pt x="0" y="1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5" name="Freeform 117"/>
          <p:cNvSpPr/>
          <p:nvPr/>
        </p:nvSpPr>
        <p:spPr>
          <a:xfrm>
            <a:off x="5756400" y="4314960"/>
            <a:ext cx="630000" cy="473040"/>
          </a:xfrm>
          <a:custGeom>
            <a:avLst/>
            <a:gdLst>
              <a:gd name="textAreaLeft" fmla="*/ 0 w 630000"/>
              <a:gd name="textAreaRight" fmla="*/ 630360 w 6300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914" h="599">
                <a:moveTo>
                  <a:pt x="0" y="142"/>
                </a:moveTo>
                <a:lnTo>
                  <a:pt x="37" y="81"/>
                </a:lnTo>
                <a:lnTo>
                  <a:pt x="168" y="22"/>
                </a:lnTo>
                <a:lnTo>
                  <a:pt x="415" y="0"/>
                </a:lnTo>
                <a:lnTo>
                  <a:pt x="515" y="53"/>
                </a:lnTo>
                <a:lnTo>
                  <a:pt x="675" y="36"/>
                </a:lnTo>
                <a:lnTo>
                  <a:pt x="914" y="185"/>
                </a:lnTo>
                <a:lnTo>
                  <a:pt x="844" y="255"/>
                </a:lnTo>
                <a:lnTo>
                  <a:pt x="810" y="300"/>
                </a:lnTo>
                <a:lnTo>
                  <a:pt x="813" y="349"/>
                </a:lnTo>
                <a:lnTo>
                  <a:pt x="750" y="392"/>
                </a:lnTo>
                <a:lnTo>
                  <a:pt x="700" y="461"/>
                </a:lnTo>
                <a:lnTo>
                  <a:pt x="634" y="497"/>
                </a:lnTo>
                <a:lnTo>
                  <a:pt x="600" y="502"/>
                </a:lnTo>
                <a:lnTo>
                  <a:pt x="586" y="545"/>
                </a:lnTo>
                <a:lnTo>
                  <a:pt x="548" y="521"/>
                </a:lnTo>
                <a:lnTo>
                  <a:pt x="582" y="562"/>
                </a:lnTo>
                <a:lnTo>
                  <a:pt x="550" y="599"/>
                </a:lnTo>
                <a:lnTo>
                  <a:pt x="517" y="596"/>
                </a:lnTo>
                <a:lnTo>
                  <a:pt x="494" y="570"/>
                </a:lnTo>
                <a:lnTo>
                  <a:pt x="455" y="512"/>
                </a:lnTo>
                <a:lnTo>
                  <a:pt x="434" y="505"/>
                </a:lnTo>
                <a:lnTo>
                  <a:pt x="388" y="425"/>
                </a:lnTo>
                <a:lnTo>
                  <a:pt x="326" y="392"/>
                </a:lnTo>
                <a:lnTo>
                  <a:pt x="282" y="337"/>
                </a:lnTo>
                <a:lnTo>
                  <a:pt x="174" y="267"/>
                </a:lnTo>
                <a:lnTo>
                  <a:pt x="118" y="206"/>
                </a:lnTo>
                <a:lnTo>
                  <a:pt x="0" y="14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6" name="Freeform 118"/>
          <p:cNvSpPr/>
          <p:nvPr/>
        </p:nvSpPr>
        <p:spPr>
          <a:xfrm>
            <a:off x="3228840" y="2730600"/>
            <a:ext cx="873360" cy="581040"/>
          </a:xfrm>
          <a:custGeom>
            <a:avLst/>
            <a:gdLst>
              <a:gd name="textAreaLeft" fmla="*/ 0 w 873360"/>
              <a:gd name="textAreaRight" fmla="*/ 873720 w 8733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1266" h="731">
                <a:moveTo>
                  <a:pt x="0" y="573"/>
                </a:moveTo>
                <a:lnTo>
                  <a:pt x="42" y="181"/>
                </a:lnTo>
                <a:lnTo>
                  <a:pt x="61" y="0"/>
                </a:lnTo>
                <a:lnTo>
                  <a:pt x="624" y="34"/>
                </a:lnTo>
                <a:lnTo>
                  <a:pt x="1248" y="53"/>
                </a:lnTo>
                <a:lnTo>
                  <a:pt x="1206" y="119"/>
                </a:lnTo>
                <a:lnTo>
                  <a:pt x="1266" y="173"/>
                </a:lnTo>
                <a:lnTo>
                  <a:pt x="1264" y="530"/>
                </a:lnTo>
                <a:lnTo>
                  <a:pt x="1239" y="529"/>
                </a:lnTo>
                <a:lnTo>
                  <a:pt x="1241" y="575"/>
                </a:lnTo>
                <a:lnTo>
                  <a:pt x="1260" y="613"/>
                </a:lnTo>
                <a:lnTo>
                  <a:pt x="1248" y="647"/>
                </a:lnTo>
                <a:lnTo>
                  <a:pt x="1258" y="731"/>
                </a:lnTo>
                <a:lnTo>
                  <a:pt x="1231" y="724"/>
                </a:lnTo>
                <a:lnTo>
                  <a:pt x="1202" y="690"/>
                </a:lnTo>
                <a:lnTo>
                  <a:pt x="1138" y="667"/>
                </a:lnTo>
                <a:lnTo>
                  <a:pt x="1086" y="659"/>
                </a:lnTo>
                <a:lnTo>
                  <a:pt x="977" y="661"/>
                </a:lnTo>
                <a:lnTo>
                  <a:pt x="917" y="621"/>
                </a:lnTo>
                <a:lnTo>
                  <a:pt x="0" y="57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7" name="Freeform 119"/>
          <p:cNvSpPr/>
          <p:nvPr/>
        </p:nvSpPr>
        <p:spPr>
          <a:xfrm>
            <a:off x="3228840" y="2730600"/>
            <a:ext cx="873360" cy="581040"/>
          </a:xfrm>
          <a:custGeom>
            <a:avLst/>
            <a:gdLst>
              <a:gd name="textAreaLeft" fmla="*/ 0 w 873360"/>
              <a:gd name="textAreaRight" fmla="*/ 873720 w 8733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1266" h="731">
                <a:moveTo>
                  <a:pt x="0" y="573"/>
                </a:moveTo>
                <a:lnTo>
                  <a:pt x="42" y="181"/>
                </a:lnTo>
                <a:lnTo>
                  <a:pt x="61" y="0"/>
                </a:lnTo>
                <a:lnTo>
                  <a:pt x="624" y="34"/>
                </a:lnTo>
                <a:lnTo>
                  <a:pt x="1248" y="53"/>
                </a:lnTo>
                <a:lnTo>
                  <a:pt x="1206" y="119"/>
                </a:lnTo>
                <a:lnTo>
                  <a:pt x="1266" y="173"/>
                </a:lnTo>
                <a:lnTo>
                  <a:pt x="1264" y="530"/>
                </a:lnTo>
                <a:lnTo>
                  <a:pt x="1239" y="529"/>
                </a:lnTo>
                <a:lnTo>
                  <a:pt x="1241" y="575"/>
                </a:lnTo>
                <a:lnTo>
                  <a:pt x="1260" y="613"/>
                </a:lnTo>
                <a:lnTo>
                  <a:pt x="1248" y="647"/>
                </a:lnTo>
                <a:lnTo>
                  <a:pt x="1258" y="731"/>
                </a:lnTo>
                <a:lnTo>
                  <a:pt x="1231" y="724"/>
                </a:lnTo>
                <a:lnTo>
                  <a:pt x="1202" y="690"/>
                </a:lnTo>
                <a:lnTo>
                  <a:pt x="1138" y="667"/>
                </a:lnTo>
                <a:lnTo>
                  <a:pt x="1086" y="659"/>
                </a:lnTo>
                <a:lnTo>
                  <a:pt x="977" y="661"/>
                </a:lnTo>
                <a:lnTo>
                  <a:pt x="917" y="621"/>
                </a:lnTo>
                <a:lnTo>
                  <a:pt x="0" y="57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8" name="Freeform 120"/>
          <p:cNvSpPr/>
          <p:nvPr/>
        </p:nvSpPr>
        <p:spPr>
          <a:xfrm>
            <a:off x="4873680" y="4103640"/>
            <a:ext cx="1057320" cy="35568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355680"/>
              <a:gd name="textAreaBottom" fmla="*/ 355680 h 355680"/>
            </a:gdLst>
            <a:ahLst/>
            <a:rect l="textAreaLeft" t="textAreaTop" r="textAreaRight" b="textAreaBottom"/>
            <a:pathLst>
              <a:path w="1536" h="450">
                <a:moveTo>
                  <a:pt x="0" y="450"/>
                </a:moveTo>
                <a:lnTo>
                  <a:pt x="23" y="370"/>
                </a:lnTo>
                <a:lnTo>
                  <a:pt x="16" y="363"/>
                </a:lnTo>
                <a:lnTo>
                  <a:pt x="60" y="332"/>
                </a:lnTo>
                <a:lnTo>
                  <a:pt x="102" y="260"/>
                </a:lnTo>
                <a:lnTo>
                  <a:pt x="89" y="246"/>
                </a:lnTo>
                <a:lnTo>
                  <a:pt x="108" y="210"/>
                </a:lnTo>
                <a:lnTo>
                  <a:pt x="112" y="174"/>
                </a:lnTo>
                <a:lnTo>
                  <a:pt x="141" y="144"/>
                </a:lnTo>
                <a:lnTo>
                  <a:pt x="382" y="130"/>
                </a:lnTo>
                <a:lnTo>
                  <a:pt x="382" y="96"/>
                </a:lnTo>
                <a:lnTo>
                  <a:pt x="455" y="99"/>
                </a:lnTo>
                <a:lnTo>
                  <a:pt x="1175" y="41"/>
                </a:lnTo>
                <a:lnTo>
                  <a:pt x="1536" y="0"/>
                </a:lnTo>
                <a:lnTo>
                  <a:pt x="1528" y="44"/>
                </a:lnTo>
                <a:lnTo>
                  <a:pt x="1503" y="58"/>
                </a:lnTo>
                <a:lnTo>
                  <a:pt x="1472" y="106"/>
                </a:lnTo>
                <a:lnTo>
                  <a:pt x="1447" y="102"/>
                </a:lnTo>
                <a:lnTo>
                  <a:pt x="1418" y="116"/>
                </a:lnTo>
                <a:lnTo>
                  <a:pt x="1399" y="140"/>
                </a:lnTo>
                <a:lnTo>
                  <a:pt x="1372" y="125"/>
                </a:lnTo>
                <a:lnTo>
                  <a:pt x="1332" y="154"/>
                </a:lnTo>
                <a:lnTo>
                  <a:pt x="1326" y="179"/>
                </a:lnTo>
                <a:lnTo>
                  <a:pt x="1154" y="269"/>
                </a:lnTo>
                <a:lnTo>
                  <a:pt x="1143" y="304"/>
                </a:lnTo>
                <a:lnTo>
                  <a:pt x="1096" y="322"/>
                </a:lnTo>
                <a:lnTo>
                  <a:pt x="1096" y="366"/>
                </a:lnTo>
                <a:lnTo>
                  <a:pt x="861" y="392"/>
                </a:lnTo>
                <a:lnTo>
                  <a:pt x="385" y="428"/>
                </a:lnTo>
                <a:lnTo>
                  <a:pt x="0" y="45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9" name="Freeform 121"/>
          <p:cNvSpPr/>
          <p:nvPr/>
        </p:nvSpPr>
        <p:spPr>
          <a:xfrm>
            <a:off x="4873680" y="4103640"/>
            <a:ext cx="1057320" cy="35568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355680"/>
              <a:gd name="textAreaBottom" fmla="*/ 355680 h 355680"/>
            </a:gdLst>
            <a:ahLst/>
            <a:rect l="textAreaLeft" t="textAreaTop" r="textAreaRight" b="textAreaBottom"/>
            <a:pathLst>
              <a:path w="1536" h="450">
                <a:moveTo>
                  <a:pt x="0" y="450"/>
                </a:moveTo>
                <a:lnTo>
                  <a:pt x="23" y="370"/>
                </a:lnTo>
                <a:lnTo>
                  <a:pt x="16" y="363"/>
                </a:lnTo>
                <a:lnTo>
                  <a:pt x="60" y="332"/>
                </a:lnTo>
                <a:lnTo>
                  <a:pt x="102" y="260"/>
                </a:lnTo>
                <a:lnTo>
                  <a:pt x="89" y="246"/>
                </a:lnTo>
                <a:lnTo>
                  <a:pt x="108" y="210"/>
                </a:lnTo>
                <a:lnTo>
                  <a:pt x="112" y="174"/>
                </a:lnTo>
                <a:lnTo>
                  <a:pt x="141" y="144"/>
                </a:lnTo>
                <a:lnTo>
                  <a:pt x="382" y="130"/>
                </a:lnTo>
                <a:lnTo>
                  <a:pt x="382" y="96"/>
                </a:lnTo>
                <a:lnTo>
                  <a:pt x="455" y="99"/>
                </a:lnTo>
                <a:lnTo>
                  <a:pt x="1175" y="41"/>
                </a:lnTo>
                <a:lnTo>
                  <a:pt x="1536" y="0"/>
                </a:lnTo>
                <a:lnTo>
                  <a:pt x="1528" y="44"/>
                </a:lnTo>
                <a:lnTo>
                  <a:pt x="1503" y="58"/>
                </a:lnTo>
                <a:lnTo>
                  <a:pt x="1472" y="106"/>
                </a:lnTo>
                <a:lnTo>
                  <a:pt x="1447" y="102"/>
                </a:lnTo>
                <a:lnTo>
                  <a:pt x="1418" y="116"/>
                </a:lnTo>
                <a:lnTo>
                  <a:pt x="1399" y="140"/>
                </a:lnTo>
                <a:lnTo>
                  <a:pt x="1372" y="125"/>
                </a:lnTo>
                <a:lnTo>
                  <a:pt x="1332" y="154"/>
                </a:lnTo>
                <a:lnTo>
                  <a:pt x="1326" y="179"/>
                </a:lnTo>
                <a:lnTo>
                  <a:pt x="1154" y="269"/>
                </a:lnTo>
                <a:lnTo>
                  <a:pt x="1143" y="304"/>
                </a:lnTo>
                <a:lnTo>
                  <a:pt x="1096" y="322"/>
                </a:lnTo>
                <a:lnTo>
                  <a:pt x="1096" y="366"/>
                </a:lnTo>
                <a:lnTo>
                  <a:pt x="861" y="392"/>
                </a:lnTo>
                <a:lnTo>
                  <a:pt x="385" y="428"/>
                </a:lnTo>
                <a:lnTo>
                  <a:pt x="0" y="45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0" name="Freeform 122"/>
          <p:cNvSpPr/>
          <p:nvPr/>
        </p:nvSpPr>
        <p:spPr>
          <a:xfrm>
            <a:off x="2732040" y="4210200"/>
            <a:ext cx="1736640" cy="16621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518" h="2099">
                <a:moveTo>
                  <a:pt x="16" y="863"/>
                </a:moveTo>
                <a:lnTo>
                  <a:pt x="0" y="822"/>
                </a:lnTo>
                <a:lnTo>
                  <a:pt x="50" y="826"/>
                </a:lnTo>
                <a:lnTo>
                  <a:pt x="684" y="879"/>
                </a:lnTo>
                <a:lnTo>
                  <a:pt x="779" y="0"/>
                </a:lnTo>
                <a:lnTo>
                  <a:pt x="1322" y="29"/>
                </a:lnTo>
                <a:lnTo>
                  <a:pt x="1305" y="406"/>
                </a:lnTo>
                <a:lnTo>
                  <a:pt x="1357" y="445"/>
                </a:lnTo>
                <a:lnTo>
                  <a:pt x="1411" y="447"/>
                </a:lnTo>
                <a:lnTo>
                  <a:pt x="1422" y="432"/>
                </a:lnTo>
                <a:lnTo>
                  <a:pt x="1449" y="456"/>
                </a:lnTo>
                <a:lnTo>
                  <a:pt x="1447" y="480"/>
                </a:lnTo>
                <a:lnTo>
                  <a:pt x="1493" y="485"/>
                </a:lnTo>
                <a:lnTo>
                  <a:pt x="1532" y="498"/>
                </a:lnTo>
                <a:lnTo>
                  <a:pt x="1559" y="492"/>
                </a:lnTo>
                <a:lnTo>
                  <a:pt x="1590" y="510"/>
                </a:lnTo>
                <a:lnTo>
                  <a:pt x="1597" y="497"/>
                </a:lnTo>
                <a:lnTo>
                  <a:pt x="1649" y="497"/>
                </a:lnTo>
                <a:lnTo>
                  <a:pt x="1676" y="546"/>
                </a:lnTo>
                <a:lnTo>
                  <a:pt x="1696" y="562"/>
                </a:lnTo>
                <a:lnTo>
                  <a:pt x="1727" y="534"/>
                </a:lnTo>
                <a:lnTo>
                  <a:pt x="1782" y="572"/>
                </a:lnTo>
                <a:lnTo>
                  <a:pt x="1819" y="552"/>
                </a:lnTo>
                <a:lnTo>
                  <a:pt x="1831" y="589"/>
                </a:lnTo>
                <a:lnTo>
                  <a:pt x="1836" y="562"/>
                </a:lnTo>
                <a:lnTo>
                  <a:pt x="1871" y="540"/>
                </a:lnTo>
                <a:lnTo>
                  <a:pt x="1883" y="565"/>
                </a:lnTo>
                <a:lnTo>
                  <a:pt x="1933" y="557"/>
                </a:lnTo>
                <a:lnTo>
                  <a:pt x="1971" y="588"/>
                </a:lnTo>
                <a:lnTo>
                  <a:pt x="2069" y="558"/>
                </a:lnTo>
                <a:lnTo>
                  <a:pt x="2172" y="552"/>
                </a:lnTo>
                <a:lnTo>
                  <a:pt x="2202" y="538"/>
                </a:lnTo>
                <a:lnTo>
                  <a:pt x="2279" y="584"/>
                </a:lnTo>
                <a:lnTo>
                  <a:pt x="2328" y="598"/>
                </a:lnTo>
                <a:lnTo>
                  <a:pt x="2347" y="618"/>
                </a:lnTo>
                <a:lnTo>
                  <a:pt x="2412" y="617"/>
                </a:lnTo>
                <a:lnTo>
                  <a:pt x="2414" y="723"/>
                </a:lnTo>
                <a:lnTo>
                  <a:pt x="2426" y="928"/>
                </a:lnTo>
                <a:lnTo>
                  <a:pt x="2453" y="954"/>
                </a:lnTo>
                <a:lnTo>
                  <a:pt x="2463" y="1005"/>
                </a:lnTo>
                <a:lnTo>
                  <a:pt x="2518" y="1079"/>
                </a:lnTo>
                <a:lnTo>
                  <a:pt x="2515" y="1141"/>
                </a:lnTo>
                <a:lnTo>
                  <a:pt x="2484" y="1200"/>
                </a:lnTo>
                <a:lnTo>
                  <a:pt x="2486" y="1235"/>
                </a:lnTo>
                <a:lnTo>
                  <a:pt x="2495" y="1266"/>
                </a:lnTo>
                <a:lnTo>
                  <a:pt x="2491" y="1300"/>
                </a:lnTo>
                <a:lnTo>
                  <a:pt x="2472" y="1322"/>
                </a:lnTo>
                <a:lnTo>
                  <a:pt x="2449" y="1349"/>
                </a:lnTo>
                <a:lnTo>
                  <a:pt x="2464" y="1365"/>
                </a:lnTo>
                <a:lnTo>
                  <a:pt x="2364" y="1394"/>
                </a:lnTo>
                <a:lnTo>
                  <a:pt x="2283" y="1433"/>
                </a:lnTo>
                <a:lnTo>
                  <a:pt x="2332" y="1399"/>
                </a:lnTo>
                <a:lnTo>
                  <a:pt x="2279" y="1399"/>
                </a:lnTo>
                <a:lnTo>
                  <a:pt x="2295" y="1348"/>
                </a:lnTo>
                <a:lnTo>
                  <a:pt x="2251" y="1377"/>
                </a:lnTo>
                <a:lnTo>
                  <a:pt x="2231" y="1367"/>
                </a:lnTo>
                <a:lnTo>
                  <a:pt x="2233" y="1403"/>
                </a:lnTo>
                <a:lnTo>
                  <a:pt x="2249" y="1409"/>
                </a:lnTo>
                <a:lnTo>
                  <a:pt x="2253" y="1442"/>
                </a:lnTo>
                <a:lnTo>
                  <a:pt x="2224" y="1468"/>
                </a:lnTo>
                <a:lnTo>
                  <a:pt x="2202" y="1466"/>
                </a:lnTo>
                <a:lnTo>
                  <a:pt x="2199" y="1504"/>
                </a:lnTo>
                <a:lnTo>
                  <a:pt x="1965" y="1627"/>
                </a:lnTo>
                <a:lnTo>
                  <a:pt x="1967" y="1615"/>
                </a:lnTo>
                <a:lnTo>
                  <a:pt x="2075" y="1555"/>
                </a:lnTo>
                <a:lnTo>
                  <a:pt x="1992" y="1593"/>
                </a:lnTo>
                <a:lnTo>
                  <a:pt x="1998" y="1557"/>
                </a:lnTo>
                <a:lnTo>
                  <a:pt x="1975" y="1577"/>
                </a:lnTo>
                <a:lnTo>
                  <a:pt x="1952" y="1563"/>
                </a:lnTo>
                <a:lnTo>
                  <a:pt x="1940" y="1593"/>
                </a:lnTo>
                <a:lnTo>
                  <a:pt x="1904" y="1563"/>
                </a:lnTo>
                <a:lnTo>
                  <a:pt x="1908" y="1591"/>
                </a:lnTo>
                <a:lnTo>
                  <a:pt x="1952" y="1617"/>
                </a:lnTo>
                <a:lnTo>
                  <a:pt x="1900" y="1639"/>
                </a:lnTo>
                <a:lnTo>
                  <a:pt x="1879" y="1606"/>
                </a:lnTo>
                <a:lnTo>
                  <a:pt x="1861" y="1688"/>
                </a:lnTo>
                <a:lnTo>
                  <a:pt x="1840" y="1656"/>
                </a:lnTo>
                <a:lnTo>
                  <a:pt x="1794" y="1668"/>
                </a:lnTo>
                <a:lnTo>
                  <a:pt x="1786" y="1690"/>
                </a:lnTo>
                <a:lnTo>
                  <a:pt x="1806" y="1724"/>
                </a:lnTo>
                <a:lnTo>
                  <a:pt x="1725" y="1730"/>
                </a:lnTo>
                <a:lnTo>
                  <a:pt x="1753" y="1736"/>
                </a:lnTo>
                <a:lnTo>
                  <a:pt x="1755" y="1772"/>
                </a:lnTo>
                <a:lnTo>
                  <a:pt x="1775" y="1764"/>
                </a:lnTo>
                <a:lnTo>
                  <a:pt x="1765" y="1789"/>
                </a:lnTo>
                <a:lnTo>
                  <a:pt x="1727" y="1841"/>
                </a:lnTo>
                <a:lnTo>
                  <a:pt x="1730" y="1815"/>
                </a:lnTo>
                <a:lnTo>
                  <a:pt x="1705" y="1837"/>
                </a:lnTo>
                <a:lnTo>
                  <a:pt x="1673" y="1805"/>
                </a:lnTo>
                <a:lnTo>
                  <a:pt x="1678" y="1843"/>
                </a:lnTo>
                <a:lnTo>
                  <a:pt x="1742" y="1848"/>
                </a:lnTo>
                <a:lnTo>
                  <a:pt x="1715" y="1901"/>
                </a:lnTo>
                <a:lnTo>
                  <a:pt x="1738" y="2009"/>
                </a:lnTo>
                <a:lnTo>
                  <a:pt x="1794" y="2098"/>
                </a:lnTo>
                <a:lnTo>
                  <a:pt x="1723" y="2099"/>
                </a:lnTo>
                <a:lnTo>
                  <a:pt x="1651" y="2075"/>
                </a:lnTo>
                <a:lnTo>
                  <a:pt x="1590" y="2077"/>
                </a:lnTo>
                <a:lnTo>
                  <a:pt x="1503" y="2034"/>
                </a:lnTo>
                <a:lnTo>
                  <a:pt x="1401" y="2000"/>
                </a:lnTo>
                <a:lnTo>
                  <a:pt x="1387" y="1968"/>
                </a:lnTo>
                <a:lnTo>
                  <a:pt x="1364" y="1918"/>
                </a:lnTo>
                <a:lnTo>
                  <a:pt x="1332" y="1879"/>
                </a:lnTo>
                <a:lnTo>
                  <a:pt x="1337" y="1841"/>
                </a:lnTo>
                <a:lnTo>
                  <a:pt x="1318" y="1825"/>
                </a:lnTo>
                <a:lnTo>
                  <a:pt x="1318" y="1772"/>
                </a:lnTo>
                <a:lnTo>
                  <a:pt x="1258" y="1730"/>
                </a:lnTo>
                <a:lnTo>
                  <a:pt x="1193" y="1647"/>
                </a:lnTo>
                <a:lnTo>
                  <a:pt x="1085" y="1438"/>
                </a:lnTo>
                <a:lnTo>
                  <a:pt x="1002" y="1384"/>
                </a:lnTo>
                <a:lnTo>
                  <a:pt x="977" y="1336"/>
                </a:lnTo>
                <a:lnTo>
                  <a:pt x="906" y="1329"/>
                </a:lnTo>
                <a:lnTo>
                  <a:pt x="846" y="1322"/>
                </a:lnTo>
                <a:lnTo>
                  <a:pt x="794" y="1300"/>
                </a:lnTo>
                <a:lnTo>
                  <a:pt x="779" y="1322"/>
                </a:lnTo>
                <a:lnTo>
                  <a:pt x="723" y="1322"/>
                </a:lnTo>
                <a:lnTo>
                  <a:pt x="673" y="1421"/>
                </a:lnTo>
                <a:lnTo>
                  <a:pt x="619" y="1464"/>
                </a:lnTo>
                <a:lnTo>
                  <a:pt x="588" y="1464"/>
                </a:lnTo>
                <a:lnTo>
                  <a:pt x="491" y="1399"/>
                </a:lnTo>
                <a:lnTo>
                  <a:pt x="451" y="1391"/>
                </a:lnTo>
                <a:lnTo>
                  <a:pt x="357" y="1317"/>
                </a:lnTo>
                <a:lnTo>
                  <a:pt x="334" y="1259"/>
                </a:lnTo>
                <a:lnTo>
                  <a:pt x="334" y="1200"/>
                </a:lnTo>
                <a:lnTo>
                  <a:pt x="289" y="1117"/>
                </a:lnTo>
                <a:lnTo>
                  <a:pt x="214" y="1065"/>
                </a:lnTo>
                <a:lnTo>
                  <a:pt x="108" y="951"/>
                </a:lnTo>
                <a:lnTo>
                  <a:pt x="71" y="933"/>
                </a:lnTo>
                <a:lnTo>
                  <a:pt x="44" y="873"/>
                </a:lnTo>
                <a:lnTo>
                  <a:pt x="16" y="8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1" name="Freeform 123"/>
          <p:cNvSpPr/>
          <p:nvPr/>
        </p:nvSpPr>
        <p:spPr>
          <a:xfrm>
            <a:off x="2732040" y="4210200"/>
            <a:ext cx="1736640" cy="16621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518" h="2099">
                <a:moveTo>
                  <a:pt x="16" y="863"/>
                </a:moveTo>
                <a:lnTo>
                  <a:pt x="0" y="822"/>
                </a:lnTo>
                <a:lnTo>
                  <a:pt x="50" y="826"/>
                </a:lnTo>
                <a:lnTo>
                  <a:pt x="684" y="879"/>
                </a:lnTo>
                <a:lnTo>
                  <a:pt x="779" y="0"/>
                </a:lnTo>
                <a:lnTo>
                  <a:pt x="1322" y="29"/>
                </a:lnTo>
                <a:lnTo>
                  <a:pt x="1305" y="406"/>
                </a:lnTo>
                <a:lnTo>
                  <a:pt x="1357" y="445"/>
                </a:lnTo>
                <a:lnTo>
                  <a:pt x="1411" y="447"/>
                </a:lnTo>
                <a:lnTo>
                  <a:pt x="1422" y="432"/>
                </a:lnTo>
                <a:lnTo>
                  <a:pt x="1449" y="456"/>
                </a:lnTo>
                <a:lnTo>
                  <a:pt x="1447" y="480"/>
                </a:lnTo>
                <a:lnTo>
                  <a:pt x="1493" y="485"/>
                </a:lnTo>
                <a:lnTo>
                  <a:pt x="1532" y="498"/>
                </a:lnTo>
                <a:lnTo>
                  <a:pt x="1559" y="492"/>
                </a:lnTo>
                <a:lnTo>
                  <a:pt x="1590" y="510"/>
                </a:lnTo>
                <a:lnTo>
                  <a:pt x="1597" y="497"/>
                </a:lnTo>
                <a:lnTo>
                  <a:pt x="1649" y="497"/>
                </a:lnTo>
                <a:lnTo>
                  <a:pt x="1676" y="546"/>
                </a:lnTo>
                <a:lnTo>
                  <a:pt x="1696" y="562"/>
                </a:lnTo>
                <a:lnTo>
                  <a:pt x="1727" y="534"/>
                </a:lnTo>
                <a:lnTo>
                  <a:pt x="1782" y="572"/>
                </a:lnTo>
                <a:lnTo>
                  <a:pt x="1819" y="552"/>
                </a:lnTo>
                <a:lnTo>
                  <a:pt x="1831" y="589"/>
                </a:lnTo>
                <a:lnTo>
                  <a:pt x="1836" y="562"/>
                </a:lnTo>
                <a:lnTo>
                  <a:pt x="1871" y="540"/>
                </a:lnTo>
                <a:lnTo>
                  <a:pt x="1883" y="565"/>
                </a:lnTo>
                <a:lnTo>
                  <a:pt x="1933" y="557"/>
                </a:lnTo>
                <a:lnTo>
                  <a:pt x="1971" y="588"/>
                </a:lnTo>
                <a:lnTo>
                  <a:pt x="2069" y="558"/>
                </a:lnTo>
                <a:lnTo>
                  <a:pt x="2172" y="552"/>
                </a:lnTo>
                <a:lnTo>
                  <a:pt x="2202" y="538"/>
                </a:lnTo>
                <a:lnTo>
                  <a:pt x="2279" y="584"/>
                </a:lnTo>
                <a:lnTo>
                  <a:pt x="2328" y="598"/>
                </a:lnTo>
                <a:lnTo>
                  <a:pt x="2347" y="618"/>
                </a:lnTo>
                <a:lnTo>
                  <a:pt x="2412" y="617"/>
                </a:lnTo>
                <a:lnTo>
                  <a:pt x="2414" y="723"/>
                </a:lnTo>
                <a:lnTo>
                  <a:pt x="2426" y="928"/>
                </a:lnTo>
                <a:lnTo>
                  <a:pt x="2453" y="954"/>
                </a:lnTo>
                <a:lnTo>
                  <a:pt x="2463" y="1005"/>
                </a:lnTo>
                <a:lnTo>
                  <a:pt x="2518" y="1079"/>
                </a:lnTo>
                <a:lnTo>
                  <a:pt x="2515" y="1141"/>
                </a:lnTo>
                <a:lnTo>
                  <a:pt x="2484" y="1200"/>
                </a:lnTo>
                <a:lnTo>
                  <a:pt x="2486" y="1235"/>
                </a:lnTo>
                <a:lnTo>
                  <a:pt x="2495" y="1266"/>
                </a:lnTo>
                <a:lnTo>
                  <a:pt x="2491" y="1300"/>
                </a:lnTo>
                <a:lnTo>
                  <a:pt x="2472" y="1322"/>
                </a:lnTo>
                <a:lnTo>
                  <a:pt x="2449" y="1349"/>
                </a:lnTo>
                <a:lnTo>
                  <a:pt x="2464" y="1365"/>
                </a:lnTo>
                <a:lnTo>
                  <a:pt x="2364" y="1394"/>
                </a:lnTo>
                <a:lnTo>
                  <a:pt x="2283" y="1433"/>
                </a:lnTo>
                <a:lnTo>
                  <a:pt x="2332" y="1399"/>
                </a:lnTo>
                <a:lnTo>
                  <a:pt x="2279" y="1399"/>
                </a:lnTo>
                <a:lnTo>
                  <a:pt x="2295" y="1348"/>
                </a:lnTo>
                <a:lnTo>
                  <a:pt x="2251" y="1377"/>
                </a:lnTo>
                <a:lnTo>
                  <a:pt x="2231" y="1367"/>
                </a:lnTo>
                <a:lnTo>
                  <a:pt x="2233" y="1403"/>
                </a:lnTo>
                <a:lnTo>
                  <a:pt x="2249" y="1409"/>
                </a:lnTo>
                <a:lnTo>
                  <a:pt x="2253" y="1442"/>
                </a:lnTo>
                <a:lnTo>
                  <a:pt x="2224" y="1468"/>
                </a:lnTo>
                <a:lnTo>
                  <a:pt x="2202" y="1466"/>
                </a:lnTo>
                <a:lnTo>
                  <a:pt x="2199" y="1504"/>
                </a:lnTo>
                <a:lnTo>
                  <a:pt x="1965" y="1627"/>
                </a:lnTo>
                <a:lnTo>
                  <a:pt x="1967" y="1615"/>
                </a:lnTo>
                <a:lnTo>
                  <a:pt x="2075" y="1555"/>
                </a:lnTo>
                <a:lnTo>
                  <a:pt x="1992" y="1593"/>
                </a:lnTo>
                <a:lnTo>
                  <a:pt x="1998" y="1557"/>
                </a:lnTo>
                <a:lnTo>
                  <a:pt x="1975" y="1577"/>
                </a:lnTo>
                <a:lnTo>
                  <a:pt x="1952" y="1563"/>
                </a:lnTo>
                <a:lnTo>
                  <a:pt x="1940" y="1593"/>
                </a:lnTo>
                <a:lnTo>
                  <a:pt x="1904" y="1563"/>
                </a:lnTo>
                <a:lnTo>
                  <a:pt x="1908" y="1591"/>
                </a:lnTo>
                <a:lnTo>
                  <a:pt x="1952" y="1617"/>
                </a:lnTo>
                <a:lnTo>
                  <a:pt x="1900" y="1639"/>
                </a:lnTo>
                <a:lnTo>
                  <a:pt x="1879" y="1606"/>
                </a:lnTo>
                <a:lnTo>
                  <a:pt x="1861" y="1688"/>
                </a:lnTo>
                <a:lnTo>
                  <a:pt x="1840" y="1656"/>
                </a:lnTo>
                <a:lnTo>
                  <a:pt x="1794" y="1668"/>
                </a:lnTo>
                <a:lnTo>
                  <a:pt x="1786" y="1690"/>
                </a:lnTo>
                <a:lnTo>
                  <a:pt x="1806" y="1724"/>
                </a:lnTo>
                <a:lnTo>
                  <a:pt x="1725" y="1730"/>
                </a:lnTo>
                <a:lnTo>
                  <a:pt x="1753" y="1736"/>
                </a:lnTo>
                <a:lnTo>
                  <a:pt x="1755" y="1772"/>
                </a:lnTo>
                <a:lnTo>
                  <a:pt x="1775" y="1764"/>
                </a:lnTo>
                <a:lnTo>
                  <a:pt x="1765" y="1789"/>
                </a:lnTo>
                <a:lnTo>
                  <a:pt x="1727" y="1841"/>
                </a:lnTo>
                <a:lnTo>
                  <a:pt x="1730" y="1815"/>
                </a:lnTo>
                <a:lnTo>
                  <a:pt x="1705" y="1837"/>
                </a:lnTo>
                <a:lnTo>
                  <a:pt x="1673" y="1805"/>
                </a:lnTo>
                <a:lnTo>
                  <a:pt x="1678" y="1843"/>
                </a:lnTo>
                <a:lnTo>
                  <a:pt x="1742" y="1848"/>
                </a:lnTo>
                <a:lnTo>
                  <a:pt x="1715" y="1901"/>
                </a:lnTo>
                <a:lnTo>
                  <a:pt x="1738" y="2009"/>
                </a:lnTo>
                <a:lnTo>
                  <a:pt x="1794" y="2098"/>
                </a:lnTo>
                <a:lnTo>
                  <a:pt x="1723" y="2099"/>
                </a:lnTo>
                <a:lnTo>
                  <a:pt x="1651" y="2075"/>
                </a:lnTo>
                <a:lnTo>
                  <a:pt x="1590" y="2077"/>
                </a:lnTo>
                <a:lnTo>
                  <a:pt x="1503" y="2034"/>
                </a:lnTo>
                <a:lnTo>
                  <a:pt x="1401" y="2000"/>
                </a:lnTo>
                <a:lnTo>
                  <a:pt x="1387" y="1968"/>
                </a:lnTo>
                <a:lnTo>
                  <a:pt x="1364" y="1918"/>
                </a:lnTo>
                <a:lnTo>
                  <a:pt x="1332" y="1879"/>
                </a:lnTo>
                <a:lnTo>
                  <a:pt x="1337" y="1841"/>
                </a:lnTo>
                <a:lnTo>
                  <a:pt x="1318" y="1825"/>
                </a:lnTo>
                <a:lnTo>
                  <a:pt x="1318" y="1772"/>
                </a:lnTo>
                <a:lnTo>
                  <a:pt x="1258" y="1730"/>
                </a:lnTo>
                <a:lnTo>
                  <a:pt x="1193" y="1647"/>
                </a:lnTo>
                <a:lnTo>
                  <a:pt x="1085" y="1438"/>
                </a:lnTo>
                <a:lnTo>
                  <a:pt x="1002" y="1384"/>
                </a:lnTo>
                <a:lnTo>
                  <a:pt x="977" y="1336"/>
                </a:lnTo>
                <a:lnTo>
                  <a:pt x="906" y="1329"/>
                </a:lnTo>
                <a:lnTo>
                  <a:pt x="846" y="1322"/>
                </a:lnTo>
                <a:lnTo>
                  <a:pt x="794" y="1300"/>
                </a:lnTo>
                <a:lnTo>
                  <a:pt x="779" y="1322"/>
                </a:lnTo>
                <a:lnTo>
                  <a:pt x="723" y="1322"/>
                </a:lnTo>
                <a:lnTo>
                  <a:pt x="673" y="1421"/>
                </a:lnTo>
                <a:lnTo>
                  <a:pt x="619" y="1464"/>
                </a:lnTo>
                <a:lnTo>
                  <a:pt x="588" y="1464"/>
                </a:lnTo>
                <a:lnTo>
                  <a:pt x="491" y="1399"/>
                </a:lnTo>
                <a:lnTo>
                  <a:pt x="451" y="1391"/>
                </a:lnTo>
                <a:lnTo>
                  <a:pt x="357" y="1317"/>
                </a:lnTo>
                <a:lnTo>
                  <a:pt x="334" y="1259"/>
                </a:lnTo>
                <a:lnTo>
                  <a:pt x="334" y="1200"/>
                </a:lnTo>
                <a:lnTo>
                  <a:pt x="289" y="1117"/>
                </a:lnTo>
                <a:lnTo>
                  <a:pt x="214" y="1065"/>
                </a:lnTo>
                <a:lnTo>
                  <a:pt x="108" y="951"/>
                </a:lnTo>
                <a:lnTo>
                  <a:pt x="71" y="933"/>
                </a:lnTo>
                <a:lnTo>
                  <a:pt x="44" y="873"/>
                </a:lnTo>
                <a:lnTo>
                  <a:pt x="16" y="86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2" name="Freeform 124"/>
          <p:cNvSpPr/>
          <p:nvPr/>
        </p:nvSpPr>
        <p:spPr>
          <a:xfrm>
            <a:off x="1916280" y="3179880"/>
            <a:ext cx="701640" cy="868320"/>
          </a:xfrm>
          <a:custGeom>
            <a:avLst/>
            <a:gdLst>
              <a:gd name="textAreaLeft" fmla="*/ 0 w 701640"/>
              <a:gd name="textAreaRight" fmla="*/ 702000 w 7016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017" h="1095">
                <a:moveTo>
                  <a:pt x="0" y="965"/>
                </a:moveTo>
                <a:lnTo>
                  <a:pt x="222" y="0"/>
                </a:lnTo>
                <a:lnTo>
                  <a:pt x="717" y="75"/>
                </a:lnTo>
                <a:lnTo>
                  <a:pt x="678" y="272"/>
                </a:lnTo>
                <a:lnTo>
                  <a:pt x="1017" y="315"/>
                </a:lnTo>
                <a:lnTo>
                  <a:pt x="888" y="1095"/>
                </a:lnTo>
                <a:lnTo>
                  <a:pt x="0" y="9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3" name="Freeform 125"/>
          <p:cNvSpPr/>
          <p:nvPr/>
        </p:nvSpPr>
        <p:spPr>
          <a:xfrm>
            <a:off x="1916280" y="3179880"/>
            <a:ext cx="701640" cy="868320"/>
          </a:xfrm>
          <a:custGeom>
            <a:avLst/>
            <a:gdLst>
              <a:gd name="textAreaLeft" fmla="*/ 0 w 701640"/>
              <a:gd name="textAreaRight" fmla="*/ 702000 w 7016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017" h="1095">
                <a:moveTo>
                  <a:pt x="0" y="965"/>
                </a:moveTo>
                <a:lnTo>
                  <a:pt x="222" y="0"/>
                </a:lnTo>
                <a:lnTo>
                  <a:pt x="717" y="75"/>
                </a:lnTo>
                <a:lnTo>
                  <a:pt x="678" y="272"/>
                </a:lnTo>
                <a:lnTo>
                  <a:pt x="1017" y="315"/>
                </a:lnTo>
                <a:lnTo>
                  <a:pt x="888" y="1095"/>
                </a:lnTo>
                <a:lnTo>
                  <a:pt x="0" y="965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4" name="Freeform 126"/>
          <p:cNvSpPr/>
          <p:nvPr/>
        </p:nvSpPr>
        <p:spPr>
          <a:xfrm>
            <a:off x="6640560" y="2585880"/>
            <a:ext cx="199800" cy="387360"/>
          </a:xfrm>
          <a:custGeom>
            <a:avLst/>
            <a:gdLst>
              <a:gd name="textAreaLeft" fmla="*/ 0 w 199800"/>
              <a:gd name="textAreaRight" fmla="*/ 200160 w 1998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89" h="492">
                <a:moveTo>
                  <a:pt x="0" y="60"/>
                </a:moveTo>
                <a:lnTo>
                  <a:pt x="46" y="201"/>
                </a:lnTo>
                <a:lnTo>
                  <a:pt x="55" y="293"/>
                </a:lnTo>
                <a:lnTo>
                  <a:pt x="104" y="382"/>
                </a:lnTo>
                <a:lnTo>
                  <a:pt x="131" y="492"/>
                </a:lnTo>
                <a:lnTo>
                  <a:pt x="260" y="468"/>
                </a:lnTo>
                <a:lnTo>
                  <a:pt x="235" y="298"/>
                </a:lnTo>
                <a:lnTo>
                  <a:pt x="250" y="180"/>
                </a:lnTo>
                <a:lnTo>
                  <a:pt x="285" y="125"/>
                </a:lnTo>
                <a:lnTo>
                  <a:pt x="289" y="0"/>
                </a:lnTo>
                <a:lnTo>
                  <a:pt x="0" y="6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5" name="Freeform 127"/>
          <p:cNvSpPr/>
          <p:nvPr/>
        </p:nvSpPr>
        <p:spPr>
          <a:xfrm>
            <a:off x="6640560" y="2585880"/>
            <a:ext cx="199800" cy="387360"/>
          </a:xfrm>
          <a:custGeom>
            <a:avLst/>
            <a:gdLst>
              <a:gd name="textAreaLeft" fmla="*/ 0 w 199800"/>
              <a:gd name="textAreaRight" fmla="*/ 200160 w 1998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89" h="492">
                <a:moveTo>
                  <a:pt x="0" y="60"/>
                </a:moveTo>
                <a:lnTo>
                  <a:pt x="46" y="201"/>
                </a:lnTo>
                <a:lnTo>
                  <a:pt x="55" y="293"/>
                </a:lnTo>
                <a:lnTo>
                  <a:pt x="104" y="382"/>
                </a:lnTo>
                <a:lnTo>
                  <a:pt x="131" y="492"/>
                </a:lnTo>
                <a:lnTo>
                  <a:pt x="260" y="468"/>
                </a:lnTo>
                <a:lnTo>
                  <a:pt x="235" y="298"/>
                </a:lnTo>
                <a:lnTo>
                  <a:pt x="250" y="180"/>
                </a:lnTo>
                <a:lnTo>
                  <a:pt x="285" y="125"/>
                </a:lnTo>
                <a:lnTo>
                  <a:pt x="289" y="0"/>
                </a:lnTo>
                <a:lnTo>
                  <a:pt x="0" y="6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6" name="Freeform 128"/>
          <p:cNvSpPr/>
          <p:nvPr/>
        </p:nvSpPr>
        <p:spPr>
          <a:xfrm>
            <a:off x="5681520" y="3597120"/>
            <a:ext cx="962280" cy="538200"/>
          </a:xfrm>
          <a:custGeom>
            <a:avLst/>
            <a:gdLst>
              <a:gd name="textAreaLeft" fmla="*/ 0 w 962280"/>
              <a:gd name="textAreaRight" fmla="*/ 962640 w 9622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395" h="678">
                <a:moveTo>
                  <a:pt x="0" y="678"/>
                </a:moveTo>
                <a:lnTo>
                  <a:pt x="131" y="604"/>
                </a:lnTo>
                <a:lnTo>
                  <a:pt x="131" y="589"/>
                </a:lnTo>
                <a:lnTo>
                  <a:pt x="178" y="539"/>
                </a:lnTo>
                <a:lnTo>
                  <a:pt x="224" y="512"/>
                </a:lnTo>
                <a:lnTo>
                  <a:pt x="272" y="462"/>
                </a:lnTo>
                <a:lnTo>
                  <a:pt x="322" y="512"/>
                </a:lnTo>
                <a:lnTo>
                  <a:pt x="386" y="486"/>
                </a:lnTo>
                <a:lnTo>
                  <a:pt x="413" y="503"/>
                </a:lnTo>
                <a:lnTo>
                  <a:pt x="451" y="486"/>
                </a:lnTo>
                <a:lnTo>
                  <a:pt x="474" y="459"/>
                </a:lnTo>
                <a:lnTo>
                  <a:pt x="544" y="447"/>
                </a:lnTo>
                <a:lnTo>
                  <a:pt x="584" y="406"/>
                </a:lnTo>
                <a:lnTo>
                  <a:pt x="561" y="395"/>
                </a:lnTo>
                <a:lnTo>
                  <a:pt x="627" y="265"/>
                </a:lnTo>
                <a:lnTo>
                  <a:pt x="642" y="200"/>
                </a:lnTo>
                <a:lnTo>
                  <a:pt x="706" y="227"/>
                </a:lnTo>
                <a:lnTo>
                  <a:pt x="740" y="150"/>
                </a:lnTo>
                <a:lnTo>
                  <a:pt x="771" y="147"/>
                </a:lnTo>
                <a:lnTo>
                  <a:pt x="817" y="77"/>
                </a:lnTo>
                <a:lnTo>
                  <a:pt x="833" y="0"/>
                </a:lnTo>
                <a:lnTo>
                  <a:pt x="931" y="46"/>
                </a:lnTo>
                <a:lnTo>
                  <a:pt x="946" y="7"/>
                </a:lnTo>
                <a:lnTo>
                  <a:pt x="993" y="17"/>
                </a:lnTo>
                <a:lnTo>
                  <a:pt x="1020" y="49"/>
                </a:lnTo>
                <a:lnTo>
                  <a:pt x="1062" y="65"/>
                </a:lnTo>
                <a:lnTo>
                  <a:pt x="1083" y="90"/>
                </a:lnTo>
                <a:lnTo>
                  <a:pt x="1079" y="111"/>
                </a:lnTo>
                <a:lnTo>
                  <a:pt x="1051" y="156"/>
                </a:lnTo>
                <a:lnTo>
                  <a:pt x="1062" y="185"/>
                </a:lnTo>
                <a:lnTo>
                  <a:pt x="1099" y="171"/>
                </a:lnTo>
                <a:lnTo>
                  <a:pt x="1112" y="192"/>
                </a:lnTo>
                <a:lnTo>
                  <a:pt x="1124" y="205"/>
                </a:lnTo>
                <a:lnTo>
                  <a:pt x="1185" y="205"/>
                </a:lnTo>
                <a:lnTo>
                  <a:pt x="1205" y="226"/>
                </a:lnTo>
                <a:lnTo>
                  <a:pt x="1262" y="239"/>
                </a:lnTo>
                <a:lnTo>
                  <a:pt x="1249" y="255"/>
                </a:lnTo>
                <a:lnTo>
                  <a:pt x="1253" y="282"/>
                </a:lnTo>
                <a:lnTo>
                  <a:pt x="1257" y="296"/>
                </a:lnTo>
                <a:lnTo>
                  <a:pt x="1235" y="291"/>
                </a:lnTo>
                <a:lnTo>
                  <a:pt x="1195" y="272"/>
                </a:lnTo>
                <a:lnTo>
                  <a:pt x="1133" y="236"/>
                </a:lnTo>
                <a:lnTo>
                  <a:pt x="1222" y="306"/>
                </a:lnTo>
                <a:lnTo>
                  <a:pt x="1266" y="306"/>
                </a:lnTo>
                <a:lnTo>
                  <a:pt x="1243" y="318"/>
                </a:lnTo>
                <a:lnTo>
                  <a:pt x="1286" y="337"/>
                </a:lnTo>
                <a:lnTo>
                  <a:pt x="1286" y="352"/>
                </a:lnTo>
                <a:lnTo>
                  <a:pt x="1268" y="340"/>
                </a:lnTo>
                <a:lnTo>
                  <a:pt x="1251" y="342"/>
                </a:lnTo>
                <a:lnTo>
                  <a:pt x="1255" y="354"/>
                </a:lnTo>
                <a:lnTo>
                  <a:pt x="1268" y="366"/>
                </a:lnTo>
                <a:lnTo>
                  <a:pt x="1251" y="373"/>
                </a:lnTo>
                <a:lnTo>
                  <a:pt x="1203" y="342"/>
                </a:lnTo>
                <a:lnTo>
                  <a:pt x="1183" y="327"/>
                </a:lnTo>
                <a:lnTo>
                  <a:pt x="1195" y="347"/>
                </a:lnTo>
                <a:lnTo>
                  <a:pt x="1243" y="378"/>
                </a:lnTo>
                <a:lnTo>
                  <a:pt x="1262" y="380"/>
                </a:lnTo>
                <a:lnTo>
                  <a:pt x="1284" y="387"/>
                </a:lnTo>
                <a:lnTo>
                  <a:pt x="1282" y="397"/>
                </a:lnTo>
                <a:lnTo>
                  <a:pt x="1293" y="397"/>
                </a:lnTo>
                <a:lnTo>
                  <a:pt x="1297" y="407"/>
                </a:lnTo>
                <a:lnTo>
                  <a:pt x="1278" y="421"/>
                </a:lnTo>
                <a:lnTo>
                  <a:pt x="1243" y="407"/>
                </a:lnTo>
                <a:lnTo>
                  <a:pt x="1232" y="392"/>
                </a:lnTo>
                <a:lnTo>
                  <a:pt x="1185" y="387"/>
                </a:lnTo>
                <a:lnTo>
                  <a:pt x="1178" y="375"/>
                </a:lnTo>
                <a:lnTo>
                  <a:pt x="1160" y="390"/>
                </a:lnTo>
                <a:lnTo>
                  <a:pt x="1224" y="404"/>
                </a:lnTo>
                <a:lnTo>
                  <a:pt x="1228" y="418"/>
                </a:lnTo>
                <a:lnTo>
                  <a:pt x="1278" y="438"/>
                </a:lnTo>
                <a:lnTo>
                  <a:pt x="1297" y="438"/>
                </a:lnTo>
                <a:lnTo>
                  <a:pt x="1301" y="421"/>
                </a:lnTo>
                <a:lnTo>
                  <a:pt x="1318" y="426"/>
                </a:lnTo>
                <a:lnTo>
                  <a:pt x="1355" y="424"/>
                </a:lnTo>
                <a:lnTo>
                  <a:pt x="1395" y="486"/>
                </a:lnTo>
                <a:lnTo>
                  <a:pt x="1368" y="476"/>
                </a:lnTo>
                <a:lnTo>
                  <a:pt x="1361" y="496"/>
                </a:lnTo>
                <a:lnTo>
                  <a:pt x="812" y="585"/>
                </a:lnTo>
                <a:lnTo>
                  <a:pt x="361" y="637"/>
                </a:lnTo>
                <a:lnTo>
                  <a:pt x="0" y="67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7" name="Freeform 129"/>
          <p:cNvSpPr/>
          <p:nvPr/>
        </p:nvSpPr>
        <p:spPr>
          <a:xfrm>
            <a:off x="5681520" y="3597120"/>
            <a:ext cx="962280" cy="538200"/>
          </a:xfrm>
          <a:custGeom>
            <a:avLst/>
            <a:gdLst>
              <a:gd name="textAreaLeft" fmla="*/ 0 w 962280"/>
              <a:gd name="textAreaRight" fmla="*/ 962640 w 9622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395" h="678">
                <a:moveTo>
                  <a:pt x="0" y="678"/>
                </a:moveTo>
                <a:lnTo>
                  <a:pt x="131" y="604"/>
                </a:lnTo>
                <a:lnTo>
                  <a:pt x="131" y="589"/>
                </a:lnTo>
                <a:lnTo>
                  <a:pt x="178" y="539"/>
                </a:lnTo>
                <a:lnTo>
                  <a:pt x="224" y="512"/>
                </a:lnTo>
                <a:lnTo>
                  <a:pt x="272" y="462"/>
                </a:lnTo>
                <a:lnTo>
                  <a:pt x="322" y="512"/>
                </a:lnTo>
                <a:lnTo>
                  <a:pt x="386" y="486"/>
                </a:lnTo>
                <a:lnTo>
                  <a:pt x="413" y="503"/>
                </a:lnTo>
                <a:lnTo>
                  <a:pt x="451" y="486"/>
                </a:lnTo>
                <a:lnTo>
                  <a:pt x="474" y="459"/>
                </a:lnTo>
                <a:lnTo>
                  <a:pt x="544" y="447"/>
                </a:lnTo>
                <a:lnTo>
                  <a:pt x="584" y="406"/>
                </a:lnTo>
                <a:lnTo>
                  <a:pt x="561" y="395"/>
                </a:lnTo>
                <a:lnTo>
                  <a:pt x="627" y="265"/>
                </a:lnTo>
                <a:lnTo>
                  <a:pt x="642" y="200"/>
                </a:lnTo>
                <a:lnTo>
                  <a:pt x="706" y="227"/>
                </a:lnTo>
                <a:lnTo>
                  <a:pt x="740" y="150"/>
                </a:lnTo>
                <a:lnTo>
                  <a:pt x="771" y="147"/>
                </a:lnTo>
                <a:lnTo>
                  <a:pt x="817" y="77"/>
                </a:lnTo>
                <a:lnTo>
                  <a:pt x="833" y="0"/>
                </a:lnTo>
                <a:lnTo>
                  <a:pt x="931" y="46"/>
                </a:lnTo>
                <a:lnTo>
                  <a:pt x="946" y="7"/>
                </a:lnTo>
                <a:lnTo>
                  <a:pt x="993" y="17"/>
                </a:lnTo>
                <a:lnTo>
                  <a:pt x="1020" y="49"/>
                </a:lnTo>
                <a:lnTo>
                  <a:pt x="1062" y="65"/>
                </a:lnTo>
                <a:lnTo>
                  <a:pt x="1083" y="90"/>
                </a:lnTo>
                <a:lnTo>
                  <a:pt x="1079" y="111"/>
                </a:lnTo>
                <a:lnTo>
                  <a:pt x="1051" y="156"/>
                </a:lnTo>
                <a:lnTo>
                  <a:pt x="1062" y="185"/>
                </a:lnTo>
                <a:lnTo>
                  <a:pt x="1099" y="171"/>
                </a:lnTo>
                <a:lnTo>
                  <a:pt x="1112" y="192"/>
                </a:lnTo>
                <a:lnTo>
                  <a:pt x="1124" y="205"/>
                </a:lnTo>
                <a:lnTo>
                  <a:pt x="1185" y="205"/>
                </a:lnTo>
                <a:lnTo>
                  <a:pt x="1205" y="226"/>
                </a:lnTo>
                <a:lnTo>
                  <a:pt x="1262" y="239"/>
                </a:lnTo>
                <a:lnTo>
                  <a:pt x="1249" y="255"/>
                </a:lnTo>
                <a:lnTo>
                  <a:pt x="1253" y="282"/>
                </a:lnTo>
                <a:lnTo>
                  <a:pt x="1257" y="296"/>
                </a:lnTo>
                <a:lnTo>
                  <a:pt x="1235" y="291"/>
                </a:lnTo>
                <a:lnTo>
                  <a:pt x="1195" y="272"/>
                </a:lnTo>
                <a:lnTo>
                  <a:pt x="1133" y="236"/>
                </a:lnTo>
                <a:lnTo>
                  <a:pt x="1222" y="306"/>
                </a:lnTo>
                <a:lnTo>
                  <a:pt x="1266" y="306"/>
                </a:lnTo>
                <a:lnTo>
                  <a:pt x="1243" y="318"/>
                </a:lnTo>
                <a:lnTo>
                  <a:pt x="1286" y="337"/>
                </a:lnTo>
                <a:lnTo>
                  <a:pt x="1286" y="352"/>
                </a:lnTo>
                <a:lnTo>
                  <a:pt x="1268" y="340"/>
                </a:lnTo>
                <a:lnTo>
                  <a:pt x="1251" y="342"/>
                </a:lnTo>
                <a:lnTo>
                  <a:pt x="1255" y="354"/>
                </a:lnTo>
                <a:lnTo>
                  <a:pt x="1268" y="366"/>
                </a:lnTo>
                <a:lnTo>
                  <a:pt x="1251" y="373"/>
                </a:lnTo>
                <a:lnTo>
                  <a:pt x="1203" y="342"/>
                </a:lnTo>
                <a:lnTo>
                  <a:pt x="1183" y="327"/>
                </a:lnTo>
                <a:lnTo>
                  <a:pt x="1195" y="347"/>
                </a:lnTo>
                <a:lnTo>
                  <a:pt x="1243" y="378"/>
                </a:lnTo>
                <a:lnTo>
                  <a:pt x="1262" y="380"/>
                </a:lnTo>
                <a:lnTo>
                  <a:pt x="1284" y="387"/>
                </a:lnTo>
                <a:lnTo>
                  <a:pt x="1282" y="397"/>
                </a:lnTo>
                <a:lnTo>
                  <a:pt x="1293" y="397"/>
                </a:lnTo>
                <a:lnTo>
                  <a:pt x="1297" y="407"/>
                </a:lnTo>
                <a:lnTo>
                  <a:pt x="1278" y="421"/>
                </a:lnTo>
                <a:lnTo>
                  <a:pt x="1243" y="407"/>
                </a:lnTo>
                <a:lnTo>
                  <a:pt x="1232" y="392"/>
                </a:lnTo>
                <a:lnTo>
                  <a:pt x="1185" y="387"/>
                </a:lnTo>
                <a:lnTo>
                  <a:pt x="1178" y="375"/>
                </a:lnTo>
                <a:lnTo>
                  <a:pt x="1160" y="390"/>
                </a:lnTo>
                <a:lnTo>
                  <a:pt x="1224" y="404"/>
                </a:lnTo>
                <a:lnTo>
                  <a:pt x="1228" y="418"/>
                </a:lnTo>
                <a:lnTo>
                  <a:pt x="1278" y="438"/>
                </a:lnTo>
                <a:lnTo>
                  <a:pt x="1297" y="438"/>
                </a:lnTo>
                <a:lnTo>
                  <a:pt x="1301" y="421"/>
                </a:lnTo>
                <a:lnTo>
                  <a:pt x="1318" y="426"/>
                </a:lnTo>
                <a:lnTo>
                  <a:pt x="1355" y="424"/>
                </a:lnTo>
                <a:lnTo>
                  <a:pt x="1395" y="486"/>
                </a:lnTo>
                <a:lnTo>
                  <a:pt x="1368" y="476"/>
                </a:lnTo>
                <a:lnTo>
                  <a:pt x="1361" y="496"/>
                </a:lnTo>
                <a:lnTo>
                  <a:pt x="812" y="585"/>
                </a:lnTo>
                <a:lnTo>
                  <a:pt x="361" y="637"/>
                </a:lnTo>
                <a:lnTo>
                  <a:pt x="0" y="678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8" name="Freeform 130"/>
          <p:cNvSpPr/>
          <p:nvPr/>
        </p:nvSpPr>
        <p:spPr>
          <a:xfrm>
            <a:off x="6600960" y="3746520"/>
            <a:ext cx="54000" cy="154080"/>
          </a:xfrm>
          <a:custGeom>
            <a:avLst/>
            <a:gdLst>
              <a:gd name="textAreaLeft" fmla="*/ 0 w 54000"/>
              <a:gd name="textAreaRight" fmla="*/ 54360 w 5400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77" h="196">
                <a:moveTo>
                  <a:pt x="0" y="110"/>
                </a:moveTo>
                <a:lnTo>
                  <a:pt x="0" y="172"/>
                </a:lnTo>
                <a:lnTo>
                  <a:pt x="17" y="196"/>
                </a:lnTo>
                <a:lnTo>
                  <a:pt x="27" y="124"/>
                </a:lnTo>
                <a:lnTo>
                  <a:pt x="56" y="93"/>
                </a:lnTo>
                <a:lnTo>
                  <a:pt x="77" y="0"/>
                </a:lnTo>
                <a:lnTo>
                  <a:pt x="32" y="21"/>
                </a:lnTo>
                <a:lnTo>
                  <a:pt x="0" y="11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9" name="Freeform 131"/>
          <p:cNvSpPr/>
          <p:nvPr/>
        </p:nvSpPr>
        <p:spPr>
          <a:xfrm>
            <a:off x="6600960" y="3746520"/>
            <a:ext cx="54000" cy="154080"/>
          </a:xfrm>
          <a:custGeom>
            <a:avLst/>
            <a:gdLst>
              <a:gd name="textAreaLeft" fmla="*/ 0 w 54000"/>
              <a:gd name="textAreaRight" fmla="*/ 54360 w 5400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77" h="196">
                <a:moveTo>
                  <a:pt x="0" y="110"/>
                </a:moveTo>
                <a:lnTo>
                  <a:pt x="0" y="172"/>
                </a:lnTo>
                <a:lnTo>
                  <a:pt x="17" y="196"/>
                </a:lnTo>
                <a:lnTo>
                  <a:pt x="27" y="124"/>
                </a:lnTo>
                <a:lnTo>
                  <a:pt x="56" y="93"/>
                </a:lnTo>
                <a:lnTo>
                  <a:pt x="77" y="0"/>
                </a:lnTo>
                <a:lnTo>
                  <a:pt x="32" y="21"/>
                </a:lnTo>
                <a:lnTo>
                  <a:pt x="0" y="110"/>
                </a:lnTo>
              </a:path>
            </a:pathLst>
          </a:custGeom>
          <a:solidFill>
            <a:srgbClr val="bfbfbf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0" name="Freeform 132"/>
          <p:cNvSpPr/>
          <p:nvPr/>
        </p:nvSpPr>
        <p:spPr>
          <a:xfrm>
            <a:off x="1149480" y="1905120"/>
            <a:ext cx="830160" cy="596880"/>
          </a:xfrm>
          <a:custGeom>
            <a:avLst/>
            <a:gdLst>
              <a:gd name="textAreaLeft" fmla="*/ 0 w 830160"/>
              <a:gd name="textAreaRight" fmla="*/ 830520 w 8301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205" h="755">
                <a:moveTo>
                  <a:pt x="29" y="130"/>
                </a:moveTo>
                <a:lnTo>
                  <a:pt x="47" y="164"/>
                </a:lnTo>
                <a:lnTo>
                  <a:pt x="43" y="209"/>
                </a:lnTo>
                <a:lnTo>
                  <a:pt x="39" y="250"/>
                </a:lnTo>
                <a:lnTo>
                  <a:pt x="45" y="265"/>
                </a:lnTo>
                <a:lnTo>
                  <a:pt x="33" y="322"/>
                </a:lnTo>
                <a:lnTo>
                  <a:pt x="56" y="310"/>
                </a:lnTo>
                <a:lnTo>
                  <a:pt x="85" y="334"/>
                </a:lnTo>
                <a:lnTo>
                  <a:pt x="52" y="337"/>
                </a:lnTo>
                <a:lnTo>
                  <a:pt x="31" y="334"/>
                </a:lnTo>
                <a:lnTo>
                  <a:pt x="29" y="356"/>
                </a:lnTo>
                <a:lnTo>
                  <a:pt x="29" y="373"/>
                </a:lnTo>
                <a:lnTo>
                  <a:pt x="56" y="373"/>
                </a:lnTo>
                <a:lnTo>
                  <a:pt x="60" y="383"/>
                </a:lnTo>
                <a:lnTo>
                  <a:pt x="39" y="392"/>
                </a:lnTo>
                <a:lnTo>
                  <a:pt x="43" y="416"/>
                </a:lnTo>
                <a:lnTo>
                  <a:pt x="25" y="440"/>
                </a:lnTo>
                <a:lnTo>
                  <a:pt x="16" y="440"/>
                </a:lnTo>
                <a:lnTo>
                  <a:pt x="27" y="401"/>
                </a:lnTo>
                <a:lnTo>
                  <a:pt x="20" y="390"/>
                </a:lnTo>
                <a:lnTo>
                  <a:pt x="0" y="447"/>
                </a:lnTo>
                <a:lnTo>
                  <a:pt x="31" y="466"/>
                </a:lnTo>
                <a:lnTo>
                  <a:pt x="85" y="486"/>
                </a:lnTo>
                <a:lnTo>
                  <a:pt x="89" y="505"/>
                </a:lnTo>
                <a:lnTo>
                  <a:pt x="112" y="507"/>
                </a:lnTo>
                <a:lnTo>
                  <a:pt x="158" y="584"/>
                </a:lnTo>
                <a:lnTo>
                  <a:pt x="149" y="609"/>
                </a:lnTo>
                <a:lnTo>
                  <a:pt x="220" y="661"/>
                </a:lnTo>
                <a:lnTo>
                  <a:pt x="341" y="657"/>
                </a:lnTo>
                <a:lnTo>
                  <a:pt x="434" y="692"/>
                </a:lnTo>
                <a:lnTo>
                  <a:pt x="476" y="683"/>
                </a:lnTo>
                <a:lnTo>
                  <a:pt x="754" y="692"/>
                </a:lnTo>
                <a:lnTo>
                  <a:pt x="1066" y="755"/>
                </a:lnTo>
                <a:lnTo>
                  <a:pt x="1072" y="673"/>
                </a:lnTo>
                <a:lnTo>
                  <a:pt x="1205" y="188"/>
                </a:lnTo>
                <a:lnTo>
                  <a:pt x="368" y="0"/>
                </a:lnTo>
                <a:lnTo>
                  <a:pt x="361" y="3"/>
                </a:lnTo>
                <a:lnTo>
                  <a:pt x="368" y="15"/>
                </a:lnTo>
                <a:lnTo>
                  <a:pt x="359" y="20"/>
                </a:lnTo>
                <a:lnTo>
                  <a:pt x="368" y="29"/>
                </a:lnTo>
                <a:lnTo>
                  <a:pt x="365" y="39"/>
                </a:lnTo>
                <a:lnTo>
                  <a:pt x="368" y="53"/>
                </a:lnTo>
                <a:lnTo>
                  <a:pt x="376" y="48"/>
                </a:lnTo>
                <a:lnTo>
                  <a:pt x="392" y="55"/>
                </a:lnTo>
                <a:lnTo>
                  <a:pt x="388" y="75"/>
                </a:lnTo>
                <a:lnTo>
                  <a:pt x="392" y="86"/>
                </a:lnTo>
                <a:lnTo>
                  <a:pt x="376" y="115"/>
                </a:lnTo>
                <a:lnTo>
                  <a:pt x="357" y="96"/>
                </a:lnTo>
                <a:lnTo>
                  <a:pt x="349" y="98"/>
                </a:lnTo>
                <a:lnTo>
                  <a:pt x="349" y="111"/>
                </a:lnTo>
                <a:lnTo>
                  <a:pt x="363" y="115"/>
                </a:lnTo>
                <a:lnTo>
                  <a:pt x="378" y="145"/>
                </a:lnTo>
                <a:lnTo>
                  <a:pt x="372" y="183"/>
                </a:lnTo>
                <a:lnTo>
                  <a:pt x="376" y="195"/>
                </a:lnTo>
                <a:lnTo>
                  <a:pt x="390" y="199"/>
                </a:lnTo>
                <a:lnTo>
                  <a:pt x="384" y="207"/>
                </a:lnTo>
                <a:lnTo>
                  <a:pt x="372" y="209"/>
                </a:lnTo>
                <a:lnTo>
                  <a:pt x="349" y="234"/>
                </a:lnTo>
                <a:lnTo>
                  <a:pt x="349" y="243"/>
                </a:lnTo>
                <a:lnTo>
                  <a:pt x="341" y="258"/>
                </a:lnTo>
                <a:lnTo>
                  <a:pt x="334" y="260"/>
                </a:lnTo>
                <a:lnTo>
                  <a:pt x="341" y="270"/>
                </a:lnTo>
                <a:lnTo>
                  <a:pt x="332" y="277"/>
                </a:lnTo>
                <a:lnTo>
                  <a:pt x="332" y="318"/>
                </a:lnTo>
                <a:lnTo>
                  <a:pt x="313" y="324"/>
                </a:lnTo>
                <a:lnTo>
                  <a:pt x="313" y="337"/>
                </a:lnTo>
                <a:lnTo>
                  <a:pt x="295" y="322"/>
                </a:lnTo>
                <a:lnTo>
                  <a:pt x="295" y="329"/>
                </a:lnTo>
                <a:lnTo>
                  <a:pt x="261" y="356"/>
                </a:lnTo>
                <a:lnTo>
                  <a:pt x="251" y="353"/>
                </a:lnTo>
                <a:lnTo>
                  <a:pt x="243" y="341"/>
                </a:lnTo>
                <a:lnTo>
                  <a:pt x="239" y="347"/>
                </a:lnTo>
                <a:lnTo>
                  <a:pt x="232" y="341"/>
                </a:lnTo>
                <a:lnTo>
                  <a:pt x="224" y="359"/>
                </a:lnTo>
                <a:lnTo>
                  <a:pt x="222" y="358"/>
                </a:lnTo>
                <a:lnTo>
                  <a:pt x="222" y="344"/>
                </a:lnTo>
                <a:lnTo>
                  <a:pt x="212" y="347"/>
                </a:lnTo>
                <a:lnTo>
                  <a:pt x="224" y="336"/>
                </a:lnTo>
                <a:lnTo>
                  <a:pt x="209" y="334"/>
                </a:lnTo>
                <a:lnTo>
                  <a:pt x="222" y="327"/>
                </a:lnTo>
                <a:lnTo>
                  <a:pt x="205" y="322"/>
                </a:lnTo>
                <a:lnTo>
                  <a:pt x="212" y="315"/>
                </a:lnTo>
                <a:lnTo>
                  <a:pt x="230" y="322"/>
                </a:lnTo>
                <a:lnTo>
                  <a:pt x="236" y="310"/>
                </a:lnTo>
                <a:lnTo>
                  <a:pt x="261" y="300"/>
                </a:lnTo>
                <a:lnTo>
                  <a:pt x="249" y="325"/>
                </a:lnTo>
                <a:lnTo>
                  <a:pt x="253" y="339"/>
                </a:lnTo>
                <a:lnTo>
                  <a:pt x="262" y="313"/>
                </a:lnTo>
                <a:lnTo>
                  <a:pt x="286" y="303"/>
                </a:lnTo>
                <a:lnTo>
                  <a:pt x="274" y="320"/>
                </a:lnTo>
                <a:lnTo>
                  <a:pt x="286" y="329"/>
                </a:lnTo>
                <a:lnTo>
                  <a:pt x="286" y="315"/>
                </a:lnTo>
                <a:lnTo>
                  <a:pt x="299" y="305"/>
                </a:lnTo>
                <a:lnTo>
                  <a:pt x="313" y="286"/>
                </a:lnTo>
                <a:lnTo>
                  <a:pt x="309" y="274"/>
                </a:lnTo>
                <a:lnTo>
                  <a:pt x="286" y="276"/>
                </a:lnTo>
                <a:lnTo>
                  <a:pt x="291" y="257"/>
                </a:lnTo>
                <a:lnTo>
                  <a:pt x="301" y="267"/>
                </a:lnTo>
                <a:lnTo>
                  <a:pt x="305" y="240"/>
                </a:lnTo>
                <a:lnTo>
                  <a:pt x="332" y="240"/>
                </a:lnTo>
                <a:lnTo>
                  <a:pt x="334" y="214"/>
                </a:lnTo>
                <a:lnTo>
                  <a:pt x="324" y="200"/>
                </a:lnTo>
                <a:lnTo>
                  <a:pt x="324" y="224"/>
                </a:lnTo>
                <a:lnTo>
                  <a:pt x="313" y="219"/>
                </a:lnTo>
                <a:lnTo>
                  <a:pt x="295" y="229"/>
                </a:lnTo>
                <a:lnTo>
                  <a:pt x="286" y="248"/>
                </a:lnTo>
                <a:lnTo>
                  <a:pt x="268" y="250"/>
                </a:lnTo>
                <a:lnTo>
                  <a:pt x="239" y="264"/>
                </a:lnTo>
                <a:lnTo>
                  <a:pt x="216" y="286"/>
                </a:lnTo>
                <a:lnTo>
                  <a:pt x="257" y="288"/>
                </a:lnTo>
                <a:lnTo>
                  <a:pt x="222" y="294"/>
                </a:lnTo>
                <a:lnTo>
                  <a:pt x="205" y="288"/>
                </a:lnTo>
                <a:lnTo>
                  <a:pt x="239" y="250"/>
                </a:lnTo>
                <a:lnTo>
                  <a:pt x="262" y="240"/>
                </a:lnTo>
                <a:lnTo>
                  <a:pt x="288" y="212"/>
                </a:lnTo>
                <a:lnTo>
                  <a:pt x="293" y="226"/>
                </a:lnTo>
                <a:lnTo>
                  <a:pt x="309" y="214"/>
                </a:lnTo>
                <a:lnTo>
                  <a:pt x="324" y="187"/>
                </a:lnTo>
                <a:lnTo>
                  <a:pt x="318" y="166"/>
                </a:lnTo>
                <a:lnTo>
                  <a:pt x="313" y="180"/>
                </a:lnTo>
                <a:lnTo>
                  <a:pt x="305" y="180"/>
                </a:lnTo>
                <a:lnTo>
                  <a:pt x="313" y="159"/>
                </a:lnTo>
                <a:lnTo>
                  <a:pt x="301" y="159"/>
                </a:lnTo>
                <a:lnTo>
                  <a:pt x="299" y="178"/>
                </a:lnTo>
                <a:lnTo>
                  <a:pt x="289" y="183"/>
                </a:lnTo>
                <a:lnTo>
                  <a:pt x="288" y="163"/>
                </a:lnTo>
                <a:lnTo>
                  <a:pt x="280" y="159"/>
                </a:lnTo>
                <a:lnTo>
                  <a:pt x="272" y="166"/>
                </a:lnTo>
                <a:lnTo>
                  <a:pt x="259" y="142"/>
                </a:lnTo>
                <a:lnTo>
                  <a:pt x="232" y="140"/>
                </a:lnTo>
                <a:lnTo>
                  <a:pt x="124" y="96"/>
                </a:lnTo>
                <a:lnTo>
                  <a:pt x="52" y="38"/>
                </a:lnTo>
                <a:lnTo>
                  <a:pt x="29" y="79"/>
                </a:lnTo>
                <a:lnTo>
                  <a:pt x="29" y="13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1" name="Freeform 133"/>
          <p:cNvSpPr/>
          <p:nvPr/>
        </p:nvSpPr>
        <p:spPr>
          <a:xfrm>
            <a:off x="1149480" y="1905120"/>
            <a:ext cx="830160" cy="596880"/>
          </a:xfrm>
          <a:custGeom>
            <a:avLst/>
            <a:gdLst>
              <a:gd name="textAreaLeft" fmla="*/ 0 w 830160"/>
              <a:gd name="textAreaRight" fmla="*/ 830520 w 8301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205" h="755">
                <a:moveTo>
                  <a:pt x="29" y="130"/>
                </a:moveTo>
                <a:lnTo>
                  <a:pt x="47" y="164"/>
                </a:lnTo>
                <a:lnTo>
                  <a:pt x="43" y="209"/>
                </a:lnTo>
                <a:lnTo>
                  <a:pt x="39" y="250"/>
                </a:lnTo>
                <a:lnTo>
                  <a:pt x="45" y="265"/>
                </a:lnTo>
                <a:lnTo>
                  <a:pt x="33" y="322"/>
                </a:lnTo>
                <a:lnTo>
                  <a:pt x="56" y="310"/>
                </a:lnTo>
                <a:lnTo>
                  <a:pt x="85" y="334"/>
                </a:lnTo>
                <a:lnTo>
                  <a:pt x="52" y="337"/>
                </a:lnTo>
                <a:lnTo>
                  <a:pt x="31" y="334"/>
                </a:lnTo>
                <a:lnTo>
                  <a:pt x="29" y="356"/>
                </a:lnTo>
                <a:lnTo>
                  <a:pt x="29" y="373"/>
                </a:lnTo>
                <a:lnTo>
                  <a:pt x="56" y="373"/>
                </a:lnTo>
                <a:lnTo>
                  <a:pt x="60" y="383"/>
                </a:lnTo>
                <a:lnTo>
                  <a:pt x="39" y="392"/>
                </a:lnTo>
                <a:lnTo>
                  <a:pt x="43" y="416"/>
                </a:lnTo>
                <a:lnTo>
                  <a:pt x="25" y="440"/>
                </a:lnTo>
                <a:lnTo>
                  <a:pt x="16" y="440"/>
                </a:lnTo>
                <a:lnTo>
                  <a:pt x="27" y="401"/>
                </a:lnTo>
                <a:lnTo>
                  <a:pt x="20" y="390"/>
                </a:lnTo>
                <a:lnTo>
                  <a:pt x="0" y="447"/>
                </a:lnTo>
                <a:lnTo>
                  <a:pt x="31" y="466"/>
                </a:lnTo>
                <a:lnTo>
                  <a:pt x="85" y="486"/>
                </a:lnTo>
                <a:lnTo>
                  <a:pt x="89" y="505"/>
                </a:lnTo>
                <a:lnTo>
                  <a:pt x="112" y="507"/>
                </a:lnTo>
                <a:lnTo>
                  <a:pt x="158" y="584"/>
                </a:lnTo>
                <a:lnTo>
                  <a:pt x="149" y="609"/>
                </a:lnTo>
                <a:lnTo>
                  <a:pt x="220" y="661"/>
                </a:lnTo>
                <a:lnTo>
                  <a:pt x="341" y="657"/>
                </a:lnTo>
                <a:lnTo>
                  <a:pt x="434" y="692"/>
                </a:lnTo>
                <a:lnTo>
                  <a:pt x="476" y="683"/>
                </a:lnTo>
                <a:lnTo>
                  <a:pt x="754" y="692"/>
                </a:lnTo>
                <a:lnTo>
                  <a:pt x="1066" y="755"/>
                </a:lnTo>
                <a:lnTo>
                  <a:pt x="1072" y="673"/>
                </a:lnTo>
                <a:lnTo>
                  <a:pt x="1205" y="188"/>
                </a:lnTo>
                <a:lnTo>
                  <a:pt x="368" y="0"/>
                </a:lnTo>
                <a:lnTo>
                  <a:pt x="361" y="3"/>
                </a:lnTo>
                <a:lnTo>
                  <a:pt x="368" y="15"/>
                </a:lnTo>
                <a:lnTo>
                  <a:pt x="359" y="20"/>
                </a:lnTo>
                <a:lnTo>
                  <a:pt x="368" y="29"/>
                </a:lnTo>
                <a:lnTo>
                  <a:pt x="365" y="39"/>
                </a:lnTo>
                <a:lnTo>
                  <a:pt x="368" y="53"/>
                </a:lnTo>
                <a:lnTo>
                  <a:pt x="376" y="48"/>
                </a:lnTo>
                <a:lnTo>
                  <a:pt x="392" y="55"/>
                </a:lnTo>
                <a:lnTo>
                  <a:pt x="388" y="75"/>
                </a:lnTo>
                <a:lnTo>
                  <a:pt x="392" y="86"/>
                </a:lnTo>
                <a:lnTo>
                  <a:pt x="376" y="115"/>
                </a:lnTo>
                <a:lnTo>
                  <a:pt x="357" y="96"/>
                </a:lnTo>
                <a:lnTo>
                  <a:pt x="349" y="98"/>
                </a:lnTo>
                <a:lnTo>
                  <a:pt x="349" y="111"/>
                </a:lnTo>
                <a:lnTo>
                  <a:pt x="363" y="115"/>
                </a:lnTo>
                <a:lnTo>
                  <a:pt x="378" y="145"/>
                </a:lnTo>
                <a:lnTo>
                  <a:pt x="372" y="183"/>
                </a:lnTo>
                <a:lnTo>
                  <a:pt x="376" y="195"/>
                </a:lnTo>
                <a:lnTo>
                  <a:pt x="390" y="199"/>
                </a:lnTo>
                <a:lnTo>
                  <a:pt x="384" y="207"/>
                </a:lnTo>
                <a:lnTo>
                  <a:pt x="372" y="209"/>
                </a:lnTo>
                <a:lnTo>
                  <a:pt x="349" y="234"/>
                </a:lnTo>
                <a:lnTo>
                  <a:pt x="349" y="243"/>
                </a:lnTo>
                <a:lnTo>
                  <a:pt x="341" y="258"/>
                </a:lnTo>
                <a:lnTo>
                  <a:pt x="334" y="260"/>
                </a:lnTo>
                <a:lnTo>
                  <a:pt x="341" y="270"/>
                </a:lnTo>
                <a:lnTo>
                  <a:pt x="332" y="277"/>
                </a:lnTo>
                <a:lnTo>
                  <a:pt x="332" y="318"/>
                </a:lnTo>
                <a:lnTo>
                  <a:pt x="313" y="324"/>
                </a:lnTo>
                <a:lnTo>
                  <a:pt x="313" y="337"/>
                </a:lnTo>
                <a:lnTo>
                  <a:pt x="295" y="322"/>
                </a:lnTo>
                <a:lnTo>
                  <a:pt x="295" y="329"/>
                </a:lnTo>
                <a:lnTo>
                  <a:pt x="261" y="356"/>
                </a:lnTo>
                <a:lnTo>
                  <a:pt x="251" y="353"/>
                </a:lnTo>
                <a:lnTo>
                  <a:pt x="243" y="341"/>
                </a:lnTo>
                <a:lnTo>
                  <a:pt x="239" y="347"/>
                </a:lnTo>
                <a:lnTo>
                  <a:pt x="232" y="341"/>
                </a:lnTo>
                <a:lnTo>
                  <a:pt x="224" y="359"/>
                </a:lnTo>
                <a:lnTo>
                  <a:pt x="222" y="358"/>
                </a:lnTo>
                <a:lnTo>
                  <a:pt x="222" y="344"/>
                </a:lnTo>
                <a:lnTo>
                  <a:pt x="212" y="347"/>
                </a:lnTo>
                <a:lnTo>
                  <a:pt x="224" y="336"/>
                </a:lnTo>
                <a:lnTo>
                  <a:pt x="209" y="334"/>
                </a:lnTo>
                <a:lnTo>
                  <a:pt x="222" y="327"/>
                </a:lnTo>
                <a:lnTo>
                  <a:pt x="205" y="322"/>
                </a:lnTo>
                <a:lnTo>
                  <a:pt x="212" y="315"/>
                </a:lnTo>
                <a:lnTo>
                  <a:pt x="230" y="322"/>
                </a:lnTo>
                <a:lnTo>
                  <a:pt x="236" y="310"/>
                </a:lnTo>
                <a:lnTo>
                  <a:pt x="261" y="300"/>
                </a:lnTo>
                <a:lnTo>
                  <a:pt x="249" y="325"/>
                </a:lnTo>
                <a:lnTo>
                  <a:pt x="253" y="339"/>
                </a:lnTo>
                <a:lnTo>
                  <a:pt x="262" y="313"/>
                </a:lnTo>
                <a:lnTo>
                  <a:pt x="286" y="303"/>
                </a:lnTo>
                <a:lnTo>
                  <a:pt x="274" y="320"/>
                </a:lnTo>
                <a:lnTo>
                  <a:pt x="286" y="329"/>
                </a:lnTo>
                <a:lnTo>
                  <a:pt x="286" y="315"/>
                </a:lnTo>
                <a:lnTo>
                  <a:pt x="299" y="305"/>
                </a:lnTo>
                <a:lnTo>
                  <a:pt x="313" y="286"/>
                </a:lnTo>
                <a:lnTo>
                  <a:pt x="309" y="274"/>
                </a:lnTo>
                <a:lnTo>
                  <a:pt x="286" y="276"/>
                </a:lnTo>
                <a:lnTo>
                  <a:pt x="291" y="257"/>
                </a:lnTo>
                <a:lnTo>
                  <a:pt x="301" y="267"/>
                </a:lnTo>
                <a:lnTo>
                  <a:pt x="305" y="240"/>
                </a:lnTo>
                <a:lnTo>
                  <a:pt x="332" y="240"/>
                </a:lnTo>
                <a:lnTo>
                  <a:pt x="334" y="214"/>
                </a:lnTo>
                <a:lnTo>
                  <a:pt x="324" y="200"/>
                </a:lnTo>
                <a:lnTo>
                  <a:pt x="324" y="224"/>
                </a:lnTo>
                <a:lnTo>
                  <a:pt x="313" y="219"/>
                </a:lnTo>
                <a:lnTo>
                  <a:pt x="295" y="229"/>
                </a:lnTo>
                <a:lnTo>
                  <a:pt x="286" y="248"/>
                </a:lnTo>
                <a:lnTo>
                  <a:pt x="268" y="250"/>
                </a:lnTo>
                <a:lnTo>
                  <a:pt x="239" y="264"/>
                </a:lnTo>
                <a:lnTo>
                  <a:pt x="216" y="286"/>
                </a:lnTo>
                <a:lnTo>
                  <a:pt x="257" y="288"/>
                </a:lnTo>
                <a:lnTo>
                  <a:pt x="222" y="294"/>
                </a:lnTo>
                <a:lnTo>
                  <a:pt x="205" y="288"/>
                </a:lnTo>
                <a:lnTo>
                  <a:pt x="239" y="250"/>
                </a:lnTo>
                <a:lnTo>
                  <a:pt x="262" y="240"/>
                </a:lnTo>
                <a:lnTo>
                  <a:pt x="288" y="212"/>
                </a:lnTo>
                <a:lnTo>
                  <a:pt x="293" y="226"/>
                </a:lnTo>
                <a:lnTo>
                  <a:pt x="309" y="214"/>
                </a:lnTo>
                <a:lnTo>
                  <a:pt x="324" y="187"/>
                </a:lnTo>
                <a:lnTo>
                  <a:pt x="318" y="166"/>
                </a:lnTo>
                <a:lnTo>
                  <a:pt x="313" y="180"/>
                </a:lnTo>
                <a:lnTo>
                  <a:pt x="305" y="180"/>
                </a:lnTo>
                <a:lnTo>
                  <a:pt x="313" y="159"/>
                </a:lnTo>
                <a:lnTo>
                  <a:pt x="301" y="159"/>
                </a:lnTo>
                <a:lnTo>
                  <a:pt x="299" y="178"/>
                </a:lnTo>
                <a:lnTo>
                  <a:pt x="289" y="183"/>
                </a:lnTo>
                <a:lnTo>
                  <a:pt x="288" y="163"/>
                </a:lnTo>
                <a:lnTo>
                  <a:pt x="280" y="159"/>
                </a:lnTo>
                <a:lnTo>
                  <a:pt x="272" y="166"/>
                </a:lnTo>
                <a:lnTo>
                  <a:pt x="259" y="142"/>
                </a:lnTo>
                <a:lnTo>
                  <a:pt x="232" y="140"/>
                </a:lnTo>
                <a:lnTo>
                  <a:pt x="124" y="96"/>
                </a:lnTo>
                <a:lnTo>
                  <a:pt x="52" y="38"/>
                </a:lnTo>
                <a:lnTo>
                  <a:pt x="29" y="79"/>
                </a:lnTo>
                <a:lnTo>
                  <a:pt x="29" y="130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2" name="Freeform 134"/>
          <p:cNvSpPr/>
          <p:nvPr/>
        </p:nvSpPr>
        <p:spPr>
          <a:xfrm>
            <a:off x="1344600" y="1940040"/>
            <a:ext cx="36360" cy="44280"/>
          </a:xfrm>
          <a:custGeom>
            <a:avLst/>
            <a:gdLst>
              <a:gd name="textAreaLeft" fmla="*/ 0 w 36360"/>
              <a:gd name="textAreaRight" fmla="*/ 36720 w 36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52" h="57">
                <a:moveTo>
                  <a:pt x="0" y="24"/>
                </a:moveTo>
                <a:lnTo>
                  <a:pt x="44" y="0"/>
                </a:lnTo>
                <a:lnTo>
                  <a:pt x="52" y="23"/>
                </a:lnTo>
                <a:lnTo>
                  <a:pt x="44" y="57"/>
                </a:lnTo>
                <a:lnTo>
                  <a:pt x="0" y="24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3" name="Freeform 135"/>
          <p:cNvSpPr/>
          <p:nvPr/>
        </p:nvSpPr>
        <p:spPr>
          <a:xfrm>
            <a:off x="1344600" y="1940040"/>
            <a:ext cx="36360" cy="44280"/>
          </a:xfrm>
          <a:custGeom>
            <a:avLst/>
            <a:gdLst>
              <a:gd name="textAreaLeft" fmla="*/ 0 w 36360"/>
              <a:gd name="textAreaRight" fmla="*/ 36720 w 36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52" h="57">
                <a:moveTo>
                  <a:pt x="0" y="24"/>
                </a:moveTo>
                <a:lnTo>
                  <a:pt x="44" y="0"/>
                </a:lnTo>
                <a:lnTo>
                  <a:pt x="52" y="23"/>
                </a:lnTo>
                <a:lnTo>
                  <a:pt x="44" y="57"/>
                </a:lnTo>
                <a:lnTo>
                  <a:pt x="0" y="24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4" name="Freeform 136"/>
          <p:cNvSpPr/>
          <p:nvPr/>
        </p:nvSpPr>
        <p:spPr>
          <a:xfrm>
            <a:off x="1366920" y="2000160"/>
            <a:ext cx="30240" cy="61920"/>
          </a:xfrm>
          <a:custGeom>
            <a:avLst/>
            <a:gdLst>
              <a:gd name="textAreaLeft" fmla="*/ 0 w 30240"/>
              <a:gd name="textAreaRight" fmla="*/ 30600 w 30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1" h="81">
                <a:moveTo>
                  <a:pt x="0" y="21"/>
                </a:moveTo>
                <a:lnTo>
                  <a:pt x="25" y="0"/>
                </a:lnTo>
                <a:lnTo>
                  <a:pt x="41" y="12"/>
                </a:lnTo>
                <a:lnTo>
                  <a:pt x="31" y="81"/>
                </a:lnTo>
                <a:lnTo>
                  <a:pt x="0" y="21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5" name="Freeform 137"/>
          <p:cNvSpPr/>
          <p:nvPr/>
        </p:nvSpPr>
        <p:spPr>
          <a:xfrm>
            <a:off x="1366920" y="2000160"/>
            <a:ext cx="30240" cy="61920"/>
          </a:xfrm>
          <a:custGeom>
            <a:avLst/>
            <a:gdLst>
              <a:gd name="textAreaLeft" fmla="*/ 0 w 30240"/>
              <a:gd name="textAreaRight" fmla="*/ 30600 w 30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1" h="81">
                <a:moveTo>
                  <a:pt x="0" y="21"/>
                </a:moveTo>
                <a:lnTo>
                  <a:pt x="25" y="0"/>
                </a:lnTo>
                <a:lnTo>
                  <a:pt x="41" y="12"/>
                </a:lnTo>
                <a:lnTo>
                  <a:pt x="31" y="81"/>
                </a:lnTo>
                <a:lnTo>
                  <a:pt x="0" y="21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6" name="Freeform 138"/>
          <p:cNvSpPr/>
          <p:nvPr/>
        </p:nvSpPr>
        <p:spPr>
          <a:xfrm>
            <a:off x="5776920" y="3457440"/>
            <a:ext cx="557280" cy="546120"/>
          </a:xfrm>
          <a:custGeom>
            <a:avLst/>
            <a:gdLst>
              <a:gd name="textAreaLeft" fmla="*/ 0 w 557280"/>
              <a:gd name="textAreaRight" fmla="*/ 557640 w 5572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09" h="690">
                <a:moveTo>
                  <a:pt x="0" y="477"/>
                </a:moveTo>
                <a:lnTo>
                  <a:pt x="33" y="573"/>
                </a:lnTo>
                <a:lnTo>
                  <a:pt x="68" y="606"/>
                </a:lnTo>
                <a:lnTo>
                  <a:pt x="135" y="640"/>
                </a:lnTo>
                <a:lnTo>
                  <a:pt x="185" y="690"/>
                </a:lnTo>
                <a:lnTo>
                  <a:pt x="249" y="664"/>
                </a:lnTo>
                <a:lnTo>
                  <a:pt x="276" y="681"/>
                </a:lnTo>
                <a:lnTo>
                  <a:pt x="314" y="664"/>
                </a:lnTo>
                <a:lnTo>
                  <a:pt x="337" y="637"/>
                </a:lnTo>
                <a:lnTo>
                  <a:pt x="407" y="625"/>
                </a:lnTo>
                <a:lnTo>
                  <a:pt x="447" y="584"/>
                </a:lnTo>
                <a:lnTo>
                  <a:pt x="424" y="573"/>
                </a:lnTo>
                <a:lnTo>
                  <a:pt x="490" y="443"/>
                </a:lnTo>
                <a:lnTo>
                  <a:pt x="505" y="378"/>
                </a:lnTo>
                <a:lnTo>
                  <a:pt x="569" y="405"/>
                </a:lnTo>
                <a:lnTo>
                  <a:pt x="603" y="328"/>
                </a:lnTo>
                <a:lnTo>
                  <a:pt x="634" y="325"/>
                </a:lnTo>
                <a:lnTo>
                  <a:pt x="680" y="255"/>
                </a:lnTo>
                <a:lnTo>
                  <a:pt x="696" y="178"/>
                </a:lnTo>
                <a:lnTo>
                  <a:pt x="794" y="224"/>
                </a:lnTo>
                <a:lnTo>
                  <a:pt x="809" y="185"/>
                </a:lnTo>
                <a:lnTo>
                  <a:pt x="784" y="155"/>
                </a:lnTo>
                <a:lnTo>
                  <a:pt x="738" y="138"/>
                </a:lnTo>
                <a:lnTo>
                  <a:pt x="684" y="142"/>
                </a:lnTo>
                <a:lnTo>
                  <a:pt x="669" y="169"/>
                </a:lnTo>
                <a:lnTo>
                  <a:pt x="569" y="193"/>
                </a:lnTo>
                <a:lnTo>
                  <a:pt x="509" y="255"/>
                </a:lnTo>
                <a:lnTo>
                  <a:pt x="488" y="155"/>
                </a:lnTo>
                <a:lnTo>
                  <a:pt x="314" y="181"/>
                </a:lnTo>
                <a:lnTo>
                  <a:pt x="280" y="0"/>
                </a:lnTo>
                <a:lnTo>
                  <a:pt x="255" y="15"/>
                </a:lnTo>
                <a:lnTo>
                  <a:pt x="270" y="49"/>
                </a:lnTo>
                <a:lnTo>
                  <a:pt x="247" y="210"/>
                </a:lnTo>
                <a:lnTo>
                  <a:pt x="216" y="245"/>
                </a:lnTo>
                <a:lnTo>
                  <a:pt x="120" y="304"/>
                </a:lnTo>
                <a:lnTo>
                  <a:pt x="102" y="373"/>
                </a:lnTo>
                <a:lnTo>
                  <a:pt x="68" y="356"/>
                </a:lnTo>
                <a:lnTo>
                  <a:pt x="56" y="436"/>
                </a:lnTo>
                <a:lnTo>
                  <a:pt x="0" y="47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7" name="Freeform 139"/>
          <p:cNvSpPr/>
          <p:nvPr/>
        </p:nvSpPr>
        <p:spPr>
          <a:xfrm>
            <a:off x="5776920" y="3457440"/>
            <a:ext cx="557280" cy="546120"/>
          </a:xfrm>
          <a:custGeom>
            <a:avLst/>
            <a:gdLst>
              <a:gd name="textAreaLeft" fmla="*/ 0 w 557280"/>
              <a:gd name="textAreaRight" fmla="*/ 557640 w 5572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09" h="690">
                <a:moveTo>
                  <a:pt x="0" y="477"/>
                </a:moveTo>
                <a:lnTo>
                  <a:pt x="33" y="573"/>
                </a:lnTo>
                <a:lnTo>
                  <a:pt x="68" y="606"/>
                </a:lnTo>
                <a:lnTo>
                  <a:pt x="135" y="640"/>
                </a:lnTo>
                <a:lnTo>
                  <a:pt x="185" y="690"/>
                </a:lnTo>
                <a:lnTo>
                  <a:pt x="249" y="664"/>
                </a:lnTo>
                <a:lnTo>
                  <a:pt x="276" y="681"/>
                </a:lnTo>
                <a:lnTo>
                  <a:pt x="314" y="664"/>
                </a:lnTo>
                <a:lnTo>
                  <a:pt x="337" y="637"/>
                </a:lnTo>
                <a:lnTo>
                  <a:pt x="407" y="625"/>
                </a:lnTo>
                <a:lnTo>
                  <a:pt x="447" y="584"/>
                </a:lnTo>
                <a:lnTo>
                  <a:pt x="424" y="573"/>
                </a:lnTo>
                <a:lnTo>
                  <a:pt x="490" y="443"/>
                </a:lnTo>
                <a:lnTo>
                  <a:pt x="505" y="378"/>
                </a:lnTo>
                <a:lnTo>
                  <a:pt x="569" y="405"/>
                </a:lnTo>
                <a:lnTo>
                  <a:pt x="603" y="328"/>
                </a:lnTo>
                <a:lnTo>
                  <a:pt x="634" y="325"/>
                </a:lnTo>
                <a:lnTo>
                  <a:pt x="680" y="255"/>
                </a:lnTo>
                <a:lnTo>
                  <a:pt x="696" y="178"/>
                </a:lnTo>
                <a:lnTo>
                  <a:pt x="794" y="224"/>
                </a:lnTo>
                <a:lnTo>
                  <a:pt x="809" y="185"/>
                </a:lnTo>
                <a:lnTo>
                  <a:pt x="784" y="155"/>
                </a:lnTo>
                <a:lnTo>
                  <a:pt x="738" y="138"/>
                </a:lnTo>
                <a:lnTo>
                  <a:pt x="684" y="142"/>
                </a:lnTo>
                <a:lnTo>
                  <a:pt x="669" y="169"/>
                </a:lnTo>
                <a:lnTo>
                  <a:pt x="569" y="193"/>
                </a:lnTo>
                <a:lnTo>
                  <a:pt x="509" y="255"/>
                </a:lnTo>
                <a:lnTo>
                  <a:pt x="488" y="155"/>
                </a:lnTo>
                <a:lnTo>
                  <a:pt x="314" y="181"/>
                </a:lnTo>
                <a:lnTo>
                  <a:pt x="280" y="0"/>
                </a:lnTo>
                <a:lnTo>
                  <a:pt x="255" y="15"/>
                </a:lnTo>
                <a:lnTo>
                  <a:pt x="270" y="49"/>
                </a:lnTo>
                <a:lnTo>
                  <a:pt x="247" y="210"/>
                </a:lnTo>
                <a:lnTo>
                  <a:pt x="216" y="245"/>
                </a:lnTo>
                <a:lnTo>
                  <a:pt x="120" y="304"/>
                </a:lnTo>
                <a:lnTo>
                  <a:pt x="102" y="373"/>
                </a:lnTo>
                <a:lnTo>
                  <a:pt x="68" y="356"/>
                </a:lnTo>
                <a:lnTo>
                  <a:pt x="56" y="436"/>
                </a:lnTo>
                <a:lnTo>
                  <a:pt x="0" y="477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8" name="Freeform 140"/>
          <p:cNvSpPr/>
          <p:nvPr/>
        </p:nvSpPr>
        <p:spPr>
          <a:xfrm>
            <a:off x="4491000" y="2606760"/>
            <a:ext cx="657360" cy="684000"/>
          </a:xfrm>
          <a:custGeom>
            <a:avLst/>
            <a:gdLst>
              <a:gd name="textAreaLeft" fmla="*/ 0 w 657360"/>
              <a:gd name="textAreaRight" fmla="*/ 657720 w 65736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952" h="865">
                <a:moveTo>
                  <a:pt x="0" y="264"/>
                </a:moveTo>
                <a:lnTo>
                  <a:pt x="23" y="331"/>
                </a:lnTo>
                <a:lnTo>
                  <a:pt x="21" y="437"/>
                </a:lnTo>
                <a:lnTo>
                  <a:pt x="137" y="498"/>
                </a:lnTo>
                <a:lnTo>
                  <a:pt x="183" y="543"/>
                </a:lnTo>
                <a:lnTo>
                  <a:pt x="251" y="581"/>
                </a:lnTo>
                <a:lnTo>
                  <a:pt x="274" y="605"/>
                </a:lnTo>
                <a:lnTo>
                  <a:pt x="289" y="675"/>
                </a:lnTo>
                <a:lnTo>
                  <a:pt x="306" y="774"/>
                </a:lnTo>
                <a:lnTo>
                  <a:pt x="395" y="865"/>
                </a:lnTo>
                <a:lnTo>
                  <a:pt x="869" y="837"/>
                </a:lnTo>
                <a:lnTo>
                  <a:pt x="840" y="704"/>
                </a:lnTo>
                <a:lnTo>
                  <a:pt x="857" y="567"/>
                </a:lnTo>
                <a:lnTo>
                  <a:pt x="886" y="505"/>
                </a:lnTo>
                <a:lnTo>
                  <a:pt x="884" y="449"/>
                </a:lnTo>
                <a:lnTo>
                  <a:pt x="944" y="324"/>
                </a:lnTo>
                <a:lnTo>
                  <a:pt x="952" y="293"/>
                </a:lnTo>
                <a:lnTo>
                  <a:pt x="935" y="286"/>
                </a:lnTo>
                <a:lnTo>
                  <a:pt x="911" y="310"/>
                </a:lnTo>
                <a:lnTo>
                  <a:pt x="892" y="375"/>
                </a:lnTo>
                <a:lnTo>
                  <a:pt x="854" y="384"/>
                </a:lnTo>
                <a:lnTo>
                  <a:pt x="834" y="420"/>
                </a:lnTo>
                <a:lnTo>
                  <a:pt x="796" y="445"/>
                </a:lnTo>
                <a:lnTo>
                  <a:pt x="800" y="404"/>
                </a:lnTo>
                <a:lnTo>
                  <a:pt x="823" y="361"/>
                </a:lnTo>
                <a:lnTo>
                  <a:pt x="852" y="346"/>
                </a:lnTo>
                <a:lnTo>
                  <a:pt x="856" y="331"/>
                </a:lnTo>
                <a:lnTo>
                  <a:pt x="804" y="211"/>
                </a:lnTo>
                <a:lnTo>
                  <a:pt x="767" y="200"/>
                </a:lnTo>
                <a:lnTo>
                  <a:pt x="753" y="175"/>
                </a:lnTo>
                <a:lnTo>
                  <a:pt x="663" y="164"/>
                </a:lnTo>
                <a:lnTo>
                  <a:pt x="464" y="120"/>
                </a:lnTo>
                <a:lnTo>
                  <a:pt x="384" y="72"/>
                </a:lnTo>
                <a:lnTo>
                  <a:pt x="339" y="55"/>
                </a:lnTo>
                <a:lnTo>
                  <a:pt x="312" y="72"/>
                </a:lnTo>
                <a:lnTo>
                  <a:pt x="303" y="67"/>
                </a:lnTo>
                <a:lnTo>
                  <a:pt x="318" y="55"/>
                </a:lnTo>
                <a:lnTo>
                  <a:pt x="318" y="33"/>
                </a:lnTo>
                <a:lnTo>
                  <a:pt x="326" y="26"/>
                </a:lnTo>
                <a:lnTo>
                  <a:pt x="326" y="9"/>
                </a:lnTo>
                <a:lnTo>
                  <a:pt x="316" y="0"/>
                </a:lnTo>
                <a:lnTo>
                  <a:pt x="204" y="43"/>
                </a:lnTo>
                <a:lnTo>
                  <a:pt x="162" y="58"/>
                </a:lnTo>
                <a:lnTo>
                  <a:pt x="145" y="60"/>
                </a:lnTo>
                <a:lnTo>
                  <a:pt x="118" y="46"/>
                </a:lnTo>
                <a:lnTo>
                  <a:pt x="114" y="58"/>
                </a:lnTo>
                <a:lnTo>
                  <a:pt x="110" y="46"/>
                </a:lnTo>
                <a:lnTo>
                  <a:pt x="87" y="63"/>
                </a:lnTo>
                <a:lnTo>
                  <a:pt x="95" y="163"/>
                </a:lnTo>
                <a:lnTo>
                  <a:pt x="0" y="26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9" name="Freeform 141"/>
          <p:cNvSpPr/>
          <p:nvPr/>
        </p:nvSpPr>
        <p:spPr>
          <a:xfrm>
            <a:off x="4491000" y="2606760"/>
            <a:ext cx="657360" cy="684000"/>
          </a:xfrm>
          <a:custGeom>
            <a:avLst/>
            <a:gdLst>
              <a:gd name="textAreaLeft" fmla="*/ 0 w 657360"/>
              <a:gd name="textAreaRight" fmla="*/ 657720 w 65736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952" h="865">
                <a:moveTo>
                  <a:pt x="0" y="264"/>
                </a:moveTo>
                <a:lnTo>
                  <a:pt x="23" y="331"/>
                </a:lnTo>
                <a:lnTo>
                  <a:pt x="21" y="437"/>
                </a:lnTo>
                <a:lnTo>
                  <a:pt x="137" y="498"/>
                </a:lnTo>
                <a:lnTo>
                  <a:pt x="183" y="543"/>
                </a:lnTo>
                <a:lnTo>
                  <a:pt x="251" y="581"/>
                </a:lnTo>
                <a:lnTo>
                  <a:pt x="274" y="605"/>
                </a:lnTo>
                <a:lnTo>
                  <a:pt x="289" y="675"/>
                </a:lnTo>
                <a:lnTo>
                  <a:pt x="306" y="774"/>
                </a:lnTo>
                <a:lnTo>
                  <a:pt x="395" y="865"/>
                </a:lnTo>
                <a:lnTo>
                  <a:pt x="869" y="837"/>
                </a:lnTo>
                <a:lnTo>
                  <a:pt x="840" y="704"/>
                </a:lnTo>
                <a:lnTo>
                  <a:pt x="857" y="567"/>
                </a:lnTo>
                <a:lnTo>
                  <a:pt x="886" y="505"/>
                </a:lnTo>
                <a:lnTo>
                  <a:pt x="884" y="449"/>
                </a:lnTo>
                <a:lnTo>
                  <a:pt x="944" y="324"/>
                </a:lnTo>
                <a:lnTo>
                  <a:pt x="952" y="293"/>
                </a:lnTo>
                <a:lnTo>
                  <a:pt x="935" y="286"/>
                </a:lnTo>
                <a:lnTo>
                  <a:pt x="911" y="310"/>
                </a:lnTo>
                <a:lnTo>
                  <a:pt x="892" y="375"/>
                </a:lnTo>
                <a:lnTo>
                  <a:pt x="854" y="384"/>
                </a:lnTo>
                <a:lnTo>
                  <a:pt x="834" y="420"/>
                </a:lnTo>
                <a:lnTo>
                  <a:pt x="796" y="445"/>
                </a:lnTo>
                <a:lnTo>
                  <a:pt x="800" y="404"/>
                </a:lnTo>
                <a:lnTo>
                  <a:pt x="823" y="361"/>
                </a:lnTo>
                <a:lnTo>
                  <a:pt x="852" y="346"/>
                </a:lnTo>
                <a:lnTo>
                  <a:pt x="856" y="331"/>
                </a:lnTo>
                <a:lnTo>
                  <a:pt x="804" y="211"/>
                </a:lnTo>
                <a:lnTo>
                  <a:pt x="767" y="200"/>
                </a:lnTo>
                <a:lnTo>
                  <a:pt x="753" y="175"/>
                </a:lnTo>
                <a:lnTo>
                  <a:pt x="663" y="164"/>
                </a:lnTo>
                <a:lnTo>
                  <a:pt x="464" y="120"/>
                </a:lnTo>
                <a:lnTo>
                  <a:pt x="384" y="72"/>
                </a:lnTo>
                <a:lnTo>
                  <a:pt x="339" y="55"/>
                </a:lnTo>
                <a:lnTo>
                  <a:pt x="312" y="72"/>
                </a:lnTo>
                <a:lnTo>
                  <a:pt x="303" y="67"/>
                </a:lnTo>
                <a:lnTo>
                  <a:pt x="318" y="55"/>
                </a:lnTo>
                <a:lnTo>
                  <a:pt x="318" y="33"/>
                </a:lnTo>
                <a:lnTo>
                  <a:pt x="326" y="26"/>
                </a:lnTo>
                <a:lnTo>
                  <a:pt x="326" y="9"/>
                </a:lnTo>
                <a:lnTo>
                  <a:pt x="316" y="0"/>
                </a:lnTo>
                <a:lnTo>
                  <a:pt x="204" y="43"/>
                </a:lnTo>
                <a:lnTo>
                  <a:pt x="162" y="58"/>
                </a:lnTo>
                <a:lnTo>
                  <a:pt x="145" y="60"/>
                </a:lnTo>
                <a:lnTo>
                  <a:pt x="118" y="46"/>
                </a:lnTo>
                <a:lnTo>
                  <a:pt x="114" y="58"/>
                </a:lnTo>
                <a:lnTo>
                  <a:pt x="110" y="46"/>
                </a:lnTo>
                <a:lnTo>
                  <a:pt x="87" y="63"/>
                </a:lnTo>
                <a:lnTo>
                  <a:pt x="95" y="163"/>
                </a:lnTo>
                <a:lnTo>
                  <a:pt x="0" y="264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0" name="Freeform 142"/>
          <p:cNvSpPr/>
          <p:nvPr/>
        </p:nvSpPr>
        <p:spPr>
          <a:xfrm>
            <a:off x="2384280" y="2782800"/>
            <a:ext cx="876600" cy="712800"/>
          </a:xfrm>
          <a:custGeom>
            <a:avLst/>
            <a:gdLst>
              <a:gd name="textAreaLeft" fmla="*/ 0 w 876600"/>
              <a:gd name="textAreaRight" fmla="*/ 876960 w 8766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268" h="901">
                <a:moveTo>
                  <a:pt x="0" y="774"/>
                </a:moveTo>
                <a:lnTo>
                  <a:pt x="39" y="577"/>
                </a:lnTo>
                <a:lnTo>
                  <a:pt x="131" y="96"/>
                </a:lnTo>
                <a:lnTo>
                  <a:pt x="153" y="0"/>
                </a:lnTo>
                <a:lnTo>
                  <a:pt x="650" y="63"/>
                </a:lnTo>
                <a:lnTo>
                  <a:pt x="1268" y="118"/>
                </a:lnTo>
                <a:lnTo>
                  <a:pt x="1226" y="510"/>
                </a:lnTo>
                <a:lnTo>
                  <a:pt x="1183" y="901"/>
                </a:lnTo>
                <a:lnTo>
                  <a:pt x="339" y="817"/>
                </a:lnTo>
                <a:lnTo>
                  <a:pt x="0" y="7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1" name="Freeform 143"/>
          <p:cNvSpPr/>
          <p:nvPr/>
        </p:nvSpPr>
        <p:spPr>
          <a:xfrm>
            <a:off x="2384280" y="2782800"/>
            <a:ext cx="876600" cy="712800"/>
          </a:xfrm>
          <a:custGeom>
            <a:avLst/>
            <a:gdLst>
              <a:gd name="textAreaLeft" fmla="*/ 0 w 876600"/>
              <a:gd name="textAreaRight" fmla="*/ 876960 w 8766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268" h="901">
                <a:moveTo>
                  <a:pt x="0" y="774"/>
                </a:moveTo>
                <a:lnTo>
                  <a:pt x="39" y="577"/>
                </a:lnTo>
                <a:lnTo>
                  <a:pt x="131" y="96"/>
                </a:lnTo>
                <a:lnTo>
                  <a:pt x="153" y="0"/>
                </a:lnTo>
                <a:lnTo>
                  <a:pt x="650" y="63"/>
                </a:lnTo>
                <a:lnTo>
                  <a:pt x="1268" y="118"/>
                </a:lnTo>
                <a:lnTo>
                  <a:pt x="1226" y="510"/>
                </a:lnTo>
                <a:lnTo>
                  <a:pt x="1183" y="901"/>
                </a:lnTo>
                <a:lnTo>
                  <a:pt x="339" y="817"/>
                </a:lnTo>
                <a:lnTo>
                  <a:pt x="0" y="774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2" name="Freeform 144"/>
          <p:cNvSpPr/>
          <p:nvPr/>
        </p:nvSpPr>
        <p:spPr>
          <a:xfrm>
            <a:off x="5516640" y="4467240"/>
            <a:ext cx="282600" cy="214200"/>
          </a:xfrm>
          <a:custGeom>
            <a:avLst/>
            <a:gdLst>
              <a:gd name="textAreaLeft" fmla="*/ 0 w 282600"/>
              <a:gd name="textAreaRight" fmla="*/ 282960 w 2826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408" h="269">
                <a:moveTo>
                  <a:pt x="0" y="166"/>
                </a:moveTo>
                <a:lnTo>
                  <a:pt x="71" y="105"/>
                </a:lnTo>
                <a:lnTo>
                  <a:pt x="71" y="41"/>
                </a:lnTo>
                <a:lnTo>
                  <a:pt x="131" y="21"/>
                </a:lnTo>
                <a:lnTo>
                  <a:pt x="202" y="0"/>
                </a:lnTo>
                <a:lnTo>
                  <a:pt x="310" y="21"/>
                </a:lnTo>
                <a:lnTo>
                  <a:pt x="323" y="74"/>
                </a:lnTo>
                <a:lnTo>
                  <a:pt x="335" y="105"/>
                </a:lnTo>
                <a:lnTo>
                  <a:pt x="408" y="156"/>
                </a:lnTo>
                <a:lnTo>
                  <a:pt x="408" y="189"/>
                </a:lnTo>
                <a:lnTo>
                  <a:pt x="408" y="269"/>
                </a:lnTo>
                <a:lnTo>
                  <a:pt x="383" y="269"/>
                </a:lnTo>
                <a:lnTo>
                  <a:pt x="350" y="238"/>
                </a:lnTo>
                <a:lnTo>
                  <a:pt x="263" y="218"/>
                </a:lnTo>
                <a:lnTo>
                  <a:pt x="250" y="230"/>
                </a:lnTo>
                <a:lnTo>
                  <a:pt x="154" y="259"/>
                </a:lnTo>
                <a:lnTo>
                  <a:pt x="131" y="218"/>
                </a:lnTo>
                <a:lnTo>
                  <a:pt x="23" y="230"/>
                </a:lnTo>
                <a:lnTo>
                  <a:pt x="11" y="156"/>
                </a:lnTo>
                <a:lnTo>
                  <a:pt x="154" y="136"/>
                </a:lnTo>
                <a:lnTo>
                  <a:pt x="0" y="16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3" name="Freeform 145"/>
          <p:cNvSpPr/>
          <p:nvPr/>
        </p:nvSpPr>
        <p:spPr>
          <a:xfrm>
            <a:off x="4352760" y="2786040"/>
            <a:ext cx="158760" cy="204840"/>
          </a:xfrm>
          <a:custGeom>
            <a:avLst/>
            <a:gdLst>
              <a:gd name="textAreaLeft" fmla="*/ 0 w 158760"/>
              <a:gd name="textAreaRight" fmla="*/ 159120 w 15876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29" h="257">
                <a:moveTo>
                  <a:pt x="204" y="49"/>
                </a:moveTo>
                <a:lnTo>
                  <a:pt x="108" y="49"/>
                </a:lnTo>
                <a:lnTo>
                  <a:pt x="119" y="8"/>
                </a:lnTo>
                <a:lnTo>
                  <a:pt x="11" y="0"/>
                </a:lnTo>
                <a:lnTo>
                  <a:pt x="23" y="123"/>
                </a:lnTo>
                <a:lnTo>
                  <a:pt x="48" y="154"/>
                </a:lnTo>
                <a:lnTo>
                  <a:pt x="0" y="207"/>
                </a:lnTo>
                <a:lnTo>
                  <a:pt x="59" y="257"/>
                </a:lnTo>
                <a:lnTo>
                  <a:pt x="119" y="226"/>
                </a:lnTo>
                <a:lnTo>
                  <a:pt x="204" y="207"/>
                </a:lnTo>
                <a:lnTo>
                  <a:pt x="229" y="197"/>
                </a:lnTo>
                <a:lnTo>
                  <a:pt x="229" y="133"/>
                </a:lnTo>
                <a:lnTo>
                  <a:pt x="216" y="82"/>
                </a:lnTo>
                <a:lnTo>
                  <a:pt x="216" y="41"/>
                </a:lnTo>
                <a:lnTo>
                  <a:pt x="181" y="70"/>
                </a:lnTo>
                <a:lnTo>
                  <a:pt x="204" y="4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4" name="Text Box 171"/>
          <p:cNvSpPr/>
          <p:nvPr/>
        </p:nvSpPr>
        <p:spPr>
          <a:xfrm>
            <a:off x="60800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5" name="Freeform 177"/>
          <p:cNvSpPr/>
          <p:nvPr/>
        </p:nvSpPr>
        <p:spPr>
          <a:xfrm>
            <a:off x="6734160" y="31701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78" h="109">
                <a:moveTo>
                  <a:pt x="7" y="105"/>
                </a:moveTo>
                <a:lnTo>
                  <a:pt x="4" y="107"/>
                </a:lnTo>
                <a:lnTo>
                  <a:pt x="2" y="109"/>
                </a:lnTo>
                <a:lnTo>
                  <a:pt x="0" y="107"/>
                </a:lnTo>
                <a:lnTo>
                  <a:pt x="0" y="105"/>
                </a:lnTo>
                <a:lnTo>
                  <a:pt x="0" y="103"/>
                </a:lnTo>
                <a:lnTo>
                  <a:pt x="0" y="102"/>
                </a:lnTo>
                <a:lnTo>
                  <a:pt x="0" y="98"/>
                </a:lnTo>
                <a:lnTo>
                  <a:pt x="0" y="97"/>
                </a:lnTo>
                <a:lnTo>
                  <a:pt x="0" y="95"/>
                </a:lnTo>
                <a:lnTo>
                  <a:pt x="2" y="92"/>
                </a:lnTo>
                <a:lnTo>
                  <a:pt x="4" y="88"/>
                </a:lnTo>
                <a:lnTo>
                  <a:pt x="6" y="85"/>
                </a:lnTo>
                <a:lnTo>
                  <a:pt x="7" y="83"/>
                </a:lnTo>
                <a:lnTo>
                  <a:pt x="9" y="81"/>
                </a:lnTo>
                <a:lnTo>
                  <a:pt x="11" y="80"/>
                </a:lnTo>
                <a:lnTo>
                  <a:pt x="12" y="80"/>
                </a:lnTo>
                <a:lnTo>
                  <a:pt x="16" y="78"/>
                </a:lnTo>
                <a:lnTo>
                  <a:pt x="19" y="76"/>
                </a:lnTo>
                <a:lnTo>
                  <a:pt x="21" y="73"/>
                </a:lnTo>
                <a:lnTo>
                  <a:pt x="22" y="70"/>
                </a:lnTo>
                <a:lnTo>
                  <a:pt x="22" y="68"/>
                </a:lnTo>
                <a:lnTo>
                  <a:pt x="24" y="65"/>
                </a:lnTo>
                <a:lnTo>
                  <a:pt x="24" y="61"/>
                </a:lnTo>
                <a:lnTo>
                  <a:pt x="26" y="61"/>
                </a:lnTo>
                <a:lnTo>
                  <a:pt x="26" y="59"/>
                </a:lnTo>
                <a:lnTo>
                  <a:pt x="28" y="59"/>
                </a:lnTo>
                <a:lnTo>
                  <a:pt x="31" y="58"/>
                </a:lnTo>
                <a:lnTo>
                  <a:pt x="34" y="58"/>
                </a:lnTo>
                <a:lnTo>
                  <a:pt x="38" y="56"/>
                </a:lnTo>
                <a:lnTo>
                  <a:pt x="39" y="54"/>
                </a:lnTo>
                <a:lnTo>
                  <a:pt x="41" y="53"/>
                </a:lnTo>
                <a:lnTo>
                  <a:pt x="43" y="51"/>
                </a:lnTo>
                <a:lnTo>
                  <a:pt x="63" y="53"/>
                </a:lnTo>
                <a:lnTo>
                  <a:pt x="63" y="51"/>
                </a:lnTo>
                <a:lnTo>
                  <a:pt x="65" y="49"/>
                </a:lnTo>
                <a:lnTo>
                  <a:pt x="65" y="48"/>
                </a:lnTo>
                <a:lnTo>
                  <a:pt x="66" y="46"/>
                </a:lnTo>
                <a:lnTo>
                  <a:pt x="68" y="43"/>
                </a:lnTo>
                <a:lnTo>
                  <a:pt x="70" y="41"/>
                </a:lnTo>
                <a:lnTo>
                  <a:pt x="73" y="39"/>
                </a:lnTo>
                <a:lnTo>
                  <a:pt x="77" y="39"/>
                </a:lnTo>
                <a:lnTo>
                  <a:pt x="80" y="39"/>
                </a:lnTo>
                <a:lnTo>
                  <a:pt x="82" y="37"/>
                </a:lnTo>
                <a:lnTo>
                  <a:pt x="83" y="37"/>
                </a:lnTo>
                <a:lnTo>
                  <a:pt x="94" y="36"/>
                </a:lnTo>
                <a:lnTo>
                  <a:pt x="100" y="34"/>
                </a:lnTo>
                <a:lnTo>
                  <a:pt x="105" y="31"/>
                </a:lnTo>
                <a:lnTo>
                  <a:pt x="109" y="29"/>
                </a:lnTo>
                <a:lnTo>
                  <a:pt x="112" y="27"/>
                </a:lnTo>
                <a:lnTo>
                  <a:pt x="116" y="24"/>
                </a:lnTo>
                <a:lnTo>
                  <a:pt x="119" y="19"/>
                </a:lnTo>
                <a:lnTo>
                  <a:pt x="124" y="12"/>
                </a:lnTo>
                <a:lnTo>
                  <a:pt x="132" y="4"/>
                </a:lnTo>
                <a:lnTo>
                  <a:pt x="138" y="0"/>
                </a:lnTo>
                <a:lnTo>
                  <a:pt x="138" y="2"/>
                </a:lnTo>
                <a:lnTo>
                  <a:pt x="136" y="7"/>
                </a:lnTo>
                <a:lnTo>
                  <a:pt x="132" y="10"/>
                </a:lnTo>
                <a:lnTo>
                  <a:pt x="131" y="14"/>
                </a:lnTo>
                <a:lnTo>
                  <a:pt x="129" y="15"/>
                </a:lnTo>
                <a:lnTo>
                  <a:pt x="129" y="17"/>
                </a:lnTo>
                <a:lnTo>
                  <a:pt x="127" y="19"/>
                </a:lnTo>
                <a:lnTo>
                  <a:pt x="127" y="21"/>
                </a:lnTo>
                <a:lnTo>
                  <a:pt x="126" y="21"/>
                </a:lnTo>
                <a:lnTo>
                  <a:pt x="122" y="26"/>
                </a:lnTo>
                <a:lnTo>
                  <a:pt x="119" y="29"/>
                </a:lnTo>
                <a:lnTo>
                  <a:pt x="117" y="32"/>
                </a:lnTo>
                <a:lnTo>
                  <a:pt x="116" y="34"/>
                </a:lnTo>
                <a:lnTo>
                  <a:pt x="116" y="36"/>
                </a:lnTo>
                <a:lnTo>
                  <a:pt x="116" y="37"/>
                </a:lnTo>
                <a:lnTo>
                  <a:pt x="119" y="36"/>
                </a:lnTo>
                <a:lnTo>
                  <a:pt x="122" y="36"/>
                </a:lnTo>
                <a:lnTo>
                  <a:pt x="124" y="37"/>
                </a:lnTo>
                <a:lnTo>
                  <a:pt x="122" y="39"/>
                </a:lnTo>
                <a:lnTo>
                  <a:pt x="122" y="41"/>
                </a:lnTo>
                <a:lnTo>
                  <a:pt x="122" y="43"/>
                </a:lnTo>
                <a:lnTo>
                  <a:pt x="121" y="48"/>
                </a:lnTo>
                <a:lnTo>
                  <a:pt x="122" y="48"/>
                </a:lnTo>
                <a:lnTo>
                  <a:pt x="124" y="46"/>
                </a:lnTo>
                <a:lnTo>
                  <a:pt x="126" y="46"/>
                </a:lnTo>
                <a:lnTo>
                  <a:pt x="129" y="43"/>
                </a:lnTo>
                <a:lnTo>
                  <a:pt x="132" y="41"/>
                </a:lnTo>
                <a:lnTo>
                  <a:pt x="132" y="39"/>
                </a:lnTo>
                <a:lnTo>
                  <a:pt x="129" y="34"/>
                </a:lnTo>
                <a:lnTo>
                  <a:pt x="129" y="31"/>
                </a:lnTo>
                <a:lnTo>
                  <a:pt x="131" y="26"/>
                </a:lnTo>
                <a:lnTo>
                  <a:pt x="136" y="22"/>
                </a:lnTo>
                <a:lnTo>
                  <a:pt x="139" y="19"/>
                </a:lnTo>
                <a:lnTo>
                  <a:pt x="144" y="15"/>
                </a:lnTo>
                <a:lnTo>
                  <a:pt x="148" y="14"/>
                </a:lnTo>
                <a:lnTo>
                  <a:pt x="149" y="12"/>
                </a:lnTo>
                <a:lnTo>
                  <a:pt x="154" y="12"/>
                </a:lnTo>
                <a:lnTo>
                  <a:pt x="160" y="14"/>
                </a:lnTo>
                <a:lnTo>
                  <a:pt x="161" y="14"/>
                </a:lnTo>
                <a:lnTo>
                  <a:pt x="163" y="12"/>
                </a:lnTo>
                <a:lnTo>
                  <a:pt x="165" y="9"/>
                </a:lnTo>
                <a:lnTo>
                  <a:pt x="166" y="9"/>
                </a:lnTo>
                <a:lnTo>
                  <a:pt x="171" y="4"/>
                </a:lnTo>
                <a:lnTo>
                  <a:pt x="175" y="0"/>
                </a:lnTo>
                <a:lnTo>
                  <a:pt x="176" y="0"/>
                </a:lnTo>
                <a:lnTo>
                  <a:pt x="178" y="2"/>
                </a:lnTo>
                <a:lnTo>
                  <a:pt x="178" y="4"/>
                </a:lnTo>
                <a:lnTo>
                  <a:pt x="176" y="7"/>
                </a:lnTo>
                <a:lnTo>
                  <a:pt x="175" y="9"/>
                </a:lnTo>
                <a:lnTo>
                  <a:pt x="170" y="14"/>
                </a:lnTo>
                <a:lnTo>
                  <a:pt x="165" y="17"/>
                </a:lnTo>
                <a:lnTo>
                  <a:pt x="160" y="22"/>
                </a:lnTo>
                <a:lnTo>
                  <a:pt x="154" y="27"/>
                </a:lnTo>
                <a:lnTo>
                  <a:pt x="148" y="31"/>
                </a:lnTo>
                <a:lnTo>
                  <a:pt x="143" y="36"/>
                </a:lnTo>
                <a:lnTo>
                  <a:pt x="138" y="39"/>
                </a:lnTo>
                <a:lnTo>
                  <a:pt x="132" y="44"/>
                </a:lnTo>
                <a:lnTo>
                  <a:pt x="127" y="48"/>
                </a:lnTo>
                <a:lnTo>
                  <a:pt x="122" y="51"/>
                </a:lnTo>
                <a:lnTo>
                  <a:pt x="119" y="54"/>
                </a:lnTo>
                <a:lnTo>
                  <a:pt x="116" y="58"/>
                </a:lnTo>
                <a:lnTo>
                  <a:pt x="112" y="59"/>
                </a:lnTo>
                <a:lnTo>
                  <a:pt x="110" y="61"/>
                </a:lnTo>
                <a:lnTo>
                  <a:pt x="109" y="63"/>
                </a:lnTo>
                <a:lnTo>
                  <a:pt x="97" y="71"/>
                </a:lnTo>
                <a:lnTo>
                  <a:pt x="88" y="76"/>
                </a:lnTo>
                <a:lnTo>
                  <a:pt x="85" y="78"/>
                </a:lnTo>
                <a:lnTo>
                  <a:pt x="85" y="76"/>
                </a:lnTo>
                <a:lnTo>
                  <a:pt x="87" y="73"/>
                </a:lnTo>
                <a:lnTo>
                  <a:pt x="88" y="71"/>
                </a:lnTo>
                <a:lnTo>
                  <a:pt x="90" y="70"/>
                </a:lnTo>
                <a:lnTo>
                  <a:pt x="97" y="61"/>
                </a:lnTo>
                <a:lnTo>
                  <a:pt x="100" y="58"/>
                </a:lnTo>
                <a:lnTo>
                  <a:pt x="97" y="58"/>
                </a:lnTo>
                <a:lnTo>
                  <a:pt x="94" y="59"/>
                </a:lnTo>
                <a:lnTo>
                  <a:pt x="87" y="65"/>
                </a:lnTo>
                <a:lnTo>
                  <a:pt x="80" y="68"/>
                </a:lnTo>
                <a:lnTo>
                  <a:pt x="75" y="71"/>
                </a:lnTo>
                <a:lnTo>
                  <a:pt x="73" y="73"/>
                </a:lnTo>
                <a:lnTo>
                  <a:pt x="61" y="76"/>
                </a:lnTo>
                <a:lnTo>
                  <a:pt x="61" y="78"/>
                </a:lnTo>
                <a:lnTo>
                  <a:pt x="58" y="80"/>
                </a:lnTo>
                <a:lnTo>
                  <a:pt x="55" y="81"/>
                </a:lnTo>
                <a:lnTo>
                  <a:pt x="51" y="85"/>
                </a:lnTo>
                <a:lnTo>
                  <a:pt x="48" y="87"/>
                </a:lnTo>
                <a:lnTo>
                  <a:pt x="44" y="90"/>
                </a:lnTo>
                <a:lnTo>
                  <a:pt x="41" y="92"/>
                </a:lnTo>
                <a:lnTo>
                  <a:pt x="39" y="92"/>
                </a:lnTo>
                <a:lnTo>
                  <a:pt x="29" y="100"/>
                </a:lnTo>
                <a:lnTo>
                  <a:pt x="21" y="105"/>
                </a:lnTo>
                <a:lnTo>
                  <a:pt x="16" y="109"/>
                </a:lnTo>
                <a:lnTo>
                  <a:pt x="14" y="109"/>
                </a:lnTo>
                <a:lnTo>
                  <a:pt x="12" y="109"/>
                </a:lnTo>
                <a:lnTo>
                  <a:pt x="12" y="107"/>
                </a:lnTo>
                <a:lnTo>
                  <a:pt x="14" y="105"/>
                </a:lnTo>
                <a:lnTo>
                  <a:pt x="16" y="103"/>
                </a:lnTo>
                <a:lnTo>
                  <a:pt x="17" y="102"/>
                </a:lnTo>
                <a:lnTo>
                  <a:pt x="19" y="98"/>
                </a:lnTo>
                <a:lnTo>
                  <a:pt x="19" y="97"/>
                </a:lnTo>
                <a:lnTo>
                  <a:pt x="19" y="95"/>
                </a:lnTo>
                <a:lnTo>
                  <a:pt x="16" y="97"/>
                </a:lnTo>
                <a:lnTo>
                  <a:pt x="12" y="98"/>
                </a:lnTo>
                <a:lnTo>
                  <a:pt x="7" y="105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4e5b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6" name="Text Box 179"/>
          <p:cNvSpPr/>
          <p:nvPr/>
        </p:nvSpPr>
        <p:spPr>
          <a:xfrm>
            <a:off x="733320" y="6172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rbe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Geographical Distribution of                                     KPC-Producers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8" name="Rectangle 145"/>
          <p:cNvSpPr/>
          <p:nvPr/>
        </p:nvSpPr>
        <p:spPr>
          <a:xfrm>
            <a:off x="6705720" y="501336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9" name="Text Box 162"/>
          <p:cNvSpPr/>
          <p:nvPr/>
        </p:nvSpPr>
        <p:spPr>
          <a:xfrm>
            <a:off x="6934320" y="4572000"/>
            <a:ext cx="2209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Sporadic isolate(s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0" name="TextBox 150"/>
          <p:cNvSpPr/>
          <p:nvPr/>
        </p:nvSpPr>
        <p:spPr>
          <a:xfrm>
            <a:off x="5540400" y="6537240"/>
            <a:ext cx="358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olas"/>
              </a:rPr>
              <a:t>Centers for Disease Control and Prevention.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2E68-DA71-4739-88A9-554F035F16A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Freeform 2"/>
          <p:cNvSpPr/>
          <p:nvPr/>
        </p:nvSpPr>
        <p:spPr>
          <a:xfrm>
            <a:off x="5137200" y="4413240"/>
            <a:ext cx="473040" cy="763560"/>
          </a:xfrm>
          <a:custGeom>
            <a:avLst/>
            <a:gdLst>
              <a:gd name="textAreaLeft" fmla="*/ 0 w 473040"/>
              <a:gd name="textAreaRight" fmla="*/ 473400 w 4730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686" h="962">
                <a:moveTo>
                  <a:pt x="0" y="36"/>
                </a:moveTo>
                <a:lnTo>
                  <a:pt x="16" y="55"/>
                </a:lnTo>
                <a:lnTo>
                  <a:pt x="0" y="647"/>
                </a:lnTo>
                <a:lnTo>
                  <a:pt x="41" y="935"/>
                </a:lnTo>
                <a:lnTo>
                  <a:pt x="91" y="943"/>
                </a:lnTo>
                <a:lnTo>
                  <a:pt x="110" y="854"/>
                </a:lnTo>
                <a:lnTo>
                  <a:pt x="128" y="878"/>
                </a:lnTo>
                <a:lnTo>
                  <a:pt x="131" y="921"/>
                </a:lnTo>
                <a:lnTo>
                  <a:pt x="158" y="941"/>
                </a:lnTo>
                <a:lnTo>
                  <a:pt x="120" y="962"/>
                </a:lnTo>
                <a:lnTo>
                  <a:pt x="214" y="940"/>
                </a:lnTo>
                <a:lnTo>
                  <a:pt x="234" y="914"/>
                </a:lnTo>
                <a:lnTo>
                  <a:pt x="218" y="899"/>
                </a:lnTo>
                <a:lnTo>
                  <a:pt x="230" y="875"/>
                </a:lnTo>
                <a:lnTo>
                  <a:pt x="180" y="835"/>
                </a:lnTo>
                <a:lnTo>
                  <a:pt x="184" y="806"/>
                </a:lnTo>
                <a:lnTo>
                  <a:pt x="686" y="769"/>
                </a:lnTo>
                <a:lnTo>
                  <a:pt x="642" y="614"/>
                </a:lnTo>
                <a:lnTo>
                  <a:pt x="650" y="560"/>
                </a:lnTo>
                <a:lnTo>
                  <a:pt x="669" y="525"/>
                </a:lnTo>
                <a:lnTo>
                  <a:pt x="652" y="472"/>
                </a:lnTo>
                <a:lnTo>
                  <a:pt x="605" y="407"/>
                </a:lnTo>
                <a:lnTo>
                  <a:pt x="476" y="0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3" name="Freeform 3"/>
          <p:cNvSpPr/>
          <p:nvPr/>
        </p:nvSpPr>
        <p:spPr>
          <a:xfrm>
            <a:off x="5137200" y="4413240"/>
            <a:ext cx="473040" cy="763560"/>
          </a:xfrm>
          <a:custGeom>
            <a:avLst/>
            <a:gdLst>
              <a:gd name="textAreaLeft" fmla="*/ 0 w 473040"/>
              <a:gd name="textAreaRight" fmla="*/ 473400 w 4730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686" h="962">
                <a:moveTo>
                  <a:pt x="0" y="36"/>
                </a:moveTo>
                <a:lnTo>
                  <a:pt x="16" y="55"/>
                </a:lnTo>
                <a:lnTo>
                  <a:pt x="0" y="647"/>
                </a:lnTo>
                <a:lnTo>
                  <a:pt x="41" y="935"/>
                </a:lnTo>
                <a:lnTo>
                  <a:pt x="91" y="943"/>
                </a:lnTo>
                <a:lnTo>
                  <a:pt x="110" y="854"/>
                </a:lnTo>
                <a:lnTo>
                  <a:pt x="128" y="878"/>
                </a:lnTo>
                <a:lnTo>
                  <a:pt x="131" y="921"/>
                </a:lnTo>
                <a:lnTo>
                  <a:pt x="158" y="941"/>
                </a:lnTo>
                <a:lnTo>
                  <a:pt x="120" y="962"/>
                </a:lnTo>
                <a:lnTo>
                  <a:pt x="214" y="940"/>
                </a:lnTo>
                <a:lnTo>
                  <a:pt x="234" y="914"/>
                </a:lnTo>
                <a:lnTo>
                  <a:pt x="218" y="899"/>
                </a:lnTo>
                <a:lnTo>
                  <a:pt x="230" y="875"/>
                </a:lnTo>
                <a:lnTo>
                  <a:pt x="180" y="835"/>
                </a:lnTo>
                <a:lnTo>
                  <a:pt x="184" y="806"/>
                </a:lnTo>
                <a:lnTo>
                  <a:pt x="686" y="769"/>
                </a:lnTo>
                <a:lnTo>
                  <a:pt x="642" y="614"/>
                </a:lnTo>
                <a:lnTo>
                  <a:pt x="650" y="560"/>
                </a:lnTo>
                <a:lnTo>
                  <a:pt x="669" y="525"/>
                </a:lnTo>
                <a:lnTo>
                  <a:pt x="652" y="472"/>
                </a:lnTo>
                <a:lnTo>
                  <a:pt x="605" y="407"/>
                </a:lnTo>
                <a:lnTo>
                  <a:pt x="476" y="0"/>
                </a:lnTo>
                <a:lnTo>
                  <a:pt x="0" y="3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4" name="Freeform 4"/>
          <p:cNvSpPr/>
          <p:nvPr/>
        </p:nvSpPr>
        <p:spPr>
          <a:xfrm>
            <a:off x="1069920" y="5842080"/>
            <a:ext cx="63720" cy="28440"/>
          </a:xfrm>
          <a:custGeom>
            <a:avLst/>
            <a:gdLst>
              <a:gd name="textAreaLeft" fmla="*/ 0 w 63720"/>
              <a:gd name="textAreaRight" fmla="*/ 64080 w 637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8" h="38">
                <a:moveTo>
                  <a:pt x="0" y="38"/>
                </a:moveTo>
                <a:lnTo>
                  <a:pt x="23" y="17"/>
                </a:lnTo>
                <a:lnTo>
                  <a:pt x="84" y="0"/>
                </a:lnTo>
                <a:lnTo>
                  <a:pt x="88" y="7"/>
                </a:lnTo>
                <a:lnTo>
                  <a:pt x="0" y="3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5" name="Freeform 5"/>
          <p:cNvSpPr/>
          <p:nvPr/>
        </p:nvSpPr>
        <p:spPr>
          <a:xfrm>
            <a:off x="1069920" y="5842080"/>
            <a:ext cx="63720" cy="28440"/>
          </a:xfrm>
          <a:custGeom>
            <a:avLst/>
            <a:gdLst>
              <a:gd name="textAreaLeft" fmla="*/ 0 w 63720"/>
              <a:gd name="textAreaRight" fmla="*/ 64080 w 637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8" h="38">
                <a:moveTo>
                  <a:pt x="0" y="38"/>
                </a:moveTo>
                <a:lnTo>
                  <a:pt x="23" y="17"/>
                </a:lnTo>
                <a:lnTo>
                  <a:pt x="84" y="0"/>
                </a:lnTo>
                <a:lnTo>
                  <a:pt x="88" y="7"/>
                </a:lnTo>
                <a:lnTo>
                  <a:pt x="0" y="3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6" name="Freeform 6"/>
          <p:cNvSpPr/>
          <p:nvPr/>
        </p:nvSpPr>
        <p:spPr>
          <a:xfrm>
            <a:off x="1162080" y="582768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0" h="31">
                <a:moveTo>
                  <a:pt x="0" y="31"/>
                </a:moveTo>
                <a:lnTo>
                  <a:pt x="11" y="0"/>
                </a:lnTo>
                <a:lnTo>
                  <a:pt x="50" y="7"/>
                </a:lnTo>
                <a:lnTo>
                  <a:pt x="46" y="24"/>
                </a:lnTo>
                <a:lnTo>
                  <a:pt x="0" y="3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7" name="Freeform 7"/>
          <p:cNvSpPr/>
          <p:nvPr/>
        </p:nvSpPr>
        <p:spPr>
          <a:xfrm>
            <a:off x="1162080" y="582768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0" h="31">
                <a:moveTo>
                  <a:pt x="0" y="31"/>
                </a:moveTo>
                <a:lnTo>
                  <a:pt x="11" y="0"/>
                </a:lnTo>
                <a:lnTo>
                  <a:pt x="50" y="7"/>
                </a:lnTo>
                <a:lnTo>
                  <a:pt x="46" y="24"/>
                </a:lnTo>
                <a:lnTo>
                  <a:pt x="0" y="3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8" name="Freeform 8"/>
          <p:cNvSpPr/>
          <p:nvPr/>
        </p:nvSpPr>
        <p:spPr>
          <a:xfrm>
            <a:off x="1239840" y="5800680"/>
            <a:ext cx="68400" cy="23760"/>
          </a:xfrm>
          <a:custGeom>
            <a:avLst/>
            <a:gdLst>
              <a:gd name="textAreaLeft" fmla="*/ 0 w 68400"/>
              <a:gd name="textAreaRight" fmla="*/ 68760 w 684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99" h="30">
                <a:moveTo>
                  <a:pt x="0" y="30"/>
                </a:moveTo>
                <a:lnTo>
                  <a:pt x="24" y="0"/>
                </a:lnTo>
                <a:lnTo>
                  <a:pt x="83" y="0"/>
                </a:lnTo>
                <a:lnTo>
                  <a:pt x="99" y="30"/>
                </a:lnTo>
                <a:lnTo>
                  <a:pt x="35" y="22"/>
                </a:lnTo>
                <a:lnTo>
                  <a:pt x="0" y="3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9" name="Freeform 9"/>
          <p:cNvSpPr/>
          <p:nvPr/>
        </p:nvSpPr>
        <p:spPr>
          <a:xfrm>
            <a:off x="1239840" y="5800680"/>
            <a:ext cx="68400" cy="23760"/>
          </a:xfrm>
          <a:custGeom>
            <a:avLst/>
            <a:gdLst>
              <a:gd name="textAreaLeft" fmla="*/ 0 w 68400"/>
              <a:gd name="textAreaRight" fmla="*/ 68760 w 684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99" h="30">
                <a:moveTo>
                  <a:pt x="0" y="30"/>
                </a:moveTo>
                <a:lnTo>
                  <a:pt x="24" y="0"/>
                </a:lnTo>
                <a:lnTo>
                  <a:pt x="83" y="0"/>
                </a:lnTo>
                <a:lnTo>
                  <a:pt x="99" y="30"/>
                </a:lnTo>
                <a:lnTo>
                  <a:pt x="35" y="22"/>
                </a:lnTo>
                <a:lnTo>
                  <a:pt x="0" y="3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0" name="Freeform 10"/>
          <p:cNvSpPr/>
          <p:nvPr/>
        </p:nvSpPr>
        <p:spPr>
          <a:xfrm>
            <a:off x="1301760" y="4853160"/>
            <a:ext cx="1200240" cy="100008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740" h="1261">
                <a:moveTo>
                  <a:pt x="0" y="1205"/>
                </a:moveTo>
                <a:lnTo>
                  <a:pt x="15" y="1183"/>
                </a:lnTo>
                <a:lnTo>
                  <a:pt x="27" y="1186"/>
                </a:lnTo>
                <a:lnTo>
                  <a:pt x="100" y="1143"/>
                </a:lnTo>
                <a:lnTo>
                  <a:pt x="144" y="1152"/>
                </a:lnTo>
                <a:lnTo>
                  <a:pt x="152" y="1167"/>
                </a:lnTo>
                <a:lnTo>
                  <a:pt x="158" y="1150"/>
                </a:lnTo>
                <a:lnTo>
                  <a:pt x="200" y="1124"/>
                </a:lnTo>
                <a:lnTo>
                  <a:pt x="270" y="1104"/>
                </a:lnTo>
                <a:lnTo>
                  <a:pt x="331" y="1059"/>
                </a:lnTo>
                <a:lnTo>
                  <a:pt x="343" y="1063"/>
                </a:lnTo>
                <a:lnTo>
                  <a:pt x="354" y="1006"/>
                </a:lnTo>
                <a:lnTo>
                  <a:pt x="393" y="965"/>
                </a:lnTo>
                <a:lnTo>
                  <a:pt x="329" y="969"/>
                </a:lnTo>
                <a:lnTo>
                  <a:pt x="339" y="946"/>
                </a:lnTo>
                <a:lnTo>
                  <a:pt x="358" y="948"/>
                </a:lnTo>
                <a:lnTo>
                  <a:pt x="339" y="938"/>
                </a:lnTo>
                <a:lnTo>
                  <a:pt x="308" y="965"/>
                </a:lnTo>
                <a:lnTo>
                  <a:pt x="304" y="982"/>
                </a:lnTo>
                <a:lnTo>
                  <a:pt x="268" y="941"/>
                </a:lnTo>
                <a:lnTo>
                  <a:pt x="256" y="946"/>
                </a:lnTo>
                <a:lnTo>
                  <a:pt x="237" y="926"/>
                </a:lnTo>
                <a:lnTo>
                  <a:pt x="189" y="943"/>
                </a:lnTo>
                <a:lnTo>
                  <a:pt x="177" y="945"/>
                </a:lnTo>
                <a:lnTo>
                  <a:pt x="137" y="934"/>
                </a:lnTo>
                <a:lnTo>
                  <a:pt x="177" y="905"/>
                </a:lnTo>
                <a:lnTo>
                  <a:pt x="168" y="897"/>
                </a:lnTo>
                <a:lnTo>
                  <a:pt x="179" y="876"/>
                </a:lnTo>
                <a:lnTo>
                  <a:pt x="171" y="815"/>
                </a:lnTo>
                <a:lnTo>
                  <a:pt x="195" y="784"/>
                </a:lnTo>
                <a:lnTo>
                  <a:pt x="160" y="806"/>
                </a:lnTo>
                <a:lnTo>
                  <a:pt x="160" y="827"/>
                </a:lnTo>
                <a:lnTo>
                  <a:pt x="129" y="844"/>
                </a:lnTo>
                <a:lnTo>
                  <a:pt x="89" y="832"/>
                </a:lnTo>
                <a:lnTo>
                  <a:pt x="77" y="784"/>
                </a:lnTo>
                <a:lnTo>
                  <a:pt x="48" y="763"/>
                </a:lnTo>
                <a:lnTo>
                  <a:pt x="50" y="748"/>
                </a:lnTo>
                <a:lnTo>
                  <a:pt x="65" y="748"/>
                </a:lnTo>
                <a:lnTo>
                  <a:pt x="75" y="736"/>
                </a:lnTo>
                <a:lnTo>
                  <a:pt x="89" y="732"/>
                </a:lnTo>
                <a:lnTo>
                  <a:pt x="75" y="731"/>
                </a:lnTo>
                <a:lnTo>
                  <a:pt x="85" y="722"/>
                </a:lnTo>
                <a:lnTo>
                  <a:pt x="69" y="705"/>
                </a:lnTo>
                <a:lnTo>
                  <a:pt x="62" y="714"/>
                </a:lnTo>
                <a:lnTo>
                  <a:pt x="38" y="678"/>
                </a:lnTo>
                <a:lnTo>
                  <a:pt x="54" y="650"/>
                </a:lnTo>
                <a:lnTo>
                  <a:pt x="133" y="604"/>
                </a:lnTo>
                <a:lnTo>
                  <a:pt x="152" y="571"/>
                </a:lnTo>
                <a:lnTo>
                  <a:pt x="171" y="566"/>
                </a:lnTo>
                <a:lnTo>
                  <a:pt x="210" y="585"/>
                </a:lnTo>
                <a:lnTo>
                  <a:pt x="237" y="580"/>
                </a:lnTo>
                <a:lnTo>
                  <a:pt x="248" y="565"/>
                </a:lnTo>
                <a:lnTo>
                  <a:pt x="308" y="571"/>
                </a:lnTo>
                <a:lnTo>
                  <a:pt x="320" y="522"/>
                </a:lnTo>
                <a:lnTo>
                  <a:pt x="304" y="503"/>
                </a:lnTo>
                <a:lnTo>
                  <a:pt x="343" y="484"/>
                </a:lnTo>
                <a:lnTo>
                  <a:pt x="308" y="472"/>
                </a:lnTo>
                <a:lnTo>
                  <a:pt x="256" y="501"/>
                </a:lnTo>
                <a:lnTo>
                  <a:pt x="252" y="474"/>
                </a:lnTo>
                <a:lnTo>
                  <a:pt x="166" y="470"/>
                </a:lnTo>
                <a:lnTo>
                  <a:pt x="127" y="441"/>
                </a:lnTo>
                <a:lnTo>
                  <a:pt x="121" y="390"/>
                </a:lnTo>
                <a:lnTo>
                  <a:pt x="150" y="400"/>
                </a:lnTo>
                <a:lnTo>
                  <a:pt x="89" y="344"/>
                </a:lnTo>
                <a:lnTo>
                  <a:pt x="248" y="316"/>
                </a:lnTo>
                <a:lnTo>
                  <a:pt x="272" y="323"/>
                </a:lnTo>
                <a:lnTo>
                  <a:pt x="248" y="345"/>
                </a:lnTo>
                <a:lnTo>
                  <a:pt x="333" y="381"/>
                </a:lnTo>
                <a:lnTo>
                  <a:pt x="368" y="371"/>
                </a:lnTo>
                <a:lnTo>
                  <a:pt x="366" y="359"/>
                </a:lnTo>
                <a:lnTo>
                  <a:pt x="335" y="352"/>
                </a:lnTo>
                <a:lnTo>
                  <a:pt x="320" y="303"/>
                </a:lnTo>
                <a:lnTo>
                  <a:pt x="343" y="320"/>
                </a:lnTo>
                <a:lnTo>
                  <a:pt x="349" y="345"/>
                </a:lnTo>
                <a:lnTo>
                  <a:pt x="385" y="364"/>
                </a:lnTo>
                <a:lnTo>
                  <a:pt x="420" y="363"/>
                </a:lnTo>
                <a:lnTo>
                  <a:pt x="412" y="344"/>
                </a:lnTo>
                <a:lnTo>
                  <a:pt x="353" y="333"/>
                </a:lnTo>
                <a:lnTo>
                  <a:pt x="364" y="303"/>
                </a:lnTo>
                <a:lnTo>
                  <a:pt x="293" y="282"/>
                </a:lnTo>
                <a:lnTo>
                  <a:pt x="293" y="244"/>
                </a:lnTo>
                <a:lnTo>
                  <a:pt x="272" y="215"/>
                </a:lnTo>
                <a:lnTo>
                  <a:pt x="218" y="164"/>
                </a:lnTo>
                <a:lnTo>
                  <a:pt x="239" y="160"/>
                </a:lnTo>
                <a:lnTo>
                  <a:pt x="262" y="123"/>
                </a:lnTo>
                <a:lnTo>
                  <a:pt x="322" y="140"/>
                </a:lnTo>
                <a:lnTo>
                  <a:pt x="366" y="121"/>
                </a:lnTo>
                <a:lnTo>
                  <a:pt x="432" y="51"/>
                </a:lnTo>
                <a:lnTo>
                  <a:pt x="453" y="61"/>
                </a:lnTo>
                <a:lnTo>
                  <a:pt x="495" y="39"/>
                </a:lnTo>
                <a:lnTo>
                  <a:pt x="495" y="59"/>
                </a:lnTo>
                <a:lnTo>
                  <a:pt x="518" y="53"/>
                </a:lnTo>
                <a:lnTo>
                  <a:pt x="507" y="42"/>
                </a:lnTo>
                <a:lnTo>
                  <a:pt x="568" y="35"/>
                </a:lnTo>
                <a:lnTo>
                  <a:pt x="613" y="0"/>
                </a:lnTo>
                <a:lnTo>
                  <a:pt x="643" y="22"/>
                </a:lnTo>
                <a:lnTo>
                  <a:pt x="632" y="51"/>
                </a:lnTo>
                <a:lnTo>
                  <a:pt x="655" y="53"/>
                </a:lnTo>
                <a:lnTo>
                  <a:pt x="661" y="25"/>
                </a:lnTo>
                <a:lnTo>
                  <a:pt x="690" y="59"/>
                </a:lnTo>
                <a:lnTo>
                  <a:pt x="740" y="59"/>
                </a:lnTo>
                <a:lnTo>
                  <a:pt x="746" y="90"/>
                </a:lnTo>
                <a:lnTo>
                  <a:pt x="838" y="99"/>
                </a:lnTo>
                <a:lnTo>
                  <a:pt x="834" y="114"/>
                </a:lnTo>
                <a:lnTo>
                  <a:pt x="857" y="104"/>
                </a:lnTo>
                <a:lnTo>
                  <a:pt x="880" y="128"/>
                </a:lnTo>
                <a:lnTo>
                  <a:pt x="927" y="123"/>
                </a:lnTo>
                <a:lnTo>
                  <a:pt x="973" y="140"/>
                </a:lnTo>
                <a:lnTo>
                  <a:pt x="1017" y="123"/>
                </a:lnTo>
                <a:lnTo>
                  <a:pt x="1017" y="130"/>
                </a:lnTo>
                <a:lnTo>
                  <a:pt x="1033" y="126"/>
                </a:lnTo>
                <a:lnTo>
                  <a:pt x="1104" y="159"/>
                </a:lnTo>
                <a:lnTo>
                  <a:pt x="1162" y="890"/>
                </a:lnTo>
                <a:lnTo>
                  <a:pt x="1245" y="885"/>
                </a:lnTo>
                <a:lnTo>
                  <a:pt x="1243" y="905"/>
                </a:lnTo>
                <a:lnTo>
                  <a:pt x="1272" y="926"/>
                </a:lnTo>
                <a:lnTo>
                  <a:pt x="1322" y="962"/>
                </a:lnTo>
                <a:lnTo>
                  <a:pt x="1331" y="982"/>
                </a:lnTo>
                <a:lnTo>
                  <a:pt x="1372" y="958"/>
                </a:lnTo>
                <a:lnTo>
                  <a:pt x="1385" y="928"/>
                </a:lnTo>
                <a:lnTo>
                  <a:pt x="1410" y="916"/>
                </a:lnTo>
                <a:lnTo>
                  <a:pt x="1416" y="912"/>
                </a:lnTo>
                <a:lnTo>
                  <a:pt x="1443" y="928"/>
                </a:lnTo>
                <a:lnTo>
                  <a:pt x="1439" y="948"/>
                </a:lnTo>
                <a:lnTo>
                  <a:pt x="1460" y="950"/>
                </a:lnTo>
                <a:lnTo>
                  <a:pt x="1470" y="958"/>
                </a:lnTo>
                <a:lnTo>
                  <a:pt x="1478" y="972"/>
                </a:lnTo>
                <a:lnTo>
                  <a:pt x="1507" y="984"/>
                </a:lnTo>
                <a:lnTo>
                  <a:pt x="1630" y="1133"/>
                </a:lnTo>
                <a:lnTo>
                  <a:pt x="1670" y="1142"/>
                </a:lnTo>
                <a:lnTo>
                  <a:pt x="1732" y="1162"/>
                </a:lnTo>
                <a:lnTo>
                  <a:pt x="1740" y="1174"/>
                </a:lnTo>
                <a:lnTo>
                  <a:pt x="1722" y="1183"/>
                </a:lnTo>
                <a:lnTo>
                  <a:pt x="1730" y="1210"/>
                </a:lnTo>
                <a:lnTo>
                  <a:pt x="1719" y="1261"/>
                </a:lnTo>
                <a:lnTo>
                  <a:pt x="1711" y="1249"/>
                </a:lnTo>
                <a:lnTo>
                  <a:pt x="1699" y="1260"/>
                </a:lnTo>
                <a:lnTo>
                  <a:pt x="1684" y="1248"/>
                </a:lnTo>
                <a:lnTo>
                  <a:pt x="1703" y="1236"/>
                </a:lnTo>
                <a:lnTo>
                  <a:pt x="1688" y="1217"/>
                </a:lnTo>
                <a:lnTo>
                  <a:pt x="1688" y="1205"/>
                </a:lnTo>
                <a:lnTo>
                  <a:pt x="1670" y="1172"/>
                </a:lnTo>
                <a:lnTo>
                  <a:pt x="1659" y="1172"/>
                </a:lnTo>
                <a:lnTo>
                  <a:pt x="1638" y="1183"/>
                </a:lnTo>
                <a:lnTo>
                  <a:pt x="1634" y="1203"/>
                </a:lnTo>
                <a:lnTo>
                  <a:pt x="1615" y="1207"/>
                </a:lnTo>
                <a:lnTo>
                  <a:pt x="1615" y="1203"/>
                </a:lnTo>
                <a:lnTo>
                  <a:pt x="1626" y="1183"/>
                </a:lnTo>
                <a:lnTo>
                  <a:pt x="1630" y="1162"/>
                </a:lnTo>
                <a:lnTo>
                  <a:pt x="1618" y="1171"/>
                </a:lnTo>
                <a:lnTo>
                  <a:pt x="1615" y="1183"/>
                </a:lnTo>
                <a:lnTo>
                  <a:pt x="1566" y="1162"/>
                </a:lnTo>
                <a:lnTo>
                  <a:pt x="1570" y="1154"/>
                </a:lnTo>
                <a:lnTo>
                  <a:pt x="1593" y="1154"/>
                </a:lnTo>
                <a:lnTo>
                  <a:pt x="1595" y="1138"/>
                </a:lnTo>
                <a:lnTo>
                  <a:pt x="1615" y="1133"/>
                </a:lnTo>
                <a:lnTo>
                  <a:pt x="1611" y="1124"/>
                </a:lnTo>
                <a:lnTo>
                  <a:pt x="1588" y="1128"/>
                </a:lnTo>
                <a:lnTo>
                  <a:pt x="1580" y="1104"/>
                </a:lnTo>
                <a:lnTo>
                  <a:pt x="1536" y="1100"/>
                </a:lnTo>
                <a:lnTo>
                  <a:pt x="1520" y="1070"/>
                </a:lnTo>
                <a:lnTo>
                  <a:pt x="1536" y="1044"/>
                </a:lnTo>
                <a:lnTo>
                  <a:pt x="1520" y="1047"/>
                </a:lnTo>
                <a:lnTo>
                  <a:pt x="1512" y="1030"/>
                </a:lnTo>
                <a:lnTo>
                  <a:pt x="1503" y="1035"/>
                </a:lnTo>
                <a:lnTo>
                  <a:pt x="1493" y="1029"/>
                </a:lnTo>
                <a:lnTo>
                  <a:pt x="1507" y="1005"/>
                </a:lnTo>
                <a:lnTo>
                  <a:pt x="1497" y="1005"/>
                </a:lnTo>
                <a:lnTo>
                  <a:pt x="1493" y="1015"/>
                </a:lnTo>
                <a:lnTo>
                  <a:pt x="1478" y="1020"/>
                </a:lnTo>
                <a:lnTo>
                  <a:pt x="1460" y="1013"/>
                </a:lnTo>
                <a:lnTo>
                  <a:pt x="1457" y="993"/>
                </a:lnTo>
                <a:lnTo>
                  <a:pt x="1435" y="969"/>
                </a:lnTo>
                <a:lnTo>
                  <a:pt x="1435" y="952"/>
                </a:lnTo>
                <a:lnTo>
                  <a:pt x="1428" y="950"/>
                </a:lnTo>
                <a:lnTo>
                  <a:pt x="1424" y="931"/>
                </a:lnTo>
                <a:lnTo>
                  <a:pt x="1422" y="938"/>
                </a:lnTo>
                <a:lnTo>
                  <a:pt x="1432" y="982"/>
                </a:lnTo>
                <a:lnTo>
                  <a:pt x="1449" y="1013"/>
                </a:lnTo>
                <a:lnTo>
                  <a:pt x="1512" y="1054"/>
                </a:lnTo>
                <a:lnTo>
                  <a:pt x="1512" y="1063"/>
                </a:lnTo>
                <a:lnTo>
                  <a:pt x="1499" y="1063"/>
                </a:lnTo>
                <a:lnTo>
                  <a:pt x="1497" y="1070"/>
                </a:lnTo>
                <a:lnTo>
                  <a:pt x="1507" y="1068"/>
                </a:lnTo>
                <a:lnTo>
                  <a:pt x="1514" y="1097"/>
                </a:lnTo>
                <a:lnTo>
                  <a:pt x="1555" y="1114"/>
                </a:lnTo>
                <a:lnTo>
                  <a:pt x="1576" y="1143"/>
                </a:lnTo>
                <a:lnTo>
                  <a:pt x="1528" y="1152"/>
                </a:lnTo>
                <a:lnTo>
                  <a:pt x="1507" y="1205"/>
                </a:lnTo>
                <a:lnTo>
                  <a:pt x="1493" y="1121"/>
                </a:lnTo>
                <a:lnTo>
                  <a:pt x="1482" y="1112"/>
                </a:lnTo>
                <a:lnTo>
                  <a:pt x="1482" y="1097"/>
                </a:lnTo>
                <a:lnTo>
                  <a:pt x="1489" y="1092"/>
                </a:lnTo>
                <a:lnTo>
                  <a:pt x="1451" y="1027"/>
                </a:lnTo>
                <a:lnTo>
                  <a:pt x="1439" y="1023"/>
                </a:lnTo>
                <a:lnTo>
                  <a:pt x="1430" y="1013"/>
                </a:lnTo>
                <a:lnTo>
                  <a:pt x="1416" y="1013"/>
                </a:lnTo>
                <a:lnTo>
                  <a:pt x="1408" y="1008"/>
                </a:lnTo>
                <a:lnTo>
                  <a:pt x="1399" y="972"/>
                </a:lnTo>
                <a:lnTo>
                  <a:pt x="1393" y="989"/>
                </a:lnTo>
                <a:lnTo>
                  <a:pt x="1360" y="979"/>
                </a:lnTo>
                <a:lnTo>
                  <a:pt x="1353" y="984"/>
                </a:lnTo>
                <a:lnTo>
                  <a:pt x="1393" y="1005"/>
                </a:lnTo>
                <a:lnTo>
                  <a:pt x="1372" y="1011"/>
                </a:lnTo>
                <a:lnTo>
                  <a:pt x="1376" y="1029"/>
                </a:lnTo>
                <a:lnTo>
                  <a:pt x="1345" y="1017"/>
                </a:lnTo>
                <a:lnTo>
                  <a:pt x="1302" y="982"/>
                </a:lnTo>
                <a:lnTo>
                  <a:pt x="1239" y="958"/>
                </a:lnTo>
                <a:lnTo>
                  <a:pt x="1196" y="955"/>
                </a:lnTo>
                <a:lnTo>
                  <a:pt x="1225" y="921"/>
                </a:lnTo>
                <a:lnTo>
                  <a:pt x="1241" y="938"/>
                </a:lnTo>
                <a:lnTo>
                  <a:pt x="1243" y="921"/>
                </a:lnTo>
                <a:lnTo>
                  <a:pt x="1218" y="905"/>
                </a:lnTo>
                <a:lnTo>
                  <a:pt x="1200" y="934"/>
                </a:lnTo>
                <a:lnTo>
                  <a:pt x="1162" y="934"/>
                </a:lnTo>
                <a:lnTo>
                  <a:pt x="1006" y="921"/>
                </a:lnTo>
                <a:lnTo>
                  <a:pt x="1010" y="898"/>
                </a:lnTo>
                <a:lnTo>
                  <a:pt x="994" y="905"/>
                </a:lnTo>
                <a:lnTo>
                  <a:pt x="975" y="885"/>
                </a:lnTo>
                <a:lnTo>
                  <a:pt x="952" y="895"/>
                </a:lnTo>
                <a:lnTo>
                  <a:pt x="944" y="883"/>
                </a:lnTo>
                <a:lnTo>
                  <a:pt x="902" y="897"/>
                </a:lnTo>
                <a:lnTo>
                  <a:pt x="900" y="885"/>
                </a:lnTo>
                <a:lnTo>
                  <a:pt x="917" y="864"/>
                </a:lnTo>
                <a:lnTo>
                  <a:pt x="906" y="862"/>
                </a:lnTo>
                <a:lnTo>
                  <a:pt x="919" y="854"/>
                </a:lnTo>
                <a:lnTo>
                  <a:pt x="873" y="857"/>
                </a:lnTo>
                <a:lnTo>
                  <a:pt x="855" y="844"/>
                </a:lnTo>
                <a:lnTo>
                  <a:pt x="842" y="854"/>
                </a:lnTo>
                <a:lnTo>
                  <a:pt x="834" y="844"/>
                </a:lnTo>
                <a:lnTo>
                  <a:pt x="846" y="832"/>
                </a:lnTo>
                <a:lnTo>
                  <a:pt x="823" y="837"/>
                </a:lnTo>
                <a:lnTo>
                  <a:pt x="825" y="844"/>
                </a:lnTo>
                <a:lnTo>
                  <a:pt x="811" y="854"/>
                </a:lnTo>
                <a:lnTo>
                  <a:pt x="830" y="854"/>
                </a:lnTo>
                <a:lnTo>
                  <a:pt x="823" y="876"/>
                </a:lnTo>
                <a:lnTo>
                  <a:pt x="842" y="885"/>
                </a:lnTo>
                <a:lnTo>
                  <a:pt x="861" y="895"/>
                </a:lnTo>
                <a:lnTo>
                  <a:pt x="888" y="885"/>
                </a:lnTo>
                <a:lnTo>
                  <a:pt x="884" y="931"/>
                </a:lnTo>
                <a:lnTo>
                  <a:pt x="838" y="934"/>
                </a:lnTo>
                <a:lnTo>
                  <a:pt x="838" y="919"/>
                </a:lnTo>
                <a:lnTo>
                  <a:pt x="823" y="910"/>
                </a:lnTo>
                <a:lnTo>
                  <a:pt x="786" y="924"/>
                </a:lnTo>
                <a:lnTo>
                  <a:pt x="784" y="910"/>
                </a:lnTo>
                <a:lnTo>
                  <a:pt x="773" y="921"/>
                </a:lnTo>
                <a:lnTo>
                  <a:pt x="769" y="905"/>
                </a:lnTo>
                <a:lnTo>
                  <a:pt x="740" y="905"/>
                </a:lnTo>
                <a:lnTo>
                  <a:pt x="761" y="931"/>
                </a:lnTo>
                <a:lnTo>
                  <a:pt x="759" y="938"/>
                </a:lnTo>
                <a:lnTo>
                  <a:pt x="748" y="934"/>
                </a:lnTo>
                <a:lnTo>
                  <a:pt x="717" y="948"/>
                </a:lnTo>
                <a:lnTo>
                  <a:pt x="709" y="943"/>
                </a:lnTo>
                <a:lnTo>
                  <a:pt x="686" y="979"/>
                </a:lnTo>
                <a:lnTo>
                  <a:pt x="672" y="965"/>
                </a:lnTo>
                <a:lnTo>
                  <a:pt x="667" y="972"/>
                </a:lnTo>
                <a:lnTo>
                  <a:pt x="643" y="969"/>
                </a:lnTo>
                <a:lnTo>
                  <a:pt x="640" y="950"/>
                </a:lnTo>
                <a:lnTo>
                  <a:pt x="669" y="950"/>
                </a:lnTo>
                <a:lnTo>
                  <a:pt x="686" y="934"/>
                </a:lnTo>
                <a:lnTo>
                  <a:pt x="640" y="934"/>
                </a:lnTo>
                <a:lnTo>
                  <a:pt x="678" y="851"/>
                </a:lnTo>
                <a:lnTo>
                  <a:pt x="749" y="837"/>
                </a:lnTo>
                <a:lnTo>
                  <a:pt x="740" y="816"/>
                </a:lnTo>
                <a:lnTo>
                  <a:pt x="784" y="796"/>
                </a:lnTo>
                <a:lnTo>
                  <a:pt x="724" y="808"/>
                </a:lnTo>
                <a:lnTo>
                  <a:pt x="736" y="767"/>
                </a:lnTo>
                <a:lnTo>
                  <a:pt x="705" y="816"/>
                </a:lnTo>
                <a:lnTo>
                  <a:pt x="669" y="832"/>
                </a:lnTo>
                <a:lnTo>
                  <a:pt x="624" y="881"/>
                </a:lnTo>
                <a:lnTo>
                  <a:pt x="593" y="881"/>
                </a:lnTo>
                <a:lnTo>
                  <a:pt x="609" y="905"/>
                </a:lnTo>
                <a:lnTo>
                  <a:pt x="530" y="962"/>
                </a:lnTo>
                <a:lnTo>
                  <a:pt x="566" y="972"/>
                </a:lnTo>
                <a:lnTo>
                  <a:pt x="557" y="998"/>
                </a:lnTo>
                <a:lnTo>
                  <a:pt x="381" y="1112"/>
                </a:lnTo>
                <a:lnTo>
                  <a:pt x="254" y="1142"/>
                </a:lnTo>
                <a:lnTo>
                  <a:pt x="293" y="1155"/>
                </a:lnTo>
                <a:lnTo>
                  <a:pt x="216" y="1191"/>
                </a:lnTo>
                <a:lnTo>
                  <a:pt x="200" y="1174"/>
                </a:lnTo>
                <a:lnTo>
                  <a:pt x="148" y="1191"/>
                </a:lnTo>
                <a:lnTo>
                  <a:pt x="108" y="1191"/>
                </a:lnTo>
                <a:lnTo>
                  <a:pt x="108" y="1171"/>
                </a:lnTo>
                <a:lnTo>
                  <a:pt x="60" y="1212"/>
                </a:lnTo>
                <a:lnTo>
                  <a:pt x="44" y="1210"/>
                </a:lnTo>
                <a:lnTo>
                  <a:pt x="44" y="1190"/>
                </a:lnTo>
                <a:lnTo>
                  <a:pt x="35" y="1210"/>
                </a:lnTo>
                <a:lnTo>
                  <a:pt x="0" y="120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1" name="Freeform 11"/>
          <p:cNvSpPr/>
          <p:nvPr/>
        </p:nvSpPr>
        <p:spPr>
          <a:xfrm>
            <a:off x="1301760" y="4853160"/>
            <a:ext cx="1200240" cy="100008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740" h="1261">
                <a:moveTo>
                  <a:pt x="0" y="1205"/>
                </a:moveTo>
                <a:lnTo>
                  <a:pt x="15" y="1183"/>
                </a:lnTo>
                <a:lnTo>
                  <a:pt x="27" y="1186"/>
                </a:lnTo>
                <a:lnTo>
                  <a:pt x="100" y="1143"/>
                </a:lnTo>
                <a:lnTo>
                  <a:pt x="144" y="1152"/>
                </a:lnTo>
                <a:lnTo>
                  <a:pt x="152" y="1167"/>
                </a:lnTo>
                <a:lnTo>
                  <a:pt x="158" y="1150"/>
                </a:lnTo>
                <a:lnTo>
                  <a:pt x="200" y="1124"/>
                </a:lnTo>
                <a:lnTo>
                  <a:pt x="270" y="1104"/>
                </a:lnTo>
                <a:lnTo>
                  <a:pt x="331" y="1059"/>
                </a:lnTo>
                <a:lnTo>
                  <a:pt x="343" y="1063"/>
                </a:lnTo>
                <a:lnTo>
                  <a:pt x="354" y="1006"/>
                </a:lnTo>
                <a:lnTo>
                  <a:pt x="393" y="965"/>
                </a:lnTo>
                <a:lnTo>
                  <a:pt x="329" y="969"/>
                </a:lnTo>
                <a:lnTo>
                  <a:pt x="339" y="946"/>
                </a:lnTo>
                <a:lnTo>
                  <a:pt x="358" y="948"/>
                </a:lnTo>
                <a:lnTo>
                  <a:pt x="339" y="938"/>
                </a:lnTo>
                <a:lnTo>
                  <a:pt x="308" y="965"/>
                </a:lnTo>
                <a:lnTo>
                  <a:pt x="304" y="982"/>
                </a:lnTo>
                <a:lnTo>
                  <a:pt x="268" y="941"/>
                </a:lnTo>
                <a:lnTo>
                  <a:pt x="256" y="946"/>
                </a:lnTo>
                <a:lnTo>
                  <a:pt x="237" y="926"/>
                </a:lnTo>
                <a:lnTo>
                  <a:pt x="189" y="943"/>
                </a:lnTo>
                <a:lnTo>
                  <a:pt x="177" y="945"/>
                </a:lnTo>
                <a:lnTo>
                  <a:pt x="137" y="934"/>
                </a:lnTo>
                <a:lnTo>
                  <a:pt x="177" y="905"/>
                </a:lnTo>
                <a:lnTo>
                  <a:pt x="168" y="897"/>
                </a:lnTo>
                <a:lnTo>
                  <a:pt x="179" y="876"/>
                </a:lnTo>
                <a:lnTo>
                  <a:pt x="171" y="815"/>
                </a:lnTo>
                <a:lnTo>
                  <a:pt x="195" y="784"/>
                </a:lnTo>
                <a:lnTo>
                  <a:pt x="160" y="806"/>
                </a:lnTo>
                <a:lnTo>
                  <a:pt x="160" y="827"/>
                </a:lnTo>
                <a:lnTo>
                  <a:pt x="129" y="844"/>
                </a:lnTo>
                <a:lnTo>
                  <a:pt x="89" y="832"/>
                </a:lnTo>
                <a:lnTo>
                  <a:pt x="77" y="784"/>
                </a:lnTo>
                <a:lnTo>
                  <a:pt x="48" y="763"/>
                </a:lnTo>
                <a:lnTo>
                  <a:pt x="50" y="748"/>
                </a:lnTo>
                <a:lnTo>
                  <a:pt x="65" y="748"/>
                </a:lnTo>
                <a:lnTo>
                  <a:pt x="75" y="736"/>
                </a:lnTo>
                <a:lnTo>
                  <a:pt x="89" y="732"/>
                </a:lnTo>
                <a:lnTo>
                  <a:pt x="75" y="731"/>
                </a:lnTo>
                <a:lnTo>
                  <a:pt x="85" y="722"/>
                </a:lnTo>
                <a:lnTo>
                  <a:pt x="69" y="705"/>
                </a:lnTo>
                <a:lnTo>
                  <a:pt x="62" y="714"/>
                </a:lnTo>
                <a:lnTo>
                  <a:pt x="38" y="678"/>
                </a:lnTo>
                <a:lnTo>
                  <a:pt x="54" y="650"/>
                </a:lnTo>
                <a:lnTo>
                  <a:pt x="133" y="604"/>
                </a:lnTo>
                <a:lnTo>
                  <a:pt x="152" y="571"/>
                </a:lnTo>
                <a:lnTo>
                  <a:pt x="171" y="566"/>
                </a:lnTo>
                <a:lnTo>
                  <a:pt x="210" y="585"/>
                </a:lnTo>
                <a:lnTo>
                  <a:pt x="237" y="580"/>
                </a:lnTo>
                <a:lnTo>
                  <a:pt x="248" y="565"/>
                </a:lnTo>
                <a:lnTo>
                  <a:pt x="308" y="571"/>
                </a:lnTo>
                <a:lnTo>
                  <a:pt x="320" y="522"/>
                </a:lnTo>
                <a:lnTo>
                  <a:pt x="304" y="503"/>
                </a:lnTo>
                <a:lnTo>
                  <a:pt x="343" y="484"/>
                </a:lnTo>
                <a:lnTo>
                  <a:pt x="308" y="472"/>
                </a:lnTo>
                <a:lnTo>
                  <a:pt x="256" y="501"/>
                </a:lnTo>
                <a:lnTo>
                  <a:pt x="252" y="474"/>
                </a:lnTo>
                <a:lnTo>
                  <a:pt x="166" y="470"/>
                </a:lnTo>
                <a:lnTo>
                  <a:pt x="127" y="441"/>
                </a:lnTo>
                <a:lnTo>
                  <a:pt x="121" y="390"/>
                </a:lnTo>
                <a:lnTo>
                  <a:pt x="150" y="400"/>
                </a:lnTo>
                <a:lnTo>
                  <a:pt x="89" y="344"/>
                </a:lnTo>
                <a:lnTo>
                  <a:pt x="248" y="316"/>
                </a:lnTo>
                <a:lnTo>
                  <a:pt x="272" y="323"/>
                </a:lnTo>
                <a:lnTo>
                  <a:pt x="248" y="345"/>
                </a:lnTo>
                <a:lnTo>
                  <a:pt x="333" y="381"/>
                </a:lnTo>
                <a:lnTo>
                  <a:pt x="368" y="371"/>
                </a:lnTo>
                <a:lnTo>
                  <a:pt x="366" y="359"/>
                </a:lnTo>
                <a:lnTo>
                  <a:pt x="335" y="352"/>
                </a:lnTo>
                <a:lnTo>
                  <a:pt x="320" y="303"/>
                </a:lnTo>
                <a:lnTo>
                  <a:pt x="343" y="320"/>
                </a:lnTo>
                <a:lnTo>
                  <a:pt x="349" y="345"/>
                </a:lnTo>
                <a:lnTo>
                  <a:pt x="385" y="364"/>
                </a:lnTo>
                <a:lnTo>
                  <a:pt x="420" y="363"/>
                </a:lnTo>
                <a:lnTo>
                  <a:pt x="412" y="344"/>
                </a:lnTo>
                <a:lnTo>
                  <a:pt x="353" y="333"/>
                </a:lnTo>
                <a:lnTo>
                  <a:pt x="364" y="303"/>
                </a:lnTo>
                <a:lnTo>
                  <a:pt x="293" y="282"/>
                </a:lnTo>
                <a:lnTo>
                  <a:pt x="293" y="244"/>
                </a:lnTo>
                <a:lnTo>
                  <a:pt x="272" y="215"/>
                </a:lnTo>
                <a:lnTo>
                  <a:pt x="218" y="164"/>
                </a:lnTo>
                <a:lnTo>
                  <a:pt x="239" y="160"/>
                </a:lnTo>
                <a:lnTo>
                  <a:pt x="262" y="123"/>
                </a:lnTo>
                <a:lnTo>
                  <a:pt x="322" y="140"/>
                </a:lnTo>
                <a:lnTo>
                  <a:pt x="366" y="121"/>
                </a:lnTo>
                <a:lnTo>
                  <a:pt x="432" y="51"/>
                </a:lnTo>
                <a:lnTo>
                  <a:pt x="453" y="61"/>
                </a:lnTo>
                <a:lnTo>
                  <a:pt x="495" y="39"/>
                </a:lnTo>
                <a:lnTo>
                  <a:pt x="495" y="59"/>
                </a:lnTo>
                <a:lnTo>
                  <a:pt x="518" y="53"/>
                </a:lnTo>
                <a:lnTo>
                  <a:pt x="507" y="42"/>
                </a:lnTo>
                <a:lnTo>
                  <a:pt x="568" y="35"/>
                </a:lnTo>
                <a:lnTo>
                  <a:pt x="613" y="0"/>
                </a:lnTo>
                <a:lnTo>
                  <a:pt x="643" y="22"/>
                </a:lnTo>
                <a:lnTo>
                  <a:pt x="632" y="51"/>
                </a:lnTo>
                <a:lnTo>
                  <a:pt x="655" y="53"/>
                </a:lnTo>
                <a:lnTo>
                  <a:pt x="661" y="25"/>
                </a:lnTo>
                <a:lnTo>
                  <a:pt x="690" y="59"/>
                </a:lnTo>
                <a:lnTo>
                  <a:pt x="740" y="59"/>
                </a:lnTo>
                <a:lnTo>
                  <a:pt x="746" y="90"/>
                </a:lnTo>
                <a:lnTo>
                  <a:pt x="838" y="99"/>
                </a:lnTo>
                <a:lnTo>
                  <a:pt x="834" y="114"/>
                </a:lnTo>
                <a:lnTo>
                  <a:pt x="857" y="104"/>
                </a:lnTo>
                <a:lnTo>
                  <a:pt x="880" y="128"/>
                </a:lnTo>
                <a:lnTo>
                  <a:pt x="927" y="123"/>
                </a:lnTo>
                <a:lnTo>
                  <a:pt x="973" y="140"/>
                </a:lnTo>
                <a:lnTo>
                  <a:pt x="1017" y="123"/>
                </a:lnTo>
                <a:lnTo>
                  <a:pt x="1017" y="130"/>
                </a:lnTo>
                <a:lnTo>
                  <a:pt x="1033" y="126"/>
                </a:lnTo>
                <a:lnTo>
                  <a:pt x="1104" y="159"/>
                </a:lnTo>
                <a:lnTo>
                  <a:pt x="1162" y="890"/>
                </a:lnTo>
                <a:lnTo>
                  <a:pt x="1245" y="885"/>
                </a:lnTo>
                <a:lnTo>
                  <a:pt x="1243" y="905"/>
                </a:lnTo>
                <a:lnTo>
                  <a:pt x="1272" y="926"/>
                </a:lnTo>
                <a:lnTo>
                  <a:pt x="1322" y="962"/>
                </a:lnTo>
                <a:lnTo>
                  <a:pt x="1331" y="982"/>
                </a:lnTo>
                <a:lnTo>
                  <a:pt x="1372" y="958"/>
                </a:lnTo>
                <a:lnTo>
                  <a:pt x="1385" y="928"/>
                </a:lnTo>
                <a:lnTo>
                  <a:pt x="1410" y="916"/>
                </a:lnTo>
                <a:lnTo>
                  <a:pt x="1416" y="912"/>
                </a:lnTo>
                <a:lnTo>
                  <a:pt x="1443" y="928"/>
                </a:lnTo>
                <a:lnTo>
                  <a:pt x="1439" y="948"/>
                </a:lnTo>
                <a:lnTo>
                  <a:pt x="1460" y="950"/>
                </a:lnTo>
                <a:lnTo>
                  <a:pt x="1470" y="958"/>
                </a:lnTo>
                <a:lnTo>
                  <a:pt x="1478" y="972"/>
                </a:lnTo>
                <a:lnTo>
                  <a:pt x="1507" y="984"/>
                </a:lnTo>
                <a:lnTo>
                  <a:pt x="1630" y="1133"/>
                </a:lnTo>
                <a:lnTo>
                  <a:pt x="1670" y="1142"/>
                </a:lnTo>
                <a:lnTo>
                  <a:pt x="1732" y="1162"/>
                </a:lnTo>
                <a:lnTo>
                  <a:pt x="1740" y="1174"/>
                </a:lnTo>
                <a:lnTo>
                  <a:pt x="1722" y="1183"/>
                </a:lnTo>
                <a:lnTo>
                  <a:pt x="1730" y="1210"/>
                </a:lnTo>
                <a:lnTo>
                  <a:pt x="1719" y="1261"/>
                </a:lnTo>
                <a:lnTo>
                  <a:pt x="1711" y="1249"/>
                </a:lnTo>
                <a:lnTo>
                  <a:pt x="1699" y="1260"/>
                </a:lnTo>
                <a:lnTo>
                  <a:pt x="1684" y="1248"/>
                </a:lnTo>
                <a:lnTo>
                  <a:pt x="1703" y="1236"/>
                </a:lnTo>
                <a:lnTo>
                  <a:pt x="1688" y="1217"/>
                </a:lnTo>
                <a:lnTo>
                  <a:pt x="1688" y="1205"/>
                </a:lnTo>
                <a:lnTo>
                  <a:pt x="1670" y="1172"/>
                </a:lnTo>
                <a:lnTo>
                  <a:pt x="1659" y="1172"/>
                </a:lnTo>
                <a:lnTo>
                  <a:pt x="1638" y="1183"/>
                </a:lnTo>
                <a:lnTo>
                  <a:pt x="1634" y="1203"/>
                </a:lnTo>
                <a:lnTo>
                  <a:pt x="1615" y="1207"/>
                </a:lnTo>
                <a:lnTo>
                  <a:pt x="1615" y="1203"/>
                </a:lnTo>
                <a:lnTo>
                  <a:pt x="1626" y="1183"/>
                </a:lnTo>
                <a:lnTo>
                  <a:pt x="1630" y="1162"/>
                </a:lnTo>
                <a:lnTo>
                  <a:pt x="1618" y="1171"/>
                </a:lnTo>
                <a:lnTo>
                  <a:pt x="1615" y="1183"/>
                </a:lnTo>
                <a:lnTo>
                  <a:pt x="1566" y="1162"/>
                </a:lnTo>
                <a:lnTo>
                  <a:pt x="1570" y="1154"/>
                </a:lnTo>
                <a:lnTo>
                  <a:pt x="1593" y="1154"/>
                </a:lnTo>
                <a:lnTo>
                  <a:pt x="1595" y="1138"/>
                </a:lnTo>
                <a:lnTo>
                  <a:pt x="1615" y="1133"/>
                </a:lnTo>
                <a:lnTo>
                  <a:pt x="1611" y="1124"/>
                </a:lnTo>
                <a:lnTo>
                  <a:pt x="1588" y="1128"/>
                </a:lnTo>
                <a:lnTo>
                  <a:pt x="1580" y="1104"/>
                </a:lnTo>
                <a:lnTo>
                  <a:pt x="1536" y="1100"/>
                </a:lnTo>
                <a:lnTo>
                  <a:pt x="1520" y="1070"/>
                </a:lnTo>
                <a:lnTo>
                  <a:pt x="1536" y="1044"/>
                </a:lnTo>
                <a:lnTo>
                  <a:pt x="1520" y="1047"/>
                </a:lnTo>
                <a:lnTo>
                  <a:pt x="1512" y="1030"/>
                </a:lnTo>
                <a:lnTo>
                  <a:pt x="1503" y="1035"/>
                </a:lnTo>
                <a:lnTo>
                  <a:pt x="1493" y="1029"/>
                </a:lnTo>
                <a:lnTo>
                  <a:pt x="1507" y="1005"/>
                </a:lnTo>
                <a:lnTo>
                  <a:pt x="1497" y="1005"/>
                </a:lnTo>
                <a:lnTo>
                  <a:pt x="1493" y="1015"/>
                </a:lnTo>
                <a:lnTo>
                  <a:pt x="1478" y="1020"/>
                </a:lnTo>
                <a:lnTo>
                  <a:pt x="1460" y="1013"/>
                </a:lnTo>
                <a:lnTo>
                  <a:pt x="1457" y="993"/>
                </a:lnTo>
                <a:lnTo>
                  <a:pt x="1435" y="969"/>
                </a:lnTo>
                <a:lnTo>
                  <a:pt x="1435" y="952"/>
                </a:lnTo>
                <a:lnTo>
                  <a:pt x="1428" y="950"/>
                </a:lnTo>
                <a:lnTo>
                  <a:pt x="1424" y="931"/>
                </a:lnTo>
                <a:lnTo>
                  <a:pt x="1422" y="938"/>
                </a:lnTo>
                <a:lnTo>
                  <a:pt x="1432" y="982"/>
                </a:lnTo>
                <a:lnTo>
                  <a:pt x="1449" y="1013"/>
                </a:lnTo>
                <a:lnTo>
                  <a:pt x="1512" y="1054"/>
                </a:lnTo>
                <a:lnTo>
                  <a:pt x="1512" y="1063"/>
                </a:lnTo>
                <a:lnTo>
                  <a:pt x="1499" y="1063"/>
                </a:lnTo>
                <a:lnTo>
                  <a:pt x="1497" y="1070"/>
                </a:lnTo>
                <a:lnTo>
                  <a:pt x="1507" y="1068"/>
                </a:lnTo>
                <a:lnTo>
                  <a:pt x="1514" y="1097"/>
                </a:lnTo>
                <a:lnTo>
                  <a:pt x="1555" y="1114"/>
                </a:lnTo>
                <a:lnTo>
                  <a:pt x="1576" y="1143"/>
                </a:lnTo>
                <a:lnTo>
                  <a:pt x="1528" y="1152"/>
                </a:lnTo>
                <a:lnTo>
                  <a:pt x="1507" y="1205"/>
                </a:lnTo>
                <a:lnTo>
                  <a:pt x="1493" y="1121"/>
                </a:lnTo>
                <a:lnTo>
                  <a:pt x="1482" y="1112"/>
                </a:lnTo>
                <a:lnTo>
                  <a:pt x="1482" y="1097"/>
                </a:lnTo>
                <a:lnTo>
                  <a:pt x="1489" y="1092"/>
                </a:lnTo>
                <a:lnTo>
                  <a:pt x="1451" y="1027"/>
                </a:lnTo>
                <a:lnTo>
                  <a:pt x="1439" y="1023"/>
                </a:lnTo>
                <a:lnTo>
                  <a:pt x="1430" y="1013"/>
                </a:lnTo>
                <a:lnTo>
                  <a:pt x="1416" y="1013"/>
                </a:lnTo>
                <a:lnTo>
                  <a:pt x="1408" y="1008"/>
                </a:lnTo>
                <a:lnTo>
                  <a:pt x="1399" y="972"/>
                </a:lnTo>
                <a:lnTo>
                  <a:pt x="1393" y="989"/>
                </a:lnTo>
                <a:lnTo>
                  <a:pt x="1360" y="979"/>
                </a:lnTo>
                <a:lnTo>
                  <a:pt x="1353" y="984"/>
                </a:lnTo>
                <a:lnTo>
                  <a:pt x="1393" y="1005"/>
                </a:lnTo>
                <a:lnTo>
                  <a:pt x="1372" y="1011"/>
                </a:lnTo>
                <a:lnTo>
                  <a:pt x="1376" y="1029"/>
                </a:lnTo>
                <a:lnTo>
                  <a:pt x="1345" y="1017"/>
                </a:lnTo>
                <a:lnTo>
                  <a:pt x="1302" y="982"/>
                </a:lnTo>
                <a:lnTo>
                  <a:pt x="1239" y="958"/>
                </a:lnTo>
                <a:lnTo>
                  <a:pt x="1196" y="955"/>
                </a:lnTo>
                <a:lnTo>
                  <a:pt x="1225" y="921"/>
                </a:lnTo>
                <a:lnTo>
                  <a:pt x="1241" y="938"/>
                </a:lnTo>
                <a:lnTo>
                  <a:pt x="1243" y="921"/>
                </a:lnTo>
                <a:lnTo>
                  <a:pt x="1218" y="905"/>
                </a:lnTo>
                <a:lnTo>
                  <a:pt x="1200" y="934"/>
                </a:lnTo>
                <a:lnTo>
                  <a:pt x="1162" y="934"/>
                </a:lnTo>
                <a:lnTo>
                  <a:pt x="1006" y="921"/>
                </a:lnTo>
                <a:lnTo>
                  <a:pt x="1010" y="898"/>
                </a:lnTo>
                <a:lnTo>
                  <a:pt x="994" y="905"/>
                </a:lnTo>
                <a:lnTo>
                  <a:pt x="975" y="885"/>
                </a:lnTo>
                <a:lnTo>
                  <a:pt x="952" y="895"/>
                </a:lnTo>
                <a:lnTo>
                  <a:pt x="944" y="883"/>
                </a:lnTo>
                <a:lnTo>
                  <a:pt x="902" y="897"/>
                </a:lnTo>
                <a:lnTo>
                  <a:pt x="900" y="885"/>
                </a:lnTo>
                <a:lnTo>
                  <a:pt x="917" y="864"/>
                </a:lnTo>
                <a:lnTo>
                  <a:pt x="906" y="862"/>
                </a:lnTo>
                <a:lnTo>
                  <a:pt x="919" y="854"/>
                </a:lnTo>
                <a:lnTo>
                  <a:pt x="873" y="857"/>
                </a:lnTo>
                <a:lnTo>
                  <a:pt x="855" y="844"/>
                </a:lnTo>
                <a:lnTo>
                  <a:pt x="842" y="854"/>
                </a:lnTo>
                <a:lnTo>
                  <a:pt x="834" y="844"/>
                </a:lnTo>
                <a:lnTo>
                  <a:pt x="846" y="832"/>
                </a:lnTo>
                <a:lnTo>
                  <a:pt x="823" y="837"/>
                </a:lnTo>
                <a:lnTo>
                  <a:pt x="825" y="844"/>
                </a:lnTo>
                <a:lnTo>
                  <a:pt x="811" y="854"/>
                </a:lnTo>
                <a:lnTo>
                  <a:pt x="830" y="854"/>
                </a:lnTo>
                <a:lnTo>
                  <a:pt x="823" y="876"/>
                </a:lnTo>
                <a:lnTo>
                  <a:pt x="842" y="885"/>
                </a:lnTo>
                <a:lnTo>
                  <a:pt x="861" y="895"/>
                </a:lnTo>
                <a:lnTo>
                  <a:pt x="888" y="885"/>
                </a:lnTo>
                <a:lnTo>
                  <a:pt x="884" y="931"/>
                </a:lnTo>
                <a:lnTo>
                  <a:pt x="838" y="934"/>
                </a:lnTo>
                <a:lnTo>
                  <a:pt x="838" y="919"/>
                </a:lnTo>
                <a:lnTo>
                  <a:pt x="823" y="910"/>
                </a:lnTo>
                <a:lnTo>
                  <a:pt x="786" y="924"/>
                </a:lnTo>
                <a:lnTo>
                  <a:pt x="784" y="910"/>
                </a:lnTo>
                <a:lnTo>
                  <a:pt x="773" y="921"/>
                </a:lnTo>
                <a:lnTo>
                  <a:pt x="769" y="905"/>
                </a:lnTo>
                <a:lnTo>
                  <a:pt x="740" y="905"/>
                </a:lnTo>
                <a:lnTo>
                  <a:pt x="761" y="931"/>
                </a:lnTo>
                <a:lnTo>
                  <a:pt x="759" y="938"/>
                </a:lnTo>
                <a:lnTo>
                  <a:pt x="748" y="934"/>
                </a:lnTo>
                <a:lnTo>
                  <a:pt x="717" y="948"/>
                </a:lnTo>
                <a:lnTo>
                  <a:pt x="709" y="943"/>
                </a:lnTo>
                <a:lnTo>
                  <a:pt x="686" y="979"/>
                </a:lnTo>
                <a:lnTo>
                  <a:pt x="672" y="965"/>
                </a:lnTo>
                <a:lnTo>
                  <a:pt x="667" y="972"/>
                </a:lnTo>
                <a:lnTo>
                  <a:pt x="643" y="969"/>
                </a:lnTo>
                <a:lnTo>
                  <a:pt x="640" y="950"/>
                </a:lnTo>
                <a:lnTo>
                  <a:pt x="669" y="950"/>
                </a:lnTo>
                <a:lnTo>
                  <a:pt x="686" y="934"/>
                </a:lnTo>
                <a:lnTo>
                  <a:pt x="640" y="934"/>
                </a:lnTo>
                <a:lnTo>
                  <a:pt x="678" y="851"/>
                </a:lnTo>
                <a:lnTo>
                  <a:pt x="749" y="837"/>
                </a:lnTo>
                <a:lnTo>
                  <a:pt x="740" y="816"/>
                </a:lnTo>
                <a:lnTo>
                  <a:pt x="784" y="796"/>
                </a:lnTo>
                <a:lnTo>
                  <a:pt x="724" y="808"/>
                </a:lnTo>
                <a:lnTo>
                  <a:pt x="736" y="767"/>
                </a:lnTo>
                <a:lnTo>
                  <a:pt x="705" y="816"/>
                </a:lnTo>
                <a:lnTo>
                  <a:pt x="669" y="832"/>
                </a:lnTo>
                <a:lnTo>
                  <a:pt x="624" y="881"/>
                </a:lnTo>
                <a:lnTo>
                  <a:pt x="593" y="881"/>
                </a:lnTo>
                <a:lnTo>
                  <a:pt x="609" y="905"/>
                </a:lnTo>
                <a:lnTo>
                  <a:pt x="530" y="962"/>
                </a:lnTo>
                <a:lnTo>
                  <a:pt x="566" y="972"/>
                </a:lnTo>
                <a:lnTo>
                  <a:pt x="557" y="998"/>
                </a:lnTo>
                <a:lnTo>
                  <a:pt x="381" y="1112"/>
                </a:lnTo>
                <a:lnTo>
                  <a:pt x="254" y="1142"/>
                </a:lnTo>
                <a:lnTo>
                  <a:pt x="293" y="1155"/>
                </a:lnTo>
                <a:lnTo>
                  <a:pt x="216" y="1191"/>
                </a:lnTo>
                <a:lnTo>
                  <a:pt x="200" y="1174"/>
                </a:lnTo>
                <a:lnTo>
                  <a:pt x="148" y="1191"/>
                </a:lnTo>
                <a:lnTo>
                  <a:pt x="108" y="1191"/>
                </a:lnTo>
                <a:lnTo>
                  <a:pt x="108" y="1171"/>
                </a:lnTo>
                <a:lnTo>
                  <a:pt x="60" y="1212"/>
                </a:lnTo>
                <a:lnTo>
                  <a:pt x="44" y="1210"/>
                </a:lnTo>
                <a:lnTo>
                  <a:pt x="44" y="1190"/>
                </a:lnTo>
                <a:lnTo>
                  <a:pt x="35" y="1210"/>
                </a:lnTo>
                <a:lnTo>
                  <a:pt x="0" y="1205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2" name="Freeform 12"/>
          <p:cNvSpPr/>
          <p:nvPr/>
        </p:nvSpPr>
        <p:spPr>
          <a:xfrm>
            <a:off x="1622520" y="5664240"/>
            <a:ext cx="117360" cy="119160"/>
          </a:xfrm>
          <a:custGeom>
            <a:avLst/>
            <a:gdLst>
              <a:gd name="textAreaLeft" fmla="*/ 0 w 117360"/>
              <a:gd name="textAreaRight" fmla="*/ 117720 w 1173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72" h="149">
                <a:moveTo>
                  <a:pt x="0" y="149"/>
                </a:moveTo>
                <a:lnTo>
                  <a:pt x="47" y="110"/>
                </a:lnTo>
                <a:lnTo>
                  <a:pt x="16" y="60"/>
                </a:lnTo>
                <a:lnTo>
                  <a:pt x="62" y="74"/>
                </a:lnTo>
                <a:lnTo>
                  <a:pt x="131" y="0"/>
                </a:lnTo>
                <a:lnTo>
                  <a:pt x="172" y="9"/>
                </a:lnTo>
                <a:lnTo>
                  <a:pt x="135" y="81"/>
                </a:lnTo>
                <a:lnTo>
                  <a:pt x="0" y="14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3" name="Freeform 13"/>
          <p:cNvSpPr/>
          <p:nvPr/>
        </p:nvSpPr>
        <p:spPr>
          <a:xfrm>
            <a:off x="1622520" y="5664240"/>
            <a:ext cx="117360" cy="119160"/>
          </a:xfrm>
          <a:custGeom>
            <a:avLst/>
            <a:gdLst>
              <a:gd name="textAreaLeft" fmla="*/ 0 w 117360"/>
              <a:gd name="textAreaRight" fmla="*/ 117720 w 1173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72" h="149">
                <a:moveTo>
                  <a:pt x="0" y="149"/>
                </a:moveTo>
                <a:lnTo>
                  <a:pt x="47" y="110"/>
                </a:lnTo>
                <a:lnTo>
                  <a:pt x="16" y="60"/>
                </a:lnTo>
                <a:lnTo>
                  <a:pt x="62" y="74"/>
                </a:lnTo>
                <a:lnTo>
                  <a:pt x="131" y="0"/>
                </a:lnTo>
                <a:lnTo>
                  <a:pt x="172" y="9"/>
                </a:lnTo>
                <a:lnTo>
                  <a:pt x="135" y="81"/>
                </a:lnTo>
                <a:lnTo>
                  <a:pt x="0" y="14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4" name="Freeform 14"/>
          <p:cNvSpPr/>
          <p:nvPr/>
        </p:nvSpPr>
        <p:spPr>
          <a:xfrm>
            <a:off x="2254320" y="5657760"/>
            <a:ext cx="71280" cy="133560"/>
          </a:xfrm>
          <a:custGeom>
            <a:avLst/>
            <a:gdLst>
              <a:gd name="textAreaLeft" fmla="*/ 0 w 71280"/>
              <a:gd name="textAreaRight" fmla="*/ 71640 w 712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03" h="168">
                <a:moveTo>
                  <a:pt x="0" y="48"/>
                </a:moveTo>
                <a:lnTo>
                  <a:pt x="24" y="0"/>
                </a:lnTo>
                <a:lnTo>
                  <a:pt x="76" y="48"/>
                </a:lnTo>
                <a:lnTo>
                  <a:pt x="103" y="168"/>
                </a:lnTo>
                <a:lnTo>
                  <a:pt x="0" y="4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5" name="Freeform 15"/>
          <p:cNvSpPr/>
          <p:nvPr/>
        </p:nvSpPr>
        <p:spPr>
          <a:xfrm>
            <a:off x="2254320" y="5657760"/>
            <a:ext cx="71280" cy="133560"/>
          </a:xfrm>
          <a:custGeom>
            <a:avLst/>
            <a:gdLst>
              <a:gd name="textAreaLeft" fmla="*/ 0 w 71280"/>
              <a:gd name="textAreaRight" fmla="*/ 71640 w 712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03" h="168">
                <a:moveTo>
                  <a:pt x="0" y="48"/>
                </a:moveTo>
                <a:lnTo>
                  <a:pt x="24" y="0"/>
                </a:lnTo>
                <a:lnTo>
                  <a:pt x="76" y="48"/>
                </a:lnTo>
                <a:lnTo>
                  <a:pt x="103" y="168"/>
                </a:lnTo>
                <a:lnTo>
                  <a:pt x="0" y="4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6" name="Freeform 16"/>
          <p:cNvSpPr/>
          <p:nvPr/>
        </p:nvSpPr>
        <p:spPr>
          <a:xfrm>
            <a:off x="2362320" y="5791320"/>
            <a:ext cx="66600" cy="75960"/>
          </a:xfrm>
          <a:custGeom>
            <a:avLst/>
            <a:gdLst>
              <a:gd name="textAreaLeft" fmla="*/ 0 w 66600"/>
              <a:gd name="textAreaRight" fmla="*/ 66960 w 66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97" h="94">
                <a:moveTo>
                  <a:pt x="0" y="0"/>
                </a:moveTo>
                <a:lnTo>
                  <a:pt x="10" y="63"/>
                </a:lnTo>
                <a:lnTo>
                  <a:pt x="97" y="94"/>
                </a:lnTo>
                <a:lnTo>
                  <a:pt x="47" y="1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7" name="Freeform 17"/>
          <p:cNvSpPr/>
          <p:nvPr/>
        </p:nvSpPr>
        <p:spPr>
          <a:xfrm>
            <a:off x="2362320" y="5791320"/>
            <a:ext cx="66600" cy="75960"/>
          </a:xfrm>
          <a:custGeom>
            <a:avLst/>
            <a:gdLst>
              <a:gd name="textAreaLeft" fmla="*/ 0 w 66600"/>
              <a:gd name="textAreaRight" fmla="*/ 66960 w 66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97" h="94">
                <a:moveTo>
                  <a:pt x="0" y="0"/>
                </a:moveTo>
                <a:lnTo>
                  <a:pt x="10" y="63"/>
                </a:lnTo>
                <a:lnTo>
                  <a:pt x="97" y="94"/>
                </a:lnTo>
                <a:lnTo>
                  <a:pt x="47" y="1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8" name="Freeform 18"/>
          <p:cNvSpPr/>
          <p:nvPr/>
        </p:nvSpPr>
        <p:spPr>
          <a:xfrm>
            <a:off x="2438280" y="5791320"/>
            <a:ext cx="20880" cy="41040"/>
          </a:xfrm>
          <a:custGeom>
            <a:avLst/>
            <a:gdLst>
              <a:gd name="textAreaLeft" fmla="*/ 0 w 20880"/>
              <a:gd name="textAreaRight" fmla="*/ 20880 w 208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9" h="53">
                <a:moveTo>
                  <a:pt x="0" y="53"/>
                </a:moveTo>
                <a:lnTo>
                  <a:pt x="6" y="0"/>
                </a:lnTo>
                <a:lnTo>
                  <a:pt x="29" y="42"/>
                </a:lnTo>
                <a:lnTo>
                  <a:pt x="0" y="5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9" name="Freeform 19"/>
          <p:cNvSpPr/>
          <p:nvPr/>
        </p:nvSpPr>
        <p:spPr>
          <a:xfrm>
            <a:off x="2438280" y="5791320"/>
            <a:ext cx="20880" cy="41040"/>
          </a:xfrm>
          <a:custGeom>
            <a:avLst/>
            <a:gdLst>
              <a:gd name="textAreaLeft" fmla="*/ 0 w 20880"/>
              <a:gd name="textAreaRight" fmla="*/ 20880 w 208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9" h="53">
                <a:moveTo>
                  <a:pt x="0" y="53"/>
                </a:moveTo>
                <a:lnTo>
                  <a:pt x="6" y="0"/>
                </a:lnTo>
                <a:lnTo>
                  <a:pt x="29" y="42"/>
                </a:lnTo>
                <a:lnTo>
                  <a:pt x="0" y="5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0" name="Freeform 20"/>
          <p:cNvSpPr/>
          <p:nvPr/>
        </p:nvSpPr>
        <p:spPr>
          <a:xfrm>
            <a:off x="1681200" y="3944880"/>
            <a:ext cx="849240" cy="973080"/>
          </a:xfrm>
          <a:custGeom>
            <a:avLst/>
            <a:gdLst>
              <a:gd name="textAreaLeft" fmla="*/ 0 w 849240"/>
              <a:gd name="textAreaRight" fmla="*/ 849600 w 8492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229" h="1228">
                <a:moveTo>
                  <a:pt x="0" y="839"/>
                </a:moveTo>
                <a:lnTo>
                  <a:pt x="79" y="781"/>
                </a:lnTo>
                <a:lnTo>
                  <a:pt x="46" y="731"/>
                </a:lnTo>
                <a:lnTo>
                  <a:pt x="64" y="666"/>
                </a:lnTo>
                <a:lnTo>
                  <a:pt x="145" y="550"/>
                </a:lnTo>
                <a:lnTo>
                  <a:pt x="202" y="519"/>
                </a:lnTo>
                <a:lnTo>
                  <a:pt x="168" y="476"/>
                </a:lnTo>
                <a:lnTo>
                  <a:pt x="146" y="363"/>
                </a:lnTo>
                <a:lnTo>
                  <a:pt x="172" y="158"/>
                </a:lnTo>
                <a:lnTo>
                  <a:pt x="212" y="148"/>
                </a:lnTo>
                <a:lnTo>
                  <a:pt x="283" y="182"/>
                </a:lnTo>
                <a:lnTo>
                  <a:pt x="341" y="0"/>
                </a:lnTo>
                <a:lnTo>
                  <a:pt x="1229" y="130"/>
                </a:lnTo>
                <a:lnTo>
                  <a:pt x="1044" y="1228"/>
                </a:lnTo>
                <a:lnTo>
                  <a:pt x="773" y="1190"/>
                </a:lnTo>
                <a:lnTo>
                  <a:pt x="601" y="1149"/>
                </a:lnTo>
                <a:lnTo>
                  <a:pt x="252" y="973"/>
                </a:lnTo>
                <a:lnTo>
                  <a:pt x="0" y="83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1" name="Freeform 21"/>
          <p:cNvSpPr/>
          <p:nvPr/>
        </p:nvSpPr>
        <p:spPr>
          <a:xfrm>
            <a:off x="1681200" y="3944880"/>
            <a:ext cx="849240" cy="973080"/>
          </a:xfrm>
          <a:custGeom>
            <a:avLst/>
            <a:gdLst>
              <a:gd name="textAreaLeft" fmla="*/ 0 w 849240"/>
              <a:gd name="textAreaRight" fmla="*/ 849600 w 8492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229" h="1228">
                <a:moveTo>
                  <a:pt x="0" y="839"/>
                </a:moveTo>
                <a:lnTo>
                  <a:pt x="79" y="781"/>
                </a:lnTo>
                <a:lnTo>
                  <a:pt x="46" y="731"/>
                </a:lnTo>
                <a:lnTo>
                  <a:pt x="64" y="666"/>
                </a:lnTo>
                <a:lnTo>
                  <a:pt x="145" y="550"/>
                </a:lnTo>
                <a:lnTo>
                  <a:pt x="202" y="519"/>
                </a:lnTo>
                <a:lnTo>
                  <a:pt x="168" y="476"/>
                </a:lnTo>
                <a:lnTo>
                  <a:pt x="146" y="363"/>
                </a:lnTo>
                <a:lnTo>
                  <a:pt x="172" y="158"/>
                </a:lnTo>
                <a:lnTo>
                  <a:pt x="212" y="148"/>
                </a:lnTo>
                <a:lnTo>
                  <a:pt x="283" y="182"/>
                </a:lnTo>
                <a:lnTo>
                  <a:pt x="341" y="0"/>
                </a:lnTo>
                <a:lnTo>
                  <a:pt x="1229" y="130"/>
                </a:lnTo>
                <a:lnTo>
                  <a:pt x="1044" y="1228"/>
                </a:lnTo>
                <a:lnTo>
                  <a:pt x="773" y="1190"/>
                </a:lnTo>
                <a:lnTo>
                  <a:pt x="601" y="1149"/>
                </a:lnTo>
                <a:lnTo>
                  <a:pt x="252" y="973"/>
                </a:lnTo>
                <a:lnTo>
                  <a:pt x="0" y="83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2" name="Freeform 22"/>
          <p:cNvSpPr/>
          <p:nvPr/>
        </p:nvSpPr>
        <p:spPr>
          <a:xfrm>
            <a:off x="4316400" y="4222800"/>
            <a:ext cx="627120" cy="558720"/>
          </a:xfrm>
          <a:custGeom>
            <a:avLst/>
            <a:gdLst>
              <a:gd name="textAreaLeft" fmla="*/ 0 w 627120"/>
              <a:gd name="textAreaRight" fmla="*/ 627480 w 62712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907" h="706">
                <a:moveTo>
                  <a:pt x="0" y="24"/>
                </a:moveTo>
                <a:lnTo>
                  <a:pt x="36" y="242"/>
                </a:lnTo>
                <a:lnTo>
                  <a:pt x="29" y="581"/>
                </a:lnTo>
                <a:lnTo>
                  <a:pt x="48" y="601"/>
                </a:lnTo>
                <a:lnTo>
                  <a:pt x="113" y="600"/>
                </a:lnTo>
                <a:lnTo>
                  <a:pt x="115" y="706"/>
                </a:lnTo>
                <a:lnTo>
                  <a:pt x="655" y="699"/>
                </a:lnTo>
                <a:lnTo>
                  <a:pt x="643" y="591"/>
                </a:lnTo>
                <a:lnTo>
                  <a:pt x="691" y="476"/>
                </a:lnTo>
                <a:lnTo>
                  <a:pt x="757" y="392"/>
                </a:lnTo>
                <a:lnTo>
                  <a:pt x="753" y="372"/>
                </a:lnTo>
                <a:lnTo>
                  <a:pt x="805" y="300"/>
                </a:lnTo>
                <a:lnTo>
                  <a:pt x="828" y="220"/>
                </a:lnTo>
                <a:lnTo>
                  <a:pt x="821" y="213"/>
                </a:lnTo>
                <a:lnTo>
                  <a:pt x="865" y="182"/>
                </a:lnTo>
                <a:lnTo>
                  <a:pt x="907" y="110"/>
                </a:lnTo>
                <a:lnTo>
                  <a:pt x="894" y="96"/>
                </a:lnTo>
                <a:lnTo>
                  <a:pt x="772" y="101"/>
                </a:lnTo>
                <a:lnTo>
                  <a:pt x="805" y="60"/>
                </a:lnTo>
                <a:lnTo>
                  <a:pt x="794" y="0"/>
                </a:lnTo>
                <a:lnTo>
                  <a:pt x="0" y="2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3" name="Freeform 23"/>
          <p:cNvSpPr/>
          <p:nvPr/>
        </p:nvSpPr>
        <p:spPr>
          <a:xfrm>
            <a:off x="4316400" y="4222800"/>
            <a:ext cx="627120" cy="558720"/>
          </a:xfrm>
          <a:custGeom>
            <a:avLst/>
            <a:gdLst>
              <a:gd name="textAreaLeft" fmla="*/ 0 w 627120"/>
              <a:gd name="textAreaRight" fmla="*/ 627480 w 62712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907" h="706">
                <a:moveTo>
                  <a:pt x="0" y="24"/>
                </a:moveTo>
                <a:lnTo>
                  <a:pt x="36" y="242"/>
                </a:lnTo>
                <a:lnTo>
                  <a:pt x="29" y="581"/>
                </a:lnTo>
                <a:lnTo>
                  <a:pt x="48" y="601"/>
                </a:lnTo>
                <a:lnTo>
                  <a:pt x="113" y="600"/>
                </a:lnTo>
                <a:lnTo>
                  <a:pt x="115" y="706"/>
                </a:lnTo>
                <a:lnTo>
                  <a:pt x="655" y="699"/>
                </a:lnTo>
                <a:lnTo>
                  <a:pt x="643" y="591"/>
                </a:lnTo>
                <a:lnTo>
                  <a:pt x="691" y="476"/>
                </a:lnTo>
                <a:lnTo>
                  <a:pt x="757" y="392"/>
                </a:lnTo>
                <a:lnTo>
                  <a:pt x="753" y="372"/>
                </a:lnTo>
                <a:lnTo>
                  <a:pt x="805" y="300"/>
                </a:lnTo>
                <a:lnTo>
                  <a:pt x="828" y="220"/>
                </a:lnTo>
                <a:lnTo>
                  <a:pt x="821" y="213"/>
                </a:lnTo>
                <a:lnTo>
                  <a:pt x="865" y="182"/>
                </a:lnTo>
                <a:lnTo>
                  <a:pt x="907" y="110"/>
                </a:lnTo>
                <a:lnTo>
                  <a:pt x="894" y="96"/>
                </a:lnTo>
                <a:lnTo>
                  <a:pt x="772" y="101"/>
                </a:lnTo>
                <a:lnTo>
                  <a:pt x="805" y="60"/>
                </a:lnTo>
                <a:lnTo>
                  <a:pt x="794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4" name="Freeform 24"/>
          <p:cNvSpPr/>
          <p:nvPr/>
        </p:nvSpPr>
        <p:spPr>
          <a:xfrm>
            <a:off x="838080" y="2881440"/>
            <a:ext cx="982800" cy="1670040"/>
          </a:xfrm>
          <a:custGeom>
            <a:avLst/>
            <a:gdLst>
              <a:gd name="textAreaLeft" fmla="*/ 0 w 982800"/>
              <a:gd name="textAreaRight" fmla="*/ 983160 w 98280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1425" h="2108">
                <a:moveTo>
                  <a:pt x="30" y="382"/>
                </a:moveTo>
                <a:lnTo>
                  <a:pt x="48" y="428"/>
                </a:lnTo>
                <a:lnTo>
                  <a:pt x="7" y="593"/>
                </a:lnTo>
                <a:lnTo>
                  <a:pt x="34" y="641"/>
                </a:lnTo>
                <a:lnTo>
                  <a:pt x="146" y="858"/>
                </a:lnTo>
                <a:lnTo>
                  <a:pt x="158" y="855"/>
                </a:lnTo>
                <a:lnTo>
                  <a:pt x="163" y="805"/>
                </a:lnTo>
                <a:lnTo>
                  <a:pt x="183" y="798"/>
                </a:lnTo>
                <a:lnTo>
                  <a:pt x="202" y="810"/>
                </a:lnTo>
                <a:lnTo>
                  <a:pt x="167" y="838"/>
                </a:lnTo>
                <a:lnTo>
                  <a:pt x="183" y="855"/>
                </a:lnTo>
                <a:lnTo>
                  <a:pt x="210" y="947"/>
                </a:lnTo>
                <a:lnTo>
                  <a:pt x="192" y="942"/>
                </a:lnTo>
                <a:lnTo>
                  <a:pt x="152" y="906"/>
                </a:lnTo>
                <a:lnTo>
                  <a:pt x="163" y="870"/>
                </a:lnTo>
                <a:lnTo>
                  <a:pt x="144" y="874"/>
                </a:lnTo>
                <a:lnTo>
                  <a:pt x="121" y="911"/>
                </a:lnTo>
                <a:lnTo>
                  <a:pt x="131" y="997"/>
                </a:lnTo>
                <a:lnTo>
                  <a:pt x="152" y="1035"/>
                </a:lnTo>
                <a:lnTo>
                  <a:pt x="202" y="1069"/>
                </a:lnTo>
                <a:lnTo>
                  <a:pt x="188" y="1110"/>
                </a:lnTo>
                <a:lnTo>
                  <a:pt x="158" y="1118"/>
                </a:lnTo>
                <a:lnTo>
                  <a:pt x="152" y="1173"/>
                </a:lnTo>
                <a:lnTo>
                  <a:pt x="223" y="1298"/>
                </a:lnTo>
                <a:lnTo>
                  <a:pt x="279" y="1375"/>
                </a:lnTo>
                <a:lnTo>
                  <a:pt x="269" y="1422"/>
                </a:lnTo>
                <a:lnTo>
                  <a:pt x="304" y="1452"/>
                </a:lnTo>
                <a:lnTo>
                  <a:pt x="291" y="1481"/>
                </a:lnTo>
                <a:lnTo>
                  <a:pt x="267" y="1555"/>
                </a:lnTo>
                <a:lnTo>
                  <a:pt x="294" y="1582"/>
                </a:lnTo>
                <a:lnTo>
                  <a:pt x="468" y="1634"/>
                </a:lnTo>
                <a:lnTo>
                  <a:pt x="539" y="1718"/>
                </a:lnTo>
                <a:lnTo>
                  <a:pt x="622" y="1745"/>
                </a:lnTo>
                <a:lnTo>
                  <a:pt x="624" y="1795"/>
                </a:lnTo>
                <a:lnTo>
                  <a:pt x="680" y="1807"/>
                </a:lnTo>
                <a:lnTo>
                  <a:pt x="751" y="1894"/>
                </a:lnTo>
                <a:lnTo>
                  <a:pt x="791" y="1966"/>
                </a:lnTo>
                <a:lnTo>
                  <a:pt x="795" y="2079"/>
                </a:lnTo>
                <a:lnTo>
                  <a:pt x="1302" y="2108"/>
                </a:lnTo>
                <a:lnTo>
                  <a:pt x="1269" y="2058"/>
                </a:lnTo>
                <a:lnTo>
                  <a:pt x="1287" y="1993"/>
                </a:lnTo>
                <a:lnTo>
                  <a:pt x="1368" y="1877"/>
                </a:lnTo>
                <a:lnTo>
                  <a:pt x="1425" y="1846"/>
                </a:lnTo>
                <a:lnTo>
                  <a:pt x="1391" y="1803"/>
                </a:lnTo>
                <a:lnTo>
                  <a:pt x="1369" y="1690"/>
                </a:lnTo>
                <a:lnTo>
                  <a:pt x="691" y="814"/>
                </a:lnTo>
                <a:lnTo>
                  <a:pt x="641" y="726"/>
                </a:lnTo>
                <a:lnTo>
                  <a:pt x="811" y="165"/>
                </a:lnTo>
                <a:lnTo>
                  <a:pt x="134" y="0"/>
                </a:lnTo>
                <a:lnTo>
                  <a:pt x="117" y="35"/>
                </a:lnTo>
                <a:lnTo>
                  <a:pt x="121" y="107"/>
                </a:lnTo>
                <a:lnTo>
                  <a:pt x="0" y="281"/>
                </a:lnTo>
                <a:lnTo>
                  <a:pt x="30" y="38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5" name="Freeform 25"/>
          <p:cNvSpPr/>
          <p:nvPr/>
        </p:nvSpPr>
        <p:spPr>
          <a:xfrm>
            <a:off x="2538360" y="3429000"/>
            <a:ext cx="901800" cy="706320"/>
          </a:xfrm>
          <a:custGeom>
            <a:avLst/>
            <a:gdLst>
              <a:gd name="textAreaLeft" fmla="*/ 0 w 901800"/>
              <a:gd name="textAreaRight" fmla="*/ 902160 w 901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1312" h="893">
                <a:moveTo>
                  <a:pt x="0" y="780"/>
                </a:moveTo>
                <a:lnTo>
                  <a:pt x="129" y="0"/>
                </a:lnTo>
                <a:lnTo>
                  <a:pt x="973" y="84"/>
                </a:lnTo>
                <a:lnTo>
                  <a:pt x="1312" y="108"/>
                </a:lnTo>
                <a:lnTo>
                  <a:pt x="1299" y="304"/>
                </a:lnTo>
                <a:lnTo>
                  <a:pt x="1253" y="893"/>
                </a:lnTo>
                <a:lnTo>
                  <a:pt x="1081" y="882"/>
                </a:lnTo>
                <a:lnTo>
                  <a:pt x="542" y="840"/>
                </a:lnTo>
                <a:lnTo>
                  <a:pt x="0" y="7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6" name="Freeform 26"/>
          <p:cNvSpPr/>
          <p:nvPr/>
        </p:nvSpPr>
        <p:spPr>
          <a:xfrm>
            <a:off x="2530440" y="3429000"/>
            <a:ext cx="901800" cy="706320"/>
          </a:xfrm>
          <a:custGeom>
            <a:avLst/>
            <a:gdLst>
              <a:gd name="textAreaLeft" fmla="*/ 0 w 901800"/>
              <a:gd name="textAreaRight" fmla="*/ 902160 w 901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1312" h="893">
                <a:moveTo>
                  <a:pt x="0" y="780"/>
                </a:moveTo>
                <a:lnTo>
                  <a:pt x="129" y="0"/>
                </a:lnTo>
                <a:lnTo>
                  <a:pt x="973" y="84"/>
                </a:lnTo>
                <a:lnTo>
                  <a:pt x="1312" y="108"/>
                </a:lnTo>
                <a:lnTo>
                  <a:pt x="1299" y="304"/>
                </a:lnTo>
                <a:lnTo>
                  <a:pt x="1253" y="893"/>
                </a:lnTo>
                <a:lnTo>
                  <a:pt x="1081" y="882"/>
                </a:lnTo>
                <a:lnTo>
                  <a:pt x="542" y="840"/>
                </a:lnTo>
                <a:lnTo>
                  <a:pt x="0" y="78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7" name="Freeform 27"/>
          <p:cNvSpPr/>
          <p:nvPr/>
        </p:nvSpPr>
        <p:spPr>
          <a:xfrm>
            <a:off x="6732720" y="3046320"/>
            <a:ext cx="212760" cy="201600"/>
          </a:xfrm>
          <a:custGeom>
            <a:avLst/>
            <a:gdLst>
              <a:gd name="textAreaLeft" fmla="*/ 0 w 212760"/>
              <a:gd name="textAreaRight" fmla="*/ 213120 w 2127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308" h="251">
                <a:moveTo>
                  <a:pt x="0" y="49"/>
                </a:moveTo>
                <a:lnTo>
                  <a:pt x="25" y="181"/>
                </a:lnTo>
                <a:lnTo>
                  <a:pt x="25" y="251"/>
                </a:lnTo>
                <a:lnTo>
                  <a:pt x="48" y="246"/>
                </a:lnTo>
                <a:lnTo>
                  <a:pt x="63" y="226"/>
                </a:lnTo>
                <a:lnTo>
                  <a:pt x="106" y="208"/>
                </a:lnTo>
                <a:lnTo>
                  <a:pt x="127" y="176"/>
                </a:lnTo>
                <a:lnTo>
                  <a:pt x="140" y="181"/>
                </a:lnTo>
                <a:lnTo>
                  <a:pt x="175" y="169"/>
                </a:lnTo>
                <a:lnTo>
                  <a:pt x="223" y="162"/>
                </a:lnTo>
                <a:lnTo>
                  <a:pt x="223" y="149"/>
                </a:lnTo>
                <a:lnTo>
                  <a:pt x="237" y="159"/>
                </a:lnTo>
                <a:lnTo>
                  <a:pt x="252" y="145"/>
                </a:lnTo>
                <a:lnTo>
                  <a:pt x="277" y="138"/>
                </a:lnTo>
                <a:lnTo>
                  <a:pt x="308" y="128"/>
                </a:lnTo>
                <a:lnTo>
                  <a:pt x="279" y="0"/>
                </a:lnTo>
                <a:lnTo>
                  <a:pt x="0" y="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8" name="Freeform 28"/>
          <p:cNvSpPr/>
          <p:nvPr/>
        </p:nvSpPr>
        <p:spPr>
          <a:xfrm>
            <a:off x="6545160" y="3475080"/>
            <a:ext cx="130320" cy="216000"/>
          </a:xfrm>
          <a:custGeom>
            <a:avLst/>
            <a:gdLst>
              <a:gd name="textAreaLeft" fmla="*/ 0 w 130320"/>
              <a:gd name="textAreaRight" fmla="*/ 130680 w 13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89" h="268">
                <a:moveTo>
                  <a:pt x="0" y="27"/>
                </a:moveTo>
                <a:lnTo>
                  <a:pt x="25" y="0"/>
                </a:lnTo>
                <a:lnTo>
                  <a:pt x="61" y="0"/>
                </a:lnTo>
                <a:lnTo>
                  <a:pt x="48" y="29"/>
                </a:lnTo>
                <a:lnTo>
                  <a:pt x="40" y="37"/>
                </a:lnTo>
                <a:lnTo>
                  <a:pt x="48" y="68"/>
                </a:lnTo>
                <a:lnTo>
                  <a:pt x="65" y="89"/>
                </a:lnTo>
                <a:lnTo>
                  <a:pt x="92" y="111"/>
                </a:lnTo>
                <a:lnTo>
                  <a:pt x="102" y="140"/>
                </a:lnTo>
                <a:lnTo>
                  <a:pt x="119" y="166"/>
                </a:lnTo>
                <a:lnTo>
                  <a:pt x="139" y="179"/>
                </a:lnTo>
                <a:lnTo>
                  <a:pt x="169" y="188"/>
                </a:lnTo>
                <a:lnTo>
                  <a:pt x="183" y="212"/>
                </a:lnTo>
                <a:lnTo>
                  <a:pt x="158" y="234"/>
                </a:lnTo>
                <a:lnTo>
                  <a:pt x="183" y="229"/>
                </a:lnTo>
                <a:lnTo>
                  <a:pt x="189" y="250"/>
                </a:lnTo>
                <a:lnTo>
                  <a:pt x="140" y="260"/>
                </a:lnTo>
                <a:lnTo>
                  <a:pt x="75" y="268"/>
                </a:lnTo>
                <a:lnTo>
                  <a:pt x="71" y="251"/>
                </a:lnTo>
                <a:lnTo>
                  <a:pt x="0" y="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9" name="Freeform 29"/>
          <p:cNvSpPr/>
          <p:nvPr/>
        </p:nvSpPr>
        <p:spPr>
          <a:xfrm>
            <a:off x="6545160" y="3475080"/>
            <a:ext cx="130320" cy="216000"/>
          </a:xfrm>
          <a:custGeom>
            <a:avLst/>
            <a:gdLst>
              <a:gd name="textAreaLeft" fmla="*/ 0 w 130320"/>
              <a:gd name="textAreaRight" fmla="*/ 130680 w 13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89" h="268">
                <a:moveTo>
                  <a:pt x="0" y="27"/>
                </a:moveTo>
                <a:lnTo>
                  <a:pt x="25" y="0"/>
                </a:lnTo>
                <a:lnTo>
                  <a:pt x="61" y="0"/>
                </a:lnTo>
                <a:lnTo>
                  <a:pt x="48" y="29"/>
                </a:lnTo>
                <a:lnTo>
                  <a:pt x="40" y="37"/>
                </a:lnTo>
                <a:lnTo>
                  <a:pt x="48" y="68"/>
                </a:lnTo>
                <a:lnTo>
                  <a:pt x="65" y="89"/>
                </a:lnTo>
                <a:lnTo>
                  <a:pt x="92" y="111"/>
                </a:lnTo>
                <a:lnTo>
                  <a:pt x="102" y="140"/>
                </a:lnTo>
                <a:lnTo>
                  <a:pt x="119" y="166"/>
                </a:lnTo>
                <a:lnTo>
                  <a:pt x="139" y="179"/>
                </a:lnTo>
                <a:lnTo>
                  <a:pt x="169" y="188"/>
                </a:lnTo>
                <a:lnTo>
                  <a:pt x="183" y="212"/>
                </a:lnTo>
                <a:lnTo>
                  <a:pt x="158" y="234"/>
                </a:lnTo>
                <a:lnTo>
                  <a:pt x="183" y="229"/>
                </a:lnTo>
                <a:lnTo>
                  <a:pt x="189" y="250"/>
                </a:lnTo>
                <a:lnTo>
                  <a:pt x="140" y="260"/>
                </a:lnTo>
                <a:lnTo>
                  <a:pt x="75" y="268"/>
                </a:lnTo>
                <a:lnTo>
                  <a:pt x="71" y="251"/>
                </a:lnTo>
                <a:lnTo>
                  <a:pt x="0" y="27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0" name="Freeform 30"/>
          <p:cNvSpPr/>
          <p:nvPr/>
        </p:nvSpPr>
        <p:spPr>
          <a:xfrm>
            <a:off x="6413400" y="3643200"/>
            <a:ext cx="20880" cy="27000"/>
          </a:xfrm>
          <a:custGeom>
            <a:avLst/>
            <a:gdLst>
              <a:gd name="textAreaLeft" fmla="*/ 0 w 20880"/>
              <a:gd name="textAreaRight" fmla="*/ 20880 w 208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9" h="34">
                <a:moveTo>
                  <a:pt x="0" y="9"/>
                </a:moveTo>
                <a:lnTo>
                  <a:pt x="19" y="0"/>
                </a:lnTo>
                <a:lnTo>
                  <a:pt x="29" y="19"/>
                </a:lnTo>
                <a:lnTo>
                  <a:pt x="21" y="34"/>
                </a:lnTo>
                <a:lnTo>
                  <a:pt x="0" y="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1" name="Freeform 31"/>
          <p:cNvSpPr/>
          <p:nvPr/>
        </p:nvSpPr>
        <p:spPr>
          <a:xfrm>
            <a:off x="6413400" y="3643200"/>
            <a:ext cx="20880" cy="27000"/>
          </a:xfrm>
          <a:custGeom>
            <a:avLst/>
            <a:gdLst>
              <a:gd name="textAreaLeft" fmla="*/ 0 w 20880"/>
              <a:gd name="textAreaRight" fmla="*/ 20880 w 208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9" h="34">
                <a:moveTo>
                  <a:pt x="0" y="9"/>
                </a:moveTo>
                <a:lnTo>
                  <a:pt x="19" y="0"/>
                </a:lnTo>
                <a:lnTo>
                  <a:pt x="29" y="19"/>
                </a:lnTo>
                <a:lnTo>
                  <a:pt x="21" y="34"/>
                </a:lnTo>
                <a:lnTo>
                  <a:pt x="0" y="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2" name="Freeform 32"/>
          <p:cNvSpPr/>
          <p:nvPr/>
        </p:nvSpPr>
        <p:spPr>
          <a:xfrm>
            <a:off x="5261040" y="4997520"/>
            <a:ext cx="1130400" cy="8445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637" h="1065">
                <a:moveTo>
                  <a:pt x="4" y="70"/>
                </a:moveTo>
                <a:lnTo>
                  <a:pt x="0" y="99"/>
                </a:lnTo>
                <a:lnTo>
                  <a:pt x="50" y="139"/>
                </a:lnTo>
                <a:lnTo>
                  <a:pt x="38" y="163"/>
                </a:lnTo>
                <a:lnTo>
                  <a:pt x="54" y="178"/>
                </a:lnTo>
                <a:lnTo>
                  <a:pt x="34" y="204"/>
                </a:lnTo>
                <a:lnTo>
                  <a:pt x="73" y="192"/>
                </a:lnTo>
                <a:lnTo>
                  <a:pt x="90" y="171"/>
                </a:lnTo>
                <a:lnTo>
                  <a:pt x="90" y="151"/>
                </a:lnTo>
                <a:lnTo>
                  <a:pt x="108" y="163"/>
                </a:lnTo>
                <a:lnTo>
                  <a:pt x="123" y="144"/>
                </a:lnTo>
                <a:lnTo>
                  <a:pt x="136" y="163"/>
                </a:lnTo>
                <a:lnTo>
                  <a:pt x="98" y="187"/>
                </a:lnTo>
                <a:lnTo>
                  <a:pt x="206" y="164"/>
                </a:lnTo>
                <a:lnTo>
                  <a:pt x="227" y="146"/>
                </a:lnTo>
                <a:lnTo>
                  <a:pt x="241" y="154"/>
                </a:lnTo>
                <a:lnTo>
                  <a:pt x="281" y="144"/>
                </a:lnTo>
                <a:lnTo>
                  <a:pt x="300" y="156"/>
                </a:lnTo>
                <a:lnTo>
                  <a:pt x="227" y="163"/>
                </a:lnTo>
                <a:lnTo>
                  <a:pt x="250" y="170"/>
                </a:lnTo>
                <a:lnTo>
                  <a:pt x="331" y="185"/>
                </a:lnTo>
                <a:lnTo>
                  <a:pt x="381" y="209"/>
                </a:lnTo>
                <a:lnTo>
                  <a:pt x="366" y="176"/>
                </a:lnTo>
                <a:lnTo>
                  <a:pt x="393" y="202"/>
                </a:lnTo>
                <a:lnTo>
                  <a:pt x="427" y="205"/>
                </a:lnTo>
                <a:lnTo>
                  <a:pt x="397" y="214"/>
                </a:lnTo>
                <a:lnTo>
                  <a:pt x="452" y="240"/>
                </a:lnTo>
                <a:lnTo>
                  <a:pt x="472" y="260"/>
                </a:lnTo>
                <a:lnTo>
                  <a:pt x="472" y="283"/>
                </a:lnTo>
                <a:lnTo>
                  <a:pt x="451" y="255"/>
                </a:lnTo>
                <a:lnTo>
                  <a:pt x="462" y="291"/>
                </a:lnTo>
                <a:lnTo>
                  <a:pt x="506" y="277"/>
                </a:lnTo>
                <a:lnTo>
                  <a:pt x="533" y="276"/>
                </a:lnTo>
                <a:lnTo>
                  <a:pt x="555" y="260"/>
                </a:lnTo>
                <a:lnTo>
                  <a:pt x="562" y="271"/>
                </a:lnTo>
                <a:lnTo>
                  <a:pt x="620" y="231"/>
                </a:lnTo>
                <a:lnTo>
                  <a:pt x="659" y="229"/>
                </a:lnTo>
                <a:lnTo>
                  <a:pt x="645" y="217"/>
                </a:lnTo>
                <a:lnTo>
                  <a:pt x="670" y="187"/>
                </a:lnTo>
                <a:lnTo>
                  <a:pt x="728" y="185"/>
                </a:lnTo>
                <a:lnTo>
                  <a:pt x="788" y="211"/>
                </a:lnTo>
                <a:lnTo>
                  <a:pt x="824" y="248"/>
                </a:lnTo>
                <a:lnTo>
                  <a:pt x="853" y="255"/>
                </a:lnTo>
                <a:lnTo>
                  <a:pt x="861" y="283"/>
                </a:lnTo>
                <a:lnTo>
                  <a:pt x="899" y="300"/>
                </a:lnTo>
                <a:lnTo>
                  <a:pt x="915" y="320"/>
                </a:lnTo>
                <a:lnTo>
                  <a:pt x="934" y="337"/>
                </a:lnTo>
                <a:lnTo>
                  <a:pt x="986" y="341"/>
                </a:lnTo>
                <a:lnTo>
                  <a:pt x="1005" y="368"/>
                </a:lnTo>
                <a:lnTo>
                  <a:pt x="1034" y="426"/>
                </a:lnTo>
                <a:lnTo>
                  <a:pt x="1019" y="531"/>
                </a:lnTo>
                <a:lnTo>
                  <a:pt x="1023" y="596"/>
                </a:lnTo>
                <a:lnTo>
                  <a:pt x="1056" y="616"/>
                </a:lnTo>
                <a:lnTo>
                  <a:pt x="1061" y="584"/>
                </a:lnTo>
                <a:lnTo>
                  <a:pt x="1038" y="575"/>
                </a:lnTo>
                <a:lnTo>
                  <a:pt x="1044" y="553"/>
                </a:lnTo>
                <a:lnTo>
                  <a:pt x="1054" y="560"/>
                </a:lnTo>
                <a:lnTo>
                  <a:pt x="1077" y="565"/>
                </a:lnTo>
                <a:lnTo>
                  <a:pt x="1082" y="586"/>
                </a:lnTo>
                <a:lnTo>
                  <a:pt x="1098" y="562"/>
                </a:lnTo>
                <a:lnTo>
                  <a:pt x="1109" y="582"/>
                </a:lnTo>
                <a:lnTo>
                  <a:pt x="1065" y="652"/>
                </a:lnTo>
                <a:lnTo>
                  <a:pt x="1063" y="663"/>
                </a:lnTo>
                <a:lnTo>
                  <a:pt x="1092" y="675"/>
                </a:lnTo>
                <a:lnTo>
                  <a:pt x="1115" y="729"/>
                </a:lnTo>
                <a:lnTo>
                  <a:pt x="1146" y="757"/>
                </a:lnTo>
                <a:lnTo>
                  <a:pt x="1163" y="777"/>
                </a:lnTo>
                <a:lnTo>
                  <a:pt x="1188" y="777"/>
                </a:lnTo>
                <a:lnTo>
                  <a:pt x="1161" y="745"/>
                </a:lnTo>
                <a:lnTo>
                  <a:pt x="1183" y="750"/>
                </a:lnTo>
                <a:lnTo>
                  <a:pt x="1208" y="745"/>
                </a:lnTo>
                <a:lnTo>
                  <a:pt x="1196" y="757"/>
                </a:lnTo>
                <a:lnTo>
                  <a:pt x="1206" y="784"/>
                </a:lnTo>
                <a:lnTo>
                  <a:pt x="1217" y="824"/>
                </a:lnTo>
                <a:lnTo>
                  <a:pt x="1256" y="839"/>
                </a:lnTo>
                <a:lnTo>
                  <a:pt x="1266" y="863"/>
                </a:lnTo>
                <a:lnTo>
                  <a:pt x="1300" y="933"/>
                </a:lnTo>
                <a:lnTo>
                  <a:pt x="1345" y="933"/>
                </a:lnTo>
                <a:lnTo>
                  <a:pt x="1381" y="952"/>
                </a:lnTo>
                <a:lnTo>
                  <a:pt x="1439" y="1022"/>
                </a:lnTo>
                <a:lnTo>
                  <a:pt x="1489" y="1029"/>
                </a:lnTo>
                <a:lnTo>
                  <a:pt x="1491" y="1044"/>
                </a:lnTo>
                <a:lnTo>
                  <a:pt x="1477" y="1051"/>
                </a:lnTo>
                <a:lnTo>
                  <a:pt x="1439" y="1036"/>
                </a:lnTo>
                <a:lnTo>
                  <a:pt x="1454" y="1065"/>
                </a:lnTo>
                <a:lnTo>
                  <a:pt x="1501" y="1055"/>
                </a:lnTo>
                <a:lnTo>
                  <a:pt x="1541" y="1055"/>
                </a:lnTo>
                <a:lnTo>
                  <a:pt x="1558" y="1036"/>
                </a:lnTo>
                <a:lnTo>
                  <a:pt x="1593" y="1034"/>
                </a:lnTo>
                <a:lnTo>
                  <a:pt x="1610" y="1002"/>
                </a:lnTo>
                <a:lnTo>
                  <a:pt x="1605" y="961"/>
                </a:lnTo>
                <a:lnTo>
                  <a:pt x="1622" y="913"/>
                </a:lnTo>
                <a:lnTo>
                  <a:pt x="1637" y="916"/>
                </a:lnTo>
                <a:lnTo>
                  <a:pt x="1622" y="745"/>
                </a:lnTo>
                <a:lnTo>
                  <a:pt x="1605" y="695"/>
                </a:lnTo>
                <a:lnTo>
                  <a:pt x="1427" y="447"/>
                </a:lnTo>
                <a:lnTo>
                  <a:pt x="1385" y="366"/>
                </a:lnTo>
                <a:lnTo>
                  <a:pt x="1404" y="366"/>
                </a:lnTo>
                <a:lnTo>
                  <a:pt x="1289" y="209"/>
                </a:lnTo>
                <a:lnTo>
                  <a:pt x="1208" y="43"/>
                </a:lnTo>
                <a:lnTo>
                  <a:pt x="1206" y="14"/>
                </a:lnTo>
                <a:lnTo>
                  <a:pt x="1183" y="10"/>
                </a:lnTo>
                <a:lnTo>
                  <a:pt x="1106" y="0"/>
                </a:lnTo>
                <a:lnTo>
                  <a:pt x="1084" y="21"/>
                </a:lnTo>
                <a:lnTo>
                  <a:pt x="1100" y="92"/>
                </a:lnTo>
                <a:lnTo>
                  <a:pt x="1065" y="91"/>
                </a:lnTo>
                <a:lnTo>
                  <a:pt x="1061" y="57"/>
                </a:lnTo>
                <a:lnTo>
                  <a:pt x="541" y="84"/>
                </a:lnTo>
                <a:lnTo>
                  <a:pt x="506" y="33"/>
                </a:lnTo>
                <a:lnTo>
                  <a:pt x="4" y="70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3" name="Freeform 33"/>
          <p:cNvSpPr/>
          <p:nvPr/>
        </p:nvSpPr>
        <p:spPr>
          <a:xfrm>
            <a:off x="5261040" y="4997520"/>
            <a:ext cx="1130400" cy="8445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637" h="1065">
                <a:moveTo>
                  <a:pt x="4" y="70"/>
                </a:moveTo>
                <a:lnTo>
                  <a:pt x="0" y="99"/>
                </a:lnTo>
                <a:lnTo>
                  <a:pt x="50" y="139"/>
                </a:lnTo>
                <a:lnTo>
                  <a:pt x="38" y="163"/>
                </a:lnTo>
                <a:lnTo>
                  <a:pt x="54" y="178"/>
                </a:lnTo>
                <a:lnTo>
                  <a:pt x="34" y="204"/>
                </a:lnTo>
                <a:lnTo>
                  <a:pt x="73" y="192"/>
                </a:lnTo>
                <a:lnTo>
                  <a:pt x="90" y="171"/>
                </a:lnTo>
                <a:lnTo>
                  <a:pt x="90" y="151"/>
                </a:lnTo>
                <a:lnTo>
                  <a:pt x="108" y="163"/>
                </a:lnTo>
                <a:lnTo>
                  <a:pt x="123" y="144"/>
                </a:lnTo>
                <a:lnTo>
                  <a:pt x="136" y="163"/>
                </a:lnTo>
                <a:lnTo>
                  <a:pt x="98" y="187"/>
                </a:lnTo>
                <a:lnTo>
                  <a:pt x="206" y="164"/>
                </a:lnTo>
                <a:lnTo>
                  <a:pt x="227" y="146"/>
                </a:lnTo>
                <a:lnTo>
                  <a:pt x="241" y="154"/>
                </a:lnTo>
                <a:lnTo>
                  <a:pt x="281" y="144"/>
                </a:lnTo>
                <a:lnTo>
                  <a:pt x="300" y="156"/>
                </a:lnTo>
                <a:lnTo>
                  <a:pt x="227" y="163"/>
                </a:lnTo>
                <a:lnTo>
                  <a:pt x="250" y="170"/>
                </a:lnTo>
                <a:lnTo>
                  <a:pt x="331" y="185"/>
                </a:lnTo>
                <a:lnTo>
                  <a:pt x="381" y="209"/>
                </a:lnTo>
                <a:lnTo>
                  <a:pt x="366" y="176"/>
                </a:lnTo>
                <a:lnTo>
                  <a:pt x="393" y="202"/>
                </a:lnTo>
                <a:lnTo>
                  <a:pt x="427" y="205"/>
                </a:lnTo>
                <a:lnTo>
                  <a:pt x="397" y="214"/>
                </a:lnTo>
                <a:lnTo>
                  <a:pt x="452" y="240"/>
                </a:lnTo>
                <a:lnTo>
                  <a:pt x="472" y="260"/>
                </a:lnTo>
                <a:lnTo>
                  <a:pt x="472" y="283"/>
                </a:lnTo>
                <a:lnTo>
                  <a:pt x="451" y="255"/>
                </a:lnTo>
                <a:lnTo>
                  <a:pt x="462" y="291"/>
                </a:lnTo>
                <a:lnTo>
                  <a:pt x="506" y="277"/>
                </a:lnTo>
                <a:lnTo>
                  <a:pt x="533" y="276"/>
                </a:lnTo>
                <a:lnTo>
                  <a:pt x="555" y="260"/>
                </a:lnTo>
                <a:lnTo>
                  <a:pt x="562" y="271"/>
                </a:lnTo>
                <a:lnTo>
                  <a:pt x="620" y="231"/>
                </a:lnTo>
                <a:lnTo>
                  <a:pt x="659" y="229"/>
                </a:lnTo>
                <a:lnTo>
                  <a:pt x="645" y="217"/>
                </a:lnTo>
                <a:lnTo>
                  <a:pt x="670" y="187"/>
                </a:lnTo>
                <a:lnTo>
                  <a:pt x="728" y="185"/>
                </a:lnTo>
                <a:lnTo>
                  <a:pt x="788" y="211"/>
                </a:lnTo>
                <a:lnTo>
                  <a:pt x="824" y="248"/>
                </a:lnTo>
                <a:lnTo>
                  <a:pt x="853" y="255"/>
                </a:lnTo>
                <a:lnTo>
                  <a:pt x="861" y="283"/>
                </a:lnTo>
                <a:lnTo>
                  <a:pt x="899" y="300"/>
                </a:lnTo>
                <a:lnTo>
                  <a:pt x="915" y="320"/>
                </a:lnTo>
                <a:lnTo>
                  <a:pt x="934" y="337"/>
                </a:lnTo>
                <a:lnTo>
                  <a:pt x="986" y="341"/>
                </a:lnTo>
                <a:lnTo>
                  <a:pt x="1005" y="368"/>
                </a:lnTo>
                <a:lnTo>
                  <a:pt x="1034" y="426"/>
                </a:lnTo>
                <a:lnTo>
                  <a:pt x="1019" y="531"/>
                </a:lnTo>
                <a:lnTo>
                  <a:pt x="1023" y="596"/>
                </a:lnTo>
                <a:lnTo>
                  <a:pt x="1056" y="616"/>
                </a:lnTo>
                <a:lnTo>
                  <a:pt x="1061" y="584"/>
                </a:lnTo>
                <a:lnTo>
                  <a:pt x="1038" y="575"/>
                </a:lnTo>
                <a:lnTo>
                  <a:pt x="1044" y="553"/>
                </a:lnTo>
                <a:lnTo>
                  <a:pt x="1054" y="560"/>
                </a:lnTo>
                <a:lnTo>
                  <a:pt x="1077" y="565"/>
                </a:lnTo>
                <a:lnTo>
                  <a:pt x="1082" y="586"/>
                </a:lnTo>
                <a:lnTo>
                  <a:pt x="1098" y="562"/>
                </a:lnTo>
                <a:lnTo>
                  <a:pt x="1109" y="582"/>
                </a:lnTo>
                <a:lnTo>
                  <a:pt x="1065" y="652"/>
                </a:lnTo>
                <a:lnTo>
                  <a:pt x="1063" y="663"/>
                </a:lnTo>
                <a:lnTo>
                  <a:pt x="1092" y="675"/>
                </a:lnTo>
                <a:lnTo>
                  <a:pt x="1115" y="729"/>
                </a:lnTo>
                <a:lnTo>
                  <a:pt x="1146" y="757"/>
                </a:lnTo>
                <a:lnTo>
                  <a:pt x="1163" y="777"/>
                </a:lnTo>
                <a:lnTo>
                  <a:pt x="1188" y="777"/>
                </a:lnTo>
                <a:lnTo>
                  <a:pt x="1161" y="745"/>
                </a:lnTo>
                <a:lnTo>
                  <a:pt x="1183" y="750"/>
                </a:lnTo>
                <a:lnTo>
                  <a:pt x="1208" y="745"/>
                </a:lnTo>
                <a:lnTo>
                  <a:pt x="1196" y="757"/>
                </a:lnTo>
                <a:lnTo>
                  <a:pt x="1206" y="784"/>
                </a:lnTo>
                <a:lnTo>
                  <a:pt x="1217" y="824"/>
                </a:lnTo>
                <a:lnTo>
                  <a:pt x="1256" y="839"/>
                </a:lnTo>
                <a:lnTo>
                  <a:pt x="1266" y="863"/>
                </a:lnTo>
                <a:lnTo>
                  <a:pt x="1300" y="933"/>
                </a:lnTo>
                <a:lnTo>
                  <a:pt x="1345" y="933"/>
                </a:lnTo>
                <a:lnTo>
                  <a:pt x="1381" y="952"/>
                </a:lnTo>
                <a:lnTo>
                  <a:pt x="1439" y="1022"/>
                </a:lnTo>
                <a:lnTo>
                  <a:pt x="1489" y="1029"/>
                </a:lnTo>
                <a:lnTo>
                  <a:pt x="1491" y="1044"/>
                </a:lnTo>
                <a:lnTo>
                  <a:pt x="1477" y="1051"/>
                </a:lnTo>
                <a:lnTo>
                  <a:pt x="1439" y="1036"/>
                </a:lnTo>
                <a:lnTo>
                  <a:pt x="1454" y="1065"/>
                </a:lnTo>
                <a:lnTo>
                  <a:pt x="1501" y="1055"/>
                </a:lnTo>
                <a:lnTo>
                  <a:pt x="1541" y="1055"/>
                </a:lnTo>
                <a:lnTo>
                  <a:pt x="1558" y="1036"/>
                </a:lnTo>
                <a:lnTo>
                  <a:pt x="1593" y="1034"/>
                </a:lnTo>
                <a:lnTo>
                  <a:pt x="1610" y="1002"/>
                </a:lnTo>
                <a:lnTo>
                  <a:pt x="1605" y="961"/>
                </a:lnTo>
                <a:lnTo>
                  <a:pt x="1622" y="913"/>
                </a:lnTo>
                <a:lnTo>
                  <a:pt x="1637" y="916"/>
                </a:lnTo>
                <a:lnTo>
                  <a:pt x="1622" y="745"/>
                </a:lnTo>
                <a:lnTo>
                  <a:pt x="1605" y="695"/>
                </a:lnTo>
                <a:lnTo>
                  <a:pt x="1427" y="447"/>
                </a:lnTo>
                <a:lnTo>
                  <a:pt x="1385" y="366"/>
                </a:lnTo>
                <a:lnTo>
                  <a:pt x="1404" y="366"/>
                </a:lnTo>
                <a:lnTo>
                  <a:pt x="1289" y="209"/>
                </a:lnTo>
                <a:lnTo>
                  <a:pt x="1208" y="43"/>
                </a:lnTo>
                <a:lnTo>
                  <a:pt x="1206" y="14"/>
                </a:lnTo>
                <a:lnTo>
                  <a:pt x="1183" y="10"/>
                </a:lnTo>
                <a:lnTo>
                  <a:pt x="1106" y="0"/>
                </a:lnTo>
                <a:lnTo>
                  <a:pt x="1084" y="21"/>
                </a:lnTo>
                <a:lnTo>
                  <a:pt x="1100" y="92"/>
                </a:lnTo>
                <a:lnTo>
                  <a:pt x="1065" y="91"/>
                </a:lnTo>
                <a:lnTo>
                  <a:pt x="1061" y="57"/>
                </a:lnTo>
                <a:lnTo>
                  <a:pt x="541" y="84"/>
                </a:lnTo>
                <a:lnTo>
                  <a:pt x="506" y="33"/>
                </a:lnTo>
                <a:lnTo>
                  <a:pt x="4" y="70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4" name="Freeform 34"/>
          <p:cNvSpPr/>
          <p:nvPr/>
        </p:nvSpPr>
        <p:spPr>
          <a:xfrm>
            <a:off x="6192720" y="5905440"/>
            <a:ext cx="60480" cy="38160"/>
          </a:xfrm>
          <a:custGeom>
            <a:avLst/>
            <a:gdLst>
              <a:gd name="textAreaLeft" fmla="*/ 0 w 60480"/>
              <a:gd name="textAreaRight" fmla="*/ 60840 w 60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85" h="48">
                <a:moveTo>
                  <a:pt x="0" y="48"/>
                </a:moveTo>
                <a:lnTo>
                  <a:pt x="8" y="23"/>
                </a:lnTo>
                <a:lnTo>
                  <a:pt x="35" y="19"/>
                </a:lnTo>
                <a:lnTo>
                  <a:pt x="39" y="0"/>
                </a:lnTo>
                <a:lnTo>
                  <a:pt x="85" y="21"/>
                </a:lnTo>
                <a:lnTo>
                  <a:pt x="41" y="35"/>
                </a:lnTo>
                <a:lnTo>
                  <a:pt x="18" y="28"/>
                </a:lnTo>
                <a:lnTo>
                  <a:pt x="23" y="42"/>
                </a:lnTo>
                <a:lnTo>
                  <a:pt x="0" y="4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5" name="Freeform 35"/>
          <p:cNvSpPr/>
          <p:nvPr/>
        </p:nvSpPr>
        <p:spPr>
          <a:xfrm>
            <a:off x="6192720" y="5905440"/>
            <a:ext cx="60480" cy="38160"/>
          </a:xfrm>
          <a:custGeom>
            <a:avLst/>
            <a:gdLst>
              <a:gd name="textAreaLeft" fmla="*/ 0 w 60480"/>
              <a:gd name="textAreaRight" fmla="*/ 60840 w 60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85" h="48">
                <a:moveTo>
                  <a:pt x="0" y="48"/>
                </a:moveTo>
                <a:lnTo>
                  <a:pt x="8" y="23"/>
                </a:lnTo>
                <a:lnTo>
                  <a:pt x="35" y="19"/>
                </a:lnTo>
                <a:lnTo>
                  <a:pt x="39" y="0"/>
                </a:lnTo>
                <a:lnTo>
                  <a:pt x="85" y="21"/>
                </a:lnTo>
                <a:lnTo>
                  <a:pt x="41" y="35"/>
                </a:lnTo>
                <a:lnTo>
                  <a:pt x="18" y="28"/>
                </a:lnTo>
                <a:lnTo>
                  <a:pt x="23" y="42"/>
                </a:lnTo>
                <a:lnTo>
                  <a:pt x="0" y="4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6" name="Freeform 36"/>
          <p:cNvSpPr/>
          <p:nvPr/>
        </p:nvSpPr>
        <p:spPr>
          <a:xfrm>
            <a:off x="6273720" y="5881680"/>
            <a:ext cx="47880" cy="30240"/>
          </a:xfrm>
          <a:custGeom>
            <a:avLst/>
            <a:gdLst>
              <a:gd name="textAreaLeft" fmla="*/ 0 w 47880"/>
              <a:gd name="textAreaRight" fmla="*/ 48240 w 47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7" h="38">
                <a:moveTo>
                  <a:pt x="0" y="36"/>
                </a:moveTo>
                <a:lnTo>
                  <a:pt x="9" y="38"/>
                </a:lnTo>
                <a:lnTo>
                  <a:pt x="67" y="0"/>
                </a:lnTo>
                <a:lnTo>
                  <a:pt x="17" y="28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7" name="Freeform 37"/>
          <p:cNvSpPr/>
          <p:nvPr/>
        </p:nvSpPr>
        <p:spPr>
          <a:xfrm>
            <a:off x="6273720" y="5881680"/>
            <a:ext cx="47880" cy="30240"/>
          </a:xfrm>
          <a:custGeom>
            <a:avLst/>
            <a:gdLst>
              <a:gd name="textAreaLeft" fmla="*/ 0 w 47880"/>
              <a:gd name="textAreaRight" fmla="*/ 48240 w 47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7" h="38">
                <a:moveTo>
                  <a:pt x="0" y="36"/>
                </a:moveTo>
                <a:lnTo>
                  <a:pt x="9" y="38"/>
                </a:lnTo>
                <a:lnTo>
                  <a:pt x="67" y="0"/>
                </a:lnTo>
                <a:lnTo>
                  <a:pt x="17" y="28"/>
                </a:lnTo>
                <a:lnTo>
                  <a:pt x="0" y="3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8" name="Freeform 40"/>
          <p:cNvSpPr/>
          <p:nvPr/>
        </p:nvSpPr>
        <p:spPr>
          <a:xfrm>
            <a:off x="5464080" y="4378320"/>
            <a:ext cx="676440" cy="692280"/>
          </a:xfrm>
          <a:custGeom>
            <a:avLst/>
            <a:gdLst>
              <a:gd name="textAreaLeft" fmla="*/ 0 w 676440"/>
              <a:gd name="textAreaRight" fmla="*/ 676800 w 676440"/>
              <a:gd name="textAreaTop" fmla="*/ 0 h 692280"/>
              <a:gd name="textAreaBottom" fmla="*/ 692280 h 692280"/>
            </a:gdLst>
            <a:ahLst/>
            <a:rect l="textAreaLeft" t="textAreaTop" r="textAreaRight" b="textAreaBottom"/>
            <a:pathLst>
              <a:path w="979" h="874">
                <a:moveTo>
                  <a:pt x="0" y="46"/>
                </a:moveTo>
                <a:lnTo>
                  <a:pt x="129" y="453"/>
                </a:lnTo>
                <a:lnTo>
                  <a:pt x="176" y="518"/>
                </a:lnTo>
                <a:lnTo>
                  <a:pt x="193" y="571"/>
                </a:lnTo>
                <a:lnTo>
                  <a:pt x="174" y="606"/>
                </a:lnTo>
                <a:lnTo>
                  <a:pt x="166" y="660"/>
                </a:lnTo>
                <a:lnTo>
                  <a:pt x="210" y="815"/>
                </a:lnTo>
                <a:lnTo>
                  <a:pt x="245" y="866"/>
                </a:lnTo>
                <a:lnTo>
                  <a:pt x="765" y="839"/>
                </a:lnTo>
                <a:lnTo>
                  <a:pt x="769" y="873"/>
                </a:lnTo>
                <a:lnTo>
                  <a:pt x="804" y="874"/>
                </a:lnTo>
                <a:lnTo>
                  <a:pt x="788" y="803"/>
                </a:lnTo>
                <a:lnTo>
                  <a:pt x="810" y="782"/>
                </a:lnTo>
                <a:lnTo>
                  <a:pt x="887" y="792"/>
                </a:lnTo>
                <a:lnTo>
                  <a:pt x="898" y="744"/>
                </a:lnTo>
                <a:lnTo>
                  <a:pt x="887" y="738"/>
                </a:lnTo>
                <a:lnTo>
                  <a:pt x="906" y="726"/>
                </a:lnTo>
                <a:lnTo>
                  <a:pt x="875" y="714"/>
                </a:lnTo>
                <a:lnTo>
                  <a:pt x="891" y="696"/>
                </a:lnTo>
                <a:lnTo>
                  <a:pt x="887" y="672"/>
                </a:lnTo>
                <a:lnTo>
                  <a:pt x="921" y="652"/>
                </a:lnTo>
                <a:lnTo>
                  <a:pt x="910" y="626"/>
                </a:lnTo>
                <a:lnTo>
                  <a:pt x="925" y="619"/>
                </a:lnTo>
                <a:lnTo>
                  <a:pt x="935" y="595"/>
                </a:lnTo>
                <a:lnTo>
                  <a:pt x="921" y="589"/>
                </a:lnTo>
                <a:lnTo>
                  <a:pt x="948" y="571"/>
                </a:lnTo>
                <a:lnTo>
                  <a:pt x="933" y="554"/>
                </a:lnTo>
                <a:lnTo>
                  <a:pt x="956" y="554"/>
                </a:lnTo>
                <a:lnTo>
                  <a:pt x="979" y="530"/>
                </a:lnTo>
                <a:lnTo>
                  <a:pt x="970" y="518"/>
                </a:lnTo>
                <a:lnTo>
                  <a:pt x="937" y="515"/>
                </a:lnTo>
                <a:lnTo>
                  <a:pt x="914" y="489"/>
                </a:lnTo>
                <a:lnTo>
                  <a:pt x="875" y="431"/>
                </a:lnTo>
                <a:lnTo>
                  <a:pt x="854" y="424"/>
                </a:lnTo>
                <a:lnTo>
                  <a:pt x="808" y="344"/>
                </a:lnTo>
                <a:lnTo>
                  <a:pt x="746" y="311"/>
                </a:lnTo>
                <a:lnTo>
                  <a:pt x="702" y="256"/>
                </a:lnTo>
                <a:lnTo>
                  <a:pt x="594" y="186"/>
                </a:lnTo>
                <a:lnTo>
                  <a:pt x="538" y="125"/>
                </a:lnTo>
                <a:lnTo>
                  <a:pt x="420" y="61"/>
                </a:lnTo>
                <a:lnTo>
                  <a:pt x="457" y="0"/>
                </a:lnTo>
                <a:lnTo>
                  <a:pt x="235" y="20"/>
                </a:lnTo>
                <a:lnTo>
                  <a:pt x="0" y="4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9" name="Freeform 41"/>
          <p:cNvSpPr/>
          <p:nvPr/>
        </p:nvSpPr>
        <p:spPr>
          <a:xfrm>
            <a:off x="5464080" y="4378320"/>
            <a:ext cx="676440" cy="692280"/>
          </a:xfrm>
          <a:custGeom>
            <a:avLst/>
            <a:gdLst>
              <a:gd name="textAreaLeft" fmla="*/ 0 w 676440"/>
              <a:gd name="textAreaRight" fmla="*/ 676800 w 676440"/>
              <a:gd name="textAreaTop" fmla="*/ 0 h 692280"/>
              <a:gd name="textAreaBottom" fmla="*/ 692280 h 692280"/>
            </a:gdLst>
            <a:ahLst/>
            <a:rect l="textAreaLeft" t="textAreaTop" r="textAreaRight" b="textAreaBottom"/>
            <a:pathLst>
              <a:path w="979" h="874">
                <a:moveTo>
                  <a:pt x="0" y="46"/>
                </a:moveTo>
                <a:lnTo>
                  <a:pt x="129" y="453"/>
                </a:lnTo>
                <a:lnTo>
                  <a:pt x="176" y="518"/>
                </a:lnTo>
                <a:lnTo>
                  <a:pt x="193" y="571"/>
                </a:lnTo>
                <a:lnTo>
                  <a:pt x="174" y="606"/>
                </a:lnTo>
                <a:lnTo>
                  <a:pt x="166" y="660"/>
                </a:lnTo>
                <a:lnTo>
                  <a:pt x="210" y="815"/>
                </a:lnTo>
                <a:lnTo>
                  <a:pt x="245" y="866"/>
                </a:lnTo>
                <a:lnTo>
                  <a:pt x="765" y="839"/>
                </a:lnTo>
                <a:lnTo>
                  <a:pt x="769" y="873"/>
                </a:lnTo>
                <a:lnTo>
                  <a:pt x="804" y="874"/>
                </a:lnTo>
                <a:lnTo>
                  <a:pt x="788" y="803"/>
                </a:lnTo>
                <a:lnTo>
                  <a:pt x="810" y="782"/>
                </a:lnTo>
                <a:lnTo>
                  <a:pt x="887" y="792"/>
                </a:lnTo>
                <a:lnTo>
                  <a:pt x="898" y="744"/>
                </a:lnTo>
                <a:lnTo>
                  <a:pt x="887" y="738"/>
                </a:lnTo>
                <a:lnTo>
                  <a:pt x="906" y="726"/>
                </a:lnTo>
                <a:lnTo>
                  <a:pt x="875" y="714"/>
                </a:lnTo>
                <a:lnTo>
                  <a:pt x="891" y="696"/>
                </a:lnTo>
                <a:lnTo>
                  <a:pt x="887" y="672"/>
                </a:lnTo>
                <a:lnTo>
                  <a:pt x="921" y="652"/>
                </a:lnTo>
                <a:lnTo>
                  <a:pt x="910" y="626"/>
                </a:lnTo>
                <a:lnTo>
                  <a:pt x="925" y="619"/>
                </a:lnTo>
                <a:lnTo>
                  <a:pt x="935" y="595"/>
                </a:lnTo>
                <a:lnTo>
                  <a:pt x="921" y="589"/>
                </a:lnTo>
                <a:lnTo>
                  <a:pt x="948" y="571"/>
                </a:lnTo>
                <a:lnTo>
                  <a:pt x="933" y="554"/>
                </a:lnTo>
                <a:lnTo>
                  <a:pt x="956" y="554"/>
                </a:lnTo>
                <a:lnTo>
                  <a:pt x="979" y="530"/>
                </a:lnTo>
                <a:lnTo>
                  <a:pt x="970" y="518"/>
                </a:lnTo>
                <a:lnTo>
                  <a:pt x="937" y="515"/>
                </a:lnTo>
                <a:lnTo>
                  <a:pt x="914" y="489"/>
                </a:lnTo>
                <a:lnTo>
                  <a:pt x="875" y="431"/>
                </a:lnTo>
                <a:lnTo>
                  <a:pt x="854" y="424"/>
                </a:lnTo>
                <a:lnTo>
                  <a:pt x="808" y="344"/>
                </a:lnTo>
                <a:lnTo>
                  <a:pt x="746" y="311"/>
                </a:lnTo>
                <a:lnTo>
                  <a:pt x="702" y="256"/>
                </a:lnTo>
                <a:lnTo>
                  <a:pt x="594" y="186"/>
                </a:lnTo>
                <a:lnTo>
                  <a:pt x="538" y="125"/>
                </a:lnTo>
                <a:lnTo>
                  <a:pt x="420" y="61"/>
                </a:lnTo>
                <a:lnTo>
                  <a:pt x="457" y="0"/>
                </a:lnTo>
                <a:lnTo>
                  <a:pt x="235" y="20"/>
                </a:lnTo>
                <a:lnTo>
                  <a:pt x="0" y="4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0" name="Freeform 42"/>
          <p:cNvSpPr/>
          <p:nvPr/>
        </p:nvSpPr>
        <p:spPr>
          <a:xfrm>
            <a:off x="2444760" y="5315040"/>
            <a:ext cx="71280" cy="60120"/>
          </a:xfrm>
          <a:custGeom>
            <a:avLst/>
            <a:gdLst>
              <a:gd name="textAreaLeft" fmla="*/ 0 w 71280"/>
              <a:gd name="textAreaRight" fmla="*/ 71640 w 712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04" h="74">
                <a:moveTo>
                  <a:pt x="0" y="43"/>
                </a:moveTo>
                <a:lnTo>
                  <a:pt x="38" y="74"/>
                </a:lnTo>
                <a:lnTo>
                  <a:pt x="62" y="74"/>
                </a:lnTo>
                <a:lnTo>
                  <a:pt x="94" y="57"/>
                </a:lnTo>
                <a:lnTo>
                  <a:pt x="104" y="16"/>
                </a:lnTo>
                <a:lnTo>
                  <a:pt x="81" y="0"/>
                </a:lnTo>
                <a:lnTo>
                  <a:pt x="50" y="2"/>
                </a:lnTo>
                <a:lnTo>
                  <a:pt x="0" y="4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1" name="Freeform 43"/>
          <p:cNvSpPr/>
          <p:nvPr/>
        </p:nvSpPr>
        <p:spPr>
          <a:xfrm>
            <a:off x="2444760" y="5315040"/>
            <a:ext cx="71280" cy="60120"/>
          </a:xfrm>
          <a:custGeom>
            <a:avLst/>
            <a:gdLst>
              <a:gd name="textAreaLeft" fmla="*/ 0 w 71280"/>
              <a:gd name="textAreaRight" fmla="*/ 71640 w 712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04" h="74">
                <a:moveTo>
                  <a:pt x="0" y="43"/>
                </a:moveTo>
                <a:lnTo>
                  <a:pt x="38" y="74"/>
                </a:lnTo>
                <a:lnTo>
                  <a:pt x="62" y="74"/>
                </a:lnTo>
                <a:lnTo>
                  <a:pt x="94" y="57"/>
                </a:lnTo>
                <a:lnTo>
                  <a:pt x="104" y="16"/>
                </a:lnTo>
                <a:lnTo>
                  <a:pt x="81" y="0"/>
                </a:lnTo>
                <a:lnTo>
                  <a:pt x="50" y="2"/>
                </a:lnTo>
                <a:lnTo>
                  <a:pt x="0" y="4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2" name="Freeform 44"/>
          <p:cNvSpPr/>
          <p:nvPr/>
        </p:nvSpPr>
        <p:spPr>
          <a:xfrm>
            <a:off x="2665440" y="5400720"/>
            <a:ext cx="88920" cy="71280"/>
          </a:xfrm>
          <a:custGeom>
            <a:avLst/>
            <a:gdLst>
              <a:gd name="textAreaLeft" fmla="*/ 0 w 88920"/>
              <a:gd name="textAreaRight" fmla="*/ 89280 w 88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5" h="90">
                <a:moveTo>
                  <a:pt x="0" y="24"/>
                </a:moveTo>
                <a:lnTo>
                  <a:pt x="29" y="73"/>
                </a:lnTo>
                <a:lnTo>
                  <a:pt x="56" y="73"/>
                </a:lnTo>
                <a:lnTo>
                  <a:pt x="59" y="59"/>
                </a:lnTo>
                <a:lnTo>
                  <a:pt x="94" y="90"/>
                </a:lnTo>
                <a:lnTo>
                  <a:pt x="125" y="85"/>
                </a:lnTo>
                <a:lnTo>
                  <a:pt x="117" y="53"/>
                </a:lnTo>
                <a:lnTo>
                  <a:pt x="88" y="47"/>
                </a:lnTo>
                <a:lnTo>
                  <a:pt x="65" y="0"/>
                </a:lnTo>
                <a:lnTo>
                  <a:pt x="0" y="2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3" name="Freeform 45"/>
          <p:cNvSpPr/>
          <p:nvPr/>
        </p:nvSpPr>
        <p:spPr>
          <a:xfrm>
            <a:off x="2665440" y="5400720"/>
            <a:ext cx="88920" cy="71280"/>
          </a:xfrm>
          <a:custGeom>
            <a:avLst/>
            <a:gdLst>
              <a:gd name="textAreaLeft" fmla="*/ 0 w 88920"/>
              <a:gd name="textAreaRight" fmla="*/ 89280 w 88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5" h="90">
                <a:moveTo>
                  <a:pt x="0" y="24"/>
                </a:moveTo>
                <a:lnTo>
                  <a:pt x="29" y="73"/>
                </a:lnTo>
                <a:lnTo>
                  <a:pt x="56" y="73"/>
                </a:lnTo>
                <a:lnTo>
                  <a:pt x="59" y="59"/>
                </a:lnTo>
                <a:lnTo>
                  <a:pt x="94" y="90"/>
                </a:lnTo>
                <a:lnTo>
                  <a:pt x="125" y="85"/>
                </a:lnTo>
                <a:lnTo>
                  <a:pt x="117" y="53"/>
                </a:lnTo>
                <a:lnTo>
                  <a:pt x="88" y="47"/>
                </a:lnTo>
                <a:lnTo>
                  <a:pt x="65" y="0"/>
                </a:lnTo>
                <a:lnTo>
                  <a:pt x="0" y="24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4" name="Freeform 46"/>
          <p:cNvSpPr/>
          <p:nvPr/>
        </p:nvSpPr>
        <p:spPr>
          <a:xfrm>
            <a:off x="2803680" y="5473800"/>
            <a:ext cx="83880" cy="25200"/>
          </a:xfrm>
          <a:custGeom>
            <a:avLst/>
            <a:gdLst>
              <a:gd name="textAreaLeft" fmla="*/ 0 w 83880"/>
              <a:gd name="textAreaRight" fmla="*/ 84240 w 83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5" h="29">
                <a:moveTo>
                  <a:pt x="0" y="22"/>
                </a:moveTo>
                <a:lnTo>
                  <a:pt x="16" y="0"/>
                </a:lnTo>
                <a:lnTo>
                  <a:pt x="125" y="10"/>
                </a:lnTo>
                <a:lnTo>
                  <a:pt x="104" y="29"/>
                </a:lnTo>
                <a:lnTo>
                  <a:pt x="0" y="2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5" name="Freeform 47"/>
          <p:cNvSpPr/>
          <p:nvPr/>
        </p:nvSpPr>
        <p:spPr>
          <a:xfrm>
            <a:off x="2803680" y="5473800"/>
            <a:ext cx="83880" cy="25200"/>
          </a:xfrm>
          <a:custGeom>
            <a:avLst/>
            <a:gdLst>
              <a:gd name="textAreaLeft" fmla="*/ 0 w 83880"/>
              <a:gd name="textAreaRight" fmla="*/ 84240 w 83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5" h="29">
                <a:moveTo>
                  <a:pt x="0" y="22"/>
                </a:moveTo>
                <a:lnTo>
                  <a:pt x="16" y="0"/>
                </a:lnTo>
                <a:lnTo>
                  <a:pt x="125" y="10"/>
                </a:lnTo>
                <a:lnTo>
                  <a:pt x="104" y="29"/>
                </a:lnTo>
                <a:lnTo>
                  <a:pt x="0" y="2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6" name="Freeform 48"/>
          <p:cNvSpPr/>
          <p:nvPr/>
        </p:nvSpPr>
        <p:spPr>
          <a:xfrm>
            <a:off x="2843280" y="5521320"/>
            <a:ext cx="33120" cy="27000"/>
          </a:xfrm>
          <a:custGeom>
            <a:avLst/>
            <a:gdLst>
              <a:gd name="textAreaLeft" fmla="*/ 0 w 33120"/>
              <a:gd name="textAreaRight" fmla="*/ 33480 w 33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8" h="32">
                <a:moveTo>
                  <a:pt x="0" y="0"/>
                </a:moveTo>
                <a:lnTo>
                  <a:pt x="15" y="32"/>
                </a:lnTo>
                <a:lnTo>
                  <a:pt x="48" y="20"/>
                </a:lnTo>
                <a:lnTo>
                  <a:pt x="33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7" name="Freeform 49"/>
          <p:cNvSpPr/>
          <p:nvPr/>
        </p:nvSpPr>
        <p:spPr>
          <a:xfrm>
            <a:off x="2843280" y="5521320"/>
            <a:ext cx="33120" cy="27000"/>
          </a:xfrm>
          <a:custGeom>
            <a:avLst/>
            <a:gdLst>
              <a:gd name="textAreaLeft" fmla="*/ 0 w 33120"/>
              <a:gd name="textAreaRight" fmla="*/ 33480 w 33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8" h="32">
                <a:moveTo>
                  <a:pt x="0" y="0"/>
                </a:moveTo>
                <a:lnTo>
                  <a:pt x="15" y="32"/>
                </a:lnTo>
                <a:lnTo>
                  <a:pt x="48" y="20"/>
                </a:lnTo>
                <a:lnTo>
                  <a:pt x="33" y="0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8" name="Freeform 50"/>
          <p:cNvSpPr/>
          <p:nvPr/>
        </p:nvSpPr>
        <p:spPr>
          <a:xfrm>
            <a:off x="2894040" y="5500800"/>
            <a:ext cx="108000" cy="64800"/>
          </a:xfrm>
          <a:custGeom>
            <a:avLst/>
            <a:gdLst>
              <a:gd name="textAreaLeft" fmla="*/ 0 w 108000"/>
              <a:gd name="textAreaRight" fmla="*/ 108360 w 1080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58" h="82">
                <a:moveTo>
                  <a:pt x="0" y="21"/>
                </a:moveTo>
                <a:lnTo>
                  <a:pt x="21" y="0"/>
                </a:lnTo>
                <a:lnTo>
                  <a:pt x="45" y="21"/>
                </a:lnTo>
                <a:lnTo>
                  <a:pt x="97" y="17"/>
                </a:lnTo>
                <a:lnTo>
                  <a:pt x="158" y="55"/>
                </a:lnTo>
                <a:lnTo>
                  <a:pt x="135" y="69"/>
                </a:lnTo>
                <a:lnTo>
                  <a:pt x="64" y="82"/>
                </a:lnTo>
                <a:lnTo>
                  <a:pt x="48" y="46"/>
                </a:lnTo>
                <a:lnTo>
                  <a:pt x="21" y="46"/>
                </a:lnTo>
                <a:lnTo>
                  <a:pt x="0" y="2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9" name="Freeform 51"/>
          <p:cNvSpPr/>
          <p:nvPr/>
        </p:nvSpPr>
        <p:spPr>
          <a:xfrm>
            <a:off x="2894040" y="5500800"/>
            <a:ext cx="108000" cy="64800"/>
          </a:xfrm>
          <a:custGeom>
            <a:avLst/>
            <a:gdLst>
              <a:gd name="textAreaLeft" fmla="*/ 0 w 108000"/>
              <a:gd name="textAreaRight" fmla="*/ 108360 w 1080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58" h="82">
                <a:moveTo>
                  <a:pt x="0" y="21"/>
                </a:moveTo>
                <a:lnTo>
                  <a:pt x="21" y="0"/>
                </a:lnTo>
                <a:lnTo>
                  <a:pt x="45" y="21"/>
                </a:lnTo>
                <a:lnTo>
                  <a:pt x="97" y="17"/>
                </a:lnTo>
                <a:lnTo>
                  <a:pt x="158" y="55"/>
                </a:lnTo>
                <a:lnTo>
                  <a:pt x="135" y="69"/>
                </a:lnTo>
                <a:lnTo>
                  <a:pt x="64" y="82"/>
                </a:lnTo>
                <a:lnTo>
                  <a:pt x="48" y="46"/>
                </a:lnTo>
                <a:lnTo>
                  <a:pt x="21" y="46"/>
                </a:lnTo>
                <a:lnTo>
                  <a:pt x="0" y="2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0" name="Freeform 52"/>
          <p:cNvSpPr/>
          <p:nvPr/>
        </p:nvSpPr>
        <p:spPr>
          <a:xfrm>
            <a:off x="2989440" y="5619600"/>
            <a:ext cx="179280" cy="200160"/>
          </a:xfrm>
          <a:custGeom>
            <a:avLst/>
            <a:gdLst>
              <a:gd name="textAreaLeft" fmla="*/ 0 w 179280"/>
              <a:gd name="textAreaRight" fmla="*/ 179640 w 1792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62" h="254">
                <a:moveTo>
                  <a:pt x="0" y="98"/>
                </a:moveTo>
                <a:lnTo>
                  <a:pt x="35" y="170"/>
                </a:lnTo>
                <a:lnTo>
                  <a:pt x="29" y="226"/>
                </a:lnTo>
                <a:lnTo>
                  <a:pt x="83" y="254"/>
                </a:lnTo>
                <a:lnTo>
                  <a:pt x="115" y="211"/>
                </a:lnTo>
                <a:lnTo>
                  <a:pt x="227" y="171"/>
                </a:lnTo>
                <a:lnTo>
                  <a:pt x="262" y="139"/>
                </a:lnTo>
                <a:lnTo>
                  <a:pt x="171" y="48"/>
                </a:lnTo>
                <a:lnTo>
                  <a:pt x="40" y="0"/>
                </a:lnTo>
                <a:lnTo>
                  <a:pt x="29" y="14"/>
                </a:lnTo>
                <a:lnTo>
                  <a:pt x="44" y="52"/>
                </a:lnTo>
                <a:lnTo>
                  <a:pt x="0" y="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1" name="Freeform 53"/>
          <p:cNvSpPr/>
          <p:nvPr/>
        </p:nvSpPr>
        <p:spPr>
          <a:xfrm>
            <a:off x="2989440" y="5619600"/>
            <a:ext cx="179280" cy="200160"/>
          </a:xfrm>
          <a:custGeom>
            <a:avLst/>
            <a:gdLst>
              <a:gd name="textAreaLeft" fmla="*/ 0 w 179280"/>
              <a:gd name="textAreaRight" fmla="*/ 179640 w 1792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62" h="254">
                <a:moveTo>
                  <a:pt x="0" y="98"/>
                </a:moveTo>
                <a:lnTo>
                  <a:pt x="35" y="170"/>
                </a:lnTo>
                <a:lnTo>
                  <a:pt x="29" y="226"/>
                </a:lnTo>
                <a:lnTo>
                  <a:pt x="83" y="254"/>
                </a:lnTo>
                <a:lnTo>
                  <a:pt x="115" y="211"/>
                </a:lnTo>
                <a:lnTo>
                  <a:pt x="227" y="171"/>
                </a:lnTo>
                <a:lnTo>
                  <a:pt x="262" y="139"/>
                </a:lnTo>
                <a:lnTo>
                  <a:pt x="171" y="48"/>
                </a:lnTo>
                <a:lnTo>
                  <a:pt x="40" y="0"/>
                </a:lnTo>
                <a:lnTo>
                  <a:pt x="29" y="14"/>
                </a:lnTo>
                <a:lnTo>
                  <a:pt x="44" y="52"/>
                </a:lnTo>
                <a:lnTo>
                  <a:pt x="0" y="9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2" name="Freeform 54"/>
          <p:cNvSpPr/>
          <p:nvPr/>
        </p:nvSpPr>
        <p:spPr>
          <a:xfrm>
            <a:off x="1730520" y="2054160"/>
            <a:ext cx="744480" cy="1185840"/>
          </a:xfrm>
          <a:custGeom>
            <a:avLst/>
            <a:gdLst>
              <a:gd name="textAreaLeft" fmla="*/ 0 w 744480"/>
              <a:gd name="textAreaRight" fmla="*/ 744840 w 7444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077" h="1495">
                <a:moveTo>
                  <a:pt x="0" y="1329"/>
                </a:moveTo>
                <a:lnTo>
                  <a:pt x="87" y="1007"/>
                </a:lnTo>
                <a:lnTo>
                  <a:pt x="129" y="923"/>
                </a:lnTo>
                <a:lnTo>
                  <a:pt x="91" y="882"/>
                </a:lnTo>
                <a:lnTo>
                  <a:pt x="99" y="844"/>
                </a:lnTo>
                <a:lnTo>
                  <a:pt x="168" y="790"/>
                </a:lnTo>
                <a:lnTo>
                  <a:pt x="224" y="714"/>
                </a:lnTo>
                <a:lnTo>
                  <a:pt x="274" y="651"/>
                </a:lnTo>
                <a:lnTo>
                  <a:pt x="235" y="601"/>
                </a:lnTo>
                <a:lnTo>
                  <a:pt x="220" y="567"/>
                </a:lnTo>
                <a:lnTo>
                  <a:pt x="226" y="485"/>
                </a:lnTo>
                <a:lnTo>
                  <a:pt x="359" y="0"/>
                </a:lnTo>
                <a:lnTo>
                  <a:pt x="503" y="28"/>
                </a:lnTo>
                <a:lnTo>
                  <a:pt x="455" y="218"/>
                </a:lnTo>
                <a:lnTo>
                  <a:pt x="486" y="283"/>
                </a:lnTo>
                <a:lnTo>
                  <a:pt x="490" y="327"/>
                </a:lnTo>
                <a:lnTo>
                  <a:pt x="472" y="332"/>
                </a:lnTo>
                <a:lnTo>
                  <a:pt x="528" y="377"/>
                </a:lnTo>
                <a:lnTo>
                  <a:pt x="584" y="499"/>
                </a:lnTo>
                <a:lnTo>
                  <a:pt x="603" y="492"/>
                </a:lnTo>
                <a:lnTo>
                  <a:pt x="605" y="512"/>
                </a:lnTo>
                <a:lnTo>
                  <a:pt x="632" y="517"/>
                </a:lnTo>
                <a:lnTo>
                  <a:pt x="653" y="519"/>
                </a:lnTo>
                <a:lnTo>
                  <a:pt x="601" y="608"/>
                </a:lnTo>
                <a:lnTo>
                  <a:pt x="609" y="666"/>
                </a:lnTo>
                <a:lnTo>
                  <a:pt x="571" y="723"/>
                </a:lnTo>
                <a:lnTo>
                  <a:pt x="598" y="747"/>
                </a:lnTo>
                <a:lnTo>
                  <a:pt x="669" y="711"/>
                </a:lnTo>
                <a:lnTo>
                  <a:pt x="725" y="901"/>
                </a:lnTo>
                <a:lnTo>
                  <a:pt x="756" y="909"/>
                </a:lnTo>
                <a:lnTo>
                  <a:pt x="763" y="969"/>
                </a:lnTo>
                <a:lnTo>
                  <a:pt x="792" y="993"/>
                </a:lnTo>
                <a:lnTo>
                  <a:pt x="813" y="971"/>
                </a:lnTo>
                <a:lnTo>
                  <a:pt x="860" y="990"/>
                </a:lnTo>
                <a:lnTo>
                  <a:pt x="890" y="969"/>
                </a:lnTo>
                <a:lnTo>
                  <a:pt x="993" y="988"/>
                </a:lnTo>
                <a:lnTo>
                  <a:pt x="1014" y="992"/>
                </a:lnTo>
                <a:lnTo>
                  <a:pt x="1037" y="952"/>
                </a:lnTo>
                <a:lnTo>
                  <a:pt x="1077" y="1014"/>
                </a:lnTo>
                <a:lnTo>
                  <a:pt x="985" y="1495"/>
                </a:lnTo>
                <a:lnTo>
                  <a:pt x="490" y="1420"/>
                </a:lnTo>
                <a:lnTo>
                  <a:pt x="0" y="132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3" name="Freeform 55"/>
          <p:cNvSpPr/>
          <p:nvPr/>
        </p:nvSpPr>
        <p:spPr>
          <a:xfrm>
            <a:off x="1730520" y="2054160"/>
            <a:ext cx="744480" cy="1185840"/>
          </a:xfrm>
          <a:custGeom>
            <a:avLst/>
            <a:gdLst>
              <a:gd name="textAreaLeft" fmla="*/ 0 w 744480"/>
              <a:gd name="textAreaRight" fmla="*/ 744840 w 7444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077" h="1495">
                <a:moveTo>
                  <a:pt x="0" y="1329"/>
                </a:moveTo>
                <a:lnTo>
                  <a:pt x="87" y="1007"/>
                </a:lnTo>
                <a:lnTo>
                  <a:pt x="129" y="923"/>
                </a:lnTo>
                <a:lnTo>
                  <a:pt x="91" y="882"/>
                </a:lnTo>
                <a:lnTo>
                  <a:pt x="99" y="844"/>
                </a:lnTo>
                <a:lnTo>
                  <a:pt x="168" y="790"/>
                </a:lnTo>
                <a:lnTo>
                  <a:pt x="224" y="714"/>
                </a:lnTo>
                <a:lnTo>
                  <a:pt x="274" y="651"/>
                </a:lnTo>
                <a:lnTo>
                  <a:pt x="235" y="601"/>
                </a:lnTo>
                <a:lnTo>
                  <a:pt x="220" y="567"/>
                </a:lnTo>
                <a:lnTo>
                  <a:pt x="226" y="485"/>
                </a:lnTo>
                <a:lnTo>
                  <a:pt x="359" y="0"/>
                </a:lnTo>
                <a:lnTo>
                  <a:pt x="503" y="28"/>
                </a:lnTo>
                <a:lnTo>
                  <a:pt x="455" y="218"/>
                </a:lnTo>
                <a:lnTo>
                  <a:pt x="486" y="283"/>
                </a:lnTo>
                <a:lnTo>
                  <a:pt x="490" y="327"/>
                </a:lnTo>
                <a:lnTo>
                  <a:pt x="472" y="332"/>
                </a:lnTo>
                <a:lnTo>
                  <a:pt x="528" y="377"/>
                </a:lnTo>
                <a:lnTo>
                  <a:pt x="584" y="499"/>
                </a:lnTo>
                <a:lnTo>
                  <a:pt x="603" y="492"/>
                </a:lnTo>
                <a:lnTo>
                  <a:pt x="605" y="512"/>
                </a:lnTo>
                <a:lnTo>
                  <a:pt x="632" y="517"/>
                </a:lnTo>
                <a:lnTo>
                  <a:pt x="653" y="519"/>
                </a:lnTo>
                <a:lnTo>
                  <a:pt x="601" y="608"/>
                </a:lnTo>
                <a:lnTo>
                  <a:pt x="609" y="666"/>
                </a:lnTo>
                <a:lnTo>
                  <a:pt x="571" y="723"/>
                </a:lnTo>
                <a:lnTo>
                  <a:pt x="598" y="747"/>
                </a:lnTo>
                <a:lnTo>
                  <a:pt x="669" y="711"/>
                </a:lnTo>
                <a:lnTo>
                  <a:pt x="725" y="901"/>
                </a:lnTo>
                <a:lnTo>
                  <a:pt x="756" y="909"/>
                </a:lnTo>
                <a:lnTo>
                  <a:pt x="763" y="969"/>
                </a:lnTo>
                <a:lnTo>
                  <a:pt x="792" y="993"/>
                </a:lnTo>
                <a:lnTo>
                  <a:pt x="813" y="971"/>
                </a:lnTo>
                <a:lnTo>
                  <a:pt x="860" y="990"/>
                </a:lnTo>
                <a:lnTo>
                  <a:pt x="890" y="969"/>
                </a:lnTo>
                <a:lnTo>
                  <a:pt x="993" y="988"/>
                </a:lnTo>
                <a:lnTo>
                  <a:pt x="1014" y="992"/>
                </a:lnTo>
                <a:lnTo>
                  <a:pt x="1037" y="952"/>
                </a:lnTo>
                <a:lnTo>
                  <a:pt x="1077" y="1014"/>
                </a:lnTo>
                <a:lnTo>
                  <a:pt x="985" y="1495"/>
                </a:lnTo>
                <a:lnTo>
                  <a:pt x="490" y="1420"/>
                </a:lnTo>
                <a:lnTo>
                  <a:pt x="0" y="1329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4" name="Freeform 56"/>
          <p:cNvSpPr/>
          <p:nvPr/>
        </p:nvSpPr>
        <p:spPr>
          <a:xfrm>
            <a:off x="4681440" y="3270240"/>
            <a:ext cx="486000" cy="870120"/>
          </a:xfrm>
          <a:custGeom>
            <a:avLst/>
            <a:gdLst>
              <a:gd name="textAreaLeft" fmla="*/ 0 w 486000"/>
              <a:gd name="textAreaRight" fmla="*/ 486360 w 48600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709" h="1098">
                <a:moveTo>
                  <a:pt x="0" y="485"/>
                </a:moveTo>
                <a:lnTo>
                  <a:pt x="15" y="451"/>
                </a:lnTo>
                <a:lnTo>
                  <a:pt x="61" y="386"/>
                </a:lnTo>
                <a:lnTo>
                  <a:pt x="88" y="312"/>
                </a:lnTo>
                <a:lnTo>
                  <a:pt x="61" y="259"/>
                </a:lnTo>
                <a:lnTo>
                  <a:pt x="185" y="180"/>
                </a:lnTo>
                <a:lnTo>
                  <a:pt x="210" y="136"/>
                </a:lnTo>
                <a:lnTo>
                  <a:pt x="210" y="117"/>
                </a:lnTo>
                <a:lnTo>
                  <a:pt x="121" y="28"/>
                </a:lnTo>
                <a:lnTo>
                  <a:pt x="595" y="0"/>
                </a:lnTo>
                <a:lnTo>
                  <a:pt x="607" y="69"/>
                </a:lnTo>
                <a:lnTo>
                  <a:pt x="653" y="149"/>
                </a:lnTo>
                <a:lnTo>
                  <a:pt x="693" y="565"/>
                </a:lnTo>
                <a:lnTo>
                  <a:pt x="684" y="653"/>
                </a:lnTo>
                <a:lnTo>
                  <a:pt x="709" y="704"/>
                </a:lnTo>
                <a:lnTo>
                  <a:pt x="682" y="798"/>
                </a:lnTo>
                <a:lnTo>
                  <a:pt x="645" y="841"/>
                </a:lnTo>
                <a:lnTo>
                  <a:pt x="626" y="908"/>
                </a:lnTo>
                <a:lnTo>
                  <a:pt x="643" y="927"/>
                </a:lnTo>
                <a:lnTo>
                  <a:pt x="628" y="969"/>
                </a:lnTo>
                <a:lnTo>
                  <a:pt x="637" y="985"/>
                </a:lnTo>
                <a:lnTo>
                  <a:pt x="582" y="1005"/>
                </a:lnTo>
                <a:lnTo>
                  <a:pt x="570" y="1074"/>
                </a:lnTo>
                <a:lnTo>
                  <a:pt x="491" y="1048"/>
                </a:lnTo>
                <a:lnTo>
                  <a:pt x="447" y="1083"/>
                </a:lnTo>
                <a:lnTo>
                  <a:pt x="449" y="1098"/>
                </a:lnTo>
                <a:lnTo>
                  <a:pt x="422" y="1096"/>
                </a:lnTo>
                <a:lnTo>
                  <a:pt x="393" y="1048"/>
                </a:lnTo>
                <a:lnTo>
                  <a:pt x="379" y="985"/>
                </a:lnTo>
                <a:lnTo>
                  <a:pt x="348" y="946"/>
                </a:lnTo>
                <a:lnTo>
                  <a:pt x="300" y="927"/>
                </a:lnTo>
                <a:lnTo>
                  <a:pt x="242" y="886"/>
                </a:lnTo>
                <a:lnTo>
                  <a:pt x="221" y="833"/>
                </a:lnTo>
                <a:lnTo>
                  <a:pt x="254" y="747"/>
                </a:lnTo>
                <a:lnTo>
                  <a:pt x="225" y="728"/>
                </a:lnTo>
                <a:lnTo>
                  <a:pt x="156" y="730"/>
                </a:lnTo>
                <a:lnTo>
                  <a:pt x="144" y="677"/>
                </a:lnTo>
                <a:lnTo>
                  <a:pt x="29" y="572"/>
                </a:lnTo>
                <a:lnTo>
                  <a:pt x="0" y="48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5" name="Freeform 57"/>
          <p:cNvSpPr/>
          <p:nvPr/>
        </p:nvSpPr>
        <p:spPr>
          <a:xfrm>
            <a:off x="4681440" y="3270240"/>
            <a:ext cx="486000" cy="870120"/>
          </a:xfrm>
          <a:custGeom>
            <a:avLst/>
            <a:gdLst>
              <a:gd name="textAreaLeft" fmla="*/ 0 w 486000"/>
              <a:gd name="textAreaRight" fmla="*/ 486360 w 48600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709" h="1098">
                <a:moveTo>
                  <a:pt x="0" y="485"/>
                </a:moveTo>
                <a:lnTo>
                  <a:pt x="15" y="451"/>
                </a:lnTo>
                <a:lnTo>
                  <a:pt x="61" y="386"/>
                </a:lnTo>
                <a:lnTo>
                  <a:pt x="88" y="312"/>
                </a:lnTo>
                <a:lnTo>
                  <a:pt x="61" y="259"/>
                </a:lnTo>
                <a:lnTo>
                  <a:pt x="185" y="180"/>
                </a:lnTo>
                <a:lnTo>
                  <a:pt x="210" y="136"/>
                </a:lnTo>
                <a:lnTo>
                  <a:pt x="210" y="117"/>
                </a:lnTo>
                <a:lnTo>
                  <a:pt x="121" y="28"/>
                </a:lnTo>
                <a:lnTo>
                  <a:pt x="595" y="0"/>
                </a:lnTo>
                <a:lnTo>
                  <a:pt x="607" y="69"/>
                </a:lnTo>
                <a:lnTo>
                  <a:pt x="653" y="149"/>
                </a:lnTo>
                <a:lnTo>
                  <a:pt x="693" y="565"/>
                </a:lnTo>
                <a:lnTo>
                  <a:pt x="684" y="653"/>
                </a:lnTo>
                <a:lnTo>
                  <a:pt x="709" y="704"/>
                </a:lnTo>
                <a:lnTo>
                  <a:pt x="682" y="798"/>
                </a:lnTo>
                <a:lnTo>
                  <a:pt x="645" y="841"/>
                </a:lnTo>
                <a:lnTo>
                  <a:pt x="626" y="908"/>
                </a:lnTo>
                <a:lnTo>
                  <a:pt x="643" y="927"/>
                </a:lnTo>
                <a:lnTo>
                  <a:pt x="628" y="969"/>
                </a:lnTo>
                <a:lnTo>
                  <a:pt x="637" y="985"/>
                </a:lnTo>
                <a:lnTo>
                  <a:pt x="582" y="1005"/>
                </a:lnTo>
                <a:lnTo>
                  <a:pt x="570" y="1074"/>
                </a:lnTo>
                <a:lnTo>
                  <a:pt x="491" y="1048"/>
                </a:lnTo>
                <a:lnTo>
                  <a:pt x="447" y="1083"/>
                </a:lnTo>
                <a:lnTo>
                  <a:pt x="449" y="1098"/>
                </a:lnTo>
                <a:lnTo>
                  <a:pt x="422" y="1096"/>
                </a:lnTo>
                <a:lnTo>
                  <a:pt x="393" y="1048"/>
                </a:lnTo>
                <a:lnTo>
                  <a:pt x="379" y="985"/>
                </a:lnTo>
                <a:lnTo>
                  <a:pt x="348" y="946"/>
                </a:lnTo>
                <a:lnTo>
                  <a:pt x="300" y="927"/>
                </a:lnTo>
                <a:lnTo>
                  <a:pt x="242" y="886"/>
                </a:lnTo>
                <a:lnTo>
                  <a:pt x="221" y="833"/>
                </a:lnTo>
                <a:lnTo>
                  <a:pt x="254" y="747"/>
                </a:lnTo>
                <a:lnTo>
                  <a:pt x="225" y="728"/>
                </a:lnTo>
                <a:lnTo>
                  <a:pt x="156" y="730"/>
                </a:lnTo>
                <a:lnTo>
                  <a:pt x="144" y="677"/>
                </a:lnTo>
                <a:lnTo>
                  <a:pt x="29" y="572"/>
                </a:lnTo>
                <a:lnTo>
                  <a:pt x="0" y="485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6" name="Freeform 58"/>
          <p:cNvSpPr/>
          <p:nvPr/>
        </p:nvSpPr>
        <p:spPr>
          <a:xfrm>
            <a:off x="5111640" y="3351240"/>
            <a:ext cx="385920" cy="652320"/>
          </a:xfrm>
          <a:custGeom>
            <a:avLst/>
            <a:gdLst>
              <a:gd name="textAreaLeft" fmla="*/ 0 w 385920"/>
              <a:gd name="textAreaRight" fmla="*/ 386280 w 385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559" h="826">
                <a:moveTo>
                  <a:pt x="0" y="807"/>
                </a:moveTo>
                <a:lnTo>
                  <a:pt x="17" y="826"/>
                </a:lnTo>
                <a:lnTo>
                  <a:pt x="33" y="803"/>
                </a:lnTo>
                <a:lnTo>
                  <a:pt x="115" y="790"/>
                </a:lnTo>
                <a:lnTo>
                  <a:pt x="141" y="797"/>
                </a:lnTo>
                <a:lnTo>
                  <a:pt x="229" y="773"/>
                </a:lnTo>
                <a:lnTo>
                  <a:pt x="260" y="797"/>
                </a:lnTo>
                <a:lnTo>
                  <a:pt x="289" y="740"/>
                </a:lnTo>
                <a:lnTo>
                  <a:pt x="314" y="725"/>
                </a:lnTo>
                <a:lnTo>
                  <a:pt x="378" y="755"/>
                </a:lnTo>
                <a:lnTo>
                  <a:pt x="387" y="721"/>
                </a:lnTo>
                <a:lnTo>
                  <a:pt x="455" y="648"/>
                </a:lnTo>
                <a:lnTo>
                  <a:pt x="470" y="603"/>
                </a:lnTo>
                <a:lnTo>
                  <a:pt x="497" y="610"/>
                </a:lnTo>
                <a:lnTo>
                  <a:pt x="559" y="572"/>
                </a:lnTo>
                <a:lnTo>
                  <a:pt x="541" y="540"/>
                </a:lnTo>
                <a:lnTo>
                  <a:pt x="549" y="519"/>
                </a:lnTo>
                <a:lnTo>
                  <a:pt x="489" y="14"/>
                </a:lnTo>
                <a:lnTo>
                  <a:pt x="482" y="0"/>
                </a:lnTo>
                <a:lnTo>
                  <a:pt x="148" y="33"/>
                </a:lnTo>
                <a:lnTo>
                  <a:pt x="83" y="64"/>
                </a:lnTo>
                <a:lnTo>
                  <a:pt x="27" y="48"/>
                </a:lnTo>
                <a:lnTo>
                  <a:pt x="67" y="464"/>
                </a:lnTo>
                <a:lnTo>
                  <a:pt x="58" y="552"/>
                </a:lnTo>
                <a:lnTo>
                  <a:pt x="83" y="603"/>
                </a:lnTo>
                <a:lnTo>
                  <a:pt x="56" y="697"/>
                </a:lnTo>
                <a:lnTo>
                  <a:pt x="19" y="740"/>
                </a:lnTo>
                <a:lnTo>
                  <a:pt x="0" y="80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7" name="Freeform 59"/>
          <p:cNvSpPr/>
          <p:nvPr/>
        </p:nvSpPr>
        <p:spPr>
          <a:xfrm>
            <a:off x="5111640" y="3351240"/>
            <a:ext cx="385920" cy="652320"/>
          </a:xfrm>
          <a:custGeom>
            <a:avLst/>
            <a:gdLst>
              <a:gd name="textAreaLeft" fmla="*/ 0 w 385920"/>
              <a:gd name="textAreaRight" fmla="*/ 386280 w 385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559" h="826">
                <a:moveTo>
                  <a:pt x="0" y="807"/>
                </a:moveTo>
                <a:lnTo>
                  <a:pt x="17" y="826"/>
                </a:lnTo>
                <a:lnTo>
                  <a:pt x="33" y="803"/>
                </a:lnTo>
                <a:lnTo>
                  <a:pt x="115" y="790"/>
                </a:lnTo>
                <a:lnTo>
                  <a:pt x="141" y="797"/>
                </a:lnTo>
                <a:lnTo>
                  <a:pt x="229" y="773"/>
                </a:lnTo>
                <a:lnTo>
                  <a:pt x="260" y="797"/>
                </a:lnTo>
                <a:lnTo>
                  <a:pt x="289" y="740"/>
                </a:lnTo>
                <a:lnTo>
                  <a:pt x="314" y="725"/>
                </a:lnTo>
                <a:lnTo>
                  <a:pt x="378" y="755"/>
                </a:lnTo>
                <a:lnTo>
                  <a:pt x="387" y="721"/>
                </a:lnTo>
                <a:lnTo>
                  <a:pt x="455" y="648"/>
                </a:lnTo>
                <a:lnTo>
                  <a:pt x="470" y="603"/>
                </a:lnTo>
                <a:lnTo>
                  <a:pt x="497" y="610"/>
                </a:lnTo>
                <a:lnTo>
                  <a:pt x="559" y="572"/>
                </a:lnTo>
                <a:lnTo>
                  <a:pt x="541" y="540"/>
                </a:lnTo>
                <a:lnTo>
                  <a:pt x="549" y="519"/>
                </a:lnTo>
                <a:lnTo>
                  <a:pt x="489" y="14"/>
                </a:lnTo>
                <a:lnTo>
                  <a:pt x="482" y="0"/>
                </a:lnTo>
                <a:lnTo>
                  <a:pt x="148" y="33"/>
                </a:lnTo>
                <a:lnTo>
                  <a:pt x="83" y="64"/>
                </a:lnTo>
                <a:lnTo>
                  <a:pt x="27" y="48"/>
                </a:lnTo>
                <a:lnTo>
                  <a:pt x="67" y="464"/>
                </a:lnTo>
                <a:lnTo>
                  <a:pt x="58" y="552"/>
                </a:lnTo>
                <a:lnTo>
                  <a:pt x="83" y="603"/>
                </a:lnTo>
                <a:lnTo>
                  <a:pt x="56" y="697"/>
                </a:lnTo>
                <a:lnTo>
                  <a:pt x="19" y="740"/>
                </a:lnTo>
                <a:lnTo>
                  <a:pt x="0" y="807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8" name="Freeform 60"/>
          <p:cNvSpPr/>
          <p:nvPr/>
        </p:nvSpPr>
        <p:spPr>
          <a:xfrm>
            <a:off x="4083120" y="3141720"/>
            <a:ext cx="744480" cy="484200"/>
          </a:xfrm>
          <a:custGeom>
            <a:avLst/>
            <a:gdLst>
              <a:gd name="textAreaLeft" fmla="*/ 0 w 744480"/>
              <a:gd name="textAreaRight" fmla="*/ 744840 w 7444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75" h="613">
                <a:moveTo>
                  <a:pt x="0" y="12"/>
                </a:moveTo>
                <a:lnTo>
                  <a:pt x="2" y="58"/>
                </a:lnTo>
                <a:lnTo>
                  <a:pt x="21" y="96"/>
                </a:lnTo>
                <a:lnTo>
                  <a:pt x="9" y="130"/>
                </a:lnTo>
                <a:lnTo>
                  <a:pt x="19" y="214"/>
                </a:lnTo>
                <a:lnTo>
                  <a:pt x="73" y="334"/>
                </a:lnTo>
                <a:lnTo>
                  <a:pt x="73" y="373"/>
                </a:lnTo>
                <a:lnTo>
                  <a:pt x="106" y="429"/>
                </a:lnTo>
                <a:lnTo>
                  <a:pt x="121" y="522"/>
                </a:lnTo>
                <a:lnTo>
                  <a:pt x="113" y="549"/>
                </a:lnTo>
                <a:lnTo>
                  <a:pt x="133" y="582"/>
                </a:lnTo>
                <a:lnTo>
                  <a:pt x="826" y="568"/>
                </a:lnTo>
                <a:lnTo>
                  <a:pt x="880" y="613"/>
                </a:lnTo>
                <a:lnTo>
                  <a:pt x="926" y="548"/>
                </a:lnTo>
                <a:lnTo>
                  <a:pt x="953" y="474"/>
                </a:lnTo>
                <a:lnTo>
                  <a:pt x="926" y="421"/>
                </a:lnTo>
                <a:lnTo>
                  <a:pt x="1050" y="342"/>
                </a:lnTo>
                <a:lnTo>
                  <a:pt x="1075" y="298"/>
                </a:lnTo>
                <a:lnTo>
                  <a:pt x="1075" y="279"/>
                </a:lnTo>
                <a:lnTo>
                  <a:pt x="986" y="190"/>
                </a:lnTo>
                <a:lnTo>
                  <a:pt x="897" y="99"/>
                </a:lnTo>
                <a:lnTo>
                  <a:pt x="880" y="0"/>
                </a:lnTo>
                <a:lnTo>
                  <a:pt x="25" y="13"/>
                </a:lnTo>
                <a:lnTo>
                  <a:pt x="0" y="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9" name="Freeform 61"/>
          <p:cNvSpPr/>
          <p:nvPr/>
        </p:nvSpPr>
        <p:spPr>
          <a:xfrm>
            <a:off x="4083120" y="3141720"/>
            <a:ext cx="744480" cy="484200"/>
          </a:xfrm>
          <a:custGeom>
            <a:avLst/>
            <a:gdLst>
              <a:gd name="textAreaLeft" fmla="*/ 0 w 744480"/>
              <a:gd name="textAreaRight" fmla="*/ 744840 w 7444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75" h="613">
                <a:moveTo>
                  <a:pt x="0" y="12"/>
                </a:moveTo>
                <a:lnTo>
                  <a:pt x="2" y="58"/>
                </a:lnTo>
                <a:lnTo>
                  <a:pt x="21" y="96"/>
                </a:lnTo>
                <a:lnTo>
                  <a:pt x="9" y="130"/>
                </a:lnTo>
                <a:lnTo>
                  <a:pt x="19" y="214"/>
                </a:lnTo>
                <a:lnTo>
                  <a:pt x="73" y="334"/>
                </a:lnTo>
                <a:lnTo>
                  <a:pt x="73" y="373"/>
                </a:lnTo>
                <a:lnTo>
                  <a:pt x="106" y="429"/>
                </a:lnTo>
                <a:lnTo>
                  <a:pt x="121" y="522"/>
                </a:lnTo>
                <a:lnTo>
                  <a:pt x="113" y="549"/>
                </a:lnTo>
                <a:lnTo>
                  <a:pt x="133" y="582"/>
                </a:lnTo>
                <a:lnTo>
                  <a:pt x="826" y="568"/>
                </a:lnTo>
                <a:lnTo>
                  <a:pt x="880" y="613"/>
                </a:lnTo>
                <a:lnTo>
                  <a:pt x="926" y="548"/>
                </a:lnTo>
                <a:lnTo>
                  <a:pt x="953" y="474"/>
                </a:lnTo>
                <a:lnTo>
                  <a:pt x="926" y="421"/>
                </a:lnTo>
                <a:lnTo>
                  <a:pt x="1050" y="342"/>
                </a:lnTo>
                <a:lnTo>
                  <a:pt x="1075" y="298"/>
                </a:lnTo>
                <a:lnTo>
                  <a:pt x="1075" y="279"/>
                </a:lnTo>
                <a:lnTo>
                  <a:pt x="986" y="190"/>
                </a:lnTo>
                <a:lnTo>
                  <a:pt x="897" y="99"/>
                </a:lnTo>
                <a:lnTo>
                  <a:pt x="880" y="0"/>
                </a:lnTo>
                <a:lnTo>
                  <a:pt x="25" y="13"/>
                </a:lnTo>
                <a:lnTo>
                  <a:pt x="0" y="1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0" name="Freeform 62"/>
          <p:cNvSpPr/>
          <p:nvPr/>
        </p:nvSpPr>
        <p:spPr>
          <a:xfrm>
            <a:off x="3392640" y="3670200"/>
            <a:ext cx="925200" cy="493920"/>
          </a:xfrm>
          <a:custGeom>
            <a:avLst/>
            <a:gdLst>
              <a:gd name="textAreaLeft" fmla="*/ 0 w 925200"/>
              <a:gd name="textAreaRight" fmla="*/ 925560 w 92520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341" h="622">
                <a:moveTo>
                  <a:pt x="0" y="589"/>
                </a:moveTo>
                <a:lnTo>
                  <a:pt x="46" y="0"/>
                </a:lnTo>
                <a:lnTo>
                  <a:pt x="545" y="23"/>
                </a:lnTo>
                <a:lnTo>
                  <a:pt x="1208" y="30"/>
                </a:lnTo>
                <a:lnTo>
                  <a:pt x="1242" y="57"/>
                </a:lnTo>
                <a:lnTo>
                  <a:pt x="1266" y="52"/>
                </a:lnTo>
                <a:lnTo>
                  <a:pt x="1285" y="67"/>
                </a:lnTo>
                <a:lnTo>
                  <a:pt x="1287" y="81"/>
                </a:lnTo>
                <a:lnTo>
                  <a:pt x="1269" y="81"/>
                </a:lnTo>
                <a:lnTo>
                  <a:pt x="1246" y="124"/>
                </a:lnTo>
                <a:lnTo>
                  <a:pt x="1298" y="189"/>
                </a:lnTo>
                <a:lnTo>
                  <a:pt x="1341" y="199"/>
                </a:lnTo>
                <a:lnTo>
                  <a:pt x="1333" y="619"/>
                </a:lnTo>
                <a:lnTo>
                  <a:pt x="765" y="622"/>
                </a:lnTo>
                <a:lnTo>
                  <a:pt x="0" y="5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1" name="Freeform 63"/>
          <p:cNvSpPr/>
          <p:nvPr/>
        </p:nvSpPr>
        <p:spPr>
          <a:xfrm>
            <a:off x="3392640" y="3670200"/>
            <a:ext cx="925200" cy="493920"/>
          </a:xfrm>
          <a:custGeom>
            <a:avLst/>
            <a:gdLst>
              <a:gd name="textAreaLeft" fmla="*/ 0 w 925200"/>
              <a:gd name="textAreaRight" fmla="*/ 925560 w 92520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341" h="622">
                <a:moveTo>
                  <a:pt x="0" y="589"/>
                </a:moveTo>
                <a:lnTo>
                  <a:pt x="46" y="0"/>
                </a:lnTo>
                <a:lnTo>
                  <a:pt x="545" y="23"/>
                </a:lnTo>
                <a:lnTo>
                  <a:pt x="1208" y="30"/>
                </a:lnTo>
                <a:lnTo>
                  <a:pt x="1242" y="57"/>
                </a:lnTo>
                <a:lnTo>
                  <a:pt x="1266" y="52"/>
                </a:lnTo>
                <a:lnTo>
                  <a:pt x="1285" y="67"/>
                </a:lnTo>
                <a:lnTo>
                  <a:pt x="1287" y="81"/>
                </a:lnTo>
                <a:lnTo>
                  <a:pt x="1269" y="81"/>
                </a:lnTo>
                <a:lnTo>
                  <a:pt x="1246" y="124"/>
                </a:lnTo>
                <a:lnTo>
                  <a:pt x="1298" y="189"/>
                </a:lnTo>
                <a:lnTo>
                  <a:pt x="1341" y="199"/>
                </a:lnTo>
                <a:lnTo>
                  <a:pt x="1333" y="619"/>
                </a:lnTo>
                <a:lnTo>
                  <a:pt x="765" y="622"/>
                </a:lnTo>
                <a:lnTo>
                  <a:pt x="0" y="58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2" name="Freeform 64"/>
          <p:cNvSpPr/>
          <p:nvPr/>
        </p:nvSpPr>
        <p:spPr>
          <a:xfrm>
            <a:off x="4967280" y="3760920"/>
            <a:ext cx="903240" cy="457200"/>
          </a:xfrm>
          <a:custGeom>
            <a:avLst/>
            <a:gdLst>
              <a:gd name="textAreaLeft" fmla="*/ 0 w 903240"/>
              <a:gd name="textAreaRight" fmla="*/ 903600 w 903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306" h="576">
                <a:moveTo>
                  <a:pt x="0" y="576"/>
                </a:moveTo>
                <a:lnTo>
                  <a:pt x="11" y="548"/>
                </a:lnTo>
                <a:lnTo>
                  <a:pt x="38" y="545"/>
                </a:lnTo>
                <a:lnTo>
                  <a:pt x="48" y="483"/>
                </a:lnTo>
                <a:lnTo>
                  <a:pt x="31" y="478"/>
                </a:lnTo>
                <a:lnTo>
                  <a:pt x="29" y="463"/>
                </a:lnTo>
                <a:lnTo>
                  <a:pt x="73" y="428"/>
                </a:lnTo>
                <a:lnTo>
                  <a:pt x="152" y="454"/>
                </a:lnTo>
                <a:lnTo>
                  <a:pt x="164" y="385"/>
                </a:lnTo>
                <a:lnTo>
                  <a:pt x="219" y="365"/>
                </a:lnTo>
                <a:lnTo>
                  <a:pt x="210" y="349"/>
                </a:lnTo>
                <a:lnTo>
                  <a:pt x="225" y="307"/>
                </a:lnTo>
                <a:lnTo>
                  <a:pt x="241" y="284"/>
                </a:lnTo>
                <a:lnTo>
                  <a:pt x="323" y="271"/>
                </a:lnTo>
                <a:lnTo>
                  <a:pt x="349" y="278"/>
                </a:lnTo>
                <a:lnTo>
                  <a:pt x="437" y="254"/>
                </a:lnTo>
                <a:lnTo>
                  <a:pt x="468" y="278"/>
                </a:lnTo>
                <a:lnTo>
                  <a:pt x="497" y="221"/>
                </a:lnTo>
                <a:lnTo>
                  <a:pt x="522" y="206"/>
                </a:lnTo>
                <a:lnTo>
                  <a:pt x="586" y="236"/>
                </a:lnTo>
                <a:lnTo>
                  <a:pt x="595" y="202"/>
                </a:lnTo>
                <a:lnTo>
                  <a:pt x="663" y="129"/>
                </a:lnTo>
                <a:lnTo>
                  <a:pt x="678" y="84"/>
                </a:lnTo>
                <a:lnTo>
                  <a:pt x="705" y="91"/>
                </a:lnTo>
                <a:lnTo>
                  <a:pt x="767" y="53"/>
                </a:lnTo>
                <a:lnTo>
                  <a:pt x="749" y="21"/>
                </a:lnTo>
                <a:lnTo>
                  <a:pt x="757" y="0"/>
                </a:lnTo>
                <a:lnTo>
                  <a:pt x="815" y="0"/>
                </a:lnTo>
                <a:lnTo>
                  <a:pt x="851" y="10"/>
                </a:lnTo>
                <a:lnTo>
                  <a:pt x="869" y="46"/>
                </a:lnTo>
                <a:lnTo>
                  <a:pt x="930" y="55"/>
                </a:lnTo>
                <a:lnTo>
                  <a:pt x="963" y="70"/>
                </a:lnTo>
                <a:lnTo>
                  <a:pt x="1046" y="67"/>
                </a:lnTo>
                <a:lnTo>
                  <a:pt x="1083" y="46"/>
                </a:lnTo>
                <a:lnTo>
                  <a:pt x="1171" y="94"/>
                </a:lnTo>
                <a:lnTo>
                  <a:pt x="1204" y="190"/>
                </a:lnTo>
                <a:lnTo>
                  <a:pt x="1239" y="223"/>
                </a:lnTo>
                <a:lnTo>
                  <a:pt x="1306" y="257"/>
                </a:lnTo>
                <a:lnTo>
                  <a:pt x="1258" y="307"/>
                </a:lnTo>
                <a:lnTo>
                  <a:pt x="1212" y="334"/>
                </a:lnTo>
                <a:lnTo>
                  <a:pt x="1165" y="384"/>
                </a:lnTo>
                <a:lnTo>
                  <a:pt x="1165" y="399"/>
                </a:lnTo>
                <a:lnTo>
                  <a:pt x="1034" y="473"/>
                </a:lnTo>
                <a:lnTo>
                  <a:pt x="314" y="531"/>
                </a:lnTo>
                <a:lnTo>
                  <a:pt x="241" y="528"/>
                </a:lnTo>
                <a:lnTo>
                  <a:pt x="241" y="562"/>
                </a:lnTo>
                <a:lnTo>
                  <a:pt x="0" y="5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3" name="Freeform 65"/>
          <p:cNvSpPr/>
          <p:nvPr/>
        </p:nvSpPr>
        <p:spPr>
          <a:xfrm>
            <a:off x="4967280" y="3760920"/>
            <a:ext cx="903240" cy="457200"/>
          </a:xfrm>
          <a:custGeom>
            <a:avLst/>
            <a:gdLst>
              <a:gd name="textAreaLeft" fmla="*/ 0 w 903240"/>
              <a:gd name="textAreaRight" fmla="*/ 903600 w 903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306" h="576">
                <a:moveTo>
                  <a:pt x="0" y="576"/>
                </a:moveTo>
                <a:lnTo>
                  <a:pt x="11" y="548"/>
                </a:lnTo>
                <a:lnTo>
                  <a:pt x="38" y="545"/>
                </a:lnTo>
                <a:lnTo>
                  <a:pt x="48" y="483"/>
                </a:lnTo>
                <a:lnTo>
                  <a:pt x="31" y="478"/>
                </a:lnTo>
                <a:lnTo>
                  <a:pt x="29" y="463"/>
                </a:lnTo>
                <a:lnTo>
                  <a:pt x="73" y="428"/>
                </a:lnTo>
                <a:lnTo>
                  <a:pt x="152" y="454"/>
                </a:lnTo>
                <a:lnTo>
                  <a:pt x="164" y="385"/>
                </a:lnTo>
                <a:lnTo>
                  <a:pt x="219" y="365"/>
                </a:lnTo>
                <a:lnTo>
                  <a:pt x="210" y="349"/>
                </a:lnTo>
                <a:lnTo>
                  <a:pt x="225" y="307"/>
                </a:lnTo>
                <a:lnTo>
                  <a:pt x="241" y="284"/>
                </a:lnTo>
                <a:lnTo>
                  <a:pt x="323" y="271"/>
                </a:lnTo>
                <a:lnTo>
                  <a:pt x="349" y="278"/>
                </a:lnTo>
                <a:lnTo>
                  <a:pt x="437" y="254"/>
                </a:lnTo>
                <a:lnTo>
                  <a:pt x="468" y="278"/>
                </a:lnTo>
                <a:lnTo>
                  <a:pt x="497" y="221"/>
                </a:lnTo>
                <a:lnTo>
                  <a:pt x="522" y="206"/>
                </a:lnTo>
                <a:lnTo>
                  <a:pt x="586" y="236"/>
                </a:lnTo>
                <a:lnTo>
                  <a:pt x="595" y="202"/>
                </a:lnTo>
                <a:lnTo>
                  <a:pt x="663" y="129"/>
                </a:lnTo>
                <a:lnTo>
                  <a:pt x="678" y="84"/>
                </a:lnTo>
                <a:lnTo>
                  <a:pt x="705" y="91"/>
                </a:lnTo>
                <a:lnTo>
                  <a:pt x="767" y="53"/>
                </a:lnTo>
                <a:lnTo>
                  <a:pt x="749" y="21"/>
                </a:lnTo>
                <a:lnTo>
                  <a:pt x="757" y="0"/>
                </a:lnTo>
                <a:lnTo>
                  <a:pt x="815" y="0"/>
                </a:lnTo>
                <a:lnTo>
                  <a:pt x="851" y="10"/>
                </a:lnTo>
                <a:lnTo>
                  <a:pt x="869" y="46"/>
                </a:lnTo>
                <a:lnTo>
                  <a:pt x="930" y="55"/>
                </a:lnTo>
                <a:lnTo>
                  <a:pt x="963" y="70"/>
                </a:lnTo>
                <a:lnTo>
                  <a:pt x="1046" y="67"/>
                </a:lnTo>
                <a:lnTo>
                  <a:pt x="1083" y="46"/>
                </a:lnTo>
                <a:lnTo>
                  <a:pt x="1171" y="94"/>
                </a:lnTo>
                <a:lnTo>
                  <a:pt x="1204" y="190"/>
                </a:lnTo>
                <a:lnTo>
                  <a:pt x="1239" y="223"/>
                </a:lnTo>
                <a:lnTo>
                  <a:pt x="1306" y="257"/>
                </a:lnTo>
                <a:lnTo>
                  <a:pt x="1258" y="307"/>
                </a:lnTo>
                <a:lnTo>
                  <a:pt x="1212" y="334"/>
                </a:lnTo>
                <a:lnTo>
                  <a:pt x="1165" y="384"/>
                </a:lnTo>
                <a:lnTo>
                  <a:pt x="1165" y="399"/>
                </a:lnTo>
                <a:lnTo>
                  <a:pt x="1034" y="473"/>
                </a:lnTo>
                <a:lnTo>
                  <a:pt x="314" y="531"/>
                </a:lnTo>
                <a:lnTo>
                  <a:pt x="241" y="528"/>
                </a:lnTo>
                <a:lnTo>
                  <a:pt x="241" y="562"/>
                </a:lnTo>
                <a:lnTo>
                  <a:pt x="0" y="57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4" name="Freeform 66"/>
          <p:cNvSpPr/>
          <p:nvPr/>
        </p:nvSpPr>
        <p:spPr>
          <a:xfrm>
            <a:off x="4397400" y="4775040"/>
            <a:ext cx="693720" cy="611280"/>
          </a:xfrm>
          <a:custGeom>
            <a:avLst/>
            <a:gdLst>
              <a:gd name="textAreaLeft" fmla="*/ 0 w 693720"/>
              <a:gd name="textAreaRight" fmla="*/ 694080 w 6937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1010" h="769">
                <a:moveTo>
                  <a:pt x="0" y="7"/>
                </a:moveTo>
                <a:lnTo>
                  <a:pt x="12" y="212"/>
                </a:lnTo>
                <a:lnTo>
                  <a:pt x="39" y="238"/>
                </a:lnTo>
                <a:lnTo>
                  <a:pt x="49" y="289"/>
                </a:lnTo>
                <a:lnTo>
                  <a:pt x="104" y="363"/>
                </a:lnTo>
                <a:lnTo>
                  <a:pt x="101" y="425"/>
                </a:lnTo>
                <a:lnTo>
                  <a:pt x="70" y="484"/>
                </a:lnTo>
                <a:lnTo>
                  <a:pt x="72" y="519"/>
                </a:lnTo>
                <a:lnTo>
                  <a:pt x="81" y="550"/>
                </a:lnTo>
                <a:lnTo>
                  <a:pt x="77" y="584"/>
                </a:lnTo>
                <a:lnTo>
                  <a:pt x="58" y="606"/>
                </a:lnTo>
                <a:lnTo>
                  <a:pt x="35" y="633"/>
                </a:lnTo>
                <a:lnTo>
                  <a:pt x="50" y="649"/>
                </a:lnTo>
                <a:lnTo>
                  <a:pt x="187" y="633"/>
                </a:lnTo>
                <a:lnTo>
                  <a:pt x="295" y="675"/>
                </a:lnTo>
                <a:lnTo>
                  <a:pt x="401" y="668"/>
                </a:lnTo>
                <a:lnTo>
                  <a:pt x="390" y="642"/>
                </a:lnTo>
                <a:lnTo>
                  <a:pt x="422" y="620"/>
                </a:lnTo>
                <a:lnTo>
                  <a:pt x="496" y="633"/>
                </a:lnTo>
                <a:lnTo>
                  <a:pt x="507" y="678"/>
                </a:lnTo>
                <a:lnTo>
                  <a:pt x="528" y="671"/>
                </a:lnTo>
                <a:lnTo>
                  <a:pt x="559" y="681"/>
                </a:lnTo>
                <a:lnTo>
                  <a:pt x="588" y="709"/>
                </a:lnTo>
                <a:lnTo>
                  <a:pt x="596" y="734"/>
                </a:lnTo>
                <a:lnTo>
                  <a:pt x="627" y="740"/>
                </a:lnTo>
                <a:lnTo>
                  <a:pt x="657" y="755"/>
                </a:lnTo>
                <a:lnTo>
                  <a:pt x="682" y="748"/>
                </a:lnTo>
                <a:lnTo>
                  <a:pt x="706" y="726"/>
                </a:lnTo>
                <a:lnTo>
                  <a:pt x="702" y="709"/>
                </a:lnTo>
                <a:lnTo>
                  <a:pt x="733" y="733"/>
                </a:lnTo>
                <a:lnTo>
                  <a:pt x="748" y="712"/>
                </a:lnTo>
                <a:lnTo>
                  <a:pt x="771" y="752"/>
                </a:lnTo>
                <a:lnTo>
                  <a:pt x="802" y="733"/>
                </a:lnTo>
                <a:lnTo>
                  <a:pt x="815" y="721"/>
                </a:lnTo>
                <a:lnTo>
                  <a:pt x="802" y="709"/>
                </a:lnTo>
                <a:lnTo>
                  <a:pt x="806" y="675"/>
                </a:lnTo>
                <a:lnTo>
                  <a:pt x="815" y="675"/>
                </a:lnTo>
                <a:lnTo>
                  <a:pt x="842" y="678"/>
                </a:lnTo>
                <a:lnTo>
                  <a:pt x="850" y="702"/>
                </a:lnTo>
                <a:lnTo>
                  <a:pt x="883" y="700"/>
                </a:lnTo>
                <a:lnTo>
                  <a:pt x="912" y="716"/>
                </a:lnTo>
                <a:lnTo>
                  <a:pt x="916" y="712"/>
                </a:lnTo>
                <a:lnTo>
                  <a:pt x="927" y="729"/>
                </a:lnTo>
                <a:lnTo>
                  <a:pt x="950" y="741"/>
                </a:lnTo>
                <a:lnTo>
                  <a:pt x="939" y="769"/>
                </a:lnTo>
                <a:lnTo>
                  <a:pt x="966" y="741"/>
                </a:lnTo>
                <a:lnTo>
                  <a:pt x="987" y="758"/>
                </a:lnTo>
                <a:lnTo>
                  <a:pt x="987" y="740"/>
                </a:lnTo>
                <a:lnTo>
                  <a:pt x="1010" y="733"/>
                </a:lnTo>
                <a:lnTo>
                  <a:pt x="1010" y="719"/>
                </a:lnTo>
                <a:lnTo>
                  <a:pt x="985" y="716"/>
                </a:lnTo>
                <a:lnTo>
                  <a:pt x="970" y="702"/>
                </a:lnTo>
                <a:lnTo>
                  <a:pt x="946" y="704"/>
                </a:lnTo>
                <a:lnTo>
                  <a:pt x="937" y="683"/>
                </a:lnTo>
                <a:lnTo>
                  <a:pt x="912" y="683"/>
                </a:lnTo>
                <a:lnTo>
                  <a:pt x="889" y="645"/>
                </a:lnTo>
                <a:lnTo>
                  <a:pt x="902" y="637"/>
                </a:lnTo>
                <a:lnTo>
                  <a:pt x="923" y="627"/>
                </a:lnTo>
                <a:lnTo>
                  <a:pt x="927" y="606"/>
                </a:lnTo>
                <a:lnTo>
                  <a:pt x="944" y="604"/>
                </a:lnTo>
                <a:lnTo>
                  <a:pt x="970" y="582"/>
                </a:lnTo>
                <a:lnTo>
                  <a:pt x="962" y="574"/>
                </a:lnTo>
                <a:lnTo>
                  <a:pt x="962" y="534"/>
                </a:lnTo>
                <a:lnTo>
                  <a:pt x="933" y="555"/>
                </a:lnTo>
                <a:lnTo>
                  <a:pt x="904" y="560"/>
                </a:lnTo>
                <a:lnTo>
                  <a:pt x="879" y="592"/>
                </a:lnTo>
                <a:lnTo>
                  <a:pt x="837" y="574"/>
                </a:lnTo>
                <a:lnTo>
                  <a:pt x="842" y="562"/>
                </a:lnTo>
                <a:lnTo>
                  <a:pt x="862" y="555"/>
                </a:lnTo>
                <a:lnTo>
                  <a:pt x="862" y="562"/>
                </a:lnTo>
                <a:lnTo>
                  <a:pt x="873" y="541"/>
                </a:lnTo>
                <a:lnTo>
                  <a:pt x="858" y="548"/>
                </a:lnTo>
                <a:lnTo>
                  <a:pt x="850" y="539"/>
                </a:lnTo>
                <a:lnTo>
                  <a:pt x="846" y="550"/>
                </a:lnTo>
                <a:lnTo>
                  <a:pt x="827" y="541"/>
                </a:lnTo>
                <a:lnTo>
                  <a:pt x="810" y="562"/>
                </a:lnTo>
                <a:lnTo>
                  <a:pt x="779" y="567"/>
                </a:lnTo>
                <a:lnTo>
                  <a:pt x="721" y="555"/>
                </a:lnTo>
                <a:lnTo>
                  <a:pt x="719" y="543"/>
                </a:lnTo>
                <a:lnTo>
                  <a:pt x="754" y="500"/>
                </a:lnTo>
                <a:lnTo>
                  <a:pt x="785" y="502"/>
                </a:lnTo>
                <a:lnTo>
                  <a:pt x="808" y="519"/>
                </a:lnTo>
                <a:lnTo>
                  <a:pt x="894" y="534"/>
                </a:lnTo>
                <a:lnTo>
                  <a:pt x="831" y="442"/>
                </a:lnTo>
                <a:lnTo>
                  <a:pt x="842" y="377"/>
                </a:lnTo>
                <a:lnTo>
                  <a:pt x="478" y="387"/>
                </a:lnTo>
                <a:lnTo>
                  <a:pt x="480" y="353"/>
                </a:lnTo>
                <a:lnTo>
                  <a:pt x="523" y="243"/>
                </a:lnTo>
                <a:lnTo>
                  <a:pt x="584" y="173"/>
                </a:lnTo>
                <a:lnTo>
                  <a:pt x="565" y="151"/>
                </a:lnTo>
                <a:lnTo>
                  <a:pt x="573" y="80"/>
                </a:lnTo>
                <a:lnTo>
                  <a:pt x="540" y="0"/>
                </a:lnTo>
                <a:lnTo>
                  <a:pt x="0" y="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5" name="Freeform 67"/>
          <p:cNvSpPr/>
          <p:nvPr/>
        </p:nvSpPr>
        <p:spPr>
          <a:xfrm>
            <a:off x="4397400" y="4775040"/>
            <a:ext cx="693720" cy="611280"/>
          </a:xfrm>
          <a:custGeom>
            <a:avLst/>
            <a:gdLst>
              <a:gd name="textAreaLeft" fmla="*/ 0 w 693720"/>
              <a:gd name="textAreaRight" fmla="*/ 694080 w 6937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1010" h="769">
                <a:moveTo>
                  <a:pt x="0" y="7"/>
                </a:moveTo>
                <a:lnTo>
                  <a:pt x="12" y="212"/>
                </a:lnTo>
                <a:lnTo>
                  <a:pt x="39" y="238"/>
                </a:lnTo>
                <a:lnTo>
                  <a:pt x="49" y="289"/>
                </a:lnTo>
                <a:lnTo>
                  <a:pt x="104" y="363"/>
                </a:lnTo>
                <a:lnTo>
                  <a:pt x="101" y="425"/>
                </a:lnTo>
                <a:lnTo>
                  <a:pt x="70" y="484"/>
                </a:lnTo>
                <a:lnTo>
                  <a:pt x="72" y="519"/>
                </a:lnTo>
                <a:lnTo>
                  <a:pt x="81" y="550"/>
                </a:lnTo>
                <a:lnTo>
                  <a:pt x="77" y="584"/>
                </a:lnTo>
                <a:lnTo>
                  <a:pt x="58" y="606"/>
                </a:lnTo>
                <a:lnTo>
                  <a:pt x="35" y="633"/>
                </a:lnTo>
                <a:lnTo>
                  <a:pt x="50" y="649"/>
                </a:lnTo>
                <a:lnTo>
                  <a:pt x="187" y="633"/>
                </a:lnTo>
                <a:lnTo>
                  <a:pt x="295" y="675"/>
                </a:lnTo>
                <a:lnTo>
                  <a:pt x="401" y="668"/>
                </a:lnTo>
                <a:lnTo>
                  <a:pt x="390" y="642"/>
                </a:lnTo>
                <a:lnTo>
                  <a:pt x="422" y="620"/>
                </a:lnTo>
                <a:lnTo>
                  <a:pt x="496" y="633"/>
                </a:lnTo>
                <a:lnTo>
                  <a:pt x="507" y="678"/>
                </a:lnTo>
                <a:lnTo>
                  <a:pt x="528" y="671"/>
                </a:lnTo>
                <a:lnTo>
                  <a:pt x="559" y="681"/>
                </a:lnTo>
                <a:lnTo>
                  <a:pt x="588" y="709"/>
                </a:lnTo>
                <a:lnTo>
                  <a:pt x="596" y="734"/>
                </a:lnTo>
                <a:lnTo>
                  <a:pt x="627" y="740"/>
                </a:lnTo>
                <a:lnTo>
                  <a:pt x="657" y="755"/>
                </a:lnTo>
                <a:lnTo>
                  <a:pt x="682" y="748"/>
                </a:lnTo>
                <a:lnTo>
                  <a:pt x="706" y="726"/>
                </a:lnTo>
                <a:lnTo>
                  <a:pt x="702" y="709"/>
                </a:lnTo>
                <a:lnTo>
                  <a:pt x="733" y="733"/>
                </a:lnTo>
                <a:lnTo>
                  <a:pt x="748" y="712"/>
                </a:lnTo>
                <a:lnTo>
                  <a:pt x="771" y="752"/>
                </a:lnTo>
                <a:lnTo>
                  <a:pt x="802" y="733"/>
                </a:lnTo>
                <a:lnTo>
                  <a:pt x="815" y="721"/>
                </a:lnTo>
                <a:lnTo>
                  <a:pt x="802" y="709"/>
                </a:lnTo>
                <a:lnTo>
                  <a:pt x="806" y="675"/>
                </a:lnTo>
                <a:lnTo>
                  <a:pt x="815" y="675"/>
                </a:lnTo>
                <a:lnTo>
                  <a:pt x="842" y="678"/>
                </a:lnTo>
                <a:lnTo>
                  <a:pt x="850" y="702"/>
                </a:lnTo>
                <a:lnTo>
                  <a:pt x="883" y="700"/>
                </a:lnTo>
                <a:lnTo>
                  <a:pt x="912" y="716"/>
                </a:lnTo>
                <a:lnTo>
                  <a:pt x="916" y="712"/>
                </a:lnTo>
                <a:lnTo>
                  <a:pt x="927" y="729"/>
                </a:lnTo>
                <a:lnTo>
                  <a:pt x="950" y="741"/>
                </a:lnTo>
                <a:lnTo>
                  <a:pt x="939" y="769"/>
                </a:lnTo>
                <a:lnTo>
                  <a:pt x="966" y="741"/>
                </a:lnTo>
                <a:lnTo>
                  <a:pt x="987" y="758"/>
                </a:lnTo>
                <a:lnTo>
                  <a:pt x="987" y="740"/>
                </a:lnTo>
                <a:lnTo>
                  <a:pt x="1010" y="733"/>
                </a:lnTo>
                <a:lnTo>
                  <a:pt x="1010" y="719"/>
                </a:lnTo>
                <a:lnTo>
                  <a:pt x="985" y="716"/>
                </a:lnTo>
                <a:lnTo>
                  <a:pt x="970" y="702"/>
                </a:lnTo>
                <a:lnTo>
                  <a:pt x="946" y="704"/>
                </a:lnTo>
                <a:lnTo>
                  <a:pt x="937" y="683"/>
                </a:lnTo>
                <a:lnTo>
                  <a:pt x="912" y="683"/>
                </a:lnTo>
                <a:lnTo>
                  <a:pt x="889" y="645"/>
                </a:lnTo>
                <a:lnTo>
                  <a:pt x="902" y="637"/>
                </a:lnTo>
                <a:lnTo>
                  <a:pt x="923" y="627"/>
                </a:lnTo>
                <a:lnTo>
                  <a:pt x="927" y="606"/>
                </a:lnTo>
                <a:lnTo>
                  <a:pt x="944" y="604"/>
                </a:lnTo>
                <a:lnTo>
                  <a:pt x="970" y="582"/>
                </a:lnTo>
                <a:lnTo>
                  <a:pt x="962" y="574"/>
                </a:lnTo>
                <a:lnTo>
                  <a:pt x="962" y="534"/>
                </a:lnTo>
                <a:lnTo>
                  <a:pt x="933" y="555"/>
                </a:lnTo>
                <a:lnTo>
                  <a:pt x="904" y="560"/>
                </a:lnTo>
                <a:lnTo>
                  <a:pt x="879" y="592"/>
                </a:lnTo>
                <a:lnTo>
                  <a:pt x="837" y="574"/>
                </a:lnTo>
                <a:lnTo>
                  <a:pt x="842" y="562"/>
                </a:lnTo>
                <a:lnTo>
                  <a:pt x="862" y="555"/>
                </a:lnTo>
                <a:lnTo>
                  <a:pt x="862" y="562"/>
                </a:lnTo>
                <a:lnTo>
                  <a:pt x="873" y="541"/>
                </a:lnTo>
                <a:lnTo>
                  <a:pt x="858" y="548"/>
                </a:lnTo>
                <a:lnTo>
                  <a:pt x="850" y="539"/>
                </a:lnTo>
                <a:lnTo>
                  <a:pt x="846" y="550"/>
                </a:lnTo>
                <a:lnTo>
                  <a:pt x="827" y="541"/>
                </a:lnTo>
                <a:lnTo>
                  <a:pt x="810" y="562"/>
                </a:lnTo>
                <a:lnTo>
                  <a:pt x="779" y="567"/>
                </a:lnTo>
                <a:lnTo>
                  <a:pt x="721" y="555"/>
                </a:lnTo>
                <a:lnTo>
                  <a:pt x="719" y="543"/>
                </a:lnTo>
                <a:lnTo>
                  <a:pt x="754" y="500"/>
                </a:lnTo>
                <a:lnTo>
                  <a:pt x="785" y="502"/>
                </a:lnTo>
                <a:lnTo>
                  <a:pt x="808" y="519"/>
                </a:lnTo>
                <a:lnTo>
                  <a:pt x="894" y="534"/>
                </a:lnTo>
                <a:lnTo>
                  <a:pt x="831" y="442"/>
                </a:lnTo>
                <a:lnTo>
                  <a:pt x="842" y="377"/>
                </a:lnTo>
                <a:lnTo>
                  <a:pt x="478" y="387"/>
                </a:lnTo>
                <a:lnTo>
                  <a:pt x="480" y="353"/>
                </a:lnTo>
                <a:lnTo>
                  <a:pt x="523" y="243"/>
                </a:lnTo>
                <a:lnTo>
                  <a:pt x="584" y="173"/>
                </a:lnTo>
                <a:lnTo>
                  <a:pt x="565" y="151"/>
                </a:lnTo>
                <a:lnTo>
                  <a:pt x="573" y="80"/>
                </a:lnTo>
                <a:lnTo>
                  <a:pt x="540" y="0"/>
                </a:lnTo>
                <a:lnTo>
                  <a:pt x="0" y="7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6" name="Freeform 68"/>
          <p:cNvSpPr/>
          <p:nvPr/>
        </p:nvSpPr>
        <p:spPr>
          <a:xfrm>
            <a:off x="6873840" y="2143080"/>
            <a:ext cx="452520" cy="709560"/>
          </a:xfrm>
          <a:custGeom>
            <a:avLst/>
            <a:gdLst>
              <a:gd name="textAreaLeft" fmla="*/ 0 w 452520"/>
              <a:gd name="textAreaRight" fmla="*/ 452880 w 452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659" h="897">
                <a:moveTo>
                  <a:pt x="0" y="488"/>
                </a:moveTo>
                <a:lnTo>
                  <a:pt x="38" y="489"/>
                </a:lnTo>
                <a:lnTo>
                  <a:pt x="42" y="433"/>
                </a:lnTo>
                <a:lnTo>
                  <a:pt x="88" y="351"/>
                </a:lnTo>
                <a:lnTo>
                  <a:pt x="67" y="294"/>
                </a:lnTo>
                <a:lnTo>
                  <a:pt x="86" y="217"/>
                </a:lnTo>
                <a:lnTo>
                  <a:pt x="85" y="186"/>
                </a:lnTo>
                <a:lnTo>
                  <a:pt x="160" y="15"/>
                </a:lnTo>
                <a:lnTo>
                  <a:pt x="181" y="15"/>
                </a:lnTo>
                <a:lnTo>
                  <a:pt x="191" y="49"/>
                </a:lnTo>
                <a:lnTo>
                  <a:pt x="283" y="18"/>
                </a:lnTo>
                <a:lnTo>
                  <a:pt x="285" y="8"/>
                </a:lnTo>
                <a:lnTo>
                  <a:pt x="312" y="0"/>
                </a:lnTo>
                <a:lnTo>
                  <a:pt x="362" y="20"/>
                </a:lnTo>
                <a:lnTo>
                  <a:pt x="401" y="49"/>
                </a:lnTo>
                <a:lnTo>
                  <a:pt x="483" y="297"/>
                </a:lnTo>
                <a:lnTo>
                  <a:pt x="541" y="299"/>
                </a:lnTo>
                <a:lnTo>
                  <a:pt x="551" y="313"/>
                </a:lnTo>
                <a:lnTo>
                  <a:pt x="543" y="320"/>
                </a:lnTo>
                <a:lnTo>
                  <a:pt x="587" y="380"/>
                </a:lnTo>
                <a:lnTo>
                  <a:pt x="595" y="366"/>
                </a:lnTo>
                <a:lnTo>
                  <a:pt x="643" y="404"/>
                </a:lnTo>
                <a:lnTo>
                  <a:pt x="624" y="414"/>
                </a:lnTo>
                <a:lnTo>
                  <a:pt x="628" y="422"/>
                </a:lnTo>
                <a:lnTo>
                  <a:pt x="659" y="422"/>
                </a:lnTo>
                <a:lnTo>
                  <a:pt x="638" y="470"/>
                </a:lnTo>
                <a:lnTo>
                  <a:pt x="609" y="464"/>
                </a:lnTo>
                <a:lnTo>
                  <a:pt x="587" y="482"/>
                </a:lnTo>
                <a:lnTo>
                  <a:pt x="589" y="501"/>
                </a:lnTo>
                <a:lnTo>
                  <a:pt x="568" y="515"/>
                </a:lnTo>
                <a:lnTo>
                  <a:pt x="547" y="506"/>
                </a:lnTo>
                <a:lnTo>
                  <a:pt x="549" y="539"/>
                </a:lnTo>
                <a:lnTo>
                  <a:pt x="530" y="527"/>
                </a:lnTo>
                <a:lnTo>
                  <a:pt x="524" y="561"/>
                </a:lnTo>
                <a:lnTo>
                  <a:pt x="495" y="532"/>
                </a:lnTo>
                <a:lnTo>
                  <a:pt x="470" y="559"/>
                </a:lnTo>
                <a:lnTo>
                  <a:pt x="443" y="570"/>
                </a:lnTo>
                <a:lnTo>
                  <a:pt x="437" y="599"/>
                </a:lnTo>
                <a:lnTo>
                  <a:pt x="408" y="590"/>
                </a:lnTo>
                <a:lnTo>
                  <a:pt x="420" y="570"/>
                </a:lnTo>
                <a:lnTo>
                  <a:pt x="401" y="546"/>
                </a:lnTo>
                <a:lnTo>
                  <a:pt x="377" y="580"/>
                </a:lnTo>
                <a:lnTo>
                  <a:pt x="387" y="654"/>
                </a:lnTo>
                <a:lnTo>
                  <a:pt x="374" y="671"/>
                </a:lnTo>
                <a:lnTo>
                  <a:pt x="352" y="674"/>
                </a:lnTo>
                <a:lnTo>
                  <a:pt x="339" y="671"/>
                </a:lnTo>
                <a:lnTo>
                  <a:pt x="316" y="712"/>
                </a:lnTo>
                <a:lnTo>
                  <a:pt x="285" y="712"/>
                </a:lnTo>
                <a:lnTo>
                  <a:pt x="291" y="748"/>
                </a:lnTo>
                <a:lnTo>
                  <a:pt x="271" y="720"/>
                </a:lnTo>
                <a:lnTo>
                  <a:pt x="229" y="749"/>
                </a:lnTo>
                <a:lnTo>
                  <a:pt x="221" y="773"/>
                </a:lnTo>
                <a:lnTo>
                  <a:pt x="237" y="789"/>
                </a:lnTo>
                <a:lnTo>
                  <a:pt x="216" y="797"/>
                </a:lnTo>
                <a:lnTo>
                  <a:pt x="221" y="823"/>
                </a:lnTo>
                <a:lnTo>
                  <a:pt x="202" y="842"/>
                </a:lnTo>
                <a:lnTo>
                  <a:pt x="198" y="897"/>
                </a:lnTo>
                <a:lnTo>
                  <a:pt x="183" y="897"/>
                </a:lnTo>
                <a:lnTo>
                  <a:pt x="123" y="825"/>
                </a:lnTo>
                <a:lnTo>
                  <a:pt x="0" y="4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7" name="Freeform 69"/>
          <p:cNvSpPr/>
          <p:nvPr/>
        </p:nvSpPr>
        <p:spPr>
          <a:xfrm>
            <a:off x="6873840" y="2143080"/>
            <a:ext cx="452520" cy="709560"/>
          </a:xfrm>
          <a:custGeom>
            <a:avLst/>
            <a:gdLst>
              <a:gd name="textAreaLeft" fmla="*/ 0 w 452520"/>
              <a:gd name="textAreaRight" fmla="*/ 452880 w 452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659" h="897">
                <a:moveTo>
                  <a:pt x="0" y="488"/>
                </a:moveTo>
                <a:lnTo>
                  <a:pt x="38" y="489"/>
                </a:lnTo>
                <a:lnTo>
                  <a:pt x="42" y="433"/>
                </a:lnTo>
                <a:lnTo>
                  <a:pt x="88" y="351"/>
                </a:lnTo>
                <a:lnTo>
                  <a:pt x="67" y="294"/>
                </a:lnTo>
                <a:lnTo>
                  <a:pt x="86" y="217"/>
                </a:lnTo>
                <a:lnTo>
                  <a:pt x="85" y="186"/>
                </a:lnTo>
                <a:lnTo>
                  <a:pt x="160" y="15"/>
                </a:lnTo>
                <a:lnTo>
                  <a:pt x="181" y="15"/>
                </a:lnTo>
                <a:lnTo>
                  <a:pt x="191" y="49"/>
                </a:lnTo>
                <a:lnTo>
                  <a:pt x="283" y="18"/>
                </a:lnTo>
                <a:lnTo>
                  <a:pt x="285" y="8"/>
                </a:lnTo>
                <a:lnTo>
                  <a:pt x="312" y="0"/>
                </a:lnTo>
                <a:lnTo>
                  <a:pt x="362" y="20"/>
                </a:lnTo>
                <a:lnTo>
                  <a:pt x="401" y="49"/>
                </a:lnTo>
                <a:lnTo>
                  <a:pt x="483" y="297"/>
                </a:lnTo>
                <a:lnTo>
                  <a:pt x="541" y="299"/>
                </a:lnTo>
                <a:lnTo>
                  <a:pt x="551" y="313"/>
                </a:lnTo>
                <a:lnTo>
                  <a:pt x="543" y="320"/>
                </a:lnTo>
                <a:lnTo>
                  <a:pt x="587" y="380"/>
                </a:lnTo>
                <a:lnTo>
                  <a:pt x="595" y="366"/>
                </a:lnTo>
                <a:lnTo>
                  <a:pt x="643" y="404"/>
                </a:lnTo>
                <a:lnTo>
                  <a:pt x="624" y="414"/>
                </a:lnTo>
                <a:lnTo>
                  <a:pt x="628" y="422"/>
                </a:lnTo>
                <a:lnTo>
                  <a:pt x="659" y="422"/>
                </a:lnTo>
                <a:lnTo>
                  <a:pt x="638" y="470"/>
                </a:lnTo>
                <a:lnTo>
                  <a:pt x="609" y="464"/>
                </a:lnTo>
                <a:lnTo>
                  <a:pt x="587" y="482"/>
                </a:lnTo>
                <a:lnTo>
                  <a:pt x="589" y="501"/>
                </a:lnTo>
                <a:lnTo>
                  <a:pt x="568" y="515"/>
                </a:lnTo>
                <a:lnTo>
                  <a:pt x="547" y="506"/>
                </a:lnTo>
                <a:lnTo>
                  <a:pt x="549" y="539"/>
                </a:lnTo>
                <a:lnTo>
                  <a:pt x="530" y="527"/>
                </a:lnTo>
                <a:lnTo>
                  <a:pt x="524" y="561"/>
                </a:lnTo>
                <a:lnTo>
                  <a:pt x="495" y="532"/>
                </a:lnTo>
                <a:lnTo>
                  <a:pt x="470" y="559"/>
                </a:lnTo>
                <a:lnTo>
                  <a:pt x="443" y="570"/>
                </a:lnTo>
                <a:lnTo>
                  <a:pt x="437" y="599"/>
                </a:lnTo>
                <a:lnTo>
                  <a:pt x="408" y="590"/>
                </a:lnTo>
                <a:lnTo>
                  <a:pt x="420" y="570"/>
                </a:lnTo>
                <a:lnTo>
                  <a:pt x="401" y="546"/>
                </a:lnTo>
                <a:lnTo>
                  <a:pt x="377" y="580"/>
                </a:lnTo>
                <a:lnTo>
                  <a:pt x="387" y="654"/>
                </a:lnTo>
                <a:lnTo>
                  <a:pt x="374" y="671"/>
                </a:lnTo>
                <a:lnTo>
                  <a:pt x="352" y="674"/>
                </a:lnTo>
                <a:lnTo>
                  <a:pt x="339" y="671"/>
                </a:lnTo>
                <a:lnTo>
                  <a:pt x="316" y="712"/>
                </a:lnTo>
                <a:lnTo>
                  <a:pt x="285" y="712"/>
                </a:lnTo>
                <a:lnTo>
                  <a:pt x="291" y="748"/>
                </a:lnTo>
                <a:lnTo>
                  <a:pt x="271" y="720"/>
                </a:lnTo>
                <a:lnTo>
                  <a:pt x="229" y="749"/>
                </a:lnTo>
                <a:lnTo>
                  <a:pt x="221" y="773"/>
                </a:lnTo>
                <a:lnTo>
                  <a:pt x="237" y="789"/>
                </a:lnTo>
                <a:lnTo>
                  <a:pt x="216" y="797"/>
                </a:lnTo>
                <a:lnTo>
                  <a:pt x="221" y="823"/>
                </a:lnTo>
                <a:lnTo>
                  <a:pt x="202" y="842"/>
                </a:lnTo>
                <a:lnTo>
                  <a:pt x="198" y="897"/>
                </a:lnTo>
                <a:lnTo>
                  <a:pt x="183" y="897"/>
                </a:lnTo>
                <a:lnTo>
                  <a:pt x="123" y="825"/>
                </a:lnTo>
                <a:lnTo>
                  <a:pt x="0" y="48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8" name="Freeform 70"/>
          <p:cNvSpPr/>
          <p:nvPr/>
        </p:nvSpPr>
        <p:spPr>
          <a:xfrm>
            <a:off x="6113520" y="3498840"/>
            <a:ext cx="561960" cy="277920"/>
          </a:xfrm>
          <a:custGeom>
            <a:avLst/>
            <a:gdLst>
              <a:gd name="textAreaLeft" fmla="*/ 0 w 561960"/>
              <a:gd name="textAreaRight" fmla="*/ 562320 w 5619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817" h="351">
                <a:moveTo>
                  <a:pt x="0" y="104"/>
                </a:moveTo>
                <a:lnTo>
                  <a:pt x="21" y="204"/>
                </a:lnTo>
                <a:lnTo>
                  <a:pt x="81" y="142"/>
                </a:lnTo>
                <a:lnTo>
                  <a:pt x="181" y="118"/>
                </a:lnTo>
                <a:lnTo>
                  <a:pt x="196" y="91"/>
                </a:lnTo>
                <a:lnTo>
                  <a:pt x="250" y="87"/>
                </a:lnTo>
                <a:lnTo>
                  <a:pt x="296" y="104"/>
                </a:lnTo>
                <a:lnTo>
                  <a:pt x="321" y="134"/>
                </a:lnTo>
                <a:lnTo>
                  <a:pt x="368" y="144"/>
                </a:lnTo>
                <a:lnTo>
                  <a:pt x="395" y="176"/>
                </a:lnTo>
                <a:lnTo>
                  <a:pt x="437" y="192"/>
                </a:lnTo>
                <a:lnTo>
                  <a:pt x="456" y="183"/>
                </a:lnTo>
                <a:lnTo>
                  <a:pt x="466" y="202"/>
                </a:lnTo>
                <a:lnTo>
                  <a:pt x="458" y="217"/>
                </a:lnTo>
                <a:lnTo>
                  <a:pt x="454" y="238"/>
                </a:lnTo>
                <a:lnTo>
                  <a:pt x="426" y="283"/>
                </a:lnTo>
                <a:lnTo>
                  <a:pt x="437" y="312"/>
                </a:lnTo>
                <a:lnTo>
                  <a:pt x="474" y="298"/>
                </a:lnTo>
                <a:lnTo>
                  <a:pt x="474" y="284"/>
                </a:lnTo>
                <a:lnTo>
                  <a:pt x="501" y="312"/>
                </a:lnTo>
                <a:lnTo>
                  <a:pt x="508" y="298"/>
                </a:lnTo>
                <a:lnTo>
                  <a:pt x="528" y="322"/>
                </a:lnTo>
                <a:lnTo>
                  <a:pt x="535" y="312"/>
                </a:lnTo>
                <a:lnTo>
                  <a:pt x="570" y="322"/>
                </a:lnTo>
                <a:lnTo>
                  <a:pt x="585" y="317"/>
                </a:lnTo>
                <a:lnTo>
                  <a:pt x="616" y="341"/>
                </a:lnTo>
                <a:lnTo>
                  <a:pt x="593" y="301"/>
                </a:lnTo>
                <a:lnTo>
                  <a:pt x="535" y="267"/>
                </a:lnTo>
                <a:lnTo>
                  <a:pt x="589" y="291"/>
                </a:lnTo>
                <a:lnTo>
                  <a:pt x="557" y="253"/>
                </a:lnTo>
                <a:lnTo>
                  <a:pt x="547" y="219"/>
                </a:lnTo>
                <a:lnTo>
                  <a:pt x="553" y="142"/>
                </a:lnTo>
                <a:lnTo>
                  <a:pt x="520" y="125"/>
                </a:lnTo>
                <a:lnTo>
                  <a:pt x="585" y="74"/>
                </a:lnTo>
                <a:lnTo>
                  <a:pt x="589" y="41"/>
                </a:lnTo>
                <a:lnTo>
                  <a:pt x="626" y="45"/>
                </a:lnTo>
                <a:lnTo>
                  <a:pt x="618" y="74"/>
                </a:lnTo>
                <a:lnTo>
                  <a:pt x="591" y="84"/>
                </a:lnTo>
                <a:lnTo>
                  <a:pt x="578" y="113"/>
                </a:lnTo>
                <a:lnTo>
                  <a:pt x="585" y="140"/>
                </a:lnTo>
                <a:lnTo>
                  <a:pt x="603" y="130"/>
                </a:lnTo>
                <a:lnTo>
                  <a:pt x="595" y="163"/>
                </a:lnTo>
                <a:lnTo>
                  <a:pt x="603" y="176"/>
                </a:lnTo>
                <a:lnTo>
                  <a:pt x="607" y="194"/>
                </a:lnTo>
                <a:lnTo>
                  <a:pt x="589" y="185"/>
                </a:lnTo>
                <a:lnTo>
                  <a:pt x="582" y="209"/>
                </a:lnTo>
                <a:lnTo>
                  <a:pt x="622" y="204"/>
                </a:lnTo>
                <a:lnTo>
                  <a:pt x="618" y="219"/>
                </a:lnTo>
                <a:lnTo>
                  <a:pt x="639" y="233"/>
                </a:lnTo>
                <a:lnTo>
                  <a:pt x="603" y="231"/>
                </a:lnTo>
                <a:lnTo>
                  <a:pt x="614" y="277"/>
                </a:lnTo>
                <a:lnTo>
                  <a:pt x="653" y="296"/>
                </a:lnTo>
                <a:lnTo>
                  <a:pt x="676" y="272"/>
                </a:lnTo>
                <a:lnTo>
                  <a:pt x="680" y="312"/>
                </a:lnTo>
                <a:lnTo>
                  <a:pt x="707" y="305"/>
                </a:lnTo>
                <a:lnTo>
                  <a:pt x="691" y="322"/>
                </a:lnTo>
                <a:lnTo>
                  <a:pt x="711" y="322"/>
                </a:lnTo>
                <a:lnTo>
                  <a:pt x="697" y="342"/>
                </a:lnTo>
                <a:lnTo>
                  <a:pt x="703" y="351"/>
                </a:lnTo>
                <a:lnTo>
                  <a:pt x="741" y="334"/>
                </a:lnTo>
                <a:lnTo>
                  <a:pt x="786" y="313"/>
                </a:lnTo>
                <a:lnTo>
                  <a:pt x="801" y="269"/>
                </a:lnTo>
                <a:lnTo>
                  <a:pt x="805" y="296"/>
                </a:lnTo>
                <a:lnTo>
                  <a:pt x="801" y="312"/>
                </a:lnTo>
                <a:lnTo>
                  <a:pt x="790" y="332"/>
                </a:lnTo>
                <a:lnTo>
                  <a:pt x="794" y="348"/>
                </a:lnTo>
                <a:lnTo>
                  <a:pt x="811" y="310"/>
                </a:lnTo>
                <a:lnTo>
                  <a:pt x="817" y="223"/>
                </a:lnTo>
                <a:lnTo>
                  <a:pt x="768" y="233"/>
                </a:lnTo>
                <a:lnTo>
                  <a:pt x="703" y="241"/>
                </a:lnTo>
                <a:lnTo>
                  <a:pt x="699" y="224"/>
                </a:lnTo>
                <a:lnTo>
                  <a:pt x="62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9" name="Freeform 71"/>
          <p:cNvSpPr/>
          <p:nvPr/>
        </p:nvSpPr>
        <p:spPr>
          <a:xfrm>
            <a:off x="6113520" y="3498840"/>
            <a:ext cx="561960" cy="277920"/>
          </a:xfrm>
          <a:custGeom>
            <a:avLst/>
            <a:gdLst>
              <a:gd name="textAreaLeft" fmla="*/ 0 w 561960"/>
              <a:gd name="textAreaRight" fmla="*/ 562320 w 5619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817" h="351">
                <a:moveTo>
                  <a:pt x="0" y="104"/>
                </a:moveTo>
                <a:lnTo>
                  <a:pt x="21" y="204"/>
                </a:lnTo>
                <a:lnTo>
                  <a:pt x="81" y="142"/>
                </a:lnTo>
                <a:lnTo>
                  <a:pt x="181" y="118"/>
                </a:lnTo>
                <a:lnTo>
                  <a:pt x="196" y="91"/>
                </a:lnTo>
                <a:lnTo>
                  <a:pt x="250" y="87"/>
                </a:lnTo>
                <a:lnTo>
                  <a:pt x="296" y="104"/>
                </a:lnTo>
                <a:lnTo>
                  <a:pt x="321" y="134"/>
                </a:lnTo>
                <a:lnTo>
                  <a:pt x="368" y="144"/>
                </a:lnTo>
                <a:lnTo>
                  <a:pt x="395" y="176"/>
                </a:lnTo>
                <a:lnTo>
                  <a:pt x="437" y="192"/>
                </a:lnTo>
                <a:lnTo>
                  <a:pt x="456" y="183"/>
                </a:lnTo>
                <a:lnTo>
                  <a:pt x="466" y="202"/>
                </a:lnTo>
                <a:lnTo>
                  <a:pt x="458" y="217"/>
                </a:lnTo>
                <a:lnTo>
                  <a:pt x="454" y="238"/>
                </a:lnTo>
                <a:lnTo>
                  <a:pt x="426" y="283"/>
                </a:lnTo>
                <a:lnTo>
                  <a:pt x="437" y="312"/>
                </a:lnTo>
                <a:lnTo>
                  <a:pt x="474" y="298"/>
                </a:lnTo>
                <a:lnTo>
                  <a:pt x="474" y="284"/>
                </a:lnTo>
                <a:lnTo>
                  <a:pt x="501" y="312"/>
                </a:lnTo>
                <a:lnTo>
                  <a:pt x="508" y="298"/>
                </a:lnTo>
                <a:lnTo>
                  <a:pt x="528" y="322"/>
                </a:lnTo>
                <a:lnTo>
                  <a:pt x="535" y="312"/>
                </a:lnTo>
                <a:lnTo>
                  <a:pt x="570" y="322"/>
                </a:lnTo>
                <a:lnTo>
                  <a:pt x="585" y="317"/>
                </a:lnTo>
                <a:lnTo>
                  <a:pt x="616" y="341"/>
                </a:lnTo>
                <a:lnTo>
                  <a:pt x="593" y="301"/>
                </a:lnTo>
                <a:lnTo>
                  <a:pt x="535" y="267"/>
                </a:lnTo>
                <a:lnTo>
                  <a:pt x="589" y="291"/>
                </a:lnTo>
                <a:lnTo>
                  <a:pt x="557" y="253"/>
                </a:lnTo>
                <a:lnTo>
                  <a:pt x="547" y="219"/>
                </a:lnTo>
                <a:lnTo>
                  <a:pt x="553" y="142"/>
                </a:lnTo>
                <a:lnTo>
                  <a:pt x="520" y="125"/>
                </a:lnTo>
                <a:lnTo>
                  <a:pt x="585" y="74"/>
                </a:lnTo>
                <a:lnTo>
                  <a:pt x="589" y="41"/>
                </a:lnTo>
                <a:lnTo>
                  <a:pt x="626" y="45"/>
                </a:lnTo>
                <a:lnTo>
                  <a:pt x="618" y="74"/>
                </a:lnTo>
                <a:lnTo>
                  <a:pt x="591" y="84"/>
                </a:lnTo>
                <a:lnTo>
                  <a:pt x="578" y="113"/>
                </a:lnTo>
                <a:lnTo>
                  <a:pt x="585" y="140"/>
                </a:lnTo>
                <a:lnTo>
                  <a:pt x="603" y="130"/>
                </a:lnTo>
                <a:lnTo>
                  <a:pt x="595" y="163"/>
                </a:lnTo>
                <a:lnTo>
                  <a:pt x="603" y="176"/>
                </a:lnTo>
                <a:lnTo>
                  <a:pt x="607" y="194"/>
                </a:lnTo>
                <a:lnTo>
                  <a:pt x="589" y="185"/>
                </a:lnTo>
                <a:lnTo>
                  <a:pt x="582" y="209"/>
                </a:lnTo>
                <a:lnTo>
                  <a:pt x="622" y="204"/>
                </a:lnTo>
                <a:lnTo>
                  <a:pt x="618" y="219"/>
                </a:lnTo>
                <a:lnTo>
                  <a:pt x="639" y="233"/>
                </a:lnTo>
                <a:lnTo>
                  <a:pt x="603" y="231"/>
                </a:lnTo>
                <a:lnTo>
                  <a:pt x="614" y="277"/>
                </a:lnTo>
                <a:lnTo>
                  <a:pt x="653" y="296"/>
                </a:lnTo>
                <a:lnTo>
                  <a:pt x="676" y="272"/>
                </a:lnTo>
                <a:lnTo>
                  <a:pt x="680" y="312"/>
                </a:lnTo>
                <a:lnTo>
                  <a:pt x="707" y="305"/>
                </a:lnTo>
                <a:lnTo>
                  <a:pt x="691" y="322"/>
                </a:lnTo>
                <a:lnTo>
                  <a:pt x="711" y="322"/>
                </a:lnTo>
                <a:lnTo>
                  <a:pt x="697" y="342"/>
                </a:lnTo>
                <a:lnTo>
                  <a:pt x="703" y="351"/>
                </a:lnTo>
                <a:lnTo>
                  <a:pt x="741" y="334"/>
                </a:lnTo>
                <a:lnTo>
                  <a:pt x="786" y="313"/>
                </a:lnTo>
                <a:lnTo>
                  <a:pt x="801" y="269"/>
                </a:lnTo>
                <a:lnTo>
                  <a:pt x="805" y="296"/>
                </a:lnTo>
                <a:lnTo>
                  <a:pt x="801" y="312"/>
                </a:lnTo>
                <a:lnTo>
                  <a:pt x="790" y="332"/>
                </a:lnTo>
                <a:lnTo>
                  <a:pt x="794" y="348"/>
                </a:lnTo>
                <a:lnTo>
                  <a:pt x="811" y="310"/>
                </a:lnTo>
                <a:lnTo>
                  <a:pt x="817" y="223"/>
                </a:lnTo>
                <a:lnTo>
                  <a:pt x="768" y="233"/>
                </a:lnTo>
                <a:lnTo>
                  <a:pt x="703" y="241"/>
                </a:lnTo>
                <a:lnTo>
                  <a:pt x="699" y="224"/>
                </a:lnTo>
                <a:lnTo>
                  <a:pt x="628" y="0"/>
                </a:lnTo>
                <a:lnTo>
                  <a:pt x="0" y="104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0" name="Freeform 72"/>
          <p:cNvSpPr/>
          <p:nvPr/>
        </p:nvSpPr>
        <p:spPr>
          <a:xfrm>
            <a:off x="6730920" y="2892600"/>
            <a:ext cx="416160" cy="207720"/>
          </a:xfrm>
          <a:custGeom>
            <a:avLst/>
            <a:gdLst>
              <a:gd name="textAreaLeft" fmla="*/ 0 w 416160"/>
              <a:gd name="textAreaRight" fmla="*/ 416520 w 4161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03" h="262">
                <a:moveTo>
                  <a:pt x="0" y="105"/>
                </a:moveTo>
                <a:lnTo>
                  <a:pt x="2" y="245"/>
                </a:lnTo>
                <a:lnTo>
                  <a:pt x="281" y="196"/>
                </a:lnTo>
                <a:lnTo>
                  <a:pt x="329" y="180"/>
                </a:lnTo>
                <a:lnTo>
                  <a:pt x="350" y="182"/>
                </a:lnTo>
                <a:lnTo>
                  <a:pt x="371" y="223"/>
                </a:lnTo>
                <a:lnTo>
                  <a:pt x="404" y="226"/>
                </a:lnTo>
                <a:lnTo>
                  <a:pt x="420" y="261"/>
                </a:lnTo>
                <a:lnTo>
                  <a:pt x="441" y="262"/>
                </a:lnTo>
                <a:lnTo>
                  <a:pt x="447" y="240"/>
                </a:lnTo>
                <a:lnTo>
                  <a:pt x="464" y="232"/>
                </a:lnTo>
                <a:lnTo>
                  <a:pt x="470" y="206"/>
                </a:lnTo>
                <a:lnTo>
                  <a:pt x="481" y="206"/>
                </a:lnTo>
                <a:lnTo>
                  <a:pt x="491" y="242"/>
                </a:lnTo>
                <a:lnTo>
                  <a:pt x="522" y="233"/>
                </a:lnTo>
                <a:lnTo>
                  <a:pt x="526" y="216"/>
                </a:lnTo>
                <a:lnTo>
                  <a:pt x="562" y="201"/>
                </a:lnTo>
                <a:lnTo>
                  <a:pt x="585" y="196"/>
                </a:lnTo>
                <a:lnTo>
                  <a:pt x="603" y="209"/>
                </a:lnTo>
                <a:lnTo>
                  <a:pt x="595" y="172"/>
                </a:lnTo>
                <a:lnTo>
                  <a:pt x="568" y="129"/>
                </a:lnTo>
                <a:lnTo>
                  <a:pt x="549" y="122"/>
                </a:lnTo>
                <a:lnTo>
                  <a:pt x="531" y="124"/>
                </a:lnTo>
                <a:lnTo>
                  <a:pt x="533" y="134"/>
                </a:lnTo>
                <a:lnTo>
                  <a:pt x="545" y="134"/>
                </a:lnTo>
                <a:lnTo>
                  <a:pt x="558" y="134"/>
                </a:lnTo>
                <a:lnTo>
                  <a:pt x="572" y="148"/>
                </a:lnTo>
                <a:lnTo>
                  <a:pt x="580" y="165"/>
                </a:lnTo>
                <a:lnTo>
                  <a:pt x="572" y="178"/>
                </a:lnTo>
                <a:lnTo>
                  <a:pt x="524" y="197"/>
                </a:lnTo>
                <a:lnTo>
                  <a:pt x="499" y="187"/>
                </a:lnTo>
                <a:lnTo>
                  <a:pt x="485" y="165"/>
                </a:lnTo>
                <a:lnTo>
                  <a:pt x="464" y="160"/>
                </a:lnTo>
                <a:lnTo>
                  <a:pt x="468" y="146"/>
                </a:lnTo>
                <a:lnTo>
                  <a:pt x="443" y="120"/>
                </a:lnTo>
                <a:lnTo>
                  <a:pt x="412" y="108"/>
                </a:lnTo>
                <a:lnTo>
                  <a:pt x="410" y="122"/>
                </a:lnTo>
                <a:lnTo>
                  <a:pt x="389" y="115"/>
                </a:lnTo>
                <a:lnTo>
                  <a:pt x="381" y="100"/>
                </a:lnTo>
                <a:lnTo>
                  <a:pt x="387" y="84"/>
                </a:lnTo>
                <a:lnTo>
                  <a:pt x="406" y="72"/>
                </a:lnTo>
                <a:lnTo>
                  <a:pt x="398" y="60"/>
                </a:lnTo>
                <a:lnTo>
                  <a:pt x="425" y="43"/>
                </a:lnTo>
                <a:lnTo>
                  <a:pt x="398" y="24"/>
                </a:lnTo>
                <a:lnTo>
                  <a:pt x="387" y="0"/>
                </a:lnTo>
                <a:lnTo>
                  <a:pt x="331" y="36"/>
                </a:lnTo>
                <a:lnTo>
                  <a:pt x="129" y="81"/>
                </a:lnTo>
                <a:lnTo>
                  <a:pt x="0" y="105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4e5b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1" name="Freeform 73"/>
          <p:cNvSpPr/>
          <p:nvPr/>
        </p:nvSpPr>
        <p:spPr>
          <a:xfrm>
            <a:off x="7062840" y="3094200"/>
            <a:ext cx="38160" cy="31680"/>
          </a:xfrm>
          <a:custGeom>
            <a:avLst/>
            <a:gdLst>
              <a:gd name="textAreaLeft" fmla="*/ 0 w 38160"/>
              <a:gd name="textAreaRight" fmla="*/ 38520 w 38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6" h="39">
                <a:moveTo>
                  <a:pt x="0" y="39"/>
                </a:moveTo>
                <a:lnTo>
                  <a:pt x="23" y="0"/>
                </a:lnTo>
                <a:lnTo>
                  <a:pt x="56" y="17"/>
                </a:lnTo>
                <a:lnTo>
                  <a:pt x="0" y="3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2" name="Freeform 74"/>
          <p:cNvSpPr/>
          <p:nvPr/>
        </p:nvSpPr>
        <p:spPr>
          <a:xfrm>
            <a:off x="7062840" y="3094200"/>
            <a:ext cx="38160" cy="31680"/>
          </a:xfrm>
          <a:custGeom>
            <a:avLst/>
            <a:gdLst>
              <a:gd name="textAreaLeft" fmla="*/ 0 w 38160"/>
              <a:gd name="textAreaRight" fmla="*/ 38520 w 38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6" h="39">
                <a:moveTo>
                  <a:pt x="0" y="39"/>
                </a:moveTo>
                <a:lnTo>
                  <a:pt x="23" y="0"/>
                </a:lnTo>
                <a:lnTo>
                  <a:pt x="56" y="17"/>
                </a:lnTo>
                <a:lnTo>
                  <a:pt x="0" y="39"/>
                </a:lnTo>
              </a:path>
            </a:pathLst>
          </a:custGeom>
          <a:solidFill>
            <a:srgbClr val="c0c0c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3" name="Freeform 75"/>
          <p:cNvSpPr/>
          <p:nvPr/>
        </p:nvSpPr>
        <p:spPr>
          <a:xfrm>
            <a:off x="7132680" y="3087720"/>
            <a:ext cx="30240" cy="23760"/>
          </a:xfrm>
          <a:custGeom>
            <a:avLst/>
            <a:gdLst>
              <a:gd name="textAreaLeft" fmla="*/ 0 w 30240"/>
              <a:gd name="textAreaRight" fmla="*/ 30600 w 302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3" h="29">
                <a:moveTo>
                  <a:pt x="0" y="29"/>
                </a:moveTo>
                <a:lnTo>
                  <a:pt x="25" y="0"/>
                </a:lnTo>
                <a:lnTo>
                  <a:pt x="43" y="24"/>
                </a:lnTo>
                <a:lnTo>
                  <a:pt x="0" y="2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4" name="Freeform 76"/>
          <p:cNvSpPr/>
          <p:nvPr/>
        </p:nvSpPr>
        <p:spPr>
          <a:xfrm>
            <a:off x="7132680" y="3087720"/>
            <a:ext cx="30240" cy="23760"/>
          </a:xfrm>
          <a:custGeom>
            <a:avLst/>
            <a:gdLst>
              <a:gd name="textAreaLeft" fmla="*/ 0 w 30240"/>
              <a:gd name="textAreaRight" fmla="*/ 30600 w 302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3" h="29">
                <a:moveTo>
                  <a:pt x="0" y="29"/>
                </a:moveTo>
                <a:lnTo>
                  <a:pt x="25" y="0"/>
                </a:lnTo>
                <a:lnTo>
                  <a:pt x="43" y="24"/>
                </a:lnTo>
                <a:lnTo>
                  <a:pt x="0" y="29"/>
                </a:lnTo>
              </a:path>
            </a:pathLst>
          </a:custGeom>
          <a:solidFill>
            <a:srgbClr val="c0c0c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5" name="Freeform 77"/>
          <p:cNvSpPr/>
          <p:nvPr/>
        </p:nvSpPr>
        <p:spPr>
          <a:xfrm>
            <a:off x="4757760" y="2505240"/>
            <a:ext cx="709560" cy="363240"/>
          </a:xfrm>
          <a:custGeom>
            <a:avLst/>
            <a:gdLst>
              <a:gd name="textAreaLeft" fmla="*/ 0 w 709560"/>
              <a:gd name="textAreaRight" fmla="*/ 709920 w 70956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1032" h="458">
                <a:moveTo>
                  <a:pt x="0" y="199"/>
                </a:moveTo>
                <a:lnTo>
                  <a:pt x="80" y="247"/>
                </a:lnTo>
                <a:lnTo>
                  <a:pt x="279" y="291"/>
                </a:lnTo>
                <a:lnTo>
                  <a:pt x="369" y="302"/>
                </a:lnTo>
                <a:lnTo>
                  <a:pt x="383" y="327"/>
                </a:lnTo>
                <a:lnTo>
                  <a:pt x="420" y="338"/>
                </a:lnTo>
                <a:lnTo>
                  <a:pt x="472" y="458"/>
                </a:lnTo>
                <a:lnTo>
                  <a:pt x="516" y="365"/>
                </a:lnTo>
                <a:lnTo>
                  <a:pt x="526" y="345"/>
                </a:lnTo>
                <a:lnTo>
                  <a:pt x="537" y="331"/>
                </a:lnTo>
                <a:lnTo>
                  <a:pt x="537" y="315"/>
                </a:lnTo>
                <a:lnTo>
                  <a:pt x="556" y="290"/>
                </a:lnTo>
                <a:lnTo>
                  <a:pt x="560" y="291"/>
                </a:lnTo>
                <a:lnTo>
                  <a:pt x="554" y="305"/>
                </a:lnTo>
                <a:lnTo>
                  <a:pt x="556" y="333"/>
                </a:lnTo>
                <a:lnTo>
                  <a:pt x="574" y="326"/>
                </a:lnTo>
                <a:lnTo>
                  <a:pt x="583" y="298"/>
                </a:lnTo>
                <a:lnTo>
                  <a:pt x="606" y="302"/>
                </a:lnTo>
                <a:lnTo>
                  <a:pt x="620" y="288"/>
                </a:lnTo>
                <a:lnTo>
                  <a:pt x="624" y="295"/>
                </a:lnTo>
                <a:lnTo>
                  <a:pt x="599" y="338"/>
                </a:lnTo>
                <a:lnTo>
                  <a:pt x="614" y="345"/>
                </a:lnTo>
                <a:lnTo>
                  <a:pt x="631" y="317"/>
                </a:lnTo>
                <a:lnTo>
                  <a:pt x="655" y="305"/>
                </a:lnTo>
                <a:lnTo>
                  <a:pt x="666" y="274"/>
                </a:lnTo>
                <a:lnTo>
                  <a:pt x="726" y="266"/>
                </a:lnTo>
                <a:lnTo>
                  <a:pt x="755" y="262"/>
                </a:lnTo>
                <a:lnTo>
                  <a:pt x="799" y="237"/>
                </a:lnTo>
                <a:lnTo>
                  <a:pt x="865" y="245"/>
                </a:lnTo>
                <a:lnTo>
                  <a:pt x="909" y="271"/>
                </a:lnTo>
                <a:lnTo>
                  <a:pt x="911" y="238"/>
                </a:lnTo>
                <a:lnTo>
                  <a:pt x="934" y="237"/>
                </a:lnTo>
                <a:lnTo>
                  <a:pt x="990" y="240"/>
                </a:lnTo>
                <a:lnTo>
                  <a:pt x="1032" y="230"/>
                </a:lnTo>
                <a:lnTo>
                  <a:pt x="976" y="199"/>
                </a:lnTo>
                <a:lnTo>
                  <a:pt x="963" y="153"/>
                </a:lnTo>
                <a:lnTo>
                  <a:pt x="919" y="160"/>
                </a:lnTo>
                <a:lnTo>
                  <a:pt x="903" y="153"/>
                </a:lnTo>
                <a:lnTo>
                  <a:pt x="886" y="160"/>
                </a:lnTo>
                <a:lnTo>
                  <a:pt x="861" y="155"/>
                </a:lnTo>
                <a:lnTo>
                  <a:pt x="845" y="153"/>
                </a:lnTo>
                <a:lnTo>
                  <a:pt x="841" y="125"/>
                </a:lnTo>
                <a:lnTo>
                  <a:pt x="849" y="98"/>
                </a:lnTo>
                <a:lnTo>
                  <a:pt x="807" y="105"/>
                </a:lnTo>
                <a:lnTo>
                  <a:pt x="764" y="124"/>
                </a:lnTo>
                <a:lnTo>
                  <a:pt x="660" y="137"/>
                </a:lnTo>
                <a:lnTo>
                  <a:pt x="593" y="190"/>
                </a:lnTo>
                <a:lnTo>
                  <a:pt x="579" y="180"/>
                </a:lnTo>
                <a:lnTo>
                  <a:pt x="560" y="187"/>
                </a:lnTo>
                <a:lnTo>
                  <a:pt x="533" y="170"/>
                </a:lnTo>
                <a:lnTo>
                  <a:pt x="516" y="177"/>
                </a:lnTo>
                <a:lnTo>
                  <a:pt x="479" y="182"/>
                </a:lnTo>
                <a:lnTo>
                  <a:pt x="427" y="120"/>
                </a:lnTo>
                <a:lnTo>
                  <a:pt x="366" y="112"/>
                </a:lnTo>
                <a:lnTo>
                  <a:pt x="346" y="112"/>
                </a:lnTo>
                <a:lnTo>
                  <a:pt x="335" y="127"/>
                </a:lnTo>
                <a:lnTo>
                  <a:pt x="344" y="101"/>
                </a:lnTo>
                <a:lnTo>
                  <a:pt x="317" y="122"/>
                </a:lnTo>
                <a:lnTo>
                  <a:pt x="304" y="143"/>
                </a:lnTo>
                <a:lnTo>
                  <a:pt x="308" y="107"/>
                </a:lnTo>
                <a:lnTo>
                  <a:pt x="335" y="57"/>
                </a:lnTo>
                <a:lnTo>
                  <a:pt x="373" y="18"/>
                </a:lnTo>
                <a:lnTo>
                  <a:pt x="408" y="7"/>
                </a:lnTo>
                <a:lnTo>
                  <a:pt x="400" y="0"/>
                </a:lnTo>
                <a:lnTo>
                  <a:pt x="342" y="4"/>
                </a:lnTo>
                <a:lnTo>
                  <a:pt x="304" y="21"/>
                </a:lnTo>
                <a:lnTo>
                  <a:pt x="292" y="40"/>
                </a:lnTo>
                <a:lnTo>
                  <a:pt x="246" y="71"/>
                </a:lnTo>
                <a:lnTo>
                  <a:pt x="225" y="98"/>
                </a:lnTo>
                <a:lnTo>
                  <a:pt x="190" y="107"/>
                </a:lnTo>
                <a:lnTo>
                  <a:pt x="181" y="124"/>
                </a:lnTo>
                <a:lnTo>
                  <a:pt x="156" y="132"/>
                </a:lnTo>
                <a:lnTo>
                  <a:pt x="96" y="143"/>
                </a:lnTo>
                <a:lnTo>
                  <a:pt x="80" y="155"/>
                </a:lnTo>
                <a:lnTo>
                  <a:pt x="53" y="177"/>
                </a:lnTo>
                <a:lnTo>
                  <a:pt x="0" y="1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6" name="Freeform 78"/>
          <p:cNvSpPr/>
          <p:nvPr/>
        </p:nvSpPr>
        <p:spPr>
          <a:xfrm>
            <a:off x="4757760" y="2505240"/>
            <a:ext cx="709560" cy="363240"/>
          </a:xfrm>
          <a:custGeom>
            <a:avLst/>
            <a:gdLst>
              <a:gd name="textAreaLeft" fmla="*/ 0 w 709560"/>
              <a:gd name="textAreaRight" fmla="*/ 709920 w 70956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1032" h="458">
                <a:moveTo>
                  <a:pt x="0" y="199"/>
                </a:moveTo>
                <a:lnTo>
                  <a:pt x="80" y="247"/>
                </a:lnTo>
                <a:lnTo>
                  <a:pt x="279" y="291"/>
                </a:lnTo>
                <a:lnTo>
                  <a:pt x="369" y="302"/>
                </a:lnTo>
                <a:lnTo>
                  <a:pt x="383" y="327"/>
                </a:lnTo>
                <a:lnTo>
                  <a:pt x="420" y="338"/>
                </a:lnTo>
                <a:lnTo>
                  <a:pt x="472" y="458"/>
                </a:lnTo>
                <a:lnTo>
                  <a:pt x="516" y="365"/>
                </a:lnTo>
                <a:lnTo>
                  <a:pt x="526" y="345"/>
                </a:lnTo>
                <a:lnTo>
                  <a:pt x="537" y="331"/>
                </a:lnTo>
                <a:lnTo>
                  <a:pt x="537" y="315"/>
                </a:lnTo>
                <a:lnTo>
                  <a:pt x="556" y="290"/>
                </a:lnTo>
                <a:lnTo>
                  <a:pt x="560" y="291"/>
                </a:lnTo>
                <a:lnTo>
                  <a:pt x="554" y="305"/>
                </a:lnTo>
                <a:lnTo>
                  <a:pt x="556" y="333"/>
                </a:lnTo>
                <a:lnTo>
                  <a:pt x="574" y="326"/>
                </a:lnTo>
                <a:lnTo>
                  <a:pt x="583" y="298"/>
                </a:lnTo>
                <a:lnTo>
                  <a:pt x="606" y="302"/>
                </a:lnTo>
                <a:lnTo>
                  <a:pt x="620" y="288"/>
                </a:lnTo>
                <a:lnTo>
                  <a:pt x="624" y="295"/>
                </a:lnTo>
                <a:lnTo>
                  <a:pt x="599" y="338"/>
                </a:lnTo>
                <a:lnTo>
                  <a:pt x="614" y="345"/>
                </a:lnTo>
                <a:lnTo>
                  <a:pt x="631" y="317"/>
                </a:lnTo>
                <a:lnTo>
                  <a:pt x="655" y="305"/>
                </a:lnTo>
                <a:lnTo>
                  <a:pt x="666" y="274"/>
                </a:lnTo>
                <a:lnTo>
                  <a:pt x="726" y="266"/>
                </a:lnTo>
                <a:lnTo>
                  <a:pt x="755" y="262"/>
                </a:lnTo>
                <a:lnTo>
                  <a:pt x="799" y="237"/>
                </a:lnTo>
                <a:lnTo>
                  <a:pt x="865" y="245"/>
                </a:lnTo>
                <a:lnTo>
                  <a:pt x="909" y="271"/>
                </a:lnTo>
                <a:lnTo>
                  <a:pt x="911" y="238"/>
                </a:lnTo>
                <a:lnTo>
                  <a:pt x="934" y="237"/>
                </a:lnTo>
                <a:lnTo>
                  <a:pt x="990" y="240"/>
                </a:lnTo>
                <a:lnTo>
                  <a:pt x="1032" y="230"/>
                </a:lnTo>
                <a:lnTo>
                  <a:pt x="976" y="199"/>
                </a:lnTo>
                <a:lnTo>
                  <a:pt x="963" y="153"/>
                </a:lnTo>
                <a:lnTo>
                  <a:pt x="919" y="160"/>
                </a:lnTo>
                <a:lnTo>
                  <a:pt x="903" y="153"/>
                </a:lnTo>
                <a:lnTo>
                  <a:pt x="886" y="160"/>
                </a:lnTo>
                <a:lnTo>
                  <a:pt x="861" y="155"/>
                </a:lnTo>
                <a:lnTo>
                  <a:pt x="845" y="153"/>
                </a:lnTo>
                <a:lnTo>
                  <a:pt x="841" y="125"/>
                </a:lnTo>
                <a:lnTo>
                  <a:pt x="849" y="98"/>
                </a:lnTo>
                <a:lnTo>
                  <a:pt x="807" y="105"/>
                </a:lnTo>
                <a:lnTo>
                  <a:pt x="764" y="124"/>
                </a:lnTo>
                <a:lnTo>
                  <a:pt x="660" y="137"/>
                </a:lnTo>
                <a:lnTo>
                  <a:pt x="593" y="190"/>
                </a:lnTo>
                <a:lnTo>
                  <a:pt x="579" y="180"/>
                </a:lnTo>
                <a:lnTo>
                  <a:pt x="560" y="187"/>
                </a:lnTo>
                <a:lnTo>
                  <a:pt x="533" y="170"/>
                </a:lnTo>
                <a:lnTo>
                  <a:pt x="516" y="177"/>
                </a:lnTo>
                <a:lnTo>
                  <a:pt x="479" y="182"/>
                </a:lnTo>
                <a:lnTo>
                  <a:pt x="427" y="120"/>
                </a:lnTo>
                <a:lnTo>
                  <a:pt x="366" y="112"/>
                </a:lnTo>
                <a:lnTo>
                  <a:pt x="346" y="112"/>
                </a:lnTo>
                <a:lnTo>
                  <a:pt x="335" y="127"/>
                </a:lnTo>
                <a:lnTo>
                  <a:pt x="344" y="101"/>
                </a:lnTo>
                <a:lnTo>
                  <a:pt x="317" y="122"/>
                </a:lnTo>
                <a:lnTo>
                  <a:pt x="304" y="143"/>
                </a:lnTo>
                <a:lnTo>
                  <a:pt x="308" y="107"/>
                </a:lnTo>
                <a:lnTo>
                  <a:pt x="335" y="57"/>
                </a:lnTo>
                <a:lnTo>
                  <a:pt x="373" y="18"/>
                </a:lnTo>
                <a:lnTo>
                  <a:pt x="408" y="7"/>
                </a:lnTo>
                <a:lnTo>
                  <a:pt x="400" y="0"/>
                </a:lnTo>
                <a:lnTo>
                  <a:pt x="342" y="4"/>
                </a:lnTo>
                <a:lnTo>
                  <a:pt x="304" y="21"/>
                </a:lnTo>
                <a:lnTo>
                  <a:pt x="292" y="40"/>
                </a:lnTo>
                <a:lnTo>
                  <a:pt x="246" y="71"/>
                </a:lnTo>
                <a:lnTo>
                  <a:pt x="225" y="98"/>
                </a:lnTo>
                <a:lnTo>
                  <a:pt x="190" y="107"/>
                </a:lnTo>
                <a:lnTo>
                  <a:pt x="181" y="124"/>
                </a:lnTo>
                <a:lnTo>
                  <a:pt x="156" y="132"/>
                </a:lnTo>
                <a:lnTo>
                  <a:pt x="96" y="143"/>
                </a:lnTo>
                <a:lnTo>
                  <a:pt x="80" y="155"/>
                </a:lnTo>
                <a:lnTo>
                  <a:pt x="53" y="177"/>
                </a:lnTo>
                <a:lnTo>
                  <a:pt x="0" y="19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7" name="Freeform 79"/>
          <p:cNvSpPr/>
          <p:nvPr/>
        </p:nvSpPr>
        <p:spPr>
          <a:xfrm>
            <a:off x="5214960" y="2728800"/>
            <a:ext cx="479520" cy="646200"/>
          </a:xfrm>
          <a:custGeom>
            <a:avLst/>
            <a:gdLst>
              <a:gd name="textAreaLeft" fmla="*/ 0 w 479520"/>
              <a:gd name="textAreaRight" fmla="*/ 479880 w 47952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694" h="815">
                <a:moveTo>
                  <a:pt x="0" y="815"/>
                </a:moveTo>
                <a:lnTo>
                  <a:pt x="64" y="716"/>
                </a:lnTo>
                <a:lnTo>
                  <a:pt x="79" y="681"/>
                </a:lnTo>
                <a:lnTo>
                  <a:pt x="85" y="609"/>
                </a:lnTo>
                <a:lnTo>
                  <a:pt x="66" y="541"/>
                </a:lnTo>
                <a:lnTo>
                  <a:pt x="29" y="478"/>
                </a:lnTo>
                <a:lnTo>
                  <a:pt x="10" y="442"/>
                </a:lnTo>
                <a:lnTo>
                  <a:pt x="21" y="409"/>
                </a:lnTo>
                <a:lnTo>
                  <a:pt x="4" y="368"/>
                </a:lnTo>
                <a:lnTo>
                  <a:pt x="23" y="339"/>
                </a:lnTo>
                <a:lnTo>
                  <a:pt x="41" y="269"/>
                </a:lnTo>
                <a:lnTo>
                  <a:pt x="35" y="236"/>
                </a:lnTo>
                <a:lnTo>
                  <a:pt x="60" y="214"/>
                </a:lnTo>
                <a:lnTo>
                  <a:pt x="56" y="190"/>
                </a:lnTo>
                <a:lnTo>
                  <a:pt x="97" y="175"/>
                </a:lnTo>
                <a:lnTo>
                  <a:pt x="135" y="127"/>
                </a:lnTo>
                <a:lnTo>
                  <a:pt x="129" y="207"/>
                </a:lnTo>
                <a:lnTo>
                  <a:pt x="158" y="190"/>
                </a:lnTo>
                <a:lnTo>
                  <a:pt x="158" y="121"/>
                </a:lnTo>
                <a:lnTo>
                  <a:pt x="197" y="86"/>
                </a:lnTo>
                <a:lnTo>
                  <a:pt x="224" y="80"/>
                </a:lnTo>
                <a:lnTo>
                  <a:pt x="201" y="68"/>
                </a:lnTo>
                <a:lnTo>
                  <a:pt x="193" y="44"/>
                </a:lnTo>
                <a:lnTo>
                  <a:pt x="208" y="12"/>
                </a:lnTo>
                <a:lnTo>
                  <a:pt x="245" y="0"/>
                </a:lnTo>
                <a:lnTo>
                  <a:pt x="328" y="20"/>
                </a:lnTo>
                <a:lnTo>
                  <a:pt x="357" y="48"/>
                </a:lnTo>
                <a:lnTo>
                  <a:pt x="451" y="65"/>
                </a:lnTo>
                <a:lnTo>
                  <a:pt x="470" y="91"/>
                </a:lnTo>
                <a:lnTo>
                  <a:pt x="497" y="120"/>
                </a:lnTo>
                <a:lnTo>
                  <a:pt x="474" y="120"/>
                </a:lnTo>
                <a:lnTo>
                  <a:pt x="470" y="137"/>
                </a:lnTo>
                <a:lnTo>
                  <a:pt x="501" y="168"/>
                </a:lnTo>
                <a:lnTo>
                  <a:pt x="507" y="223"/>
                </a:lnTo>
                <a:lnTo>
                  <a:pt x="507" y="258"/>
                </a:lnTo>
                <a:lnTo>
                  <a:pt x="478" y="298"/>
                </a:lnTo>
                <a:lnTo>
                  <a:pt x="474" y="318"/>
                </a:lnTo>
                <a:lnTo>
                  <a:pt x="434" y="334"/>
                </a:lnTo>
                <a:lnTo>
                  <a:pt x="428" y="351"/>
                </a:lnTo>
                <a:lnTo>
                  <a:pt x="434" y="392"/>
                </a:lnTo>
                <a:lnTo>
                  <a:pt x="472" y="411"/>
                </a:lnTo>
                <a:lnTo>
                  <a:pt x="505" y="378"/>
                </a:lnTo>
                <a:lnTo>
                  <a:pt x="528" y="332"/>
                </a:lnTo>
                <a:lnTo>
                  <a:pt x="584" y="303"/>
                </a:lnTo>
                <a:lnTo>
                  <a:pt x="623" y="320"/>
                </a:lnTo>
                <a:lnTo>
                  <a:pt x="648" y="371"/>
                </a:lnTo>
                <a:lnTo>
                  <a:pt x="678" y="469"/>
                </a:lnTo>
                <a:lnTo>
                  <a:pt x="694" y="502"/>
                </a:lnTo>
                <a:lnTo>
                  <a:pt x="684" y="527"/>
                </a:lnTo>
                <a:lnTo>
                  <a:pt x="690" y="568"/>
                </a:lnTo>
                <a:lnTo>
                  <a:pt x="678" y="591"/>
                </a:lnTo>
                <a:lnTo>
                  <a:pt x="661" y="568"/>
                </a:lnTo>
                <a:lnTo>
                  <a:pt x="646" y="577"/>
                </a:lnTo>
                <a:lnTo>
                  <a:pt x="642" y="616"/>
                </a:lnTo>
                <a:lnTo>
                  <a:pt x="634" y="633"/>
                </a:lnTo>
                <a:lnTo>
                  <a:pt x="603" y="649"/>
                </a:lnTo>
                <a:lnTo>
                  <a:pt x="601" y="702"/>
                </a:lnTo>
                <a:lnTo>
                  <a:pt x="582" y="722"/>
                </a:lnTo>
                <a:lnTo>
                  <a:pt x="565" y="765"/>
                </a:lnTo>
                <a:lnTo>
                  <a:pt x="341" y="796"/>
                </a:lnTo>
                <a:lnTo>
                  <a:pt x="334" y="782"/>
                </a:lnTo>
                <a:lnTo>
                  <a:pt x="0" y="81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8" name="Freeform 80"/>
          <p:cNvSpPr/>
          <p:nvPr/>
        </p:nvSpPr>
        <p:spPr>
          <a:xfrm>
            <a:off x="5214960" y="2728800"/>
            <a:ext cx="479520" cy="646200"/>
          </a:xfrm>
          <a:custGeom>
            <a:avLst/>
            <a:gdLst>
              <a:gd name="textAreaLeft" fmla="*/ 0 w 479520"/>
              <a:gd name="textAreaRight" fmla="*/ 479880 w 47952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694" h="815">
                <a:moveTo>
                  <a:pt x="0" y="815"/>
                </a:moveTo>
                <a:lnTo>
                  <a:pt x="64" y="716"/>
                </a:lnTo>
                <a:lnTo>
                  <a:pt x="79" y="681"/>
                </a:lnTo>
                <a:lnTo>
                  <a:pt x="85" y="609"/>
                </a:lnTo>
                <a:lnTo>
                  <a:pt x="66" y="541"/>
                </a:lnTo>
                <a:lnTo>
                  <a:pt x="29" y="478"/>
                </a:lnTo>
                <a:lnTo>
                  <a:pt x="10" y="442"/>
                </a:lnTo>
                <a:lnTo>
                  <a:pt x="21" y="409"/>
                </a:lnTo>
                <a:lnTo>
                  <a:pt x="4" y="368"/>
                </a:lnTo>
                <a:lnTo>
                  <a:pt x="23" y="339"/>
                </a:lnTo>
                <a:lnTo>
                  <a:pt x="41" y="269"/>
                </a:lnTo>
                <a:lnTo>
                  <a:pt x="35" y="236"/>
                </a:lnTo>
                <a:lnTo>
                  <a:pt x="60" y="214"/>
                </a:lnTo>
                <a:lnTo>
                  <a:pt x="56" y="190"/>
                </a:lnTo>
                <a:lnTo>
                  <a:pt x="97" y="175"/>
                </a:lnTo>
                <a:lnTo>
                  <a:pt x="135" y="127"/>
                </a:lnTo>
                <a:lnTo>
                  <a:pt x="129" y="207"/>
                </a:lnTo>
                <a:lnTo>
                  <a:pt x="158" y="190"/>
                </a:lnTo>
                <a:lnTo>
                  <a:pt x="158" y="121"/>
                </a:lnTo>
                <a:lnTo>
                  <a:pt x="197" y="86"/>
                </a:lnTo>
                <a:lnTo>
                  <a:pt x="224" y="80"/>
                </a:lnTo>
                <a:lnTo>
                  <a:pt x="201" y="68"/>
                </a:lnTo>
                <a:lnTo>
                  <a:pt x="193" y="44"/>
                </a:lnTo>
                <a:lnTo>
                  <a:pt x="208" y="12"/>
                </a:lnTo>
                <a:lnTo>
                  <a:pt x="245" y="0"/>
                </a:lnTo>
                <a:lnTo>
                  <a:pt x="328" y="20"/>
                </a:lnTo>
                <a:lnTo>
                  <a:pt x="357" y="48"/>
                </a:lnTo>
                <a:lnTo>
                  <a:pt x="451" y="65"/>
                </a:lnTo>
                <a:lnTo>
                  <a:pt x="470" y="91"/>
                </a:lnTo>
                <a:lnTo>
                  <a:pt x="497" y="120"/>
                </a:lnTo>
                <a:lnTo>
                  <a:pt x="474" y="120"/>
                </a:lnTo>
                <a:lnTo>
                  <a:pt x="470" y="137"/>
                </a:lnTo>
                <a:lnTo>
                  <a:pt x="501" y="168"/>
                </a:lnTo>
                <a:lnTo>
                  <a:pt x="507" y="223"/>
                </a:lnTo>
                <a:lnTo>
                  <a:pt x="507" y="258"/>
                </a:lnTo>
                <a:lnTo>
                  <a:pt x="478" y="298"/>
                </a:lnTo>
                <a:lnTo>
                  <a:pt x="474" y="318"/>
                </a:lnTo>
                <a:lnTo>
                  <a:pt x="434" y="334"/>
                </a:lnTo>
                <a:lnTo>
                  <a:pt x="428" y="351"/>
                </a:lnTo>
                <a:lnTo>
                  <a:pt x="434" y="392"/>
                </a:lnTo>
                <a:lnTo>
                  <a:pt x="472" y="411"/>
                </a:lnTo>
                <a:lnTo>
                  <a:pt x="505" y="378"/>
                </a:lnTo>
                <a:lnTo>
                  <a:pt x="528" y="332"/>
                </a:lnTo>
                <a:lnTo>
                  <a:pt x="584" y="303"/>
                </a:lnTo>
                <a:lnTo>
                  <a:pt x="623" y="320"/>
                </a:lnTo>
                <a:lnTo>
                  <a:pt x="648" y="371"/>
                </a:lnTo>
                <a:lnTo>
                  <a:pt x="678" y="469"/>
                </a:lnTo>
                <a:lnTo>
                  <a:pt x="694" y="502"/>
                </a:lnTo>
                <a:lnTo>
                  <a:pt x="684" y="527"/>
                </a:lnTo>
                <a:lnTo>
                  <a:pt x="690" y="568"/>
                </a:lnTo>
                <a:lnTo>
                  <a:pt x="678" y="591"/>
                </a:lnTo>
                <a:lnTo>
                  <a:pt x="661" y="568"/>
                </a:lnTo>
                <a:lnTo>
                  <a:pt x="646" y="577"/>
                </a:lnTo>
                <a:lnTo>
                  <a:pt x="642" y="616"/>
                </a:lnTo>
                <a:lnTo>
                  <a:pt x="634" y="633"/>
                </a:lnTo>
                <a:lnTo>
                  <a:pt x="603" y="649"/>
                </a:lnTo>
                <a:lnTo>
                  <a:pt x="601" y="702"/>
                </a:lnTo>
                <a:lnTo>
                  <a:pt x="582" y="722"/>
                </a:lnTo>
                <a:lnTo>
                  <a:pt x="565" y="765"/>
                </a:lnTo>
                <a:lnTo>
                  <a:pt x="341" y="796"/>
                </a:lnTo>
                <a:lnTo>
                  <a:pt x="334" y="782"/>
                </a:lnTo>
                <a:lnTo>
                  <a:pt x="0" y="815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9" name="Freeform 81"/>
          <p:cNvSpPr/>
          <p:nvPr/>
        </p:nvSpPr>
        <p:spPr>
          <a:xfrm>
            <a:off x="4027320" y="2243160"/>
            <a:ext cx="814680" cy="909720"/>
          </a:xfrm>
          <a:custGeom>
            <a:avLst/>
            <a:gdLst>
              <a:gd name="textAreaLeft" fmla="*/ 0 w 814680"/>
              <a:gd name="textAreaRight" fmla="*/ 815040 w 8146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1185" h="1145">
                <a:moveTo>
                  <a:pt x="0" y="70"/>
                </a:moveTo>
                <a:lnTo>
                  <a:pt x="7" y="233"/>
                </a:lnTo>
                <a:lnTo>
                  <a:pt x="52" y="363"/>
                </a:lnTo>
                <a:lnTo>
                  <a:pt x="59" y="532"/>
                </a:lnTo>
                <a:lnTo>
                  <a:pt x="92" y="668"/>
                </a:lnTo>
                <a:lnTo>
                  <a:pt x="50" y="734"/>
                </a:lnTo>
                <a:lnTo>
                  <a:pt x="110" y="788"/>
                </a:lnTo>
                <a:lnTo>
                  <a:pt x="108" y="1145"/>
                </a:lnTo>
                <a:lnTo>
                  <a:pt x="963" y="1132"/>
                </a:lnTo>
                <a:lnTo>
                  <a:pt x="948" y="1062"/>
                </a:lnTo>
                <a:lnTo>
                  <a:pt x="925" y="1038"/>
                </a:lnTo>
                <a:lnTo>
                  <a:pt x="857" y="1000"/>
                </a:lnTo>
                <a:lnTo>
                  <a:pt x="811" y="955"/>
                </a:lnTo>
                <a:lnTo>
                  <a:pt x="695" y="894"/>
                </a:lnTo>
                <a:lnTo>
                  <a:pt x="697" y="788"/>
                </a:lnTo>
                <a:lnTo>
                  <a:pt x="674" y="721"/>
                </a:lnTo>
                <a:lnTo>
                  <a:pt x="769" y="620"/>
                </a:lnTo>
                <a:lnTo>
                  <a:pt x="761" y="520"/>
                </a:lnTo>
                <a:lnTo>
                  <a:pt x="784" y="503"/>
                </a:lnTo>
                <a:lnTo>
                  <a:pt x="898" y="421"/>
                </a:lnTo>
                <a:lnTo>
                  <a:pt x="957" y="360"/>
                </a:lnTo>
                <a:lnTo>
                  <a:pt x="1034" y="308"/>
                </a:lnTo>
                <a:lnTo>
                  <a:pt x="1185" y="241"/>
                </a:lnTo>
                <a:lnTo>
                  <a:pt x="1129" y="245"/>
                </a:lnTo>
                <a:lnTo>
                  <a:pt x="1077" y="223"/>
                </a:lnTo>
                <a:lnTo>
                  <a:pt x="992" y="231"/>
                </a:lnTo>
                <a:lnTo>
                  <a:pt x="973" y="202"/>
                </a:lnTo>
                <a:lnTo>
                  <a:pt x="946" y="214"/>
                </a:lnTo>
                <a:lnTo>
                  <a:pt x="888" y="245"/>
                </a:lnTo>
                <a:lnTo>
                  <a:pt x="847" y="235"/>
                </a:lnTo>
                <a:lnTo>
                  <a:pt x="830" y="219"/>
                </a:lnTo>
                <a:lnTo>
                  <a:pt x="799" y="212"/>
                </a:lnTo>
                <a:lnTo>
                  <a:pt x="784" y="190"/>
                </a:lnTo>
                <a:lnTo>
                  <a:pt x="753" y="192"/>
                </a:lnTo>
                <a:lnTo>
                  <a:pt x="753" y="212"/>
                </a:lnTo>
                <a:lnTo>
                  <a:pt x="742" y="216"/>
                </a:lnTo>
                <a:lnTo>
                  <a:pt x="718" y="171"/>
                </a:lnTo>
                <a:lnTo>
                  <a:pt x="688" y="171"/>
                </a:lnTo>
                <a:lnTo>
                  <a:pt x="697" y="152"/>
                </a:lnTo>
                <a:lnTo>
                  <a:pt x="630" y="142"/>
                </a:lnTo>
                <a:lnTo>
                  <a:pt x="605" y="140"/>
                </a:lnTo>
                <a:lnTo>
                  <a:pt x="524" y="166"/>
                </a:lnTo>
                <a:lnTo>
                  <a:pt x="510" y="142"/>
                </a:lnTo>
                <a:lnTo>
                  <a:pt x="387" y="120"/>
                </a:lnTo>
                <a:lnTo>
                  <a:pt x="366" y="9"/>
                </a:lnTo>
                <a:lnTo>
                  <a:pt x="312" y="0"/>
                </a:lnTo>
                <a:lnTo>
                  <a:pt x="312" y="72"/>
                </a:lnTo>
                <a:lnTo>
                  <a:pt x="0" y="7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0" name="Freeform 82"/>
          <p:cNvSpPr/>
          <p:nvPr/>
        </p:nvSpPr>
        <p:spPr>
          <a:xfrm>
            <a:off x="4027320" y="2243160"/>
            <a:ext cx="814680" cy="909720"/>
          </a:xfrm>
          <a:custGeom>
            <a:avLst/>
            <a:gdLst>
              <a:gd name="textAreaLeft" fmla="*/ 0 w 814680"/>
              <a:gd name="textAreaRight" fmla="*/ 815040 w 8146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1185" h="1145">
                <a:moveTo>
                  <a:pt x="0" y="70"/>
                </a:moveTo>
                <a:lnTo>
                  <a:pt x="7" y="233"/>
                </a:lnTo>
                <a:lnTo>
                  <a:pt x="52" y="363"/>
                </a:lnTo>
                <a:lnTo>
                  <a:pt x="59" y="532"/>
                </a:lnTo>
                <a:lnTo>
                  <a:pt x="92" y="668"/>
                </a:lnTo>
                <a:lnTo>
                  <a:pt x="50" y="734"/>
                </a:lnTo>
                <a:lnTo>
                  <a:pt x="110" y="788"/>
                </a:lnTo>
                <a:lnTo>
                  <a:pt x="108" y="1145"/>
                </a:lnTo>
                <a:lnTo>
                  <a:pt x="963" y="1132"/>
                </a:lnTo>
                <a:lnTo>
                  <a:pt x="948" y="1062"/>
                </a:lnTo>
                <a:lnTo>
                  <a:pt x="925" y="1038"/>
                </a:lnTo>
                <a:lnTo>
                  <a:pt x="857" y="1000"/>
                </a:lnTo>
                <a:lnTo>
                  <a:pt x="811" y="955"/>
                </a:lnTo>
                <a:lnTo>
                  <a:pt x="695" y="894"/>
                </a:lnTo>
                <a:lnTo>
                  <a:pt x="697" y="788"/>
                </a:lnTo>
                <a:lnTo>
                  <a:pt x="674" y="721"/>
                </a:lnTo>
                <a:lnTo>
                  <a:pt x="769" y="620"/>
                </a:lnTo>
                <a:lnTo>
                  <a:pt x="761" y="520"/>
                </a:lnTo>
                <a:lnTo>
                  <a:pt x="784" y="503"/>
                </a:lnTo>
                <a:lnTo>
                  <a:pt x="898" y="421"/>
                </a:lnTo>
                <a:lnTo>
                  <a:pt x="957" y="360"/>
                </a:lnTo>
                <a:lnTo>
                  <a:pt x="1034" y="308"/>
                </a:lnTo>
                <a:lnTo>
                  <a:pt x="1185" y="241"/>
                </a:lnTo>
                <a:lnTo>
                  <a:pt x="1129" y="245"/>
                </a:lnTo>
                <a:lnTo>
                  <a:pt x="1077" y="223"/>
                </a:lnTo>
                <a:lnTo>
                  <a:pt x="992" y="231"/>
                </a:lnTo>
                <a:lnTo>
                  <a:pt x="973" y="202"/>
                </a:lnTo>
                <a:lnTo>
                  <a:pt x="946" y="214"/>
                </a:lnTo>
                <a:lnTo>
                  <a:pt x="888" y="245"/>
                </a:lnTo>
                <a:lnTo>
                  <a:pt x="847" y="235"/>
                </a:lnTo>
                <a:lnTo>
                  <a:pt x="830" y="219"/>
                </a:lnTo>
                <a:lnTo>
                  <a:pt x="799" y="212"/>
                </a:lnTo>
                <a:lnTo>
                  <a:pt x="784" y="190"/>
                </a:lnTo>
                <a:lnTo>
                  <a:pt x="753" y="192"/>
                </a:lnTo>
                <a:lnTo>
                  <a:pt x="753" y="212"/>
                </a:lnTo>
                <a:lnTo>
                  <a:pt x="742" y="216"/>
                </a:lnTo>
                <a:lnTo>
                  <a:pt x="718" y="171"/>
                </a:lnTo>
                <a:lnTo>
                  <a:pt x="688" y="171"/>
                </a:lnTo>
                <a:lnTo>
                  <a:pt x="697" y="152"/>
                </a:lnTo>
                <a:lnTo>
                  <a:pt x="630" y="142"/>
                </a:lnTo>
                <a:lnTo>
                  <a:pt x="605" y="140"/>
                </a:lnTo>
                <a:lnTo>
                  <a:pt x="524" y="166"/>
                </a:lnTo>
                <a:lnTo>
                  <a:pt x="510" y="142"/>
                </a:lnTo>
                <a:lnTo>
                  <a:pt x="387" y="120"/>
                </a:lnTo>
                <a:lnTo>
                  <a:pt x="366" y="9"/>
                </a:lnTo>
                <a:lnTo>
                  <a:pt x="312" y="0"/>
                </a:lnTo>
                <a:lnTo>
                  <a:pt x="312" y="72"/>
                </a:lnTo>
                <a:lnTo>
                  <a:pt x="0" y="7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1" name="Freeform 83"/>
          <p:cNvSpPr/>
          <p:nvPr/>
        </p:nvSpPr>
        <p:spPr>
          <a:xfrm>
            <a:off x="4726080" y="4441680"/>
            <a:ext cx="438120" cy="758880"/>
          </a:xfrm>
          <a:custGeom>
            <a:avLst/>
            <a:gdLst>
              <a:gd name="textAreaLeft" fmla="*/ 0 w 438120"/>
              <a:gd name="textAreaRight" fmla="*/ 438480 w 4381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638" h="955">
                <a:moveTo>
                  <a:pt x="0" y="808"/>
                </a:moveTo>
                <a:lnTo>
                  <a:pt x="2" y="774"/>
                </a:lnTo>
                <a:lnTo>
                  <a:pt x="45" y="664"/>
                </a:lnTo>
                <a:lnTo>
                  <a:pt x="106" y="594"/>
                </a:lnTo>
                <a:lnTo>
                  <a:pt x="87" y="572"/>
                </a:lnTo>
                <a:lnTo>
                  <a:pt x="95" y="501"/>
                </a:lnTo>
                <a:lnTo>
                  <a:pt x="62" y="421"/>
                </a:lnTo>
                <a:lnTo>
                  <a:pt x="50" y="313"/>
                </a:lnTo>
                <a:lnTo>
                  <a:pt x="98" y="198"/>
                </a:lnTo>
                <a:lnTo>
                  <a:pt x="164" y="114"/>
                </a:lnTo>
                <a:lnTo>
                  <a:pt x="160" y="94"/>
                </a:lnTo>
                <a:lnTo>
                  <a:pt x="212" y="22"/>
                </a:lnTo>
                <a:lnTo>
                  <a:pt x="597" y="0"/>
                </a:lnTo>
                <a:lnTo>
                  <a:pt x="613" y="19"/>
                </a:lnTo>
                <a:lnTo>
                  <a:pt x="597" y="611"/>
                </a:lnTo>
                <a:lnTo>
                  <a:pt x="638" y="899"/>
                </a:lnTo>
                <a:lnTo>
                  <a:pt x="621" y="911"/>
                </a:lnTo>
                <a:lnTo>
                  <a:pt x="597" y="899"/>
                </a:lnTo>
                <a:lnTo>
                  <a:pt x="569" y="911"/>
                </a:lnTo>
                <a:lnTo>
                  <a:pt x="542" y="894"/>
                </a:lnTo>
                <a:lnTo>
                  <a:pt x="540" y="904"/>
                </a:lnTo>
                <a:lnTo>
                  <a:pt x="509" y="907"/>
                </a:lnTo>
                <a:lnTo>
                  <a:pt x="468" y="924"/>
                </a:lnTo>
                <a:lnTo>
                  <a:pt x="455" y="916"/>
                </a:lnTo>
                <a:lnTo>
                  <a:pt x="434" y="947"/>
                </a:lnTo>
                <a:lnTo>
                  <a:pt x="416" y="955"/>
                </a:lnTo>
                <a:lnTo>
                  <a:pt x="353" y="863"/>
                </a:lnTo>
                <a:lnTo>
                  <a:pt x="364" y="798"/>
                </a:lnTo>
                <a:lnTo>
                  <a:pt x="0" y="80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2" name="Freeform 84"/>
          <p:cNvSpPr/>
          <p:nvPr/>
        </p:nvSpPr>
        <p:spPr>
          <a:xfrm>
            <a:off x="4726080" y="4441680"/>
            <a:ext cx="438120" cy="758880"/>
          </a:xfrm>
          <a:custGeom>
            <a:avLst/>
            <a:gdLst>
              <a:gd name="textAreaLeft" fmla="*/ 0 w 438120"/>
              <a:gd name="textAreaRight" fmla="*/ 438480 w 4381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638" h="955">
                <a:moveTo>
                  <a:pt x="0" y="808"/>
                </a:moveTo>
                <a:lnTo>
                  <a:pt x="2" y="774"/>
                </a:lnTo>
                <a:lnTo>
                  <a:pt x="45" y="664"/>
                </a:lnTo>
                <a:lnTo>
                  <a:pt x="106" y="594"/>
                </a:lnTo>
                <a:lnTo>
                  <a:pt x="87" y="572"/>
                </a:lnTo>
                <a:lnTo>
                  <a:pt x="95" y="501"/>
                </a:lnTo>
                <a:lnTo>
                  <a:pt x="62" y="421"/>
                </a:lnTo>
                <a:lnTo>
                  <a:pt x="50" y="313"/>
                </a:lnTo>
                <a:lnTo>
                  <a:pt x="98" y="198"/>
                </a:lnTo>
                <a:lnTo>
                  <a:pt x="164" y="114"/>
                </a:lnTo>
                <a:lnTo>
                  <a:pt x="160" y="94"/>
                </a:lnTo>
                <a:lnTo>
                  <a:pt x="212" y="22"/>
                </a:lnTo>
                <a:lnTo>
                  <a:pt x="597" y="0"/>
                </a:lnTo>
                <a:lnTo>
                  <a:pt x="613" y="19"/>
                </a:lnTo>
                <a:lnTo>
                  <a:pt x="597" y="611"/>
                </a:lnTo>
                <a:lnTo>
                  <a:pt x="638" y="899"/>
                </a:lnTo>
                <a:lnTo>
                  <a:pt x="621" y="911"/>
                </a:lnTo>
                <a:lnTo>
                  <a:pt x="597" y="899"/>
                </a:lnTo>
                <a:lnTo>
                  <a:pt x="569" y="911"/>
                </a:lnTo>
                <a:lnTo>
                  <a:pt x="542" y="894"/>
                </a:lnTo>
                <a:lnTo>
                  <a:pt x="540" y="904"/>
                </a:lnTo>
                <a:lnTo>
                  <a:pt x="509" y="907"/>
                </a:lnTo>
                <a:lnTo>
                  <a:pt x="468" y="924"/>
                </a:lnTo>
                <a:lnTo>
                  <a:pt x="455" y="916"/>
                </a:lnTo>
                <a:lnTo>
                  <a:pt x="434" y="947"/>
                </a:lnTo>
                <a:lnTo>
                  <a:pt x="416" y="955"/>
                </a:lnTo>
                <a:lnTo>
                  <a:pt x="353" y="863"/>
                </a:lnTo>
                <a:lnTo>
                  <a:pt x="364" y="798"/>
                </a:lnTo>
                <a:lnTo>
                  <a:pt x="0" y="808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3" name="Freeform 85"/>
          <p:cNvSpPr/>
          <p:nvPr/>
        </p:nvSpPr>
        <p:spPr>
          <a:xfrm>
            <a:off x="4175280" y="3592440"/>
            <a:ext cx="826920" cy="709560"/>
          </a:xfrm>
          <a:custGeom>
            <a:avLst/>
            <a:gdLst>
              <a:gd name="textAreaLeft" fmla="*/ 0 w 826920"/>
              <a:gd name="textAreaRight" fmla="*/ 827280 w 826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198" h="897">
                <a:moveTo>
                  <a:pt x="0" y="14"/>
                </a:moveTo>
                <a:lnTo>
                  <a:pt x="73" y="129"/>
                </a:lnTo>
                <a:lnTo>
                  <a:pt x="107" y="156"/>
                </a:lnTo>
                <a:lnTo>
                  <a:pt x="131" y="151"/>
                </a:lnTo>
                <a:lnTo>
                  <a:pt x="150" y="166"/>
                </a:lnTo>
                <a:lnTo>
                  <a:pt x="152" y="180"/>
                </a:lnTo>
                <a:lnTo>
                  <a:pt x="134" y="180"/>
                </a:lnTo>
                <a:lnTo>
                  <a:pt x="111" y="223"/>
                </a:lnTo>
                <a:lnTo>
                  <a:pt x="163" y="288"/>
                </a:lnTo>
                <a:lnTo>
                  <a:pt x="206" y="298"/>
                </a:lnTo>
                <a:lnTo>
                  <a:pt x="198" y="718"/>
                </a:lnTo>
                <a:lnTo>
                  <a:pt x="204" y="820"/>
                </a:lnTo>
                <a:lnTo>
                  <a:pt x="998" y="796"/>
                </a:lnTo>
                <a:lnTo>
                  <a:pt x="1009" y="856"/>
                </a:lnTo>
                <a:lnTo>
                  <a:pt x="976" y="897"/>
                </a:lnTo>
                <a:lnTo>
                  <a:pt x="1098" y="892"/>
                </a:lnTo>
                <a:lnTo>
                  <a:pt x="1117" y="856"/>
                </a:lnTo>
                <a:lnTo>
                  <a:pt x="1121" y="820"/>
                </a:lnTo>
                <a:lnTo>
                  <a:pt x="1150" y="790"/>
                </a:lnTo>
                <a:lnTo>
                  <a:pt x="1161" y="762"/>
                </a:lnTo>
                <a:lnTo>
                  <a:pt x="1188" y="759"/>
                </a:lnTo>
                <a:lnTo>
                  <a:pt x="1198" y="697"/>
                </a:lnTo>
                <a:lnTo>
                  <a:pt x="1181" y="692"/>
                </a:lnTo>
                <a:lnTo>
                  <a:pt x="1154" y="690"/>
                </a:lnTo>
                <a:lnTo>
                  <a:pt x="1125" y="642"/>
                </a:lnTo>
                <a:lnTo>
                  <a:pt x="1111" y="579"/>
                </a:lnTo>
                <a:lnTo>
                  <a:pt x="1080" y="540"/>
                </a:lnTo>
                <a:lnTo>
                  <a:pt x="1032" y="521"/>
                </a:lnTo>
                <a:lnTo>
                  <a:pt x="974" y="480"/>
                </a:lnTo>
                <a:lnTo>
                  <a:pt x="953" y="427"/>
                </a:lnTo>
                <a:lnTo>
                  <a:pt x="986" y="341"/>
                </a:lnTo>
                <a:lnTo>
                  <a:pt x="957" y="322"/>
                </a:lnTo>
                <a:lnTo>
                  <a:pt x="888" y="324"/>
                </a:lnTo>
                <a:lnTo>
                  <a:pt x="876" y="271"/>
                </a:lnTo>
                <a:lnTo>
                  <a:pt x="761" y="166"/>
                </a:lnTo>
                <a:lnTo>
                  <a:pt x="732" y="79"/>
                </a:lnTo>
                <a:lnTo>
                  <a:pt x="747" y="45"/>
                </a:lnTo>
                <a:lnTo>
                  <a:pt x="693" y="0"/>
                </a:lnTo>
                <a:lnTo>
                  <a:pt x="0" y="1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4" name="Freeform 86"/>
          <p:cNvSpPr/>
          <p:nvPr/>
        </p:nvSpPr>
        <p:spPr>
          <a:xfrm>
            <a:off x="4175280" y="3592440"/>
            <a:ext cx="826920" cy="709560"/>
          </a:xfrm>
          <a:custGeom>
            <a:avLst/>
            <a:gdLst>
              <a:gd name="textAreaLeft" fmla="*/ 0 w 826920"/>
              <a:gd name="textAreaRight" fmla="*/ 827280 w 826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198" h="897">
                <a:moveTo>
                  <a:pt x="0" y="14"/>
                </a:moveTo>
                <a:lnTo>
                  <a:pt x="73" y="129"/>
                </a:lnTo>
                <a:lnTo>
                  <a:pt x="107" y="156"/>
                </a:lnTo>
                <a:lnTo>
                  <a:pt x="131" y="151"/>
                </a:lnTo>
                <a:lnTo>
                  <a:pt x="150" y="166"/>
                </a:lnTo>
                <a:lnTo>
                  <a:pt x="152" y="180"/>
                </a:lnTo>
                <a:lnTo>
                  <a:pt x="134" y="180"/>
                </a:lnTo>
                <a:lnTo>
                  <a:pt x="111" y="223"/>
                </a:lnTo>
                <a:lnTo>
                  <a:pt x="163" y="288"/>
                </a:lnTo>
                <a:lnTo>
                  <a:pt x="206" y="298"/>
                </a:lnTo>
                <a:lnTo>
                  <a:pt x="198" y="718"/>
                </a:lnTo>
                <a:lnTo>
                  <a:pt x="204" y="820"/>
                </a:lnTo>
                <a:lnTo>
                  <a:pt x="998" y="796"/>
                </a:lnTo>
                <a:lnTo>
                  <a:pt x="1009" y="856"/>
                </a:lnTo>
                <a:lnTo>
                  <a:pt x="976" y="897"/>
                </a:lnTo>
                <a:lnTo>
                  <a:pt x="1098" y="892"/>
                </a:lnTo>
                <a:lnTo>
                  <a:pt x="1117" y="856"/>
                </a:lnTo>
                <a:lnTo>
                  <a:pt x="1121" y="820"/>
                </a:lnTo>
                <a:lnTo>
                  <a:pt x="1150" y="790"/>
                </a:lnTo>
                <a:lnTo>
                  <a:pt x="1161" y="762"/>
                </a:lnTo>
                <a:lnTo>
                  <a:pt x="1188" y="759"/>
                </a:lnTo>
                <a:lnTo>
                  <a:pt x="1198" y="697"/>
                </a:lnTo>
                <a:lnTo>
                  <a:pt x="1181" y="692"/>
                </a:lnTo>
                <a:lnTo>
                  <a:pt x="1154" y="690"/>
                </a:lnTo>
                <a:lnTo>
                  <a:pt x="1125" y="642"/>
                </a:lnTo>
                <a:lnTo>
                  <a:pt x="1111" y="579"/>
                </a:lnTo>
                <a:lnTo>
                  <a:pt x="1080" y="540"/>
                </a:lnTo>
                <a:lnTo>
                  <a:pt x="1032" y="521"/>
                </a:lnTo>
                <a:lnTo>
                  <a:pt x="974" y="480"/>
                </a:lnTo>
                <a:lnTo>
                  <a:pt x="953" y="427"/>
                </a:lnTo>
                <a:lnTo>
                  <a:pt x="986" y="341"/>
                </a:lnTo>
                <a:lnTo>
                  <a:pt x="957" y="322"/>
                </a:lnTo>
                <a:lnTo>
                  <a:pt x="888" y="324"/>
                </a:lnTo>
                <a:lnTo>
                  <a:pt x="876" y="271"/>
                </a:lnTo>
                <a:lnTo>
                  <a:pt x="761" y="166"/>
                </a:lnTo>
                <a:lnTo>
                  <a:pt x="732" y="79"/>
                </a:lnTo>
                <a:lnTo>
                  <a:pt x="747" y="45"/>
                </a:lnTo>
                <a:lnTo>
                  <a:pt x="693" y="0"/>
                </a:lnTo>
                <a:lnTo>
                  <a:pt x="0" y="14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5" name="Freeform 87"/>
          <p:cNvSpPr/>
          <p:nvPr/>
        </p:nvSpPr>
        <p:spPr>
          <a:xfrm>
            <a:off x="2044800" y="2076480"/>
            <a:ext cx="1271520" cy="79848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40" h="1008">
                <a:moveTo>
                  <a:pt x="0" y="190"/>
                </a:moveTo>
                <a:lnTo>
                  <a:pt x="31" y="255"/>
                </a:lnTo>
                <a:lnTo>
                  <a:pt x="35" y="299"/>
                </a:lnTo>
                <a:lnTo>
                  <a:pt x="17" y="304"/>
                </a:lnTo>
                <a:lnTo>
                  <a:pt x="73" y="349"/>
                </a:lnTo>
                <a:lnTo>
                  <a:pt x="129" y="471"/>
                </a:lnTo>
                <a:lnTo>
                  <a:pt x="148" y="464"/>
                </a:lnTo>
                <a:lnTo>
                  <a:pt x="150" y="484"/>
                </a:lnTo>
                <a:lnTo>
                  <a:pt x="177" y="489"/>
                </a:lnTo>
                <a:lnTo>
                  <a:pt x="198" y="491"/>
                </a:lnTo>
                <a:lnTo>
                  <a:pt x="146" y="580"/>
                </a:lnTo>
                <a:lnTo>
                  <a:pt x="154" y="638"/>
                </a:lnTo>
                <a:lnTo>
                  <a:pt x="116" y="695"/>
                </a:lnTo>
                <a:lnTo>
                  <a:pt x="143" y="719"/>
                </a:lnTo>
                <a:lnTo>
                  <a:pt x="214" y="683"/>
                </a:lnTo>
                <a:lnTo>
                  <a:pt x="270" y="873"/>
                </a:lnTo>
                <a:lnTo>
                  <a:pt x="301" y="881"/>
                </a:lnTo>
                <a:lnTo>
                  <a:pt x="308" y="941"/>
                </a:lnTo>
                <a:lnTo>
                  <a:pt x="337" y="965"/>
                </a:lnTo>
                <a:lnTo>
                  <a:pt x="358" y="943"/>
                </a:lnTo>
                <a:lnTo>
                  <a:pt x="405" y="962"/>
                </a:lnTo>
                <a:lnTo>
                  <a:pt x="435" y="941"/>
                </a:lnTo>
                <a:lnTo>
                  <a:pt x="538" y="960"/>
                </a:lnTo>
                <a:lnTo>
                  <a:pt x="559" y="964"/>
                </a:lnTo>
                <a:lnTo>
                  <a:pt x="582" y="924"/>
                </a:lnTo>
                <a:lnTo>
                  <a:pt x="622" y="986"/>
                </a:lnTo>
                <a:lnTo>
                  <a:pt x="644" y="890"/>
                </a:lnTo>
                <a:lnTo>
                  <a:pt x="1141" y="953"/>
                </a:lnTo>
                <a:lnTo>
                  <a:pt x="1759" y="1008"/>
                </a:lnTo>
                <a:lnTo>
                  <a:pt x="1778" y="827"/>
                </a:lnTo>
                <a:lnTo>
                  <a:pt x="1840" y="234"/>
                </a:lnTo>
                <a:lnTo>
                  <a:pt x="1027" y="154"/>
                </a:lnTo>
                <a:lnTo>
                  <a:pt x="618" y="96"/>
                </a:lnTo>
                <a:lnTo>
                  <a:pt x="48" y="0"/>
                </a:lnTo>
                <a:lnTo>
                  <a:pt x="0" y="19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6" name="Freeform 88"/>
          <p:cNvSpPr/>
          <p:nvPr/>
        </p:nvSpPr>
        <p:spPr>
          <a:xfrm>
            <a:off x="2044800" y="2076480"/>
            <a:ext cx="1271520" cy="79848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40" h="1008">
                <a:moveTo>
                  <a:pt x="0" y="190"/>
                </a:moveTo>
                <a:lnTo>
                  <a:pt x="31" y="255"/>
                </a:lnTo>
                <a:lnTo>
                  <a:pt x="35" y="299"/>
                </a:lnTo>
                <a:lnTo>
                  <a:pt x="17" y="304"/>
                </a:lnTo>
                <a:lnTo>
                  <a:pt x="73" y="349"/>
                </a:lnTo>
                <a:lnTo>
                  <a:pt x="129" y="471"/>
                </a:lnTo>
                <a:lnTo>
                  <a:pt x="148" y="464"/>
                </a:lnTo>
                <a:lnTo>
                  <a:pt x="150" y="484"/>
                </a:lnTo>
                <a:lnTo>
                  <a:pt x="177" y="489"/>
                </a:lnTo>
                <a:lnTo>
                  <a:pt x="198" y="491"/>
                </a:lnTo>
                <a:lnTo>
                  <a:pt x="146" y="580"/>
                </a:lnTo>
                <a:lnTo>
                  <a:pt x="154" y="638"/>
                </a:lnTo>
                <a:lnTo>
                  <a:pt x="116" y="695"/>
                </a:lnTo>
                <a:lnTo>
                  <a:pt x="143" y="719"/>
                </a:lnTo>
                <a:lnTo>
                  <a:pt x="214" y="683"/>
                </a:lnTo>
                <a:lnTo>
                  <a:pt x="270" y="873"/>
                </a:lnTo>
                <a:lnTo>
                  <a:pt x="301" y="881"/>
                </a:lnTo>
                <a:lnTo>
                  <a:pt x="308" y="941"/>
                </a:lnTo>
                <a:lnTo>
                  <a:pt x="337" y="965"/>
                </a:lnTo>
                <a:lnTo>
                  <a:pt x="358" y="943"/>
                </a:lnTo>
                <a:lnTo>
                  <a:pt x="405" y="962"/>
                </a:lnTo>
                <a:lnTo>
                  <a:pt x="435" y="941"/>
                </a:lnTo>
                <a:lnTo>
                  <a:pt x="538" y="960"/>
                </a:lnTo>
                <a:lnTo>
                  <a:pt x="559" y="964"/>
                </a:lnTo>
                <a:lnTo>
                  <a:pt x="582" y="924"/>
                </a:lnTo>
                <a:lnTo>
                  <a:pt x="622" y="986"/>
                </a:lnTo>
                <a:lnTo>
                  <a:pt x="644" y="890"/>
                </a:lnTo>
                <a:lnTo>
                  <a:pt x="1141" y="953"/>
                </a:lnTo>
                <a:lnTo>
                  <a:pt x="1759" y="1008"/>
                </a:lnTo>
                <a:lnTo>
                  <a:pt x="1778" y="827"/>
                </a:lnTo>
                <a:lnTo>
                  <a:pt x="1840" y="234"/>
                </a:lnTo>
                <a:lnTo>
                  <a:pt x="1027" y="154"/>
                </a:lnTo>
                <a:lnTo>
                  <a:pt x="618" y="96"/>
                </a:lnTo>
                <a:lnTo>
                  <a:pt x="48" y="0"/>
                </a:lnTo>
                <a:lnTo>
                  <a:pt x="0" y="190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7" name="Freeform 89"/>
          <p:cNvSpPr/>
          <p:nvPr/>
        </p:nvSpPr>
        <p:spPr>
          <a:xfrm>
            <a:off x="3200400" y="3186000"/>
            <a:ext cx="1023840" cy="5065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488" h="641">
                <a:moveTo>
                  <a:pt x="0" y="391"/>
                </a:moveTo>
                <a:lnTo>
                  <a:pt x="43" y="0"/>
                </a:lnTo>
                <a:lnTo>
                  <a:pt x="960" y="48"/>
                </a:lnTo>
                <a:lnTo>
                  <a:pt x="1020" y="88"/>
                </a:lnTo>
                <a:lnTo>
                  <a:pt x="1129" y="86"/>
                </a:lnTo>
                <a:lnTo>
                  <a:pt x="1181" y="94"/>
                </a:lnTo>
                <a:lnTo>
                  <a:pt x="1245" y="117"/>
                </a:lnTo>
                <a:lnTo>
                  <a:pt x="1274" y="151"/>
                </a:lnTo>
                <a:lnTo>
                  <a:pt x="1301" y="158"/>
                </a:lnTo>
                <a:lnTo>
                  <a:pt x="1355" y="278"/>
                </a:lnTo>
                <a:lnTo>
                  <a:pt x="1355" y="317"/>
                </a:lnTo>
                <a:lnTo>
                  <a:pt x="1388" y="373"/>
                </a:lnTo>
                <a:lnTo>
                  <a:pt x="1403" y="466"/>
                </a:lnTo>
                <a:lnTo>
                  <a:pt x="1395" y="493"/>
                </a:lnTo>
                <a:lnTo>
                  <a:pt x="1415" y="526"/>
                </a:lnTo>
                <a:lnTo>
                  <a:pt x="1488" y="641"/>
                </a:lnTo>
                <a:lnTo>
                  <a:pt x="825" y="634"/>
                </a:lnTo>
                <a:lnTo>
                  <a:pt x="326" y="611"/>
                </a:lnTo>
                <a:lnTo>
                  <a:pt x="339" y="415"/>
                </a:lnTo>
                <a:lnTo>
                  <a:pt x="0" y="3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8" name="Freeform 90"/>
          <p:cNvSpPr/>
          <p:nvPr/>
        </p:nvSpPr>
        <p:spPr>
          <a:xfrm>
            <a:off x="3200400" y="3186000"/>
            <a:ext cx="1023840" cy="5065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488" h="641">
                <a:moveTo>
                  <a:pt x="0" y="391"/>
                </a:moveTo>
                <a:lnTo>
                  <a:pt x="43" y="0"/>
                </a:lnTo>
                <a:lnTo>
                  <a:pt x="960" y="48"/>
                </a:lnTo>
                <a:lnTo>
                  <a:pt x="1020" y="88"/>
                </a:lnTo>
                <a:lnTo>
                  <a:pt x="1129" y="86"/>
                </a:lnTo>
                <a:lnTo>
                  <a:pt x="1181" y="94"/>
                </a:lnTo>
                <a:lnTo>
                  <a:pt x="1245" y="117"/>
                </a:lnTo>
                <a:lnTo>
                  <a:pt x="1274" y="151"/>
                </a:lnTo>
                <a:lnTo>
                  <a:pt x="1301" y="158"/>
                </a:lnTo>
                <a:lnTo>
                  <a:pt x="1355" y="278"/>
                </a:lnTo>
                <a:lnTo>
                  <a:pt x="1355" y="317"/>
                </a:lnTo>
                <a:lnTo>
                  <a:pt x="1388" y="373"/>
                </a:lnTo>
                <a:lnTo>
                  <a:pt x="1403" y="466"/>
                </a:lnTo>
                <a:lnTo>
                  <a:pt x="1395" y="493"/>
                </a:lnTo>
                <a:lnTo>
                  <a:pt x="1415" y="526"/>
                </a:lnTo>
                <a:lnTo>
                  <a:pt x="1488" y="641"/>
                </a:lnTo>
                <a:lnTo>
                  <a:pt x="825" y="634"/>
                </a:lnTo>
                <a:lnTo>
                  <a:pt x="326" y="611"/>
                </a:lnTo>
                <a:lnTo>
                  <a:pt x="339" y="415"/>
                </a:lnTo>
                <a:lnTo>
                  <a:pt x="0" y="39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9" name="Freeform 91"/>
          <p:cNvSpPr/>
          <p:nvPr/>
        </p:nvSpPr>
        <p:spPr>
          <a:xfrm>
            <a:off x="1281240" y="3022560"/>
            <a:ext cx="787320" cy="1209600"/>
          </a:xfrm>
          <a:custGeom>
            <a:avLst/>
            <a:gdLst>
              <a:gd name="textAreaLeft" fmla="*/ 0 w 787320"/>
              <a:gd name="textAreaRight" fmla="*/ 787680 w 78732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145" h="1525">
                <a:moveTo>
                  <a:pt x="0" y="561"/>
                </a:moveTo>
                <a:lnTo>
                  <a:pt x="50" y="649"/>
                </a:lnTo>
                <a:lnTo>
                  <a:pt x="728" y="1525"/>
                </a:lnTo>
                <a:lnTo>
                  <a:pt x="754" y="1320"/>
                </a:lnTo>
                <a:lnTo>
                  <a:pt x="794" y="1310"/>
                </a:lnTo>
                <a:lnTo>
                  <a:pt x="865" y="1344"/>
                </a:lnTo>
                <a:lnTo>
                  <a:pt x="923" y="1162"/>
                </a:lnTo>
                <a:lnTo>
                  <a:pt x="1145" y="197"/>
                </a:lnTo>
                <a:lnTo>
                  <a:pt x="655" y="106"/>
                </a:lnTo>
                <a:lnTo>
                  <a:pt x="170" y="0"/>
                </a:lnTo>
                <a:lnTo>
                  <a:pt x="0" y="56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0" name="Freeform 92"/>
          <p:cNvSpPr/>
          <p:nvPr/>
        </p:nvSpPr>
        <p:spPr>
          <a:xfrm>
            <a:off x="1281240" y="3022560"/>
            <a:ext cx="787320" cy="1209600"/>
          </a:xfrm>
          <a:custGeom>
            <a:avLst/>
            <a:gdLst>
              <a:gd name="textAreaLeft" fmla="*/ 0 w 787320"/>
              <a:gd name="textAreaRight" fmla="*/ 787680 w 78732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145" h="1525">
                <a:moveTo>
                  <a:pt x="0" y="561"/>
                </a:moveTo>
                <a:lnTo>
                  <a:pt x="50" y="649"/>
                </a:lnTo>
                <a:lnTo>
                  <a:pt x="728" y="1525"/>
                </a:lnTo>
                <a:lnTo>
                  <a:pt x="754" y="1320"/>
                </a:lnTo>
                <a:lnTo>
                  <a:pt x="794" y="1310"/>
                </a:lnTo>
                <a:lnTo>
                  <a:pt x="865" y="1344"/>
                </a:lnTo>
                <a:lnTo>
                  <a:pt x="923" y="1162"/>
                </a:lnTo>
                <a:lnTo>
                  <a:pt x="1145" y="197"/>
                </a:lnTo>
                <a:lnTo>
                  <a:pt x="655" y="106"/>
                </a:lnTo>
                <a:lnTo>
                  <a:pt x="170" y="0"/>
                </a:lnTo>
                <a:lnTo>
                  <a:pt x="0" y="56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1" name="Freeform 93"/>
          <p:cNvSpPr/>
          <p:nvPr/>
        </p:nvSpPr>
        <p:spPr>
          <a:xfrm>
            <a:off x="6802560" y="2529000"/>
            <a:ext cx="203040" cy="426960"/>
          </a:xfrm>
          <a:custGeom>
            <a:avLst/>
            <a:gdLst>
              <a:gd name="textAreaLeft" fmla="*/ 0 w 203040"/>
              <a:gd name="textAreaRight" fmla="*/ 203400 w 2030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293" h="539">
                <a:moveTo>
                  <a:pt x="0" y="369"/>
                </a:moveTo>
                <a:lnTo>
                  <a:pt x="15" y="251"/>
                </a:lnTo>
                <a:lnTo>
                  <a:pt x="50" y="196"/>
                </a:lnTo>
                <a:lnTo>
                  <a:pt x="54" y="71"/>
                </a:lnTo>
                <a:lnTo>
                  <a:pt x="52" y="27"/>
                </a:lnTo>
                <a:lnTo>
                  <a:pt x="102" y="0"/>
                </a:lnTo>
                <a:lnTo>
                  <a:pt x="225" y="337"/>
                </a:lnTo>
                <a:lnTo>
                  <a:pt x="285" y="409"/>
                </a:lnTo>
                <a:lnTo>
                  <a:pt x="293" y="424"/>
                </a:lnTo>
                <a:lnTo>
                  <a:pt x="283" y="458"/>
                </a:lnTo>
                <a:lnTo>
                  <a:pt x="227" y="494"/>
                </a:lnTo>
                <a:lnTo>
                  <a:pt x="25" y="539"/>
                </a:lnTo>
                <a:lnTo>
                  <a:pt x="0" y="36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2" name="Freeform 94"/>
          <p:cNvSpPr/>
          <p:nvPr/>
        </p:nvSpPr>
        <p:spPr>
          <a:xfrm>
            <a:off x="6802560" y="2529000"/>
            <a:ext cx="203040" cy="426960"/>
          </a:xfrm>
          <a:custGeom>
            <a:avLst/>
            <a:gdLst>
              <a:gd name="textAreaLeft" fmla="*/ 0 w 203040"/>
              <a:gd name="textAreaRight" fmla="*/ 203400 w 2030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293" h="539">
                <a:moveTo>
                  <a:pt x="0" y="369"/>
                </a:moveTo>
                <a:lnTo>
                  <a:pt x="15" y="251"/>
                </a:lnTo>
                <a:lnTo>
                  <a:pt x="50" y="196"/>
                </a:lnTo>
                <a:lnTo>
                  <a:pt x="54" y="71"/>
                </a:lnTo>
                <a:lnTo>
                  <a:pt x="52" y="27"/>
                </a:lnTo>
                <a:lnTo>
                  <a:pt x="102" y="0"/>
                </a:lnTo>
                <a:lnTo>
                  <a:pt x="225" y="337"/>
                </a:lnTo>
                <a:lnTo>
                  <a:pt x="285" y="409"/>
                </a:lnTo>
                <a:lnTo>
                  <a:pt x="293" y="424"/>
                </a:lnTo>
                <a:lnTo>
                  <a:pt x="283" y="458"/>
                </a:lnTo>
                <a:lnTo>
                  <a:pt x="227" y="494"/>
                </a:lnTo>
                <a:lnTo>
                  <a:pt x="25" y="539"/>
                </a:lnTo>
                <a:lnTo>
                  <a:pt x="0" y="36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3" name="Freeform 95"/>
          <p:cNvSpPr/>
          <p:nvPr/>
        </p:nvSpPr>
        <p:spPr>
          <a:xfrm>
            <a:off x="6578640" y="3220920"/>
            <a:ext cx="169920" cy="376200"/>
          </a:xfrm>
          <a:custGeom>
            <a:avLst/>
            <a:gdLst>
              <a:gd name="textAreaLeft" fmla="*/ 0 w 169920"/>
              <a:gd name="textAreaRight" fmla="*/ 170280 w 1699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43" h="474">
                <a:moveTo>
                  <a:pt x="0" y="351"/>
                </a:moveTo>
                <a:lnTo>
                  <a:pt x="13" y="322"/>
                </a:lnTo>
                <a:lnTo>
                  <a:pt x="56" y="299"/>
                </a:lnTo>
                <a:lnTo>
                  <a:pt x="77" y="262"/>
                </a:lnTo>
                <a:lnTo>
                  <a:pt x="112" y="231"/>
                </a:lnTo>
                <a:lnTo>
                  <a:pt x="12" y="161"/>
                </a:lnTo>
                <a:lnTo>
                  <a:pt x="8" y="92"/>
                </a:lnTo>
                <a:lnTo>
                  <a:pt x="54" y="0"/>
                </a:lnTo>
                <a:lnTo>
                  <a:pt x="208" y="46"/>
                </a:lnTo>
                <a:lnTo>
                  <a:pt x="210" y="63"/>
                </a:lnTo>
                <a:lnTo>
                  <a:pt x="193" y="116"/>
                </a:lnTo>
                <a:lnTo>
                  <a:pt x="175" y="130"/>
                </a:lnTo>
                <a:lnTo>
                  <a:pt x="173" y="156"/>
                </a:lnTo>
                <a:lnTo>
                  <a:pt x="189" y="162"/>
                </a:lnTo>
                <a:lnTo>
                  <a:pt x="206" y="161"/>
                </a:lnTo>
                <a:lnTo>
                  <a:pt x="222" y="162"/>
                </a:lnTo>
                <a:lnTo>
                  <a:pt x="218" y="150"/>
                </a:lnTo>
                <a:lnTo>
                  <a:pt x="225" y="156"/>
                </a:lnTo>
                <a:lnTo>
                  <a:pt x="239" y="186"/>
                </a:lnTo>
                <a:lnTo>
                  <a:pt x="243" y="286"/>
                </a:lnTo>
                <a:lnTo>
                  <a:pt x="237" y="260"/>
                </a:lnTo>
                <a:lnTo>
                  <a:pt x="227" y="238"/>
                </a:lnTo>
                <a:lnTo>
                  <a:pt x="225" y="250"/>
                </a:lnTo>
                <a:lnTo>
                  <a:pt x="229" y="274"/>
                </a:lnTo>
                <a:lnTo>
                  <a:pt x="225" y="286"/>
                </a:lnTo>
                <a:lnTo>
                  <a:pt x="227" y="311"/>
                </a:lnTo>
                <a:lnTo>
                  <a:pt x="216" y="340"/>
                </a:lnTo>
                <a:lnTo>
                  <a:pt x="200" y="340"/>
                </a:lnTo>
                <a:lnTo>
                  <a:pt x="206" y="363"/>
                </a:lnTo>
                <a:lnTo>
                  <a:pt x="183" y="397"/>
                </a:lnTo>
                <a:lnTo>
                  <a:pt x="148" y="474"/>
                </a:lnTo>
                <a:lnTo>
                  <a:pt x="135" y="474"/>
                </a:lnTo>
                <a:lnTo>
                  <a:pt x="137" y="443"/>
                </a:lnTo>
                <a:lnTo>
                  <a:pt x="133" y="431"/>
                </a:lnTo>
                <a:lnTo>
                  <a:pt x="91" y="433"/>
                </a:lnTo>
                <a:lnTo>
                  <a:pt x="33" y="402"/>
                </a:lnTo>
                <a:lnTo>
                  <a:pt x="12" y="390"/>
                </a:lnTo>
                <a:lnTo>
                  <a:pt x="0" y="35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4" name="Freeform 96"/>
          <p:cNvSpPr/>
          <p:nvPr/>
        </p:nvSpPr>
        <p:spPr>
          <a:xfrm>
            <a:off x="6553080" y="3220920"/>
            <a:ext cx="195480" cy="360360"/>
          </a:xfrm>
          <a:custGeom>
            <a:avLst/>
            <a:gdLst>
              <a:gd name="textAreaLeft" fmla="*/ 0 w 195480"/>
              <a:gd name="textAreaRight" fmla="*/ 195840 w 1954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43" h="474">
                <a:moveTo>
                  <a:pt x="0" y="351"/>
                </a:moveTo>
                <a:lnTo>
                  <a:pt x="13" y="322"/>
                </a:lnTo>
                <a:lnTo>
                  <a:pt x="56" y="299"/>
                </a:lnTo>
                <a:lnTo>
                  <a:pt x="77" y="262"/>
                </a:lnTo>
                <a:lnTo>
                  <a:pt x="112" y="231"/>
                </a:lnTo>
                <a:lnTo>
                  <a:pt x="12" y="161"/>
                </a:lnTo>
                <a:lnTo>
                  <a:pt x="8" y="92"/>
                </a:lnTo>
                <a:lnTo>
                  <a:pt x="54" y="0"/>
                </a:lnTo>
                <a:lnTo>
                  <a:pt x="208" y="46"/>
                </a:lnTo>
                <a:lnTo>
                  <a:pt x="210" y="63"/>
                </a:lnTo>
                <a:lnTo>
                  <a:pt x="193" y="116"/>
                </a:lnTo>
                <a:lnTo>
                  <a:pt x="175" y="130"/>
                </a:lnTo>
                <a:lnTo>
                  <a:pt x="173" y="156"/>
                </a:lnTo>
                <a:lnTo>
                  <a:pt x="189" y="162"/>
                </a:lnTo>
                <a:lnTo>
                  <a:pt x="206" y="161"/>
                </a:lnTo>
                <a:lnTo>
                  <a:pt x="222" y="162"/>
                </a:lnTo>
                <a:lnTo>
                  <a:pt x="218" y="150"/>
                </a:lnTo>
                <a:lnTo>
                  <a:pt x="225" y="156"/>
                </a:lnTo>
                <a:lnTo>
                  <a:pt x="239" y="186"/>
                </a:lnTo>
                <a:lnTo>
                  <a:pt x="243" y="286"/>
                </a:lnTo>
                <a:lnTo>
                  <a:pt x="237" y="260"/>
                </a:lnTo>
                <a:lnTo>
                  <a:pt x="227" y="238"/>
                </a:lnTo>
                <a:lnTo>
                  <a:pt x="225" y="250"/>
                </a:lnTo>
                <a:lnTo>
                  <a:pt x="229" y="274"/>
                </a:lnTo>
                <a:lnTo>
                  <a:pt x="225" y="286"/>
                </a:lnTo>
                <a:lnTo>
                  <a:pt x="227" y="311"/>
                </a:lnTo>
                <a:lnTo>
                  <a:pt x="216" y="340"/>
                </a:lnTo>
                <a:lnTo>
                  <a:pt x="200" y="340"/>
                </a:lnTo>
                <a:lnTo>
                  <a:pt x="206" y="363"/>
                </a:lnTo>
                <a:lnTo>
                  <a:pt x="183" y="397"/>
                </a:lnTo>
                <a:lnTo>
                  <a:pt x="148" y="474"/>
                </a:lnTo>
                <a:lnTo>
                  <a:pt x="135" y="474"/>
                </a:lnTo>
                <a:lnTo>
                  <a:pt x="137" y="443"/>
                </a:lnTo>
                <a:lnTo>
                  <a:pt x="133" y="431"/>
                </a:lnTo>
                <a:lnTo>
                  <a:pt x="91" y="433"/>
                </a:lnTo>
                <a:lnTo>
                  <a:pt x="33" y="402"/>
                </a:lnTo>
                <a:lnTo>
                  <a:pt x="12" y="390"/>
                </a:lnTo>
                <a:lnTo>
                  <a:pt x="0" y="351"/>
                </a:lnTo>
              </a:path>
            </a:pathLst>
          </a:custGeom>
          <a:solidFill>
            <a:srgbClr val="ff00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5" name="Freeform 97"/>
          <p:cNvSpPr/>
          <p:nvPr/>
        </p:nvSpPr>
        <p:spPr>
          <a:xfrm>
            <a:off x="2401920" y="4048200"/>
            <a:ext cx="873000" cy="884160"/>
          </a:xfrm>
          <a:custGeom>
            <a:avLst/>
            <a:gdLst>
              <a:gd name="textAreaLeft" fmla="*/ 0 w 873000"/>
              <a:gd name="textAreaRight" fmla="*/ 873360 w 87300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266" h="1117">
                <a:moveTo>
                  <a:pt x="0" y="1098"/>
                </a:moveTo>
                <a:lnTo>
                  <a:pt x="158" y="1117"/>
                </a:lnTo>
                <a:lnTo>
                  <a:pt x="174" y="1031"/>
                </a:lnTo>
                <a:lnTo>
                  <a:pt x="494" y="1067"/>
                </a:lnTo>
                <a:lnTo>
                  <a:pt x="478" y="1026"/>
                </a:lnTo>
                <a:lnTo>
                  <a:pt x="528" y="1030"/>
                </a:lnTo>
                <a:lnTo>
                  <a:pt x="1162" y="1083"/>
                </a:lnTo>
                <a:lnTo>
                  <a:pt x="1257" y="204"/>
                </a:lnTo>
                <a:lnTo>
                  <a:pt x="1266" y="102"/>
                </a:lnTo>
                <a:lnTo>
                  <a:pt x="727" y="60"/>
                </a:lnTo>
                <a:lnTo>
                  <a:pt x="185" y="0"/>
                </a:lnTo>
                <a:lnTo>
                  <a:pt x="0" y="10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6" name="Freeform 98"/>
          <p:cNvSpPr/>
          <p:nvPr/>
        </p:nvSpPr>
        <p:spPr>
          <a:xfrm>
            <a:off x="2401920" y="4048200"/>
            <a:ext cx="873000" cy="884160"/>
          </a:xfrm>
          <a:custGeom>
            <a:avLst/>
            <a:gdLst>
              <a:gd name="textAreaLeft" fmla="*/ 0 w 873000"/>
              <a:gd name="textAreaRight" fmla="*/ 873360 w 87300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266" h="1117">
                <a:moveTo>
                  <a:pt x="0" y="1098"/>
                </a:moveTo>
                <a:lnTo>
                  <a:pt x="158" y="1117"/>
                </a:lnTo>
                <a:lnTo>
                  <a:pt x="174" y="1031"/>
                </a:lnTo>
                <a:lnTo>
                  <a:pt x="494" y="1067"/>
                </a:lnTo>
                <a:lnTo>
                  <a:pt x="478" y="1026"/>
                </a:lnTo>
                <a:lnTo>
                  <a:pt x="528" y="1030"/>
                </a:lnTo>
                <a:lnTo>
                  <a:pt x="1162" y="1083"/>
                </a:lnTo>
                <a:lnTo>
                  <a:pt x="1257" y="204"/>
                </a:lnTo>
                <a:lnTo>
                  <a:pt x="1266" y="102"/>
                </a:lnTo>
                <a:lnTo>
                  <a:pt x="727" y="60"/>
                </a:lnTo>
                <a:lnTo>
                  <a:pt x="185" y="0"/>
                </a:lnTo>
                <a:lnTo>
                  <a:pt x="0" y="109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7" name="Freeform 99"/>
          <p:cNvSpPr/>
          <p:nvPr/>
        </p:nvSpPr>
        <p:spPr>
          <a:xfrm>
            <a:off x="6014880" y="2633760"/>
            <a:ext cx="736920" cy="652320"/>
          </a:xfrm>
          <a:custGeom>
            <a:avLst/>
            <a:gdLst>
              <a:gd name="textAreaLeft" fmla="*/ 0 w 736920"/>
              <a:gd name="textAreaRight" fmla="*/ 737280 w 736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1066" h="824">
                <a:moveTo>
                  <a:pt x="0" y="709"/>
                </a:moveTo>
                <a:lnTo>
                  <a:pt x="35" y="755"/>
                </a:lnTo>
                <a:lnTo>
                  <a:pt x="730" y="642"/>
                </a:lnTo>
                <a:lnTo>
                  <a:pt x="779" y="661"/>
                </a:lnTo>
                <a:lnTo>
                  <a:pt x="807" y="709"/>
                </a:lnTo>
                <a:lnTo>
                  <a:pt x="873" y="742"/>
                </a:lnTo>
                <a:lnTo>
                  <a:pt x="1027" y="788"/>
                </a:lnTo>
                <a:lnTo>
                  <a:pt x="1029" y="805"/>
                </a:lnTo>
                <a:lnTo>
                  <a:pt x="1041" y="824"/>
                </a:lnTo>
                <a:lnTo>
                  <a:pt x="1050" y="814"/>
                </a:lnTo>
                <a:lnTo>
                  <a:pt x="1066" y="774"/>
                </a:lnTo>
                <a:lnTo>
                  <a:pt x="1066" y="704"/>
                </a:lnTo>
                <a:lnTo>
                  <a:pt x="1041" y="572"/>
                </a:lnTo>
                <a:lnTo>
                  <a:pt x="1039" y="432"/>
                </a:lnTo>
                <a:lnTo>
                  <a:pt x="1012" y="322"/>
                </a:lnTo>
                <a:lnTo>
                  <a:pt x="963" y="233"/>
                </a:lnTo>
                <a:lnTo>
                  <a:pt x="954" y="141"/>
                </a:lnTo>
                <a:lnTo>
                  <a:pt x="908" y="0"/>
                </a:lnTo>
                <a:lnTo>
                  <a:pt x="696" y="50"/>
                </a:lnTo>
                <a:lnTo>
                  <a:pt x="678" y="45"/>
                </a:lnTo>
                <a:lnTo>
                  <a:pt x="613" y="93"/>
                </a:lnTo>
                <a:lnTo>
                  <a:pt x="553" y="165"/>
                </a:lnTo>
                <a:lnTo>
                  <a:pt x="547" y="197"/>
                </a:lnTo>
                <a:lnTo>
                  <a:pt x="522" y="228"/>
                </a:lnTo>
                <a:lnTo>
                  <a:pt x="474" y="266"/>
                </a:lnTo>
                <a:lnTo>
                  <a:pt x="495" y="291"/>
                </a:lnTo>
                <a:lnTo>
                  <a:pt x="501" y="273"/>
                </a:lnTo>
                <a:lnTo>
                  <a:pt x="513" y="278"/>
                </a:lnTo>
                <a:lnTo>
                  <a:pt x="507" y="286"/>
                </a:lnTo>
                <a:lnTo>
                  <a:pt x="515" y="291"/>
                </a:lnTo>
                <a:lnTo>
                  <a:pt x="507" y="309"/>
                </a:lnTo>
                <a:lnTo>
                  <a:pt x="501" y="307"/>
                </a:lnTo>
                <a:lnTo>
                  <a:pt x="499" y="317"/>
                </a:lnTo>
                <a:lnTo>
                  <a:pt x="522" y="343"/>
                </a:lnTo>
                <a:lnTo>
                  <a:pt x="522" y="367"/>
                </a:lnTo>
                <a:lnTo>
                  <a:pt x="490" y="382"/>
                </a:lnTo>
                <a:lnTo>
                  <a:pt x="455" y="425"/>
                </a:lnTo>
                <a:lnTo>
                  <a:pt x="418" y="449"/>
                </a:lnTo>
                <a:lnTo>
                  <a:pt x="351" y="451"/>
                </a:lnTo>
                <a:lnTo>
                  <a:pt x="326" y="468"/>
                </a:lnTo>
                <a:lnTo>
                  <a:pt x="287" y="454"/>
                </a:lnTo>
                <a:lnTo>
                  <a:pt x="172" y="464"/>
                </a:lnTo>
                <a:lnTo>
                  <a:pt x="83" y="495"/>
                </a:lnTo>
                <a:lnTo>
                  <a:pt x="91" y="519"/>
                </a:lnTo>
                <a:lnTo>
                  <a:pt x="83" y="533"/>
                </a:lnTo>
                <a:lnTo>
                  <a:pt x="91" y="533"/>
                </a:lnTo>
                <a:lnTo>
                  <a:pt x="104" y="559"/>
                </a:lnTo>
                <a:lnTo>
                  <a:pt x="116" y="557"/>
                </a:lnTo>
                <a:lnTo>
                  <a:pt x="129" y="583"/>
                </a:lnTo>
                <a:lnTo>
                  <a:pt x="127" y="591"/>
                </a:lnTo>
                <a:lnTo>
                  <a:pt x="106" y="603"/>
                </a:lnTo>
                <a:lnTo>
                  <a:pt x="95" y="634"/>
                </a:lnTo>
                <a:lnTo>
                  <a:pt x="0" y="70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8" name="Freeform 100"/>
          <p:cNvSpPr/>
          <p:nvPr/>
        </p:nvSpPr>
        <p:spPr>
          <a:xfrm>
            <a:off x="6014880" y="2633760"/>
            <a:ext cx="736920" cy="652320"/>
          </a:xfrm>
          <a:custGeom>
            <a:avLst/>
            <a:gdLst>
              <a:gd name="textAreaLeft" fmla="*/ 0 w 736920"/>
              <a:gd name="textAreaRight" fmla="*/ 737280 w 736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1066" h="824">
                <a:moveTo>
                  <a:pt x="0" y="709"/>
                </a:moveTo>
                <a:lnTo>
                  <a:pt x="35" y="755"/>
                </a:lnTo>
                <a:lnTo>
                  <a:pt x="730" y="642"/>
                </a:lnTo>
                <a:lnTo>
                  <a:pt x="779" y="661"/>
                </a:lnTo>
                <a:lnTo>
                  <a:pt x="807" y="709"/>
                </a:lnTo>
                <a:lnTo>
                  <a:pt x="873" y="742"/>
                </a:lnTo>
                <a:lnTo>
                  <a:pt x="1027" y="788"/>
                </a:lnTo>
                <a:lnTo>
                  <a:pt x="1029" y="805"/>
                </a:lnTo>
                <a:lnTo>
                  <a:pt x="1041" y="824"/>
                </a:lnTo>
                <a:lnTo>
                  <a:pt x="1050" y="814"/>
                </a:lnTo>
                <a:lnTo>
                  <a:pt x="1066" y="774"/>
                </a:lnTo>
                <a:lnTo>
                  <a:pt x="1066" y="704"/>
                </a:lnTo>
                <a:lnTo>
                  <a:pt x="1041" y="572"/>
                </a:lnTo>
                <a:lnTo>
                  <a:pt x="1039" y="432"/>
                </a:lnTo>
                <a:lnTo>
                  <a:pt x="1012" y="322"/>
                </a:lnTo>
                <a:lnTo>
                  <a:pt x="963" y="233"/>
                </a:lnTo>
                <a:lnTo>
                  <a:pt x="954" y="141"/>
                </a:lnTo>
                <a:lnTo>
                  <a:pt x="908" y="0"/>
                </a:lnTo>
                <a:lnTo>
                  <a:pt x="696" y="50"/>
                </a:lnTo>
                <a:lnTo>
                  <a:pt x="678" y="45"/>
                </a:lnTo>
                <a:lnTo>
                  <a:pt x="613" y="93"/>
                </a:lnTo>
                <a:lnTo>
                  <a:pt x="553" y="165"/>
                </a:lnTo>
                <a:lnTo>
                  <a:pt x="547" y="197"/>
                </a:lnTo>
                <a:lnTo>
                  <a:pt x="522" y="228"/>
                </a:lnTo>
                <a:lnTo>
                  <a:pt x="474" y="266"/>
                </a:lnTo>
                <a:lnTo>
                  <a:pt x="495" y="291"/>
                </a:lnTo>
                <a:lnTo>
                  <a:pt x="501" y="273"/>
                </a:lnTo>
                <a:lnTo>
                  <a:pt x="513" y="278"/>
                </a:lnTo>
                <a:lnTo>
                  <a:pt x="507" y="286"/>
                </a:lnTo>
                <a:lnTo>
                  <a:pt x="515" y="291"/>
                </a:lnTo>
                <a:lnTo>
                  <a:pt x="507" y="309"/>
                </a:lnTo>
                <a:lnTo>
                  <a:pt x="501" y="307"/>
                </a:lnTo>
                <a:lnTo>
                  <a:pt x="499" y="317"/>
                </a:lnTo>
                <a:lnTo>
                  <a:pt x="522" y="343"/>
                </a:lnTo>
                <a:lnTo>
                  <a:pt x="522" y="367"/>
                </a:lnTo>
                <a:lnTo>
                  <a:pt x="490" y="382"/>
                </a:lnTo>
                <a:lnTo>
                  <a:pt x="455" y="425"/>
                </a:lnTo>
                <a:lnTo>
                  <a:pt x="418" y="449"/>
                </a:lnTo>
                <a:lnTo>
                  <a:pt x="351" y="451"/>
                </a:lnTo>
                <a:lnTo>
                  <a:pt x="326" y="468"/>
                </a:lnTo>
                <a:lnTo>
                  <a:pt x="287" y="454"/>
                </a:lnTo>
                <a:lnTo>
                  <a:pt x="172" y="464"/>
                </a:lnTo>
                <a:lnTo>
                  <a:pt x="83" y="495"/>
                </a:lnTo>
                <a:lnTo>
                  <a:pt x="91" y="519"/>
                </a:lnTo>
                <a:lnTo>
                  <a:pt x="83" y="533"/>
                </a:lnTo>
                <a:lnTo>
                  <a:pt x="91" y="533"/>
                </a:lnTo>
                <a:lnTo>
                  <a:pt x="104" y="559"/>
                </a:lnTo>
                <a:lnTo>
                  <a:pt x="116" y="557"/>
                </a:lnTo>
                <a:lnTo>
                  <a:pt x="129" y="583"/>
                </a:lnTo>
                <a:lnTo>
                  <a:pt x="127" y="591"/>
                </a:lnTo>
                <a:lnTo>
                  <a:pt x="106" y="603"/>
                </a:lnTo>
                <a:lnTo>
                  <a:pt x="95" y="634"/>
                </a:lnTo>
                <a:lnTo>
                  <a:pt x="0" y="70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9" name="Freeform 101"/>
          <p:cNvSpPr/>
          <p:nvPr/>
        </p:nvSpPr>
        <p:spPr>
          <a:xfrm>
            <a:off x="6697800" y="3314880"/>
            <a:ext cx="21960" cy="29880"/>
          </a:xfrm>
          <a:custGeom>
            <a:avLst/>
            <a:gdLst>
              <a:gd name="textAreaLeft" fmla="*/ 0 w 21960"/>
              <a:gd name="textAreaRight" fmla="*/ 22320 w 219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1" h="40">
                <a:moveTo>
                  <a:pt x="0" y="40"/>
                </a:moveTo>
                <a:lnTo>
                  <a:pt x="2" y="14"/>
                </a:lnTo>
                <a:lnTo>
                  <a:pt x="20" y="0"/>
                </a:lnTo>
                <a:lnTo>
                  <a:pt x="31" y="7"/>
                </a:lnTo>
                <a:lnTo>
                  <a:pt x="14" y="31"/>
                </a:lnTo>
                <a:lnTo>
                  <a:pt x="0" y="4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0" name="Freeform 102"/>
          <p:cNvSpPr/>
          <p:nvPr/>
        </p:nvSpPr>
        <p:spPr>
          <a:xfrm>
            <a:off x="6697800" y="3314880"/>
            <a:ext cx="21960" cy="29880"/>
          </a:xfrm>
          <a:custGeom>
            <a:avLst/>
            <a:gdLst>
              <a:gd name="textAreaLeft" fmla="*/ 0 w 21960"/>
              <a:gd name="textAreaRight" fmla="*/ 22320 w 219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1" h="40">
                <a:moveTo>
                  <a:pt x="0" y="40"/>
                </a:moveTo>
                <a:lnTo>
                  <a:pt x="2" y="14"/>
                </a:lnTo>
                <a:lnTo>
                  <a:pt x="20" y="0"/>
                </a:lnTo>
                <a:lnTo>
                  <a:pt x="31" y="7"/>
                </a:lnTo>
                <a:lnTo>
                  <a:pt x="14" y="31"/>
                </a:lnTo>
                <a:lnTo>
                  <a:pt x="0" y="40"/>
                </a:lnTo>
              </a:path>
            </a:pathLst>
          </a:custGeom>
          <a:solidFill>
            <a:srgbClr val="c0c0c0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1" name="Freeform 103"/>
          <p:cNvSpPr/>
          <p:nvPr/>
        </p:nvSpPr>
        <p:spPr>
          <a:xfrm>
            <a:off x="5635800" y="3992400"/>
            <a:ext cx="1042920" cy="46692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1538" h="591">
                <a:moveTo>
                  <a:pt x="0" y="463"/>
                </a:moveTo>
                <a:lnTo>
                  <a:pt x="0" y="507"/>
                </a:lnTo>
                <a:lnTo>
                  <a:pt x="222" y="487"/>
                </a:lnTo>
                <a:lnTo>
                  <a:pt x="353" y="428"/>
                </a:lnTo>
                <a:lnTo>
                  <a:pt x="600" y="406"/>
                </a:lnTo>
                <a:lnTo>
                  <a:pt x="700" y="459"/>
                </a:lnTo>
                <a:lnTo>
                  <a:pt x="860" y="442"/>
                </a:lnTo>
                <a:lnTo>
                  <a:pt x="1099" y="591"/>
                </a:lnTo>
                <a:lnTo>
                  <a:pt x="1133" y="572"/>
                </a:lnTo>
                <a:lnTo>
                  <a:pt x="1193" y="570"/>
                </a:lnTo>
                <a:lnTo>
                  <a:pt x="1205" y="531"/>
                </a:lnTo>
                <a:lnTo>
                  <a:pt x="1218" y="552"/>
                </a:lnTo>
                <a:lnTo>
                  <a:pt x="1235" y="483"/>
                </a:lnTo>
                <a:lnTo>
                  <a:pt x="1264" y="449"/>
                </a:lnTo>
                <a:lnTo>
                  <a:pt x="1295" y="428"/>
                </a:lnTo>
                <a:lnTo>
                  <a:pt x="1280" y="420"/>
                </a:lnTo>
                <a:lnTo>
                  <a:pt x="1284" y="406"/>
                </a:lnTo>
                <a:lnTo>
                  <a:pt x="1270" y="389"/>
                </a:lnTo>
                <a:lnTo>
                  <a:pt x="1293" y="406"/>
                </a:lnTo>
                <a:lnTo>
                  <a:pt x="1287" y="413"/>
                </a:lnTo>
                <a:lnTo>
                  <a:pt x="1305" y="420"/>
                </a:lnTo>
                <a:lnTo>
                  <a:pt x="1322" y="404"/>
                </a:lnTo>
                <a:lnTo>
                  <a:pt x="1330" y="399"/>
                </a:lnTo>
                <a:lnTo>
                  <a:pt x="1322" y="375"/>
                </a:lnTo>
                <a:lnTo>
                  <a:pt x="1330" y="372"/>
                </a:lnTo>
                <a:lnTo>
                  <a:pt x="1341" y="389"/>
                </a:lnTo>
                <a:lnTo>
                  <a:pt x="1393" y="367"/>
                </a:lnTo>
                <a:lnTo>
                  <a:pt x="1440" y="365"/>
                </a:lnTo>
                <a:lnTo>
                  <a:pt x="1471" y="315"/>
                </a:lnTo>
                <a:lnTo>
                  <a:pt x="1459" y="303"/>
                </a:lnTo>
                <a:lnTo>
                  <a:pt x="1442" y="320"/>
                </a:lnTo>
                <a:lnTo>
                  <a:pt x="1436" y="295"/>
                </a:lnTo>
                <a:lnTo>
                  <a:pt x="1415" y="312"/>
                </a:lnTo>
                <a:lnTo>
                  <a:pt x="1424" y="327"/>
                </a:lnTo>
                <a:lnTo>
                  <a:pt x="1405" y="319"/>
                </a:lnTo>
                <a:lnTo>
                  <a:pt x="1403" y="336"/>
                </a:lnTo>
                <a:lnTo>
                  <a:pt x="1353" y="331"/>
                </a:lnTo>
                <a:lnTo>
                  <a:pt x="1320" y="310"/>
                </a:lnTo>
                <a:lnTo>
                  <a:pt x="1322" y="300"/>
                </a:lnTo>
                <a:lnTo>
                  <a:pt x="1376" y="327"/>
                </a:lnTo>
                <a:lnTo>
                  <a:pt x="1415" y="285"/>
                </a:lnTo>
                <a:lnTo>
                  <a:pt x="1393" y="281"/>
                </a:lnTo>
                <a:lnTo>
                  <a:pt x="1419" y="250"/>
                </a:lnTo>
                <a:lnTo>
                  <a:pt x="1392" y="259"/>
                </a:lnTo>
                <a:lnTo>
                  <a:pt x="1311" y="231"/>
                </a:lnTo>
                <a:lnTo>
                  <a:pt x="1353" y="226"/>
                </a:lnTo>
                <a:lnTo>
                  <a:pt x="1392" y="240"/>
                </a:lnTo>
                <a:lnTo>
                  <a:pt x="1392" y="231"/>
                </a:lnTo>
                <a:lnTo>
                  <a:pt x="1376" y="213"/>
                </a:lnTo>
                <a:lnTo>
                  <a:pt x="1390" y="213"/>
                </a:lnTo>
                <a:lnTo>
                  <a:pt x="1413" y="202"/>
                </a:lnTo>
                <a:lnTo>
                  <a:pt x="1399" y="219"/>
                </a:lnTo>
                <a:lnTo>
                  <a:pt x="1409" y="237"/>
                </a:lnTo>
                <a:lnTo>
                  <a:pt x="1428" y="221"/>
                </a:lnTo>
                <a:lnTo>
                  <a:pt x="1440" y="240"/>
                </a:lnTo>
                <a:lnTo>
                  <a:pt x="1455" y="237"/>
                </a:lnTo>
                <a:lnTo>
                  <a:pt x="1478" y="237"/>
                </a:lnTo>
                <a:lnTo>
                  <a:pt x="1501" y="213"/>
                </a:lnTo>
                <a:lnTo>
                  <a:pt x="1515" y="177"/>
                </a:lnTo>
                <a:lnTo>
                  <a:pt x="1538" y="172"/>
                </a:lnTo>
                <a:lnTo>
                  <a:pt x="1538" y="151"/>
                </a:lnTo>
                <a:lnTo>
                  <a:pt x="1521" y="118"/>
                </a:lnTo>
                <a:lnTo>
                  <a:pt x="1498" y="118"/>
                </a:lnTo>
                <a:lnTo>
                  <a:pt x="1474" y="172"/>
                </a:lnTo>
                <a:lnTo>
                  <a:pt x="1463" y="144"/>
                </a:lnTo>
                <a:lnTo>
                  <a:pt x="1459" y="108"/>
                </a:lnTo>
                <a:lnTo>
                  <a:pt x="1411" y="129"/>
                </a:lnTo>
                <a:lnTo>
                  <a:pt x="1345" y="141"/>
                </a:lnTo>
                <a:lnTo>
                  <a:pt x="1353" y="115"/>
                </a:lnTo>
                <a:lnTo>
                  <a:pt x="1388" y="100"/>
                </a:lnTo>
                <a:lnTo>
                  <a:pt x="1453" y="77"/>
                </a:lnTo>
                <a:lnTo>
                  <a:pt x="1432" y="50"/>
                </a:lnTo>
                <a:lnTo>
                  <a:pt x="1478" y="69"/>
                </a:lnTo>
                <a:lnTo>
                  <a:pt x="1461" y="45"/>
                </a:lnTo>
                <a:lnTo>
                  <a:pt x="1505" y="77"/>
                </a:lnTo>
                <a:lnTo>
                  <a:pt x="1472" y="23"/>
                </a:lnTo>
                <a:lnTo>
                  <a:pt x="1440" y="0"/>
                </a:lnTo>
                <a:lnTo>
                  <a:pt x="891" y="89"/>
                </a:lnTo>
                <a:lnTo>
                  <a:pt x="440" y="141"/>
                </a:lnTo>
                <a:lnTo>
                  <a:pt x="432" y="185"/>
                </a:lnTo>
                <a:lnTo>
                  <a:pt x="407" y="199"/>
                </a:lnTo>
                <a:lnTo>
                  <a:pt x="376" y="247"/>
                </a:lnTo>
                <a:lnTo>
                  <a:pt x="351" y="243"/>
                </a:lnTo>
                <a:lnTo>
                  <a:pt x="322" y="257"/>
                </a:lnTo>
                <a:lnTo>
                  <a:pt x="303" y="281"/>
                </a:lnTo>
                <a:lnTo>
                  <a:pt x="276" y="266"/>
                </a:lnTo>
                <a:lnTo>
                  <a:pt x="236" y="295"/>
                </a:lnTo>
                <a:lnTo>
                  <a:pt x="230" y="320"/>
                </a:lnTo>
                <a:lnTo>
                  <a:pt x="58" y="410"/>
                </a:lnTo>
                <a:lnTo>
                  <a:pt x="47" y="445"/>
                </a:lnTo>
                <a:lnTo>
                  <a:pt x="0" y="46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2" name="Freeform 104"/>
          <p:cNvSpPr/>
          <p:nvPr/>
        </p:nvSpPr>
        <p:spPr>
          <a:xfrm>
            <a:off x="5629320" y="3992400"/>
            <a:ext cx="1058760" cy="46692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1538" h="591">
                <a:moveTo>
                  <a:pt x="0" y="463"/>
                </a:moveTo>
                <a:lnTo>
                  <a:pt x="0" y="507"/>
                </a:lnTo>
                <a:lnTo>
                  <a:pt x="222" y="487"/>
                </a:lnTo>
                <a:lnTo>
                  <a:pt x="353" y="428"/>
                </a:lnTo>
                <a:lnTo>
                  <a:pt x="600" y="406"/>
                </a:lnTo>
                <a:lnTo>
                  <a:pt x="700" y="459"/>
                </a:lnTo>
                <a:lnTo>
                  <a:pt x="860" y="442"/>
                </a:lnTo>
                <a:lnTo>
                  <a:pt x="1099" y="591"/>
                </a:lnTo>
                <a:lnTo>
                  <a:pt x="1133" y="572"/>
                </a:lnTo>
                <a:lnTo>
                  <a:pt x="1193" y="570"/>
                </a:lnTo>
                <a:lnTo>
                  <a:pt x="1205" y="531"/>
                </a:lnTo>
                <a:lnTo>
                  <a:pt x="1218" y="552"/>
                </a:lnTo>
                <a:lnTo>
                  <a:pt x="1235" y="483"/>
                </a:lnTo>
                <a:lnTo>
                  <a:pt x="1264" y="449"/>
                </a:lnTo>
                <a:lnTo>
                  <a:pt x="1295" y="428"/>
                </a:lnTo>
                <a:lnTo>
                  <a:pt x="1280" y="420"/>
                </a:lnTo>
                <a:lnTo>
                  <a:pt x="1284" y="406"/>
                </a:lnTo>
                <a:lnTo>
                  <a:pt x="1270" y="389"/>
                </a:lnTo>
                <a:lnTo>
                  <a:pt x="1293" y="406"/>
                </a:lnTo>
                <a:lnTo>
                  <a:pt x="1287" y="413"/>
                </a:lnTo>
                <a:lnTo>
                  <a:pt x="1305" y="420"/>
                </a:lnTo>
                <a:lnTo>
                  <a:pt x="1322" y="404"/>
                </a:lnTo>
                <a:lnTo>
                  <a:pt x="1330" y="399"/>
                </a:lnTo>
                <a:lnTo>
                  <a:pt x="1322" y="375"/>
                </a:lnTo>
                <a:lnTo>
                  <a:pt x="1330" y="372"/>
                </a:lnTo>
                <a:lnTo>
                  <a:pt x="1341" y="389"/>
                </a:lnTo>
                <a:lnTo>
                  <a:pt x="1393" y="367"/>
                </a:lnTo>
                <a:lnTo>
                  <a:pt x="1440" y="365"/>
                </a:lnTo>
                <a:lnTo>
                  <a:pt x="1471" y="315"/>
                </a:lnTo>
                <a:lnTo>
                  <a:pt x="1459" y="303"/>
                </a:lnTo>
                <a:lnTo>
                  <a:pt x="1442" y="320"/>
                </a:lnTo>
                <a:lnTo>
                  <a:pt x="1436" y="295"/>
                </a:lnTo>
                <a:lnTo>
                  <a:pt x="1415" y="312"/>
                </a:lnTo>
                <a:lnTo>
                  <a:pt x="1424" y="327"/>
                </a:lnTo>
                <a:lnTo>
                  <a:pt x="1405" y="319"/>
                </a:lnTo>
                <a:lnTo>
                  <a:pt x="1403" y="336"/>
                </a:lnTo>
                <a:lnTo>
                  <a:pt x="1353" y="331"/>
                </a:lnTo>
                <a:lnTo>
                  <a:pt x="1320" y="310"/>
                </a:lnTo>
                <a:lnTo>
                  <a:pt x="1322" y="300"/>
                </a:lnTo>
                <a:lnTo>
                  <a:pt x="1376" y="327"/>
                </a:lnTo>
                <a:lnTo>
                  <a:pt x="1415" y="285"/>
                </a:lnTo>
                <a:lnTo>
                  <a:pt x="1393" y="281"/>
                </a:lnTo>
                <a:lnTo>
                  <a:pt x="1419" y="250"/>
                </a:lnTo>
                <a:lnTo>
                  <a:pt x="1392" y="259"/>
                </a:lnTo>
                <a:lnTo>
                  <a:pt x="1311" y="231"/>
                </a:lnTo>
                <a:lnTo>
                  <a:pt x="1353" y="226"/>
                </a:lnTo>
                <a:lnTo>
                  <a:pt x="1392" y="240"/>
                </a:lnTo>
                <a:lnTo>
                  <a:pt x="1392" y="231"/>
                </a:lnTo>
                <a:lnTo>
                  <a:pt x="1376" y="213"/>
                </a:lnTo>
                <a:lnTo>
                  <a:pt x="1390" y="213"/>
                </a:lnTo>
                <a:lnTo>
                  <a:pt x="1413" y="202"/>
                </a:lnTo>
                <a:lnTo>
                  <a:pt x="1399" y="219"/>
                </a:lnTo>
                <a:lnTo>
                  <a:pt x="1409" y="237"/>
                </a:lnTo>
                <a:lnTo>
                  <a:pt x="1428" y="221"/>
                </a:lnTo>
                <a:lnTo>
                  <a:pt x="1440" y="240"/>
                </a:lnTo>
                <a:lnTo>
                  <a:pt x="1455" y="237"/>
                </a:lnTo>
                <a:lnTo>
                  <a:pt x="1478" y="237"/>
                </a:lnTo>
                <a:lnTo>
                  <a:pt x="1501" y="213"/>
                </a:lnTo>
                <a:lnTo>
                  <a:pt x="1515" y="177"/>
                </a:lnTo>
                <a:lnTo>
                  <a:pt x="1538" y="172"/>
                </a:lnTo>
                <a:lnTo>
                  <a:pt x="1538" y="151"/>
                </a:lnTo>
                <a:lnTo>
                  <a:pt x="1521" y="118"/>
                </a:lnTo>
                <a:lnTo>
                  <a:pt x="1498" y="118"/>
                </a:lnTo>
                <a:lnTo>
                  <a:pt x="1474" y="172"/>
                </a:lnTo>
                <a:lnTo>
                  <a:pt x="1463" y="144"/>
                </a:lnTo>
                <a:lnTo>
                  <a:pt x="1459" y="108"/>
                </a:lnTo>
                <a:lnTo>
                  <a:pt x="1411" y="129"/>
                </a:lnTo>
                <a:lnTo>
                  <a:pt x="1345" y="141"/>
                </a:lnTo>
                <a:lnTo>
                  <a:pt x="1353" y="115"/>
                </a:lnTo>
                <a:lnTo>
                  <a:pt x="1388" y="100"/>
                </a:lnTo>
                <a:lnTo>
                  <a:pt x="1453" y="77"/>
                </a:lnTo>
                <a:lnTo>
                  <a:pt x="1432" y="50"/>
                </a:lnTo>
                <a:lnTo>
                  <a:pt x="1478" y="69"/>
                </a:lnTo>
                <a:lnTo>
                  <a:pt x="1461" y="45"/>
                </a:lnTo>
                <a:lnTo>
                  <a:pt x="1505" y="77"/>
                </a:lnTo>
                <a:lnTo>
                  <a:pt x="1472" y="23"/>
                </a:lnTo>
                <a:lnTo>
                  <a:pt x="1440" y="0"/>
                </a:lnTo>
                <a:lnTo>
                  <a:pt x="891" y="89"/>
                </a:lnTo>
                <a:lnTo>
                  <a:pt x="440" y="141"/>
                </a:lnTo>
                <a:lnTo>
                  <a:pt x="432" y="185"/>
                </a:lnTo>
                <a:lnTo>
                  <a:pt x="407" y="199"/>
                </a:lnTo>
                <a:lnTo>
                  <a:pt x="376" y="247"/>
                </a:lnTo>
                <a:lnTo>
                  <a:pt x="351" y="243"/>
                </a:lnTo>
                <a:lnTo>
                  <a:pt x="322" y="257"/>
                </a:lnTo>
                <a:lnTo>
                  <a:pt x="303" y="281"/>
                </a:lnTo>
                <a:lnTo>
                  <a:pt x="276" y="266"/>
                </a:lnTo>
                <a:lnTo>
                  <a:pt x="236" y="295"/>
                </a:lnTo>
                <a:lnTo>
                  <a:pt x="230" y="320"/>
                </a:lnTo>
                <a:lnTo>
                  <a:pt x="58" y="410"/>
                </a:lnTo>
                <a:lnTo>
                  <a:pt x="47" y="445"/>
                </a:lnTo>
                <a:lnTo>
                  <a:pt x="0" y="463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3" name="Freeform 105"/>
          <p:cNvSpPr/>
          <p:nvPr/>
        </p:nvSpPr>
        <p:spPr>
          <a:xfrm>
            <a:off x="3273480" y="2260440"/>
            <a:ext cx="815760" cy="513000"/>
          </a:xfrm>
          <a:custGeom>
            <a:avLst/>
            <a:gdLst>
              <a:gd name="textAreaLeft" fmla="*/ 0 w 815760"/>
              <a:gd name="textAreaRight" fmla="*/ 816120 w 81576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1187" h="646">
                <a:moveTo>
                  <a:pt x="0" y="593"/>
                </a:moveTo>
                <a:lnTo>
                  <a:pt x="62" y="0"/>
                </a:lnTo>
                <a:lnTo>
                  <a:pt x="646" y="36"/>
                </a:lnTo>
                <a:lnTo>
                  <a:pt x="1095" y="48"/>
                </a:lnTo>
                <a:lnTo>
                  <a:pt x="1102" y="211"/>
                </a:lnTo>
                <a:lnTo>
                  <a:pt x="1147" y="341"/>
                </a:lnTo>
                <a:lnTo>
                  <a:pt x="1154" y="510"/>
                </a:lnTo>
                <a:lnTo>
                  <a:pt x="1187" y="646"/>
                </a:lnTo>
                <a:lnTo>
                  <a:pt x="563" y="627"/>
                </a:lnTo>
                <a:lnTo>
                  <a:pt x="0" y="59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4" name="Freeform 106"/>
          <p:cNvSpPr/>
          <p:nvPr/>
        </p:nvSpPr>
        <p:spPr>
          <a:xfrm>
            <a:off x="3273480" y="2260440"/>
            <a:ext cx="815760" cy="513000"/>
          </a:xfrm>
          <a:custGeom>
            <a:avLst/>
            <a:gdLst>
              <a:gd name="textAreaLeft" fmla="*/ 0 w 815760"/>
              <a:gd name="textAreaRight" fmla="*/ 816120 w 81576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1187" h="646">
                <a:moveTo>
                  <a:pt x="0" y="593"/>
                </a:moveTo>
                <a:lnTo>
                  <a:pt x="62" y="0"/>
                </a:lnTo>
                <a:lnTo>
                  <a:pt x="646" y="36"/>
                </a:lnTo>
                <a:lnTo>
                  <a:pt x="1095" y="48"/>
                </a:lnTo>
                <a:lnTo>
                  <a:pt x="1102" y="211"/>
                </a:lnTo>
                <a:lnTo>
                  <a:pt x="1147" y="341"/>
                </a:lnTo>
                <a:lnTo>
                  <a:pt x="1154" y="510"/>
                </a:lnTo>
                <a:lnTo>
                  <a:pt x="1187" y="646"/>
                </a:lnTo>
                <a:lnTo>
                  <a:pt x="563" y="627"/>
                </a:lnTo>
                <a:lnTo>
                  <a:pt x="0" y="59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5" name="Freeform 107"/>
          <p:cNvSpPr/>
          <p:nvPr/>
        </p:nvSpPr>
        <p:spPr>
          <a:xfrm>
            <a:off x="5451480" y="3254400"/>
            <a:ext cx="517680" cy="581040"/>
          </a:xfrm>
          <a:custGeom>
            <a:avLst/>
            <a:gdLst>
              <a:gd name="textAreaLeft" fmla="*/ 0 w 517680"/>
              <a:gd name="textAreaRight" fmla="*/ 518040 w 51768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w="754" h="734">
                <a:moveTo>
                  <a:pt x="0" y="135"/>
                </a:moveTo>
                <a:lnTo>
                  <a:pt x="60" y="640"/>
                </a:lnTo>
                <a:lnTo>
                  <a:pt x="118" y="640"/>
                </a:lnTo>
                <a:lnTo>
                  <a:pt x="154" y="650"/>
                </a:lnTo>
                <a:lnTo>
                  <a:pt x="172" y="686"/>
                </a:lnTo>
                <a:lnTo>
                  <a:pt x="233" y="695"/>
                </a:lnTo>
                <a:lnTo>
                  <a:pt x="266" y="710"/>
                </a:lnTo>
                <a:lnTo>
                  <a:pt x="349" y="707"/>
                </a:lnTo>
                <a:lnTo>
                  <a:pt x="386" y="686"/>
                </a:lnTo>
                <a:lnTo>
                  <a:pt x="474" y="734"/>
                </a:lnTo>
                <a:lnTo>
                  <a:pt x="530" y="693"/>
                </a:lnTo>
                <a:lnTo>
                  <a:pt x="542" y="613"/>
                </a:lnTo>
                <a:lnTo>
                  <a:pt x="576" y="630"/>
                </a:lnTo>
                <a:lnTo>
                  <a:pt x="594" y="561"/>
                </a:lnTo>
                <a:lnTo>
                  <a:pt x="690" y="502"/>
                </a:lnTo>
                <a:lnTo>
                  <a:pt x="721" y="467"/>
                </a:lnTo>
                <a:lnTo>
                  <a:pt x="744" y="306"/>
                </a:lnTo>
                <a:lnTo>
                  <a:pt x="729" y="272"/>
                </a:lnTo>
                <a:lnTo>
                  <a:pt x="754" y="257"/>
                </a:lnTo>
                <a:lnTo>
                  <a:pt x="702" y="0"/>
                </a:lnTo>
                <a:lnTo>
                  <a:pt x="628" y="34"/>
                </a:lnTo>
                <a:lnTo>
                  <a:pt x="576" y="58"/>
                </a:lnTo>
                <a:lnTo>
                  <a:pt x="553" y="85"/>
                </a:lnTo>
                <a:lnTo>
                  <a:pt x="513" y="120"/>
                </a:lnTo>
                <a:lnTo>
                  <a:pt x="465" y="121"/>
                </a:lnTo>
                <a:lnTo>
                  <a:pt x="416" y="145"/>
                </a:lnTo>
                <a:lnTo>
                  <a:pt x="393" y="156"/>
                </a:lnTo>
                <a:lnTo>
                  <a:pt x="362" y="140"/>
                </a:lnTo>
                <a:lnTo>
                  <a:pt x="320" y="156"/>
                </a:lnTo>
                <a:lnTo>
                  <a:pt x="312" y="149"/>
                </a:lnTo>
                <a:lnTo>
                  <a:pt x="353" y="130"/>
                </a:lnTo>
                <a:lnTo>
                  <a:pt x="349" y="128"/>
                </a:lnTo>
                <a:lnTo>
                  <a:pt x="330" y="121"/>
                </a:lnTo>
                <a:lnTo>
                  <a:pt x="316" y="135"/>
                </a:lnTo>
                <a:lnTo>
                  <a:pt x="247" y="108"/>
                </a:lnTo>
                <a:lnTo>
                  <a:pt x="218" y="120"/>
                </a:lnTo>
                <a:lnTo>
                  <a:pt x="224" y="104"/>
                </a:lnTo>
                <a:lnTo>
                  <a:pt x="0" y="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6" name="Freeform 108"/>
          <p:cNvSpPr/>
          <p:nvPr/>
        </p:nvSpPr>
        <p:spPr>
          <a:xfrm>
            <a:off x="5451480" y="3254400"/>
            <a:ext cx="517680" cy="581040"/>
          </a:xfrm>
          <a:custGeom>
            <a:avLst/>
            <a:gdLst>
              <a:gd name="textAreaLeft" fmla="*/ 0 w 517680"/>
              <a:gd name="textAreaRight" fmla="*/ 518040 w 51768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w="754" h="734">
                <a:moveTo>
                  <a:pt x="0" y="135"/>
                </a:moveTo>
                <a:lnTo>
                  <a:pt x="60" y="640"/>
                </a:lnTo>
                <a:lnTo>
                  <a:pt x="118" y="640"/>
                </a:lnTo>
                <a:lnTo>
                  <a:pt x="154" y="650"/>
                </a:lnTo>
                <a:lnTo>
                  <a:pt x="172" y="686"/>
                </a:lnTo>
                <a:lnTo>
                  <a:pt x="233" y="695"/>
                </a:lnTo>
                <a:lnTo>
                  <a:pt x="266" y="710"/>
                </a:lnTo>
                <a:lnTo>
                  <a:pt x="349" y="707"/>
                </a:lnTo>
                <a:lnTo>
                  <a:pt x="386" y="686"/>
                </a:lnTo>
                <a:lnTo>
                  <a:pt x="474" y="734"/>
                </a:lnTo>
                <a:lnTo>
                  <a:pt x="530" y="693"/>
                </a:lnTo>
                <a:lnTo>
                  <a:pt x="542" y="613"/>
                </a:lnTo>
                <a:lnTo>
                  <a:pt x="576" y="630"/>
                </a:lnTo>
                <a:lnTo>
                  <a:pt x="594" y="561"/>
                </a:lnTo>
                <a:lnTo>
                  <a:pt x="690" y="502"/>
                </a:lnTo>
                <a:lnTo>
                  <a:pt x="721" y="467"/>
                </a:lnTo>
                <a:lnTo>
                  <a:pt x="744" y="306"/>
                </a:lnTo>
                <a:lnTo>
                  <a:pt x="729" y="272"/>
                </a:lnTo>
                <a:lnTo>
                  <a:pt x="754" y="257"/>
                </a:lnTo>
                <a:lnTo>
                  <a:pt x="702" y="0"/>
                </a:lnTo>
                <a:lnTo>
                  <a:pt x="628" y="34"/>
                </a:lnTo>
                <a:lnTo>
                  <a:pt x="576" y="58"/>
                </a:lnTo>
                <a:lnTo>
                  <a:pt x="553" y="85"/>
                </a:lnTo>
                <a:lnTo>
                  <a:pt x="513" y="120"/>
                </a:lnTo>
                <a:lnTo>
                  <a:pt x="465" y="121"/>
                </a:lnTo>
                <a:lnTo>
                  <a:pt x="416" y="145"/>
                </a:lnTo>
                <a:lnTo>
                  <a:pt x="393" y="156"/>
                </a:lnTo>
                <a:lnTo>
                  <a:pt x="362" y="140"/>
                </a:lnTo>
                <a:lnTo>
                  <a:pt x="320" y="156"/>
                </a:lnTo>
                <a:lnTo>
                  <a:pt x="312" y="149"/>
                </a:lnTo>
                <a:lnTo>
                  <a:pt x="353" y="130"/>
                </a:lnTo>
                <a:lnTo>
                  <a:pt x="349" y="128"/>
                </a:lnTo>
                <a:lnTo>
                  <a:pt x="330" y="121"/>
                </a:lnTo>
                <a:lnTo>
                  <a:pt x="316" y="135"/>
                </a:lnTo>
                <a:lnTo>
                  <a:pt x="247" y="108"/>
                </a:lnTo>
                <a:lnTo>
                  <a:pt x="218" y="120"/>
                </a:lnTo>
                <a:lnTo>
                  <a:pt x="224" y="104"/>
                </a:lnTo>
                <a:lnTo>
                  <a:pt x="0" y="135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7" name="Freeform 109"/>
          <p:cNvSpPr/>
          <p:nvPr/>
        </p:nvSpPr>
        <p:spPr>
          <a:xfrm>
            <a:off x="3268800" y="4127400"/>
            <a:ext cx="1073160" cy="55404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556" h="700">
                <a:moveTo>
                  <a:pt x="0" y="102"/>
                </a:moveTo>
                <a:lnTo>
                  <a:pt x="9" y="0"/>
                </a:lnTo>
                <a:lnTo>
                  <a:pt x="181" y="11"/>
                </a:lnTo>
                <a:lnTo>
                  <a:pt x="946" y="44"/>
                </a:lnTo>
                <a:lnTo>
                  <a:pt x="1514" y="41"/>
                </a:lnTo>
                <a:lnTo>
                  <a:pt x="1520" y="143"/>
                </a:lnTo>
                <a:lnTo>
                  <a:pt x="1556" y="361"/>
                </a:lnTo>
                <a:lnTo>
                  <a:pt x="1549" y="700"/>
                </a:lnTo>
                <a:lnTo>
                  <a:pt x="1500" y="686"/>
                </a:lnTo>
                <a:lnTo>
                  <a:pt x="1423" y="640"/>
                </a:lnTo>
                <a:lnTo>
                  <a:pt x="1393" y="654"/>
                </a:lnTo>
                <a:lnTo>
                  <a:pt x="1290" y="660"/>
                </a:lnTo>
                <a:lnTo>
                  <a:pt x="1192" y="690"/>
                </a:lnTo>
                <a:lnTo>
                  <a:pt x="1154" y="659"/>
                </a:lnTo>
                <a:lnTo>
                  <a:pt x="1104" y="667"/>
                </a:lnTo>
                <a:lnTo>
                  <a:pt x="1092" y="642"/>
                </a:lnTo>
                <a:lnTo>
                  <a:pt x="1057" y="664"/>
                </a:lnTo>
                <a:lnTo>
                  <a:pt x="1052" y="691"/>
                </a:lnTo>
                <a:lnTo>
                  <a:pt x="1040" y="654"/>
                </a:lnTo>
                <a:lnTo>
                  <a:pt x="1003" y="674"/>
                </a:lnTo>
                <a:lnTo>
                  <a:pt x="948" y="636"/>
                </a:lnTo>
                <a:lnTo>
                  <a:pt x="917" y="664"/>
                </a:lnTo>
                <a:lnTo>
                  <a:pt x="897" y="648"/>
                </a:lnTo>
                <a:lnTo>
                  <a:pt x="870" y="599"/>
                </a:lnTo>
                <a:lnTo>
                  <a:pt x="818" y="599"/>
                </a:lnTo>
                <a:lnTo>
                  <a:pt x="811" y="612"/>
                </a:lnTo>
                <a:lnTo>
                  <a:pt x="780" y="594"/>
                </a:lnTo>
                <a:lnTo>
                  <a:pt x="753" y="600"/>
                </a:lnTo>
                <a:lnTo>
                  <a:pt x="714" y="587"/>
                </a:lnTo>
                <a:lnTo>
                  <a:pt x="668" y="582"/>
                </a:lnTo>
                <a:lnTo>
                  <a:pt x="670" y="558"/>
                </a:lnTo>
                <a:lnTo>
                  <a:pt x="643" y="534"/>
                </a:lnTo>
                <a:lnTo>
                  <a:pt x="632" y="549"/>
                </a:lnTo>
                <a:lnTo>
                  <a:pt x="578" y="547"/>
                </a:lnTo>
                <a:lnTo>
                  <a:pt x="526" y="508"/>
                </a:lnTo>
                <a:lnTo>
                  <a:pt x="543" y="131"/>
                </a:lnTo>
                <a:lnTo>
                  <a:pt x="0" y="10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8" name="Freeform 110"/>
          <p:cNvSpPr/>
          <p:nvPr/>
        </p:nvSpPr>
        <p:spPr>
          <a:xfrm>
            <a:off x="3268800" y="4127400"/>
            <a:ext cx="1073160" cy="55404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556" h="700">
                <a:moveTo>
                  <a:pt x="0" y="102"/>
                </a:moveTo>
                <a:lnTo>
                  <a:pt x="9" y="0"/>
                </a:lnTo>
                <a:lnTo>
                  <a:pt x="181" y="11"/>
                </a:lnTo>
                <a:lnTo>
                  <a:pt x="946" y="44"/>
                </a:lnTo>
                <a:lnTo>
                  <a:pt x="1514" y="41"/>
                </a:lnTo>
                <a:lnTo>
                  <a:pt x="1520" y="143"/>
                </a:lnTo>
                <a:lnTo>
                  <a:pt x="1556" y="361"/>
                </a:lnTo>
                <a:lnTo>
                  <a:pt x="1549" y="700"/>
                </a:lnTo>
                <a:lnTo>
                  <a:pt x="1500" y="686"/>
                </a:lnTo>
                <a:lnTo>
                  <a:pt x="1423" y="640"/>
                </a:lnTo>
                <a:lnTo>
                  <a:pt x="1393" y="654"/>
                </a:lnTo>
                <a:lnTo>
                  <a:pt x="1290" y="660"/>
                </a:lnTo>
                <a:lnTo>
                  <a:pt x="1192" y="690"/>
                </a:lnTo>
                <a:lnTo>
                  <a:pt x="1154" y="659"/>
                </a:lnTo>
                <a:lnTo>
                  <a:pt x="1104" y="667"/>
                </a:lnTo>
                <a:lnTo>
                  <a:pt x="1092" y="642"/>
                </a:lnTo>
                <a:lnTo>
                  <a:pt x="1057" y="664"/>
                </a:lnTo>
                <a:lnTo>
                  <a:pt x="1052" y="691"/>
                </a:lnTo>
                <a:lnTo>
                  <a:pt x="1040" y="654"/>
                </a:lnTo>
                <a:lnTo>
                  <a:pt x="1003" y="674"/>
                </a:lnTo>
                <a:lnTo>
                  <a:pt x="948" y="636"/>
                </a:lnTo>
                <a:lnTo>
                  <a:pt x="917" y="664"/>
                </a:lnTo>
                <a:lnTo>
                  <a:pt x="897" y="648"/>
                </a:lnTo>
                <a:lnTo>
                  <a:pt x="870" y="599"/>
                </a:lnTo>
                <a:lnTo>
                  <a:pt x="818" y="599"/>
                </a:lnTo>
                <a:lnTo>
                  <a:pt x="811" y="612"/>
                </a:lnTo>
                <a:lnTo>
                  <a:pt x="780" y="594"/>
                </a:lnTo>
                <a:lnTo>
                  <a:pt x="753" y="600"/>
                </a:lnTo>
                <a:lnTo>
                  <a:pt x="714" y="587"/>
                </a:lnTo>
                <a:lnTo>
                  <a:pt x="668" y="582"/>
                </a:lnTo>
                <a:lnTo>
                  <a:pt x="670" y="558"/>
                </a:lnTo>
                <a:lnTo>
                  <a:pt x="643" y="534"/>
                </a:lnTo>
                <a:lnTo>
                  <a:pt x="632" y="549"/>
                </a:lnTo>
                <a:lnTo>
                  <a:pt x="578" y="547"/>
                </a:lnTo>
                <a:lnTo>
                  <a:pt x="526" y="508"/>
                </a:lnTo>
                <a:lnTo>
                  <a:pt x="543" y="131"/>
                </a:lnTo>
                <a:lnTo>
                  <a:pt x="0" y="10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9" name="Freeform 111"/>
          <p:cNvSpPr/>
          <p:nvPr/>
        </p:nvSpPr>
        <p:spPr>
          <a:xfrm>
            <a:off x="930240" y="2270160"/>
            <a:ext cx="990720" cy="836640"/>
          </a:xfrm>
          <a:custGeom>
            <a:avLst/>
            <a:gdLst>
              <a:gd name="textAreaLeft" fmla="*/ 0 w 990720"/>
              <a:gd name="textAreaRight" fmla="*/ 991080 w 9907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436" h="1057">
                <a:moveTo>
                  <a:pt x="0" y="786"/>
                </a:moveTo>
                <a:lnTo>
                  <a:pt x="24" y="596"/>
                </a:lnTo>
                <a:lnTo>
                  <a:pt x="133" y="442"/>
                </a:lnTo>
                <a:lnTo>
                  <a:pt x="313" y="0"/>
                </a:lnTo>
                <a:lnTo>
                  <a:pt x="401" y="26"/>
                </a:lnTo>
                <a:lnTo>
                  <a:pt x="405" y="45"/>
                </a:lnTo>
                <a:lnTo>
                  <a:pt x="428" y="47"/>
                </a:lnTo>
                <a:lnTo>
                  <a:pt x="474" y="124"/>
                </a:lnTo>
                <a:lnTo>
                  <a:pt x="465" y="149"/>
                </a:lnTo>
                <a:lnTo>
                  <a:pt x="536" y="201"/>
                </a:lnTo>
                <a:lnTo>
                  <a:pt x="657" y="197"/>
                </a:lnTo>
                <a:lnTo>
                  <a:pt x="750" y="232"/>
                </a:lnTo>
                <a:lnTo>
                  <a:pt x="792" y="223"/>
                </a:lnTo>
                <a:lnTo>
                  <a:pt x="1070" y="232"/>
                </a:lnTo>
                <a:lnTo>
                  <a:pt x="1382" y="295"/>
                </a:lnTo>
                <a:lnTo>
                  <a:pt x="1397" y="329"/>
                </a:lnTo>
                <a:lnTo>
                  <a:pt x="1436" y="379"/>
                </a:lnTo>
                <a:lnTo>
                  <a:pt x="1386" y="442"/>
                </a:lnTo>
                <a:lnTo>
                  <a:pt x="1330" y="518"/>
                </a:lnTo>
                <a:lnTo>
                  <a:pt x="1261" y="572"/>
                </a:lnTo>
                <a:lnTo>
                  <a:pt x="1253" y="610"/>
                </a:lnTo>
                <a:lnTo>
                  <a:pt x="1291" y="651"/>
                </a:lnTo>
                <a:lnTo>
                  <a:pt x="1249" y="735"/>
                </a:lnTo>
                <a:lnTo>
                  <a:pt x="1162" y="1057"/>
                </a:lnTo>
                <a:lnTo>
                  <a:pt x="677" y="951"/>
                </a:lnTo>
                <a:lnTo>
                  <a:pt x="0" y="78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0" name="Freeform 112"/>
          <p:cNvSpPr/>
          <p:nvPr/>
        </p:nvSpPr>
        <p:spPr>
          <a:xfrm>
            <a:off x="930240" y="2270160"/>
            <a:ext cx="990720" cy="836640"/>
          </a:xfrm>
          <a:custGeom>
            <a:avLst/>
            <a:gdLst>
              <a:gd name="textAreaLeft" fmla="*/ 0 w 990720"/>
              <a:gd name="textAreaRight" fmla="*/ 991080 w 9907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436" h="1057">
                <a:moveTo>
                  <a:pt x="0" y="786"/>
                </a:moveTo>
                <a:lnTo>
                  <a:pt x="24" y="596"/>
                </a:lnTo>
                <a:lnTo>
                  <a:pt x="133" y="442"/>
                </a:lnTo>
                <a:lnTo>
                  <a:pt x="313" y="0"/>
                </a:lnTo>
                <a:lnTo>
                  <a:pt x="401" y="26"/>
                </a:lnTo>
                <a:lnTo>
                  <a:pt x="405" y="45"/>
                </a:lnTo>
                <a:lnTo>
                  <a:pt x="428" y="47"/>
                </a:lnTo>
                <a:lnTo>
                  <a:pt x="474" y="124"/>
                </a:lnTo>
                <a:lnTo>
                  <a:pt x="465" y="149"/>
                </a:lnTo>
                <a:lnTo>
                  <a:pt x="536" y="201"/>
                </a:lnTo>
                <a:lnTo>
                  <a:pt x="657" y="197"/>
                </a:lnTo>
                <a:lnTo>
                  <a:pt x="750" y="232"/>
                </a:lnTo>
                <a:lnTo>
                  <a:pt x="792" y="223"/>
                </a:lnTo>
                <a:lnTo>
                  <a:pt x="1070" y="232"/>
                </a:lnTo>
                <a:lnTo>
                  <a:pt x="1382" y="295"/>
                </a:lnTo>
                <a:lnTo>
                  <a:pt x="1397" y="329"/>
                </a:lnTo>
                <a:lnTo>
                  <a:pt x="1436" y="379"/>
                </a:lnTo>
                <a:lnTo>
                  <a:pt x="1386" y="442"/>
                </a:lnTo>
                <a:lnTo>
                  <a:pt x="1330" y="518"/>
                </a:lnTo>
                <a:lnTo>
                  <a:pt x="1261" y="572"/>
                </a:lnTo>
                <a:lnTo>
                  <a:pt x="1253" y="610"/>
                </a:lnTo>
                <a:lnTo>
                  <a:pt x="1291" y="651"/>
                </a:lnTo>
                <a:lnTo>
                  <a:pt x="1249" y="735"/>
                </a:lnTo>
                <a:lnTo>
                  <a:pt x="1162" y="1057"/>
                </a:lnTo>
                <a:lnTo>
                  <a:pt x="677" y="951"/>
                </a:lnTo>
                <a:lnTo>
                  <a:pt x="0" y="78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1" name="Freeform 113"/>
          <p:cNvSpPr/>
          <p:nvPr/>
        </p:nvSpPr>
        <p:spPr>
          <a:xfrm>
            <a:off x="5934240" y="3143160"/>
            <a:ext cx="722160" cy="457200"/>
          </a:xfrm>
          <a:custGeom>
            <a:avLst/>
            <a:gdLst>
              <a:gd name="textAreaLeft" fmla="*/ 0 w 722160"/>
              <a:gd name="textAreaRight" fmla="*/ 722520 w 722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8" h="579">
                <a:moveTo>
                  <a:pt x="0" y="141"/>
                </a:moveTo>
                <a:lnTo>
                  <a:pt x="52" y="398"/>
                </a:lnTo>
                <a:lnTo>
                  <a:pt x="86" y="579"/>
                </a:lnTo>
                <a:lnTo>
                  <a:pt x="260" y="553"/>
                </a:lnTo>
                <a:lnTo>
                  <a:pt x="888" y="449"/>
                </a:lnTo>
                <a:lnTo>
                  <a:pt x="913" y="422"/>
                </a:lnTo>
                <a:lnTo>
                  <a:pt x="949" y="422"/>
                </a:lnTo>
                <a:lnTo>
                  <a:pt x="992" y="399"/>
                </a:lnTo>
                <a:lnTo>
                  <a:pt x="1013" y="362"/>
                </a:lnTo>
                <a:lnTo>
                  <a:pt x="1048" y="331"/>
                </a:lnTo>
                <a:lnTo>
                  <a:pt x="948" y="261"/>
                </a:lnTo>
                <a:lnTo>
                  <a:pt x="944" y="192"/>
                </a:lnTo>
                <a:lnTo>
                  <a:pt x="990" y="100"/>
                </a:lnTo>
                <a:lnTo>
                  <a:pt x="924" y="67"/>
                </a:lnTo>
                <a:lnTo>
                  <a:pt x="896" y="19"/>
                </a:lnTo>
                <a:lnTo>
                  <a:pt x="847" y="0"/>
                </a:lnTo>
                <a:lnTo>
                  <a:pt x="152" y="113"/>
                </a:lnTo>
                <a:lnTo>
                  <a:pt x="117" y="67"/>
                </a:lnTo>
                <a:lnTo>
                  <a:pt x="0" y="14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2" name="Freeform 114"/>
          <p:cNvSpPr/>
          <p:nvPr/>
        </p:nvSpPr>
        <p:spPr>
          <a:xfrm>
            <a:off x="5934240" y="3143160"/>
            <a:ext cx="722160" cy="457200"/>
          </a:xfrm>
          <a:custGeom>
            <a:avLst/>
            <a:gdLst>
              <a:gd name="textAreaLeft" fmla="*/ 0 w 722160"/>
              <a:gd name="textAreaRight" fmla="*/ 722520 w 722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8" h="579">
                <a:moveTo>
                  <a:pt x="0" y="141"/>
                </a:moveTo>
                <a:lnTo>
                  <a:pt x="52" y="398"/>
                </a:lnTo>
                <a:lnTo>
                  <a:pt x="86" y="579"/>
                </a:lnTo>
                <a:lnTo>
                  <a:pt x="260" y="553"/>
                </a:lnTo>
                <a:lnTo>
                  <a:pt x="888" y="449"/>
                </a:lnTo>
                <a:lnTo>
                  <a:pt x="913" y="422"/>
                </a:lnTo>
                <a:lnTo>
                  <a:pt x="949" y="422"/>
                </a:lnTo>
                <a:lnTo>
                  <a:pt x="992" y="399"/>
                </a:lnTo>
                <a:lnTo>
                  <a:pt x="1013" y="362"/>
                </a:lnTo>
                <a:lnTo>
                  <a:pt x="1048" y="331"/>
                </a:lnTo>
                <a:lnTo>
                  <a:pt x="948" y="261"/>
                </a:lnTo>
                <a:lnTo>
                  <a:pt x="944" y="192"/>
                </a:lnTo>
                <a:lnTo>
                  <a:pt x="990" y="100"/>
                </a:lnTo>
                <a:lnTo>
                  <a:pt x="924" y="67"/>
                </a:lnTo>
                <a:lnTo>
                  <a:pt x="896" y="19"/>
                </a:lnTo>
                <a:lnTo>
                  <a:pt x="847" y="0"/>
                </a:lnTo>
                <a:lnTo>
                  <a:pt x="152" y="113"/>
                </a:lnTo>
                <a:lnTo>
                  <a:pt x="117" y="67"/>
                </a:lnTo>
                <a:lnTo>
                  <a:pt x="0" y="141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3" name="Freeform 115"/>
          <p:cNvSpPr/>
          <p:nvPr/>
        </p:nvSpPr>
        <p:spPr>
          <a:xfrm>
            <a:off x="6924600" y="3035160"/>
            <a:ext cx="95400" cy="117720"/>
          </a:xfrm>
          <a:custGeom>
            <a:avLst/>
            <a:gdLst>
              <a:gd name="textAreaLeft" fmla="*/ 0 w 95400"/>
              <a:gd name="textAreaRight" fmla="*/ 95760 w 9540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139" h="151">
                <a:moveTo>
                  <a:pt x="0" y="16"/>
                </a:moveTo>
                <a:lnTo>
                  <a:pt x="29" y="144"/>
                </a:lnTo>
                <a:lnTo>
                  <a:pt x="35" y="151"/>
                </a:lnTo>
                <a:lnTo>
                  <a:pt x="89" y="123"/>
                </a:lnTo>
                <a:lnTo>
                  <a:pt x="81" y="86"/>
                </a:lnTo>
                <a:lnTo>
                  <a:pt x="92" y="65"/>
                </a:lnTo>
                <a:lnTo>
                  <a:pt x="104" y="81"/>
                </a:lnTo>
                <a:lnTo>
                  <a:pt x="108" y="106"/>
                </a:lnTo>
                <a:lnTo>
                  <a:pt x="123" y="106"/>
                </a:lnTo>
                <a:lnTo>
                  <a:pt x="139" y="81"/>
                </a:lnTo>
                <a:lnTo>
                  <a:pt x="123" y="46"/>
                </a:lnTo>
                <a:lnTo>
                  <a:pt x="90" y="43"/>
                </a:lnTo>
                <a:lnTo>
                  <a:pt x="69" y="2"/>
                </a:lnTo>
                <a:lnTo>
                  <a:pt x="48" y="0"/>
                </a:lnTo>
                <a:lnTo>
                  <a:pt x="0" y="1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4e5b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4" name="Freeform 116"/>
          <p:cNvSpPr/>
          <p:nvPr/>
        </p:nvSpPr>
        <p:spPr>
          <a:xfrm>
            <a:off x="5756400" y="4314960"/>
            <a:ext cx="630000" cy="473040"/>
          </a:xfrm>
          <a:custGeom>
            <a:avLst/>
            <a:gdLst>
              <a:gd name="textAreaLeft" fmla="*/ 0 w 630000"/>
              <a:gd name="textAreaRight" fmla="*/ 630360 w 6300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914" h="599">
                <a:moveTo>
                  <a:pt x="0" y="142"/>
                </a:moveTo>
                <a:lnTo>
                  <a:pt x="37" y="81"/>
                </a:lnTo>
                <a:lnTo>
                  <a:pt x="168" y="22"/>
                </a:lnTo>
                <a:lnTo>
                  <a:pt x="415" y="0"/>
                </a:lnTo>
                <a:lnTo>
                  <a:pt x="515" y="53"/>
                </a:lnTo>
                <a:lnTo>
                  <a:pt x="675" y="36"/>
                </a:lnTo>
                <a:lnTo>
                  <a:pt x="914" y="185"/>
                </a:lnTo>
                <a:lnTo>
                  <a:pt x="844" y="255"/>
                </a:lnTo>
                <a:lnTo>
                  <a:pt x="810" y="300"/>
                </a:lnTo>
                <a:lnTo>
                  <a:pt x="813" y="349"/>
                </a:lnTo>
                <a:lnTo>
                  <a:pt x="750" y="392"/>
                </a:lnTo>
                <a:lnTo>
                  <a:pt x="700" y="461"/>
                </a:lnTo>
                <a:lnTo>
                  <a:pt x="634" y="497"/>
                </a:lnTo>
                <a:lnTo>
                  <a:pt x="600" y="502"/>
                </a:lnTo>
                <a:lnTo>
                  <a:pt x="586" y="545"/>
                </a:lnTo>
                <a:lnTo>
                  <a:pt x="548" y="521"/>
                </a:lnTo>
                <a:lnTo>
                  <a:pt x="582" y="562"/>
                </a:lnTo>
                <a:lnTo>
                  <a:pt x="550" y="599"/>
                </a:lnTo>
                <a:lnTo>
                  <a:pt x="517" y="596"/>
                </a:lnTo>
                <a:lnTo>
                  <a:pt x="494" y="570"/>
                </a:lnTo>
                <a:lnTo>
                  <a:pt x="455" y="512"/>
                </a:lnTo>
                <a:lnTo>
                  <a:pt x="434" y="505"/>
                </a:lnTo>
                <a:lnTo>
                  <a:pt x="388" y="425"/>
                </a:lnTo>
                <a:lnTo>
                  <a:pt x="326" y="392"/>
                </a:lnTo>
                <a:lnTo>
                  <a:pt x="282" y="337"/>
                </a:lnTo>
                <a:lnTo>
                  <a:pt x="174" y="267"/>
                </a:lnTo>
                <a:lnTo>
                  <a:pt x="118" y="206"/>
                </a:lnTo>
                <a:lnTo>
                  <a:pt x="0" y="1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5" name="Freeform 117"/>
          <p:cNvSpPr/>
          <p:nvPr/>
        </p:nvSpPr>
        <p:spPr>
          <a:xfrm>
            <a:off x="5756400" y="4314960"/>
            <a:ext cx="630000" cy="473040"/>
          </a:xfrm>
          <a:custGeom>
            <a:avLst/>
            <a:gdLst>
              <a:gd name="textAreaLeft" fmla="*/ 0 w 630000"/>
              <a:gd name="textAreaRight" fmla="*/ 630360 w 6300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914" h="599">
                <a:moveTo>
                  <a:pt x="0" y="142"/>
                </a:moveTo>
                <a:lnTo>
                  <a:pt x="37" y="81"/>
                </a:lnTo>
                <a:lnTo>
                  <a:pt x="168" y="22"/>
                </a:lnTo>
                <a:lnTo>
                  <a:pt x="415" y="0"/>
                </a:lnTo>
                <a:lnTo>
                  <a:pt x="515" y="53"/>
                </a:lnTo>
                <a:lnTo>
                  <a:pt x="675" y="36"/>
                </a:lnTo>
                <a:lnTo>
                  <a:pt x="914" y="185"/>
                </a:lnTo>
                <a:lnTo>
                  <a:pt x="844" y="255"/>
                </a:lnTo>
                <a:lnTo>
                  <a:pt x="810" y="300"/>
                </a:lnTo>
                <a:lnTo>
                  <a:pt x="813" y="349"/>
                </a:lnTo>
                <a:lnTo>
                  <a:pt x="750" y="392"/>
                </a:lnTo>
                <a:lnTo>
                  <a:pt x="700" y="461"/>
                </a:lnTo>
                <a:lnTo>
                  <a:pt x="634" y="497"/>
                </a:lnTo>
                <a:lnTo>
                  <a:pt x="600" y="502"/>
                </a:lnTo>
                <a:lnTo>
                  <a:pt x="586" y="545"/>
                </a:lnTo>
                <a:lnTo>
                  <a:pt x="548" y="521"/>
                </a:lnTo>
                <a:lnTo>
                  <a:pt x="582" y="562"/>
                </a:lnTo>
                <a:lnTo>
                  <a:pt x="550" y="599"/>
                </a:lnTo>
                <a:lnTo>
                  <a:pt x="517" y="596"/>
                </a:lnTo>
                <a:lnTo>
                  <a:pt x="494" y="570"/>
                </a:lnTo>
                <a:lnTo>
                  <a:pt x="455" y="512"/>
                </a:lnTo>
                <a:lnTo>
                  <a:pt x="434" y="505"/>
                </a:lnTo>
                <a:lnTo>
                  <a:pt x="388" y="425"/>
                </a:lnTo>
                <a:lnTo>
                  <a:pt x="326" y="392"/>
                </a:lnTo>
                <a:lnTo>
                  <a:pt x="282" y="337"/>
                </a:lnTo>
                <a:lnTo>
                  <a:pt x="174" y="267"/>
                </a:lnTo>
                <a:lnTo>
                  <a:pt x="118" y="206"/>
                </a:lnTo>
                <a:lnTo>
                  <a:pt x="0" y="14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6" name="Freeform 118"/>
          <p:cNvSpPr/>
          <p:nvPr/>
        </p:nvSpPr>
        <p:spPr>
          <a:xfrm>
            <a:off x="3228840" y="2730600"/>
            <a:ext cx="873360" cy="581040"/>
          </a:xfrm>
          <a:custGeom>
            <a:avLst/>
            <a:gdLst>
              <a:gd name="textAreaLeft" fmla="*/ 0 w 873360"/>
              <a:gd name="textAreaRight" fmla="*/ 873720 w 8733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1266" h="731">
                <a:moveTo>
                  <a:pt x="0" y="573"/>
                </a:moveTo>
                <a:lnTo>
                  <a:pt x="42" y="181"/>
                </a:lnTo>
                <a:lnTo>
                  <a:pt x="61" y="0"/>
                </a:lnTo>
                <a:lnTo>
                  <a:pt x="624" y="34"/>
                </a:lnTo>
                <a:lnTo>
                  <a:pt x="1248" y="53"/>
                </a:lnTo>
                <a:lnTo>
                  <a:pt x="1206" y="119"/>
                </a:lnTo>
                <a:lnTo>
                  <a:pt x="1266" y="173"/>
                </a:lnTo>
                <a:lnTo>
                  <a:pt x="1264" y="530"/>
                </a:lnTo>
                <a:lnTo>
                  <a:pt x="1239" y="529"/>
                </a:lnTo>
                <a:lnTo>
                  <a:pt x="1241" y="575"/>
                </a:lnTo>
                <a:lnTo>
                  <a:pt x="1260" y="613"/>
                </a:lnTo>
                <a:lnTo>
                  <a:pt x="1248" y="647"/>
                </a:lnTo>
                <a:lnTo>
                  <a:pt x="1258" y="731"/>
                </a:lnTo>
                <a:lnTo>
                  <a:pt x="1231" y="724"/>
                </a:lnTo>
                <a:lnTo>
                  <a:pt x="1202" y="690"/>
                </a:lnTo>
                <a:lnTo>
                  <a:pt x="1138" y="667"/>
                </a:lnTo>
                <a:lnTo>
                  <a:pt x="1086" y="659"/>
                </a:lnTo>
                <a:lnTo>
                  <a:pt x="977" y="661"/>
                </a:lnTo>
                <a:lnTo>
                  <a:pt x="917" y="621"/>
                </a:lnTo>
                <a:lnTo>
                  <a:pt x="0" y="57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7" name="Freeform 119"/>
          <p:cNvSpPr/>
          <p:nvPr/>
        </p:nvSpPr>
        <p:spPr>
          <a:xfrm>
            <a:off x="3228840" y="2730600"/>
            <a:ext cx="873360" cy="581040"/>
          </a:xfrm>
          <a:custGeom>
            <a:avLst/>
            <a:gdLst>
              <a:gd name="textAreaLeft" fmla="*/ 0 w 873360"/>
              <a:gd name="textAreaRight" fmla="*/ 873720 w 8733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1266" h="731">
                <a:moveTo>
                  <a:pt x="0" y="573"/>
                </a:moveTo>
                <a:lnTo>
                  <a:pt x="42" y="181"/>
                </a:lnTo>
                <a:lnTo>
                  <a:pt x="61" y="0"/>
                </a:lnTo>
                <a:lnTo>
                  <a:pt x="624" y="34"/>
                </a:lnTo>
                <a:lnTo>
                  <a:pt x="1248" y="53"/>
                </a:lnTo>
                <a:lnTo>
                  <a:pt x="1206" y="119"/>
                </a:lnTo>
                <a:lnTo>
                  <a:pt x="1266" y="173"/>
                </a:lnTo>
                <a:lnTo>
                  <a:pt x="1264" y="530"/>
                </a:lnTo>
                <a:lnTo>
                  <a:pt x="1239" y="529"/>
                </a:lnTo>
                <a:lnTo>
                  <a:pt x="1241" y="575"/>
                </a:lnTo>
                <a:lnTo>
                  <a:pt x="1260" y="613"/>
                </a:lnTo>
                <a:lnTo>
                  <a:pt x="1248" y="647"/>
                </a:lnTo>
                <a:lnTo>
                  <a:pt x="1258" y="731"/>
                </a:lnTo>
                <a:lnTo>
                  <a:pt x="1231" y="724"/>
                </a:lnTo>
                <a:lnTo>
                  <a:pt x="1202" y="690"/>
                </a:lnTo>
                <a:lnTo>
                  <a:pt x="1138" y="667"/>
                </a:lnTo>
                <a:lnTo>
                  <a:pt x="1086" y="659"/>
                </a:lnTo>
                <a:lnTo>
                  <a:pt x="977" y="661"/>
                </a:lnTo>
                <a:lnTo>
                  <a:pt x="917" y="621"/>
                </a:lnTo>
                <a:lnTo>
                  <a:pt x="0" y="57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8" name="Freeform 120"/>
          <p:cNvSpPr/>
          <p:nvPr/>
        </p:nvSpPr>
        <p:spPr>
          <a:xfrm>
            <a:off x="4873680" y="4103640"/>
            <a:ext cx="1057320" cy="35568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355680"/>
              <a:gd name="textAreaBottom" fmla="*/ 355680 h 355680"/>
            </a:gdLst>
            <a:ahLst/>
            <a:rect l="textAreaLeft" t="textAreaTop" r="textAreaRight" b="textAreaBottom"/>
            <a:pathLst>
              <a:path w="1536" h="450">
                <a:moveTo>
                  <a:pt x="0" y="450"/>
                </a:moveTo>
                <a:lnTo>
                  <a:pt x="23" y="370"/>
                </a:lnTo>
                <a:lnTo>
                  <a:pt x="16" y="363"/>
                </a:lnTo>
                <a:lnTo>
                  <a:pt x="60" y="332"/>
                </a:lnTo>
                <a:lnTo>
                  <a:pt x="102" y="260"/>
                </a:lnTo>
                <a:lnTo>
                  <a:pt x="89" y="246"/>
                </a:lnTo>
                <a:lnTo>
                  <a:pt x="108" y="210"/>
                </a:lnTo>
                <a:lnTo>
                  <a:pt x="112" y="174"/>
                </a:lnTo>
                <a:lnTo>
                  <a:pt x="141" y="144"/>
                </a:lnTo>
                <a:lnTo>
                  <a:pt x="382" y="130"/>
                </a:lnTo>
                <a:lnTo>
                  <a:pt x="382" y="96"/>
                </a:lnTo>
                <a:lnTo>
                  <a:pt x="455" y="99"/>
                </a:lnTo>
                <a:lnTo>
                  <a:pt x="1175" y="41"/>
                </a:lnTo>
                <a:lnTo>
                  <a:pt x="1536" y="0"/>
                </a:lnTo>
                <a:lnTo>
                  <a:pt x="1528" y="44"/>
                </a:lnTo>
                <a:lnTo>
                  <a:pt x="1503" y="58"/>
                </a:lnTo>
                <a:lnTo>
                  <a:pt x="1472" y="106"/>
                </a:lnTo>
                <a:lnTo>
                  <a:pt x="1447" y="102"/>
                </a:lnTo>
                <a:lnTo>
                  <a:pt x="1418" y="116"/>
                </a:lnTo>
                <a:lnTo>
                  <a:pt x="1399" y="140"/>
                </a:lnTo>
                <a:lnTo>
                  <a:pt x="1372" y="125"/>
                </a:lnTo>
                <a:lnTo>
                  <a:pt x="1332" y="154"/>
                </a:lnTo>
                <a:lnTo>
                  <a:pt x="1326" y="179"/>
                </a:lnTo>
                <a:lnTo>
                  <a:pt x="1154" y="269"/>
                </a:lnTo>
                <a:lnTo>
                  <a:pt x="1143" y="304"/>
                </a:lnTo>
                <a:lnTo>
                  <a:pt x="1096" y="322"/>
                </a:lnTo>
                <a:lnTo>
                  <a:pt x="1096" y="366"/>
                </a:lnTo>
                <a:lnTo>
                  <a:pt x="861" y="392"/>
                </a:lnTo>
                <a:lnTo>
                  <a:pt x="385" y="428"/>
                </a:lnTo>
                <a:lnTo>
                  <a:pt x="0" y="45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9" name="Freeform 121"/>
          <p:cNvSpPr/>
          <p:nvPr/>
        </p:nvSpPr>
        <p:spPr>
          <a:xfrm>
            <a:off x="4873680" y="4103640"/>
            <a:ext cx="1057320" cy="35568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355680"/>
              <a:gd name="textAreaBottom" fmla="*/ 355680 h 355680"/>
            </a:gdLst>
            <a:ahLst/>
            <a:rect l="textAreaLeft" t="textAreaTop" r="textAreaRight" b="textAreaBottom"/>
            <a:pathLst>
              <a:path w="1536" h="450">
                <a:moveTo>
                  <a:pt x="0" y="450"/>
                </a:moveTo>
                <a:lnTo>
                  <a:pt x="23" y="370"/>
                </a:lnTo>
                <a:lnTo>
                  <a:pt x="16" y="363"/>
                </a:lnTo>
                <a:lnTo>
                  <a:pt x="60" y="332"/>
                </a:lnTo>
                <a:lnTo>
                  <a:pt x="102" y="260"/>
                </a:lnTo>
                <a:lnTo>
                  <a:pt x="89" y="246"/>
                </a:lnTo>
                <a:lnTo>
                  <a:pt x="108" y="210"/>
                </a:lnTo>
                <a:lnTo>
                  <a:pt x="112" y="174"/>
                </a:lnTo>
                <a:lnTo>
                  <a:pt x="141" y="144"/>
                </a:lnTo>
                <a:lnTo>
                  <a:pt x="382" y="130"/>
                </a:lnTo>
                <a:lnTo>
                  <a:pt x="382" y="96"/>
                </a:lnTo>
                <a:lnTo>
                  <a:pt x="455" y="99"/>
                </a:lnTo>
                <a:lnTo>
                  <a:pt x="1175" y="41"/>
                </a:lnTo>
                <a:lnTo>
                  <a:pt x="1536" y="0"/>
                </a:lnTo>
                <a:lnTo>
                  <a:pt x="1528" y="44"/>
                </a:lnTo>
                <a:lnTo>
                  <a:pt x="1503" y="58"/>
                </a:lnTo>
                <a:lnTo>
                  <a:pt x="1472" y="106"/>
                </a:lnTo>
                <a:lnTo>
                  <a:pt x="1447" y="102"/>
                </a:lnTo>
                <a:lnTo>
                  <a:pt x="1418" y="116"/>
                </a:lnTo>
                <a:lnTo>
                  <a:pt x="1399" y="140"/>
                </a:lnTo>
                <a:lnTo>
                  <a:pt x="1372" y="125"/>
                </a:lnTo>
                <a:lnTo>
                  <a:pt x="1332" y="154"/>
                </a:lnTo>
                <a:lnTo>
                  <a:pt x="1326" y="179"/>
                </a:lnTo>
                <a:lnTo>
                  <a:pt x="1154" y="269"/>
                </a:lnTo>
                <a:lnTo>
                  <a:pt x="1143" y="304"/>
                </a:lnTo>
                <a:lnTo>
                  <a:pt x="1096" y="322"/>
                </a:lnTo>
                <a:lnTo>
                  <a:pt x="1096" y="366"/>
                </a:lnTo>
                <a:lnTo>
                  <a:pt x="861" y="392"/>
                </a:lnTo>
                <a:lnTo>
                  <a:pt x="385" y="428"/>
                </a:lnTo>
                <a:lnTo>
                  <a:pt x="0" y="45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0" name="Freeform 122"/>
          <p:cNvSpPr/>
          <p:nvPr/>
        </p:nvSpPr>
        <p:spPr>
          <a:xfrm>
            <a:off x="2732040" y="4210200"/>
            <a:ext cx="1736640" cy="16621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518" h="2099">
                <a:moveTo>
                  <a:pt x="16" y="863"/>
                </a:moveTo>
                <a:lnTo>
                  <a:pt x="0" y="822"/>
                </a:lnTo>
                <a:lnTo>
                  <a:pt x="50" y="826"/>
                </a:lnTo>
                <a:lnTo>
                  <a:pt x="684" y="879"/>
                </a:lnTo>
                <a:lnTo>
                  <a:pt x="779" y="0"/>
                </a:lnTo>
                <a:lnTo>
                  <a:pt x="1322" y="29"/>
                </a:lnTo>
                <a:lnTo>
                  <a:pt x="1305" y="406"/>
                </a:lnTo>
                <a:lnTo>
                  <a:pt x="1357" y="445"/>
                </a:lnTo>
                <a:lnTo>
                  <a:pt x="1411" y="447"/>
                </a:lnTo>
                <a:lnTo>
                  <a:pt x="1422" y="432"/>
                </a:lnTo>
                <a:lnTo>
                  <a:pt x="1449" y="456"/>
                </a:lnTo>
                <a:lnTo>
                  <a:pt x="1447" y="480"/>
                </a:lnTo>
                <a:lnTo>
                  <a:pt x="1493" y="485"/>
                </a:lnTo>
                <a:lnTo>
                  <a:pt x="1532" y="498"/>
                </a:lnTo>
                <a:lnTo>
                  <a:pt x="1559" y="492"/>
                </a:lnTo>
                <a:lnTo>
                  <a:pt x="1590" y="510"/>
                </a:lnTo>
                <a:lnTo>
                  <a:pt x="1597" y="497"/>
                </a:lnTo>
                <a:lnTo>
                  <a:pt x="1649" y="497"/>
                </a:lnTo>
                <a:lnTo>
                  <a:pt x="1676" y="546"/>
                </a:lnTo>
                <a:lnTo>
                  <a:pt x="1696" y="562"/>
                </a:lnTo>
                <a:lnTo>
                  <a:pt x="1727" y="534"/>
                </a:lnTo>
                <a:lnTo>
                  <a:pt x="1782" y="572"/>
                </a:lnTo>
                <a:lnTo>
                  <a:pt x="1819" y="552"/>
                </a:lnTo>
                <a:lnTo>
                  <a:pt x="1831" y="589"/>
                </a:lnTo>
                <a:lnTo>
                  <a:pt x="1836" y="562"/>
                </a:lnTo>
                <a:lnTo>
                  <a:pt x="1871" y="540"/>
                </a:lnTo>
                <a:lnTo>
                  <a:pt x="1883" y="565"/>
                </a:lnTo>
                <a:lnTo>
                  <a:pt x="1933" y="557"/>
                </a:lnTo>
                <a:lnTo>
                  <a:pt x="1971" y="588"/>
                </a:lnTo>
                <a:lnTo>
                  <a:pt x="2069" y="558"/>
                </a:lnTo>
                <a:lnTo>
                  <a:pt x="2172" y="552"/>
                </a:lnTo>
                <a:lnTo>
                  <a:pt x="2202" y="538"/>
                </a:lnTo>
                <a:lnTo>
                  <a:pt x="2279" y="584"/>
                </a:lnTo>
                <a:lnTo>
                  <a:pt x="2328" y="598"/>
                </a:lnTo>
                <a:lnTo>
                  <a:pt x="2347" y="618"/>
                </a:lnTo>
                <a:lnTo>
                  <a:pt x="2412" y="617"/>
                </a:lnTo>
                <a:lnTo>
                  <a:pt x="2414" y="723"/>
                </a:lnTo>
                <a:lnTo>
                  <a:pt x="2426" y="928"/>
                </a:lnTo>
                <a:lnTo>
                  <a:pt x="2453" y="954"/>
                </a:lnTo>
                <a:lnTo>
                  <a:pt x="2463" y="1005"/>
                </a:lnTo>
                <a:lnTo>
                  <a:pt x="2518" y="1079"/>
                </a:lnTo>
                <a:lnTo>
                  <a:pt x="2515" y="1141"/>
                </a:lnTo>
                <a:lnTo>
                  <a:pt x="2484" y="1200"/>
                </a:lnTo>
                <a:lnTo>
                  <a:pt x="2486" y="1235"/>
                </a:lnTo>
                <a:lnTo>
                  <a:pt x="2495" y="1266"/>
                </a:lnTo>
                <a:lnTo>
                  <a:pt x="2491" y="1300"/>
                </a:lnTo>
                <a:lnTo>
                  <a:pt x="2472" y="1322"/>
                </a:lnTo>
                <a:lnTo>
                  <a:pt x="2449" y="1349"/>
                </a:lnTo>
                <a:lnTo>
                  <a:pt x="2464" y="1365"/>
                </a:lnTo>
                <a:lnTo>
                  <a:pt x="2364" y="1394"/>
                </a:lnTo>
                <a:lnTo>
                  <a:pt x="2283" y="1433"/>
                </a:lnTo>
                <a:lnTo>
                  <a:pt x="2332" y="1399"/>
                </a:lnTo>
                <a:lnTo>
                  <a:pt x="2279" y="1399"/>
                </a:lnTo>
                <a:lnTo>
                  <a:pt x="2295" y="1348"/>
                </a:lnTo>
                <a:lnTo>
                  <a:pt x="2251" y="1377"/>
                </a:lnTo>
                <a:lnTo>
                  <a:pt x="2231" y="1367"/>
                </a:lnTo>
                <a:lnTo>
                  <a:pt x="2233" y="1403"/>
                </a:lnTo>
                <a:lnTo>
                  <a:pt x="2249" y="1409"/>
                </a:lnTo>
                <a:lnTo>
                  <a:pt x="2253" y="1442"/>
                </a:lnTo>
                <a:lnTo>
                  <a:pt x="2224" y="1468"/>
                </a:lnTo>
                <a:lnTo>
                  <a:pt x="2202" y="1466"/>
                </a:lnTo>
                <a:lnTo>
                  <a:pt x="2199" y="1504"/>
                </a:lnTo>
                <a:lnTo>
                  <a:pt x="1965" y="1627"/>
                </a:lnTo>
                <a:lnTo>
                  <a:pt x="1967" y="1615"/>
                </a:lnTo>
                <a:lnTo>
                  <a:pt x="2075" y="1555"/>
                </a:lnTo>
                <a:lnTo>
                  <a:pt x="1992" y="1593"/>
                </a:lnTo>
                <a:lnTo>
                  <a:pt x="1998" y="1557"/>
                </a:lnTo>
                <a:lnTo>
                  <a:pt x="1975" y="1577"/>
                </a:lnTo>
                <a:lnTo>
                  <a:pt x="1952" y="1563"/>
                </a:lnTo>
                <a:lnTo>
                  <a:pt x="1940" y="1593"/>
                </a:lnTo>
                <a:lnTo>
                  <a:pt x="1904" y="1563"/>
                </a:lnTo>
                <a:lnTo>
                  <a:pt x="1908" y="1591"/>
                </a:lnTo>
                <a:lnTo>
                  <a:pt x="1952" y="1617"/>
                </a:lnTo>
                <a:lnTo>
                  <a:pt x="1900" y="1639"/>
                </a:lnTo>
                <a:lnTo>
                  <a:pt x="1879" y="1606"/>
                </a:lnTo>
                <a:lnTo>
                  <a:pt x="1861" y="1688"/>
                </a:lnTo>
                <a:lnTo>
                  <a:pt x="1840" y="1656"/>
                </a:lnTo>
                <a:lnTo>
                  <a:pt x="1794" y="1668"/>
                </a:lnTo>
                <a:lnTo>
                  <a:pt x="1786" y="1690"/>
                </a:lnTo>
                <a:lnTo>
                  <a:pt x="1806" y="1724"/>
                </a:lnTo>
                <a:lnTo>
                  <a:pt x="1725" y="1730"/>
                </a:lnTo>
                <a:lnTo>
                  <a:pt x="1753" y="1736"/>
                </a:lnTo>
                <a:lnTo>
                  <a:pt x="1755" y="1772"/>
                </a:lnTo>
                <a:lnTo>
                  <a:pt x="1775" y="1764"/>
                </a:lnTo>
                <a:lnTo>
                  <a:pt x="1765" y="1789"/>
                </a:lnTo>
                <a:lnTo>
                  <a:pt x="1727" y="1841"/>
                </a:lnTo>
                <a:lnTo>
                  <a:pt x="1730" y="1815"/>
                </a:lnTo>
                <a:lnTo>
                  <a:pt x="1705" y="1837"/>
                </a:lnTo>
                <a:lnTo>
                  <a:pt x="1673" y="1805"/>
                </a:lnTo>
                <a:lnTo>
                  <a:pt x="1678" y="1843"/>
                </a:lnTo>
                <a:lnTo>
                  <a:pt x="1742" y="1848"/>
                </a:lnTo>
                <a:lnTo>
                  <a:pt x="1715" y="1901"/>
                </a:lnTo>
                <a:lnTo>
                  <a:pt x="1738" y="2009"/>
                </a:lnTo>
                <a:lnTo>
                  <a:pt x="1794" y="2098"/>
                </a:lnTo>
                <a:lnTo>
                  <a:pt x="1723" y="2099"/>
                </a:lnTo>
                <a:lnTo>
                  <a:pt x="1651" y="2075"/>
                </a:lnTo>
                <a:lnTo>
                  <a:pt x="1590" y="2077"/>
                </a:lnTo>
                <a:lnTo>
                  <a:pt x="1503" y="2034"/>
                </a:lnTo>
                <a:lnTo>
                  <a:pt x="1401" y="2000"/>
                </a:lnTo>
                <a:lnTo>
                  <a:pt x="1387" y="1968"/>
                </a:lnTo>
                <a:lnTo>
                  <a:pt x="1364" y="1918"/>
                </a:lnTo>
                <a:lnTo>
                  <a:pt x="1332" y="1879"/>
                </a:lnTo>
                <a:lnTo>
                  <a:pt x="1337" y="1841"/>
                </a:lnTo>
                <a:lnTo>
                  <a:pt x="1318" y="1825"/>
                </a:lnTo>
                <a:lnTo>
                  <a:pt x="1318" y="1772"/>
                </a:lnTo>
                <a:lnTo>
                  <a:pt x="1258" y="1730"/>
                </a:lnTo>
                <a:lnTo>
                  <a:pt x="1193" y="1647"/>
                </a:lnTo>
                <a:lnTo>
                  <a:pt x="1085" y="1438"/>
                </a:lnTo>
                <a:lnTo>
                  <a:pt x="1002" y="1384"/>
                </a:lnTo>
                <a:lnTo>
                  <a:pt x="977" y="1336"/>
                </a:lnTo>
                <a:lnTo>
                  <a:pt x="906" y="1329"/>
                </a:lnTo>
                <a:lnTo>
                  <a:pt x="846" y="1322"/>
                </a:lnTo>
                <a:lnTo>
                  <a:pt x="794" y="1300"/>
                </a:lnTo>
                <a:lnTo>
                  <a:pt x="779" y="1322"/>
                </a:lnTo>
                <a:lnTo>
                  <a:pt x="723" y="1322"/>
                </a:lnTo>
                <a:lnTo>
                  <a:pt x="673" y="1421"/>
                </a:lnTo>
                <a:lnTo>
                  <a:pt x="619" y="1464"/>
                </a:lnTo>
                <a:lnTo>
                  <a:pt x="588" y="1464"/>
                </a:lnTo>
                <a:lnTo>
                  <a:pt x="491" y="1399"/>
                </a:lnTo>
                <a:lnTo>
                  <a:pt x="451" y="1391"/>
                </a:lnTo>
                <a:lnTo>
                  <a:pt x="357" y="1317"/>
                </a:lnTo>
                <a:lnTo>
                  <a:pt x="334" y="1259"/>
                </a:lnTo>
                <a:lnTo>
                  <a:pt x="334" y="1200"/>
                </a:lnTo>
                <a:lnTo>
                  <a:pt x="289" y="1117"/>
                </a:lnTo>
                <a:lnTo>
                  <a:pt x="214" y="1065"/>
                </a:lnTo>
                <a:lnTo>
                  <a:pt x="108" y="951"/>
                </a:lnTo>
                <a:lnTo>
                  <a:pt x="71" y="933"/>
                </a:lnTo>
                <a:lnTo>
                  <a:pt x="44" y="873"/>
                </a:lnTo>
                <a:lnTo>
                  <a:pt x="16" y="8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1" name="Freeform 123"/>
          <p:cNvSpPr/>
          <p:nvPr/>
        </p:nvSpPr>
        <p:spPr>
          <a:xfrm>
            <a:off x="2732040" y="4210200"/>
            <a:ext cx="1736640" cy="16621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518" h="2099">
                <a:moveTo>
                  <a:pt x="16" y="863"/>
                </a:moveTo>
                <a:lnTo>
                  <a:pt x="0" y="822"/>
                </a:lnTo>
                <a:lnTo>
                  <a:pt x="50" y="826"/>
                </a:lnTo>
                <a:lnTo>
                  <a:pt x="684" y="879"/>
                </a:lnTo>
                <a:lnTo>
                  <a:pt x="779" y="0"/>
                </a:lnTo>
                <a:lnTo>
                  <a:pt x="1322" y="29"/>
                </a:lnTo>
                <a:lnTo>
                  <a:pt x="1305" y="406"/>
                </a:lnTo>
                <a:lnTo>
                  <a:pt x="1357" y="445"/>
                </a:lnTo>
                <a:lnTo>
                  <a:pt x="1411" y="447"/>
                </a:lnTo>
                <a:lnTo>
                  <a:pt x="1422" y="432"/>
                </a:lnTo>
                <a:lnTo>
                  <a:pt x="1449" y="456"/>
                </a:lnTo>
                <a:lnTo>
                  <a:pt x="1447" y="480"/>
                </a:lnTo>
                <a:lnTo>
                  <a:pt x="1493" y="485"/>
                </a:lnTo>
                <a:lnTo>
                  <a:pt x="1532" y="498"/>
                </a:lnTo>
                <a:lnTo>
                  <a:pt x="1559" y="492"/>
                </a:lnTo>
                <a:lnTo>
                  <a:pt x="1590" y="510"/>
                </a:lnTo>
                <a:lnTo>
                  <a:pt x="1597" y="497"/>
                </a:lnTo>
                <a:lnTo>
                  <a:pt x="1649" y="497"/>
                </a:lnTo>
                <a:lnTo>
                  <a:pt x="1676" y="546"/>
                </a:lnTo>
                <a:lnTo>
                  <a:pt x="1696" y="562"/>
                </a:lnTo>
                <a:lnTo>
                  <a:pt x="1727" y="534"/>
                </a:lnTo>
                <a:lnTo>
                  <a:pt x="1782" y="572"/>
                </a:lnTo>
                <a:lnTo>
                  <a:pt x="1819" y="552"/>
                </a:lnTo>
                <a:lnTo>
                  <a:pt x="1831" y="589"/>
                </a:lnTo>
                <a:lnTo>
                  <a:pt x="1836" y="562"/>
                </a:lnTo>
                <a:lnTo>
                  <a:pt x="1871" y="540"/>
                </a:lnTo>
                <a:lnTo>
                  <a:pt x="1883" y="565"/>
                </a:lnTo>
                <a:lnTo>
                  <a:pt x="1933" y="557"/>
                </a:lnTo>
                <a:lnTo>
                  <a:pt x="1971" y="588"/>
                </a:lnTo>
                <a:lnTo>
                  <a:pt x="2069" y="558"/>
                </a:lnTo>
                <a:lnTo>
                  <a:pt x="2172" y="552"/>
                </a:lnTo>
                <a:lnTo>
                  <a:pt x="2202" y="538"/>
                </a:lnTo>
                <a:lnTo>
                  <a:pt x="2279" y="584"/>
                </a:lnTo>
                <a:lnTo>
                  <a:pt x="2328" y="598"/>
                </a:lnTo>
                <a:lnTo>
                  <a:pt x="2347" y="618"/>
                </a:lnTo>
                <a:lnTo>
                  <a:pt x="2412" y="617"/>
                </a:lnTo>
                <a:lnTo>
                  <a:pt x="2414" y="723"/>
                </a:lnTo>
                <a:lnTo>
                  <a:pt x="2426" y="928"/>
                </a:lnTo>
                <a:lnTo>
                  <a:pt x="2453" y="954"/>
                </a:lnTo>
                <a:lnTo>
                  <a:pt x="2463" y="1005"/>
                </a:lnTo>
                <a:lnTo>
                  <a:pt x="2518" y="1079"/>
                </a:lnTo>
                <a:lnTo>
                  <a:pt x="2515" y="1141"/>
                </a:lnTo>
                <a:lnTo>
                  <a:pt x="2484" y="1200"/>
                </a:lnTo>
                <a:lnTo>
                  <a:pt x="2486" y="1235"/>
                </a:lnTo>
                <a:lnTo>
                  <a:pt x="2495" y="1266"/>
                </a:lnTo>
                <a:lnTo>
                  <a:pt x="2491" y="1300"/>
                </a:lnTo>
                <a:lnTo>
                  <a:pt x="2472" y="1322"/>
                </a:lnTo>
                <a:lnTo>
                  <a:pt x="2449" y="1349"/>
                </a:lnTo>
                <a:lnTo>
                  <a:pt x="2464" y="1365"/>
                </a:lnTo>
                <a:lnTo>
                  <a:pt x="2364" y="1394"/>
                </a:lnTo>
                <a:lnTo>
                  <a:pt x="2283" y="1433"/>
                </a:lnTo>
                <a:lnTo>
                  <a:pt x="2332" y="1399"/>
                </a:lnTo>
                <a:lnTo>
                  <a:pt x="2279" y="1399"/>
                </a:lnTo>
                <a:lnTo>
                  <a:pt x="2295" y="1348"/>
                </a:lnTo>
                <a:lnTo>
                  <a:pt x="2251" y="1377"/>
                </a:lnTo>
                <a:lnTo>
                  <a:pt x="2231" y="1367"/>
                </a:lnTo>
                <a:lnTo>
                  <a:pt x="2233" y="1403"/>
                </a:lnTo>
                <a:lnTo>
                  <a:pt x="2249" y="1409"/>
                </a:lnTo>
                <a:lnTo>
                  <a:pt x="2253" y="1442"/>
                </a:lnTo>
                <a:lnTo>
                  <a:pt x="2224" y="1468"/>
                </a:lnTo>
                <a:lnTo>
                  <a:pt x="2202" y="1466"/>
                </a:lnTo>
                <a:lnTo>
                  <a:pt x="2199" y="1504"/>
                </a:lnTo>
                <a:lnTo>
                  <a:pt x="1965" y="1627"/>
                </a:lnTo>
                <a:lnTo>
                  <a:pt x="1967" y="1615"/>
                </a:lnTo>
                <a:lnTo>
                  <a:pt x="2075" y="1555"/>
                </a:lnTo>
                <a:lnTo>
                  <a:pt x="1992" y="1593"/>
                </a:lnTo>
                <a:lnTo>
                  <a:pt x="1998" y="1557"/>
                </a:lnTo>
                <a:lnTo>
                  <a:pt x="1975" y="1577"/>
                </a:lnTo>
                <a:lnTo>
                  <a:pt x="1952" y="1563"/>
                </a:lnTo>
                <a:lnTo>
                  <a:pt x="1940" y="1593"/>
                </a:lnTo>
                <a:lnTo>
                  <a:pt x="1904" y="1563"/>
                </a:lnTo>
                <a:lnTo>
                  <a:pt x="1908" y="1591"/>
                </a:lnTo>
                <a:lnTo>
                  <a:pt x="1952" y="1617"/>
                </a:lnTo>
                <a:lnTo>
                  <a:pt x="1900" y="1639"/>
                </a:lnTo>
                <a:lnTo>
                  <a:pt x="1879" y="1606"/>
                </a:lnTo>
                <a:lnTo>
                  <a:pt x="1861" y="1688"/>
                </a:lnTo>
                <a:lnTo>
                  <a:pt x="1840" y="1656"/>
                </a:lnTo>
                <a:lnTo>
                  <a:pt x="1794" y="1668"/>
                </a:lnTo>
                <a:lnTo>
                  <a:pt x="1786" y="1690"/>
                </a:lnTo>
                <a:lnTo>
                  <a:pt x="1806" y="1724"/>
                </a:lnTo>
                <a:lnTo>
                  <a:pt x="1725" y="1730"/>
                </a:lnTo>
                <a:lnTo>
                  <a:pt x="1753" y="1736"/>
                </a:lnTo>
                <a:lnTo>
                  <a:pt x="1755" y="1772"/>
                </a:lnTo>
                <a:lnTo>
                  <a:pt x="1775" y="1764"/>
                </a:lnTo>
                <a:lnTo>
                  <a:pt x="1765" y="1789"/>
                </a:lnTo>
                <a:lnTo>
                  <a:pt x="1727" y="1841"/>
                </a:lnTo>
                <a:lnTo>
                  <a:pt x="1730" y="1815"/>
                </a:lnTo>
                <a:lnTo>
                  <a:pt x="1705" y="1837"/>
                </a:lnTo>
                <a:lnTo>
                  <a:pt x="1673" y="1805"/>
                </a:lnTo>
                <a:lnTo>
                  <a:pt x="1678" y="1843"/>
                </a:lnTo>
                <a:lnTo>
                  <a:pt x="1742" y="1848"/>
                </a:lnTo>
                <a:lnTo>
                  <a:pt x="1715" y="1901"/>
                </a:lnTo>
                <a:lnTo>
                  <a:pt x="1738" y="2009"/>
                </a:lnTo>
                <a:lnTo>
                  <a:pt x="1794" y="2098"/>
                </a:lnTo>
                <a:lnTo>
                  <a:pt x="1723" y="2099"/>
                </a:lnTo>
                <a:lnTo>
                  <a:pt x="1651" y="2075"/>
                </a:lnTo>
                <a:lnTo>
                  <a:pt x="1590" y="2077"/>
                </a:lnTo>
                <a:lnTo>
                  <a:pt x="1503" y="2034"/>
                </a:lnTo>
                <a:lnTo>
                  <a:pt x="1401" y="2000"/>
                </a:lnTo>
                <a:lnTo>
                  <a:pt x="1387" y="1968"/>
                </a:lnTo>
                <a:lnTo>
                  <a:pt x="1364" y="1918"/>
                </a:lnTo>
                <a:lnTo>
                  <a:pt x="1332" y="1879"/>
                </a:lnTo>
                <a:lnTo>
                  <a:pt x="1337" y="1841"/>
                </a:lnTo>
                <a:lnTo>
                  <a:pt x="1318" y="1825"/>
                </a:lnTo>
                <a:lnTo>
                  <a:pt x="1318" y="1772"/>
                </a:lnTo>
                <a:lnTo>
                  <a:pt x="1258" y="1730"/>
                </a:lnTo>
                <a:lnTo>
                  <a:pt x="1193" y="1647"/>
                </a:lnTo>
                <a:lnTo>
                  <a:pt x="1085" y="1438"/>
                </a:lnTo>
                <a:lnTo>
                  <a:pt x="1002" y="1384"/>
                </a:lnTo>
                <a:lnTo>
                  <a:pt x="977" y="1336"/>
                </a:lnTo>
                <a:lnTo>
                  <a:pt x="906" y="1329"/>
                </a:lnTo>
                <a:lnTo>
                  <a:pt x="846" y="1322"/>
                </a:lnTo>
                <a:lnTo>
                  <a:pt x="794" y="1300"/>
                </a:lnTo>
                <a:lnTo>
                  <a:pt x="779" y="1322"/>
                </a:lnTo>
                <a:lnTo>
                  <a:pt x="723" y="1322"/>
                </a:lnTo>
                <a:lnTo>
                  <a:pt x="673" y="1421"/>
                </a:lnTo>
                <a:lnTo>
                  <a:pt x="619" y="1464"/>
                </a:lnTo>
                <a:lnTo>
                  <a:pt x="588" y="1464"/>
                </a:lnTo>
                <a:lnTo>
                  <a:pt x="491" y="1399"/>
                </a:lnTo>
                <a:lnTo>
                  <a:pt x="451" y="1391"/>
                </a:lnTo>
                <a:lnTo>
                  <a:pt x="357" y="1317"/>
                </a:lnTo>
                <a:lnTo>
                  <a:pt x="334" y="1259"/>
                </a:lnTo>
                <a:lnTo>
                  <a:pt x="334" y="1200"/>
                </a:lnTo>
                <a:lnTo>
                  <a:pt x="289" y="1117"/>
                </a:lnTo>
                <a:lnTo>
                  <a:pt x="214" y="1065"/>
                </a:lnTo>
                <a:lnTo>
                  <a:pt x="108" y="951"/>
                </a:lnTo>
                <a:lnTo>
                  <a:pt x="71" y="933"/>
                </a:lnTo>
                <a:lnTo>
                  <a:pt x="44" y="873"/>
                </a:lnTo>
                <a:lnTo>
                  <a:pt x="16" y="86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2" name="Freeform 124"/>
          <p:cNvSpPr/>
          <p:nvPr/>
        </p:nvSpPr>
        <p:spPr>
          <a:xfrm>
            <a:off x="1916280" y="3179880"/>
            <a:ext cx="701640" cy="868320"/>
          </a:xfrm>
          <a:custGeom>
            <a:avLst/>
            <a:gdLst>
              <a:gd name="textAreaLeft" fmla="*/ 0 w 701640"/>
              <a:gd name="textAreaRight" fmla="*/ 702000 w 7016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017" h="1095">
                <a:moveTo>
                  <a:pt x="0" y="965"/>
                </a:moveTo>
                <a:lnTo>
                  <a:pt x="222" y="0"/>
                </a:lnTo>
                <a:lnTo>
                  <a:pt x="717" y="75"/>
                </a:lnTo>
                <a:lnTo>
                  <a:pt x="678" y="272"/>
                </a:lnTo>
                <a:lnTo>
                  <a:pt x="1017" y="315"/>
                </a:lnTo>
                <a:lnTo>
                  <a:pt x="888" y="1095"/>
                </a:lnTo>
                <a:lnTo>
                  <a:pt x="0" y="9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3" name="Freeform 125"/>
          <p:cNvSpPr/>
          <p:nvPr/>
        </p:nvSpPr>
        <p:spPr>
          <a:xfrm>
            <a:off x="1916280" y="3179880"/>
            <a:ext cx="701640" cy="868320"/>
          </a:xfrm>
          <a:custGeom>
            <a:avLst/>
            <a:gdLst>
              <a:gd name="textAreaLeft" fmla="*/ 0 w 701640"/>
              <a:gd name="textAreaRight" fmla="*/ 702000 w 7016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017" h="1095">
                <a:moveTo>
                  <a:pt x="0" y="965"/>
                </a:moveTo>
                <a:lnTo>
                  <a:pt x="222" y="0"/>
                </a:lnTo>
                <a:lnTo>
                  <a:pt x="717" y="75"/>
                </a:lnTo>
                <a:lnTo>
                  <a:pt x="678" y="272"/>
                </a:lnTo>
                <a:lnTo>
                  <a:pt x="1017" y="315"/>
                </a:lnTo>
                <a:lnTo>
                  <a:pt x="888" y="1095"/>
                </a:lnTo>
                <a:lnTo>
                  <a:pt x="0" y="965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4" name="Freeform 126"/>
          <p:cNvSpPr/>
          <p:nvPr/>
        </p:nvSpPr>
        <p:spPr>
          <a:xfrm>
            <a:off x="6640560" y="2585880"/>
            <a:ext cx="199800" cy="387360"/>
          </a:xfrm>
          <a:custGeom>
            <a:avLst/>
            <a:gdLst>
              <a:gd name="textAreaLeft" fmla="*/ 0 w 199800"/>
              <a:gd name="textAreaRight" fmla="*/ 200160 w 1998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89" h="492">
                <a:moveTo>
                  <a:pt x="0" y="60"/>
                </a:moveTo>
                <a:lnTo>
                  <a:pt x="46" y="201"/>
                </a:lnTo>
                <a:lnTo>
                  <a:pt x="55" y="293"/>
                </a:lnTo>
                <a:lnTo>
                  <a:pt x="104" y="382"/>
                </a:lnTo>
                <a:lnTo>
                  <a:pt x="131" y="492"/>
                </a:lnTo>
                <a:lnTo>
                  <a:pt x="260" y="468"/>
                </a:lnTo>
                <a:lnTo>
                  <a:pt x="235" y="298"/>
                </a:lnTo>
                <a:lnTo>
                  <a:pt x="250" y="180"/>
                </a:lnTo>
                <a:lnTo>
                  <a:pt x="285" y="125"/>
                </a:lnTo>
                <a:lnTo>
                  <a:pt x="289" y="0"/>
                </a:lnTo>
                <a:lnTo>
                  <a:pt x="0" y="6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5" name="Freeform 127"/>
          <p:cNvSpPr/>
          <p:nvPr/>
        </p:nvSpPr>
        <p:spPr>
          <a:xfrm>
            <a:off x="6640560" y="2585880"/>
            <a:ext cx="199800" cy="387360"/>
          </a:xfrm>
          <a:custGeom>
            <a:avLst/>
            <a:gdLst>
              <a:gd name="textAreaLeft" fmla="*/ 0 w 199800"/>
              <a:gd name="textAreaRight" fmla="*/ 200160 w 1998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89" h="492">
                <a:moveTo>
                  <a:pt x="0" y="60"/>
                </a:moveTo>
                <a:lnTo>
                  <a:pt x="46" y="201"/>
                </a:lnTo>
                <a:lnTo>
                  <a:pt x="55" y="293"/>
                </a:lnTo>
                <a:lnTo>
                  <a:pt x="104" y="382"/>
                </a:lnTo>
                <a:lnTo>
                  <a:pt x="131" y="492"/>
                </a:lnTo>
                <a:lnTo>
                  <a:pt x="260" y="468"/>
                </a:lnTo>
                <a:lnTo>
                  <a:pt x="235" y="298"/>
                </a:lnTo>
                <a:lnTo>
                  <a:pt x="250" y="180"/>
                </a:lnTo>
                <a:lnTo>
                  <a:pt x="285" y="125"/>
                </a:lnTo>
                <a:lnTo>
                  <a:pt x="289" y="0"/>
                </a:lnTo>
                <a:lnTo>
                  <a:pt x="0" y="6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6" name="Freeform 128"/>
          <p:cNvSpPr/>
          <p:nvPr/>
        </p:nvSpPr>
        <p:spPr>
          <a:xfrm>
            <a:off x="5681520" y="3597120"/>
            <a:ext cx="962280" cy="538200"/>
          </a:xfrm>
          <a:custGeom>
            <a:avLst/>
            <a:gdLst>
              <a:gd name="textAreaLeft" fmla="*/ 0 w 962280"/>
              <a:gd name="textAreaRight" fmla="*/ 962640 w 9622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395" h="678">
                <a:moveTo>
                  <a:pt x="0" y="678"/>
                </a:moveTo>
                <a:lnTo>
                  <a:pt x="131" y="604"/>
                </a:lnTo>
                <a:lnTo>
                  <a:pt x="131" y="589"/>
                </a:lnTo>
                <a:lnTo>
                  <a:pt x="178" y="539"/>
                </a:lnTo>
                <a:lnTo>
                  <a:pt x="224" y="512"/>
                </a:lnTo>
                <a:lnTo>
                  <a:pt x="272" y="462"/>
                </a:lnTo>
                <a:lnTo>
                  <a:pt x="322" y="512"/>
                </a:lnTo>
                <a:lnTo>
                  <a:pt x="386" y="486"/>
                </a:lnTo>
                <a:lnTo>
                  <a:pt x="413" y="503"/>
                </a:lnTo>
                <a:lnTo>
                  <a:pt x="451" y="486"/>
                </a:lnTo>
                <a:lnTo>
                  <a:pt x="474" y="459"/>
                </a:lnTo>
                <a:lnTo>
                  <a:pt x="544" y="447"/>
                </a:lnTo>
                <a:lnTo>
                  <a:pt x="584" y="406"/>
                </a:lnTo>
                <a:lnTo>
                  <a:pt x="561" y="395"/>
                </a:lnTo>
                <a:lnTo>
                  <a:pt x="627" y="265"/>
                </a:lnTo>
                <a:lnTo>
                  <a:pt x="642" y="200"/>
                </a:lnTo>
                <a:lnTo>
                  <a:pt x="706" y="227"/>
                </a:lnTo>
                <a:lnTo>
                  <a:pt x="740" y="150"/>
                </a:lnTo>
                <a:lnTo>
                  <a:pt x="771" y="147"/>
                </a:lnTo>
                <a:lnTo>
                  <a:pt x="817" y="77"/>
                </a:lnTo>
                <a:lnTo>
                  <a:pt x="833" y="0"/>
                </a:lnTo>
                <a:lnTo>
                  <a:pt x="931" y="46"/>
                </a:lnTo>
                <a:lnTo>
                  <a:pt x="946" y="7"/>
                </a:lnTo>
                <a:lnTo>
                  <a:pt x="993" y="17"/>
                </a:lnTo>
                <a:lnTo>
                  <a:pt x="1020" y="49"/>
                </a:lnTo>
                <a:lnTo>
                  <a:pt x="1062" y="65"/>
                </a:lnTo>
                <a:lnTo>
                  <a:pt x="1083" y="90"/>
                </a:lnTo>
                <a:lnTo>
                  <a:pt x="1079" y="111"/>
                </a:lnTo>
                <a:lnTo>
                  <a:pt x="1051" y="156"/>
                </a:lnTo>
                <a:lnTo>
                  <a:pt x="1062" y="185"/>
                </a:lnTo>
                <a:lnTo>
                  <a:pt x="1099" y="171"/>
                </a:lnTo>
                <a:lnTo>
                  <a:pt x="1112" y="192"/>
                </a:lnTo>
                <a:lnTo>
                  <a:pt x="1124" y="205"/>
                </a:lnTo>
                <a:lnTo>
                  <a:pt x="1185" y="205"/>
                </a:lnTo>
                <a:lnTo>
                  <a:pt x="1205" y="226"/>
                </a:lnTo>
                <a:lnTo>
                  <a:pt x="1262" y="239"/>
                </a:lnTo>
                <a:lnTo>
                  <a:pt x="1249" y="255"/>
                </a:lnTo>
                <a:lnTo>
                  <a:pt x="1253" y="282"/>
                </a:lnTo>
                <a:lnTo>
                  <a:pt x="1257" y="296"/>
                </a:lnTo>
                <a:lnTo>
                  <a:pt x="1235" y="291"/>
                </a:lnTo>
                <a:lnTo>
                  <a:pt x="1195" y="272"/>
                </a:lnTo>
                <a:lnTo>
                  <a:pt x="1133" y="236"/>
                </a:lnTo>
                <a:lnTo>
                  <a:pt x="1222" y="306"/>
                </a:lnTo>
                <a:lnTo>
                  <a:pt x="1266" y="306"/>
                </a:lnTo>
                <a:lnTo>
                  <a:pt x="1243" y="318"/>
                </a:lnTo>
                <a:lnTo>
                  <a:pt x="1286" y="337"/>
                </a:lnTo>
                <a:lnTo>
                  <a:pt x="1286" y="352"/>
                </a:lnTo>
                <a:lnTo>
                  <a:pt x="1268" y="340"/>
                </a:lnTo>
                <a:lnTo>
                  <a:pt x="1251" y="342"/>
                </a:lnTo>
                <a:lnTo>
                  <a:pt x="1255" y="354"/>
                </a:lnTo>
                <a:lnTo>
                  <a:pt x="1268" y="366"/>
                </a:lnTo>
                <a:lnTo>
                  <a:pt x="1251" y="373"/>
                </a:lnTo>
                <a:lnTo>
                  <a:pt x="1203" y="342"/>
                </a:lnTo>
                <a:lnTo>
                  <a:pt x="1183" y="327"/>
                </a:lnTo>
                <a:lnTo>
                  <a:pt x="1195" y="347"/>
                </a:lnTo>
                <a:lnTo>
                  <a:pt x="1243" y="378"/>
                </a:lnTo>
                <a:lnTo>
                  <a:pt x="1262" y="380"/>
                </a:lnTo>
                <a:lnTo>
                  <a:pt x="1284" y="387"/>
                </a:lnTo>
                <a:lnTo>
                  <a:pt x="1282" y="397"/>
                </a:lnTo>
                <a:lnTo>
                  <a:pt x="1293" y="397"/>
                </a:lnTo>
                <a:lnTo>
                  <a:pt x="1297" y="407"/>
                </a:lnTo>
                <a:lnTo>
                  <a:pt x="1278" y="421"/>
                </a:lnTo>
                <a:lnTo>
                  <a:pt x="1243" y="407"/>
                </a:lnTo>
                <a:lnTo>
                  <a:pt x="1232" y="392"/>
                </a:lnTo>
                <a:lnTo>
                  <a:pt x="1185" y="387"/>
                </a:lnTo>
                <a:lnTo>
                  <a:pt x="1178" y="375"/>
                </a:lnTo>
                <a:lnTo>
                  <a:pt x="1160" y="390"/>
                </a:lnTo>
                <a:lnTo>
                  <a:pt x="1224" y="404"/>
                </a:lnTo>
                <a:lnTo>
                  <a:pt x="1228" y="418"/>
                </a:lnTo>
                <a:lnTo>
                  <a:pt x="1278" y="438"/>
                </a:lnTo>
                <a:lnTo>
                  <a:pt x="1297" y="438"/>
                </a:lnTo>
                <a:lnTo>
                  <a:pt x="1301" y="421"/>
                </a:lnTo>
                <a:lnTo>
                  <a:pt x="1318" y="426"/>
                </a:lnTo>
                <a:lnTo>
                  <a:pt x="1355" y="424"/>
                </a:lnTo>
                <a:lnTo>
                  <a:pt x="1395" y="486"/>
                </a:lnTo>
                <a:lnTo>
                  <a:pt x="1368" y="476"/>
                </a:lnTo>
                <a:lnTo>
                  <a:pt x="1361" y="496"/>
                </a:lnTo>
                <a:lnTo>
                  <a:pt x="812" y="585"/>
                </a:lnTo>
                <a:lnTo>
                  <a:pt x="361" y="637"/>
                </a:lnTo>
                <a:lnTo>
                  <a:pt x="0" y="67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7" name="Freeform 129"/>
          <p:cNvSpPr/>
          <p:nvPr/>
        </p:nvSpPr>
        <p:spPr>
          <a:xfrm>
            <a:off x="5681520" y="3597120"/>
            <a:ext cx="962280" cy="538200"/>
          </a:xfrm>
          <a:custGeom>
            <a:avLst/>
            <a:gdLst>
              <a:gd name="textAreaLeft" fmla="*/ 0 w 962280"/>
              <a:gd name="textAreaRight" fmla="*/ 962640 w 9622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395" h="678">
                <a:moveTo>
                  <a:pt x="0" y="678"/>
                </a:moveTo>
                <a:lnTo>
                  <a:pt x="131" y="604"/>
                </a:lnTo>
                <a:lnTo>
                  <a:pt x="131" y="589"/>
                </a:lnTo>
                <a:lnTo>
                  <a:pt x="178" y="539"/>
                </a:lnTo>
                <a:lnTo>
                  <a:pt x="224" y="512"/>
                </a:lnTo>
                <a:lnTo>
                  <a:pt x="272" y="462"/>
                </a:lnTo>
                <a:lnTo>
                  <a:pt x="322" y="512"/>
                </a:lnTo>
                <a:lnTo>
                  <a:pt x="386" y="486"/>
                </a:lnTo>
                <a:lnTo>
                  <a:pt x="413" y="503"/>
                </a:lnTo>
                <a:lnTo>
                  <a:pt x="451" y="486"/>
                </a:lnTo>
                <a:lnTo>
                  <a:pt x="474" y="459"/>
                </a:lnTo>
                <a:lnTo>
                  <a:pt x="544" y="447"/>
                </a:lnTo>
                <a:lnTo>
                  <a:pt x="584" y="406"/>
                </a:lnTo>
                <a:lnTo>
                  <a:pt x="561" y="395"/>
                </a:lnTo>
                <a:lnTo>
                  <a:pt x="627" y="265"/>
                </a:lnTo>
                <a:lnTo>
                  <a:pt x="642" y="200"/>
                </a:lnTo>
                <a:lnTo>
                  <a:pt x="706" y="227"/>
                </a:lnTo>
                <a:lnTo>
                  <a:pt x="740" y="150"/>
                </a:lnTo>
                <a:lnTo>
                  <a:pt x="771" y="147"/>
                </a:lnTo>
                <a:lnTo>
                  <a:pt x="817" y="77"/>
                </a:lnTo>
                <a:lnTo>
                  <a:pt x="833" y="0"/>
                </a:lnTo>
                <a:lnTo>
                  <a:pt x="931" y="46"/>
                </a:lnTo>
                <a:lnTo>
                  <a:pt x="946" y="7"/>
                </a:lnTo>
                <a:lnTo>
                  <a:pt x="993" y="17"/>
                </a:lnTo>
                <a:lnTo>
                  <a:pt x="1020" y="49"/>
                </a:lnTo>
                <a:lnTo>
                  <a:pt x="1062" y="65"/>
                </a:lnTo>
                <a:lnTo>
                  <a:pt x="1083" y="90"/>
                </a:lnTo>
                <a:lnTo>
                  <a:pt x="1079" y="111"/>
                </a:lnTo>
                <a:lnTo>
                  <a:pt x="1051" y="156"/>
                </a:lnTo>
                <a:lnTo>
                  <a:pt x="1062" y="185"/>
                </a:lnTo>
                <a:lnTo>
                  <a:pt x="1099" y="171"/>
                </a:lnTo>
                <a:lnTo>
                  <a:pt x="1112" y="192"/>
                </a:lnTo>
                <a:lnTo>
                  <a:pt x="1124" y="205"/>
                </a:lnTo>
                <a:lnTo>
                  <a:pt x="1185" y="205"/>
                </a:lnTo>
                <a:lnTo>
                  <a:pt x="1205" y="226"/>
                </a:lnTo>
                <a:lnTo>
                  <a:pt x="1262" y="239"/>
                </a:lnTo>
                <a:lnTo>
                  <a:pt x="1249" y="255"/>
                </a:lnTo>
                <a:lnTo>
                  <a:pt x="1253" y="282"/>
                </a:lnTo>
                <a:lnTo>
                  <a:pt x="1257" y="296"/>
                </a:lnTo>
                <a:lnTo>
                  <a:pt x="1235" y="291"/>
                </a:lnTo>
                <a:lnTo>
                  <a:pt x="1195" y="272"/>
                </a:lnTo>
                <a:lnTo>
                  <a:pt x="1133" y="236"/>
                </a:lnTo>
                <a:lnTo>
                  <a:pt x="1222" y="306"/>
                </a:lnTo>
                <a:lnTo>
                  <a:pt x="1266" y="306"/>
                </a:lnTo>
                <a:lnTo>
                  <a:pt x="1243" y="318"/>
                </a:lnTo>
                <a:lnTo>
                  <a:pt x="1286" y="337"/>
                </a:lnTo>
                <a:lnTo>
                  <a:pt x="1286" y="352"/>
                </a:lnTo>
                <a:lnTo>
                  <a:pt x="1268" y="340"/>
                </a:lnTo>
                <a:lnTo>
                  <a:pt x="1251" y="342"/>
                </a:lnTo>
                <a:lnTo>
                  <a:pt x="1255" y="354"/>
                </a:lnTo>
                <a:lnTo>
                  <a:pt x="1268" y="366"/>
                </a:lnTo>
                <a:lnTo>
                  <a:pt x="1251" y="373"/>
                </a:lnTo>
                <a:lnTo>
                  <a:pt x="1203" y="342"/>
                </a:lnTo>
                <a:lnTo>
                  <a:pt x="1183" y="327"/>
                </a:lnTo>
                <a:lnTo>
                  <a:pt x="1195" y="347"/>
                </a:lnTo>
                <a:lnTo>
                  <a:pt x="1243" y="378"/>
                </a:lnTo>
                <a:lnTo>
                  <a:pt x="1262" y="380"/>
                </a:lnTo>
                <a:lnTo>
                  <a:pt x="1284" y="387"/>
                </a:lnTo>
                <a:lnTo>
                  <a:pt x="1282" y="397"/>
                </a:lnTo>
                <a:lnTo>
                  <a:pt x="1293" y="397"/>
                </a:lnTo>
                <a:lnTo>
                  <a:pt x="1297" y="407"/>
                </a:lnTo>
                <a:lnTo>
                  <a:pt x="1278" y="421"/>
                </a:lnTo>
                <a:lnTo>
                  <a:pt x="1243" y="407"/>
                </a:lnTo>
                <a:lnTo>
                  <a:pt x="1232" y="392"/>
                </a:lnTo>
                <a:lnTo>
                  <a:pt x="1185" y="387"/>
                </a:lnTo>
                <a:lnTo>
                  <a:pt x="1178" y="375"/>
                </a:lnTo>
                <a:lnTo>
                  <a:pt x="1160" y="390"/>
                </a:lnTo>
                <a:lnTo>
                  <a:pt x="1224" y="404"/>
                </a:lnTo>
                <a:lnTo>
                  <a:pt x="1228" y="418"/>
                </a:lnTo>
                <a:lnTo>
                  <a:pt x="1278" y="438"/>
                </a:lnTo>
                <a:lnTo>
                  <a:pt x="1297" y="438"/>
                </a:lnTo>
                <a:lnTo>
                  <a:pt x="1301" y="421"/>
                </a:lnTo>
                <a:lnTo>
                  <a:pt x="1318" y="426"/>
                </a:lnTo>
                <a:lnTo>
                  <a:pt x="1355" y="424"/>
                </a:lnTo>
                <a:lnTo>
                  <a:pt x="1395" y="486"/>
                </a:lnTo>
                <a:lnTo>
                  <a:pt x="1368" y="476"/>
                </a:lnTo>
                <a:lnTo>
                  <a:pt x="1361" y="496"/>
                </a:lnTo>
                <a:lnTo>
                  <a:pt x="812" y="585"/>
                </a:lnTo>
                <a:lnTo>
                  <a:pt x="361" y="637"/>
                </a:lnTo>
                <a:lnTo>
                  <a:pt x="0" y="678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8" name="Freeform 130"/>
          <p:cNvSpPr/>
          <p:nvPr/>
        </p:nvSpPr>
        <p:spPr>
          <a:xfrm>
            <a:off x="6600960" y="3746520"/>
            <a:ext cx="54000" cy="154080"/>
          </a:xfrm>
          <a:custGeom>
            <a:avLst/>
            <a:gdLst>
              <a:gd name="textAreaLeft" fmla="*/ 0 w 54000"/>
              <a:gd name="textAreaRight" fmla="*/ 54360 w 5400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77" h="196">
                <a:moveTo>
                  <a:pt x="0" y="110"/>
                </a:moveTo>
                <a:lnTo>
                  <a:pt x="0" y="172"/>
                </a:lnTo>
                <a:lnTo>
                  <a:pt x="17" y="196"/>
                </a:lnTo>
                <a:lnTo>
                  <a:pt x="27" y="124"/>
                </a:lnTo>
                <a:lnTo>
                  <a:pt x="56" y="93"/>
                </a:lnTo>
                <a:lnTo>
                  <a:pt x="77" y="0"/>
                </a:lnTo>
                <a:lnTo>
                  <a:pt x="32" y="21"/>
                </a:lnTo>
                <a:lnTo>
                  <a:pt x="0" y="11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9" name="Freeform 131"/>
          <p:cNvSpPr/>
          <p:nvPr/>
        </p:nvSpPr>
        <p:spPr>
          <a:xfrm>
            <a:off x="6600960" y="3746520"/>
            <a:ext cx="54000" cy="154080"/>
          </a:xfrm>
          <a:custGeom>
            <a:avLst/>
            <a:gdLst>
              <a:gd name="textAreaLeft" fmla="*/ 0 w 54000"/>
              <a:gd name="textAreaRight" fmla="*/ 54360 w 5400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77" h="196">
                <a:moveTo>
                  <a:pt x="0" y="110"/>
                </a:moveTo>
                <a:lnTo>
                  <a:pt x="0" y="172"/>
                </a:lnTo>
                <a:lnTo>
                  <a:pt x="17" y="196"/>
                </a:lnTo>
                <a:lnTo>
                  <a:pt x="27" y="124"/>
                </a:lnTo>
                <a:lnTo>
                  <a:pt x="56" y="93"/>
                </a:lnTo>
                <a:lnTo>
                  <a:pt x="77" y="0"/>
                </a:lnTo>
                <a:lnTo>
                  <a:pt x="32" y="21"/>
                </a:lnTo>
                <a:lnTo>
                  <a:pt x="0" y="110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0" name="Freeform 132"/>
          <p:cNvSpPr/>
          <p:nvPr/>
        </p:nvSpPr>
        <p:spPr>
          <a:xfrm>
            <a:off x="1149480" y="1905120"/>
            <a:ext cx="830160" cy="596880"/>
          </a:xfrm>
          <a:custGeom>
            <a:avLst/>
            <a:gdLst>
              <a:gd name="textAreaLeft" fmla="*/ 0 w 830160"/>
              <a:gd name="textAreaRight" fmla="*/ 830520 w 8301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205" h="755">
                <a:moveTo>
                  <a:pt x="29" y="130"/>
                </a:moveTo>
                <a:lnTo>
                  <a:pt x="47" y="164"/>
                </a:lnTo>
                <a:lnTo>
                  <a:pt x="43" y="209"/>
                </a:lnTo>
                <a:lnTo>
                  <a:pt x="39" y="250"/>
                </a:lnTo>
                <a:lnTo>
                  <a:pt x="45" y="265"/>
                </a:lnTo>
                <a:lnTo>
                  <a:pt x="33" y="322"/>
                </a:lnTo>
                <a:lnTo>
                  <a:pt x="56" y="310"/>
                </a:lnTo>
                <a:lnTo>
                  <a:pt x="85" y="334"/>
                </a:lnTo>
                <a:lnTo>
                  <a:pt x="52" y="337"/>
                </a:lnTo>
                <a:lnTo>
                  <a:pt x="31" y="334"/>
                </a:lnTo>
                <a:lnTo>
                  <a:pt x="29" y="356"/>
                </a:lnTo>
                <a:lnTo>
                  <a:pt x="29" y="373"/>
                </a:lnTo>
                <a:lnTo>
                  <a:pt x="56" y="373"/>
                </a:lnTo>
                <a:lnTo>
                  <a:pt x="60" y="383"/>
                </a:lnTo>
                <a:lnTo>
                  <a:pt x="39" y="392"/>
                </a:lnTo>
                <a:lnTo>
                  <a:pt x="43" y="416"/>
                </a:lnTo>
                <a:lnTo>
                  <a:pt x="25" y="440"/>
                </a:lnTo>
                <a:lnTo>
                  <a:pt x="16" y="440"/>
                </a:lnTo>
                <a:lnTo>
                  <a:pt x="27" y="401"/>
                </a:lnTo>
                <a:lnTo>
                  <a:pt x="20" y="390"/>
                </a:lnTo>
                <a:lnTo>
                  <a:pt x="0" y="447"/>
                </a:lnTo>
                <a:lnTo>
                  <a:pt x="31" y="466"/>
                </a:lnTo>
                <a:lnTo>
                  <a:pt x="85" y="486"/>
                </a:lnTo>
                <a:lnTo>
                  <a:pt x="89" y="505"/>
                </a:lnTo>
                <a:lnTo>
                  <a:pt x="112" y="507"/>
                </a:lnTo>
                <a:lnTo>
                  <a:pt x="158" y="584"/>
                </a:lnTo>
                <a:lnTo>
                  <a:pt x="149" y="609"/>
                </a:lnTo>
                <a:lnTo>
                  <a:pt x="220" y="661"/>
                </a:lnTo>
                <a:lnTo>
                  <a:pt x="341" y="657"/>
                </a:lnTo>
                <a:lnTo>
                  <a:pt x="434" y="692"/>
                </a:lnTo>
                <a:lnTo>
                  <a:pt x="476" y="683"/>
                </a:lnTo>
                <a:lnTo>
                  <a:pt x="754" y="692"/>
                </a:lnTo>
                <a:lnTo>
                  <a:pt x="1066" y="755"/>
                </a:lnTo>
                <a:lnTo>
                  <a:pt x="1072" y="673"/>
                </a:lnTo>
                <a:lnTo>
                  <a:pt x="1205" y="188"/>
                </a:lnTo>
                <a:lnTo>
                  <a:pt x="368" y="0"/>
                </a:lnTo>
                <a:lnTo>
                  <a:pt x="361" y="3"/>
                </a:lnTo>
                <a:lnTo>
                  <a:pt x="368" y="15"/>
                </a:lnTo>
                <a:lnTo>
                  <a:pt x="359" y="20"/>
                </a:lnTo>
                <a:lnTo>
                  <a:pt x="368" y="29"/>
                </a:lnTo>
                <a:lnTo>
                  <a:pt x="365" y="39"/>
                </a:lnTo>
                <a:lnTo>
                  <a:pt x="368" y="53"/>
                </a:lnTo>
                <a:lnTo>
                  <a:pt x="376" y="48"/>
                </a:lnTo>
                <a:lnTo>
                  <a:pt x="392" y="55"/>
                </a:lnTo>
                <a:lnTo>
                  <a:pt x="388" y="75"/>
                </a:lnTo>
                <a:lnTo>
                  <a:pt x="392" y="86"/>
                </a:lnTo>
                <a:lnTo>
                  <a:pt x="376" y="115"/>
                </a:lnTo>
                <a:lnTo>
                  <a:pt x="357" y="96"/>
                </a:lnTo>
                <a:lnTo>
                  <a:pt x="349" y="98"/>
                </a:lnTo>
                <a:lnTo>
                  <a:pt x="349" y="111"/>
                </a:lnTo>
                <a:lnTo>
                  <a:pt x="363" y="115"/>
                </a:lnTo>
                <a:lnTo>
                  <a:pt x="378" y="145"/>
                </a:lnTo>
                <a:lnTo>
                  <a:pt x="372" y="183"/>
                </a:lnTo>
                <a:lnTo>
                  <a:pt x="376" y="195"/>
                </a:lnTo>
                <a:lnTo>
                  <a:pt x="390" y="199"/>
                </a:lnTo>
                <a:lnTo>
                  <a:pt x="384" y="207"/>
                </a:lnTo>
                <a:lnTo>
                  <a:pt x="372" y="209"/>
                </a:lnTo>
                <a:lnTo>
                  <a:pt x="349" y="234"/>
                </a:lnTo>
                <a:lnTo>
                  <a:pt x="349" y="243"/>
                </a:lnTo>
                <a:lnTo>
                  <a:pt x="341" y="258"/>
                </a:lnTo>
                <a:lnTo>
                  <a:pt x="334" y="260"/>
                </a:lnTo>
                <a:lnTo>
                  <a:pt x="341" y="270"/>
                </a:lnTo>
                <a:lnTo>
                  <a:pt x="332" y="277"/>
                </a:lnTo>
                <a:lnTo>
                  <a:pt x="332" y="318"/>
                </a:lnTo>
                <a:lnTo>
                  <a:pt x="313" y="324"/>
                </a:lnTo>
                <a:lnTo>
                  <a:pt x="313" y="337"/>
                </a:lnTo>
                <a:lnTo>
                  <a:pt x="295" y="322"/>
                </a:lnTo>
                <a:lnTo>
                  <a:pt x="295" y="329"/>
                </a:lnTo>
                <a:lnTo>
                  <a:pt x="261" y="356"/>
                </a:lnTo>
                <a:lnTo>
                  <a:pt x="251" y="353"/>
                </a:lnTo>
                <a:lnTo>
                  <a:pt x="243" y="341"/>
                </a:lnTo>
                <a:lnTo>
                  <a:pt x="239" y="347"/>
                </a:lnTo>
                <a:lnTo>
                  <a:pt x="232" y="341"/>
                </a:lnTo>
                <a:lnTo>
                  <a:pt x="224" y="359"/>
                </a:lnTo>
                <a:lnTo>
                  <a:pt x="222" y="358"/>
                </a:lnTo>
                <a:lnTo>
                  <a:pt x="222" y="344"/>
                </a:lnTo>
                <a:lnTo>
                  <a:pt x="212" y="347"/>
                </a:lnTo>
                <a:lnTo>
                  <a:pt x="224" y="336"/>
                </a:lnTo>
                <a:lnTo>
                  <a:pt x="209" y="334"/>
                </a:lnTo>
                <a:lnTo>
                  <a:pt x="222" y="327"/>
                </a:lnTo>
                <a:lnTo>
                  <a:pt x="205" y="322"/>
                </a:lnTo>
                <a:lnTo>
                  <a:pt x="212" y="315"/>
                </a:lnTo>
                <a:lnTo>
                  <a:pt x="230" y="322"/>
                </a:lnTo>
                <a:lnTo>
                  <a:pt x="236" y="310"/>
                </a:lnTo>
                <a:lnTo>
                  <a:pt x="261" y="300"/>
                </a:lnTo>
                <a:lnTo>
                  <a:pt x="249" y="325"/>
                </a:lnTo>
                <a:lnTo>
                  <a:pt x="253" y="339"/>
                </a:lnTo>
                <a:lnTo>
                  <a:pt x="262" y="313"/>
                </a:lnTo>
                <a:lnTo>
                  <a:pt x="286" y="303"/>
                </a:lnTo>
                <a:lnTo>
                  <a:pt x="274" y="320"/>
                </a:lnTo>
                <a:lnTo>
                  <a:pt x="286" y="329"/>
                </a:lnTo>
                <a:lnTo>
                  <a:pt x="286" y="315"/>
                </a:lnTo>
                <a:lnTo>
                  <a:pt x="299" y="305"/>
                </a:lnTo>
                <a:lnTo>
                  <a:pt x="313" y="286"/>
                </a:lnTo>
                <a:lnTo>
                  <a:pt x="309" y="274"/>
                </a:lnTo>
                <a:lnTo>
                  <a:pt x="286" y="276"/>
                </a:lnTo>
                <a:lnTo>
                  <a:pt x="291" y="257"/>
                </a:lnTo>
                <a:lnTo>
                  <a:pt x="301" y="267"/>
                </a:lnTo>
                <a:lnTo>
                  <a:pt x="305" y="240"/>
                </a:lnTo>
                <a:lnTo>
                  <a:pt x="332" y="240"/>
                </a:lnTo>
                <a:lnTo>
                  <a:pt x="334" y="214"/>
                </a:lnTo>
                <a:lnTo>
                  <a:pt x="324" y="200"/>
                </a:lnTo>
                <a:lnTo>
                  <a:pt x="324" y="224"/>
                </a:lnTo>
                <a:lnTo>
                  <a:pt x="313" y="219"/>
                </a:lnTo>
                <a:lnTo>
                  <a:pt x="295" y="229"/>
                </a:lnTo>
                <a:lnTo>
                  <a:pt x="286" y="248"/>
                </a:lnTo>
                <a:lnTo>
                  <a:pt x="268" y="250"/>
                </a:lnTo>
                <a:lnTo>
                  <a:pt x="239" y="264"/>
                </a:lnTo>
                <a:lnTo>
                  <a:pt x="216" y="286"/>
                </a:lnTo>
                <a:lnTo>
                  <a:pt x="257" y="288"/>
                </a:lnTo>
                <a:lnTo>
                  <a:pt x="222" y="294"/>
                </a:lnTo>
                <a:lnTo>
                  <a:pt x="205" y="288"/>
                </a:lnTo>
                <a:lnTo>
                  <a:pt x="239" y="250"/>
                </a:lnTo>
                <a:lnTo>
                  <a:pt x="262" y="240"/>
                </a:lnTo>
                <a:lnTo>
                  <a:pt x="288" y="212"/>
                </a:lnTo>
                <a:lnTo>
                  <a:pt x="293" y="226"/>
                </a:lnTo>
                <a:lnTo>
                  <a:pt x="309" y="214"/>
                </a:lnTo>
                <a:lnTo>
                  <a:pt x="324" y="187"/>
                </a:lnTo>
                <a:lnTo>
                  <a:pt x="318" y="166"/>
                </a:lnTo>
                <a:lnTo>
                  <a:pt x="313" y="180"/>
                </a:lnTo>
                <a:lnTo>
                  <a:pt x="305" y="180"/>
                </a:lnTo>
                <a:lnTo>
                  <a:pt x="313" y="159"/>
                </a:lnTo>
                <a:lnTo>
                  <a:pt x="301" y="159"/>
                </a:lnTo>
                <a:lnTo>
                  <a:pt x="299" y="178"/>
                </a:lnTo>
                <a:lnTo>
                  <a:pt x="289" y="183"/>
                </a:lnTo>
                <a:lnTo>
                  <a:pt x="288" y="163"/>
                </a:lnTo>
                <a:lnTo>
                  <a:pt x="280" y="159"/>
                </a:lnTo>
                <a:lnTo>
                  <a:pt x="272" y="166"/>
                </a:lnTo>
                <a:lnTo>
                  <a:pt x="259" y="142"/>
                </a:lnTo>
                <a:lnTo>
                  <a:pt x="232" y="140"/>
                </a:lnTo>
                <a:lnTo>
                  <a:pt x="124" y="96"/>
                </a:lnTo>
                <a:lnTo>
                  <a:pt x="52" y="38"/>
                </a:lnTo>
                <a:lnTo>
                  <a:pt x="29" y="79"/>
                </a:lnTo>
                <a:lnTo>
                  <a:pt x="29" y="13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1" name="Freeform 133"/>
          <p:cNvSpPr/>
          <p:nvPr/>
        </p:nvSpPr>
        <p:spPr>
          <a:xfrm>
            <a:off x="1149480" y="1905120"/>
            <a:ext cx="830160" cy="596880"/>
          </a:xfrm>
          <a:custGeom>
            <a:avLst/>
            <a:gdLst>
              <a:gd name="textAreaLeft" fmla="*/ 0 w 830160"/>
              <a:gd name="textAreaRight" fmla="*/ 830520 w 8301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205" h="755">
                <a:moveTo>
                  <a:pt x="29" y="130"/>
                </a:moveTo>
                <a:lnTo>
                  <a:pt x="47" y="164"/>
                </a:lnTo>
                <a:lnTo>
                  <a:pt x="43" y="209"/>
                </a:lnTo>
                <a:lnTo>
                  <a:pt x="39" y="250"/>
                </a:lnTo>
                <a:lnTo>
                  <a:pt x="45" y="265"/>
                </a:lnTo>
                <a:lnTo>
                  <a:pt x="33" y="322"/>
                </a:lnTo>
                <a:lnTo>
                  <a:pt x="56" y="310"/>
                </a:lnTo>
                <a:lnTo>
                  <a:pt x="85" y="334"/>
                </a:lnTo>
                <a:lnTo>
                  <a:pt x="52" y="337"/>
                </a:lnTo>
                <a:lnTo>
                  <a:pt x="31" y="334"/>
                </a:lnTo>
                <a:lnTo>
                  <a:pt x="29" y="356"/>
                </a:lnTo>
                <a:lnTo>
                  <a:pt x="29" y="373"/>
                </a:lnTo>
                <a:lnTo>
                  <a:pt x="56" y="373"/>
                </a:lnTo>
                <a:lnTo>
                  <a:pt x="60" y="383"/>
                </a:lnTo>
                <a:lnTo>
                  <a:pt x="39" y="392"/>
                </a:lnTo>
                <a:lnTo>
                  <a:pt x="43" y="416"/>
                </a:lnTo>
                <a:lnTo>
                  <a:pt x="25" y="440"/>
                </a:lnTo>
                <a:lnTo>
                  <a:pt x="16" y="440"/>
                </a:lnTo>
                <a:lnTo>
                  <a:pt x="27" y="401"/>
                </a:lnTo>
                <a:lnTo>
                  <a:pt x="20" y="390"/>
                </a:lnTo>
                <a:lnTo>
                  <a:pt x="0" y="447"/>
                </a:lnTo>
                <a:lnTo>
                  <a:pt x="31" y="466"/>
                </a:lnTo>
                <a:lnTo>
                  <a:pt x="85" y="486"/>
                </a:lnTo>
                <a:lnTo>
                  <a:pt x="89" y="505"/>
                </a:lnTo>
                <a:lnTo>
                  <a:pt x="112" y="507"/>
                </a:lnTo>
                <a:lnTo>
                  <a:pt x="158" y="584"/>
                </a:lnTo>
                <a:lnTo>
                  <a:pt x="149" y="609"/>
                </a:lnTo>
                <a:lnTo>
                  <a:pt x="220" y="661"/>
                </a:lnTo>
                <a:lnTo>
                  <a:pt x="341" y="657"/>
                </a:lnTo>
                <a:lnTo>
                  <a:pt x="434" y="692"/>
                </a:lnTo>
                <a:lnTo>
                  <a:pt x="476" y="683"/>
                </a:lnTo>
                <a:lnTo>
                  <a:pt x="754" y="692"/>
                </a:lnTo>
                <a:lnTo>
                  <a:pt x="1066" y="755"/>
                </a:lnTo>
                <a:lnTo>
                  <a:pt x="1072" y="673"/>
                </a:lnTo>
                <a:lnTo>
                  <a:pt x="1205" y="188"/>
                </a:lnTo>
                <a:lnTo>
                  <a:pt x="368" y="0"/>
                </a:lnTo>
                <a:lnTo>
                  <a:pt x="361" y="3"/>
                </a:lnTo>
                <a:lnTo>
                  <a:pt x="368" y="15"/>
                </a:lnTo>
                <a:lnTo>
                  <a:pt x="359" y="20"/>
                </a:lnTo>
                <a:lnTo>
                  <a:pt x="368" y="29"/>
                </a:lnTo>
                <a:lnTo>
                  <a:pt x="365" y="39"/>
                </a:lnTo>
                <a:lnTo>
                  <a:pt x="368" y="53"/>
                </a:lnTo>
                <a:lnTo>
                  <a:pt x="376" y="48"/>
                </a:lnTo>
                <a:lnTo>
                  <a:pt x="392" y="55"/>
                </a:lnTo>
                <a:lnTo>
                  <a:pt x="388" y="75"/>
                </a:lnTo>
                <a:lnTo>
                  <a:pt x="392" y="86"/>
                </a:lnTo>
                <a:lnTo>
                  <a:pt x="376" y="115"/>
                </a:lnTo>
                <a:lnTo>
                  <a:pt x="357" y="96"/>
                </a:lnTo>
                <a:lnTo>
                  <a:pt x="349" y="98"/>
                </a:lnTo>
                <a:lnTo>
                  <a:pt x="349" y="111"/>
                </a:lnTo>
                <a:lnTo>
                  <a:pt x="363" y="115"/>
                </a:lnTo>
                <a:lnTo>
                  <a:pt x="378" y="145"/>
                </a:lnTo>
                <a:lnTo>
                  <a:pt x="372" y="183"/>
                </a:lnTo>
                <a:lnTo>
                  <a:pt x="376" y="195"/>
                </a:lnTo>
                <a:lnTo>
                  <a:pt x="390" y="199"/>
                </a:lnTo>
                <a:lnTo>
                  <a:pt x="384" y="207"/>
                </a:lnTo>
                <a:lnTo>
                  <a:pt x="372" y="209"/>
                </a:lnTo>
                <a:lnTo>
                  <a:pt x="349" y="234"/>
                </a:lnTo>
                <a:lnTo>
                  <a:pt x="349" y="243"/>
                </a:lnTo>
                <a:lnTo>
                  <a:pt x="341" y="258"/>
                </a:lnTo>
                <a:lnTo>
                  <a:pt x="334" y="260"/>
                </a:lnTo>
                <a:lnTo>
                  <a:pt x="341" y="270"/>
                </a:lnTo>
                <a:lnTo>
                  <a:pt x="332" y="277"/>
                </a:lnTo>
                <a:lnTo>
                  <a:pt x="332" y="318"/>
                </a:lnTo>
                <a:lnTo>
                  <a:pt x="313" y="324"/>
                </a:lnTo>
                <a:lnTo>
                  <a:pt x="313" y="337"/>
                </a:lnTo>
                <a:lnTo>
                  <a:pt x="295" y="322"/>
                </a:lnTo>
                <a:lnTo>
                  <a:pt x="295" y="329"/>
                </a:lnTo>
                <a:lnTo>
                  <a:pt x="261" y="356"/>
                </a:lnTo>
                <a:lnTo>
                  <a:pt x="251" y="353"/>
                </a:lnTo>
                <a:lnTo>
                  <a:pt x="243" y="341"/>
                </a:lnTo>
                <a:lnTo>
                  <a:pt x="239" y="347"/>
                </a:lnTo>
                <a:lnTo>
                  <a:pt x="232" y="341"/>
                </a:lnTo>
                <a:lnTo>
                  <a:pt x="224" y="359"/>
                </a:lnTo>
                <a:lnTo>
                  <a:pt x="222" y="358"/>
                </a:lnTo>
                <a:lnTo>
                  <a:pt x="222" y="344"/>
                </a:lnTo>
                <a:lnTo>
                  <a:pt x="212" y="347"/>
                </a:lnTo>
                <a:lnTo>
                  <a:pt x="224" y="336"/>
                </a:lnTo>
                <a:lnTo>
                  <a:pt x="209" y="334"/>
                </a:lnTo>
                <a:lnTo>
                  <a:pt x="222" y="327"/>
                </a:lnTo>
                <a:lnTo>
                  <a:pt x="205" y="322"/>
                </a:lnTo>
                <a:lnTo>
                  <a:pt x="212" y="315"/>
                </a:lnTo>
                <a:lnTo>
                  <a:pt x="230" y="322"/>
                </a:lnTo>
                <a:lnTo>
                  <a:pt x="236" y="310"/>
                </a:lnTo>
                <a:lnTo>
                  <a:pt x="261" y="300"/>
                </a:lnTo>
                <a:lnTo>
                  <a:pt x="249" y="325"/>
                </a:lnTo>
                <a:lnTo>
                  <a:pt x="253" y="339"/>
                </a:lnTo>
                <a:lnTo>
                  <a:pt x="262" y="313"/>
                </a:lnTo>
                <a:lnTo>
                  <a:pt x="286" y="303"/>
                </a:lnTo>
                <a:lnTo>
                  <a:pt x="274" y="320"/>
                </a:lnTo>
                <a:lnTo>
                  <a:pt x="286" y="329"/>
                </a:lnTo>
                <a:lnTo>
                  <a:pt x="286" y="315"/>
                </a:lnTo>
                <a:lnTo>
                  <a:pt x="299" y="305"/>
                </a:lnTo>
                <a:lnTo>
                  <a:pt x="313" y="286"/>
                </a:lnTo>
                <a:lnTo>
                  <a:pt x="309" y="274"/>
                </a:lnTo>
                <a:lnTo>
                  <a:pt x="286" y="276"/>
                </a:lnTo>
                <a:lnTo>
                  <a:pt x="291" y="257"/>
                </a:lnTo>
                <a:lnTo>
                  <a:pt x="301" y="267"/>
                </a:lnTo>
                <a:lnTo>
                  <a:pt x="305" y="240"/>
                </a:lnTo>
                <a:lnTo>
                  <a:pt x="332" y="240"/>
                </a:lnTo>
                <a:lnTo>
                  <a:pt x="334" y="214"/>
                </a:lnTo>
                <a:lnTo>
                  <a:pt x="324" y="200"/>
                </a:lnTo>
                <a:lnTo>
                  <a:pt x="324" y="224"/>
                </a:lnTo>
                <a:lnTo>
                  <a:pt x="313" y="219"/>
                </a:lnTo>
                <a:lnTo>
                  <a:pt x="295" y="229"/>
                </a:lnTo>
                <a:lnTo>
                  <a:pt x="286" y="248"/>
                </a:lnTo>
                <a:lnTo>
                  <a:pt x="268" y="250"/>
                </a:lnTo>
                <a:lnTo>
                  <a:pt x="239" y="264"/>
                </a:lnTo>
                <a:lnTo>
                  <a:pt x="216" y="286"/>
                </a:lnTo>
                <a:lnTo>
                  <a:pt x="257" y="288"/>
                </a:lnTo>
                <a:lnTo>
                  <a:pt x="222" y="294"/>
                </a:lnTo>
                <a:lnTo>
                  <a:pt x="205" y="288"/>
                </a:lnTo>
                <a:lnTo>
                  <a:pt x="239" y="250"/>
                </a:lnTo>
                <a:lnTo>
                  <a:pt x="262" y="240"/>
                </a:lnTo>
                <a:lnTo>
                  <a:pt x="288" y="212"/>
                </a:lnTo>
                <a:lnTo>
                  <a:pt x="293" y="226"/>
                </a:lnTo>
                <a:lnTo>
                  <a:pt x="309" y="214"/>
                </a:lnTo>
                <a:lnTo>
                  <a:pt x="324" y="187"/>
                </a:lnTo>
                <a:lnTo>
                  <a:pt x="318" y="166"/>
                </a:lnTo>
                <a:lnTo>
                  <a:pt x="313" y="180"/>
                </a:lnTo>
                <a:lnTo>
                  <a:pt x="305" y="180"/>
                </a:lnTo>
                <a:lnTo>
                  <a:pt x="313" y="159"/>
                </a:lnTo>
                <a:lnTo>
                  <a:pt x="301" y="159"/>
                </a:lnTo>
                <a:lnTo>
                  <a:pt x="299" y="178"/>
                </a:lnTo>
                <a:lnTo>
                  <a:pt x="289" y="183"/>
                </a:lnTo>
                <a:lnTo>
                  <a:pt x="288" y="163"/>
                </a:lnTo>
                <a:lnTo>
                  <a:pt x="280" y="159"/>
                </a:lnTo>
                <a:lnTo>
                  <a:pt x="272" y="166"/>
                </a:lnTo>
                <a:lnTo>
                  <a:pt x="259" y="142"/>
                </a:lnTo>
                <a:lnTo>
                  <a:pt x="232" y="140"/>
                </a:lnTo>
                <a:lnTo>
                  <a:pt x="124" y="96"/>
                </a:lnTo>
                <a:lnTo>
                  <a:pt x="52" y="38"/>
                </a:lnTo>
                <a:lnTo>
                  <a:pt x="29" y="79"/>
                </a:lnTo>
                <a:lnTo>
                  <a:pt x="29" y="130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2" name="Freeform 134"/>
          <p:cNvSpPr/>
          <p:nvPr/>
        </p:nvSpPr>
        <p:spPr>
          <a:xfrm>
            <a:off x="1344600" y="1940040"/>
            <a:ext cx="36360" cy="44280"/>
          </a:xfrm>
          <a:custGeom>
            <a:avLst/>
            <a:gdLst>
              <a:gd name="textAreaLeft" fmla="*/ 0 w 36360"/>
              <a:gd name="textAreaRight" fmla="*/ 36720 w 36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52" h="57">
                <a:moveTo>
                  <a:pt x="0" y="24"/>
                </a:moveTo>
                <a:lnTo>
                  <a:pt x="44" y="0"/>
                </a:lnTo>
                <a:lnTo>
                  <a:pt x="52" y="23"/>
                </a:lnTo>
                <a:lnTo>
                  <a:pt x="44" y="57"/>
                </a:lnTo>
                <a:lnTo>
                  <a:pt x="0" y="24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3" name="Freeform 135"/>
          <p:cNvSpPr/>
          <p:nvPr/>
        </p:nvSpPr>
        <p:spPr>
          <a:xfrm>
            <a:off x="1344600" y="1940040"/>
            <a:ext cx="36360" cy="44280"/>
          </a:xfrm>
          <a:custGeom>
            <a:avLst/>
            <a:gdLst>
              <a:gd name="textAreaLeft" fmla="*/ 0 w 36360"/>
              <a:gd name="textAreaRight" fmla="*/ 36720 w 36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52" h="57">
                <a:moveTo>
                  <a:pt x="0" y="24"/>
                </a:moveTo>
                <a:lnTo>
                  <a:pt x="44" y="0"/>
                </a:lnTo>
                <a:lnTo>
                  <a:pt x="52" y="23"/>
                </a:lnTo>
                <a:lnTo>
                  <a:pt x="44" y="57"/>
                </a:lnTo>
                <a:lnTo>
                  <a:pt x="0" y="24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4" name="Freeform 136"/>
          <p:cNvSpPr/>
          <p:nvPr/>
        </p:nvSpPr>
        <p:spPr>
          <a:xfrm>
            <a:off x="1366920" y="2000160"/>
            <a:ext cx="30240" cy="61920"/>
          </a:xfrm>
          <a:custGeom>
            <a:avLst/>
            <a:gdLst>
              <a:gd name="textAreaLeft" fmla="*/ 0 w 30240"/>
              <a:gd name="textAreaRight" fmla="*/ 30600 w 30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1" h="81">
                <a:moveTo>
                  <a:pt x="0" y="21"/>
                </a:moveTo>
                <a:lnTo>
                  <a:pt x="25" y="0"/>
                </a:lnTo>
                <a:lnTo>
                  <a:pt x="41" y="12"/>
                </a:lnTo>
                <a:lnTo>
                  <a:pt x="31" y="81"/>
                </a:lnTo>
                <a:lnTo>
                  <a:pt x="0" y="21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5" name="Freeform 137"/>
          <p:cNvSpPr/>
          <p:nvPr/>
        </p:nvSpPr>
        <p:spPr>
          <a:xfrm>
            <a:off x="1366920" y="2000160"/>
            <a:ext cx="30240" cy="61920"/>
          </a:xfrm>
          <a:custGeom>
            <a:avLst/>
            <a:gdLst>
              <a:gd name="textAreaLeft" fmla="*/ 0 w 30240"/>
              <a:gd name="textAreaRight" fmla="*/ 30600 w 30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1" h="81">
                <a:moveTo>
                  <a:pt x="0" y="21"/>
                </a:moveTo>
                <a:lnTo>
                  <a:pt x="25" y="0"/>
                </a:lnTo>
                <a:lnTo>
                  <a:pt x="41" y="12"/>
                </a:lnTo>
                <a:lnTo>
                  <a:pt x="31" y="81"/>
                </a:lnTo>
                <a:lnTo>
                  <a:pt x="0" y="21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6" name="Freeform 138"/>
          <p:cNvSpPr/>
          <p:nvPr/>
        </p:nvSpPr>
        <p:spPr>
          <a:xfrm>
            <a:off x="5776920" y="3457440"/>
            <a:ext cx="557280" cy="546120"/>
          </a:xfrm>
          <a:custGeom>
            <a:avLst/>
            <a:gdLst>
              <a:gd name="textAreaLeft" fmla="*/ 0 w 557280"/>
              <a:gd name="textAreaRight" fmla="*/ 557640 w 5572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09" h="690">
                <a:moveTo>
                  <a:pt x="0" y="477"/>
                </a:moveTo>
                <a:lnTo>
                  <a:pt x="33" y="573"/>
                </a:lnTo>
                <a:lnTo>
                  <a:pt x="68" y="606"/>
                </a:lnTo>
                <a:lnTo>
                  <a:pt x="135" y="640"/>
                </a:lnTo>
                <a:lnTo>
                  <a:pt x="185" y="690"/>
                </a:lnTo>
                <a:lnTo>
                  <a:pt x="249" y="664"/>
                </a:lnTo>
                <a:lnTo>
                  <a:pt x="276" y="681"/>
                </a:lnTo>
                <a:lnTo>
                  <a:pt x="314" y="664"/>
                </a:lnTo>
                <a:lnTo>
                  <a:pt x="337" y="637"/>
                </a:lnTo>
                <a:lnTo>
                  <a:pt x="407" y="625"/>
                </a:lnTo>
                <a:lnTo>
                  <a:pt x="447" y="584"/>
                </a:lnTo>
                <a:lnTo>
                  <a:pt x="424" y="573"/>
                </a:lnTo>
                <a:lnTo>
                  <a:pt x="490" y="443"/>
                </a:lnTo>
                <a:lnTo>
                  <a:pt x="505" y="378"/>
                </a:lnTo>
                <a:lnTo>
                  <a:pt x="569" y="405"/>
                </a:lnTo>
                <a:lnTo>
                  <a:pt x="603" y="328"/>
                </a:lnTo>
                <a:lnTo>
                  <a:pt x="634" y="325"/>
                </a:lnTo>
                <a:lnTo>
                  <a:pt x="680" y="255"/>
                </a:lnTo>
                <a:lnTo>
                  <a:pt x="696" y="178"/>
                </a:lnTo>
                <a:lnTo>
                  <a:pt x="794" y="224"/>
                </a:lnTo>
                <a:lnTo>
                  <a:pt x="809" y="185"/>
                </a:lnTo>
                <a:lnTo>
                  <a:pt x="784" y="155"/>
                </a:lnTo>
                <a:lnTo>
                  <a:pt x="738" y="138"/>
                </a:lnTo>
                <a:lnTo>
                  <a:pt x="684" y="142"/>
                </a:lnTo>
                <a:lnTo>
                  <a:pt x="669" y="169"/>
                </a:lnTo>
                <a:lnTo>
                  <a:pt x="569" y="193"/>
                </a:lnTo>
                <a:lnTo>
                  <a:pt x="509" y="255"/>
                </a:lnTo>
                <a:lnTo>
                  <a:pt x="488" y="155"/>
                </a:lnTo>
                <a:lnTo>
                  <a:pt x="314" y="181"/>
                </a:lnTo>
                <a:lnTo>
                  <a:pt x="280" y="0"/>
                </a:lnTo>
                <a:lnTo>
                  <a:pt x="255" y="15"/>
                </a:lnTo>
                <a:lnTo>
                  <a:pt x="270" y="49"/>
                </a:lnTo>
                <a:lnTo>
                  <a:pt x="247" y="210"/>
                </a:lnTo>
                <a:lnTo>
                  <a:pt x="216" y="245"/>
                </a:lnTo>
                <a:lnTo>
                  <a:pt x="120" y="304"/>
                </a:lnTo>
                <a:lnTo>
                  <a:pt x="102" y="373"/>
                </a:lnTo>
                <a:lnTo>
                  <a:pt x="68" y="356"/>
                </a:lnTo>
                <a:lnTo>
                  <a:pt x="56" y="436"/>
                </a:lnTo>
                <a:lnTo>
                  <a:pt x="0" y="47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7" name="Freeform 139"/>
          <p:cNvSpPr/>
          <p:nvPr/>
        </p:nvSpPr>
        <p:spPr>
          <a:xfrm>
            <a:off x="5776920" y="3457440"/>
            <a:ext cx="557280" cy="546120"/>
          </a:xfrm>
          <a:custGeom>
            <a:avLst/>
            <a:gdLst>
              <a:gd name="textAreaLeft" fmla="*/ 0 w 557280"/>
              <a:gd name="textAreaRight" fmla="*/ 557640 w 5572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09" h="690">
                <a:moveTo>
                  <a:pt x="0" y="477"/>
                </a:moveTo>
                <a:lnTo>
                  <a:pt x="33" y="573"/>
                </a:lnTo>
                <a:lnTo>
                  <a:pt x="68" y="606"/>
                </a:lnTo>
                <a:lnTo>
                  <a:pt x="135" y="640"/>
                </a:lnTo>
                <a:lnTo>
                  <a:pt x="185" y="690"/>
                </a:lnTo>
                <a:lnTo>
                  <a:pt x="249" y="664"/>
                </a:lnTo>
                <a:lnTo>
                  <a:pt x="276" y="681"/>
                </a:lnTo>
                <a:lnTo>
                  <a:pt x="314" y="664"/>
                </a:lnTo>
                <a:lnTo>
                  <a:pt x="337" y="637"/>
                </a:lnTo>
                <a:lnTo>
                  <a:pt x="407" y="625"/>
                </a:lnTo>
                <a:lnTo>
                  <a:pt x="447" y="584"/>
                </a:lnTo>
                <a:lnTo>
                  <a:pt x="424" y="573"/>
                </a:lnTo>
                <a:lnTo>
                  <a:pt x="490" y="443"/>
                </a:lnTo>
                <a:lnTo>
                  <a:pt x="505" y="378"/>
                </a:lnTo>
                <a:lnTo>
                  <a:pt x="569" y="405"/>
                </a:lnTo>
                <a:lnTo>
                  <a:pt x="603" y="328"/>
                </a:lnTo>
                <a:lnTo>
                  <a:pt x="634" y="325"/>
                </a:lnTo>
                <a:lnTo>
                  <a:pt x="680" y="255"/>
                </a:lnTo>
                <a:lnTo>
                  <a:pt x="696" y="178"/>
                </a:lnTo>
                <a:lnTo>
                  <a:pt x="794" y="224"/>
                </a:lnTo>
                <a:lnTo>
                  <a:pt x="809" y="185"/>
                </a:lnTo>
                <a:lnTo>
                  <a:pt x="784" y="155"/>
                </a:lnTo>
                <a:lnTo>
                  <a:pt x="738" y="138"/>
                </a:lnTo>
                <a:lnTo>
                  <a:pt x="684" y="142"/>
                </a:lnTo>
                <a:lnTo>
                  <a:pt x="669" y="169"/>
                </a:lnTo>
                <a:lnTo>
                  <a:pt x="569" y="193"/>
                </a:lnTo>
                <a:lnTo>
                  <a:pt x="509" y="255"/>
                </a:lnTo>
                <a:lnTo>
                  <a:pt x="488" y="155"/>
                </a:lnTo>
                <a:lnTo>
                  <a:pt x="314" y="181"/>
                </a:lnTo>
                <a:lnTo>
                  <a:pt x="280" y="0"/>
                </a:lnTo>
                <a:lnTo>
                  <a:pt x="255" y="15"/>
                </a:lnTo>
                <a:lnTo>
                  <a:pt x="270" y="49"/>
                </a:lnTo>
                <a:lnTo>
                  <a:pt x="247" y="210"/>
                </a:lnTo>
                <a:lnTo>
                  <a:pt x="216" y="245"/>
                </a:lnTo>
                <a:lnTo>
                  <a:pt x="120" y="304"/>
                </a:lnTo>
                <a:lnTo>
                  <a:pt x="102" y="373"/>
                </a:lnTo>
                <a:lnTo>
                  <a:pt x="68" y="356"/>
                </a:lnTo>
                <a:lnTo>
                  <a:pt x="56" y="436"/>
                </a:lnTo>
                <a:lnTo>
                  <a:pt x="0" y="477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8" name="Freeform 140"/>
          <p:cNvSpPr/>
          <p:nvPr/>
        </p:nvSpPr>
        <p:spPr>
          <a:xfrm>
            <a:off x="4491000" y="2606760"/>
            <a:ext cx="657360" cy="684000"/>
          </a:xfrm>
          <a:custGeom>
            <a:avLst/>
            <a:gdLst>
              <a:gd name="textAreaLeft" fmla="*/ 0 w 657360"/>
              <a:gd name="textAreaRight" fmla="*/ 657720 w 65736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952" h="865">
                <a:moveTo>
                  <a:pt x="0" y="264"/>
                </a:moveTo>
                <a:lnTo>
                  <a:pt x="23" y="331"/>
                </a:lnTo>
                <a:lnTo>
                  <a:pt x="21" y="437"/>
                </a:lnTo>
                <a:lnTo>
                  <a:pt x="137" y="498"/>
                </a:lnTo>
                <a:lnTo>
                  <a:pt x="183" y="543"/>
                </a:lnTo>
                <a:lnTo>
                  <a:pt x="251" y="581"/>
                </a:lnTo>
                <a:lnTo>
                  <a:pt x="274" y="605"/>
                </a:lnTo>
                <a:lnTo>
                  <a:pt x="289" y="675"/>
                </a:lnTo>
                <a:lnTo>
                  <a:pt x="306" y="774"/>
                </a:lnTo>
                <a:lnTo>
                  <a:pt x="395" y="865"/>
                </a:lnTo>
                <a:lnTo>
                  <a:pt x="869" y="837"/>
                </a:lnTo>
                <a:lnTo>
                  <a:pt x="840" y="704"/>
                </a:lnTo>
                <a:lnTo>
                  <a:pt x="857" y="567"/>
                </a:lnTo>
                <a:lnTo>
                  <a:pt x="886" y="505"/>
                </a:lnTo>
                <a:lnTo>
                  <a:pt x="884" y="449"/>
                </a:lnTo>
                <a:lnTo>
                  <a:pt x="944" y="324"/>
                </a:lnTo>
                <a:lnTo>
                  <a:pt x="952" y="293"/>
                </a:lnTo>
                <a:lnTo>
                  <a:pt x="935" y="286"/>
                </a:lnTo>
                <a:lnTo>
                  <a:pt x="911" y="310"/>
                </a:lnTo>
                <a:lnTo>
                  <a:pt x="892" y="375"/>
                </a:lnTo>
                <a:lnTo>
                  <a:pt x="854" y="384"/>
                </a:lnTo>
                <a:lnTo>
                  <a:pt x="834" y="420"/>
                </a:lnTo>
                <a:lnTo>
                  <a:pt x="796" y="445"/>
                </a:lnTo>
                <a:lnTo>
                  <a:pt x="800" y="404"/>
                </a:lnTo>
                <a:lnTo>
                  <a:pt x="823" y="361"/>
                </a:lnTo>
                <a:lnTo>
                  <a:pt x="852" y="346"/>
                </a:lnTo>
                <a:lnTo>
                  <a:pt x="856" y="331"/>
                </a:lnTo>
                <a:lnTo>
                  <a:pt x="804" y="211"/>
                </a:lnTo>
                <a:lnTo>
                  <a:pt x="767" y="200"/>
                </a:lnTo>
                <a:lnTo>
                  <a:pt x="753" y="175"/>
                </a:lnTo>
                <a:lnTo>
                  <a:pt x="663" y="164"/>
                </a:lnTo>
                <a:lnTo>
                  <a:pt x="464" y="120"/>
                </a:lnTo>
                <a:lnTo>
                  <a:pt x="384" y="72"/>
                </a:lnTo>
                <a:lnTo>
                  <a:pt x="339" y="55"/>
                </a:lnTo>
                <a:lnTo>
                  <a:pt x="312" y="72"/>
                </a:lnTo>
                <a:lnTo>
                  <a:pt x="303" y="67"/>
                </a:lnTo>
                <a:lnTo>
                  <a:pt x="318" y="55"/>
                </a:lnTo>
                <a:lnTo>
                  <a:pt x="318" y="33"/>
                </a:lnTo>
                <a:lnTo>
                  <a:pt x="326" y="26"/>
                </a:lnTo>
                <a:lnTo>
                  <a:pt x="326" y="9"/>
                </a:lnTo>
                <a:lnTo>
                  <a:pt x="316" y="0"/>
                </a:lnTo>
                <a:lnTo>
                  <a:pt x="204" y="43"/>
                </a:lnTo>
                <a:lnTo>
                  <a:pt x="162" y="58"/>
                </a:lnTo>
                <a:lnTo>
                  <a:pt x="145" y="60"/>
                </a:lnTo>
                <a:lnTo>
                  <a:pt x="118" y="46"/>
                </a:lnTo>
                <a:lnTo>
                  <a:pt x="114" y="58"/>
                </a:lnTo>
                <a:lnTo>
                  <a:pt x="110" y="46"/>
                </a:lnTo>
                <a:lnTo>
                  <a:pt x="87" y="63"/>
                </a:lnTo>
                <a:lnTo>
                  <a:pt x="95" y="163"/>
                </a:lnTo>
                <a:lnTo>
                  <a:pt x="0" y="26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9" name="Freeform 141"/>
          <p:cNvSpPr/>
          <p:nvPr/>
        </p:nvSpPr>
        <p:spPr>
          <a:xfrm>
            <a:off x="4491000" y="2606760"/>
            <a:ext cx="657360" cy="684000"/>
          </a:xfrm>
          <a:custGeom>
            <a:avLst/>
            <a:gdLst>
              <a:gd name="textAreaLeft" fmla="*/ 0 w 657360"/>
              <a:gd name="textAreaRight" fmla="*/ 657720 w 65736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952" h="865">
                <a:moveTo>
                  <a:pt x="0" y="264"/>
                </a:moveTo>
                <a:lnTo>
                  <a:pt x="23" y="331"/>
                </a:lnTo>
                <a:lnTo>
                  <a:pt x="21" y="437"/>
                </a:lnTo>
                <a:lnTo>
                  <a:pt x="137" y="498"/>
                </a:lnTo>
                <a:lnTo>
                  <a:pt x="183" y="543"/>
                </a:lnTo>
                <a:lnTo>
                  <a:pt x="251" y="581"/>
                </a:lnTo>
                <a:lnTo>
                  <a:pt x="274" y="605"/>
                </a:lnTo>
                <a:lnTo>
                  <a:pt x="289" y="675"/>
                </a:lnTo>
                <a:lnTo>
                  <a:pt x="306" y="774"/>
                </a:lnTo>
                <a:lnTo>
                  <a:pt x="395" y="865"/>
                </a:lnTo>
                <a:lnTo>
                  <a:pt x="869" y="837"/>
                </a:lnTo>
                <a:lnTo>
                  <a:pt x="840" y="704"/>
                </a:lnTo>
                <a:lnTo>
                  <a:pt x="857" y="567"/>
                </a:lnTo>
                <a:lnTo>
                  <a:pt x="886" y="505"/>
                </a:lnTo>
                <a:lnTo>
                  <a:pt x="884" y="449"/>
                </a:lnTo>
                <a:lnTo>
                  <a:pt x="944" y="324"/>
                </a:lnTo>
                <a:lnTo>
                  <a:pt x="952" y="293"/>
                </a:lnTo>
                <a:lnTo>
                  <a:pt x="935" y="286"/>
                </a:lnTo>
                <a:lnTo>
                  <a:pt x="911" y="310"/>
                </a:lnTo>
                <a:lnTo>
                  <a:pt x="892" y="375"/>
                </a:lnTo>
                <a:lnTo>
                  <a:pt x="854" y="384"/>
                </a:lnTo>
                <a:lnTo>
                  <a:pt x="834" y="420"/>
                </a:lnTo>
                <a:lnTo>
                  <a:pt x="796" y="445"/>
                </a:lnTo>
                <a:lnTo>
                  <a:pt x="800" y="404"/>
                </a:lnTo>
                <a:lnTo>
                  <a:pt x="823" y="361"/>
                </a:lnTo>
                <a:lnTo>
                  <a:pt x="852" y="346"/>
                </a:lnTo>
                <a:lnTo>
                  <a:pt x="856" y="331"/>
                </a:lnTo>
                <a:lnTo>
                  <a:pt x="804" y="211"/>
                </a:lnTo>
                <a:lnTo>
                  <a:pt x="767" y="200"/>
                </a:lnTo>
                <a:lnTo>
                  <a:pt x="753" y="175"/>
                </a:lnTo>
                <a:lnTo>
                  <a:pt x="663" y="164"/>
                </a:lnTo>
                <a:lnTo>
                  <a:pt x="464" y="120"/>
                </a:lnTo>
                <a:lnTo>
                  <a:pt x="384" y="72"/>
                </a:lnTo>
                <a:lnTo>
                  <a:pt x="339" y="55"/>
                </a:lnTo>
                <a:lnTo>
                  <a:pt x="312" y="72"/>
                </a:lnTo>
                <a:lnTo>
                  <a:pt x="303" y="67"/>
                </a:lnTo>
                <a:lnTo>
                  <a:pt x="318" y="55"/>
                </a:lnTo>
                <a:lnTo>
                  <a:pt x="318" y="33"/>
                </a:lnTo>
                <a:lnTo>
                  <a:pt x="326" y="26"/>
                </a:lnTo>
                <a:lnTo>
                  <a:pt x="326" y="9"/>
                </a:lnTo>
                <a:lnTo>
                  <a:pt x="316" y="0"/>
                </a:lnTo>
                <a:lnTo>
                  <a:pt x="204" y="43"/>
                </a:lnTo>
                <a:lnTo>
                  <a:pt x="162" y="58"/>
                </a:lnTo>
                <a:lnTo>
                  <a:pt x="145" y="60"/>
                </a:lnTo>
                <a:lnTo>
                  <a:pt x="118" y="46"/>
                </a:lnTo>
                <a:lnTo>
                  <a:pt x="114" y="58"/>
                </a:lnTo>
                <a:lnTo>
                  <a:pt x="110" y="46"/>
                </a:lnTo>
                <a:lnTo>
                  <a:pt x="87" y="63"/>
                </a:lnTo>
                <a:lnTo>
                  <a:pt x="95" y="163"/>
                </a:lnTo>
                <a:lnTo>
                  <a:pt x="0" y="264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0" name="Freeform 142"/>
          <p:cNvSpPr/>
          <p:nvPr/>
        </p:nvSpPr>
        <p:spPr>
          <a:xfrm>
            <a:off x="2384280" y="2782800"/>
            <a:ext cx="876600" cy="712800"/>
          </a:xfrm>
          <a:custGeom>
            <a:avLst/>
            <a:gdLst>
              <a:gd name="textAreaLeft" fmla="*/ 0 w 876600"/>
              <a:gd name="textAreaRight" fmla="*/ 876960 w 8766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268" h="901">
                <a:moveTo>
                  <a:pt x="0" y="774"/>
                </a:moveTo>
                <a:lnTo>
                  <a:pt x="39" y="577"/>
                </a:lnTo>
                <a:lnTo>
                  <a:pt x="131" y="96"/>
                </a:lnTo>
                <a:lnTo>
                  <a:pt x="153" y="0"/>
                </a:lnTo>
                <a:lnTo>
                  <a:pt x="650" y="63"/>
                </a:lnTo>
                <a:lnTo>
                  <a:pt x="1268" y="118"/>
                </a:lnTo>
                <a:lnTo>
                  <a:pt x="1226" y="510"/>
                </a:lnTo>
                <a:lnTo>
                  <a:pt x="1183" y="901"/>
                </a:lnTo>
                <a:lnTo>
                  <a:pt x="339" y="817"/>
                </a:lnTo>
                <a:lnTo>
                  <a:pt x="0" y="7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1" name="Freeform 143"/>
          <p:cNvSpPr/>
          <p:nvPr/>
        </p:nvSpPr>
        <p:spPr>
          <a:xfrm>
            <a:off x="2384280" y="2782800"/>
            <a:ext cx="876600" cy="712800"/>
          </a:xfrm>
          <a:custGeom>
            <a:avLst/>
            <a:gdLst>
              <a:gd name="textAreaLeft" fmla="*/ 0 w 876600"/>
              <a:gd name="textAreaRight" fmla="*/ 876960 w 8766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268" h="901">
                <a:moveTo>
                  <a:pt x="0" y="774"/>
                </a:moveTo>
                <a:lnTo>
                  <a:pt x="39" y="577"/>
                </a:lnTo>
                <a:lnTo>
                  <a:pt x="131" y="96"/>
                </a:lnTo>
                <a:lnTo>
                  <a:pt x="153" y="0"/>
                </a:lnTo>
                <a:lnTo>
                  <a:pt x="650" y="63"/>
                </a:lnTo>
                <a:lnTo>
                  <a:pt x="1268" y="118"/>
                </a:lnTo>
                <a:lnTo>
                  <a:pt x="1226" y="510"/>
                </a:lnTo>
                <a:lnTo>
                  <a:pt x="1183" y="901"/>
                </a:lnTo>
                <a:lnTo>
                  <a:pt x="339" y="817"/>
                </a:lnTo>
                <a:lnTo>
                  <a:pt x="0" y="774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2" name="Freeform 144"/>
          <p:cNvSpPr/>
          <p:nvPr/>
        </p:nvSpPr>
        <p:spPr>
          <a:xfrm>
            <a:off x="5516640" y="4467240"/>
            <a:ext cx="282600" cy="214200"/>
          </a:xfrm>
          <a:custGeom>
            <a:avLst/>
            <a:gdLst>
              <a:gd name="textAreaLeft" fmla="*/ 0 w 282600"/>
              <a:gd name="textAreaRight" fmla="*/ 282960 w 2826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408" h="269">
                <a:moveTo>
                  <a:pt x="0" y="166"/>
                </a:moveTo>
                <a:lnTo>
                  <a:pt x="71" y="105"/>
                </a:lnTo>
                <a:lnTo>
                  <a:pt x="71" y="41"/>
                </a:lnTo>
                <a:lnTo>
                  <a:pt x="131" y="21"/>
                </a:lnTo>
                <a:lnTo>
                  <a:pt x="202" y="0"/>
                </a:lnTo>
                <a:lnTo>
                  <a:pt x="310" y="21"/>
                </a:lnTo>
                <a:lnTo>
                  <a:pt x="323" y="74"/>
                </a:lnTo>
                <a:lnTo>
                  <a:pt x="335" y="105"/>
                </a:lnTo>
                <a:lnTo>
                  <a:pt x="408" y="156"/>
                </a:lnTo>
                <a:lnTo>
                  <a:pt x="408" y="189"/>
                </a:lnTo>
                <a:lnTo>
                  <a:pt x="408" y="269"/>
                </a:lnTo>
                <a:lnTo>
                  <a:pt x="383" y="269"/>
                </a:lnTo>
                <a:lnTo>
                  <a:pt x="350" y="238"/>
                </a:lnTo>
                <a:lnTo>
                  <a:pt x="263" y="218"/>
                </a:lnTo>
                <a:lnTo>
                  <a:pt x="250" y="230"/>
                </a:lnTo>
                <a:lnTo>
                  <a:pt x="154" y="259"/>
                </a:lnTo>
                <a:lnTo>
                  <a:pt x="131" y="218"/>
                </a:lnTo>
                <a:lnTo>
                  <a:pt x="23" y="230"/>
                </a:lnTo>
                <a:lnTo>
                  <a:pt x="11" y="156"/>
                </a:lnTo>
                <a:lnTo>
                  <a:pt x="154" y="136"/>
                </a:lnTo>
                <a:lnTo>
                  <a:pt x="0" y="16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3" name="Freeform 145"/>
          <p:cNvSpPr/>
          <p:nvPr/>
        </p:nvSpPr>
        <p:spPr>
          <a:xfrm>
            <a:off x="4352760" y="2786040"/>
            <a:ext cx="158760" cy="204840"/>
          </a:xfrm>
          <a:custGeom>
            <a:avLst/>
            <a:gdLst>
              <a:gd name="textAreaLeft" fmla="*/ 0 w 158760"/>
              <a:gd name="textAreaRight" fmla="*/ 159120 w 15876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29" h="257">
                <a:moveTo>
                  <a:pt x="204" y="49"/>
                </a:moveTo>
                <a:lnTo>
                  <a:pt x="108" y="49"/>
                </a:lnTo>
                <a:lnTo>
                  <a:pt x="119" y="8"/>
                </a:lnTo>
                <a:lnTo>
                  <a:pt x="11" y="0"/>
                </a:lnTo>
                <a:lnTo>
                  <a:pt x="23" y="123"/>
                </a:lnTo>
                <a:lnTo>
                  <a:pt x="48" y="154"/>
                </a:lnTo>
                <a:lnTo>
                  <a:pt x="0" y="207"/>
                </a:lnTo>
                <a:lnTo>
                  <a:pt x="59" y="257"/>
                </a:lnTo>
                <a:lnTo>
                  <a:pt x="119" y="226"/>
                </a:lnTo>
                <a:lnTo>
                  <a:pt x="204" y="207"/>
                </a:lnTo>
                <a:lnTo>
                  <a:pt x="229" y="197"/>
                </a:lnTo>
                <a:lnTo>
                  <a:pt x="229" y="133"/>
                </a:lnTo>
                <a:lnTo>
                  <a:pt x="216" y="82"/>
                </a:lnTo>
                <a:lnTo>
                  <a:pt x="216" y="41"/>
                </a:lnTo>
                <a:lnTo>
                  <a:pt x="181" y="70"/>
                </a:lnTo>
                <a:lnTo>
                  <a:pt x="204" y="4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4" name="Rectangle 158"/>
          <p:cNvSpPr/>
          <p:nvPr/>
        </p:nvSpPr>
        <p:spPr>
          <a:xfrm>
            <a:off x="6705720" y="46036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5" name="Rectangle 159"/>
          <p:cNvSpPr/>
          <p:nvPr/>
        </p:nvSpPr>
        <p:spPr>
          <a:xfrm>
            <a:off x="6705720" y="501336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6" name="Text Box 162"/>
          <p:cNvSpPr/>
          <p:nvPr/>
        </p:nvSpPr>
        <p:spPr>
          <a:xfrm>
            <a:off x="6934320" y="4572000"/>
            <a:ext cx="2209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Widespread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Sporadic isolate(s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7" name="Text Box 171"/>
          <p:cNvSpPr/>
          <p:nvPr/>
        </p:nvSpPr>
        <p:spPr>
          <a:xfrm>
            <a:off x="60800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8" name="Freeform 177"/>
          <p:cNvSpPr/>
          <p:nvPr/>
        </p:nvSpPr>
        <p:spPr>
          <a:xfrm>
            <a:off x="6734160" y="31701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78" h="109">
                <a:moveTo>
                  <a:pt x="7" y="105"/>
                </a:moveTo>
                <a:lnTo>
                  <a:pt x="4" y="107"/>
                </a:lnTo>
                <a:lnTo>
                  <a:pt x="2" y="109"/>
                </a:lnTo>
                <a:lnTo>
                  <a:pt x="0" y="107"/>
                </a:lnTo>
                <a:lnTo>
                  <a:pt x="0" y="105"/>
                </a:lnTo>
                <a:lnTo>
                  <a:pt x="0" y="103"/>
                </a:lnTo>
                <a:lnTo>
                  <a:pt x="0" y="102"/>
                </a:lnTo>
                <a:lnTo>
                  <a:pt x="0" y="98"/>
                </a:lnTo>
                <a:lnTo>
                  <a:pt x="0" y="97"/>
                </a:lnTo>
                <a:lnTo>
                  <a:pt x="0" y="95"/>
                </a:lnTo>
                <a:lnTo>
                  <a:pt x="2" y="92"/>
                </a:lnTo>
                <a:lnTo>
                  <a:pt x="4" y="88"/>
                </a:lnTo>
                <a:lnTo>
                  <a:pt x="6" y="85"/>
                </a:lnTo>
                <a:lnTo>
                  <a:pt x="7" y="83"/>
                </a:lnTo>
                <a:lnTo>
                  <a:pt x="9" y="81"/>
                </a:lnTo>
                <a:lnTo>
                  <a:pt x="11" y="80"/>
                </a:lnTo>
                <a:lnTo>
                  <a:pt x="12" y="80"/>
                </a:lnTo>
                <a:lnTo>
                  <a:pt x="16" y="78"/>
                </a:lnTo>
                <a:lnTo>
                  <a:pt x="19" y="76"/>
                </a:lnTo>
                <a:lnTo>
                  <a:pt x="21" y="73"/>
                </a:lnTo>
                <a:lnTo>
                  <a:pt x="22" y="70"/>
                </a:lnTo>
                <a:lnTo>
                  <a:pt x="22" y="68"/>
                </a:lnTo>
                <a:lnTo>
                  <a:pt x="24" y="65"/>
                </a:lnTo>
                <a:lnTo>
                  <a:pt x="24" y="61"/>
                </a:lnTo>
                <a:lnTo>
                  <a:pt x="26" y="61"/>
                </a:lnTo>
                <a:lnTo>
                  <a:pt x="26" y="59"/>
                </a:lnTo>
                <a:lnTo>
                  <a:pt x="28" y="59"/>
                </a:lnTo>
                <a:lnTo>
                  <a:pt x="31" y="58"/>
                </a:lnTo>
                <a:lnTo>
                  <a:pt x="34" y="58"/>
                </a:lnTo>
                <a:lnTo>
                  <a:pt x="38" y="56"/>
                </a:lnTo>
                <a:lnTo>
                  <a:pt x="39" y="54"/>
                </a:lnTo>
                <a:lnTo>
                  <a:pt x="41" y="53"/>
                </a:lnTo>
                <a:lnTo>
                  <a:pt x="43" y="51"/>
                </a:lnTo>
                <a:lnTo>
                  <a:pt x="63" y="53"/>
                </a:lnTo>
                <a:lnTo>
                  <a:pt x="63" y="51"/>
                </a:lnTo>
                <a:lnTo>
                  <a:pt x="65" y="49"/>
                </a:lnTo>
                <a:lnTo>
                  <a:pt x="65" y="48"/>
                </a:lnTo>
                <a:lnTo>
                  <a:pt x="66" y="46"/>
                </a:lnTo>
                <a:lnTo>
                  <a:pt x="68" y="43"/>
                </a:lnTo>
                <a:lnTo>
                  <a:pt x="70" y="41"/>
                </a:lnTo>
                <a:lnTo>
                  <a:pt x="73" y="39"/>
                </a:lnTo>
                <a:lnTo>
                  <a:pt x="77" y="39"/>
                </a:lnTo>
                <a:lnTo>
                  <a:pt x="80" y="39"/>
                </a:lnTo>
                <a:lnTo>
                  <a:pt x="82" y="37"/>
                </a:lnTo>
                <a:lnTo>
                  <a:pt x="83" y="37"/>
                </a:lnTo>
                <a:lnTo>
                  <a:pt x="94" y="36"/>
                </a:lnTo>
                <a:lnTo>
                  <a:pt x="100" y="34"/>
                </a:lnTo>
                <a:lnTo>
                  <a:pt x="105" y="31"/>
                </a:lnTo>
                <a:lnTo>
                  <a:pt x="109" y="29"/>
                </a:lnTo>
                <a:lnTo>
                  <a:pt x="112" y="27"/>
                </a:lnTo>
                <a:lnTo>
                  <a:pt x="116" y="24"/>
                </a:lnTo>
                <a:lnTo>
                  <a:pt x="119" y="19"/>
                </a:lnTo>
                <a:lnTo>
                  <a:pt x="124" y="12"/>
                </a:lnTo>
                <a:lnTo>
                  <a:pt x="132" y="4"/>
                </a:lnTo>
                <a:lnTo>
                  <a:pt x="138" y="0"/>
                </a:lnTo>
                <a:lnTo>
                  <a:pt x="138" y="2"/>
                </a:lnTo>
                <a:lnTo>
                  <a:pt x="136" y="7"/>
                </a:lnTo>
                <a:lnTo>
                  <a:pt x="132" y="10"/>
                </a:lnTo>
                <a:lnTo>
                  <a:pt x="131" y="14"/>
                </a:lnTo>
                <a:lnTo>
                  <a:pt x="129" y="15"/>
                </a:lnTo>
                <a:lnTo>
                  <a:pt x="129" y="17"/>
                </a:lnTo>
                <a:lnTo>
                  <a:pt x="127" y="19"/>
                </a:lnTo>
                <a:lnTo>
                  <a:pt x="127" y="21"/>
                </a:lnTo>
                <a:lnTo>
                  <a:pt x="126" y="21"/>
                </a:lnTo>
                <a:lnTo>
                  <a:pt x="122" y="26"/>
                </a:lnTo>
                <a:lnTo>
                  <a:pt x="119" y="29"/>
                </a:lnTo>
                <a:lnTo>
                  <a:pt x="117" y="32"/>
                </a:lnTo>
                <a:lnTo>
                  <a:pt x="116" y="34"/>
                </a:lnTo>
                <a:lnTo>
                  <a:pt x="116" y="36"/>
                </a:lnTo>
                <a:lnTo>
                  <a:pt x="116" y="37"/>
                </a:lnTo>
                <a:lnTo>
                  <a:pt x="119" y="36"/>
                </a:lnTo>
                <a:lnTo>
                  <a:pt x="122" y="36"/>
                </a:lnTo>
                <a:lnTo>
                  <a:pt x="124" y="37"/>
                </a:lnTo>
                <a:lnTo>
                  <a:pt x="122" y="39"/>
                </a:lnTo>
                <a:lnTo>
                  <a:pt x="122" y="41"/>
                </a:lnTo>
                <a:lnTo>
                  <a:pt x="122" y="43"/>
                </a:lnTo>
                <a:lnTo>
                  <a:pt x="121" y="48"/>
                </a:lnTo>
                <a:lnTo>
                  <a:pt x="122" y="48"/>
                </a:lnTo>
                <a:lnTo>
                  <a:pt x="124" y="46"/>
                </a:lnTo>
                <a:lnTo>
                  <a:pt x="126" y="46"/>
                </a:lnTo>
                <a:lnTo>
                  <a:pt x="129" y="43"/>
                </a:lnTo>
                <a:lnTo>
                  <a:pt x="132" y="41"/>
                </a:lnTo>
                <a:lnTo>
                  <a:pt x="132" y="39"/>
                </a:lnTo>
                <a:lnTo>
                  <a:pt x="129" y="34"/>
                </a:lnTo>
                <a:lnTo>
                  <a:pt x="129" y="31"/>
                </a:lnTo>
                <a:lnTo>
                  <a:pt x="131" y="26"/>
                </a:lnTo>
                <a:lnTo>
                  <a:pt x="136" y="22"/>
                </a:lnTo>
                <a:lnTo>
                  <a:pt x="139" y="19"/>
                </a:lnTo>
                <a:lnTo>
                  <a:pt x="144" y="15"/>
                </a:lnTo>
                <a:lnTo>
                  <a:pt x="148" y="14"/>
                </a:lnTo>
                <a:lnTo>
                  <a:pt x="149" y="12"/>
                </a:lnTo>
                <a:lnTo>
                  <a:pt x="154" y="12"/>
                </a:lnTo>
                <a:lnTo>
                  <a:pt x="160" y="14"/>
                </a:lnTo>
                <a:lnTo>
                  <a:pt x="161" y="14"/>
                </a:lnTo>
                <a:lnTo>
                  <a:pt x="163" y="12"/>
                </a:lnTo>
                <a:lnTo>
                  <a:pt x="165" y="9"/>
                </a:lnTo>
                <a:lnTo>
                  <a:pt x="166" y="9"/>
                </a:lnTo>
                <a:lnTo>
                  <a:pt x="171" y="4"/>
                </a:lnTo>
                <a:lnTo>
                  <a:pt x="175" y="0"/>
                </a:lnTo>
                <a:lnTo>
                  <a:pt x="176" y="0"/>
                </a:lnTo>
                <a:lnTo>
                  <a:pt x="178" y="2"/>
                </a:lnTo>
                <a:lnTo>
                  <a:pt x="178" y="4"/>
                </a:lnTo>
                <a:lnTo>
                  <a:pt x="176" y="7"/>
                </a:lnTo>
                <a:lnTo>
                  <a:pt x="175" y="9"/>
                </a:lnTo>
                <a:lnTo>
                  <a:pt x="170" y="14"/>
                </a:lnTo>
                <a:lnTo>
                  <a:pt x="165" y="17"/>
                </a:lnTo>
                <a:lnTo>
                  <a:pt x="160" y="22"/>
                </a:lnTo>
                <a:lnTo>
                  <a:pt x="154" y="27"/>
                </a:lnTo>
                <a:lnTo>
                  <a:pt x="148" y="31"/>
                </a:lnTo>
                <a:lnTo>
                  <a:pt x="143" y="36"/>
                </a:lnTo>
                <a:lnTo>
                  <a:pt x="138" y="39"/>
                </a:lnTo>
                <a:lnTo>
                  <a:pt x="132" y="44"/>
                </a:lnTo>
                <a:lnTo>
                  <a:pt x="127" y="48"/>
                </a:lnTo>
                <a:lnTo>
                  <a:pt x="122" y="51"/>
                </a:lnTo>
                <a:lnTo>
                  <a:pt x="119" y="54"/>
                </a:lnTo>
                <a:lnTo>
                  <a:pt x="116" y="58"/>
                </a:lnTo>
                <a:lnTo>
                  <a:pt x="112" y="59"/>
                </a:lnTo>
                <a:lnTo>
                  <a:pt x="110" y="61"/>
                </a:lnTo>
                <a:lnTo>
                  <a:pt x="109" y="63"/>
                </a:lnTo>
                <a:lnTo>
                  <a:pt x="97" y="71"/>
                </a:lnTo>
                <a:lnTo>
                  <a:pt x="88" y="76"/>
                </a:lnTo>
                <a:lnTo>
                  <a:pt x="85" y="78"/>
                </a:lnTo>
                <a:lnTo>
                  <a:pt x="85" y="76"/>
                </a:lnTo>
                <a:lnTo>
                  <a:pt x="87" y="73"/>
                </a:lnTo>
                <a:lnTo>
                  <a:pt x="88" y="71"/>
                </a:lnTo>
                <a:lnTo>
                  <a:pt x="90" y="70"/>
                </a:lnTo>
                <a:lnTo>
                  <a:pt x="97" y="61"/>
                </a:lnTo>
                <a:lnTo>
                  <a:pt x="100" y="58"/>
                </a:lnTo>
                <a:lnTo>
                  <a:pt x="97" y="58"/>
                </a:lnTo>
                <a:lnTo>
                  <a:pt x="94" y="59"/>
                </a:lnTo>
                <a:lnTo>
                  <a:pt x="87" y="65"/>
                </a:lnTo>
                <a:lnTo>
                  <a:pt x="80" y="68"/>
                </a:lnTo>
                <a:lnTo>
                  <a:pt x="75" y="71"/>
                </a:lnTo>
                <a:lnTo>
                  <a:pt x="73" y="73"/>
                </a:lnTo>
                <a:lnTo>
                  <a:pt x="61" y="76"/>
                </a:lnTo>
                <a:lnTo>
                  <a:pt x="61" y="78"/>
                </a:lnTo>
                <a:lnTo>
                  <a:pt x="58" y="80"/>
                </a:lnTo>
                <a:lnTo>
                  <a:pt x="55" y="81"/>
                </a:lnTo>
                <a:lnTo>
                  <a:pt x="51" y="85"/>
                </a:lnTo>
                <a:lnTo>
                  <a:pt x="48" y="87"/>
                </a:lnTo>
                <a:lnTo>
                  <a:pt x="44" y="90"/>
                </a:lnTo>
                <a:lnTo>
                  <a:pt x="41" y="92"/>
                </a:lnTo>
                <a:lnTo>
                  <a:pt x="39" y="92"/>
                </a:lnTo>
                <a:lnTo>
                  <a:pt x="29" y="100"/>
                </a:lnTo>
                <a:lnTo>
                  <a:pt x="21" y="105"/>
                </a:lnTo>
                <a:lnTo>
                  <a:pt x="16" y="109"/>
                </a:lnTo>
                <a:lnTo>
                  <a:pt x="14" y="109"/>
                </a:lnTo>
                <a:lnTo>
                  <a:pt x="12" y="109"/>
                </a:lnTo>
                <a:lnTo>
                  <a:pt x="12" y="107"/>
                </a:lnTo>
                <a:lnTo>
                  <a:pt x="14" y="105"/>
                </a:lnTo>
                <a:lnTo>
                  <a:pt x="16" y="103"/>
                </a:lnTo>
                <a:lnTo>
                  <a:pt x="17" y="102"/>
                </a:lnTo>
                <a:lnTo>
                  <a:pt x="19" y="98"/>
                </a:lnTo>
                <a:lnTo>
                  <a:pt x="19" y="97"/>
                </a:lnTo>
                <a:lnTo>
                  <a:pt x="19" y="95"/>
                </a:lnTo>
                <a:lnTo>
                  <a:pt x="16" y="97"/>
                </a:lnTo>
                <a:lnTo>
                  <a:pt x="12" y="98"/>
                </a:lnTo>
                <a:lnTo>
                  <a:pt x="7" y="10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e5b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9" name="Text Box 179"/>
          <p:cNvSpPr/>
          <p:nvPr/>
        </p:nvSpPr>
        <p:spPr>
          <a:xfrm>
            <a:off x="690840" y="6172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558800" y="325440"/>
            <a:ext cx="53546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Arial Narrow"/>
                <a:ea typeface="Arial"/>
              </a:rPr>
              <a:t>Geographical Distribution of KPC-Producers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1" name="TextBox 151"/>
          <p:cNvSpPr/>
          <p:nvPr/>
        </p:nvSpPr>
        <p:spPr>
          <a:xfrm>
            <a:off x="5540400" y="6537240"/>
            <a:ext cx="358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olas"/>
              </a:rPr>
              <a:t>Centers for Disease Control and Prevention.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2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2355-4304-41C6-950D-F5530DA1389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epidemiology of MDRO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 of transmissi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of infecti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le of environ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specific MDRO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vention strategie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act Precau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s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18EC-65E4-42ED-8FA5-43E6D7824CD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86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Freeform 2"/>
          <p:cNvSpPr/>
          <p:nvPr/>
        </p:nvSpPr>
        <p:spPr>
          <a:xfrm>
            <a:off x="5137200" y="4413240"/>
            <a:ext cx="473040" cy="763560"/>
          </a:xfrm>
          <a:custGeom>
            <a:avLst/>
            <a:gdLst>
              <a:gd name="textAreaLeft" fmla="*/ 0 w 473040"/>
              <a:gd name="textAreaRight" fmla="*/ 473400 w 4730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686" h="962">
                <a:moveTo>
                  <a:pt x="0" y="36"/>
                </a:moveTo>
                <a:lnTo>
                  <a:pt x="16" y="55"/>
                </a:lnTo>
                <a:lnTo>
                  <a:pt x="0" y="647"/>
                </a:lnTo>
                <a:lnTo>
                  <a:pt x="41" y="935"/>
                </a:lnTo>
                <a:lnTo>
                  <a:pt x="91" y="943"/>
                </a:lnTo>
                <a:lnTo>
                  <a:pt x="110" y="854"/>
                </a:lnTo>
                <a:lnTo>
                  <a:pt x="128" y="878"/>
                </a:lnTo>
                <a:lnTo>
                  <a:pt x="131" y="921"/>
                </a:lnTo>
                <a:lnTo>
                  <a:pt x="158" y="941"/>
                </a:lnTo>
                <a:lnTo>
                  <a:pt x="120" y="962"/>
                </a:lnTo>
                <a:lnTo>
                  <a:pt x="214" y="940"/>
                </a:lnTo>
                <a:lnTo>
                  <a:pt x="234" y="914"/>
                </a:lnTo>
                <a:lnTo>
                  <a:pt x="218" y="899"/>
                </a:lnTo>
                <a:lnTo>
                  <a:pt x="230" y="875"/>
                </a:lnTo>
                <a:lnTo>
                  <a:pt x="180" y="835"/>
                </a:lnTo>
                <a:lnTo>
                  <a:pt x="184" y="806"/>
                </a:lnTo>
                <a:lnTo>
                  <a:pt x="686" y="769"/>
                </a:lnTo>
                <a:lnTo>
                  <a:pt x="642" y="614"/>
                </a:lnTo>
                <a:lnTo>
                  <a:pt x="650" y="560"/>
                </a:lnTo>
                <a:lnTo>
                  <a:pt x="669" y="525"/>
                </a:lnTo>
                <a:lnTo>
                  <a:pt x="652" y="472"/>
                </a:lnTo>
                <a:lnTo>
                  <a:pt x="605" y="407"/>
                </a:lnTo>
                <a:lnTo>
                  <a:pt x="476" y="0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4" name="Freeform 3"/>
          <p:cNvSpPr/>
          <p:nvPr/>
        </p:nvSpPr>
        <p:spPr>
          <a:xfrm>
            <a:off x="5137200" y="4413240"/>
            <a:ext cx="473040" cy="763560"/>
          </a:xfrm>
          <a:custGeom>
            <a:avLst/>
            <a:gdLst>
              <a:gd name="textAreaLeft" fmla="*/ 0 w 473040"/>
              <a:gd name="textAreaRight" fmla="*/ 473400 w 4730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686" h="962">
                <a:moveTo>
                  <a:pt x="0" y="36"/>
                </a:moveTo>
                <a:lnTo>
                  <a:pt x="16" y="55"/>
                </a:lnTo>
                <a:lnTo>
                  <a:pt x="0" y="647"/>
                </a:lnTo>
                <a:lnTo>
                  <a:pt x="41" y="935"/>
                </a:lnTo>
                <a:lnTo>
                  <a:pt x="91" y="943"/>
                </a:lnTo>
                <a:lnTo>
                  <a:pt x="110" y="854"/>
                </a:lnTo>
                <a:lnTo>
                  <a:pt x="128" y="878"/>
                </a:lnTo>
                <a:lnTo>
                  <a:pt x="131" y="921"/>
                </a:lnTo>
                <a:lnTo>
                  <a:pt x="158" y="941"/>
                </a:lnTo>
                <a:lnTo>
                  <a:pt x="120" y="962"/>
                </a:lnTo>
                <a:lnTo>
                  <a:pt x="214" y="940"/>
                </a:lnTo>
                <a:lnTo>
                  <a:pt x="234" y="914"/>
                </a:lnTo>
                <a:lnTo>
                  <a:pt x="218" y="899"/>
                </a:lnTo>
                <a:lnTo>
                  <a:pt x="230" y="875"/>
                </a:lnTo>
                <a:lnTo>
                  <a:pt x="180" y="835"/>
                </a:lnTo>
                <a:lnTo>
                  <a:pt x="184" y="806"/>
                </a:lnTo>
                <a:lnTo>
                  <a:pt x="686" y="769"/>
                </a:lnTo>
                <a:lnTo>
                  <a:pt x="642" y="614"/>
                </a:lnTo>
                <a:lnTo>
                  <a:pt x="650" y="560"/>
                </a:lnTo>
                <a:lnTo>
                  <a:pt x="669" y="525"/>
                </a:lnTo>
                <a:lnTo>
                  <a:pt x="652" y="472"/>
                </a:lnTo>
                <a:lnTo>
                  <a:pt x="605" y="407"/>
                </a:lnTo>
                <a:lnTo>
                  <a:pt x="476" y="0"/>
                </a:lnTo>
                <a:lnTo>
                  <a:pt x="0" y="36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5" name="Freeform 4"/>
          <p:cNvSpPr/>
          <p:nvPr/>
        </p:nvSpPr>
        <p:spPr>
          <a:xfrm>
            <a:off x="1069920" y="5842080"/>
            <a:ext cx="63720" cy="28440"/>
          </a:xfrm>
          <a:custGeom>
            <a:avLst/>
            <a:gdLst>
              <a:gd name="textAreaLeft" fmla="*/ 0 w 63720"/>
              <a:gd name="textAreaRight" fmla="*/ 64080 w 637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8" h="38">
                <a:moveTo>
                  <a:pt x="0" y="38"/>
                </a:moveTo>
                <a:lnTo>
                  <a:pt x="23" y="17"/>
                </a:lnTo>
                <a:lnTo>
                  <a:pt x="84" y="0"/>
                </a:lnTo>
                <a:lnTo>
                  <a:pt x="88" y="7"/>
                </a:lnTo>
                <a:lnTo>
                  <a:pt x="0" y="3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6" name="Freeform 5"/>
          <p:cNvSpPr/>
          <p:nvPr/>
        </p:nvSpPr>
        <p:spPr>
          <a:xfrm>
            <a:off x="1069920" y="5842080"/>
            <a:ext cx="63720" cy="28440"/>
          </a:xfrm>
          <a:custGeom>
            <a:avLst/>
            <a:gdLst>
              <a:gd name="textAreaLeft" fmla="*/ 0 w 63720"/>
              <a:gd name="textAreaRight" fmla="*/ 64080 w 637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88" h="38">
                <a:moveTo>
                  <a:pt x="0" y="38"/>
                </a:moveTo>
                <a:lnTo>
                  <a:pt x="23" y="17"/>
                </a:lnTo>
                <a:lnTo>
                  <a:pt x="84" y="0"/>
                </a:lnTo>
                <a:lnTo>
                  <a:pt x="88" y="7"/>
                </a:lnTo>
                <a:lnTo>
                  <a:pt x="0" y="3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7" name="Freeform 6"/>
          <p:cNvSpPr/>
          <p:nvPr/>
        </p:nvSpPr>
        <p:spPr>
          <a:xfrm>
            <a:off x="1162080" y="582768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0" h="31">
                <a:moveTo>
                  <a:pt x="0" y="31"/>
                </a:moveTo>
                <a:lnTo>
                  <a:pt x="11" y="0"/>
                </a:lnTo>
                <a:lnTo>
                  <a:pt x="50" y="7"/>
                </a:lnTo>
                <a:lnTo>
                  <a:pt x="46" y="24"/>
                </a:lnTo>
                <a:lnTo>
                  <a:pt x="0" y="3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8" name="Freeform 7"/>
          <p:cNvSpPr/>
          <p:nvPr/>
        </p:nvSpPr>
        <p:spPr>
          <a:xfrm>
            <a:off x="1162080" y="5827680"/>
            <a:ext cx="33480" cy="23760"/>
          </a:xfrm>
          <a:custGeom>
            <a:avLst/>
            <a:gdLst>
              <a:gd name="textAreaLeft" fmla="*/ 0 w 33480"/>
              <a:gd name="textAreaRight" fmla="*/ 33840 w 33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0" h="31">
                <a:moveTo>
                  <a:pt x="0" y="31"/>
                </a:moveTo>
                <a:lnTo>
                  <a:pt x="11" y="0"/>
                </a:lnTo>
                <a:lnTo>
                  <a:pt x="50" y="7"/>
                </a:lnTo>
                <a:lnTo>
                  <a:pt x="46" y="24"/>
                </a:lnTo>
                <a:lnTo>
                  <a:pt x="0" y="3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9" name="Freeform 8"/>
          <p:cNvSpPr/>
          <p:nvPr/>
        </p:nvSpPr>
        <p:spPr>
          <a:xfrm>
            <a:off x="1239840" y="5800680"/>
            <a:ext cx="68400" cy="23760"/>
          </a:xfrm>
          <a:custGeom>
            <a:avLst/>
            <a:gdLst>
              <a:gd name="textAreaLeft" fmla="*/ 0 w 68400"/>
              <a:gd name="textAreaRight" fmla="*/ 68760 w 684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99" h="30">
                <a:moveTo>
                  <a:pt x="0" y="30"/>
                </a:moveTo>
                <a:lnTo>
                  <a:pt x="24" y="0"/>
                </a:lnTo>
                <a:lnTo>
                  <a:pt x="83" y="0"/>
                </a:lnTo>
                <a:lnTo>
                  <a:pt x="99" y="30"/>
                </a:lnTo>
                <a:lnTo>
                  <a:pt x="35" y="22"/>
                </a:lnTo>
                <a:lnTo>
                  <a:pt x="0" y="3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0" name="Freeform 9"/>
          <p:cNvSpPr/>
          <p:nvPr/>
        </p:nvSpPr>
        <p:spPr>
          <a:xfrm>
            <a:off x="1239840" y="5800680"/>
            <a:ext cx="68400" cy="23760"/>
          </a:xfrm>
          <a:custGeom>
            <a:avLst/>
            <a:gdLst>
              <a:gd name="textAreaLeft" fmla="*/ 0 w 68400"/>
              <a:gd name="textAreaRight" fmla="*/ 68760 w 684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99" h="30">
                <a:moveTo>
                  <a:pt x="0" y="30"/>
                </a:moveTo>
                <a:lnTo>
                  <a:pt x="24" y="0"/>
                </a:lnTo>
                <a:lnTo>
                  <a:pt x="83" y="0"/>
                </a:lnTo>
                <a:lnTo>
                  <a:pt x="99" y="30"/>
                </a:lnTo>
                <a:lnTo>
                  <a:pt x="35" y="22"/>
                </a:lnTo>
                <a:lnTo>
                  <a:pt x="0" y="3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1" name="Freeform 10"/>
          <p:cNvSpPr/>
          <p:nvPr/>
        </p:nvSpPr>
        <p:spPr>
          <a:xfrm>
            <a:off x="1301760" y="4853160"/>
            <a:ext cx="1200240" cy="100008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740" h="1261">
                <a:moveTo>
                  <a:pt x="0" y="1205"/>
                </a:moveTo>
                <a:lnTo>
                  <a:pt x="15" y="1183"/>
                </a:lnTo>
                <a:lnTo>
                  <a:pt x="27" y="1186"/>
                </a:lnTo>
                <a:lnTo>
                  <a:pt x="100" y="1143"/>
                </a:lnTo>
                <a:lnTo>
                  <a:pt x="144" y="1152"/>
                </a:lnTo>
                <a:lnTo>
                  <a:pt x="152" y="1167"/>
                </a:lnTo>
                <a:lnTo>
                  <a:pt x="158" y="1150"/>
                </a:lnTo>
                <a:lnTo>
                  <a:pt x="200" y="1124"/>
                </a:lnTo>
                <a:lnTo>
                  <a:pt x="270" y="1104"/>
                </a:lnTo>
                <a:lnTo>
                  <a:pt x="331" y="1059"/>
                </a:lnTo>
                <a:lnTo>
                  <a:pt x="343" y="1063"/>
                </a:lnTo>
                <a:lnTo>
                  <a:pt x="354" y="1006"/>
                </a:lnTo>
                <a:lnTo>
                  <a:pt x="393" y="965"/>
                </a:lnTo>
                <a:lnTo>
                  <a:pt x="329" y="969"/>
                </a:lnTo>
                <a:lnTo>
                  <a:pt x="339" y="946"/>
                </a:lnTo>
                <a:lnTo>
                  <a:pt x="358" y="948"/>
                </a:lnTo>
                <a:lnTo>
                  <a:pt x="339" y="938"/>
                </a:lnTo>
                <a:lnTo>
                  <a:pt x="308" y="965"/>
                </a:lnTo>
                <a:lnTo>
                  <a:pt x="304" y="982"/>
                </a:lnTo>
                <a:lnTo>
                  <a:pt x="268" y="941"/>
                </a:lnTo>
                <a:lnTo>
                  <a:pt x="256" y="946"/>
                </a:lnTo>
                <a:lnTo>
                  <a:pt x="237" y="926"/>
                </a:lnTo>
                <a:lnTo>
                  <a:pt x="189" y="943"/>
                </a:lnTo>
                <a:lnTo>
                  <a:pt x="177" y="945"/>
                </a:lnTo>
                <a:lnTo>
                  <a:pt x="137" y="934"/>
                </a:lnTo>
                <a:lnTo>
                  <a:pt x="177" y="905"/>
                </a:lnTo>
                <a:lnTo>
                  <a:pt x="168" y="897"/>
                </a:lnTo>
                <a:lnTo>
                  <a:pt x="179" y="876"/>
                </a:lnTo>
                <a:lnTo>
                  <a:pt x="171" y="815"/>
                </a:lnTo>
                <a:lnTo>
                  <a:pt x="195" y="784"/>
                </a:lnTo>
                <a:lnTo>
                  <a:pt x="160" y="806"/>
                </a:lnTo>
                <a:lnTo>
                  <a:pt x="160" y="827"/>
                </a:lnTo>
                <a:lnTo>
                  <a:pt x="129" y="844"/>
                </a:lnTo>
                <a:lnTo>
                  <a:pt x="89" y="832"/>
                </a:lnTo>
                <a:lnTo>
                  <a:pt x="77" y="784"/>
                </a:lnTo>
                <a:lnTo>
                  <a:pt x="48" y="763"/>
                </a:lnTo>
                <a:lnTo>
                  <a:pt x="50" y="748"/>
                </a:lnTo>
                <a:lnTo>
                  <a:pt x="65" y="748"/>
                </a:lnTo>
                <a:lnTo>
                  <a:pt x="75" y="736"/>
                </a:lnTo>
                <a:lnTo>
                  <a:pt x="89" y="732"/>
                </a:lnTo>
                <a:lnTo>
                  <a:pt x="75" y="731"/>
                </a:lnTo>
                <a:lnTo>
                  <a:pt x="85" y="722"/>
                </a:lnTo>
                <a:lnTo>
                  <a:pt x="69" y="705"/>
                </a:lnTo>
                <a:lnTo>
                  <a:pt x="62" y="714"/>
                </a:lnTo>
                <a:lnTo>
                  <a:pt x="38" y="678"/>
                </a:lnTo>
                <a:lnTo>
                  <a:pt x="54" y="650"/>
                </a:lnTo>
                <a:lnTo>
                  <a:pt x="133" y="604"/>
                </a:lnTo>
                <a:lnTo>
                  <a:pt x="152" y="571"/>
                </a:lnTo>
                <a:lnTo>
                  <a:pt x="171" y="566"/>
                </a:lnTo>
                <a:lnTo>
                  <a:pt x="210" y="585"/>
                </a:lnTo>
                <a:lnTo>
                  <a:pt x="237" y="580"/>
                </a:lnTo>
                <a:lnTo>
                  <a:pt x="248" y="565"/>
                </a:lnTo>
                <a:lnTo>
                  <a:pt x="308" y="571"/>
                </a:lnTo>
                <a:lnTo>
                  <a:pt x="320" y="522"/>
                </a:lnTo>
                <a:lnTo>
                  <a:pt x="304" y="503"/>
                </a:lnTo>
                <a:lnTo>
                  <a:pt x="343" y="484"/>
                </a:lnTo>
                <a:lnTo>
                  <a:pt x="308" y="472"/>
                </a:lnTo>
                <a:lnTo>
                  <a:pt x="256" y="501"/>
                </a:lnTo>
                <a:lnTo>
                  <a:pt x="252" y="474"/>
                </a:lnTo>
                <a:lnTo>
                  <a:pt x="166" y="470"/>
                </a:lnTo>
                <a:lnTo>
                  <a:pt x="127" y="441"/>
                </a:lnTo>
                <a:lnTo>
                  <a:pt x="121" y="390"/>
                </a:lnTo>
                <a:lnTo>
                  <a:pt x="150" y="400"/>
                </a:lnTo>
                <a:lnTo>
                  <a:pt x="89" y="344"/>
                </a:lnTo>
                <a:lnTo>
                  <a:pt x="248" y="316"/>
                </a:lnTo>
                <a:lnTo>
                  <a:pt x="272" y="323"/>
                </a:lnTo>
                <a:lnTo>
                  <a:pt x="248" y="345"/>
                </a:lnTo>
                <a:lnTo>
                  <a:pt x="333" y="381"/>
                </a:lnTo>
                <a:lnTo>
                  <a:pt x="368" y="371"/>
                </a:lnTo>
                <a:lnTo>
                  <a:pt x="366" y="359"/>
                </a:lnTo>
                <a:lnTo>
                  <a:pt x="335" y="352"/>
                </a:lnTo>
                <a:lnTo>
                  <a:pt x="320" y="303"/>
                </a:lnTo>
                <a:lnTo>
                  <a:pt x="343" y="320"/>
                </a:lnTo>
                <a:lnTo>
                  <a:pt x="349" y="345"/>
                </a:lnTo>
                <a:lnTo>
                  <a:pt x="385" y="364"/>
                </a:lnTo>
                <a:lnTo>
                  <a:pt x="420" y="363"/>
                </a:lnTo>
                <a:lnTo>
                  <a:pt x="412" y="344"/>
                </a:lnTo>
                <a:lnTo>
                  <a:pt x="353" y="333"/>
                </a:lnTo>
                <a:lnTo>
                  <a:pt x="364" y="303"/>
                </a:lnTo>
                <a:lnTo>
                  <a:pt x="293" y="282"/>
                </a:lnTo>
                <a:lnTo>
                  <a:pt x="293" y="244"/>
                </a:lnTo>
                <a:lnTo>
                  <a:pt x="272" y="215"/>
                </a:lnTo>
                <a:lnTo>
                  <a:pt x="218" y="164"/>
                </a:lnTo>
                <a:lnTo>
                  <a:pt x="239" y="160"/>
                </a:lnTo>
                <a:lnTo>
                  <a:pt x="262" y="123"/>
                </a:lnTo>
                <a:lnTo>
                  <a:pt x="322" y="140"/>
                </a:lnTo>
                <a:lnTo>
                  <a:pt x="366" y="121"/>
                </a:lnTo>
                <a:lnTo>
                  <a:pt x="432" y="51"/>
                </a:lnTo>
                <a:lnTo>
                  <a:pt x="453" y="61"/>
                </a:lnTo>
                <a:lnTo>
                  <a:pt x="495" y="39"/>
                </a:lnTo>
                <a:lnTo>
                  <a:pt x="495" y="59"/>
                </a:lnTo>
                <a:lnTo>
                  <a:pt x="518" y="53"/>
                </a:lnTo>
                <a:lnTo>
                  <a:pt x="507" y="42"/>
                </a:lnTo>
                <a:lnTo>
                  <a:pt x="568" y="35"/>
                </a:lnTo>
                <a:lnTo>
                  <a:pt x="613" y="0"/>
                </a:lnTo>
                <a:lnTo>
                  <a:pt x="643" y="22"/>
                </a:lnTo>
                <a:lnTo>
                  <a:pt x="632" y="51"/>
                </a:lnTo>
                <a:lnTo>
                  <a:pt x="655" y="53"/>
                </a:lnTo>
                <a:lnTo>
                  <a:pt x="661" y="25"/>
                </a:lnTo>
                <a:lnTo>
                  <a:pt x="690" y="59"/>
                </a:lnTo>
                <a:lnTo>
                  <a:pt x="740" y="59"/>
                </a:lnTo>
                <a:lnTo>
                  <a:pt x="746" y="90"/>
                </a:lnTo>
                <a:lnTo>
                  <a:pt x="838" y="99"/>
                </a:lnTo>
                <a:lnTo>
                  <a:pt x="834" y="114"/>
                </a:lnTo>
                <a:lnTo>
                  <a:pt x="857" y="104"/>
                </a:lnTo>
                <a:lnTo>
                  <a:pt x="880" y="128"/>
                </a:lnTo>
                <a:lnTo>
                  <a:pt x="927" y="123"/>
                </a:lnTo>
                <a:lnTo>
                  <a:pt x="973" y="140"/>
                </a:lnTo>
                <a:lnTo>
                  <a:pt x="1017" y="123"/>
                </a:lnTo>
                <a:lnTo>
                  <a:pt x="1017" y="130"/>
                </a:lnTo>
                <a:lnTo>
                  <a:pt x="1033" y="126"/>
                </a:lnTo>
                <a:lnTo>
                  <a:pt x="1104" y="159"/>
                </a:lnTo>
                <a:lnTo>
                  <a:pt x="1162" y="890"/>
                </a:lnTo>
                <a:lnTo>
                  <a:pt x="1245" y="885"/>
                </a:lnTo>
                <a:lnTo>
                  <a:pt x="1243" y="905"/>
                </a:lnTo>
                <a:lnTo>
                  <a:pt x="1272" y="926"/>
                </a:lnTo>
                <a:lnTo>
                  <a:pt x="1322" y="962"/>
                </a:lnTo>
                <a:lnTo>
                  <a:pt x="1331" y="982"/>
                </a:lnTo>
                <a:lnTo>
                  <a:pt x="1372" y="958"/>
                </a:lnTo>
                <a:lnTo>
                  <a:pt x="1385" y="928"/>
                </a:lnTo>
                <a:lnTo>
                  <a:pt x="1410" y="916"/>
                </a:lnTo>
                <a:lnTo>
                  <a:pt x="1416" y="912"/>
                </a:lnTo>
                <a:lnTo>
                  <a:pt x="1443" y="928"/>
                </a:lnTo>
                <a:lnTo>
                  <a:pt x="1439" y="948"/>
                </a:lnTo>
                <a:lnTo>
                  <a:pt x="1460" y="950"/>
                </a:lnTo>
                <a:lnTo>
                  <a:pt x="1470" y="958"/>
                </a:lnTo>
                <a:lnTo>
                  <a:pt x="1478" y="972"/>
                </a:lnTo>
                <a:lnTo>
                  <a:pt x="1507" y="984"/>
                </a:lnTo>
                <a:lnTo>
                  <a:pt x="1630" y="1133"/>
                </a:lnTo>
                <a:lnTo>
                  <a:pt x="1670" y="1142"/>
                </a:lnTo>
                <a:lnTo>
                  <a:pt x="1732" y="1162"/>
                </a:lnTo>
                <a:lnTo>
                  <a:pt x="1740" y="1174"/>
                </a:lnTo>
                <a:lnTo>
                  <a:pt x="1722" y="1183"/>
                </a:lnTo>
                <a:lnTo>
                  <a:pt x="1730" y="1210"/>
                </a:lnTo>
                <a:lnTo>
                  <a:pt x="1719" y="1261"/>
                </a:lnTo>
                <a:lnTo>
                  <a:pt x="1711" y="1249"/>
                </a:lnTo>
                <a:lnTo>
                  <a:pt x="1699" y="1260"/>
                </a:lnTo>
                <a:lnTo>
                  <a:pt x="1684" y="1248"/>
                </a:lnTo>
                <a:lnTo>
                  <a:pt x="1703" y="1236"/>
                </a:lnTo>
                <a:lnTo>
                  <a:pt x="1688" y="1217"/>
                </a:lnTo>
                <a:lnTo>
                  <a:pt x="1688" y="1205"/>
                </a:lnTo>
                <a:lnTo>
                  <a:pt x="1670" y="1172"/>
                </a:lnTo>
                <a:lnTo>
                  <a:pt x="1659" y="1172"/>
                </a:lnTo>
                <a:lnTo>
                  <a:pt x="1638" y="1183"/>
                </a:lnTo>
                <a:lnTo>
                  <a:pt x="1634" y="1203"/>
                </a:lnTo>
                <a:lnTo>
                  <a:pt x="1615" y="1207"/>
                </a:lnTo>
                <a:lnTo>
                  <a:pt x="1615" y="1203"/>
                </a:lnTo>
                <a:lnTo>
                  <a:pt x="1626" y="1183"/>
                </a:lnTo>
                <a:lnTo>
                  <a:pt x="1630" y="1162"/>
                </a:lnTo>
                <a:lnTo>
                  <a:pt x="1618" y="1171"/>
                </a:lnTo>
                <a:lnTo>
                  <a:pt x="1615" y="1183"/>
                </a:lnTo>
                <a:lnTo>
                  <a:pt x="1566" y="1162"/>
                </a:lnTo>
                <a:lnTo>
                  <a:pt x="1570" y="1154"/>
                </a:lnTo>
                <a:lnTo>
                  <a:pt x="1593" y="1154"/>
                </a:lnTo>
                <a:lnTo>
                  <a:pt x="1595" y="1138"/>
                </a:lnTo>
                <a:lnTo>
                  <a:pt x="1615" y="1133"/>
                </a:lnTo>
                <a:lnTo>
                  <a:pt x="1611" y="1124"/>
                </a:lnTo>
                <a:lnTo>
                  <a:pt x="1588" y="1128"/>
                </a:lnTo>
                <a:lnTo>
                  <a:pt x="1580" y="1104"/>
                </a:lnTo>
                <a:lnTo>
                  <a:pt x="1536" y="1100"/>
                </a:lnTo>
                <a:lnTo>
                  <a:pt x="1520" y="1070"/>
                </a:lnTo>
                <a:lnTo>
                  <a:pt x="1536" y="1044"/>
                </a:lnTo>
                <a:lnTo>
                  <a:pt x="1520" y="1047"/>
                </a:lnTo>
                <a:lnTo>
                  <a:pt x="1512" y="1030"/>
                </a:lnTo>
                <a:lnTo>
                  <a:pt x="1503" y="1035"/>
                </a:lnTo>
                <a:lnTo>
                  <a:pt x="1493" y="1029"/>
                </a:lnTo>
                <a:lnTo>
                  <a:pt x="1507" y="1005"/>
                </a:lnTo>
                <a:lnTo>
                  <a:pt x="1497" y="1005"/>
                </a:lnTo>
                <a:lnTo>
                  <a:pt x="1493" y="1015"/>
                </a:lnTo>
                <a:lnTo>
                  <a:pt x="1478" y="1020"/>
                </a:lnTo>
                <a:lnTo>
                  <a:pt x="1460" y="1013"/>
                </a:lnTo>
                <a:lnTo>
                  <a:pt x="1457" y="993"/>
                </a:lnTo>
                <a:lnTo>
                  <a:pt x="1435" y="969"/>
                </a:lnTo>
                <a:lnTo>
                  <a:pt x="1435" y="952"/>
                </a:lnTo>
                <a:lnTo>
                  <a:pt x="1428" y="950"/>
                </a:lnTo>
                <a:lnTo>
                  <a:pt x="1424" y="931"/>
                </a:lnTo>
                <a:lnTo>
                  <a:pt x="1422" y="938"/>
                </a:lnTo>
                <a:lnTo>
                  <a:pt x="1432" y="982"/>
                </a:lnTo>
                <a:lnTo>
                  <a:pt x="1449" y="1013"/>
                </a:lnTo>
                <a:lnTo>
                  <a:pt x="1512" y="1054"/>
                </a:lnTo>
                <a:lnTo>
                  <a:pt x="1512" y="1063"/>
                </a:lnTo>
                <a:lnTo>
                  <a:pt x="1499" y="1063"/>
                </a:lnTo>
                <a:lnTo>
                  <a:pt x="1497" y="1070"/>
                </a:lnTo>
                <a:lnTo>
                  <a:pt x="1507" y="1068"/>
                </a:lnTo>
                <a:lnTo>
                  <a:pt x="1514" y="1097"/>
                </a:lnTo>
                <a:lnTo>
                  <a:pt x="1555" y="1114"/>
                </a:lnTo>
                <a:lnTo>
                  <a:pt x="1576" y="1143"/>
                </a:lnTo>
                <a:lnTo>
                  <a:pt x="1528" y="1152"/>
                </a:lnTo>
                <a:lnTo>
                  <a:pt x="1507" y="1205"/>
                </a:lnTo>
                <a:lnTo>
                  <a:pt x="1493" y="1121"/>
                </a:lnTo>
                <a:lnTo>
                  <a:pt x="1482" y="1112"/>
                </a:lnTo>
                <a:lnTo>
                  <a:pt x="1482" y="1097"/>
                </a:lnTo>
                <a:lnTo>
                  <a:pt x="1489" y="1092"/>
                </a:lnTo>
                <a:lnTo>
                  <a:pt x="1451" y="1027"/>
                </a:lnTo>
                <a:lnTo>
                  <a:pt x="1439" y="1023"/>
                </a:lnTo>
                <a:lnTo>
                  <a:pt x="1430" y="1013"/>
                </a:lnTo>
                <a:lnTo>
                  <a:pt x="1416" y="1013"/>
                </a:lnTo>
                <a:lnTo>
                  <a:pt x="1408" y="1008"/>
                </a:lnTo>
                <a:lnTo>
                  <a:pt x="1399" y="972"/>
                </a:lnTo>
                <a:lnTo>
                  <a:pt x="1393" y="989"/>
                </a:lnTo>
                <a:lnTo>
                  <a:pt x="1360" y="979"/>
                </a:lnTo>
                <a:lnTo>
                  <a:pt x="1353" y="984"/>
                </a:lnTo>
                <a:lnTo>
                  <a:pt x="1393" y="1005"/>
                </a:lnTo>
                <a:lnTo>
                  <a:pt x="1372" y="1011"/>
                </a:lnTo>
                <a:lnTo>
                  <a:pt x="1376" y="1029"/>
                </a:lnTo>
                <a:lnTo>
                  <a:pt x="1345" y="1017"/>
                </a:lnTo>
                <a:lnTo>
                  <a:pt x="1302" y="982"/>
                </a:lnTo>
                <a:lnTo>
                  <a:pt x="1239" y="958"/>
                </a:lnTo>
                <a:lnTo>
                  <a:pt x="1196" y="955"/>
                </a:lnTo>
                <a:lnTo>
                  <a:pt x="1225" y="921"/>
                </a:lnTo>
                <a:lnTo>
                  <a:pt x="1241" y="938"/>
                </a:lnTo>
                <a:lnTo>
                  <a:pt x="1243" y="921"/>
                </a:lnTo>
                <a:lnTo>
                  <a:pt x="1218" y="905"/>
                </a:lnTo>
                <a:lnTo>
                  <a:pt x="1200" y="934"/>
                </a:lnTo>
                <a:lnTo>
                  <a:pt x="1162" y="934"/>
                </a:lnTo>
                <a:lnTo>
                  <a:pt x="1006" y="921"/>
                </a:lnTo>
                <a:lnTo>
                  <a:pt x="1010" y="898"/>
                </a:lnTo>
                <a:lnTo>
                  <a:pt x="994" y="905"/>
                </a:lnTo>
                <a:lnTo>
                  <a:pt x="975" y="885"/>
                </a:lnTo>
                <a:lnTo>
                  <a:pt x="952" y="895"/>
                </a:lnTo>
                <a:lnTo>
                  <a:pt x="944" y="883"/>
                </a:lnTo>
                <a:lnTo>
                  <a:pt x="902" y="897"/>
                </a:lnTo>
                <a:lnTo>
                  <a:pt x="900" y="885"/>
                </a:lnTo>
                <a:lnTo>
                  <a:pt x="917" y="864"/>
                </a:lnTo>
                <a:lnTo>
                  <a:pt x="906" y="862"/>
                </a:lnTo>
                <a:lnTo>
                  <a:pt x="919" y="854"/>
                </a:lnTo>
                <a:lnTo>
                  <a:pt x="873" y="857"/>
                </a:lnTo>
                <a:lnTo>
                  <a:pt x="855" y="844"/>
                </a:lnTo>
                <a:lnTo>
                  <a:pt x="842" y="854"/>
                </a:lnTo>
                <a:lnTo>
                  <a:pt x="834" y="844"/>
                </a:lnTo>
                <a:lnTo>
                  <a:pt x="846" y="832"/>
                </a:lnTo>
                <a:lnTo>
                  <a:pt x="823" y="837"/>
                </a:lnTo>
                <a:lnTo>
                  <a:pt x="825" y="844"/>
                </a:lnTo>
                <a:lnTo>
                  <a:pt x="811" y="854"/>
                </a:lnTo>
                <a:lnTo>
                  <a:pt x="830" y="854"/>
                </a:lnTo>
                <a:lnTo>
                  <a:pt x="823" y="876"/>
                </a:lnTo>
                <a:lnTo>
                  <a:pt x="842" y="885"/>
                </a:lnTo>
                <a:lnTo>
                  <a:pt x="861" y="895"/>
                </a:lnTo>
                <a:lnTo>
                  <a:pt x="888" y="885"/>
                </a:lnTo>
                <a:lnTo>
                  <a:pt x="884" y="931"/>
                </a:lnTo>
                <a:lnTo>
                  <a:pt x="838" y="934"/>
                </a:lnTo>
                <a:lnTo>
                  <a:pt x="838" y="919"/>
                </a:lnTo>
                <a:lnTo>
                  <a:pt x="823" y="910"/>
                </a:lnTo>
                <a:lnTo>
                  <a:pt x="786" y="924"/>
                </a:lnTo>
                <a:lnTo>
                  <a:pt x="784" y="910"/>
                </a:lnTo>
                <a:lnTo>
                  <a:pt x="773" y="921"/>
                </a:lnTo>
                <a:lnTo>
                  <a:pt x="769" y="905"/>
                </a:lnTo>
                <a:lnTo>
                  <a:pt x="740" y="905"/>
                </a:lnTo>
                <a:lnTo>
                  <a:pt x="761" y="931"/>
                </a:lnTo>
                <a:lnTo>
                  <a:pt x="759" y="938"/>
                </a:lnTo>
                <a:lnTo>
                  <a:pt x="748" y="934"/>
                </a:lnTo>
                <a:lnTo>
                  <a:pt x="717" y="948"/>
                </a:lnTo>
                <a:lnTo>
                  <a:pt x="709" y="943"/>
                </a:lnTo>
                <a:lnTo>
                  <a:pt x="686" y="979"/>
                </a:lnTo>
                <a:lnTo>
                  <a:pt x="672" y="965"/>
                </a:lnTo>
                <a:lnTo>
                  <a:pt x="667" y="972"/>
                </a:lnTo>
                <a:lnTo>
                  <a:pt x="643" y="969"/>
                </a:lnTo>
                <a:lnTo>
                  <a:pt x="640" y="950"/>
                </a:lnTo>
                <a:lnTo>
                  <a:pt x="669" y="950"/>
                </a:lnTo>
                <a:lnTo>
                  <a:pt x="686" y="934"/>
                </a:lnTo>
                <a:lnTo>
                  <a:pt x="640" y="934"/>
                </a:lnTo>
                <a:lnTo>
                  <a:pt x="678" y="851"/>
                </a:lnTo>
                <a:lnTo>
                  <a:pt x="749" y="837"/>
                </a:lnTo>
                <a:lnTo>
                  <a:pt x="740" y="816"/>
                </a:lnTo>
                <a:lnTo>
                  <a:pt x="784" y="796"/>
                </a:lnTo>
                <a:lnTo>
                  <a:pt x="724" y="808"/>
                </a:lnTo>
                <a:lnTo>
                  <a:pt x="736" y="767"/>
                </a:lnTo>
                <a:lnTo>
                  <a:pt x="705" y="816"/>
                </a:lnTo>
                <a:lnTo>
                  <a:pt x="669" y="832"/>
                </a:lnTo>
                <a:lnTo>
                  <a:pt x="624" y="881"/>
                </a:lnTo>
                <a:lnTo>
                  <a:pt x="593" y="881"/>
                </a:lnTo>
                <a:lnTo>
                  <a:pt x="609" y="905"/>
                </a:lnTo>
                <a:lnTo>
                  <a:pt x="530" y="962"/>
                </a:lnTo>
                <a:lnTo>
                  <a:pt x="566" y="972"/>
                </a:lnTo>
                <a:lnTo>
                  <a:pt x="557" y="998"/>
                </a:lnTo>
                <a:lnTo>
                  <a:pt x="381" y="1112"/>
                </a:lnTo>
                <a:lnTo>
                  <a:pt x="254" y="1142"/>
                </a:lnTo>
                <a:lnTo>
                  <a:pt x="293" y="1155"/>
                </a:lnTo>
                <a:lnTo>
                  <a:pt x="216" y="1191"/>
                </a:lnTo>
                <a:lnTo>
                  <a:pt x="200" y="1174"/>
                </a:lnTo>
                <a:lnTo>
                  <a:pt x="148" y="1191"/>
                </a:lnTo>
                <a:lnTo>
                  <a:pt x="108" y="1191"/>
                </a:lnTo>
                <a:lnTo>
                  <a:pt x="108" y="1171"/>
                </a:lnTo>
                <a:lnTo>
                  <a:pt x="60" y="1212"/>
                </a:lnTo>
                <a:lnTo>
                  <a:pt x="44" y="1210"/>
                </a:lnTo>
                <a:lnTo>
                  <a:pt x="44" y="1190"/>
                </a:lnTo>
                <a:lnTo>
                  <a:pt x="35" y="1210"/>
                </a:lnTo>
                <a:lnTo>
                  <a:pt x="0" y="120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2" name="Freeform 11"/>
          <p:cNvSpPr/>
          <p:nvPr/>
        </p:nvSpPr>
        <p:spPr>
          <a:xfrm>
            <a:off x="1301760" y="4853160"/>
            <a:ext cx="1200240" cy="100008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740" h="1261">
                <a:moveTo>
                  <a:pt x="0" y="1205"/>
                </a:moveTo>
                <a:lnTo>
                  <a:pt x="15" y="1183"/>
                </a:lnTo>
                <a:lnTo>
                  <a:pt x="27" y="1186"/>
                </a:lnTo>
                <a:lnTo>
                  <a:pt x="100" y="1143"/>
                </a:lnTo>
                <a:lnTo>
                  <a:pt x="144" y="1152"/>
                </a:lnTo>
                <a:lnTo>
                  <a:pt x="152" y="1167"/>
                </a:lnTo>
                <a:lnTo>
                  <a:pt x="158" y="1150"/>
                </a:lnTo>
                <a:lnTo>
                  <a:pt x="200" y="1124"/>
                </a:lnTo>
                <a:lnTo>
                  <a:pt x="270" y="1104"/>
                </a:lnTo>
                <a:lnTo>
                  <a:pt x="331" y="1059"/>
                </a:lnTo>
                <a:lnTo>
                  <a:pt x="343" y="1063"/>
                </a:lnTo>
                <a:lnTo>
                  <a:pt x="354" y="1006"/>
                </a:lnTo>
                <a:lnTo>
                  <a:pt x="393" y="965"/>
                </a:lnTo>
                <a:lnTo>
                  <a:pt x="329" y="969"/>
                </a:lnTo>
                <a:lnTo>
                  <a:pt x="339" y="946"/>
                </a:lnTo>
                <a:lnTo>
                  <a:pt x="358" y="948"/>
                </a:lnTo>
                <a:lnTo>
                  <a:pt x="339" y="938"/>
                </a:lnTo>
                <a:lnTo>
                  <a:pt x="308" y="965"/>
                </a:lnTo>
                <a:lnTo>
                  <a:pt x="304" y="982"/>
                </a:lnTo>
                <a:lnTo>
                  <a:pt x="268" y="941"/>
                </a:lnTo>
                <a:lnTo>
                  <a:pt x="256" y="946"/>
                </a:lnTo>
                <a:lnTo>
                  <a:pt x="237" y="926"/>
                </a:lnTo>
                <a:lnTo>
                  <a:pt x="189" y="943"/>
                </a:lnTo>
                <a:lnTo>
                  <a:pt x="177" y="945"/>
                </a:lnTo>
                <a:lnTo>
                  <a:pt x="137" y="934"/>
                </a:lnTo>
                <a:lnTo>
                  <a:pt x="177" y="905"/>
                </a:lnTo>
                <a:lnTo>
                  <a:pt x="168" y="897"/>
                </a:lnTo>
                <a:lnTo>
                  <a:pt x="179" y="876"/>
                </a:lnTo>
                <a:lnTo>
                  <a:pt x="171" y="815"/>
                </a:lnTo>
                <a:lnTo>
                  <a:pt x="195" y="784"/>
                </a:lnTo>
                <a:lnTo>
                  <a:pt x="160" y="806"/>
                </a:lnTo>
                <a:lnTo>
                  <a:pt x="160" y="827"/>
                </a:lnTo>
                <a:lnTo>
                  <a:pt x="129" y="844"/>
                </a:lnTo>
                <a:lnTo>
                  <a:pt x="89" y="832"/>
                </a:lnTo>
                <a:lnTo>
                  <a:pt x="77" y="784"/>
                </a:lnTo>
                <a:lnTo>
                  <a:pt x="48" y="763"/>
                </a:lnTo>
                <a:lnTo>
                  <a:pt x="50" y="748"/>
                </a:lnTo>
                <a:lnTo>
                  <a:pt x="65" y="748"/>
                </a:lnTo>
                <a:lnTo>
                  <a:pt x="75" y="736"/>
                </a:lnTo>
                <a:lnTo>
                  <a:pt x="89" y="732"/>
                </a:lnTo>
                <a:lnTo>
                  <a:pt x="75" y="731"/>
                </a:lnTo>
                <a:lnTo>
                  <a:pt x="85" y="722"/>
                </a:lnTo>
                <a:lnTo>
                  <a:pt x="69" y="705"/>
                </a:lnTo>
                <a:lnTo>
                  <a:pt x="62" y="714"/>
                </a:lnTo>
                <a:lnTo>
                  <a:pt x="38" y="678"/>
                </a:lnTo>
                <a:lnTo>
                  <a:pt x="54" y="650"/>
                </a:lnTo>
                <a:lnTo>
                  <a:pt x="133" y="604"/>
                </a:lnTo>
                <a:lnTo>
                  <a:pt x="152" y="571"/>
                </a:lnTo>
                <a:lnTo>
                  <a:pt x="171" y="566"/>
                </a:lnTo>
                <a:lnTo>
                  <a:pt x="210" y="585"/>
                </a:lnTo>
                <a:lnTo>
                  <a:pt x="237" y="580"/>
                </a:lnTo>
                <a:lnTo>
                  <a:pt x="248" y="565"/>
                </a:lnTo>
                <a:lnTo>
                  <a:pt x="308" y="571"/>
                </a:lnTo>
                <a:lnTo>
                  <a:pt x="320" y="522"/>
                </a:lnTo>
                <a:lnTo>
                  <a:pt x="304" y="503"/>
                </a:lnTo>
                <a:lnTo>
                  <a:pt x="343" y="484"/>
                </a:lnTo>
                <a:lnTo>
                  <a:pt x="308" y="472"/>
                </a:lnTo>
                <a:lnTo>
                  <a:pt x="256" y="501"/>
                </a:lnTo>
                <a:lnTo>
                  <a:pt x="252" y="474"/>
                </a:lnTo>
                <a:lnTo>
                  <a:pt x="166" y="470"/>
                </a:lnTo>
                <a:lnTo>
                  <a:pt x="127" y="441"/>
                </a:lnTo>
                <a:lnTo>
                  <a:pt x="121" y="390"/>
                </a:lnTo>
                <a:lnTo>
                  <a:pt x="150" y="400"/>
                </a:lnTo>
                <a:lnTo>
                  <a:pt x="89" y="344"/>
                </a:lnTo>
                <a:lnTo>
                  <a:pt x="248" y="316"/>
                </a:lnTo>
                <a:lnTo>
                  <a:pt x="272" y="323"/>
                </a:lnTo>
                <a:lnTo>
                  <a:pt x="248" y="345"/>
                </a:lnTo>
                <a:lnTo>
                  <a:pt x="333" y="381"/>
                </a:lnTo>
                <a:lnTo>
                  <a:pt x="368" y="371"/>
                </a:lnTo>
                <a:lnTo>
                  <a:pt x="366" y="359"/>
                </a:lnTo>
                <a:lnTo>
                  <a:pt x="335" y="352"/>
                </a:lnTo>
                <a:lnTo>
                  <a:pt x="320" y="303"/>
                </a:lnTo>
                <a:lnTo>
                  <a:pt x="343" y="320"/>
                </a:lnTo>
                <a:lnTo>
                  <a:pt x="349" y="345"/>
                </a:lnTo>
                <a:lnTo>
                  <a:pt x="385" y="364"/>
                </a:lnTo>
                <a:lnTo>
                  <a:pt x="420" y="363"/>
                </a:lnTo>
                <a:lnTo>
                  <a:pt x="412" y="344"/>
                </a:lnTo>
                <a:lnTo>
                  <a:pt x="353" y="333"/>
                </a:lnTo>
                <a:lnTo>
                  <a:pt x="364" y="303"/>
                </a:lnTo>
                <a:lnTo>
                  <a:pt x="293" y="282"/>
                </a:lnTo>
                <a:lnTo>
                  <a:pt x="293" y="244"/>
                </a:lnTo>
                <a:lnTo>
                  <a:pt x="272" y="215"/>
                </a:lnTo>
                <a:lnTo>
                  <a:pt x="218" y="164"/>
                </a:lnTo>
                <a:lnTo>
                  <a:pt x="239" y="160"/>
                </a:lnTo>
                <a:lnTo>
                  <a:pt x="262" y="123"/>
                </a:lnTo>
                <a:lnTo>
                  <a:pt x="322" y="140"/>
                </a:lnTo>
                <a:lnTo>
                  <a:pt x="366" y="121"/>
                </a:lnTo>
                <a:lnTo>
                  <a:pt x="432" y="51"/>
                </a:lnTo>
                <a:lnTo>
                  <a:pt x="453" y="61"/>
                </a:lnTo>
                <a:lnTo>
                  <a:pt x="495" y="39"/>
                </a:lnTo>
                <a:lnTo>
                  <a:pt x="495" y="59"/>
                </a:lnTo>
                <a:lnTo>
                  <a:pt x="518" y="53"/>
                </a:lnTo>
                <a:lnTo>
                  <a:pt x="507" y="42"/>
                </a:lnTo>
                <a:lnTo>
                  <a:pt x="568" y="35"/>
                </a:lnTo>
                <a:lnTo>
                  <a:pt x="613" y="0"/>
                </a:lnTo>
                <a:lnTo>
                  <a:pt x="643" y="22"/>
                </a:lnTo>
                <a:lnTo>
                  <a:pt x="632" y="51"/>
                </a:lnTo>
                <a:lnTo>
                  <a:pt x="655" y="53"/>
                </a:lnTo>
                <a:lnTo>
                  <a:pt x="661" y="25"/>
                </a:lnTo>
                <a:lnTo>
                  <a:pt x="690" y="59"/>
                </a:lnTo>
                <a:lnTo>
                  <a:pt x="740" y="59"/>
                </a:lnTo>
                <a:lnTo>
                  <a:pt x="746" y="90"/>
                </a:lnTo>
                <a:lnTo>
                  <a:pt x="838" y="99"/>
                </a:lnTo>
                <a:lnTo>
                  <a:pt x="834" y="114"/>
                </a:lnTo>
                <a:lnTo>
                  <a:pt x="857" y="104"/>
                </a:lnTo>
                <a:lnTo>
                  <a:pt x="880" y="128"/>
                </a:lnTo>
                <a:lnTo>
                  <a:pt x="927" y="123"/>
                </a:lnTo>
                <a:lnTo>
                  <a:pt x="973" y="140"/>
                </a:lnTo>
                <a:lnTo>
                  <a:pt x="1017" y="123"/>
                </a:lnTo>
                <a:lnTo>
                  <a:pt x="1017" y="130"/>
                </a:lnTo>
                <a:lnTo>
                  <a:pt x="1033" y="126"/>
                </a:lnTo>
                <a:lnTo>
                  <a:pt x="1104" y="159"/>
                </a:lnTo>
                <a:lnTo>
                  <a:pt x="1162" y="890"/>
                </a:lnTo>
                <a:lnTo>
                  <a:pt x="1245" y="885"/>
                </a:lnTo>
                <a:lnTo>
                  <a:pt x="1243" y="905"/>
                </a:lnTo>
                <a:lnTo>
                  <a:pt x="1272" y="926"/>
                </a:lnTo>
                <a:lnTo>
                  <a:pt x="1322" y="962"/>
                </a:lnTo>
                <a:lnTo>
                  <a:pt x="1331" y="982"/>
                </a:lnTo>
                <a:lnTo>
                  <a:pt x="1372" y="958"/>
                </a:lnTo>
                <a:lnTo>
                  <a:pt x="1385" y="928"/>
                </a:lnTo>
                <a:lnTo>
                  <a:pt x="1410" y="916"/>
                </a:lnTo>
                <a:lnTo>
                  <a:pt x="1416" y="912"/>
                </a:lnTo>
                <a:lnTo>
                  <a:pt x="1443" y="928"/>
                </a:lnTo>
                <a:lnTo>
                  <a:pt x="1439" y="948"/>
                </a:lnTo>
                <a:lnTo>
                  <a:pt x="1460" y="950"/>
                </a:lnTo>
                <a:lnTo>
                  <a:pt x="1470" y="958"/>
                </a:lnTo>
                <a:lnTo>
                  <a:pt x="1478" y="972"/>
                </a:lnTo>
                <a:lnTo>
                  <a:pt x="1507" y="984"/>
                </a:lnTo>
                <a:lnTo>
                  <a:pt x="1630" y="1133"/>
                </a:lnTo>
                <a:lnTo>
                  <a:pt x="1670" y="1142"/>
                </a:lnTo>
                <a:lnTo>
                  <a:pt x="1732" y="1162"/>
                </a:lnTo>
                <a:lnTo>
                  <a:pt x="1740" y="1174"/>
                </a:lnTo>
                <a:lnTo>
                  <a:pt x="1722" y="1183"/>
                </a:lnTo>
                <a:lnTo>
                  <a:pt x="1730" y="1210"/>
                </a:lnTo>
                <a:lnTo>
                  <a:pt x="1719" y="1261"/>
                </a:lnTo>
                <a:lnTo>
                  <a:pt x="1711" y="1249"/>
                </a:lnTo>
                <a:lnTo>
                  <a:pt x="1699" y="1260"/>
                </a:lnTo>
                <a:lnTo>
                  <a:pt x="1684" y="1248"/>
                </a:lnTo>
                <a:lnTo>
                  <a:pt x="1703" y="1236"/>
                </a:lnTo>
                <a:lnTo>
                  <a:pt x="1688" y="1217"/>
                </a:lnTo>
                <a:lnTo>
                  <a:pt x="1688" y="1205"/>
                </a:lnTo>
                <a:lnTo>
                  <a:pt x="1670" y="1172"/>
                </a:lnTo>
                <a:lnTo>
                  <a:pt x="1659" y="1172"/>
                </a:lnTo>
                <a:lnTo>
                  <a:pt x="1638" y="1183"/>
                </a:lnTo>
                <a:lnTo>
                  <a:pt x="1634" y="1203"/>
                </a:lnTo>
                <a:lnTo>
                  <a:pt x="1615" y="1207"/>
                </a:lnTo>
                <a:lnTo>
                  <a:pt x="1615" y="1203"/>
                </a:lnTo>
                <a:lnTo>
                  <a:pt x="1626" y="1183"/>
                </a:lnTo>
                <a:lnTo>
                  <a:pt x="1630" y="1162"/>
                </a:lnTo>
                <a:lnTo>
                  <a:pt x="1618" y="1171"/>
                </a:lnTo>
                <a:lnTo>
                  <a:pt x="1615" y="1183"/>
                </a:lnTo>
                <a:lnTo>
                  <a:pt x="1566" y="1162"/>
                </a:lnTo>
                <a:lnTo>
                  <a:pt x="1570" y="1154"/>
                </a:lnTo>
                <a:lnTo>
                  <a:pt x="1593" y="1154"/>
                </a:lnTo>
                <a:lnTo>
                  <a:pt x="1595" y="1138"/>
                </a:lnTo>
                <a:lnTo>
                  <a:pt x="1615" y="1133"/>
                </a:lnTo>
                <a:lnTo>
                  <a:pt x="1611" y="1124"/>
                </a:lnTo>
                <a:lnTo>
                  <a:pt x="1588" y="1128"/>
                </a:lnTo>
                <a:lnTo>
                  <a:pt x="1580" y="1104"/>
                </a:lnTo>
                <a:lnTo>
                  <a:pt x="1536" y="1100"/>
                </a:lnTo>
                <a:lnTo>
                  <a:pt x="1520" y="1070"/>
                </a:lnTo>
                <a:lnTo>
                  <a:pt x="1536" y="1044"/>
                </a:lnTo>
                <a:lnTo>
                  <a:pt x="1520" y="1047"/>
                </a:lnTo>
                <a:lnTo>
                  <a:pt x="1512" y="1030"/>
                </a:lnTo>
                <a:lnTo>
                  <a:pt x="1503" y="1035"/>
                </a:lnTo>
                <a:lnTo>
                  <a:pt x="1493" y="1029"/>
                </a:lnTo>
                <a:lnTo>
                  <a:pt x="1507" y="1005"/>
                </a:lnTo>
                <a:lnTo>
                  <a:pt x="1497" y="1005"/>
                </a:lnTo>
                <a:lnTo>
                  <a:pt x="1493" y="1015"/>
                </a:lnTo>
                <a:lnTo>
                  <a:pt x="1478" y="1020"/>
                </a:lnTo>
                <a:lnTo>
                  <a:pt x="1460" y="1013"/>
                </a:lnTo>
                <a:lnTo>
                  <a:pt x="1457" y="993"/>
                </a:lnTo>
                <a:lnTo>
                  <a:pt x="1435" y="969"/>
                </a:lnTo>
                <a:lnTo>
                  <a:pt x="1435" y="952"/>
                </a:lnTo>
                <a:lnTo>
                  <a:pt x="1428" y="950"/>
                </a:lnTo>
                <a:lnTo>
                  <a:pt x="1424" y="931"/>
                </a:lnTo>
                <a:lnTo>
                  <a:pt x="1422" y="938"/>
                </a:lnTo>
                <a:lnTo>
                  <a:pt x="1432" y="982"/>
                </a:lnTo>
                <a:lnTo>
                  <a:pt x="1449" y="1013"/>
                </a:lnTo>
                <a:lnTo>
                  <a:pt x="1512" y="1054"/>
                </a:lnTo>
                <a:lnTo>
                  <a:pt x="1512" y="1063"/>
                </a:lnTo>
                <a:lnTo>
                  <a:pt x="1499" y="1063"/>
                </a:lnTo>
                <a:lnTo>
                  <a:pt x="1497" y="1070"/>
                </a:lnTo>
                <a:lnTo>
                  <a:pt x="1507" y="1068"/>
                </a:lnTo>
                <a:lnTo>
                  <a:pt x="1514" y="1097"/>
                </a:lnTo>
                <a:lnTo>
                  <a:pt x="1555" y="1114"/>
                </a:lnTo>
                <a:lnTo>
                  <a:pt x="1576" y="1143"/>
                </a:lnTo>
                <a:lnTo>
                  <a:pt x="1528" y="1152"/>
                </a:lnTo>
                <a:lnTo>
                  <a:pt x="1507" y="1205"/>
                </a:lnTo>
                <a:lnTo>
                  <a:pt x="1493" y="1121"/>
                </a:lnTo>
                <a:lnTo>
                  <a:pt x="1482" y="1112"/>
                </a:lnTo>
                <a:lnTo>
                  <a:pt x="1482" y="1097"/>
                </a:lnTo>
                <a:lnTo>
                  <a:pt x="1489" y="1092"/>
                </a:lnTo>
                <a:lnTo>
                  <a:pt x="1451" y="1027"/>
                </a:lnTo>
                <a:lnTo>
                  <a:pt x="1439" y="1023"/>
                </a:lnTo>
                <a:lnTo>
                  <a:pt x="1430" y="1013"/>
                </a:lnTo>
                <a:lnTo>
                  <a:pt x="1416" y="1013"/>
                </a:lnTo>
                <a:lnTo>
                  <a:pt x="1408" y="1008"/>
                </a:lnTo>
                <a:lnTo>
                  <a:pt x="1399" y="972"/>
                </a:lnTo>
                <a:lnTo>
                  <a:pt x="1393" y="989"/>
                </a:lnTo>
                <a:lnTo>
                  <a:pt x="1360" y="979"/>
                </a:lnTo>
                <a:lnTo>
                  <a:pt x="1353" y="984"/>
                </a:lnTo>
                <a:lnTo>
                  <a:pt x="1393" y="1005"/>
                </a:lnTo>
                <a:lnTo>
                  <a:pt x="1372" y="1011"/>
                </a:lnTo>
                <a:lnTo>
                  <a:pt x="1376" y="1029"/>
                </a:lnTo>
                <a:lnTo>
                  <a:pt x="1345" y="1017"/>
                </a:lnTo>
                <a:lnTo>
                  <a:pt x="1302" y="982"/>
                </a:lnTo>
                <a:lnTo>
                  <a:pt x="1239" y="958"/>
                </a:lnTo>
                <a:lnTo>
                  <a:pt x="1196" y="955"/>
                </a:lnTo>
                <a:lnTo>
                  <a:pt x="1225" y="921"/>
                </a:lnTo>
                <a:lnTo>
                  <a:pt x="1241" y="938"/>
                </a:lnTo>
                <a:lnTo>
                  <a:pt x="1243" y="921"/>
                </a:lnTo>
                <a:lnTo>
                  <a:pt x="1218" y="905"/>
                </a:lnTo>
                <a:lnTo>
                  <a:pt x="1200" y="934"/>
                </a:lnTo>
                <a:lnTo>
                  <a:pt x="1162" y="934"/>
                </a:lnTo>
                <a:lnTo>
                  <a:pt x="1006" y="921"/>
                </a:lnTo>
                <a:lnTo>
                  <a:pt x="1010" y="898"/>
                </a:lnTo>
                <a:lnTo>
                  <a:pt x="994" y="905"/>
                </a:lnTo>
                <a:lnTo>
                  <a:pt x="975" y="885"/>
                </a:lnTo>
                <a:lnTo>
                  <a:pt x="952" y="895"/>
                </a:lnTo>
                <a:lnTo>
                  <a:pt x="944" y="883"/>
                </a:lnTo>
                <a:lnTo>
                  <a:pt x="902" y="897"/>
                </a:lnTo>
                <a:lnTo>
                  <a:pt x="900" y="885"/>
                </a:lnTo>
                <a:lnTo>
                  <a:pt x="917" y="864"/>
                </a:lnTo>
                <a:lnTo>
                  <a:pt x="906" y="862"/>
                </a:lnTo>
                <a:lnTo>
                  <a:pt x="919" y="854"/>
                </a:lnTo>
                <a:lnTo>
                  <a:pt x="873" y="857"/>
                </a:lnTo>
                <a:lnTo>
                  <a:pt x="855" y="844"/>
                </a:lnTo>
                <a:lnTo>
                  <a:pt x="842" y="854"/>
                </a:lnTo>
                <a:lnTo>
                  <a:pt x="834" y="844"/>
                </a:lnTo>
                <a:lnTo>
                  <a:pt x="846" y="832"/>
                </a:lnTo>
                <a:lnTo>
                  <a:pt x="823" y="837"/>
                </a:lnTo>
                <a:lnTo>
                  <a:pt x="825" y="844"/>
                </a:lnTo>
                <a:lnTo>
                  <a:pt x="811" y="854"/>
                </a:lnTo>
                <a:lnTo>
                  <a:pt x="830" y="854"/>
                </a:lnTo>
                <a:lnTo>
                  <a:pt x="823" y="876"/>
                </a:lnTo>
                <a:lnTo>
                  <a:pt x="842" y="885"/>
                </a:lnTo>
                <a:lnTo>
                  <a:pt x="861" y="895"/>
                </a:lnTo>
                <a:lnTo>
                  <a:pt x="888" y="885"/>
                </a:lnTo>
                <a:lnTo>
                  <a:pt x="884" y="931"/>
                </a:lnTo>
                <a:lnTo>
                  <a:pt x="838" y="934"/>
                </a:lnTo>
                <a:lnTo>
                  <a:pt x="838" y="919"/>
                </a:lnTo>
                <a:lnTo>
                  <a:pt x="823" y="910"/>
                </a:lnTo>
                <a:lnTo>
                  <a:pt x="786" y="924"/>
                </a:lnTo>
                <a:lnTo>
                  <a:pt x="784" y="910"/>
                </a:lnTo>
                <a:lnTo>
                  <a:pt x="773" y="921"/>
                </a:lnTo>
                <a:lnTo>
                  <a:pt x="769" y="905"/>
                </a:lnTo>
                <a:lnTo>
                  <a:pt x="740" y="905"/>
                </a:lnTo>
                <a:lnTo>
                  <a:pt x="761" y="931"/>
                </a:lnTo>
                <a:lnTo>
                  <a:pt x="759" y="938"/>
                </a:lnTo>
                <a:lnTo>
                  <a:pt x="748" y="934"/>
                </a:lnTo>
                <a:lnTo>
                  <a:pt x="717" y="948"/>
                </a:lnTo>
                <a:lnTo>
                  <a:pt x="709" y="943"/>
                </a:lnTo>
                <a:lnTo>
                  <a:pt x="686" y="979"/>
                </a:lnTo>
                <a:lnTo>
                  <a:pt x="672" y="965"/>
                </a:lnTo>
                <a:lnTo>
                  <a:pt x="667" y="972"/>
                </a:lnTo>
                <a:lnTo>
                  <a:pt x="643" y="969"/>
                </a:lnTo>
                <a:lnTo>
                  <a:pt x="640" y="950"/>
                </a:lnTo>
                <a:lnTo>
                  <a:pt x="669" y="950"/>
                </a:lnTo>
                <a:lnTo>
                  <a:pt x="686" y="934"/>
                </a:lnTo>
                <a:lnTo>
                  <a:pt x="640" y="934"/>
                </a:lnTo>
                <a:lnTo>
                  <a:pt x="678" y="851"/>
                </a:lnTo>
                <a:lnTo>
                  <a:pt x="749" y="837"/>
                </a:lnTo>
                <a:lnTo>
                  <a:pt x="740" y="816"/>
                </a:lnTo>
                <a:lnTo>
                  <a:pt x="784" y="796"/>
                </a:lnTo>
                <a:lnTo>
                  <a:pt x="724" y="808"/>
                </a:lnTo>
                <a:lnTo>
                  <a:pt x="736" y="767"/>
                </a:lnTo>
                <a:lnTo>
                  <a:pt x="705" y="816"/>
                </a:lnTo>
                <a:lnTo>
                  <a:pt x="669" y="832"/>
                </a:lnTo>
                <a:lnTo>
                  <a:pt x="624" y="881"/>
                </a:lnTo>
                <a:lnTo>
                  <a:pt x="593" y="881"/>
                </a:lnTo>
                <a:lnTo>
                  <a:pt x="609" y="905"/>
                </a:lnTo>
                <a:lnTo>
                  <a:pt x="530" y="962"/>
                </a:lnTo>
                <a:lnTo>
                  <a:pt x="566" y="972"/>
                </a:lnTo>
                <a:lnTo>
                  <a:pt x="557" y="998"/>
                </a:lnTo>
                <a:lnTo>
                  <a:pt x="381" y="1112"/>
                </a:lnTo>
                <a:lnTo>
                  <a:pt x="254" y="1142"/>
                </a:lnTo>
                <a:lnTo>
                  <a:pt x="293" y="1155"/>
                </a:lnTo>
                <a:lnTo>
                  <a:pt x="216" y="1191"/>
                </a:lnTo>
                <a:lnTo>
                  <a:pt x="200" y="1174"/>
                </a:lnTo>
                <a:lnTo>
                  <a:pt x="148" y="1191"/>
                </a:lnTo>
                <a:lnTo>
                  <a:pt x="108" y="1191"/>
                </a:lnTo>
                <a:lnTo>
                  <a:pt x="108" y="1171"/>
                </a:lnTo>
                <a:lnTo>
                  <a:pt x="60" y="1212"/>
                </a:lnTo>
                <a:lnTo>
                  <a:pt x="44" y="1210"/>
                </a:lnTo>
                <a:lnTo>
                  <a:pt x="44" y="1190"/>
                </a:lnTo>
                <a:lnTo>
                  <a:pt x="35" y="1210"/>
                </a:lnTo>
                <a:lnTo>
                  <a:pt x="0" y="1205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3" name="Freeform 12"/>
          <p:cNvSpPr/>
          <p:nvPr/>
        </p:nvSpPr>
        <p:spPr>
          <a:xfrm>
            <a:off x="1622520" y="5664240"/>
            <a:ext cx="117360" cy="119160"/>
          </a:xfrm>
          <a:custGeom>
            <a:avLst/>
            <a:gdLst>
              <a:gd name="textAreaLeft" fmla="*/ 0 w 117360"/>
              <a:gd name="textAreaRight" fmla="*/ 117720 w 1173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72" h="149">
                <a:moveTo>
                  <a:pt x="0" y="149"/>
                </a:moveTo>
                <a:lnTo>
                  <a:pt x="47" y="110"/>
                </a:lnTo>
                <a:lnTo>
                  <a:pt x="16" y="60"/>
                </a:lnTo>
                <a:lnTo>
                  <a:pt x="62" y="74"/>
                </a:lnTo>
                <a:lnTo>
                  <a:pt x="131" y="0"/>
                </a:lnTo>
                <a:lnTo>
                  <a:pt x="172" y="9"/>
                </a:lnTo>
                <a:lnTo>
                  <a:pt x="135" y="81"/>
                </a:lnTo>
                <a:lnTo>
                  <a:pt x="0" y="14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4" name="Freeform 13"/>
          <p:cNvSpPr/>
          <p:nvPr/>
        </p:nvSpPr>
        <p:spPr>
          <a:xfrm>
            <a:off x="1622520" y="5664240"/>
            <a:ext cx="117360" cy="119160"/>
          </a:xfrm>
          <a:custGeom>
            <a:avLst/>
            <a:gdLst>
              <a:gd name="textAreaLeft" fmla="*/ 0 w 117360"/>
              <a:gd name="textAreaRight" fmla="*/ 117720 w 1173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72" h="149">
                <a:moveTo>
                  <a:pt x="0" y="149"/>
                </a:moveTo>
                <a:lnTo>
                  <a:pt x="47" y="110"/>
                </a:lnTo>
                <a:lnTo>
                  <a:pt x="16" y="60"/>
                </a:lnTo>
                <a:lnTo>
                  <a:pt x="62" y="74"/>
                </a:lnTo>
                <a:lnTo>
                  <a:pt x="131" y="0"/>
                </a:lnTo>
                <a:lnTo>
                  <a:pt x="172" y="9"/>
                </a:lnTo>
                <a:lnTo>
                  <a:pt x="135" y="81"/>
                </a:lnTo>
                <a:lnTo>
                  <a:pt x="0" y="14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5" name="Freeform 14"/>
          <p:cNvSpPr/>
          <p:nvPr/>
        </p:nvSpPr>
        <p:spPr>
          <a:xfrm>
            <a:off x="2254320" y="5657760"/>
            <a:ext cx="71280" cy="133560"/>
          </a:xfrm>
          <a:custGeom>
            <a:avLst/>
            <a:gdLst>
              <a:gd name="textAreaLeft" fmla="*/ 0 w 71280"/>
              <a:gd name="textAreaRight" fmla="*/ 71640 w 712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03" h="168">
                <a:moveTo>
                  <a:pt x="0" y="48"/>
                </a:moveTo>
                <a:lnTo>
                  <a:pt x="24" y="0"/>
                </a:lnTo>
                <a:lnTo>
                  <a:pt x="76" y="48"/>
                </a:lnTo>
                <a:lnTo>
                  <a:pt x="103" y="168"/>
                </a:lnTo>
                <a:lnTo>
                  <a:pt x="0" y="4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6" name="Freeform 15"/>
          <p:cNvSpPr/>
          <p:nvPr/>
        </p:nvSpPr>
        <p:spPr>
          <a:xfrm>
            <a:off x="2254320" y="5657760"/>
            <a:ext cx="71280" cy="133560"/>
          </a:xfrm>
          <a:custGeom>
            <a:avLst/>
            <a:gdLst>
              <a:gd name="textAreaLeft" fmla="*/ 0 w 71280"/>
              <a:gd name="textAreaRight" fmla="*/ 71640 w 712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03" h="168">
                <a:moveTo>
                  <a:pt x="0" y="48"/>
                </a:moveTo>
                <a:lnTo>
                  <a:pt x="24" y="0"/>
                </a:lnTo>
                <a:lnTo>
                  <a:pt x="76" y="48"/>
                </a:lnTo>
                <a:lnTo>
                  <a:pt x="103" y="168"/>
                </a:lnTo>
                <a:lnTo>
                  <a:pt x="0" y="4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7" name="Freeform 16"/>
          <p:cNvSpPr/>
          <p:nvPr/>
        </p:nvSpPr>
        <p:spPr>
          <a:xfrm>
            <a:off x="2362320" y="5791320"/>
            <a:ext cx="66600" cy="75960"/>
          </a:xfrm>
          <a:custGeom>
            <a:avLst/>
            <a:gdLst>
              <a:gd name="textAreaLeft" fmla="*/ 0 w 66600"/>
              <a:gd name="textAreaRight" fmla="*/ 66960 w 66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97" h="94">
                <a:moveTo>
                  <a:pt x="0" y="0"/>
                </a:moveTo>
                <a:lnTo>
                  <a:pt x="10" y="63"/>
                </a:lnTo>
                <a:lnTo>
                  <a:pt x="97" y="94"/>
                </a:lnTo>
                <a:lnTo>
                  <a:pt x="47" y="1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8" name="Freeform 17"/>
          <p:cNvSpPr/>
          <p:nvPr/>
        </p:nvSpPr>
        <p:spPr>
          <a:xfrm>
            <a:off x="2362320" y="5791320"/>
            <a:ext cx="66600" cy="75960"/>
          </a:xfrm>
          <a:custGeom>
            <a:avLst/>
            <a:gdLst>
              <a:gd name="textAreaLeft" fmla="*/ 0 w 66600"/>
              <a:gd name="textAreaRight" fmla="*/ 66960 w 666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97" h="94">
                <a:moveTo>
                  <a:pt x="0" y="0"/>
                </a:moveTo>
                <a:lnTo>
                  <a:pt x="10" y="63"/>
                </a:lnTo>
                <a:lnTo>
                  <a:pt x="97" y="94"/>
                </a:lnTo>
                <a:lnTo>
                  <a:pt x="47" y="1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9" name="Freeform 18"/>
          <p:cNvSpPr/>
          <p:nvPr/>
        </p:nvSpPr>
        <p:spPr>
          <a:xfrm>
            <a:off x="2438280" y="5791320"/>
            <a:ext cx="20880" cy="41040"/>
          </a:xfrm>
          <a:custGeom>
            <a:avLst/>
            <a:gdLst>
              <a:gd name="textAreaLeft" fmla="*/ 0 w 20880"/>
              <a:gd name="textAreaRight" fmla="*/ 20880 w 208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9" h="53">
                <a:moveTo>
                  <a:pt x="0" y="53"/>
                </a:moveTo>
                <a:lnTo>
                  <a:pt x="6" y="0"/>
                </a:lnTo>
                <a:lnTo>
                  <a:pt x="29" y="42"/>
                </a:lnTo>
                <a:lnTo>
                  <a:pt x="0" y="5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0" name="Freeform 19"/>
          <p:cNvSpPr/>
          <p:nvPr/>
        </p:nvSpPr>
        <p:spPr>
          <a:xfrm>
            <a:off x="2438280" y="5791320"/>
            <a:ext cx="20880" cy="41040"/>
          </a:xfrm>
          <a:custGeom>
            <a:avLst/>
            <a:gdLst>
              <a:gd name="textAreaLeft" fmla="*/ 0 w 20880"/>
              <a:gd name="textAreaRight" fmla="*/ 20880 w 2088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9" h="53">
                <a:moveTo>
                  <a:pt x="0" y="53"/>
                </a:moveTo>
                <a:lnTo>
                  <a:pt x="6" y="0"/>
                </a:lnTo>
                <a:lnTo>
                  <a:pt x="29" y="42"/>
                </a:lnTo>
                <a:lnTo>
                  <a:pt x="0" y="5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1" name="Freeform 20"/>
          <p:cNvSpPr/>
          <p:nvPr/>
        </p:nvSpPr>
        <p:spPr>
          <a:xfrm>
            <a:off x="1681200" y="3944880"/>
            <a:ext cx="849240" cy="973080"/>
          </a:xfrm>
          <a:custGeom>
            <a:avLst/>
            <a:gdLst>
              <a:gd name="textAreaLeft" fmla="*/ 0 w 849240"/>
              <a:gd name="textAreaRight" fmla="*/ 849600 w 8492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229" h="1228">
                <a:moveTo>
                  <a:pt x="0" y="839"/>
                </a:moveTo>
                <a:lnTo>
                  <a:pt x="79" y="781"/>
                </a:lnTo>
                <a:lnTo>
                  <a:pt x="46" y="731"/>
                </a:lnTo>
                <a:lnTo>
                  <a:pt x="64" y="666"/>
                </a:lnTo>
                <a:lnTo>
                  <a:pt x="145" y="550"/>
                </a:lnTo>
                <a:lnTo>
                  <a:pt x="202" y="519"/>
                </a:lnTo>
                <a:lnTo>
                  <a:pt x="168" y="476"/>
                </a:lnTo>
                <a:lnTo>
                  <a:pt x="146" y="363"/>
                </a:lnTo>
                <a:lnTo>
                  <a:pt x="172" y="158"/>
                </a:lnTo>
                <a:lnTo>
                  <a:pt x="212" y="148"/>
                </a:lnTo>
                <a:lnTo>
                  <a:pt x="283" y="182"/>
                </a:lnTo>
                <a:lnTo>
                  <a:pt x="341" y="0"/>
                </a:lnTo>
                <a:lnTo>
                  <a:pt x="1229" y="130"/>
                </a:lnTo>
                <a:lnTo>
                  <a:pt x="1044" y="1228"/>
                </a:lnTo>
                <a:lnTo>
                  <a:pt x="773" y="1190"/>
                </a:lnTo>
                <a:lnTo>
                  <a:pt x="601" y="1149"/>
                </a:lnTo>
                <a:lnTo>
                  <a:pt x="252" y="973"/>
                </a:lnTo>
                <a:lnTo>
                  <a:pt x="0" y="83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2" name="Freeform 21"/>
          <p:cNvSpPr/>
          <p:nvPr/>
        </p:nvSpPr>
        <p:spPr>
          <a:xfrm>
            <a:off x="1681200" y="3944880"/>
            <a:ext cx="849240" cy="973080"/>
          </a:xfrm>
          <a:custGeom>
            <a:avLst/>
            <a:gdLst>
              <a:gd name="textAreaLeft" fmla="*/ 0 w 849240"/>
              <a:gd name="textAreaRight" fmla="*/ 849600 w 8492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229" h="1228">
                <a:moveTo>
                  <a:pt x="0" y="839"/>
                </a:moveTo>
                <a:lnTo>
                  <a:pt x="79" y="781"/>
                </a:lnTo>
                <a:lnTo>
                  <a:pt x="46" y="731"/>
                </a:lnTo>
                <a:lnTo>
                  <a:pt x="64" y="666"/>
                </a:lnTo>
                <a:lnTo>
                  <a:pt x="145" y="550"/>
                </a:lnTo>
                <a:lnTo>
                  <a:pt x="202" y="519"/>
                </a:lnTo>
                <a:lnTo>
                  <a:pt x="168" y="476"/>
                </a:lnTo>
                <a:lnTo>
                  <a:pt x="146" y="363"/>
                </a:lnTo>
                <a:lnTo>
                  <a:pt x="172" y="158"/>
                </a:lnTo>
                <a:lnTo>
                  <a:pt x="212" y="148"/>
                </a:lnTo>
                <a:lnTo>
                  <a:pt x="283" y="182"/>
                </a:lnTo>
                <a:lnTo>
                  <a:pt x="341" y="0"/>
                </a:lnTo>
                <a:lnTo>
                  <a:pt x="1229" y="130"/>
                </a:lnTo>
                <a:lnTo>
                  <a:pt x="1044" y="1228"/>
                </a:lnTo>
                <a:lnTo>
                  <a:pt x="773" y="1190"/>
                </a:lnTo>
                <a:lnTo>
                  <a:pt x="601" y="1149"/>
                </a:lnTo>
                <a:lnTo>
                  <a:pt x="252" y="973"/>
                </a:lnTo>
                <a:lnTo>
                  <a:pt x="0" y="83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3" name="Freeform 22"/>
          <p:cNvSpPr/>
          <p:nvPr/>
        </p:nvSpPr>
        <p:spPr>
          <a:xfrm>
            <a:off x="4316400" y="4222800"/>
            <a:ext cx="627120" cy="558720"/>
          </a:xfrm>
          <a:custGeom>
            <a:avLst/>
            <a:gdLst>
              <a:gd name="textAreaLeft" fmla="*/ 0 w 627120"/>
              <a:gd name="textAreaRight" fmla="*/ 627480 w 62712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907" h="706">
                <a:moveTo>
                  <a:pt x="0" y="24"/>
                </a:moveTo>
                <a:lnTo>
                  <a:pt x="36" y="242"/>
                </a:lnTo>
                <a:lnTo>
                  <a:pt x="29" y="581"/>
                </a:lnTo>
                <a:lnTo>
                  <a:pt x="48" y="601"/>
                </a:lnTo>
                <a:lnTo>
                  <a:pt x="113" y="600"/>
                </a:lnTo>
                <a:lnTo>
                  <a:pt x="115" y="706"/>
                </a:lnTo>
                <a:lnTo>
                  <a:pt x="655" y="699"/>
                </a:lnTo>
                <a:lnTo>
                  <a:pt x="643" y="591"/>
                </a:lnTo>
                <a:lnTo>
                  <a:pt x="691" y="476"/>
                </a:lnTo>
                <a:lnTo>
                  <a:pt x="757" y="392"/>
                </a:lnTo>
                <a:lnTo>
                  <a:pt x="753" y="372"/>
                </a:lnTo>
                <a:lnTo>
                  <a:pt x="805" y="300"/>
                </a:lnTo>
                <a:lnTo>
                  <a:pt x="828" y="220"/>
                </a:lnTo>
                <a:lnTo>
                  <a:pt x="821" y="213"/>
                </a:lnTo>
                <a:lnTo>
                  <a:pt x="865" y="182"/>
                </a:lnTo>
                <a:lnTo>
                  <a:pt x="907" y="110"/>
                </a:lnTo>
                <a:lnTo>
                  <a:pt x="894" y="96"/>
                </a:lnTo>
                <a:lnTo>
                  <a:pt x="772" y="101"/>
                </a:lnTo>
                <a:lnTo>
                  <a:pt x="805" y="60"/>
                </a:lnTo>
                <a:lnTo>
                  <a:pt x="794" y="0"/>
                </a:lnTo>
                <a:lnTo>
                  <a:pt x="0" y="2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4" name="Freeform 23"/>
          <p:cNvSpPr/>
          <p:nvPr/>
        </p:nvSpPr>
        <p:spPr>
          <a:xfrm>
            <a:off x="4316400" y="4222800"/>
            <a:ext cx="627120" cy="558720"/>
          </a:xfrm>
          <a:custGeom>
            <a:avLst/>
            <a:gdLst>
              <a:gd name="textAreaLeft" fmla="*/ 0 w 627120"/>
              <a:gd name="textAreaRight" fmla="*/ 627480 w 62712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907" h="706">
                <a:moveTo>
                  <a:pt x="0" y="24"/>
                </a:moveTo>
                <a:lnTo>
                  <a:pt x="36" y="242"/>
                </a:lnTo>
                <a:lnTo>
                  <a:pt x="29" y="581"/>
                </a:lnTo>
                <a:lnTo>
                  <a:pt x="48" y="601"/>
                </a:lnTo>
                <a:lnTo>
                  <a:pt x="113" y="600"/>
                </a:lnTo>
                <a:lnTo>
                  <a:pt x="115" y="706"/>
                </a:lnTo>
                <a:lnTo>
                  <a:pt x="655" y="699"/>
                </a:lnTo>
                <a:lnTo>
                  <a:pt x="643" y="591"/>
                </a:lnTo>
                <a:lnTo>
                  <a:pt x="691" y="476"/>
                </a:lnTo>
                <a:lnTo>
                  <a:pt x="757" y="392"/>
                </a:lnTo>
                <a:lnTo>
                  <a:pt x="753" y="372"/>
                </a:lnTo>
                <a:lnTo>
                  <a:pt x="805" y="300"/>
                </a:lnTo>
                <a:lnTo>
                  <a:pt x="828" y="220"/>
                </a:lnTo>
                <a:lnTo>
                  <a:pt x="821" y="213"/>
                </a:lnTo>
                <a:lnTo>
                  <a:pt x="865" y="182"/>
                </a:lnTo>
                <a:lnTo>
                  <a:pt x="907" y="110"/>
                </a:lnTo>
                <a:lnTo>
                  <a:pt x="894" y="96"/>
                </a:lnTo>
                <a:lnTo>
                  <a:pt x="772" y="101"/>
                </a:lnTo>
                <a:lnTo>
                  <a:pt x="805" y="60"/>
                </a:lnTo>
                <a:lnTo>
                  <a:pt x="794" y="0"/>
                </a:lnTo>
                <a:lnTo>
                  <a:pt x="0" y="24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5" name="Freeform 24"/>
          <p:cNvSpPr/>
          <p:nvPr/>
        </p:nvSpPr>
        <p:spPr>
          <a:xfrm>
            <a:off x="838080" y="2895480"/>
            <a:ext cx="982800" cy="1670040"/>
          </a:xfrm>
          <a:custGeom>
            <a:avLst/>
            <a:gdLst>
              <a:gd name="textAreaLeft" fmla="*/ 0 w 982800"/>
              <a:gd name="textAreaRight" fmla="*/ 983160 w 98280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1425" h="2108">
                <a:moveTo>
                  <a:pt x="30" y="382"/>
                </a:moveTo>
                <a:lnTo>
                  <a:pt x="48" y="428"/>
                </a:lnTo>
                <a:lnTo>
                  <a:pt x="7" y="593"/>
                </a:lnTo>
                <a:lnTo>
                  <a:pt x="34" y="641"/>
                </a:lnTo>
                <a:lnTo>
                  <a:pt x="146" y="858"/>
                </a:lnTo>
                <a:lnTo>
                  <a:pt x="158" y="855"/>
                </a:lnTo>
                <a:lnTo>
                  <a:pt x="163" y="805"/>
                </a:lnTo>
                <a:lnTo>
                  <a:pt x="183" y="798"/>
                </a:lnTo>
                <a:lnTo>
                  <a:pt x="202" y="810"/>
                </a:lnTo>
                <a:lnTo>
                  <a:pt x="167" y="838"/>
                </a:lnTo>
                <a:lnTo>
                  <a:pt x="183" y="855"/>
                </a:lnTo>
                <a:lnTo>
                  <a:pt x="210" y="947"/>
                </a:lnTo>
                <a:lnTo>
                  <a:pt x="192" y="942"/>
                </a:lnTo>
                <a:lnTo>
                  <a:pt x="152" y="906"/>
                </a:lnTo>
                <a:lnTo>
                  <a:pt x="163" y="870"/>
                </a:lnTo>
                <a:lnTo>
                  <a:pt x="144" y="874"/>
                </a:lnTo>
                <a:lnTo>
                  <a:pt x="121" y="911"/>
                </a:lnTo>
                <a:lnTo>
                  <a:pt x="131" y="997"/>
                </a:lnTo>
                <a:lnTo>
                  <a:pt x="152" y="1035"/>
                </a:lnTo>
                <a:lnTo>
                  <a:pt x="202" y="1069"/>
                </a:lnTo>
                <a:lnTo>
                  <a:pt x="188" y="1110"/>
                </a:lnTo>
                <a:lnTo>
                  <a:pt x="158" y="1118"/>
                </a:lnTo>
                <a:lnTo>
                  <a:pt x="152" y="1173"/>
                </a:lnTo>
                <a:lnTo>
                  <a:pt x="223" y="1298"/>
                </a:lnTo>
                <a:lnTo>
                  <a:pt x="279" y="1375"/>
                </a:lnTo>
                <a:lnTo>
                  <a:pt x="269" y="1422"/>
                </a:lnTo>
                <a:lnTo>
                  <a:pt x="304" y="1452"/>
                </a:lnTo>
                <a:lnTo>
                  <a:pt x="291" y="1481"/>
                </a:lnTo>
                <a:lnTo>
                  <a:pt x="267" y="1555"/>
                </a:lnTo>
                <a:lnTo>
                  <a:pt x="294" y="1582"/>
                </a:lnTo>
                <a:lnTo>
                  <a:pt x="468" y="1634"/>
                </a:lnTo>
                <a:lnTo>
                  <a:pt x="539" y="1718"/>
                </a:lnTo>
                <a:lnTo>
                  <a:pt x="622" y="1745"/>
                </a:lnTo>
                <a:lnTo>
                  <a:pt x="624" y="1795"/>
                </a:lnTo>
                <a:lnTo>
                  <a:pt x="680" y="1807"/>
                </a:lnTo>
                <a:lnTo>
                  <a:pt x="751" y="1894"/>
                </a:lnTo>
                <a:lnTo>
                  <a:pt x="791" y="1966"/>
                </a:lnTo>
                <a:lnTo>
                  <a:pt x="795" y="2079"/>
                </a:lnTo>
                <a:lnTo>
                  <a:pt x="1302" y="2108"/>
                </a:lnTo>
                <a:lnTo>
                  <a:pt x="1269" y="2058"/>
                </a:lnTo>
                <a:lnTo>
                  <a:pt x="1287" y="1993"/>
                </a:lnTo>
                <a:lnTo>
                  <a:pt x="1368" y="1877"/>
                </a:lnTo>
                <a:lnTo>
                  <a:pt x="1425" y="1846"/>
                </a:lnTo>
                <a:lnTo>
                  <a:pt x="1391" y="1803"/>
                </a:lnTo>
                <a:lnTo>
                  <a:pt x="1369" y="1690"/>
                </a:lnTo>
                <a:lnTo>
                  <a:pt x="691" y="814"/>
                </a:lnTo>
                <a:lnTo>
                  <a:pt x="641" y="726"/>
                </a:lnTo>
                <a:lnTo>
                  <a:pt x="811" y="165"/>
                </a:lnTo>
                <a:lnTo>
                  <a:pt x="134" y="0"/>
                </a:lnTo>
                <a:lnTo>
                  <a:pt x="117" y="35"/>
                </a:lnTo>
                <a:lnTo>
                  <a:pt x="121" y="107"/>
                </a:lnTo>
                <a:lnTo>
                  <a:pt x="0" y="281"/>
                </a:lnTo>
                <a:lnTo>
                  <a:pt x="30" y="38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6" name="Freeform 25"/>
          <p:cNvSpPr/>
          <p:nvPr/>
        </p:nvSpPr>
        <p:spPr>
          <a:xfrm>
            <a:off x="2538360" y="3429000"/>
            <a:ext cx="901800" cy="706320"/>
          </a:xfrm>
          <a:custGeom>
            <a:avLst/>
            <a:gdLst>
              <a:gd name="textAreaLeft" fmla="*/ 0 w 901800"/>
              <a:gd name="textAreaRight" fmla="*/ 902160 w 901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1312" h="893">
                <a:moveTo>
                  <a:pt x="0" y="780"/>
                </a:moveTo>
                <a:lnTo>
                  <a:pt x="129" y="0"/>
                </a:lnTo>
                <a:lnTo>
                  <a:pt x="973" y="84"/>
                </a:lnTo>
                <a:lnTo>
                  <a:pt x="1312" y="108"/>
                </a:lnTo>
                <a:lnTo>
                  <a:pt x="1299" y="304"/>
                </a:lnTo>
                <a:lnTo>
                  <a:pt x="1253" y="893"/>
                </a:lnTo>
                <a:lnTo>
                  <a:pt x="1081" y="882"/>
                </a:lnTo>
                <a:lnTo>
                  <a:pt x="542" y="840"/>
                </a:lnTo>
                <a:lnTo>
                  <a:pt x="0" y="7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7" name="Freeform 26"/>
          <p:cNvSpPr/>
          <p:nvPr/>
        </p:nvSpPr>
        <p:spPr>
          <a:xfrm>
            <a:off x="2530440" y="3429000"/>
            <a:ext cx="901800" cy="706320"/>
          </a:xfrm>
          <a:custGeom>
            <a:avLst/>
            <a:gdLst>
              <a:gd name="textAreaLeft" fmla="*/ 0 w 901800"/>
              <a:gd name="textAreaRight" fmla="*/ 902160 w 90180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1312" h="893">
                <a:moveTo>
                  <a:pt x="0" y="780"/>
                </a:moveTo>
                <a:lnTo>
                  <a:pt x="129" y="0"/>
                </a:lnTo>
                <a:lnTo>
                  <a:pt x="973" y="84"/>
                </a:lnTo>
                <a:lnTo>
                  <a:pt x="1312" y="108"/>
                </a:lnTo>
                <a:lnTo>
                  <a:pt x="1299" y="304"/>
                </a:lnTo>
                <a:lnTo>
                  <a:pt x="1253" y="893"/>
                </a:lnTo>
                <a:lnTo>
                  <a:pt x="1081" y="882"/>
                </a:lnTo>
                <a:lnTo>
                  <a:pt x="542" y="840"/>
                </a:lnTo>
                <a:lnTo>
                  <a:pt x="0" y="780"/>
                </a:lnTo>
              </a:path>
            </a:pathLst>
          </a:custGeom>
          <a:solidFill>
            <a:srgbClr val="ffff00"/>
          </a:solidFill>
          <a:ln cap="sq"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8" name="Freeform 27"/>
          <p:cNvSpPr/>
          <p:nvPr/>
        </p:nvSpPr>
        <p:spPr>
          <a:xfrm>
            <a:off x="6732720" y="3046320"/>
            <a:ext cx="212760" cy="201600"/>
          </a:xfrm>
          <a:custGeom>
            <a:avLst/>
            <a:gdLst>
              <a:gd name="textAreaLeft" fmla="*/ 0 w 212760"/>
              <a:gd name="textAreaRight" fmla="*/ 213120 w 2127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308" h="251">
                <a:moveTo>
                  <a:pt x="0" y="49"/>
                </a:moveTo>
                <a:lnTo>
                  <a:pt x="25" y="181"/>
                </a:lnTo>
                <a:lnTo>
                  <a:pt x="25" y="251"/>
                </a:lnTo>
                <a:lnTo>
                  <a:pt x="48" y="246"/>
                </a:lnTo>
                <a:lnTo>
                  <a:pt x="63" y="226"/>
                </a:lnTo>
                <a:lnTo>
                  <a:pt x="106" y="208"/>
                </a:lnTo>
                <a:lnTo>
                  <a:pt x="127" y="176"/>
                </a:lnTo>
                <a:lnTo>
                  <a:pt x="140" y="181"/>
                </a:lnTo>
                <a:lnTo>
                  <a:pt x="175" y="169"/>
                </a:lnTo>
                <a:lnTo>
                  <a:pt x="223" y="162"/>
                </a:lnTo>
                <a:lnTo>
                  <a:pt x="223" y="149"/>
                </a:lnTo>
                <a:lnTo>
                  <a:pt x="237" y="159"/>
                </a:lnTo>
                <a:lnTo>
                  <a:pt x="252" y="145"/>
                </a:lnTo>
                <a:lnTo>
                  <a:pt x="277" y="138"/>
                </a:lnTo>
                <a:lnTo>
                  <a:pt x="308" y="128"/>
                </a:lnTo>
                <a:lnTo>
                  <a:pt x="279" y="0"/>
                </a:lnTo>
                <a:lnTo>
                  <a:pt x="0" y="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9" name="Freeform 29"/>
          <p:cNvSpPr/>
          <p:nvPr/>
        </p:nvSpPr>
        <p:spPr>
          <a:xfrm>
            <a:off x="6545160" y="3475080"/>
            <a:ext cx="130320" cy="216000"/>
          </a:xfrm>
          <a:custGeom>
            <a:avLst/>
            <a:gdLst>
              <a:gd name="textAreaLeft" fmla="*/ 0 w 130320"/>
              <a:gd name="textAreaRight" fmla="*/ 130680 w 13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89" h="268">
                <a:moveTo>
                  <a:pt x="0" y="27"/>
                </a:moveTo>
                <a:lnTo>
                  <a:pt x="25" y="0"/>
                </a:lnTo>
                <a:lnTo>
                  <a:pt x="61" y="0"/>
                </a:lnTo>
                <a:lnTo>
                  <a:pt x="48" y="29"/>
                </a:lnTo>
                <a:lnTo>
                  <a:pt x="40" y="37"/>
                </a:lnTo>
                <a:lnTo>
                  <a:pt x="48" y="68"/>
                </a:lnTo>
                <a:lnTo>
                  <a:pt x="65" y="89"/>
                </a:lnTo>
                <a:lnTo>
                  <a:pt x="92" y="111"/>
                </a:lnTo>
                <a:lnTo>
                  <a:pt x="102" y="140"/>
                </a:lnTo>
                <a:lnTo>
                  <a:pt x="119" y="166"/>
                </a:lnTo>
                <a:lnTo>
                  <a:pt x="139" y="179"/>
                </a:lnTo>
                <a:lnTo>
                  <a:pt x="169" y="188"/>
                </a:lnTo>
                <a:lnTo>
                  <a:pt x="183" y="212"/>
                </a:lnTo>
                <a:lnTo>
                  <a:pt x="158" y="234"/>
                </a:lnTo>
                <a:lnTo>
                  <a:pt x="183" y="229"/>
                </a:lnTo>
                <a:lnTo>
                  <a:pt x="189" y="250"/>
                </a:lnTo>
                <a:lnTo>
                  <a:pt x="140" y="260"/>
                </a:lnTo>
                <a:lnTo>
                  <a:pt x="75" y="268"/>
                </a:lnTo>
                <a:lnTo>
                  <a:pt x="71" y="251"/>
                </a:lnTo>
                <a:lnTo>
                  <a:pt x="0" y="27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0" name="Freeform 32"/>
          <p:cNvSpPr/>
          <p:nvPr/>
        </p:nvSpPr>
        <p:spPr>
          <a:xfrm>
            <a:off x="5261040" y="4997520"/>
            <a:ext cx="1130400" cy="8445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637" h="1065">
                <a:moveTo>
                  <a:pt x="4" y="70"/>
                </a:moveTo>
                <a:lnTo>
                  <a:pt x="0" y="99"/>
                </a:lnTo>
                <a:lnTo>
                  <a:pt x="50" y="139"/>
                </a:lnTo>
                <a:lnTo>
                  <a:pt x="38" y="163"/>
                </a:lnTo>
                <a:lnTo>
                  <a:pt x="54" y="178"/>
                </a:lnTo>
                <a:lnTo>
                  <a:pt x="34" y="204"/>
                </a:lnTo>
                <a:lnTo>
                  <a:pt x="73" y="192"/>
                </a:lnTo>
                <a:lnTo>
                  <a:pt x="90" y="171"/>
                </a:lnTo>
                <a:lnTo>
                  <a:pt x="90" y="151"/>
                </a:lnTo>
                <a:lnTo>
                  <a:pt x="108" y="163"/>
                </a:lnTo>
                <a:lnTo>
                  <a:pt x="123" y="144"/>
                </a:lnTo>
                <a:lnTo>
                  <a:pt x="136" y="163"/>
                </a:lnTo>
                <a:lnTo>
                  <a:pt x="98" y="187"/>
                </a:lnTo>
                <a:lnTo>
                  <a:pt x="206" y="164"/>
                </a:lnTo>
                <a:lnTo>
                  <a:pt x="227" y="146"/>
                </a:lnTo>
                <a:lnTo>
                  <a:pt x="241" y="154"/>
                </a:lnTo>
                <a:lnTo>
                  <a:pt x="281" y="144"/>
                </a:lnTo>
                <a:lnTo>
                  <a:pt x="300" y="156"/>
                </a:lnTo>
                <a:lnTo>
                  <a:pt x="227" y="163"/>
                </a:lnTo>
                <a:lnTo>
                  <a:pt x="250" y="170"/>
                </a:lnTo>
                <a:lnTo>
                  <a:pt x="331" y="185"/>
                </a:lnTo>
                <a:lnTo>
                  <a:pt x="381" y="209"/>
                </a:lnTo>
                <a:lnTo>
                  <a:pt x="366" y="176"/>
                </a:lnTo>
                <a:lnTo>
                  <a:pt x="393" y="202"/>
                </a:lnTo>
                <a:lnTo>
                  <a:pt x="427" y="205"/>
                </a:lnTo>
                <a:lnTo>
                  <a:pt x="397" y="214"/>
                </a:lnTo>
                <a:lnTo>
                  <a:pt x="452" y="240"/>
                </a:lnTo>
                <a:lnTo>
                  <a:pt x="472" y="260"/>
                </a:lnTo>
                <a:lnTo>
                  <a:pt x="472" y="283"/>
                </a:lnTo>
                <a:lnTo>
                  <a:pt x="451" y="255"/>
                </a:lnTo>
                <a:lnTo>
                  <a:pt x="462" y="291"/>
                </a:lnTo>
                <a:lnTo>
                  <a:pt x="506" y="277"/>
                </a:lnTo>
                <a:lnTo>
                  <a:pt x="533" y="276"/>
                </a:lnTo>
                <a:lnTo>
                  <a:pt x="555" y="260"/>
                </a:lnTo>
                <a:lnTo>
                  <a:pt x="562" y="271"/>
                </a:lnTo>
                <a:lnTo>
                  <a:pt x="620" y="231"/>
                </a:lnTo>
                <a:lnTo>
                  <a:pt x="659" y="229"/>
                </a:lnTo>
                <a:lnTo>
                  <a:pt x="645" y="217"/>
                </a:lnTo>
                <a:lnTo>
                  <a:pt x="670" y="187"/>
                </a:lnTo>
                <a:lnTo>
                  <a:pt x="728" y="185"/>
                </a:lnTo>
                <a:lnTo>
                  <a:pt x="788" y="211"/>
                </a:lnTo>
                <a:lnTo>
                  <a:pt x="824" y="248"/>
                </a:lnTo>
                <a:lnTo>
                  <a:pt x="853" y="255"/>
                </a:lnTo>
                <a:lnTo>
                  <a:pt x="861" y="283"/>
                </a:lnTo>
                <a:lnTo>
                  <a:pt x="899" y="300"/>
                </a:lnTo>
                <a:lnTo>
                  <a:pt x="915" y="320"/>
                </a:lnTo>
                <a:lnTo>
                  <a:pt x="934" y="337"/>
                </a:lnTo>
                <a:lnTo>
                  <a:pt x="986" y="341"/>
                </a:lnTo>
                <a:lnTo>
                  <a:pt x="1005" y="368"/>
                </a:lnTo>
                <a:lnTo>
                  <a:pt x="1034" y="426"/>
                </a:lnTo>
                <a:lnTo>
                  <a:pt x="1019" y="531"/>
                </a:lnTo>
                <a:lnTo>
                  <a:pt x="1023" y="596"/>
                </a:lnTo>
                <a:lnTo>
                  <a:pt x="1056" y="616"/>
                </a:lnTo>
                <a:lnTo>
                  <a:pt x="1061" y="584"/>
                </a:lnTo>
                <a:lnTo>
                  <a:pt x="1038" y="575"/>
                </a:lnTo>
                <a:lnTo>
                  <a:pt x="1044" y="553"/>
                </a:lnTo>
                <a:lnTo>
                  <a:pt x="1054" y="560"/>
                </a:lnTo>
                <a:lnTo>
                  <a:pt x="1077" y="565"/>
                </a:lnTo>
                <a:lnTo>
                  <a:pt x="1082" y="586"/>
                </a:lnTo>
                <a:lnTo>
                  <a:pt x="1098" y="562"/>
                </a:lnTo>
                <a:lnTo>
                  <a:pt x="1109" y="582"/>
                </a:lnTo>
                <a:lnTo>
                  <a:pt x="1065" y="652"/>
                </a:lnTo>
                <a:lnTo>
                  <a:pt x="1063" y="663"/>
                </a:lnTo>
                <a:lnTo>
                  <a:pt x="1092" y="675"/>
                </a:lnTo>
                <a:lnTo>
                  <a:pt x="1115" y="729"/>
                </a:lnTo>
                <a:lnTo>
                  <a:pt x="1146" y="757"/>
                </a:lnTo>
                <a:lnTo>
                  <a:pt x="1163" y="777"/>
                </a:lnTo>
                <a:lnTo>
                  <a:pt x="1188" y="777"/>
                </a:lnTo>
                <a:lnTo>
                  <a:pt x="1161" y="745"/>
                </a:lnTo>
                <a:lnTo>
                  <a:pt x="1183" y="750"/>
                </a:lnTo>
                <a:lnTo>
                  <a:pt x="1208" y="745"/>
                </a:lnTo>
                <a:lnTo>
                  <a:pt x="1196" y="757"/>
                </a:lnTo>
                <a:lnTo>
                  <a:pt x="1206" y="784"/>
                </a:lnTo>
                <a:lnTo>
                  <a:pt x="1217" y="824"/>
                </a:lnTo>
                <a:lnTo>
                  <a:pt x="1256" y="839"/>
                </a:lnTo>
                <a:lnTo>
                  <a:pt x="1266" y="863"/>
                </a:lnTo>
                <a:lnTo>
                  <a:pt x="1300" y="933"/>
                </a:lnTo>
                <a:lnTo>
                  <a:pt x="1345" y="933"/>
                </a:lnTo>
                <a:lnTo>
                  <a:pt x="1381" y="952"/>
                </a:lnTo>
                <a:lnTo>
                  <a:pt x="1439" y="1022"/>
                </a:lnTo>
                <a:lnTo>
                  <a:pt x="1489" y="1029"/>
                </a:lnTo>
                <a:lnTo>
                  <a:pt x="1491" y="1044"/>
                </a:lnTo>
                <a:lnTo>
                  <a:pt x="1477" y="1051"/>
                </a:lnTo>
                <a:lnTo>
                  <a:pt x="1439" y="1036"/>
                </a:lnTo>
                <a:lnTo>
                  <a:pt x="1454" y="1065"/>
                </a:lnTo>
                <a:lnTo>
                  <a:pt x="1501" y="1055"/>
                </a:lnTo>
                <a:lnTo>
                  <a:pt x="1541" y="1055"/>
                </a:lnTo>
                <a:lnTo>
                  <a:pt x="1558" y="1036"/>
                </a:lnTo>
                <a:lnTo>
                  <a:pt x="1593" y="1034"/>
                </a:lnTo>
                <a:lnTo>
                  <a:pt x="1610" y="1002"/>
                </a:lnTo>
                <a:lnTo>
                  <a:pt x="1605" y="961"/>
                </a:lnTo>
                <a:lnTo>
                  <a:pt x="1622" y="913"/>
                </a:lnTo>
                <a:lnTo>
                  <a:pt x="1637" y="916"/>
                </a:lnTo>
                <a:lnTo>
                  <a:pt x="1622" y="745"/>
                </a:lnTo>
                <a:lnTo>
                  <a:pt x="1605" y="695"/>
                </a:lnTo>
                <a:lnTo>
                  <a:pt x="1427" y="447"/>
                </a:lnTo>
                <a:lnTo>
                  <a:pt x="1385" y="366"/>
                </a:lnTo>
                <a:lnTo>
                  <a:pt x="1404" y="366"/>
                </a:lnTo>
                <a:lnTo>
                  <a:pt x="1289" y="209"/>
                </a:lnTo>
                <a:lnTo>
                  <a:pt x="1208" y="43"/>
                </a:lnTo>
                <a:lnTo>
                  <a:pt x="1206" y="14"/>
                </a:lnTo>
                <a:lnTo>
                  <a:pt x="1183" y="10"/>
                </a:lnTo>
                <a:lnTo>
                  <a:pt x="1106" y="0"/>
                </a:lnTo>
                <a:lnTo>
                  <a:pt x="1084" y="21"/>
                </a:lnTo>
                <a:lnTo>
                  <a:pt x="1100" y="92"/>
                </a:lnTo>
                <a:lnTo>
                  <a:pt x="1065" y="91"/>
                </a:lnTo>
                <a:lnTo>
                  <a:pt x="1061" y="57"/>
                </a:lnTo>
                <a:lnTo>
                  <a:pt x="541" y="84"/>
                </a:lnTo>
                <a:lnTo>
                  <a:pt x="506" y="33"/>
                </a:lnTo>
                <a:lnTo>
                  <a:pt x="4" y="70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1" name="Freeform 33"/>
          <p:cNvSpPr/>
          <p:nvPr/>
        </p:nvSpPr>
        <p:spPr>
          <a:xfrm>
            <a:off x="5261040" y="4997520"/>
            <a:ext cx="1130400" cy="8445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637" h="1065">
                <a:moveTo>
                  <a:pt x="4" y="70"/>
                </a:moveTo>
                <a:lnTo>
                  <a:pt x="0" y="99"/>
                </a:lnTo>
                <a:lnTo>
                  <a:pt x="50" y="139"/>
                </a:lnTo>
                <a:lnTo>
                  <a:pt x="38" y="163"/>
                </a:lnTo>
                <a:lnTo>
                  <a:pt x="54" y="178"/>
                </a:lnTo>
                <a:lnTo>
                  <a:pt x="34" y="204"/>
                </a:lnTo>
                <a:lnTo>
                  <a:pt x="73" y="192"/>
                </a:lnTo>
                <a:lnTo>
                  <a:pt x="90" y="171"/>
                </a:lnTo>
                <a:lnTo>
                  <a:pt x="90" y="151"/>
                </a:lnTo>
                <a:lnTo>
                  <a:pt x="108" y="163"/>
                </a:lnTo>
                <a:lnTo>
                  <a:pt x="123" y="144"/>
                </a:lnTo>
                <a:lnTo>
                  <a:pt x="136" y="163"/>
                </a:lnTo>
                <a:lnTo>
                  <a:pt x="98" y="187"/>
                </a:lnTo>
                <a:lnTo>
                  <a:pt x="206" y="164"/>
                </a:lnTo>
                <a:lnTo>
                  <a:pt x="227" y="146"/>
                </a:lnTo>
                <a:lnTo>
                  <a:pt x="241" y="154"/>
                </a:lnTo>
                <a:lnTo>
                  <a:pt x="281" y="144"/>
                </a:lnTo>
                <a:lnTo>
                  <a:pt x="300" y="156"/>
                </a:lnTo>
                <a:lnTo>
                  <a:pt x="227" y="163"/>
                </a:lnTo>
                <a:lnTo>
                  <a:pt x="250" y="170"/>
                </a:lnTo>
                <a:lnTo>
                  <a:pt x="331" y="185"/>
                </a:lnTo>
                <a:lnTo>
                  <a:pt x="381" y="209"/>
                </a:lnTo>
                <a:lnTo>
                  <a:pt x="366" y="176"/>
                </a:lnTo>
                <a:lnTo>
                  <a:pt x="393" y="202"/>
                </a:lnTo>
                <a:lnTo>
                  <a:pt x="427" y="205"/>
                </a:lnTo>
                <a:lnTo>
                  <a:pt x="397" y="214"/>
                </a:lnTo>
                <a:lnTo>
                  <a:pt x="452" y="240"/>
                </a:lnTo>
                <a:lnTo>
                  <a:pt x="472" y="260"/>
                </a:lnTo>
                <a:lnTo>
                  <a:pt x="472" y="283"/>
                </a:lnTo>
                <a:lnTo>
                  <a:pt x="451" y="255"/>
                </a:lnTo>
                <a:lnTo>
                  <a:pt x="462" y="291"/>
                </a:lnTo>
                <a:lnTo>
                  <a:pt x="506" y="277"/>
                </a:lnTo>
                <a:lnTo>
                  <a:pt x="533" y="276"/>
                </a:lnTo>
                <a:lnTo>
                  <a:pt x="555" y="260"/>
                </a:lnTo>
                <a:lnTo>
                  <a:pt x="562" y="271"/>
                </a:lnTo>
                <a:lnTo>
                  <a:pt x="620" y="231"/>
                </a:lnTo>
                <a:lnTo>
                  <a:pt x="659" y="229"/>
                </a:lnTo>
                <a:lnTo>
                  <a:pt x="645" y="217"/>
                </a:lnTo>
                <a:lnTo>
                  <a:pt x="670" y="187"/>
                </a:lnTo>
                <a:lnTo>
                  <a:pt x="728" y="185"/>
                </a:lnTo>
                <a:lnTo>
                  <a:pt x="788" y="211"/>
                </a:lnTo>
                <a:lnTo>
                  <a:pt x="824" y="248"/>
                </a:lnTo>
                <a:lnTo>
                  <a:pt x="853" y="255"/>
                </a:lnTo>
                <a:lnTo>
                  <a:pt x="861" y="283"/>
                </a:lnTo>
                <a:lnTo>
                  <a:pt x="899" y="300"/>
                </a:lnTo>
                <a:lnTo>
                  <a:pt x="915" y="320"/>
                </a:lnTo>
                <a:lnTo>
                  <a:pt x="934" y="337"/>
                </a:lnTo>
                <a:lnTo>
                  <a:pt x="986" y="341"/>
                </a:lnTo>
                <a:lnTo>
                  <a:pt x="1005" y="368"/>
                </a:lnTo>
                <a:lnTo>
                  <a:pt x="1034" y="426"/>
                </a:lnTo>
                <a:lnTo>
                  <a:pt x="1019" y="531"/>
                </a:lnTo>
                <a:lnTo>
                  <a:pt x="1023" y="596"/>
                </a:lnTo>
                <a:lnTo>
                  <a:pt x="1056" y="616"/>
                </a:lnTo>
                <a:lnTo>
                  <a:pt x="1061" y="584"/>
                </a:lnTo>
                <a:lnTo>
                  <a:pt x="1038" y="575"/>
                </a:lnTo>
                <a:lnTo>
                  <a:pt x="1044" y="553"/>
                </a:lnTo>
                <a:lnTo>
                  <a:pt x="1054" y="560"/>
                </a:lnTo>
                <a:lnTo>
                  <a:pt x="1077" y="565"/>
                </a:lnTo>
                <a:lnTo>
                  <a:pt x="1082" y="586"/>
                </a:lnTo>
                <a:lnTo>
                  <a:pt x="1098" y="562"/>
                </a:lnTo>
                <a:lnTo>
                  <a:pt x="1109" y="582"/>
                </a:lnTo>
                <a:lnTo>
                  <a:pt x="1065" y="652"/>
                </a:lnTo>
                <a:lnTo>
                  <a:pt x="1063" y="663"/>
                </a:lnTo>
                <a:lnTo>
                  <a:pt x="1092" y="675"/>
                </a:lnTo>
                <a:lnTo>
                  <a:pt x="1115" y="729"/>
                </a:lnTo>
                <a:lnTo>
                  <a:pt x="1146" y="757"/>
                </a:lnTo>
                <a:lnTo>
                  <a:pt x="1163" y="777"/>
                </a:lnTo>
                <a:lnTo>
                  <a:pt x="1188" y="777"/>
                </a:lnTo>
                <a:lnTo>
                  <a:pt x="1161" y="745"/>
                </a:lnTo>
                <a:lnTo>
                  <a:pt x="1183" y="750"/>
                </a:lnTo>
                <a:lnTo>
                  <a:pt x="1208" y="745"/>
                </a:lnTo>
                <a:lnTo>
                  <a:pt x="1196" y="757"/>
                </a:lnTo>
                <a:lnTo>
                  <a:pt x="1206" y="784"/>
                </a:lnTo>
                <a:lnTo>
                  <a:pt x="1217" y="824"/>
                </a:lnTo>
                <a:lnTo>
                  <a:pt x="1256" y="839"/>
                </a:lnTo>
                <a:lnTo>
                  <a:pt x="1266" y="863"/>
                </a:lnTo>
                <a:lnTo>
                  <a:pt x="1300" y="933"/>
                </a:lnTo>
                <a:lnTo>
                  <a:pt x="1345" y="933"/>
                </a:lnTo>
                <a:lnTo>
                  <a:pt x="1381" y="952"/>
                </a:lnTo>
                <a:lnTo>
                  <a:pt x="1439" y="1022"/>
                </a:lnTo>
                <a:lnTo>
                  <a:pt x="1489" y="1029"/>
                </a:lnTo>
                <a:lnTo>
                  <a:pt x="1491" y="1044"/>
                </a:lnTo>
                <a:lnTo>
                  <a:pt x="1477" y="1051"/>
                </a:lnTo>
                <a:lnTo>
                  <a:pt x="1439" y="1036"/>
                </a:lnTo>
                <a:lnTo>
                  <a:pt x="1454" y="1065"/>
                </a:lnTo>
                <a:lnTo>
                  <a:pt x="1501" y="1055"/>
                </a:lnTo>
                <a:lnTo>
                  <a:pt x="1541" y="1055"/>
                </a:lnTo>
                <a:lnTo>
                  <a:pt x="1558" y="1036"/>
                </a:lnTo>
                <a:lnTo>
                  <a:pt x="1593" y="1034"/>
                </a:lnTo>
                <a:lnTo>
                  <a:pt x="1610" y="1002"/>
                </a:lnTo>
                <a:lnTo>
                  <a:pt x="1605" y="961"/>
                </a:lnTo>
                <a:lnTo>
                  <a:pt x="1622" y="913"/>
                </a:lnTo>
                <a:lnTo>
                  <a:pt x="1637" y="916"/>
                </a:lnTo>
                <a:lnTo>
                  <a:pt x="1622" y="745"/>
                </a:lnTo>
                <a:lnTo>
                  <a:pt x="1605" y="695"/>
                </a:lnTo>
                <a:lnTo>
                  <a:pt x="1427" y="447"/>
                </a:lnTo>
                <a:lnTo>
                  <a:pt x="1385" y="366"/>
                </a:lnTo>
                <a:lnTo>
                  <a:pt x="1404" y="366"/>
                </a:lnTo>
                <a:lnTo>
                  <a:pt x="1289" y="209"/>
                </a:lnTo>
                <a:lnTo>
                  <a:pt x="1208" y="43"/>
                </a:lnTo>
                <a:lnTo>
                  <a:pt x="1206" y="14"/>
                </a:lnTo>
                <a:lnTo>
                  <a:pt x="1183" y="10"/>
                </a:lnTo>
                <a:lnTo>
                  <a:pt x="1106" y="0"/>
                </a:lnTo>
                <a:lnTo>
                  <a:pt x="1084" y="21"/>
                </a:lnTo>
                <a:lnTo>
                  <a:pt x="1100" y="92"/>
                </a:lnTo>
                <a:lnTo>
                  <a:pt x="1065" y="91"/>
                </a:lnTo>
                <a:lnTo>
                  <a:pt x="1061" y="57"/>
                </a:lnTo>
                <a:lnTo>
                  <a:pt x="541" y="84"/>
                </a:lnTo>
                <a:lnTo>
                  <a:pt x="506" y="33"/>
                </a:lnTo>
                <a:lnTo>
                  <a:pt x="4" y="70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2" name="Freeform 34"/>
          <p:cNvSpPr/>
          <p:nvPr/>
        </p:nvSpPr>
        <p:spPr>
          <a:xfrm>
            <a:off x="6192720" y="5905440"/>
            <a:ext cx="60480" cy="38160"/>
          </a:xfrm>
          <a:custGeom>
            <a:avLst/>
            <a:gdLst>
              <a:gd name="textAreaLeft" fmla="*/ 0 w 60480"/>
              <a:gd name="textAreaRight" fmla="*/ 60840 w 60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85" h="48">
                <a:moveTo>
                  <a:pt x="0" y="48"/>
                </a:moveTo>
                <a:lnTo>
                  <a:pt x="8" y="23"/>
                </a:lnTo>
                <a:lnTo>
                  <a:pt x="35" y="19"/>
                </a:lnTo>
                <a:lnTo>
                  <a:pt x="39" y="0"/>
                </a:lnTo>
                <a:lnTo>
                  <a:pt x="85" y="21"/>
                </a:lnTo>
                <a:lnTo>
                  <a:pt x="41" y="35"/>
                </a:lnTo>
                <a:lnTo>
                  <a:pt x="18" y="28"/>
                </a:lnTo>
                <a:lnTo>
                  <a:pt x="23" y="42"/>
                </a:lnTo>
                <a:lnTo>
                  <a:pt x="0" y="4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3" name="Freeform 35"/>
          <p:cNvSpPr/>
          <p:nvPr/>
        </p:nvSpPr>
        <p:spPr>
          <a:xfrm>
            <a:off x="6192720" y="5905440"/>
            <a:ext cx="60480" cy="38160"/>
          </a:xfrm>
          <a:custGeom>
            <a:avLst/>
            <a:gdLst>
              <a:gd name="textAreaLeft" fmla="*/ 0 w 60480"/>
              <a:gd name="textAreaRight" fmla="*/ 60840 w 60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85" h="48">
                <a:moveTo>
                  <a:pt x="0" y="48"/>
                </a:moveTo>
                <a:lnTo>
                  <a:pt x="8" y="23"/>
                </a:lnTo>
                <a:lnTo>
                  <a:pt x="35" y="19"/>
                </a:lnTo>
                <a:lnTo>
                  <a:pt x="39" y="0"/>
                </a:lnTo>
                <a:lnTo>
                  <a:pt x="85" y="21"/>
                </a:lnTo>
                <a:lnTo>
                  <a:pt x="41" y="35"/>
                </a:lnTo>
                <a:lnTo>
                  <a:pt x="18" y="28"/>
                </a:lnTo>
                <a:lnTo>
                  <a:pt x="23" y="42"/>
                </a:lnTo>
                <a:lnTo>
                  <a:pt x="0" y="4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4" name="Freeform 36"/>
          <p:cNvSpPr/>
          <p:nvPr/>
        </p:nvSpPr>
        <p:spPr>
          <a:xfrm>
            <a:off x="6273720" y="5881680"/>
            <a:ext cx="47880" cy="30240"/>
          </a:xfrm>
          <a:custGeom>
            <a:avLst/>
            <a:gdLst>
              <a:gd name="textAreaLeft" fmla="*/ 0 w 47880"/>
              <a:gd name="textAreaRight" fmla="*/ 48240 w 47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7" h="38">
                <a:moveTo>
                  <a:pt x="0" y="36"/>
                </a:moveTo>
                <a:lnTo>
                  <a:pt x="9" y="38"/>
                </a:lnTo>
                <a:lnTo>
                  <a:pt x="67" y="0"/>
                </a:lnTo>
                <a:lnTo>
                  <a:pt x="17" y="28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5" name="Freeform 37"/>
          <p:cNvSpPr/>
          <p:nvPr/>
        </p:nvSpPr>
        <p:spPr>
          <a:xfrm>
            <a:off x="6273720" y="5881680"/>
            <a:ext cx="47880" cy="30240"/>
          </a:xfrm>
          <a:custGeom>
            <a:avLst/>
            <a:gdLst>
              <a:gd name="textAreaLeft" fmla="*/ 0 w 47880"/>
              <a:gd name="textAreaRight" fmla="*/ 48240 w 47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7" h="38">
                <a:moveTo>
                  <a:pt x="0" y="36"/>
                </a:moveTo>
                <a:lnTo>
                  <a:pt x="9" y="38"/>
                </a:lnTo>
                <a:lnTo>
                  <a:pt x="67" y="0"/>
                </a:lnTo>
                <a:lnTo>
                  <a:pt x="17" y="28"/>
                </a:lnTo>
                <a:lnTo>
                  <a:pt x="0" y="3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6" name="Freeform 38"/>
          <p:cNvSpPr/>
          <p:nvPr/>
        </p:nvSpPr>
        <p:spPr>
          <a:xfrm>
            <a:off x="5464080" y="4378320"/>
            <a:ext cx="676440" cy="692280"/>
          </a:xfrm>
          <a:custGeom>
            <a:avLst/>
            <a:gdLst>
              <a:gd name="textAreaLeft" fmla="*/ 0 w 676440"/>
              <a:gd name="textAreaRight" fmla="*/ 676800 w 676440"/>
              <a:gd name="textAreaTop" fmla="*/ 0 h 692280"/>
              <a:gd name="textAreaBottom" fmla="*/ 692280 h 692280"/>
            </a:gdLst>
            <a:ahLst/>
            <a:rect l="textAreaLeft" t="textAreaTop" r="textAreaRight" b="textAreaBottom"/>
            <a:pathLst>
              <a:path w="979" h="874">
                <a:moveTo>
                  <a:pt x="0" y="46"/>
                </a:moveTo>
                <a:lnTo>
                  <a:pt x="129" y="453"/>
                </a:lnTo>
                <a:lnTo>
                  <a:pt x="176" y="518"/>
                </a:lnTo>
                <a:lnTo>
                  <a:pt x="193" y="571"/>
                </a:lnTo>
                <a:lnTo>
                  <a:pt x="174" y="606"/>
                </a:lnTo>
                <a:lnTo>
                  <a:pt x="166" y="660"/>
                </a:lnTo>
                <a:lnTo>
                  <a:pt x="210" y="815"/>
                </a:lnTo>
                <a:lnTo>
                  <a:pt x="245" y="866"/>
                </a:lnTo>
                <a:lnTo>
                  <a:pt x="765" y="839"/>
                </a:lnTo>
                <a:lnTo>
                  <a:pt x="769" y="873"/>
                </a:lnTo>
                <a:lnTo>
                  <a:pt x="804" y="874"/>
                </a:lnTo>
                <a:lnTo>
                  <a:pt x="788" y="803"/>
                </a:lnTo>
                <a:lnTo>
                  <a:pt x="810" y="782"/>
                </a:lnTo>
                <a:lnTo>
                  <a:pt x="887" y="792"/>
                </a:lnTo>
                <a:lnTo>
                  <a:pt x="898" y="744"/>
                </a:lnTo>
                <a:lnTo>
                  <a:pt x="887" y="738"/>
                </a:lnTo>
                <a:lnTo>
                  <a:pt x="906" y="726"/>
                </a:lnTo>
                <a:lnTo>
                  <a:pt x="875" y="714"/>
                </a:lnTo>
                <a:lnTo>
                  <a:pt x="891" y="696"/>
                </a:lnTo>
                <a:lnTo>
                  <a:pt x="887" y="672"/>
                </a:lnTo>
                <a:lnTo>
                  <a:pt x="921" y="652"/>
                </a:lnTo>
                <a:lnTo>
                  <a:pt x="910" y="626"/>
                </a:lnTo>
                <a:lnTo>
                  <a:pt x="925" y="619"/>
                </a:lnTo>
                <a:lnTo>
                  <a:pt x="935" y="595"/>
                </a:lnTo>
                <a:lnTo>
                  <a:pt x="921" y="589"/>
                </a:lnTo>
                <a:lnTo>
                  <a:pt x="948" y="571"/>
                </a:lnTo>
                <a:lnTo>
                  <a:pt x="933" y="554"/>
                </a:lnTo>
                <a:lnTo>
                  <a:pt x="956" y="554"/>
                </a:lnTo>
                <a:lnTo>
                  <a:pt x="979" y="530"/>
                </a:lnTo>
                <a:lnTo>
                  <a:pt x="970" y="518"/>
                </a:lnTo>
                <a:lnTo>
                  <a:pt x="937" y="515"/>
                </a:lnTo>
                <a:lnTo>
                  <a:pt x="914" y="489"/>
                </a:lnTo>
                <a:lnTo>
                  <a:pt x="875" y="431"/>
                </a:lnTo>
                <a:lnTo>
                  <a:pt x="854" y="424"/>
                </a:lnTo>
                <a:lnTo>
                  <a:pt x="808" y="344"/>
                </a:lnTo>
                <a:lnTo>
                  <a:pt x="746" y="311"/>
                </a:lnTo>
                <a:lnTo>
                  <a:pt x="702" y="256"/>
                </a:lnTo>
                <a:lnTo>
                  <a:pt x="594" y="186"/>
                </a:lnTo>
                <a:lnTo>
                  <a:pt x="538" y="125"/>
                </a:lnTo>
                <a:lnTo>
                  <a:pt x="420" y="61"/>
                </a:lnTo>
                <a:lnTo>
                  <a:pt x="457" y="0"/>
                </a:lnTo>
                <a:lnTo>
                  <a:pt x="235" y="20"/>
                </a:lnTo>
                <a:lnTo>
                  <a:pt x="0" y="4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7" name="Freeform 39"/>
          <p:cNvSpPr/>
          <p:nvPr/>
        </p:nvSpPr>
        <p:spPr>
          <a:xfrm>
            <a:off x="5464080" y="4378320"/>
            <a:ext cx="676440" cy="692280"/>
          </a:xfrm>
          <a:custGeom>
            <a:avLst/>
            <a:gdLst>
              <a:gd name="textAreaLeft" fmla="*/ 0 w 676440"/>
              <a:gd name="textAreaRight" fmla="*/ 676800 w 676440"/>
              <a:gd name="textAreaTop" fmla="*/ 0 h 692280"/>
              <a:gd name="textAreaBottom" fmla="*/ 692280 h 692280"/>
            </a:gdLst>
            <a:ahLst/>
            <a:rect l="textAreaLeft" t="textAreaTop" r="textAreaRight" b="textAreaBottom"/>
            <a:pathLst>
              <a:path w="979" h="874">
                <a:moveTo>
                  <a:pt x="0" y="46"/>
                </a:moveTo>
                <a:lnTo>
                  <a:pt x="129" y="453"/>
                </a:lnTo>
                <a:lnTo>
                  <a:pt x="176" y="518"/>
                </a:lnTo>
                <a:lnTo>
                  <a:pt x="193" y="571"/>
                </a:lnTo>
                <a:lnTo>
                  <a:pt x="174" y="606"/>
                </a:lnTo>
                <a:lnTo>
                  <a:pt x="166" y="660"/>
                </a:lnTo>
                <a:lnTo>
                  <a:pt x="210" y="815"/>
                </a:lnTo>
                <a:lnTo>
                  <a:pt x="245" y="866"/>
                </a:lnTo>
                <a:lnTo>
                  <a:pt x="765" y="839"/>
                </a:lnTo>
                <a:lnTo>
                  <a:pt x="769" y="873"/>
                </a:lnTo>
                <a:lnTo>
                  <a:pt x="804" y="874"/>
                </a:lnTo>
                <a:lnTo>
                  <a:pt x="788" y="803"/>
                </a:lnTo>
                <a:lnTo>
                  <a:pt x="810" y="782"/>
                </a:lnTo>
                <a:lnTo>
                  <a:pt x="887" y="792"/>
                </a:lnTo>
                <a:lnTo>
                  <a:pt x="898" y="744"/>
                </a:lnTo>
                <a:lnTo>
                  <a:pt x="887" y="738"/>
                </a:lnTo>
                <a:lnTo>
                  <a:pt x="906" y="726"/>
                </a:lnTo>
                <a:lnTo>
                  <a:pt x="875" y="714"/>
                </a:lnTo>
                <a:lnTo>
                  <a:pt x="891" y="696"/>
                </a:lnTo>
                <a:lnTo>
                  <a:pt x="887" y="672"/>
                </a:lnTo>
                <a:lnTo>
                  <a:pt x="921" y="652"/>
                </a:lnTo>
                <a:lnTo>
                  <a:pt x="910" y="626"/>
                </a:lnTo>
                <a:lnTo>
                  <a:pt x="925" y="619"/>
                </a:lnTo>
                <a:lnTo>
                  <a:pt x="935" y="595"/>
                </a:lnTo>
                <a:lnTo>
                  <a:pt x="921" y="589"/>
                </a:lnTo>
                <a:lnTo>
                  <a:pt x="948" y="571"/>
                </a:lnTo>
                <a:lnTo>
                  <a:pt x="933" y="554"/>
                </a:lnTo>
                <a:lnTo>
                  <a:pt x="956" y="554"/>
                </a:lnTo>
                <a:lnTo>
                  <a:pt x="979" y="530"/>
                </a:lnTo>
                <a:lnTo>
                  <a:pt x="970" y="518"/>
                </a:lnTo>
                <a:lnTo>
                  <a:pt x="937" y="515"/>
                </a:lnTo>
                <a:lnTo>
                  <a:pt x="914" y="489"/>
                </a:lnTo>
                <a:lnTo>
                  <a:pt x="875" y="431"/>
                </a:lnTo>
                <a:lnTo>
                  <a:pt x="854" y="424"/>
                </a:lnTo>
                <a:lnTo>
                  <a:pt x="808" y="344"/>
                </a:lnTo>
                <a:lnTo>
                  <a:pt x="746" y="311"/>
                </a:lnTo>
                <a:lnTo>
                  <a:pt x="702" y="256"/>
                </a:lnTo>
                <a:lnTo>
                  <a:pt x="594" y="186"/>
                </a:lnTo>
                <a:lnTo>
                  <a:pt x="538" y="125"/>
                </a:lnTo>
                <a:lnTo>
                  <a:pt x="420" y="61"/>
                </a:lnTo>
                <a:lnTo>
                  <a:pt x="457" y="0"/>
                </a:lnTo>
                <a:lnTo>
                  <a:pt x="235" y="20"/>
                </a:lnTo>
                <a:lnTo>
                  <a:pt x="0" y="46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8" name="Freeform 40"/>
          <p:cNvSpPr/>
          <p:nvPr/>
        </p:nvSpPr>
        <p:spPr>
          <a:xfrm>
            <a:off x="2444760" y="5315040"/>
            <a:ext cx="71280" cy="60120"/>
          </a:xfrm>
          <a:custGeom>
            <a:avLst/>
            <a:gdLst>
              <a:gd name="textAreaLeft" fmla="*/ 0 w 71280"/>
              <a:gd name="textAreaRight" fmla="*/ 71640 w 712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04" h="74">
                <a:moveTo>
                  <a:pt x="0" y="43"/>
                </a:moveTo>
                <a:lnTo>
                  <a:pt x="38" y="74"/>
                </a:lnTo>
                <a:lnTo>
                  <a:pt x="62" y="74"/>
                </a:lnTo>
                <a:lnTo>
                  <a:pt x="94" y="57"/>
                </a:lnTo>
                <a:lnTo>
                  <a:pt x="104" y="16"/>
                </a:lnTo>
                <a:lnTo>
                  <a:pt x="81" y="0"/>
                </a:lnTo>
                <a:lnTo>
                  <a:pt x="50" y="2"/>
                </a:lnTo>
                <a:lnTo>
                  <a:pt x="0" y="4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9" name="Freeform 41"/>
          <p:cNvSpPr/>
          <p:nvPr/>
        </p:nvSpPr>
        <p:spPr>
          <a:xfrm>
            <a:off x="2444760" y="5315040"/>
            <a:ext cx="71280" cy="60120"/>
          </a:xfrm>
          <a:custGeom>
            <a:avLst/>
            <a:gdLst>
              <a:gd name="textAreaLeft" fmla="*/ 0 w 71280"/>
              <a:gd name="textAreaRight" fmla="*/ 71640 w 712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04" h="74">
                <a:moveTo>
                  <a:pt x="0" y="43"/>
                </a:moveTo>
                <a:lnTo>
                  <a:pt x="38" y="74"/>
                </a:lnTo>
                <a:lnTo>
                  <a:pt x="62" y="74"/>
                </a:lnTo>
                <a:lnTo>
                  <a:pt x="94" y="57"/>
                </a:lnTo>
                <a:lnTo>
                  <a:pt x="104" y="16"/>
                </a:lnTo>
                <a:lnTo>
                  <a:pt x="81" y="0"/>
                </a:lnTo>
                <a:lnTo>
                  <a:pt x="50" y="2"/>
                </a:lnTo>
                <a:lnTo>
                  <a:pt x="0" y="4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0" name="Freeform 42"/>
          <p:cNvSpPr/>
          <p:nvPr/>
        </p:nvSpPr>
        <p:spPr>
          <a:xfrm>
            <a:off x="2665440" y="5400720"/>
            <a:ext cx="88920" cy="71280"/>
          </a:xfrm>
          <a:custGeom>
            <a:avLst/>
            <a:gdLst>
              <a:gd name="textAreaLeft" fmla="*/ 0 w 88920"/>
              <a:gd name="textAreaRight" fmla="*/ 89280 w 88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5" h="90">
                <a:moveTo>
                  <a:pt x="0" y="24"/>
                </a:moveTo>
                <a:lnTo>
                  <a:pt x="29" y="73"/>
                </a:lnTo>
                <a:lnTo>
                  <a:pt x="56" y="73"/>
                </a:lnTo>
                <a:lnTo>
                  <a:pt x="59" y="59"/>
                </a:lnTo>
                <a:lnTo>
                  <a:pt x="94" y="90"/>
                </a:lnTo>
                <a:lnTo>
                  <a:pt x="125" y="85"/>
                </a:lnTo>
                <a:lnTo>
                  <a:pt x="117" y="53"/>
                </a:lnTo>
                <a:lnTo>
                  <a:pt x="88" y="47"/>
                </a:lnTo>
                <a:lnTo>
                  <a:pt x="65" y="0"/>
                </a:lnTo>
                <a:lnTo>
                  <a:pt x="0" y="2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1" name="Freeform 43"/>
          <p:cNvSpPr/>
          <p:nvPr/>
        </p:nvSpPr>
        <p:spPr>
          <a:xfrm>
            <a:off x="2665440" y="5400720"/>
            <a:ext cx="88920" cy="71280"/>
          </a:xfrm>
          <a:custGeom>
            <a:avLst/>
            <a:gdLst>
              <a:gd name="textAreaLeft" fmla="*/ 0 w 88920"/>
              <a:gd name="textAreaRight" fmla="*/ 89280 w 88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5" h="90">
                <a:moveTo>
                  <a:pt x="0" y="24"/>
                </a:moveTo>
                <a:lnTo>
                  <a:pt x="29" y="73"/>
                </a:lnTo>
                <a:lnTo>
                  <a:pt x="56" y="73"/>
                </a:lnTo>
                <a:lnTo>
                  <a:pt x="59" y="59"/>
                </a:lnTo>
                <a:lnTo>
                  <a:pt x="94" y="90"/>
                </a:lnTo>
                <a:lnTo>
                  <a:pt x="125" y="85"/>
                </a:lnTo>
                <a:lnTo>
                  <a:pt x="117" y="53"/>
                </a:lnTo>
                <a:lnTo>
                  <a:pt x="88" y="47"/>
                </a:lnTo>
                <a:lnTo>
                  <a:pt x="65" y="0"/>
                </a:lnTo>
                <a:lnTo>
                  <a:pt x="0" y="24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2" name="Freeform 44"/>
          <p:cNvSpPr/>
          <p:nvPr/>
        </p:nvSpPr>
        <p:spPr>
          <a:xfrm>
            <a:off x="2803680" y="5473800"/>
            <a:ext cx="83880" cy="25200"/>
          </a:xfrm>
          <a:custGeom>
            <a:avLst/>
            <a:gdLst>
              <a:gd name="textAreaLeft" fmla="*/ 0 w 83880"/>
              <a:gd name="textAreaRight" fmla="*/ 84240 w 83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5" h="29">
                <a:moveTo>
                  <a:pt x="0" y="22"/>
                </a:moveTo>
                <a:lnTo>
                  <a:pt x="16" y="0"/>
                </a:lnTo>
                <a:lnTo>
                  <a:pt x="125" y="10"/>
                </a:lnTo>
                <a:lnTo>
                  <a:pt x="104" y="29"/>
                </a:lnTo>
                <a:lnTo>
                  <a:pt x="0" y="2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3" name="Freeform 45"/>
          <p:cNvSpPr/>
          <p:nvPr/>
        </p:nvSpPr>
        <p:spPr>
          <a:xfrm>
            <a:off x="2803680" y="5473800"/>
            <a:ext cx="83880" cy="25200"/>
          </a:xfrm>
          <a:custGeom>
            <a:avLst/>
            <a:gdLst>
              <a:gd name="textAreaLeft" fmla="*/ 0 w 83880"/>
              <a:gd name="textAreaRight" fmla="*/ 84240 w 83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5" h="29">
                <a:moveTo>
                  <a:pt x="0" y="22"/>
                </a:moveTo>
                <a:lnTo>
                  <a:pt x="16" y="0"/>
                </a:lnTo>
                <a:lnTo>
                  <a:pt x="125" y="10"/>
                </a:lnTo>
                <a:lnTo>
                  <a:pt x="104" y="29"/>
                </a:lnTo>
                <a:lnTo>
                  <a:pt x="0" y="2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4" name="Freeform 46"/>
          <p:cNvSpPr/>
          <p:nvPr/>
        </p:nvSpPr>
        <p:spPr>
          <a:xfrm>
            <a:off x="2843280" y="5521320"/>
            <a:ext cx="33120" cy="27000"/>
          </a:xfrm>
          <a:custGeom>
            <a:avLst/>
            <a:gdLst>
              <a:gd name="textAreaLeft" fmla="*/ 0 w 33120"/>
              <a:gd name="textAreaRight" fmla="*/ 33480 w 33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8" h="32">
                <a:moveTo>
                  <a:pt x="0" y="0"/>
                </a:moveTo>
                <a:lnTo>
                  <a:pt x="15" y="32"/>
                </a:lnTo>
                <a:lnTo>
                  <a:pt x="48" y="20"/>
                </a:lnTo>
                <a:lnTo>
                  <a:pt x="33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5" name="Freeform 47"/>
          <p:cNvSpPr/>
          <p:nvPr/>
        </p:nvSpPr>
        <p:spPr>
          <a:xfrm>
            <a:off x="2843280" y="5521320"/>
            <a:ext cx="33120" cy="27000"/>
          </a:xfrm>
          <a:custGeom>
            <a:avLst/>
            <a:gdLst>
              <a:gd name="textAreaLeft" fmla="*/ 0 w 33120"/>
              <a:gd name="textAreaRight" fmla="*/ 33480 w 33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8" h="32">
                <a:moveTo>
                  <a:pt x="0" y="0"/>
                </a:moveTo>
                <a:lnTo>
                  <a:pt x="15" y="32"/>
                </a:lnTo>
                <a:lnTo>
                  <a:pt x="48" y="20"/>
                </a:lnTo>
                <a:lnTo>
                  <a:pt x="33" y="0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6" name="Freeform 48"/>
          <p:cNvSpPr/>
          <p:nvPr/>
        </p:nvSpPr>
        <p:spPr>
          <a:xfrm>
            <a:off x="2894040" y="5500800"/>
            <a:ext cx="108000" cy="64800"/>
          </a:xfrm>
          <a:custGeom>
            <a:avLst/>
            <a:gdLst>
              <a:gd name="textAreaLeft" fmla="*/ 0 w 108000"/>
              <a:gd name="textAreaRight" fmla="*/ 108360 w 1080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58" h="82">
                <a:moveTo>
                  <a:pt x="0" y="21"/>
                </a:moveTo>
                <a:lnTo>
                  <a:pt x="21" y="0"/>
                </a:lnTo>
                <a:lnTo>
                  <a:pt x="45" y="21"/>
                </a:lnTo>
                <a:lnTo>
                  <a:pt x="97" y="17"/>
                </a:lnTo>
                <a:lnTo>
                  <a:pt x="158" y="55"/>
                </a:lnTo>
                <a:lnTo>
                  <a:pt x="135" y="69"/>
                </a:lnTo>
                <a:lnTo>
                  <a:pt x="64" y="82"/>
                </a:lnTo>
                <a:lnTo>
                  <a:pt x="48" y="46"/>
                </a:lnTo>
                <a:lnTo>
                  <a:pt x="21" y="46"/>
                </a:lnTo>
                <a:lnTo>
                  <a:pt x="0" y="2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7" name="Freeform 49"/>
          <p:cNvSpPr/>
          <p:nvPr/>
        </p:nvSpPr>
        <p:spPr>
          <a:xfrm>
            <a:off x="2894040" y="5500800"/>
            <a:ext cx="108000" cy="64800"/>
          </a:xfrm>
          <a:custGeom>
            <a:avLst/>
            <a:gdLst>
              <a:gd name="textAreaLeft" fmla="*/ 0 w 108000"/>
              <a:gd name="textAreaRight" fmla="*/ 108360 w 1080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58" h="82">
                <a:moveTo>
                  <a:pt x="0" y="21"/>
                </a:moveTo>
                <a:lnTo>
                  <a:pt x="21" y="0"/>
                </a:lnTo>
                <a:lnTo>
                  <a:pt x="45" y="21"/>
                </a:lnTo>
                <a:lnTo>
                  <a:pt x="97" y="17"/>
                </a:lnTo>
                <a:lnTo>
                  <a:pt x="158" y="55"/>
                </a:lnTo>
                <a:lnTo>
                  <a:pt x="135" y="69"/>
                </a:lnTo>
                <a:lnTo>
                  <a:pt x="64" y="82"/>
                </a:lnTo>
                <a:lnTo>
                  <a:pt x="48" y="46"/>
                </a:lnTo>
                <a:lnTo>
                  <a:pt x="21" y="46"/>
                </a:lnTo>
                <a:lnTo>
                  <a:pt x="0" y="2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8" name="Freeform 50"/>
          <p:cNvSpPr/>
          <p:nvPr/>
        </p:nvSpPr>
        <p:spPr>
          <a:xfrm>
            <a:off x="2989440" y="5619600"/>
            <a:ext cx="179280" cy="200160"/>
          </a:xfrm>
          <a:custGeom>
            <a:avLst/>
            <a:gdLst>
              <a:gd name="textAreaLeft" fmla="*/ 0 w 179280"/>
              <a:gd name="textAreaRight" fmla="*/ 179640 w 1792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62" h="254">
                <a:moveTo>
                  <a:pt x="0" y="98"/>
                </a:moveTo>
                <a:lnTo>
                  <a:pt x="35" y="170"/>
                </a:lnTo>
                <a:lnTo>
                  <a:pt x="29" y="226"/>
                </a:lnTo>
                <a:lnTo>
                  <a:pt x="83" y="254"/>
                </a:lnTo>
                <a:lnTo>
                  <a:pt x="115" y="211"/>
                </a:lnTo>
                <a:lnTo>
                  <a:pt x="227" y="171"/>
                </a:lnTo>
                <a:lnTo>
                  <a:pt x="262" y="139"/>
                </a:lnTo>
                <a:lnTo>
                  <a:pt x="171" y="48"/>
                </a:lnTo>
                <a:lnTo>
                  <a:pt x="40" y="0"/>
                </a:lnTo>
                <a:lnTo>
                  <a:pt x="29" y="14"/>
                </a:lnTo>
                <a:lnTo>
                  <a:pt x="44" y="52"/>
                </a:lnTo>
                <a:lnTo>
                  <a:pt x="0" y="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9" name="Freeform 51"/>
          <p:cNvSpPr/>
          <p:nvPr/>
        </p:nvSpPr>
        <p:spPr>
          <a:xfrm>
            <a:off x="2989440" y="5619600"/>
            <a:ext cx="179280" cy="200160"/>
          </a:xfrm>
          <a:custGeom>
            <a:avLst/>
            <a:gdLst>
              <a:gd name="textAreaLeft" fmla="*/ 0 w 179280"/>
              <a:gd name="textAreaRight" fmla="*/ 179640 w 1792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62" h="254">
                <a:moveTo>
                  <a:pt x="0" y="98"/>
                </a:moveTo>
                <a:lnTo>
                  <a:pt x="35" y="170"/>
                </a:lnTo>
                <a:lnTo>
                  <a:pt x="29" y="226"/>
                </a:lnTo>
                <a:lnTo>
                  <a:pt x="83" y="254"/>
                </a:lnTo>
                <a:lnTo>
                  <a:pt x="115" y="211"/>
                </a:lnTo>
                <a:lnTo>
                  <a:pt x="227" y="171"/>
                </a:lnTo>
                <a:lnTo>
                  <a:pt x="262" y="139"/>
                </a:lnTo>
                <a:lnTo>
                  <a:pt x="171" y="48"/>
                </a:lnTo>
                <a:lnTo>
                  <a:pt x="40" y="0"/>
                </a:lnTo>
                <a:lnTo>
                  <a:pt x="29" y="14"/>
                </a:lnTo>
                <a:lnTo>
                  <a:pt x="44" y="52"/>
                </a:lnTo>
                <a:lnTo>
                  <a:pt x="0" y="9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0" name="Freeform 52"/>
          <p:cNvSpPr/>
          <p:nvPr/>
        </p:nvSpPr>
        <p:spPr>
          <a:xfrm>
            <a:off x="1730520" y="2054160"/>
            <a:ext cx="744480" cy="1185840"/>
          </a:xfrm>
          <a:custGeom>
            <a:avLst/>
            <a:gdLst>
              <a:gd name="textAreaLeft" fmla="*/ 0 w 744480"/>
              <a:gd name="textAreaRight" fmla="*/ 744840 w 7444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077" h="1495">
                <a:moveTo>
                  <a:pt x="0" y="1329"/>
                </a:moveTo>
                <a:lnTo>
                  <a:pt x="87" y="1007"/>
                </a:lnTo>
                <a:lnTo>
                  <a:pt x="129" y="923"/>
                </a:lnTo>
                <a:lnTo>
                  <a:pt x="91" y="882"/>
                </a:lnTo>
                <a:lnTo>
                  <a:pt x="99" y="844"/>
                </a:lnTo>
                <a:lnTo>
                  <a:pt x="168" y="790"/>
                </a:lnTo>
                <a:lnTo>
                  <a:pt x="224" y="714"/>
                </a:lnTo>
                <a:lnTo>
                  <a:pt x="274" y="651"/>
                </a:lnTo>
                <a:lnTo>
                  <a:pt x="235" y="601"/>
                </a:lnTo>
                <a:lnTo>
                  <a:pt x="220" y="567"/>
                </a:lnTo>
                <a:lnTo>
                  <a:pt x="226" y="485"/>
                </a:lnTo>
                <a:lnTo>
                  <a:pt x="359" y="0"/>
                </a:lnTo>
                <a:lnTo>
                  <a:pt x="503" y="28"/>
                </a:lnTo>
                <a:lnTo>
                  <a:pt x="455" y="218"/>
                </a:lnTo>
                <a:lnTo>
                  <a:pt x="486" y="283"/>
                </a:lnTo>
                <a:lnTo>
                  <a:pt x="490" y="327"/>
                </a:lnTo>
                <a:lnTo>
                  <a:pt x="472" y="332"/>
                </a:lnTo>
                <a:lnTo>
                  <a:pt x="528" y="377"/>
                </a:lnTo>
                <a:lnTo>
                  <a:pt x="584" y="499"/>
                </a:lnTo>
                <a:lnTo>
                  <a:pt x="603" y="492"/>
                </a:lnTo>
                <a:lnTo>
                  <a:pt x="605" y="512"/>
                </a:lnTo>
                <a:lnTo>
                  <a:pt x="632" y="517"/>
                </a:lnTo>
                <a:lnTo>
                  <a:pt x="653" y="519"/>
                </a:lnTo>
                <a:lnTo>
                  <a:pt x="601" y="608"/>
                </a:lnTo>
                <a:lnTo>
                  <a:pt x="609" y="666"/>
                </a:lnTo>
                <a:lnTo>
                  <a:pt x="571" y="723"/>
                </a:lnTo>
                <a:lnTo>
                  <a:pt x="598" y="747"/>
                </a:lnTo>
                <a:lnTo>
                  <a:pt x="669" y="711"/>
                </a:lnTo>
                <a:lnTo>
                  <a:pt x="725" y="901"/>
                </a:lnTo>
                <a:lnTo>
                  <a:pt x="756" y="909"/>
                </a:lnTo>
                <a:lnTo>
                  <a:pt x="763" y="969"/>
                </a:lnTo>
                <a:lnTo>
                  <a:pt x="792" y="993"/>
                </a:lnTo>
                <a:lnTo>
                  <a:pt x="813" y="971"/>
                </a:lnTo>
                <a:lnTo>
                  <a:pt x="860" y="990"/>
                </a:lnTo>
                <a:lnTo>
                  <a:pt x="890" y="969"/>
                </a:lnTo>
                <a:lnTo>
                  <a:pt x="993" y="988"/>
                </a:lnTo>
                <a:lnTo>
                  <a:pt x="1014" y="992"/>
                </a:lnTo>
                <a:lnTo>
                  <a:pt x="1037" y="952"/>
                </a:lnTo>
                <a:lnTo>
                  <a:pt x="1077" y="1014"/>
                </a:lnTo>
                <a:lnTo>
                  <a:pt x="985" y="1495"/>
                </a:lnTo>
                <a:lnTo>
                  <a:pt x="490" y="1420"/>
                </a:lnTo>
                <a:lnTo>
                  <a:pt x="0" y="132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1" name="Freeform 53"/>
          <p:cNvSpPr/>
          <p:nvPr/>
        </p:nvSpPr>
        <p:spPr>
          <a:xfrm>
            <a:off x="1730520" y="2054160"/>
            <a:ext cx="744480" cy="1185840"/>
          </a:xfrm>
          <a:custGeom>
            <a:avLst/>
            <a:gdLst>
              <a:gd name="textAreaLeft" fmla="*/ 0 w 744480"/>
              <a:gd name="textAreaRight" fmla="*/ 744840 w 744480"/>
              <a:gd name="textAreaTop" fmla="*/ 0 h 1185840"/>
              <a:gd name="textAreaBottom" fmla="*/ 1186200 h 1185840"/>
            </a:gdLst>
            <a:ahLst/>
            <a:rect l="textAreaLeft" t="textAreaTop" r="textAreaRight" b="textAreaBottom"/>
            <a:pathLst>
              <a:path w="1077" h="1495">
                <a:moveTo>
                  <a:pt x="0" y="1329"/>
                </a:moveTo>
                <a:lnTo>
                  <a:pt x="87" y="1007"/>
                </a:lnTo>
                <a:lnTo>
                  <a:pt x="129" y="923"/>
                </a:lnTo>
                <a:lnTo>
                  <a:pt x="91" y="882"/>
                </a:lnTo>
                <a:lnTo>
                  <a:pt x="99" y="844"/>
                </a:lnTo>
                <a:lnTo>
                  <a:pt x="168" y="790"/>
                </a:lnTo>
                <a:lnTo>
                  <a:pt x="224" y="714"/>
                </a:lnTo>
                <a:lnTo>
                  <a:pt x="274" y="651"/>
                </a:lnTo>
                <a:lnTo>
                  <a:pt x="235" y="601"/>
                </a:lnTo>
                <a:lnTo>
                  <a:pt x="220" y="567"/>
                </a:lnTo>
                <a:lnTo>
                  <a:pt x="226" y="485"/>
                </a:lnTo>
                <a:lnTo>
                  <a:pt x="359" y="0"/>
                </a:lnTo>
                <a:lnTo>
                  <a:pt x="503" y="28"/>
                </a:lnTo>
                <a:lnTo>
                  <a:pt x="455" y="218"/>
                </a:lnTo>
                <a:lnTo>
                  <a:pt x="486" y="283"/>
                </a:lnTo>
                <a:lnTo>
                  <a:pt x="490" y="327"/>
                </a:lnTo>
                <a:lnTo>
                  <a:pt x="472" y="332"/>
                </a:lnTo>
                <a:lnTo>
                  <a:pt x="528" y="377"/>
                </a:lnTo>
                <a:lnTo>
                  <a:pt x="584" y="499"/>
                </a:lnTo>
                <a:lnTo>
                  <a:pt x="603" y="492"/>
                </a:lnTo>
                <a:lnTo>
                  <a:pt x="605" y="512"/>
                </a:lnTo>
                <a:lnTo>
                  <a:pt x="632" y="517"/>
                </a:lnTo>
                <a:lnTo>
                  <a:pt x="653" y="519"/>
                </a:lnTo>
                <a:lnTo>
                  <a:pt x="601" y="608"/>
                </a:lnTo>
                <a:lnTo>
                  <a:pt x="609" y="666"/>
                </a:lnTo>
                <a:lnTo>
                  <a:pt x="571" y="723"/>
                </a:lnTo>
                <a:lnTo>
                  <a:pt x="598" y="747"/>
                </a:lnTo>
                <a:lnTo>
                  <a:pt x="669" y="711"/>
                </a:lnTo>
                <a:lnTo>
                  <a:pt x="725" y="901"/>
                </a:lnTo>
                <a:lnTo>
                  <a:pt x="756" y="909"/>
                </a:lnTo>
                <a:lnTo>
                  <a:pt x="763" y="969"/>
                </a:lnTo>
                <a:lnTo>
                  <a:pt x="792" y="993"/>
                </a:lnTo>
                <a:lnTo>
                  <a:pt x="813" y="971"/>
                </a:lnTo>
                <a:lnTo>
                  <a:pt x="860" y="990"/>
                </a:lnTo>
                <a:lnTo>
                  <a:pt x="890" y="969"/>
                </a:lnTo>
                <a:lnTo>
                  <a:pt x="993" y="988"/>
                </a:lnTo>
                <a:lnTo>
                  <a:pt x="1014" y="992"/>
                </a:lnTo>
                <a:lnTo>
                  <a:pt x="1037" y="952"/>
                </a:lnTo>
                <a:lnTo>
                  <a:pt x="1077" y="1014"/>
                </a:lnTo>
                <a:lnTo>
                  <a:pt x="985" y="1495"/>
                </a:lnTo>
                <a:lnTo>
                  <a:pt x="490" y="1420"/>
                </a:lnTo>
                <a:lnTo>
                  <a:pt x="0" y="1329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2" name="Freeform 54"/>
          <p:cNvSpPr/>
          <p:nvPr/>
        </p:nvSpPr>
        <p:spPr>
          <a:xfrm>
            <a:off x="4681440" y="3270240"/>
            <a:ext cx="486000" cy="870120"/>
          </a:xfrm>
          <a:custGeom>
            <a:avLst/>
            <a:gdLst>
              <a:gd name="textAreaLeft" fmla="*/ 0 w 486000"/>
              <a:gd name="textAreaRight" fmla="*/ 486360 w 48600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709" h="1098">
                <a:moveTo>
                  <a:pt x="0" y="485"/>
                </a:moveTo>
                <a:lnTo>
                  <a:pt x="15" y="451"/>
                </a:lnTo>
                <a:lnTo>
                  <a:pt x="61" y="386"/>
                </a:lnTo>
                <a:lnTo>
                  <a:pt x="88" y="312"/>
                </a:lnTo>
                <a:lnTo>
                  <a:pt x="61" y="259"/>
                </a:lnTo>
                <a:lnTo>
                  <a:pt x="185" y="180"/>
                </a:lnTo>
                <a:lnTo>
                  <a:pt x="210" y="136"/>
                </a:lnTo>
                <a:lnTo>
                  <a:pt x="210" y="117"/>
                </a:lnTo>
                <a:lnTo>
                  <a:pt x="121" y="28"/>
                </a:lnTo>
                <a:lnTo>
                  <a:pt x="595" y="0"/>
                </a:lnTo>
                <a:lnTo>
                  <a:pt x="607" y="69"/>
                </a:lnTo>
                <a:lnTo>
                  <a:pt x="653" y="149"/>
                </a:lnTo>
                <a:lnTo>
                  <a:pt x="693" y="565"/>
                </a:lnTo>
                <a:lnTo>
                  <a:pt x="684" y="653"/>
                </a:lnTo>
                <a:lnTo>
                  <a:pt x="709" y="704"/>
                </a:lnTo>
                <a:lnTo>
                  <a:pt x="682" y="798"/>
                </a:lnTo>
                <a:lnTo>
                  <a:pt x="645" y="841"/>
                </a:lnTo>
                <a:lnTo>
                  <a:pt x="626" y="908"/>
                </a:lnTo>
                <a:lnTo>
                  <a:pt x="643" y="927"/>
                </a:lnTo>
                <a:lnTo>
                  <a:pt x="628" y="969"/>
                </a:lnTo>
                <a:lnTo>
                  <a:pt x="637" y="985"/>
                </a:lnTo>
                <a:lnTo>
                  <a:pt x="582" y="1005"/>
                </a:lnTo>
                <a:lnTo>
                  <a:pt x="570" y="1074"/>
                </a:lnTo>
                <a:lnTo>
                  <a:pt x="491" y="1048"/>
                </a:lnTo>
                <a:lnTo>
                  <a:pt x="447" y="1083"/>
                </a:lnTo>
                <a:lnTo>
                  <a:pt x="449" y="1098"/>
                </a:lnTo>
                <a:lnTo>
                  <a:pt x="422" y="1096"/>
                </a:lnTo>
                <a:lnTo>
                  <a:pt x="393" y="1048"/>
                </a:lnTo>
                <a:lnTo>
                  <a:pt x="379" y="985"/>
                </a:lnTo>
                <a:lnTo>
                  <a:pt x="348" y="946"/>
                </a:lnTo>
                <a:lnTo>
                  <a:pt x="300" y="927"/>
                </a:lnTo>
                <a:lnTo>
                  <a:pt x="242" y="886"/>
                </a:lnTo>
                <a:lnTo>
                  <a:pt x="221" y="833"/>
                </a:lnTo>
                <a:lnTo>
                  <a:pt x="254" y="747"/>
                </a:lnTo>
                <a:lnTo>
                  <a:pt x="225" y="728"/>
                </a:lnTo>
                <a:lnTo>
                  <a:pt x="156" y="730"/>
                </a:lnTo>
                <a:lnTo>
                  <a:pt x="144" y="677"/>
                </a:lnTo>
                <a:lnTo>
                  <a:pt x="29" y="572"/>
                </a:lnTo>
                <a:lnTo>
                  <a:pt x="0" y="48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3" name="Freeform 55"/>
          <p:cNvSpPr/>
          <p:nvPr/>
        </p:nvSpPr>
        <p:spPr>
          <a:xfrm>
            <a:off x="4681440" y="3270240"/>
            <a:ext cx="486000" cy="870120"/>
          </a:xfrm>
          <a:custGeom>
            <a:avLst/>
            <a:gdLst>
              <a:gd name="textAreaLeft" fmla="*/ 0 w 486000"/>
              <a:gd name="textAreaRight" fmla="*/ 486360 w 48600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709" h="1098">
                <a:moveTo>
                  <a:pt x="0" y="485"/>
                </a:moveTo>
                <a:lnTo>
                  <a:pt x="15" y="451"/>
                </a:lnTo>
                <a:lnTo>
                  <a:pt x="61" y="386"/>
                </a:lnTo>
                <a:lnTo>
                  <a:pt x="88" y="312"/>
                </a:lnTo>
                <a:lnTo>
                  <a:pt x="61" y="259"/>
                </a:lnTo>
                <a:lnTo>
                  <a:pt x="185" y="180"/>
                </a:lnTo>
                <a:lnTo>
                  <a:pt x="210" y="136"/>
                </a:lnTo>
                <a:lnTo>
                  <a:pt x="210" y="117"/>
                </a:lnTo>
                <a:lnTo>
                  <a:pt x="121" y="28"/>
                </a:lnTo>
                <a:lnTo>
                  <a:pt x="595" y="0"/>
                </a:lnTo>
                <a:lnTo>
                  <a:pt x="607" y="69"/>
                </a:lnTo>
                <a:lnTo>
                  <a:pt x="653" y="149"/>
                </a:lnTo>
                <a:lnTo>
                  <a:pt x="693" y="565"/>
                </a:lnTo>
                <a:lnTo>
                  <a:pt x="684" y="653"/>
                </a:lnTo>
                <a:lnTo>
                  <a:pt x="709" y="704"/>
                </a:lnTo>
                <a:lnTo>
                  <a:pt x="682" y="798"/>
                </a:lnTo>
                <a:lnTo>
                  <a:pt x="645" y="841"/>
                </a:lnTo>
                <a:lnTo>
                  <a:pt x="626" y="908"/>
                </a:lnTo>
                <a:lnTo>
                  <a:pt x="643" y="927"/>
                </a:lnTo>
                <a:lnTo>
                  <a:pt x="628" y="969"/>
                </a:lnTo>
                <a:lnTo>
                  <a:pt x="637" y="985"/>
                </a:lnTo>
                <a:lnTo>
                  <a:pt x="582" y="1005"/>
                </a:lnTo>
                <a:lnTo>
                  <a:pt x="570" y="1074"/>
                </a:lnTo>
                <a:lnTo>
                  <a:pt x="491" y="1048"/>
                </a:lnTo>
                <a:lnTo>
                  <a:pt x="447" y="1083"/>
                </a:lnTo>
                <a:lnTo>
                  <a:pt x="449" y="1098"/>
                </a:lnTo>
                <a:lnTo>
                  <a:pt x="422" y="1096"/>
                </a:lnTo>
                <a:lnTo>
                  <a:pt x="393" y="1048"/>
                </a:lnTo>
                <a:lnTo>
                  <a:pt x="379" y="985"/>
                </a:lnTo>
                <a:lnTo>
                  <a:pt x="348" y="946"/>
                </a:lnTo>
                <a:lnTo>
                  <a:pt x="300" y="927"/>
                </a:lnTo>
                <a:lnTo>
                  <a:pt x="242" y="886"/>
                </a:lnTo>
                <a:lnTo>
                  <a:pt x="221" y="833"/>
                </a:lnTo>
                <a:lnTo>
                  <a:pt x="254" y="747"/>
                </a:lnTo>
                <a:lnTo>
                  <a:pt x="225" y="728"/>
                </a:lnTo>
                <a:lnTo>
                  <a:pt x="156" y="730"/>
                </a:lnTo>
                <a:lnTo>
                  <a:pt x="144" y="677"/>
                </a:lnTo>
                <a:lnTo>
                  <a:pt x="29" y="572"/>
                </a:lnTo>
                <a:lnTo>
                  <a:pt x="0" y="485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4" name="Freeform 56"/>
          <p:cNvSpPr/>
          <p:nvPr/>
        </p:nvSpPr>
        <p:spPr>
          <a:xfrm>
            <a:off x="5111640" y="3351240"/>
            <a:ext cx="385920" cy="652320"/>
          </a:xfrm>
          <a:custGeom>
            <a:avLst/>
            <a:gdLst>
              <a:gd name="textAreaLeft" fmla="*/ 0 w 385920"/>
              <a:gd name="textAreaRight" fmla="*/ 386280 w 385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559" h="826">
                <a:moveTo>
                  <a:pt x="0" y="807"/>
                </a:moveTo>
                <a:lnTo>
                  <a:pt x="17" y="826"/>
                </a:lnTo>
                <a:lnTo>
                  <a:pt x="33" y="803"/>
                </a:lnTo>
                <a:lnTo>
                  <a:pt x="115" y="790"/>
                </a:lnTo>
                <a:lnTo>
                  <a:pt x="141" y="797"/>
                </a:lnTo>
                <a:lnTo>
                  <a:pt x="229" y="773"/>
                </a:lnTo>
                <a:lnTo>
                  <a:pt x="260" y="797"/>
                </a:lnTo>
                <a:lnTo>
                  <a:pt x="289" y="740"/>
                </a:lnTo>
                <a:lnTo>
                  <a:pt x="314" y="725"/>
                </a:lnTo>
                <a:lnTo>
                  <a:pt x="378" y="755"/>
                </a:lnTo>
                <a:lnTo>
                  <a:pt x="387" y="721"/>
                </a:lnTo>
                <a:lnTo>
                  <a:pt x="455" y="648"/>
                </a:lnTo>
                <a:lnTo>
                  <a:pt x="470" y="603"/>
                </a:lnTo>
                <a:lnTo>
                  <a:pt x="497" y="610"/>
                </a:lnTo>
                <a:lnTo>
                  <a:pt x="559" y="572"/>
                </a:lnTo>
                <a:lnTo>
                  <a:pt x="541" y="540"/>
                </a:lnTo>
                <a:lnTo>
                  <a:pt x="549" y="519"/>
                </a:lnTo>
                <a:lnTo>
                  <a:pt x="489" y="14"/>
                </a:lnTo>
                <a:lnTo>
                  <a:pt x="482" y="0"/>
                </a:lnTo>
                <a:lnTo>
                  <a:pt x="148" y="33"/>
                </a:lnTo>
                <a:lnTo>
                  <a:pt x="83" y="64"/>
                </a:lnTo>
                <a:lnTo>
                  <a:pt x="27" y="48"/>
                </a:lnTo>
                <a:lnTo>
                  <a:pt x="67" y="464"/>
                </a:lnTo>
                <a:lnTo>
                  <a:pt x="58" y="552"/>
                </a:lnTo>
                <a:lnTo>
                  <a:pt x="83" y="603"/>
                </a:lnTo>
                <a:lnTo>
                  <a:pt x="56" y="697"/>
                </a:lnTo>
                <a:lnTo>
                  <a:pt x="19" y="740"/>
                </a:lnTo>
                <a:lnTo>
                  <a:pt x="0" y="80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5" name="Freeform 57"/>
          <p:cNvSpPr/>
          <p:nvPr/>
        </p:nvSpPr>
        <p:spPr>
          <a:xfrm>
            <a:off x="5111640" y="3351240"/>
            <a:ext cx="385920" cy="652320"/>
          </a:xfrm>
          <a:custGeom>
            <a:avLst/>
            <a:gdLst>
              <a:gd name="textAreaLeft" fmla="*/ 0 w 385920"/>
              <a:gd name="textAreaRight" fmla="*/ 386280 w 385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559" h="826">
                <a:moveTo>
                  <a:pt x="0" y="807"/>
                </a:moveTo>
                <a:lnTo>
                  <a:pt x="17" y="826"/>
                </a:lnTo>
                <a:lnTo>
                  <a:pt x="33" y="803"/>
                </a:lnTo>
                <a:lnTo>
                  <a:pt x="115" y="790"/>
                </a:lnTo>
                <a:lnTo>
                  <a:pt x="141" y="797"/>
                </a:lnTo>
                <a:lnTo>
                  <a:pt x="229" y="773"/>
                </a:lnTo>
                <a:lnTo>
                  <a:pt x="260" y="797"/>
                </a:lnTo>
                <a:lnTo>
                  <a:pt x="289" y="740"/>
                </a:lnTo>
                <a:lnTo>
                  <a:pt x="314" y="725"/>
                </a:lnTo>
                <a:lnTo>
                  <a:pt x="378" y="755"/>
                </a:lnTo>
                <a:lnTo>
                  <a:pt x="387" y="721"/>
                </a:lnTo>
                <a:lnTo>
                  <a:pt x="455" y="648"/>
                </a:lnTo>
                <a:lnTo>
                  <a:pt x="470" y="603"/>
                </a:lnTo>
                <a:lnTo>
                  <a:pt x="497" y="610"/>
                </a:lnTo>
                <a:lnTo>
                  <a:pt x="559" y="572"/>
                </a:lnTo>
                <a:lnTo>
                  <a:pt x="541" y="540"/>
                </a:lnTo>
                <a:lnTo>
                  <a:pt x="549" y="519"/>
                </a:lnTo>
                <a:lnTo>
                  <a:pt x="489" y="14"/>
                </a:lnTo>
                <a:lnTo>
                  <a:pt x="482" y="0"/>
                </a:lnTo>
                <a:lnTo>
                  <a:pt x="148" y="33"/>
                </a:lnTo>
                <a:lnTo>
                  <a:pt x="83" y="64"/>
                </a:lnTo>
                <a:lnTo>
                  <a:pt x="27" y="48"/>
                </a:lnTo>
                <a:lnTo>
                  <a:pt x="67" y="464"/>
                </a:lnTo>
                <a:lnTo>
                  <a:pt x="58" y="552"/>
                </a:lnTo>
                <a:lnTo>
                  <a:pt x="83" y="603"/>
                </a:lnTo>
                <a:lnTo>
                  <a:pt x="56" y="697"/>
                </a:lnTo>
                <a:lnTo>
                  <a:pt x="19" y="740"/>
                </a:lnTo>
                <a:lnTo>
                  <a:pt x="0" y="807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6" name="Freeform 58"/>
          <p:cNvSpPr/>
          <p:nvPr/>
        </p:nvSpPr>
        <p:spPr>
          <a:xfrm>
            <a:off x="4083120" y="3141720"/>
            <a:ext cx="744480" cy="484200"/>
          </a:xfrm>
          <a:custGeom>
            <a:avLst/>
            <a:gdLst>
              <a:gd name="textAreaLeft" fmla="*/ 0 w 744480"/>
              <a:gd name="textAreaRight" fmla="*/ 744840 w 7444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75" h="613">
                <a:moveTo>
                  <a:pt x="0" y="12"/>
                </a:moveTo>
                <a:lnTo>
                  <a:pt x="2" y="58"/>
                </a:lnTo>
                <a:lnTo>
                  <a:pt x="21" y="96"/>
                </a:lnTo>
                <a:lnTo>
                  <a:pt x="9" y="130"/>
                </a:lnTo>
                <a:lnTo>
                  <a:pt x="19" y="214"/>
                </a:lnTo>
                <a:lnTo>
                  <a:pt x="73" y="334"/>
                </a:lnTo>
                <a:lnTo>
                  <a:pt x="73" y="373"/>
                </a:lnTo>
                <a:lnTo>
                  <a:pt x="106" y="429"/>
                </a:lnTo>
                <a:lnTo>
                  <a:pt x="121" y="522"/>
                </a:lnTo>
                <a:lnTo>
                  <a:pt x="113" y="549"/>
                </a:lnTo>
                <a:lnTo>
                  <a:pt x="133" y="582"/>
                </a:lnTo>
                <a:lnTo>
                  <a:pt x="826" y="568"/>
                </a:lnTo>
                <a:lnTo>
                  <a:pt x="880" y="613"/>
                </a:lnTo>
                <a:lnTo>
                  <a:pt x="926" y="548"/>
                </a:lnTo>
                <a:lnTo>
                  <a:pt x="953" y="474"/>
                </a:lnTo>
                <a:lnTo>
                  <a:pt x="926" y="421"/>
                </a:lnTo>
                <a:lnTo>
                  <a:pt x="1050" y="342"/>
                </a:lnTo>
                <a:lnTo>
                  <a:pt x="1075" y="298"/>
                </a:lnTo>
                <a:lnTo>
                  <a:pt x="1075" y="279"/>
                </a:lnTo>
                <a:lnTo>
                  <a:pt x="986" y="190"/>
                </a:lnTo>
                <a:lnTo>
                  <a:pt x="897" y="99"/>
                </a:lnTo>
                <a:lnTo>
                  <a:pt x="880" y="0"/>
                </a:lnTo>
                <a:lnTo>
                  <a:pt x="25" y="13"/>
                </a:lnTo>
                <a:lnTo>
                  <a:pt x="0" y="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7" name="Freeform 59"/>
          <p:cNvSpPr/>
          <p:nvPr/>
        </p:nvSpPr>
        <p:spPr>
          <a:xfrm>
            <a:off x="4083120" y="3141720"/>
            <a:ext cx="744480" cy="484200"/>
          </a:xfrm>
          <a:custGeom>
            <a:avLst/>
            <a:gdLst>
              <a:gd name="textAreaLeft" fmla="*/ 0 w 744480"/>
              <a:gd name="textAreaRight" fmla="*/ 744840 w 74448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75" h="613">
                <a:moveTo>
                  <a:pt x="0" y="12"/>
                </a:moveTo>
                <a:lnTo>
                  <a:pt x="2" y="58"/>
                </a:lnTo>
                <a:lnTo>
                  <a:pt x="21" y="96"/>
                </a:lnTo>
                <a:lnTo>
                  <a:pt x="9" y="130"/>
                </a:lnTo>
                <a:lnTo>
                  <a:pt x="19" y="214"/>
                </a:lnTo>
                <a:lnTo>
                  <a:pt x="73" y="334"/>
                </a:lnTo>
                <a:lnTo>
                  <a:pt x="73" y="373"/>
                </a:lnTo>
                <a:lnTo>
                  <a:pt x="106" y="429"/>
                </a:lnTo>
                <a:lnTo>
                  <a:pt x="121" y="522"/>
                </a:lnTo>
                <a:lnTo>
                  <a:pt x="113" y="549"/>
                </a:lnTo>
                <a:lnTo>
                  <a:pt x="133" y="582"/>
                </a:lnTo>
                <a:lnTo>
                  <a:pt x="826" y="568"/>
                </a:lnTo>
                <a:lnTo>
                  <a:pt x="880" y="613"/>
                </a:lnTo>
                <a:lnTo>
                  <a:pt x="926" y="548"/>
                </a:lnTo>
                <a:lnTo>
                  <a:pt x="953" y="474"/>
                </a:lnTo>
                <a:lnTo>
                  <a:pt x="926" y="421"/>
                </a:lnTo>
                <a:lnTo>
                  <a:pt x="1050" y="342"/>
                </a:lnTo>
                <a:lnTo>
                  <a:pt x="1075" y="298"/>
                </a:lnTo>
                <a:lnTo>
                  <a:pt x="1075" y="279"/>
                </a:lnTo>
                <a:lnTo>
                  <a:pt x="986" y="190"/>
                </a:lnTo>
                <a:lnTo>
                  <a:pt x="897" y="99"/>
                </a:lnTo>
                <a:lnTo>
                  <a:pt x="880" y="0"/>
                </a:lnTo>
                <a:lnTo>
                  <a:pt x="25" y="13"/>
                </a:lnTo>
                <a:lnTo>
                  <a:pt x="0" y="12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8" name="Freeform 60"/>
          <p:cNvSpPr/>
          <p:nvPr/>
        </p:nvSpPr>
        <p:spPr>
          <a:xfrm>
            <a:off x="3392640" y="3670200"/>
            <a:ext cx="925200" cy="493920"/>
          </a:xfrm>
          <a:custGeom>
            <a:avLst/>
            <a:gdLst>
              <a:gd name="textAreaLeft" fmla="*/ 0 w 925200"/>
              <a:gd name="textAreaRight" fmla="*/ 925560 w 92520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341" h="622">
                <a:moveTo>
                  <a:pt x="0" y="589"/>
                </a:moveTo>
                <a:lnTo>
                  <a:pt x="46" y="0"/>
                </a:lnTo>
                <a:lnTo>
                  <a:pt x="545" y="23"/>
                </a:lnTo>
                <a:lnTo>
                  <a:pt x="1208" y="30"/>
                </a:lnTo>
                <a:lnTo>
                  <a:pt x="1242" y="57"/>
                </a:lnTo>
                <a:lnTo>
                  <a:pt x="1266" y="52"/>
                </a:lnTo>
                <a:lnTo>
                  <a:pt x="1285" y="67"/>
                </a:lnTo>
                <a:lnTo>
                  <a:pt x="1287" y="81"/>
                </a:lnTo>
                <a:lnTo>
                  <a:pt x="1269" y="81"/>
                </a:lnTo>
                <a:lnTo>
                  <a:pt x="1246" y="124"/>
                </a:lnTo>
                <a:lnTo>
                  <a:pt x="1298" y="189"/>
                </a:lnTo>
                <a:lnTo>
                  <a:pt x="1341" y="199"/>
                </a:lnTo>
                <a:lnTo>
                  <a:pt x="1333" y="619"/>
                </a:lnTo>
                <a:lnTo>
                  <a:pt x="765" y="622"/>
                </a:lnTo>
                <a:lnTo>
                  <a:pt x="0" y="5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9" name="Freeform 61"/>
          <p:cNvSpPr/>
          <p:nvPr/>
        </p:nvSpPr>
        <p:spPr>
          <a:xfrm>
            <a:off x="3392640" y="3670200"/>
            <a:ext cx="925200" cy="493920"/>
          </a:xfrm>
          <a:custGeom>
            <a:avLst/>
            <a:gdLst>
              <a:gd name="textAreaLeft" fmla="*/ 0 w 925200"/>
              <a:gd name="textAreaRight" fmla="*/ 925560 w 92520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1341" h="622">
                <a:moveTo>
                  <a:pt x="0" y="589"/>
                </a:moveTo>
                <a:lnTo>
                  <a:pt x="46" y="0"/>
                </a:lnTo>
                <a:lnTo>
                  <a:pt x="545" y="23"/>
                </a:lnTo>
                <a:lnTo>
                  <a:pt x="1208" y="30"/>
                </a:lnTo>
                <a:lnTo>
                  <a:pt x="1242" y="57"/>
                </a:lnTo>
                <a:lnTo>
                  <a:pt x="1266" y="52"/>
                </a:lnTo>
                <a:lnTo>
                  <a:pt x="1285" y="67"/>
                </a:lnTo>
                <a:lnTo>
                  <a:pt x="1287" y="81"/>
                </a:lnTo>
                <a:lnTo>
                  <a:pt x="1269" y="81"/>
                </a:lnTo>
                <a:lnTo>
                  <a:pt x="1246" y="124"/>
                </a:lnTo>
                <a:lnTo>
                  <a:pt x="1298" y="189"/>
                </a:lnTo>
                <a:lnTo>
                  <a:pt x="1341" y="199"/>
                </a:lnTo>
                <a:lnTo>
                  <a:pt x="1333" y="619"/>
                </a:lnTo>
                <a:lnTo>
                  <a:pt x="765" y="622"/>
                </a:lnTo>
                <a:lnTo>
                  <a:pt x="0" y="589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0" name="Freeform 62"/>
          <p:cNvSpPr/>
          <p:nvPr/>
        </p:nvSpPr>
        <p:spPr>
          <a:xfrm>
            <a:off x="4967280" y="3760920"/>
            <a:ext cx="903240" cy="457200"/>
          </a:xfrm>
          <a:custGeom>
            <a:avLst/>
            <a:gdLst>
              <a:gd name="textAreaLeft" fmla="*/ 0 w 903240"/>
              <a:gd name="textAreaRight" fmla="*/ 903600 w 903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306" h="576">
                <a:moveTo>
                  <a:pt x="0" y="576"/>
                </a:moveTo>
                <a:lnTo>
                  <a:pt x="11" y="548"/>
                </a:lnTo>
                <a:lnTo>
                  <a:pt x="38" y="545"/>
                </a:lnTo>
                <a:lnTo>
                  <a:pt x="48" y="483"/>
                </a:lnTo>
                <a:lnTo>
                  <a:pt x="31" y="478"/>
                </a:lnTo>
                <a:lnTo>
                  <a:pt x="29" y="463"/>
                </a:lnTo>
                <a:lnTo>
                  <a:pt x="73" y="428"/>
                </a:lnTo>
                <a:lnTo>
                  <a:pt x="152" y="454"/>
                </a:lnTo>
                <a:lnTo>
                  <a:pt x="164" y="385"/>
                </a:lnTo>
                <a:lnTo>
                  <a:pt x="219" y="365"/>
                </a:lnTo>
                <a:lnTo>
                  <a:pt x="210" y="349"/>
                </a:lnTo>
                <a:lnTo>
                  <a:pt x="225" y="307"/>
                </a:lnTo>
                <a:lnTo>
                  <a:pt x="241" y="284"/>
                </a:lnTo>
                <a:lnTo>
                  <a:pt x="323" y="271"/>
                </a:lnTo>
                <a:lnTo>
                  <a:pt x="349" y="278"/>
                </a:lnTo>
                <a:lnTo>
                  <a:pt x="437" y="254"/>
                </a:lnTo>
                <a:lnTo>
                  <a:pt x="468" y="278"/>
                </a:lnTo>
                <a:lnTo>
                  <a:pt x="497" y="221"/>
                </a:lnTo>
                <a:lnTo>
                  <a:pt x="522" y="206"/>
                </a:lnTo>
                <a:lnTo>
                  <a:pt x="586" y="236"/>
                </a:lnTo>
                <a:lnTo>
                  <a:pt x="595" y="202"/>
                </a:lnTo>
                <a:lnTo>
                  <a:pt x="663" y="129"/>
                </a:lnTo>
                <a:lnTo>
                  <a:pt x="678" y="84"/>
                </a:lnTo>
                <a:lnTo>
                  <a:pt x="705" y="91"/>
                </a:lnTo>
                <a:lnTo>
                  <a:pt x="767" y="53"/>
                </a:lnTo>
                <a:lnTo>
                  <a:pt x="749" y="21"/>
                </a:lnTo>
                <a:lnTo>
                  <a:pt x="757" y="0"/>
                </a:lnTo>
                <a:lnTo>
                  <a:pt x="815" y="0"/>
                </a:lnTo>
                <a:lnTo>
                  <a:pt x="851" y="10"/>
                </a:lnTo>
                <a:lnTo>
                  <a:pt x="869" y="46"/>
                </a:lnTo>
                <a:lnTo>
                  <a:pt x="930" y="55"/>
                </a:lnTo>
                <a:lnTo>
                  <a:pt x="963" y="70"/>
                </a:lnTo>
                <a:lnTo>
                  <a:pt x="1046" y="67"/>
                </a:lnTo>
                <a:lnTo>
                  <a:pt x="1083" y="46"/>
                </a:lnTo>
                <a:lnTo>
                  <a:pt x="1171" y="94"/>
                </a:lnTo>
                <a:lnTo>
                  <a:pt x="1204" y="190"/>
                </a:lnTo>
                <a:lnTo>
                  <a:pt x="1239" y="223"/>
                </a:lnTo>
                <a:lnTo>
                  <a:pt x="1306" y="257"/>
                </a:lnTo>
                <a:lnTo>
                  <a:pt x="1258" y="307"/>
                </a:lnTo>
                <a:lnTo>
                  <a:pt x="1212" y="334"/>
                </a:lnTo>
                <a:lnTo>
                  <a:pt x="1165" y="384"/>
                </a:lnTo>
                <a:lnTo>
                  <a:pt x="1165" y="399"/>
                </a:lnTo>
                <a:lnTo>
                  <a:pt x="1034" y="473"/>
                </a:lnTo>
                <a:lnTo>
                  <a:pt x="314" y="531"/>
                </a:lnTo>
                <a:lnTo>
                  <a:pt x="241" y="528"/>
                </a:lnTo>
                <a:lnTo>
                  <a:pt x="241" y="562"/>
                </a:lnTo>
                <a:lnTo>
                  <a:pt x="0" y="5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1" name="Freeform 63"/>
          <p:cNvSpPr/>
          <p:nvPr/>
        </p:nvSpPr>
        <p:spPr>
          <a:xfrm>
            <a:off x="4967280" y="3760920"/>
            <a:ext cx="903240" cy="457200"/>
          </a:xfrm>
          <a:custGeom>
            <a:avLst/>
            <a:gdLst>
              <a:gd name="textAreaLeft" fmla="*/ 0 w 903240"/>
              <a:gd name="textAreaRight" fmla="*/ 903600 w 903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306" h="576">
                <a:moveTo>
                  <a:pt x="0" y="576"/>
                </a:moveTo>
                <a:lnTo>
                  <a:pt x="11" y="548"/>
                </a:lnTo>
                <a:lnTo>
                  <a:pt x="38" y="545"/>
                </a:lnTo>
                <a:lnTo>
                  <a:pt x="48" y="483"/>
                </a:lnTo>
                <a:lnTo>
                  <a:pt x="31" y="478"/>
                </a:lnTo>
                <a:lnTo>
                  <a:pt x="29" y="463"/>
                </a:lnTo>
                <a:lnTo>
                  <a:pt x="73" y="428"/>
                </a:lnTo>
                <a:lnTo>
                  <a:pt x="152" y="454"/>
                </a:lnTo>
                <a:lnTo>
                  <a:pt x="164" y="385"/>
                </a:lnTo>
                <a:lnTo>
                  <a:pt x="219" y="365"/>
                </a:lnTo>
                <a:lnTo>
                  <a:pt x="210" y="349"/>
                </a:lnTo>
                <a:lnTo>
                  <a:pt x="225" y="307"/>
                </a:lnTo>
                <a:lnTo>
                  <a:pt x="241" y="284"/>
                </a:lnTo>
                <a:lnTo>
                  <a:pt x="323" y="271"/>
                </a:lnTo>
                <a:lnTo>
                  <a:pt x="349" y="278"/>
                </a:lnTo>
                <a:lnTo>
                  <a:pt x="437" y="254"/>
                </a:lnTo>
                <a:lnTo>
                  <a:pt x="468" y="278"/>
                </a:lnTo>
                <a:lnTo>
                  <a:pt x="497" y="221"/>
                </a:lnTo>
                <a:lnTo>
                  <a:pt x="522" y="206"/>
                </a:lnTo>
                <a:lnTo>
                  <a:pt x="586" y="236"/>
                </a:lnTo>
                <a:lnTo>
                  <a:pt x="595" y="202"/>
                </a:lnTo>
                <a:lnTo>
                  <a:pt x="663" y="129"/>
                </a:lnTo>
                <a:lnTo>
                  <a:pt x="678" y="84"/>
                </a:lnTo>
                <a:lnTo>
                  <a:pt x="705" y="91"/>
                </a:lnTo>
                <a:lnTo>
                  <a:pt x="767" y="53"/>
                </a:lnTo>
                <a:lnTo>
                  <a:pt x="749" y="21"/>
                </a:lnTo>
                <a:lnTo>
                  <a:pt x="757" y="0"/>
                </a:lnTo>
                <a:lnTo>
                  <a:pt x="815" y="0"/>
                </a:lnTo>
                <a:lnTo>
                  <a:pt x="851" y="10"/>
                </a:lnTo>
                <a:lnTo>
                  <a:pt x="869" y="46"/>
                </a:lnTo>
                <a:lnTo>
                  <a:pt x="930" y="55"/>
                </a:lnTo>
                <a:lnTo>
                  <a:pt x="963" y="70"/>
                </a:lnTo>
                <a:lnTo>
                  <a:pt x="1046" y="67"/>
                </a:lnTo>
                <a:lnTo>
                  <a:pt x="1083" y="46"/>
                </a:lnTo>
                <a:lnTo>
                  <a:pt x="1171" y="94"/>
                </a:lnTo>
                <a:lnTo>
                  <a:pt x="1204" y="190"/>
                </a:lnTo>
                <a:lnTo>
                  <a:pt x="1239" y="223"/>
                </a:lnTo>
                <a:lnTo>
                  <a:pt x="1306" y="257"/>
                </a:lnTo>
                <a:lnTo>
                  <a:pt x="1258" y="307"/>
                </a:lnTo>
                <a:lnTo>
                  <a:pt x="1212" y="334"/>
                </a:lnTo>
                <a:lnTo>
                  <a:pt x="1165" y="384"/>
                </a:lnTo>
                <a:lnTo>
                  <a:pt x="1165" y="399"/>
                </a:lnTo>
                <a:lnTo>
                  <a:pt x="1034" y="473"/>
                </a:lnTo>
                <a:lnTo>
                  <a:pt x="314" y="531"/>
                </a:lnTo>
                <a:lnTo>
                  <a:pt x="241" y="528"/>
                </a:lnTo>
                <a:lnTo>
                  <a:pt x="241" y="562"/>
                </a:lnTo>
                <a:lnTo>
                  <a:pt x="0" y="576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2" name="Freeform 64"/>
          <p:cNvSpPr/>
          <p:nvPr/>
        </p:nvSpPr>
        <p:spPr>
          <a:xfrm>
            <a:off x="4397400" y="4775040"/>
            <a:ext cx="693720" cy="611280"/>
          </a:xfrm>
          <a:custGeom>
            <a:avLst/>
            <a:gdLst>
              <a:gd name="textAreaLeft" fmla="*/ 0 w 693720"/>
              <a:gd name="textAreaRight" fmla="*/ 694080 w 6937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1010" h="769">
                <a:moveTo>
                  <a:pt x="0" y="7"/>
                </a:moveTo>
                <a:lnTo>
                  <a:pt x="12" y="212"/>
                </a:lnTo>
                <a:lnTo>
                  <a:pt x="39" y="238"/>
                </a:lnTo>
                <a:lnTo>
                  <a:pt x="49" y="289"/>
                </a:lnTo>
                <a:lnTo>
                  <a:pt x="104" y="363"/>
                </a:lnTo>
                <a:lnTo>
                  <a:pt x="101" y="425"/>
                </a:lnTo>
                <a:lnTo>
                  <a:pt x="70" y="484"/>
                </a:lnTo>
                <a:lnTo>
                  <a:pt x="72" y="519"/>
                </a:lnTo>
                <a:lnTo>
                  <a:pt x="81" y="550"/>
                </a:lnTo>
                <a:lnTo>
                  <a:pt x="77" y="584"/>
                </a:lnTo>
                <a:lnTo>
                  <a:pt x="58" y="606"/>
                </a:lnTo>
                <a:lnTo>
                  <a:pt x="35" y="633"/>
                </a:lnTo>
                <a:lnTo>
                  <a:pt x="50" y="649"/>
                </a:lnTo>
                <a:lnTo>
                  <a:pt x="187" y="633"/>
                </a:lnTo>
                <a:lnTo>
                  <a:pt x="295" y="675"/>
                </a:lnTo>
                <a:lnTo>
                  <a:pt x="401" y="668"/>
                </a:lnTo>
                <a:lnTo>
                  <a:pt x="390" y="642"/>
                </a:lnTo>
                <a:lnTo>
                  <a:pt x="422" y="620"/>
                </a:lnTo>
                <a:lnTo>
                  <a:pt x="496" y="633"/>
                </a:lnTo>
                <a:lnTo>
                  <a:pt x="507" y="678"/>
                </a:lnTo>
                <a:lnTo>
                  <a:pt x="528" y="671"/>
                </a:lnTo>
                <a:lnTo>
                  <a:pt x="559" y="681"/>
                </a:lnTo>
                <a:lnTo>
                  <a:pt x="588" y="709"/>
                </a:lnTo>
                <a:lnTo>
                  <a:pt x="596" y="734"/>
                </a:lnTo>
                <a:lnTo>
                  <a:pt x="627" y="740"/>
                </a:lnTo>
                <a:lnTo>
                  <a:pt x="657" y="755"/>
                </a:lnTo>
                <a:lnTo>
                  <a:pt x="682" y="748"/>
                </a:lnTo>
                <a:lnTo>
                  <a:pt x="706" y="726"/>
                </a:lnTo>
                <a:lnTo>
                  <a:pt x="702" y="709"/>
                </a:lnTo>
                <a:lnTo>
                  <a:pt x="733" y="733"/>
                </a:lnTo>
                <a:lnTo>
                  <a:pt x="748" y="712"/>
                </a:lnTo>
                <a:lnTo>
                  <a:pt x="771" y="752"/>
                </a:lnTo>
                <a:lnTo>
                  <a:pt x="802" y="733"/>
                </a:lnTo>
                <a:lnTo>
                  <a:pt x="815" y="721"/>
                </a:lnTo>
                <a:lnTo>
                  <a:pt x="802" y="709"/>
                </a:lnTo>
                <a:lnTo>
                  <a:pt x="806" y="675"/>
                </a:lnTo>
                <a:lnTo>
                  <a:pt x="815" y="675"/>
                </a:lnTo>
                <a:lnTo>
                  <a:pt x="842" y="678"/>
                </a:lnTo>
                <a:lnTo>
                  <a:pt x="850" y="702"/>
                </a:lnTo>
                <a:lnTo>
                  <a:pt x="883" y="700"/>
                </a:lnTo>
                <a:lnTo>
                  <a:pt x="912" y="716"/>
                </a:lnTo>
                <a:lnTo>
                  <a:pt x="916" y="712"/>
                </a:lnTo>
                <a:lnTo>
                  <a:pt x="927" y="729"/>
                </a:lnTo>
                <a:lnTo>
                  <a:pt x="950" y="741"/>
                </a:lnTo>
                <a:lnTo>
                  <a:pt x="939" y="769"/>
                </a:lnTo>
                <a:lnTo>
                  <a:pt x="966" y="741"/>
                </a:lnTo>
                <a:lnTo>
                  <a:pt x="987" y="758"/>
                </a:lnTo>
                <a:lnTo>
                  <a:pt x="987" y="740"/>
                </a:lnTo>
                <a:lnTo>
                  <a:pt x="1010" y="733"/>
                </a:lnTo>
                <a:lnTo>
                  <a:pt x="1010" y="719"/>
                </a:lnTo>
                <a:lnTo>
                  <a:pt x="985" y="716"/>
                </a:lnTo>
                <a:lnTo>
                  <a:pt x="970" y="702"/>
                </a:lnTo>
                <a:lnTo>
                  <a:pt x="946" y="704"/>
                </a:lnTo>
                <a:lnTo>
                  <a:pt x="937" y="683"/>
                </a:lnTo>
                <a:lnTo>
                  <a:pt x="912" y="683"/>
                </a:lnTo>
                <a:lnTo>
                  <a:pt x="889" y="645"/>
                </a:lnTo>
                <a:lnTo>
                  <a:pt x="902" y="637"/>
                </a:lnTo>
                <a:lnTo>
                  <a:pt x="923" y="627"/>
                </a:lnTo>
                <a:lnTo>
                  <a:pt x="927" y="606"/>
                </a:lnTo>
                <a:lnTo>
                  <a:pt x="944" y="604"/>
                </a:lnTo>
                <a:lnTo>
                  <a:pt x="970" y="582"/>
                </a:lnTo>
                <a:lnTo>
                  <a:pt x="962" y="574"/>
                </a:lnTo>
                <a:lnTo>
                  <a:pt x="962" y="534"/>
                </a:lnTo>
                <a:lnTo>
                  <a:pt x="933" y="555"/>
                </a:lnTo>
                <a:lnTo>
                  <a:pt x="904" y="560"/>
                </a:lnTo>
                <a:lnTo>
                  <a:pt x="879" y="592"/>
                </a:lnTo>
                <a:lnTo>
                  <a:pt x="837" y="574"/>
                </a:lnTo>
                <a:lnTo>
                  <a:pt x="842" y="562"/>
                </a:lnTo>
                <a:lnTo>
                  <a:pt x="862" y="555"/>
                </a:lnTo>
                <a:lnTo>
                  <a:pt x="862" y="562"/>
                </a:lnTo>
                <a:lnTo>
                  <a:pt x="873" y="541"/>
                </a:lnTo>
                <a:lnTo>
                  <a:pt x="858" y="548"/>
                </a:lnTo>
                <a:lnTo>
                  <a:pt x="850" y="539"/>
                </a:lnTo>
                <a:lnTo>
                  <a:pt x="846" y="550"/>
                </a:lnTo>
                <a:lnTo>
                  <a:pt x="827" y="541"/>
                </a:lnTo>
                <a:lnTo>
                  <a:pt x="810" y="562"/>
                </a:lnTo>
                <a:lnTo>
                  <a:pt x="779" y="567"/>
                </a:lnTo>
                <a:lnTo>
                  <a:pt x="721" y="555"/>
                </a:lnTo>
                <a:lnTo>
                  <a:pt x="719" y="543"/>
                </a:lnTo>
                <a:lnTo>
                  <a:pt x="754" y="500"/>
                </a:lnTo>
                <a:lnTo>
                  <a:pt x="785" y="502"/>
                </a:lnTo>
                <a:lnTo>
                  <a:pt x="808" y="519"/>
                </a:lnTo>
                <a:lnTo>
                  <a:pt x="894" y="534"/>
                </a:lnTo>
                <a:lnTo>
                  <a:pt x="831" y="442"/>
                </a:lnTo>
                <a:lnTo>
                  <a:pt x="842" y="377"/>
                </a:lnTo>
                <a:lnTo>
                  <a:pt x="478" y="387"/>
                </a:lnTo>
                <a:lnTo>
                  <a:pt x="480" y="353"/>
                </a:lnTo>
                <a:lnTo>
                  <a:pt x="523" y="243"/>
                </a:lnTo>
                <a:lnTo>
                  <a:pt x="584" y="173"/>
                </a:lnTo>
                <a:lnTo>
                  <a:pt x="565" y="151"/>
                </a:lnTo>
                <a:lnTo>
                  <a:pt x="573" y="80"/>
                </a:lnTo>
                <a:lnTo>
                  <a:pt x="540" y="0"/>
                </a:lnTo>
                <a:lnTo>
                  <a:pt x="0" y="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3" name="Freeform 65"/>
          <p:cNvSpPr/>
          <p:nvPr/>
        </p:nvSpPr>
        <p:spPr>
          <a:xfrm>
            <a:off x="4397400" y="4775040"/>
            <a:ext cx="693720" cy="611280"/>
          </a:xfrm>
          <a:custGeom>
            <a:avLst/>
            <a:gdLst>
              <a:gd name="textAreaLeft" fmla="*/ 0 w 693720"/>
              <a:gd name="textAreaRight" fmla="*/ 694080 w 6937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1010" h="769">
                <a:moveTo>
                  <a:pt x="0" y="7"/>
                </a:moveTo>
                <a:lnTo>
                  <a:pt x="12" y="212"/>
                </a:lnTo>
                <a:lnTo>
                  <a:pt x="39" y="238"/>
                </a:lnTo>
                <a:lnTo>
                  <a:pt x="49" y="289"/>
                </a:lnTo>
                <a:lnTo>
                  <a:pt x="104" y="363"/>
                </a:lnTo>
                <a:lnTo>
                  <a:pt x="101" y="425"/>
                </a:lnTo>
                <a:lnTo>
                  <a:pt x="70" y="484"/>
                </a:lnTo>
                <a:lnTo>
                  <a:pt x="72" y="519"/>
                </a:lnTo>
                <a:lnTo>
                  <a:pt x="81" y="550"/>
                </a:lnTo>
                <a:lnTo>
                  <a:pt x="77" y="584"/>
                </a:lnTo>
                <a:lnTo>
                  <a:pt x="58" y="606"/>
                </a:lnTo>
                <a:lnTo>
                  <a:pt x="35" y="633"/>
                </a:lnTo>
                <a:lnTo>
                  <a:pt x="50" y="649"/>
                </a:lnTo>
                <a:lnTo>
                  <a:pt x="187" y="633"/>
                </a:lnTo>
                <a:lnTo>
                  <a:pt x="295" y="675"/>
                </a:lnTo>
                <a:lnTo>
                  <a:pt x="401" y="668"/>
                </a:lnTo>
                <a:lnTo>
                  <a:pt x="390" y="642"/>
                </a:lnTo>
                <a:lnTo>
                  <a:pt x="422" y="620"/>
                </a:lnTo>
                <a:lnTo>
                  <a:pt x="496" y="633"/>
                </a:lnTo>
                <a:lnTo>
                  <a:pt x="507" y="678"/>
                </a:lnTo>
                <a:lnTo>
                  <a:pt x="528" y="671"/>
                </a:lnTo>
                <a:lnTo>
                  <a:pt x="559" y="681"/>
                </a:lnTo>
                <a:lnTo>
                  <a:pt x="588" y="709"/>
                </a:lnTo>
                <a:lnTo>
                  <a:pt x="596" y="734"/>
                </a:lnTo>
                <a:lnTo>
                  <a:pt x="627" y="740"/>
                </a:lnTo>
                <a:lnTo>
                  <a:pt x="657" y="755"/>
                </a:lnTo>
                <a:lnTo>
                  <a:pt x="682" y="748"/>
                </a:lnTo>
                <a:lnTo>
                  <a:pt x="706" y="726"/>
                </a:lnTo>
                <a:lnTo>
                  <a:pt x="702" y="709"/>
                </a:lnTo>
                <a:lnTo>
                  <a:pt x="733" y="733"/>
                </a:lnTo>
                <a:lnTo>
                  <a:pt x="748" y="712"/>
                </a:lnTo>
                <a:lnTo>
                  <a:pt x="771" y="752"/>
                </a:lnTo>
                <a:lnTo>
                  <a:pt x="802" y="733"/>
                </a:lnTo>
                <a:lnTo>
                  <a:pt x="815" y="721"/>
                </a:lnTo>
                <a:lnTo>
                  <a:pt x="802" y="709"/>
                </a:lnTo>
                <a:lnTo>
                  <a:pt x="806" y="675"/>
                </a:lnTo>
                <a:lnTo>
                  <a:pt x="815" y="675"/>
                </a:lnTo>
                <a:lnTo>
                  <a:pt x="842" y="678"/>
                </a:lnTo>
                <a:lnTo>
                  <a:pt x="850" y="702"/>
                </a:lnTo>
                <a:lnTo>
                  <a:pt x="883" y="700"/>
                </a:lnTo>
                <a:lnTo>
                  <a:pt x="912" y="716"/>
                </a:lnTo>
                <a:lnTo>
                  <a:pt x="916" y="712"/>
                </a:lnTo>
                <a:lnTo>
                  <a:pt x="927" y="729"/>
                </a:lnTo>
                <a:lnTo>
                  <a:pt x="950" y="741"/>
                </a:lnTo>
                <a:lnTo>
                  <a:pt x="939" y="769"/>
                </a:lnTo>
                <a:lnTo>
                  <a:pt x="966" y="741"/>
                </a:lnTo>
                <a:lnTo>
                  <a:pt x="987" y="758"/>
                </a:lnTo>
                <a:lnTo>
                  <a:pt x="987" y="740"/>
                </a:lnTo>
                <a:lnTo>
                  <a:pt x="1010" y="733"/>
                </a:lnTo>
                <a:lnTo>
                  <a:pt x="1010" y="719"/>
                </a:lnTo>
                <a:lnTo>
                  <a:pt x="985" y="716"/>
                </a:lnTo>
                <a:lnTo>
                  <a:pt x="970" y="702"/>
                </a:lnTo>
                <a:lnTo>
                  <a:pt x="946" y="704"/>
                </a:lnTo>
                <a:lnTo>
                  <a:pt x="937" y="683"/>
                </a:lnTo>
                <a:lnTo>
                  <a:pt x="912" y="683"/>
                </a:lnTo>
                <a:lnTo>
                  <a:pt x="889" y="645"/>
                </a:lnTo>
                <a:lnTo>
                  <a:pt x="902" y="637"/>
                </a:lnTo>
                <a:lnTo>
                  <a:pt x="923" y="627"/>
                </a:lnTo>
                <a:lnTo>
                  <a:pt x="927" y="606"/>
                </a:lnTo>
                <a:lnTo>
                  <a:pt x="944" y="604"/>
                </a:lnTo>
                <a:lnTo>
                  <a:pt x="970" y="582"/>
                </a:lnTo>
                <a:lnTo>
                  <a:pt x="962" y="574"/>
                </a:lnTo>
                <a:lnTo>
                  <a:pt x="962" y="534"/>
                </a:lnTo>
                <a:lnTo>
                  <a:pt x="933" y="555"/>
                </a:lnTo>
                <a:lnTo>
                  <a:pt x="904" y="560"/>
                </a:lnTo>
                <a:lnTo>
                  <a:pt x="879" y="592"/>
                </a:lnTo>
                <a:lnTo>
                  <a:pt x="837" y="574"/>
                </a:lnTo>
                <a:lnTo>
                  <a:pt x="842" y="562"/>
                </a:lnTo>
                <a:lnTo>
                  <a:pt x="862" y="555"/>
                </a:lnTo>
                <a:lnTo>
                  <a:pt x="862" y="562"/>
                </a:lnTo>
                <a:lnTo>
                  <a:pt x="873" y="541"/>
                </a:lnTo>
                <a:lnTo>
                  <a:pt x="858" y="548"/>
                </a:lnTo>
                <a:lnTo>
                  <a:pt x="850" y="539"/>
                </a:lnTo>
                <a:lnTo>
                  <a:pt x="846" y="550"/>
                </a:lnTo>
                <a:lnTo>
                  <a:pt x="827" y="541"/>
                </a:lnTo>
                <a:lnTo>
                  <a:pt x="810" y="562"/>
                </a:lnTo>
                <a:lnTo>
                  <a:pt x="779" y="567"/>
                </a:lnTo>
                <a:lnTo>
                  <a:pt x="721" y="555"/>
                </a:lnTo>
                <a:lnTo>
                  <a:pt x="719" y="543"/>
                </a:lnTo>
                <a:lnTo>
                  <a:pt x="754" y="500"/>
                </a:lnTo>
                <a:lnTo>
                  <a:pt x="785" y="502"/>
                </a:lnTo>
                <a:lnTo>
                  <a:pt x="808" y="519"/>
                </a:lnTo>
                <a:lnTo>
                  <a:pt x="894" y="534"/>
                </a:lnTo>
                <a:lnTo>
                  <a:pt x="831" y="442"/>
                </a:lnTo>
                <a:lnTo>
                  <a:pt x="842" y="377"/>
                </a:lnTo>
                <a:lnTo>
                  <a:pt x="478" y="387"/>
                </a:lnTo>
                <a:lnTo>
                  <a:pt x="480" y="353"/>
                </a:lnTo>
                <a:lnTo>
                  <a:pt x="523" y="243"/>
                </a:lnTo>
                <a:lnTo>
                  <a:pt x="584" y="173"/>
                </a:lnTo>
                <a:lnTo>
                  <a:pt x="565" y="151"/>
                </a:lnTo>
                <a:lnTo>
                  <a:pt x="573" y="80"/>
                </a:lnTo>
                <a:lnTo>
                  <a:pt x="540" y="0"/>
                </a:lnTo>
                <a:lnTo>
                  <a:pt x="0" y="7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4" name="Freeform 66"/>
          <p:cNvSpPr/>
          <p:nvPr/>
        </p:nvSpPr>
        <p:spPr>
          <a:xfrm>
            <a:off x="6873840" y="2143080"/>
            <a:ext cx="452520" cy="709560"/>
          </a:xfrm>
          <a:custGeom>
            <a:avLst/>
            <a:gdLst>
              <a:gd name="textAreaLeft" fmla="*/ 0 w 452520"/>
              <a:gd name="textAreaRight" fmla="*/ 452880 w 452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659" h="897">
                <a:moveTo>
                  <a:pt x="0" y="488"/>
                </a:moveTo>
                <a:lnTo>
                  <a:pt x="38" y="489"/>
                </a:lnTo>
                <a:lnTo>
                  <a:pt x="42" y="433"/>
                </a:lnTo>
                <a:lnTo>
                  <a:pt x="88" y="351"/>
                </a:lnTo>
                <a:lnTo>
                  <a:pt x="67" y="294"/>
                </a:lnTo>
                <a:lnTo>
                  <a:pt x="86" y="217"/>
                </a:lnTo>
                <a:lnTo>
                  <a:pt x="85" y="186"/>
                </a:lnTo>
                <a:lnTo>
                  <a:pt x="160" y="15"/>
                </a:lnTo>
                <a:lnTo>
                  <a:pt x="181" y="15"/>
                </a:lnTo>
                <a:lnTo>
                  <a:pt x="191" y="49"/>
                </a:lnTo>
                <a:lnTo>
                  <a:pt x="283" y="18"/>
                </a:lnTo>
                <a:lnTo>
                  <a:pt x="285" y="8"/>
                </a:lnTo>
                <a:lnTo>
                  <a:pt x="312" y="0"/>
                </a:lnTo>
                <a:lnTo>
                  <a:pt x="362" y="20"/>
                </a:lnTo>
                <a:lnTo>
                  <a:pt x="401" y="49"/>
                </a:lnTo>
                <a:lnTo>
                  <a:pt x="483" y="297"/>
                </a:lnTo>
                <a:lnTo>
                  <a:pt x="541" y="299"/>
                </a:lnTo>
                <a:lnTo>
                  <a:pt x="551" y="313"/>
                </a:lnTo>
                <a:lnTo>
                  <a:pt x="543" y="320"/>
                </a:lnTo>
                <a:lnTo>
                  <a:pt x="587" y="380"/>
                </a:lnTo>
                <a:lnTo>
                  <a:pt x="595" y="366"/>
                </a:lnTo>
                <a:lnTo>
                  <a:pt x="643" y="404"/>
                </a:lnTo>
                <a:lnTo>
                  <a:pt x="624" y="414"/>
                </a:lnTo>
                <a:lnTo>
                  <a:pt x="628" y="422"/>
                </a:lnTo>
                <a:lnTo>
                  <a:pt x="659" y="422"/>
                </a:lnTo>
                <a:lnTo>
                  <a:pt x="638" y="470"/>
                </a:lnTo>
                <a:lnTo>
                  <a:pt x="609" y="464"/>
                </a:lnTo>
                <a:lnTo>
                  <a:pt x="587" y="482"/>
                </a:lnTo>
                <a:lnTo>
                  <a:pt x="589" y="501"/>
                </a:lnTo>
                <a:lnTo>
                  <a:pt x="568" y="515"/>
                </a:lnTo>
                <a:lnTo>
                  <a:pt x="547" y="506"/>
                </a:lnTo>
                <a:lnTo>
                  <a:pt x="549" y="539"/>
                </a:lnTo>
                <a:lnTo>
                  <a:pt x="530" y="527"/>
                </a:lnTo>
                <a:lnTo>
                  <a:pt x="524" y="561"/>
                </a:lnTo>
                <a:lnTo>
                  <a:pt x="495" y="532"/>
                </a:lnTo>
                <a:lnTo>
                  <a:pt x="470" y="559"/>
                </a:lnTo>
                <a:lnTo>
                  <a:pt x="443" y="570"/>
                </a:lnTo>
                <a:lnTo>
                  <a:pt x="437" y="599"/>
                </a:lnTo>
                <a:lnTo>
                  <a:pt x="408" y="590"/>
                </a:lnTo>
                <a:lnTo>
                  <a:pt x="420" y="570"/>
                </a:lnTo>
                <a:lnTo>
                  <a:pt x="401" y="546"/>
                </a:lnTo>
                <a:lnTo>
                  <a:pt x="377" y="580"/>
                </a:lnTo>
                <a:lnTo>
                  <a:pt x="387" y="654"/>
                </a:lnTo>
                <a:lnTo>
                  <a:pt x="374" y="671"/>
                </a:lnTo>
                <a:lnTo>
                  <a:pt x="352" y="674"/>
                </a:lnTo>
                <a:lnTo>
                  <a:pt x="339" y="671"/>
                </a:lnTo>
                <a:lnTo>
                  <a:pt x="316" y="712"/>
                </a:lnTo>
                <a:lnTo>
                  <a:pt x="285" y="712"/>
                </a:lnTo>
                <a:lnTo>
                  <a:pt x="291" y="748"/>
                </a:lnTo>
                <a:lnTo>
                  <a:pt x="271" y="720"/>
                </a:lnTo>
                <a:lnTo>
                  <a:pt x="229" y="749"/>
                </a:lnTo>
                <a:lnTo>
                  <a:pt x="221" y="773"/>
                </a:lnTo>
                <a:lnTo>
                  <a:pt x="237" y="789"/>
                </a:lnTo>
                <a:lnTo>
                  <a:pt x="216" y="797"/>
                </a:lnTo>
                <a:lnTo>
                  <a:pt x="221" y="823"/>
                </a:lnTo>
                <a:lnTo>
                  <a:pt x="202" y="842"/>
                </a:lnTo>
                <a:lnTo>
                  <a:pt x="198" y="897"/>
                </a:lnTo>
                <a:lnTo>
                  <a:pt x="183" y="897"/>
                </a:lnTo>
                <a:lnTo>
                  <a:pt x="123" y="825"/>
                </a:lnTo>
                <a:lnTo>
                  <a:pt x="0" y="48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5" name="Freeform 67"/>
          <p:cNvSpPr/>
          <p:nvPr/>
        </p:nvSpPr>
        <p:spPr>
          <a:xfrm>
            <a:off x="6873840" y="2143080"/>
            <a:ext cx="452520" cy="709560"/>
          </a:xfrm>
          <a:custGeom>
            <a:avLst/>
            <a:gdLst>
              <a:gd name="textAreaLeft" fmla="*/ 0 w 452520"/>
              <a:gd name="textAreaRight" fmla="*/ 452880 w 4525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659" h="897">
                <a:moveTo>
                  <a:pt x="0" y="488"/>
                </a:moveTo>
                <a:lnTo>
                  <a:pt x="38" y="489"/>
                </a:lnTo>
                <a:lnTo>
                  <a:pt x="42" y="433"/>
                </a:lnTo>
                <a:lnTo>
                  <a:pt x="88" y="351"/>
                </a:lnTo>
                <a:lnTo>
                  <a:pt x="67" y="294"/>
                </a:lnTo>
                <a:lnTo>
                  <a:pt x="86" y="217"/>
                </a:lnTo>
                <a:lnTo>
                  <a:pt x="85" y="186"/>
                </a:lnTo>
                <a:lnTo>
                  <a:pt x="160" y="15"/>
                </a:lnTo>
                <a:lnTo>
                  <a:pt x="181" y="15"/>
                </a:lnTo>
                <a:lnTo>
                  <a:pt x="191" y="49"/>
                </a:lnTo>
                <a:lnTo>
                  <a:pt x="283" y="18"/>
                </a:lnTo>
                <a:lnTo>
                  <a:pt x="285" y="8"/>
                </a:lnTo>
                <a:lnTo>
                  <a:pt x="312" y="0"/>
                </a:lnTo>
                <a:lnTo>
                  <a:pt x="362" y="20"/>
                </a:lnTo>
                <a:lnTo>
                  <a:pt x="401" y="49"/>
                </a:lnTo>
                <a:lnTo>
                  <a:pt x="483" y="297"/>
                </a:lnTo>
                <a:lnTo>
                  <a:pt x="541" y="299"/>
                </a:lnTo>
                <a:lnTo>
                  <a:pt x="551" y="313"/>
                </a:lnTo>
                <a:lnTo>
                  <a:pt x="543" y="320"/>
                </a:lnTo>
                <a:lnTo>
                  <a:pt x="587" y="380"/>
                </a:lnTo>
                <a:lnTo>
                  <a:pt x="595" y="366"/>
                </a:lnTo>
                <a:lnTo>
                  <a:pt x="643" y="404"/>
                </a:lnTo>
                <a:lnTo>
                  <a:pt x="624" y="414"/>
                </a:lnTo>
                <a:lnTo>
                  <a:pt x="628" y="422"/>
                </a:lnTo>
                <a:lnTo>
                  <a:pt x="659" y="422"/>
                </a:lnTo>
                <a:lnTo>
                  <a:pt x="638" y="470"/>
                </a:lnTo>
                <a:lnTo>
                  <a:pt x="609" y="464"/>
                </a:lnTo>
                <a:lnTo>
                  <a:pt x="587" y="482"/>
                </a:lnTo>
                <a:lnTo>
                  <a:pt x="589" y="501"/>
                </a:lnTo>
                <a:lnTo>
                  <a:pt x="568" y="515"/>
                </a:lnTo>
                <a:lnTo>
                  <a:pt x="547" y="506"/>
                </a:lnTo>
                <a:lnTo>
                  <a:pt x="549" y="539"/>
                </a:lnTo>
                <a:lnTo>
                  <a:pt x="530" y="527"/>
                </a:lnTo>
                <a:lnTo>
                  <a:pt x="524" y="561"/>
                </a:lnTo>
                <a:lnTo>
                  <a:pt x="495" y="532"/>
                </a:lnTo>
                <a:lnTo>
                  <a:pt x="470" y="559"/>
                </a:lnTo>
                <a:lnTo>
                  <a:pt x="443" y="570"/>
                </a:lnTo>
                <a:lnTo>
                  <a:pt x="437" y="599"/>
                </a:lnTo>
                <a:lnTo>
                  <a:pt x="408" y="590"/>
                </a:lnTo>
                <a:lnTo>
                  <a:pt x="420" y="570"/>
                </a:lnTo>
                <a:lnTo>
                  <a:pt x="401" y="546"/>
                </a:lnTo>
                <a:lnTo>
                  <a:pt x="377" y="580"/>
                </a:lnTo>
                <a:lnTo>
                  <a:pt x="387" y="654"/>
                </a:lnTo>
                <a:lnTo>
                  <a:pt x="374" y="671"/>
                </a:lnTo>
                <a:lnTo>
                  <a:pt x="352" y="674"/>
                </a:lnTo>
                <a:lnTo>
                  <a:pt x="339" y="671"/>
                </a:lnTo>
                <a:lnTo>
                  <a:pt x="316" y="712"/>
                </a:lnTo>
                <a:lnTo>
                  <a:pt x="285" y="712"/>
                </a:lnTo>
                <a:lnTo>
                  <a:pt x="291" y="748"/>
                </a:lnTo>
                <a:lnTo>
                  <a:pt x="271" y="720"/>
                </a:lnTo>
                <a:lnTo>
                  <a:pt x="229" y="749"/>
                </a:lnTo>
                <a:lnTo>
                  <a:pt x="221" y="773"/>
                </a:lnTo>
                <a:lnTo>
                  <a:pt x="237" y="789"/>
                </a:lnTo>
                <a:lnTo>
                  <a:pt x="216" y="797"/>
                </a:lnTo>
                <a:lnTo>
                  <a:pt x="221" y="823"/>
                </a:lnTo>
                <a:lnTo>
                  <a:pt x="202" y="842"/>
                </a:lnTo>
                <a:lnTo>
                  <a:pt x="198" y="897"/>
                </a:lnTo>
                <a:lnTo>
                  <a:pt x="183" y="897"/>
                </a:lnTo>
                <a:lnTo>
                  <a:pt x="123" y="825"/>
                </a:lnTo>
                <a:lnTo>
                  <a:pt x="0" y="488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6" name="Freeform 68"/>
          <p:cNvSpPr/>
          <p:nvPr/>
        </p:nvSpPr>
        <p:spPr>
          <a:xfrm>
            <a:off x="6113520" y="3498840"/>
            <a:ext cx="561960" cy="277920"/>
          </a:xfrm>
          <a:custGeom>
            <a:avLst/>
            <a:gdLst>
              <a:gd name="textAreaLeft" fmla="*/ 0 w 561960"/>
              <a:gd name="textAreaRight" fmla="*/ 562320 w 5619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817" h="351">
                <a:moveTo>
                  <a:pt x="0" y="104"/>
                </a:moveTo>
                <a:lnTo>
                  <a:pt x="21" y="204"/>
                </a:lnTo>
                <a:lnTo>
                  <a:pt x="81" y="142"/>
                </a:lnTo>
                <a:lnTo>
                  <a:pt x="181" y="118"/>
                </a:lnTo>
                <a:lnTo>
                  <a:pt x="196" y="91"/>
                </a:lnTo>
                <a:lnTo>
                  <a:pt x="250" y="87"/>
                </a:lnTo>
                <a:lnTo>
                  <a:pt x="296" y="104"/>
                </a:lnTo>
                <a:lnTo>
                  <a:pt x="321" y="134"/>
                </a:lnTo>
                <a:lnTo>
                  <a:pt x="368" y="144"/>
                </a:lnTo>
                <a:lnTo>
                  <a:pt x="395" y="176"/>
                </a:lnTo>
                <a:lnTo>
                  <a:pt x="437" y="192"/>
                </a:lnTo>
                <a:lnTo>
                  <a:pt x="456" y="183"/>
                </a:lnTo>
                <a:lnTo>
                  <a:pt x="466" y="202"/>
                </a:lnTo>
                <a:lnTo>
                  <a:pt x="458" y="217"/>
                </a:lnTo>
                <a:lnTo>
                  <a:pt x="454" y="238"/>
                </a:lnTo>
                <a:lnTo>
                  <a:pt x="426" y="283"/>
                </a:lnTo>
                <a:lnTo>
                  <a:pt x="437" y="312"/>
                </a:lnTo>
                <a:lnTo>
                  <a:pt x="474" y="298"/>
                </a:lnTo>
                <a:lnTo>
                  <a:pt x="474" y="284"/>
                </a:lnTo>
                <a:lnTo>
                  <a:pt x="501" y="312"/>
                </a:lnTo>
                <a:lnTo>
                  <a:pt x="508" y="298"/>
                </a:lnTo>
                <a:lnTo>
                  <a:pt x="528" y="322"/>
                </a:lnTo>
                <a:lnTo>
                  <a:pt x="535" y="312"/>
                </a:lnTo>
                <a:lnTo>
                  <a:pt x="570" y="322"/>
                </a:lnTo>
                <a:lnTo>
                  <a:pt x="585" y="317"/>
                </a:lnTo>
                <a:lnTo>
                  <a:pt x="616" y="341"/>
                </a:lnTo>
                <a:lnTo>
                  <a:pt x="593" y="301"/>
                </a:lnTo>
                <a:lnTo>
                  <a:pt x="535" y="267"/>
                </a:lnTo>
                <a:lnTo>
                  <a:pt x="589" y="291"/>
                </a:lnTo>
                <a:lnTo>
                  <a:pt x="557" y="253"/>
                </a:lnTo>
                <a:lnTo>
                  <a:pt x="547" y="219"/>
                </a:lnTo>
                <a:lnTo>
                  <a:pt x="553" y="142"/>
                </a:lnTo>
                <a:lnTo>
                  <a:pt x="520" y="125"/>
                </a:lnTo>
                <a:lnTo>
                  <a:pt x="585" y="74"/>
                </a:lnTo>
                <a:lnTo>
                  <a:pt x="589" y="41"/>
                </a:lnTo>
                <a:lnTo>
                  <a:pt x="626" y="45"/>
                </a:lnTo>
                <a:lnTo>
                  <a:pt x="618" y="74"/>
                </a:lnTo>
                <a:lnTo>
                  <a:pt x="591" y="84"/>
                </a:lnTo>
                <a:lnTo>
                  <a:pt x="578" y="113"/>
                </a:lnTo>
                <a:lnTo>
                  <a:pt x="585" y="140"/>
                </a:lnTo>
                <a:lnTo>
                  <a:pt x="603" y="130"/>
                </a:lnTo>
                <a:lnTo>
                  <a:pt x="595" y="163"/>
                </a:lnTo>
                <a:lnTo>
                  <a:pt x="603" y="176"/>
                </a:lnTo>
                <a:lnTo>
                  <a:pt x="607" y="194"/>
                </a:lnTo>
                <a:lnTo>
                  <a:pt x="589" y="185"/>
                </a:lnTo>
                <a:lnTo>
                  <a:pt x="582" y="209"/>
                </a:lnTo>
                <a:lnTo>
                  <a:pt x="622" y="204"/>
                </a:lnTo>
                <a:lnTo>
                  <a:pt x="618" y="219"/>
                </a:lnTo>
                <a:lnTo>
                  <a:pt x="639" y="233"/>
                </a:lnTo>
                <a:lnTo>
                  <a:pt x="603" y="231"/>
                </a:lnTo>
                <a:lnTo>
                  <a:pt x="614" y="277"/>
                </a:lnTo>
                <a:lnTo>
                  <a:pt x="653" y="296"/>
                </a:lnTo>
                <a:lnTo>
                  <a:pt x="676" y="272"/>
                </a:lnTo>
                <a:lnTo>
                  <a:pt x="680" y="312"/>
                </a:lnTo>
                <a:lnTo>
                  <a:pt x="707" y="305"/>
                </a:lnTo>
                <a:lnTo>
                  <a:pt x="691" y="322"/>
                </a:lnTo>
                <a:lnTo>
                  <a:pt x="711" y="322"/>
                </a:lnTo>
                <a:lnTo>
                  <a:pt x="697" y="342"/>
                </a:lnTo>
                <a:lnTo>
                  <a:pt x="703" y="351"/>
                </a:lnTo>
                <a:lnTo>
                  <a:pt x="741" y="334"/>
                </a:lnTo>
                <a:lnTo>
                  <a:pt x="786" y="313"/>
                </a:lnTo>
                <a:lnTo>
                  <a:pt x="801" y="269"/>
                </a:lnTo>
                <a:lnTo>
                  <a:pt x="805" y="296"/>
                </a:lnTo>
                <a:lnTo>
                  <a:pt x="801" y="312"/>
                </a:lnTo>
                <a:lnTo>
                  <a:pt x="790" y="332"/>
                </a:lnTo>
                <a:lnTo>
                  <a:pt x="794" y="348"/>
                </a:lnTo>
                <a:lnTo>
                  <a:pt x="811" y="310"/>
                </a:lnTo>
                <a:lnTo>
                  <a:pt x="817" y="223"/>
                </a:lnTo>
                <a:lnTo>
                  <a:pt x="768" y="233"/>
                </a:lnTo>
                <a:lnTo>
                  <a:pt x="703" y="241"/>
                </a:lnTo>
                <a:lnTo>
                  <a:pt x="699" y="224"/>
                </a:lnTo>
                <a:lnTo>
                  <a:pt x="628" y="0"/>
                </a:lnTo>
                <a:lnTo>
                  <a:pt x="0" y="10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7" name="Freeform 69"/>
          <p:cNvSpPr/>
          <p:nvPr/>
        </p:nvSpPr>
        <p:spPr>
          <a:xfrm>
            <a:off x="6113520" y="3498840"/>
            <a:ext cx="561960" cy="277920"/>
          </a:xfrm>
          <a:custGeom>
            <a:avLst/>
            <a:gdLst>
              <a:gd name="textAreaLeft" fmla="*/ 0 w 561960"/>
              <a:gd name="textAreaRight" fmla="*/ 562320 w 5619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817" h="351">
                <a:moveTo>
                  <a:pt x="0" y="104"/>
                </a:moveTo>
                <a:lnTo>
                  <a:pt x="21" y="204"/>
                </a:lnTo>
                <a:lnTo>
                  <a:pt x="81" y="142"/>
                </a:lnTo>
                <a:lnTo>
                  <a:pt x="181" y="118"/>
                </a:lnTo>
                <a:lnTo>
                  <a:pt x="196" y="91"/>
                </a:lnTo>
                <a:lnTo>
                  <a:pt x="250" y="87"/>
                </a:lnTo>
                <a:lnTo>
                  <a:pt x="296" y="104"/>
                </a:lnTo>
                <a:lnTo>
                  <a:pt x="321" y="134"/>
                </a:lnTo>
                <a:lnTo>
                  <a:pt x="368" y="144"/>
                </a:lnTo>
                <a:lnTo>
                  <a:pt x="395" y="176"/>
                </a:lnTo>
                <a:lnTo>
                  <a:pt x="437" y="192"/>
                </a:lnTo>
                <a:lnTo>
                  <a:pt x="456" y="183"/>
                </a:lnTo>
                <a:lnTo>
                  <a:pt x="466" y="202"/>
                </a:lnTo>
                <a:lnTo>
                  <a:pt x="458" y="217"/>
                </a:lnTo>
                <a:lnTo>
                  <a:pt x="454" y="238"/>
                </a:lnTo>
                <a:lnTo>
                  <a:pt x="426" y="283"/>
                </a:lnTo>
                <a:lnTo>
                  <a:pt x="437" y="312"/>
                </a:lnTo>
                <a:lnTo>
                  <a:pt x="474" y="298"/>
                </a:lnTo>
                <a:lnTo>
                  <a:pt x="474" y="284"/>
                </a:lnTo>
                <a:lnTo>
                  <a:pt x="501" y="312"/>
                </a:lnTo>
                <a:lnTo>
                  <a:pt x="508" y="298"/>
                </a:lnTo>
                <a:lnTo>
                  <a:pt x="528" y="322"/>
                </a:lnTo>
                <a:lnTo>
                  <a:pt x="535" y="312"/>
                </a:lnTo>
                <a:lnTo>
                  <a:pt x="570" y="322"/>
                </a:lnTo>
                <a:lnTo>
                  <a:pt x="585" y="317"/>
                </a:lnTo>
                <a:lnTo>
                  <a:pt x="616" y="341"/>
                </a:lnTo>
                <a:lnTo>
                  <a:pt x="593" y="301"/>
                </a:lnTo>
                <a:lnTo>
                  <a:pt x="535" y="267"/>
                </a:lnTo>
                <a:lnTo>
                  <a:pt x="589" y="291"/>
                </a:lnTo>
                <a:lnTo>
                  <a:pt x="557" y="253"/>
                </a:lnTo>
                <a:lnTo>
                  <a:pt x="547" y="219"/>
                </a:lnTo>
                <a:lnTo>
                  <a:pt x="553" y="142"/>
                </a:lnTo>
                <a:lnTo>
                  <a:pt x="520" y="125"/>
                </a:lnTo>
                <a:lnTo>
                  <a:pt x="585" y="74"/>
                </a:lnTo>
                <a:lnTo>
                  <a:pt x="589" y="41"/>
                </a:lnTo>
                <a:lnTo>
                  <a:pt x="626" y="45"/>
                </a:lnTo>
                <a:lnTo>
                  <a:pt x="618" y="74"/>
                </a:lnTo>
                <a:lnTo>
                  <a:pt x="591" y="84"/>
                </a:lnTo>
                <a:lnTo>
                  <a:pt x="578" y="113"/>
                </a:lnTo>
                <a:lnTo>
                  <a:pt x="585" y="140"/>
                </a:lnTo>
                <a:lnTo>
                  <a:pt x="603" y="130"/>
                </a:lnTo>
                <a:lnTo>
                  <a:pt x="595" y="163"/>
                </a:lnTo>
                <a:lnTo>
                  <a:pt x="603" y="176"/>
                </a:lnTo>
                <a:lnTo>
                  <a:pt x="607" y="194"/>
                </a:lnTo>
                <a:lnTo>
                  <a:pt x="589" y="185"/>
                </a:lnTo>
                <a:lnTo>
                  <a:pt x="582" y="209"/>
                </a:lnTo>
                <a:lnTo>
                  <a:pt x="622" y="204"/>
                </a:lnTo>
                <a:lnTo>
                  <a:pt x="618" y="219"/>
                </a:lnTo>
                <a:lnTo>
                  <a:pt x="639" y="233"/>
                </a:lnTo>
                <a:lnTo>
                  <a:pt x="603" y="231"/>
                </a:lnTo>
                <a:lnTo>
                  <a:pt x="614" y="277"/>
                </a:lnTo>
                <a:lnTo>
                  <a:pt x="653" y="296"/>
                </a:lnTo>
                <a:lnTo>
                  <a:pt x="676" y="272"/>
                </a:lnTo>
                <a:lnTo>
                  <a:pt x="680" y="312"/>
                </a:lnTo>
                <a:lnTo>
                  <a:pt x="707" y="305"/>
                </a:lnTo>
                <a:lnTo>
                  <a:pt x="691" y="322"/>
                </a:lnTo>
                <a:lnTo>
                  <a:pt x="711" y="322"/>
                </a:lnTo>
                <a:lnTo>
                  <a:pt x="697" y="342"/>
                </a:lnTo>
                <a:lnTo>
                  <a:pt x="703" y="351"/>
                </a:lnTo>
                <a:lnTo>
                  <a:pt x="741" y="334"/>
                </a:lnTo>
                <a:lnTo>
                  <a:pt x="786" y="313"/>
                </a:lnTo>
                <a:lnTo>
                  <a:pt x="801" y="269"/>
                </a:lnTo>
                <a:lnTo>
                  <a:pt x="805" y="296"/>
                </a:lnTo>
                <a:lnTo>
                  <a:pt x="801" y="312"/>
                </a:lnTo>
                <a:lnTo>
                  <a:pt x="790" y="332"/>
                </a:lnTo>
                <a:lnTo>
                  <a:pt x="794" y="348"/>
                </a:lnTo>
                <a:lnTo>
                  <a:pt x="811" y="310"/>
                </a:lnTo>
                <a:lnTo>
                  <a:pt x="817" y="223"/>
                </a:lnTo>
                <a:lnTo>
                  <a:pt x="768" y="233"/>
                </a:lnTo>
                <a:lnTo>
                  <a:pt x="703" y="241"/>
                </a:lnTo>
                <a:lnTo>
                  <a:pt x="699" y="224"/>
                </a:lnTo>
                <a:lnTo>
                  <a:pt x="628" y="0"/>
                </a:lnTo>
                <a:lnTo>
                  <a:pt x="0" y="104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8" name="Freeform 70"/>
          <p:cNvSpPr/>
          <p:nvPr/>
        </p:nvSpPr>
        <p:spPr>
          <a:xfrm>
            <a:off x="6730920" y="2892600"/>
            <a:ext cx="416160" cy="207720"/>
          </a:xfrm>
          <a:custGeom>
            <a:avLst/>
            <a:gdLst>
              <a:gd name="textAreaLeft" fmla="*/ 0 w 416160"/>
              <a:gd name="textAreaRight" fmla="*/ 416520 w 4161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03" h="262">
                <a:moveTo>
                  <a:pt x="0" y="105"/>
                </a:moveTo>
                <a:lnTo>
                  <a:pt x="2" y="245"/>
                </a:lnTo>
                <a:lnTo>
                  <a:pt x="281" y="196"/>
                </a:lnTo>
                <a:lnTo>
                  <a:pt x="329" y="180"/>
                </a:lnTo>
                <a:lnTo>
                  <a:pt x="350" y="182"/>
                </a:lnTo>
                <a:lnTo>
                  <a:pt x="371" y="223"/>
                </a:lnTo>
                <a:lnTo>
                  <a:pt x="404" y="226"/>
                </a:lnTo>
                <a:lnTo>
                  <a:pt x="420" y="261"/>
                </a:lnTo>
                <a:lnTo>
                  <a:pt x="441" y="262"/>
                </a:lnTo>
                <a:lnTo>
                  <a:pt x="447" y="240"/>
                </a:lnTo>
                <a:lnTo>
                  <a:pt x="464" y="232"/>
                </a:lnTo>
                <a:lnTo>
                  <a:pt x="470" y="206"/>
                </a:lnTo>
                <a:lnTo>
                  <a:pt x="481" y="206"/>
                </a:lnTo>
                <a:lnTo>
                  <a:pt x="491" y="242"/>
                </a:lnTo>
                <a:lnTo>
                  <a:pt x="522" y="233"/>
                </a:lnTo>
                <a:lnTo>
                  <a:pt x="526" y="216"/>
                </a:lnTo>
                <a:lnTo>
                  <a:pt x="562" y="201"/>
                </a:lnTo>
                <a:lnTo>
                  <a:pt x="585" y="196"/>
                </a:lnTo>
                <a:lnTo>
                  <a:pt x="603" y="209"/>
                </a:lnTo>
                <a:lnTo>
                  <a:pt x="595" y="172"/>
                </a:lnTo>
                <a:lnTo>
                  <a:pt x="568" y="129"/>
                </a:lnTo>
                <a:lnTo>
                  <a:pt x="549" y="122"/>
                </a:lnTo>
                <a:lnTo>
                  <a:pt x="531" y="124"/>
                </a:lnTo>
                <a:lnTo>
                  <a:pt x="533" y="134"/>
                </a:lnTo>
                <a:lnTo>
                  <a:pt x="545" y="134"/>
                </a:lnTo>
                <a:lnTo>
                  <a:pt x="558" y="134"/>
                </a:lnTo>
                <a:lnTo>
                  <a:pt x="572" y="148"/>
                </a:lnTo>
                <a:lnTo>
                  <a:pt x="580" y="165"/>
                </a:lnTo>
                <a:lnTo>
                  <a:pt x="572" y="178"/>
                </a:lnTo>
                <a:lnTo>
                  <a:pt x="524" y="197"/>
                </a:lnTo>
                <a:lnTo>
                  <a:pt x="499" y="187"/>
                </a:lnTo>
                <a:lnTo>
                  <a:pt x="485" y="165"/>
                </a:lnTo>
                <a:lnTo>
                  <a:pt x="464" y="160"/>
                </a:lnTo>
                <a:lnTo>
                  <a:pt x="468" y="146"/>
                </a:lnTo>
                <a:lnTo>
                  <a:pt x="443" y="120"/>
                </a:lnTo>
                <a:lnTo>
                  <a:pt x="412" y="108"/>
                </a:lnTo>
                <a:lnTo>
                  <a:pt x="410" y="122"/>
                </a:lnTo>
                <a:lnTo>
                  <a:pt x="389" y="115"/>
                </a:lnTo>
                <a:lnTo>
                  <a:pt x="381" y="100"/>
                </a:lnTo>
                <a:lnTo>
                  <a:pt x="387" y="84"/>
                </a:lnTo>
                <a:lnTo>
                  <a:pt x="406" y="72"/>
                </a:lnTo>
                <a:lnTo>
                  <a:pt x="398" y="60"/>
                </a:lnTo>
                <a:lnTo>
                  <a:pt x="425" y="43"/>
                </a:lnTo>
                <a:lnTo>
                  <a:pt x="398" y="24"/>
                </a:lnTo>
                <a:lnTo>
                  <a:pt x="387" y="0"/>
                </a:lnTo>
                <a:lnTo>
                  <a:pt x="331" y="36"/>
                </a:lnTo>
                <a:lnTo>
                  <a:pt x="129" y="81"/>
                </a:lnTo>
                <a:lnTo>
                  <a:pt x="0" y="10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9" name="Freeform 71"/>
          <p:cNvSpPr/>
          <p:nvPr/>
        </p:nvSpPr>
        <p:spPr>
          <a:xfrm>
            <a:off x="7062840" y="3094200"/>
            <a:ext cx="38160" cy="31680"/>
          </a:xfrm>
          <a:custGeom>
            <a:avLst/>
            <a:gdLst>
              <a:gd name="textAreaLeft" fmla="*/ 0 w 38160"/>
              <a:gd name="textAreaRight" fmla="*/ 38520 w 38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6" h="39">
                <a:moveTo>
                  <a:pt x="0" y="39"/>
                </a:moveTo>
                <a:lnTo>
                  <a:pt x="23" y="0"/>
                </a:lnTo>
                <a:lnTo>
                  <a:pt x="56" y="17"/>
                </a:lnTo>
                <a:lnTo>
                  <a:pt x="0" y="3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0" name="Freeform 72"/>
          <p:cNvSpPr/>
          <p:nvPr/>
        </p:nvSpPr>
        <p:spPr>
          <a:xfrm>
            <a:off x="7062840" y="3094200"/>
            <a:ext cx="38160" cy="31680"/>
          </a:xfrm>
          <a:custGeom>
            <a:avLst/>
            <a:gdLst>
              <a:gd name="textAreaLeft" fmla="*/ 0 w 38160"/>
              <a:gd name="textAreaRight" fmla="*/ 38520 w 381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6" h="39">
                <a:moveTo>
                  <a:pt x="0" y="39"/>
                </a:moveTo>
                <a:lnTo>
                  <a:pt x="23" y="0"/>
                </a:lnTo>
                <a:lnTo>
                  <a:pt x="56" y="17"/>
                </a:lnTo>
                <a:lnTo>
                  <a:pt x="0" y="39"/>
                </a:lnTo>
              </a:path>
            </a:pathLst>
          </a:cu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1" name="Freeform 73"/>
          <p:cNvSpPr/>
          <p:nvPr/>
        </p:nvSpPr>
        <p:spPr>
          <a:xfrm>
            <a:off x="7132680" y="3087720"/>
            <a:ext cx="30240" cy="23760"/>
          </a:xfrm>
          <a:custGeom>
            <a:avLst/>
            <a:gdLst>
              <a:gd name="textAreaLeft" fmla="*/ 0 w 30240"/>
              <a:gd name="textAreaRight" fmla="*/ 30600 w 302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3" h="29">
                <a:moveTo>
                  <a:pt x="0" y="29"/>
                </a:moveTo>
                <a:lnTo>
                  <a:pt x="25" y="0"/>
                </a:lnTo>
                <a:lnTo>
                  <a:pt x="43" y="24"/>
                </a:lnTo>
                <a:lnTo>
                  <a:pt x="0" y="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2" name="Freeform 74"/>
          <p:cNvSpPr/>
          <p:nvPr/>
        </p:nvSpPr>
        <p:spPr>
          <a:xfrm>
            <a:off x="7132680" y="3087720"/>
            <a:ext cx="30240" cy="23760"/>
          </a:xfrm>
          <a:custGeom>
            <a:avLst/>
            <a:gdLst>
              <a:gd name="textAreaLeft" fmla="*/ 0 w 30240"/>
              <a:gd name="textAreaRight" fmla="*/ 30600 w 302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3" h="29">
                <a:moveTo>
                  <a:pt x="0" y="29"/>
                </a:moveTo>
                <a:lnTo>
                  <a:pt x="25" y="0"/>
                </a:lnTo>
                <a:lnTo>
                  <a:pt x="43" y="24"/>
                </a:lnTo>
                <a:lnTo>
                  <a:pt x="0" y="29"/>
                </a:lnTo>
              </a:path>
            </a:pathLst>
          </a:cu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3" name="Freeform 75"/>
          <p:cNvSpPr/>
          <p:nvPr/>
        </p:nvSpPr>
        <p:spPr>
          <a:xfrm>
            <a:off x="4757760" y="2505240"/>
            <a:ext cx="709560" cy="363240"/>
          </a:xfrm>
          <a:custGeom>
            <a:avLst/>
            <a:gdLst>
              <a:gd name="textAreaLeft" fmla="*/ 0 w 709560"/>
              <a:gd name="textAreaRight" fmla="*/ 709920 w 70956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1032" h="458">
                <a:moveTo>
                  <a:pt x="0" y="199"/>
                </a:moveTo>
                <a:lnTo>
                  <a:pt x="80" y="247"/>
                </a:lnTo>
                <a:lnTo>
                  <a:pt x="279" y="291"/>
                </a:lnTo>
                <a:lnTo>
                  <a:pt x="369" y="302"/>
                </a:lnTo>
                <a:lnTo>
                  <a:pt x="383" y="327"/>
                </a:lnTo>
                <a:lnTo>
                  <a:pt x="420" y="338"/>
                </a:lnTo>
                <a:lnTo>
                  <a:pt x="472" y="458"/>
                </a:lnTo>
                <a:lnTo>
                  <a:pt x="516" y="365"/>
                </a:lnTo>
                <a:lnTo>
                  <a:pt x="526" y="345"/>
                </a:lnTo>
                <a:lnTo>
                  <a:pt x="537" y="331"/>
                </a:lnTo>
                <a:lnTo>
                  <a:pt x="537" y="315"/>
                </a:lnTo>
                <a:lnTo>
                  <a:pt x="556" y="290"/>
                </a:lnTo>
                <a:lnTo>
                  <a:pt x="560" y="291"/>
                </a:lnTo>
                <a:lnTo>
                  <a:pt x="554" y="305"/>
                </a:lnTo>
                <a:lnTo>
                  <a:pt x="556" y="333"/>
                </a:lnTo>
                <a:lnTo>
                  <a:pt x="574" y="326"/>
                </a:lnTo>
                <a:lnTo>
                  <a:pt x="583" y="298"/>
                </a:lnTo>
                <a:lnTo>
                  <a:pt x="606" y="302"/>
                </a:lnTo>
                <a:lnTo>
                  <a:pt x="620" y="288"/>
                </a:lnTo>
                <a:lnTo>
                  <a:pt x="624" y="295"/>
                </a:lnTo>
                <a:lnTo>
                  <a:pt x="599" y="338"/>
                </a:lnTo>
                <a:lnTo>
                  <a:pt x="614" y="345"/>
                </a:lnTo>
                <a:lnTo>
                  <a:pt x="631" y="317"/>
                </a:lnTo>
                <a:lnTo>
                  <a:pt x="655" y="305"/>
                </a:lnTo>
                <a:lnTo>
                  <a:pt x="666" y="274"/>
                </a:lnTo>
                <a:lnTo>
                  <a:pt x="726" y="266"/>
                </a:lnTo>
                <a:lnTo>
                  <a:pt x="755" y="262"/>
                </a:lnTo>
                <a:lnTo>
                  <a:pt x="799" y="237"/>
                </a:lnTo>
                <a:lnTo>
                  <a:pt x="865" y="245"/>
                </a:lnTo>
                <a:lnTo>
                  <a:pt x="909" y="271"/>
                </a:lnTo>
                <a:lnTo>
                  <a:pt x="911" y="238"/>
                </a:lnTo>
                <a:lnTo>
                  <a:pt x="934" y="237"/>
                </a:lnTo>
                <a:lnTo>
                  <a:pt x="990" y="240"/>
                </a:lnTo>
                <a:lnTo>
                  <a:pt x="1032" y="230"/>
                </a:lnTo>
                <a:lnTo>
                  <a:pt x="976" y="199"/>
                </a:lnTo>
                <a:lnTo>
                  <a:pt x="963" y="153"/>
                </a:lnTo>
                <a:lnTo>
                  <a:pt x="919" y="160"/>
                </a:lnTo>
                <a:lnTo>
                  <a:pt x="903" y="153"/>
                </a:lnTo>
                <a:lnTo>
                  <a:pt x="886" y="160"/>
                </a:lnTo>
                <a:lnTo>
                  <a:pt x="861" y="155"/>
                </a:lnTo>
                <a:lnTo>
                  <a:pt x="845" y="153"/>
                </a:lnTo>
                <a:lnTo>
                  <a:pt x="841" y="125"/>
                </a:lnTo>
                <a:lnTo>
                  <a:pt x="849" y="98"/>
                </a:lnTo>
                <a:lnTo>
                  <a:pt x="807" y="105"/>
                </a:lnTo>
                <a:lnTo>
                  <a:pt x="764" y="124"/>
                </a:lnTo>
                <a:lnTo>
                  <a:pt x="660" y="137"/>
                </a:lnTo>
                <a:lnTo>
                  <a:pt x="593" y="190"/>
                </a:lnTo>
                <a:lnTo>
                  <a:pt x="579" y="180"/>
                </a:lnTo>
                <a:lnTo>
                  <a:pt x="560" y="187"/>
                </a:lnTo>
                <a:lnTo>
                  <a:pt x="533" y="170"/>
                </a:lnTo>
                <a:lnTo>
                  <a:pt x="516" y="177"/>
                </a:lnTo>
                <a:lnTo>
                  <a:pt x="479" y="182"/>
                </a:lnTo>
                <a:lnTo>
                  <a:pt x="427" y="120"/>
                </a:lnTo>
                <a:lnTo>
                  <a:pt x="366" y="112"/>
                </a:lnTo>
                <a:lnTo>
                  <a:pt x="346" y="112"/>
                </a:lnTo>
                <a:lnTo>
                  <a:pt x="335" y="127"/>
                </a:lnTo>
                <a:lnTo>
                  <a:pt x="344" y="101"/>
                </a:lnTo>
                <a:lnTo>
                  <a:pt x="317" y="122"/>
                </a:lnTo>
                <a:lnTo>
                  <a:pt x="304" y="143"/>
                </a:lnTo>
                <a:lnTo>
                  <a:pt x="308" y="107"/>
                </a:lnTo>
                <a:lnTo>
                  <a:pt x="335" y="57"/>
                </a:lnTo>
                <a:lnTo>
                  <a:pt x="373" y="18"/>
                </a:lnTo>
                <a:lnTo>
                  <a:pt x="408" y="7"/>
                </a:lnTo>
                <a:lnTo>
                  <a:pt x="400" y="0"/>
                </a:lnTo>
                <a:lnTo>
                  <a:pt x="342" y="4"/>
                </a:lnTo>
                <a:lnTo>
                  <a:pt x="304" y="21"/>
                </a:lnTo>
                <a:lnTo>
                  <a:pt x="292" y="40"/>
                </a:lnTo>
                <a:lnTo>
                  <a:pt x="246" y="71"/>
                </a:lnTo>
                <a:lnTo>
                  <a:pt x="225" y="98"/>
                </a:lnTo>
                <a:lnTo>
                  <a:pt x="190" y="107"/>
                </a:lnTo>
                <a:lnTo>
                  <a:pt x="181" y="124"/>
                </a:lnTo>
                <a:lnTo>
                  <a:pt x="156" y="132"/>
                </a:lnTo>
                <a:lnTo>
                  <a:pt x="96" y="143"/>
                </a:lnTo>
                <a:lnTo>
                  <a:pt x="80" y="155"/>
                </a:lnTo>
                <a:lnTo>
                  <a:pt x="53" y="177"/>
                </a:lnTo>
                <a:lnTo>
                  <a:pt x="0" y="1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4" name="Freeform 76"/>
          <p:cNvSpPr/>
          <p:nvPr/>
        </p:nvSpPr>
        <p:spPr>
          <a:xfrm>
            <a:off x="4757760" y="2505240"/>
            <a:ext cx="709560" cy="363240"/>
          </a:xfrm>
          <a:custGeom>
            <a:avLst/>
            <a:gdLst>
              <a:gd name="textAreaLeft" fmla="*/ 0 w 709560"/>
              <a:gd name="textAreaRight" fmla="*/ 709920 w 70956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1032" h="458">
                <a:moveTo>
                  <a:pt x="0" y="199"/>
                </a:moveTo>
                <a:lnTo>
                  <a:pt x="80" y="247"/>
                </a:lnTo>
                <a:lnTo>
                  <a:pt x="279" y="291"/>
                </a:lnTo>
                <a:lnTo>
                  <a:pt x="369" y="302"/>
                </a:lnTo>
                <a:lnTo>
                  <a:pt x="383" y="327"/>
                </a:lnTo>
                <a:lnTo>
                  <a:pt x="420" y="338"/>
                </a:lnTo>
                <a:lnTo>
                  <a:pt x="472" y="458"/>
                </a:lnTo>
                <a:lnTo>
                  <a:pt x="516" y="365"/>
                </a:lnTo>
                <a:lnTo>
                  <a:pt x="526" y="345"/>
                </a:lnTo>
                <a:lnTo>
                  <a:pt x="537" y="331"/>
                </a:lnTo>
                <a:lnTo>
                  <a:pt x="537" y="315"/>
                </a:lnTo>
                <a:lnTo>
                  <a:pt x="556" y="290"/>
                </a:lnTo>
                <a:lnTo>
                  <a:pt x="560" y="291"/>
                </a:lnTo>
                <a:lnTo>
                  <a:pt x="554" y="305"/>
                </a:lnTo>
                <a:lnTo>
                  <a:pt x="556" y="333"/>
                </a:lnTo>
                <a:lnTo>
                  <a:pt x="574" y="326"/>
                </a:lnTo>
                <a:lnTo>
                  <a:pt x="583" y="298"/>
                </a:lnTo>
                <a:lnTo>
                  <a:pt x="606" y="302"/>
                </a:lnTo>
                <a:lnTo>
                  <a:pt x="620" y="288"/>
                </a:lnTo>
                <a:lnTo>
                  <a:pt x="624" y="295"/>
                </a:lnTo>
                <a:lnTo>
                  <a:pt x="599" y="338"/>
                </a:lnTo>
                <a:lnTo>
                  <a:pt x="614" y="345"/>
                </a:lnTo>
                <a:lnTo>
                  <a:pt x="631" y="317"/>
                </a:lnTo>
                <a:lnTo>
                  <a:pt x="655" y="305"/>
                </a:lnTo>
                <a:lnTo>
                  <a:pt x="666" y="274"/>
                </a:lnTo>
                <a:lnTo>
                  <a:pt x="726" y="266"/>
                </a:lnTo>
                <a:lnTo>
                  <a:pt x="755" y="262"/>
                </a:lnTo>
                <a:lnTo>
                  <a:pt x="799" y="237"/>
                </a:lnTo>
                <a:lnTo>
                  <a:pt x="865" y="245"/>
                </a:lnTo>
                <a:lnTo>
                  <a:pt x="909" y="271"/>
                </a:lnTo>
                <a:lnTo>
                  <a:pt x="911" y="238"/>
                </a:lnTo>
                <a:lnTo>
                  <a:pt x="934" y="237"/>
                </a:lnTo>
                <a:lnTo>
                  <a:pt x="990" y="240"/>
                </a:lnTo>
                <a:lnTo>
                  <a:pt x="1032" y="230"/>
                </a:lnTo>
                <a:lnTo>
                  <a:pt x="976" y="199"/>
                </a:lnTo>
                <a:lnTo>
                  <a:pt x="963" y="153"/>
                </a:lnTo>
                <a:lnTo>
                  <a:pt x="919" y="160"/>
                </a:lnTo>
                <a:lnTo>
                  <a:pt x="903" y="153"/>
                </a:lnTo>
                <a:lnTo>
                  <a:pt x="886" y="160"/>
                </a:lnTo>
                <a:lnTo>
                  <a:pt x="861" y="155"/>
                </a:lnTo>
                <a:lnTo>
                  <a:pt x="845" y="153"/>
                </a:lnTo>
                <a:lnTo>
                  <a:pt x="841" y="125"/>
                </a:lnTo>
                <a:lnTo>
                  <a:pt x="849" y="98"/>
                </a:lnTo>
                <a:lnTo>
                  <a:pt x="807" y="105"/>
                </a:lnTo>
                <a:lnTo>
                  <a:pt x="764" y="124"/>
                </a:lnTo>
                <a:lnTo>
                  <a:pt x="660" y="137"/>
                </a:lnTo>
                <a:lnTo>
                  <a:pt x="593" y="190"/>
                </a:lnTo>
                <a:lnTo>
                  <a:pt x="579" y="180"/>
                </a:lnTo>
                <a:lnTo>
                  <a:pt x="560" y="187"/>
                </a:lnTo>
                <a:lnTo>
                  <a:pt x="533" y="170"/>
                </a:lnTo>
                <a:lnTo>
                  <a:pt x="516" y="177"/>
                </a:lnTo>
                <a:lnTo>
                  <a:pt x="479" y="182"/>
                </a:lnTo>
                <a:lnTo>
                  <a:pt x="427" y="120"/>
                </a:lnTo>
                <a:lnTo>
                  <a:pt x="366" y="112"/>
                </a:lnTo>
                <a:lnTo>
                  <a:pt x="346" y="112"/>
                </a:lnTo>
                <a:lnTo>
                  <a:pt x="335" y="127"/>
                </a:lnTo>
                <a:lnTo>
                  <a:pt x="344" y="101"/>
                </a:lnTo>
                <a:lnTo>
                  <a:pt x="317" y="122"/>
                </a:lnTo>
                <a:lnTo>
                  <a:pt x="304" y="143"/>
                </a:lnTo>
                <a:lnTo>
                  <a:pt x="308" y="107"/>
                </a:lnTo>
                <a:lnTo>
                  <a:pt x="335" y="57"/>
                </a:lnTo>
                <a:lnTo>
                  <a:pt x="373" y="18"/>
                </a:lnTo>
                <a:lnTo>
                  <a:pt x="408" y="7"/>
                </a:lnTo>
                <a:lnTo>
                  <a:pt x="400" y="0"/>
                </a:lnTo>
                <a:lnTo>
                  <a:pt x="342" y="4"/>
                </a:lnTo>
                <a:lnTo>
                  <a:pt x="304" y="21"/>
                </a:lnTo>
                <a:lnTo>
                  <a:pt x="292" y="40"/>
                </a:lnTo>
                <a:lnTo>
                  <a:pt x="246" y="71"/>
                </a:lnTo>
                <a:lnTo>
                  <a:pt x="225" y="98"/>
                </a:lnTo>
                <a:lnTo>
                  <a:pt x="190" y="107"/>
                </a:lnTo>
                <a:lnTo>
                  <a:pt x="181" y="124"/>
                </a:lnTo>
                <a:lnTo>
                  <a:pt x="156" y="132"/>
                </a:lnTo>
                <a:lnTo>
                  <a:pt x="96" y="143"/>
                </a:lnTo>
                <a:lnTo>
                  <a:pt x="80" y="155"/>
                </a:lnTo>
                <a:lnTo>
                  <a:pt x="53" y="177"/>
                </a:lnTo>
                <a:lnTo>
                  <a:pt x="0" y="19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5" name="Freeform 77"/>
          <p:cNvSpPr/>
          <p:nvPr/>
        </p:nvSpPr>
        <p:spPr>
          <a:xfrm>
            <a:off x="5214960" y="2728800"/>
            <a:ext cx="479520" cy="646200"/>
          </a:xfrm>
          <a:custGeom>
            <a:avLst/>
            <a:gdLst>
              <a:gd name="textAreaLeft" fmla="*/ 0 w 479520"/>
              <a:gd name="textAreaRight" fmla="*/ 479880 w 47952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694" h="815">
                <a:moveTo>
                  <a:pt x="0" y="815"/>
                </a:moveTo>
                <a:lnTo>
                  <a:pt x="64" y="716"/>
                </a:lnTo>
                <a:lnTo>
                  <a:pt x="79" y="681"/>
                </a:lnTo>
                <a:lnTo>
                  <a:pt x="85" y="609"/>
                </a:lnTo>
                <a:lnTo>
                  <a:pt x="66" y="541"/>
                </a:lnTo>
                <a:lnTo>
                  <a:pt x="29" y="478"/>
                </a:lnTo>
                <a:lnTo>
                  <a:pt x="10" y="442"/>
                </a:lnTo>
                <a:lnTo>
                  <a:pt x="21" y="409"/>
                </a:lnTo>
                <a:lnTo>
                  <a:pt x="4" y="368"/>
                </a:lnTo>
                <a:lnTo>
                  <a:pt x="23" y="339"/>
                </a:lnTo>
                <a:lnTo>
                  <a:pt x="41" y="269"/>
                </a:lnTo>
                <a:lnTo>
                  <a:pt x="35" y="236"/>
                </a:lnTo>
                <a:lnTo>
                  <a:pt x="60" y="214"/>
                </a:lnTo>
                <a:lnTo>
                  <a:pt x="56" y="190"/>
                </a:lnTo>
                <a:lnTo>
                  <a:pt x="97" y="175"/>
                </a:lnTo>
                <a:lnTo>
                  <a:pt x="135" y="127"/>
                </a:lnTo>
                <a:lnTo>
                  <a:pt x="129" y="207"/>
                </a:lnTo>
                <a:lnTo>
                  <a:pt x="158" y="190"/>
                </a:lnTo>
                <a:lnTo>
                  <a:pt x="158" y="121"/>
                </a:lnTo>
                <a:lnTo>
                  <a:pt x="197" y="86"/>
                </a:lnTo>
                <a:lnTo>
                  <a:pt x="224" y="80"/>
                </a:lnTo>
                <a:lnTo>
                  <a:pt x="201" y="68"/>
                </a:lnTo>
                <a:lnTo>
                  <a:pt x="193" y="44"/>
                </a:lnTo>
                <a:lnTo>
                  <a:pt x="208" y="12"/>
                </a:lnTo>
                <a:lnTo>
                  <a:pt x="245" y="0"/>
                </a:lnTo>
                <a:lnTo>
                  <a:pt x="328" y="20"/>
                </a:lnTo>
                <a:lnTo>
                  <a:pt x="357" y="48"/>
                </a:lnTo>
                <a:lnTo>
                  <a:pt x="451" y="65"/>
                </a:lnTo>
                <a:lnTo>
                  <a:pt x="470" y="91"/>
                </a:lnTo>
                <a:lnTo>
                  <a:pt x="497" y="120"/>
                </a:lnTo>
                <a:lnTo>
                  <a:pt x="474" y="120"/>
                </a:lnTo>
                <a:lnTo>
                  <a:pt x="470" y="137"/>
                </a:lnTo>
                <a:lnTo>
                  <a:pt x="501" y="168"/>
                </a:lnTo>
                <a:lnTo>
                  <a:pt x="507" y="223"/>
                </a:lnTo>
                <a:lnTo>
                  <a:pt x="507" y="258"/>
                </a:lnTo>
                <a:lnTo>
                  <a:pt x="478" y="298"/>
                </a:lnTo>
                <a:lnTo>
                  <a:pt x="474" y="318"/>
                </a:lnTo>
                <a:lnTo>
                  <a:pt x="434" y="334"/>
                </a:lnTo>
                <a:lnTo>
                  <a:pt x="428" y="351"/>
                </a:lnTo>
                <a:lnTo>
                  <a:pt x="434" y="392"/>
                </a:lnTo>
                <a:lnTo>
                  <a:pt x="472" y="411"/>
                </a:lnTo>
                <a:lnTo>
                  <a:pt x="505" y="378"/>
                </a:lnTo>
                <a:lnTo>
                  <a:pt x="528" y="332"/>
                </a:lnTo>
                <a:lnTo>
                  <a:pt x="584" y="303"/>
                </a:lnTo>
                <a:lnTo>
                  <a:pt x="623" y="320"/>
                </a:lnTo>
                <a:lnTo>
                  <a:pt x="648" y="371"/>
                </a:lnTo>
                <a:lnTo>
                  <a:pt x="678" y="469"/>
                </a:lnTo>
                <a:lnTo>
                  <a:pt x="694" y="502"/>
                </a:lnTo>
                <a:lnTo>
                  <a:pt x="684" y="527"/>
                </a:lnTo>
                <a:lnTo>
                  <a:pt x="690" y="568"/>
                </a:lnTo>
                <a:lnTo>
                  <a:pt x="678" y="591"/>
                </a:lnTo>
                <a:lnTo>
                  <a:pt x="661" y="568"/>
                </a:lnTo>
                <a:lnTo>
                  <a:pt x="646" y="577"/>
                </a:lnTo>
                <a:lnTo>
                  <a:pt x="642" y="616"/>
                </a:lnTo>
                <a:lnTo>
                  <a:pt x="634" y="633"/>
                </a:lnTo>
                <a:lnTo>
                  <a:pt x="603" y="649"/>
                </a:lnTo>
                <a:lnTo>
                  <a:pt x="601" y="702"/>
                </a:lnTo>
                <a:lnTo>
                  <a:pt x="582" y="722"/>
                </a:lnTo>
                <a:lnTo>
                  <a:pt x="565" y="765"/>
                </a:lnTo>
                <a:lnTo>
                  <a:pt x="341" y="796"/>
                </a:lnTo>
                <a:lnTo>
                  <a:pt x="334" y="782"/>
                </a:lnTo>
                <a:lnTo>
                  <a:pt x="0" y="81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6" name="Freeform 78"/>
          <p:cNvSpPr/>
          <p:nvPr/>
        </p:nvSpPr>
        <p:spPr>
          <a:xfrm>
            <a:off x="5214960" y="2728800"/>
            <a:ext cx="479520" cy="646200"/>
          </a:xfrm>
          <a:custGeom>
            <a:avLst/>
            <a:gdLst>
              <a:gd name="textAreaLeft" fmla="*/ 0 w 479520"/>
              <a:gd name="textAreaRight" fmla="*/ 479880 w 47952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694" h="815">
                <a:moveTo>
                  <a:pt x="0" y="815"/>
                </a:moveTo>
                <a:lnTo>
                  <a:pt x="64" y="716"/>
                </a:lnTo>
                <a:lnTo>
                  <a:pt x="79" y="681"/>
                </a:lnTo>
                <a:lnTo>
                  <a:pt x="85" y="609"/>
                </a:lnTo>
                <a:lnTo>
                  <a:pt x="66" y="541"/>
                </a:lnTo>
                <a:lnTo>
                  <a:pt x="29" y="478"/>
                </a:lnTo>
                <a:lnTo>
                  <a:pt x="10" y="442"/>
                </a:lnTo>
                <a:lnTo>
                  <a:pt x="21" y="409"/>
                </a:lnTo>
                <a:lnTo>
                  <a:pt x="4" y="368"/>
                </a:lnTo>
                <a:lnTo>
                  <a:pt x="23" y="339"/>
                </a:lnTo>
                <a:lnTo>
                  <a:pt x="41" y="269"/>
                </a:lnTo>
                <a:lnTo>
                  <a:pt x="35" y="236"/>
                </a:lnTo>
                <a:lnTo>
                  <a:pt x="60" y="214"/>
                </a:lnTo>
                <a:lnTo>
                  <a:pt x="56" y="190"/>
                </a:lnTo>
                <a:lnTo>
                  <a:pt x="97" y="175"/>
                </a:lnTo>
                <a:lnTo>
                  <a:pt x="135" y="127"/>
                </a:lnTo>
                <a:lnTo>
                  <a:pt x="129" y="207"/>
                </a:lnTo>
                <a:lnTo>
                  <a:pt x="158" y="190"/>
                </a:lnTo>
                <a:lnTo>
                  <a:pt x="158" y="121"/>
                </a:lnTo>
                <a:lnTo>
                  <a:pt x="197" y="86"/>
                </a:lnTo>
                <a:lnTo>
                  <a:pt x="224" y="80"/>
                </a:lnTo>
                <a:lnTo>
                  <a:pt x="201" y="68"/>
                </a:lnTo>
                <a:lnTo>
                  <a:pt x="193" y="44"/>
                </a:lnTo>
                <a:lnTo>
                  <a:pt x="208" y="12"/>
                </a:lnTo>
                <a:lnTo>
                  <a:pt x="245" y="0"/>
                </a:lnTo>
                <a:lnTo>
                  <a:pt x="328" y="20"/>
                </a:lnTo>
                <a:lnTo>
                  <a:pt x="357" y="48"/>
                </a:lnTo>
                <a:lnTo>
                  <a:pt x="451" y="65"/>
                </a:lnTo>
                <a:lnTo>
                  <a:pt x="470" y="91"/>
                </a:lnTo>
                <a:lnTo>
                  <a:pt x="497" y="120"/>
                </a:lnTo>
                <a:lnTo>
                  <a:pt x="474" y="120"/>
                </a:lnTo>
                <a:lnTo>
                  <a:pt x="470" y="137"/>
                </a:lnTo>
                <a:lnTo>
                  <a:pt x="501" y="168"/>
                </a:lnTo>
                <a:lnTo>
                  <a:pt x="507" y="223"/>
                </a:lnTo>
                <a:lnTo>
                  <a:pt x="507" y="258"/>
                </a:lnTo>
                <a:lnTo>
                  <a:pt x="478" y="298"/>
                </a:lnTo>
                <a:lnTo>
                  <a:pt x="474" y="318"/>
                </a:lnTo>
                <a:lnTo>
                  <a:pt x="434" y="334"/>
                </a:lnTo>
                <a:lnTo>
                  <a:pt x="428" y="351"/>
                </a:lnTo>
                <a:lnTo>
                  <a:pt x="434" y="392"/>
                </a:lnTo>
                <a:lnTo>
                  <a:pt x="472" y="411"/>
                </a:lnTo>
                <a:lnTo>
                  <a:pt x="505" y="378"/>
                </a:lnTo>
                <a:lnTo>
                  <a:pt x="528" y="332"/>
                </a:lnTo>
                <a:lnTo>
                  <a:pt x="584" y="303"/>
                </a:lnTo>
                <a:lnTo>
                  <a:pt x="623" y="320"/>
                </a:lnTo>
                <a:lnTo>
                  <a:pt x="648" y="371"/>
                </a:lnTo>
                <a:lnTo>
                  <a:pt x="678" y="469"/>
                </a:lnTo>
                <a:lnTo>
                  <a:pt x="694" y="502"/>
                </a:lnTo>
                <a:lnTo>
                  <a:pt x="684" y="527"/>
                </a:lnTo>
                <a:lnTo>
                  <a:pt x="690" y="568"/>
                </a:lnTo>
                <a:lnTo>
                  <a:pt x="678" y="591"/>
                </a:lnTo>
                <a:lnTo>
                  <a:pt x="661" y="568"/>
                </a:lnTo>
                <a:lnTo>
                  <a:pt x="646" y="577"/>
                </a:lnTo>
                <a:lnTo>
                  <a:pt x="642" y="616"/>
                </a:lnTo>
                <a:lnTo>
                  <a:pt x="634" y="633"/>
                </a:lnTo>
                <a:lnTo>
                  <a:pt x="603" y="649"/>
                </a:lnTo>
                <a:lnTo>
                  <a:pt x="601" y="702"/>
                </a:lnTo>
                <a:lnTo>
                  <a:pt x="582" y="722"/>
                </a:lnTo>
                <a:lnTo>
                  <a:pt x="565" y="765"/>
                </a:lnTo>
                <a:lnTo>
                  <a:pt x="341" y="796"/>
                </a:lnTo>
                <a:lnTo>
                  <a:pt x="334" y="782"/>
                </a:lnTo>
                <a:lnTo>
                  <a:pt x="0" y="815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7" name="Freeform 81"/>
          <p:cNvSpPr/>
          <p:nvPr/>
        </p:nvSpPr>
        <p:spPr>
          <a:xfrm>
            <a:off x="4726080" y="4441680"/>
            <a:ext cx="438120" cy="758880"/>
          </a:xfrm>
          <a:custGeom>
            <a:avLst/>
            <a:gdLst>
              <a:gd name="textAreaLeft" fmla="*/ 0 w 438120"/>
              <a:gd name="textAreaRight" fmla="*/ 438480 w 4381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638" h="955">
                <a:moveTo>
                  <a:pt x="0" y="808"/>
                </a:moveTo>
                <a:lnTo>
                  <a:pt x="2" y="774"/>
                </a:lnTo>
                <a:lnTo>
                  <a:pt x="45" y="664"/>
                </a:lnTo>
                <a:lnTo>
                  <a:pt x="106" y="594"/>
                </a:lnTo>
                <a:lnTo>
                  <a:pt x="87" y="572"/>
                </a:lnTo>
                <a:lnTo>
                  <a:pt x="95" y="501"/>
                </a:lnTo>
                <a:lnTo>
                  <a:pt x="62" y="421"/>
                </a:lnTo>
                <a:lnTo>
                  <a:pt x="50" y="313"/>
                </a:lnTo>
                <a:lnTo>
                  <a:pt x="98" y="198"/>
                </a:lnTo>
                <a:lnTo>
                  <a:pt x="164" y="114"/>
                </a:lnTo>
                <a:lnTo>
                  <a:pt x="160" y="94"/>
                </a:lnTo>
                <a:lnTo>
                  <a:pt x="212" y="22"/>
                </a:lnTo>
                <a:lnTo>
                  <a:pt x="597" y="0"/>
                </a:lnTo>
                <a:lnTo>
                  <a:pt x="613" y="19"/>
                </a:lnTo>
                <a:lnTo>
                  <a:pt x="597" y="611"/>
                </a:lnTo>
                <a:lnTo>
                  <a:pt x="638" y="899"/>
                </a:lnTo>
                <a:lnTo>
                  <a:pt x="621" y="911"/>
                </a:lnTo>
                <a:lnTo>
                  <a:pt x="597" y="899"/>
                </a:lnTo>
                <a:lnTo>
                  <a:pt x="569" y="911"/>
                </a:lnTo>
                <a:lnTo>
                  <a:pt x="542" y="894"/>
                </a:lnTo>
                <a:lnTo>
                  <a:pt x="540" y="904"/>
                </a:lnTo>
                <a:lnTo>
                  <a:pt x="509" y="907"/>
                </a:lnTo>
                <a:lnTo>
                  <a:pt x="468" y="924"/>
                </a:lnTo>
                <a:lnTo>
                  <a:pt x="455" y="916"/>
                </a:lnTo>
                <a:lnTo>
                  <a:pt x="434" y="947"/>
                </a:lnTo>
                <a:lnTo>
                  <a:pt x="416" y="955"/>
                </a:lnTo>
                <a:lnTo>
                  <a:pt x="353" y="863"/>
                </a:lnTo>
                <a:lnTo>
                  <a:pt x="364" y="798"/>
                </a:lnTo>
                <a:lnTo>
                  <a:pt x="0" y="80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8" name="Freeform 82"/>
          <p:cNvSpPr/>
          <p:nvPr/>
        </p:nvSpPr>
        <p:spPr>
          <a:xfrm>
            <a:off x="4726080" y="4441680"/>
            <a:ext cx="438120" cy="758880"/>
          </a:xfrm>
          <a:custGeom>
            <a:avLst/>
            <a:gdLst>
              <a:gd name="textAreaLeft" fmla="*/ 0 w 438120"/>
              <a:gd name="textAreaRight" fmla="*/ 438480 w 43812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638" h="955">
                <a:moveTo>
                  <a:pt x="0" y="808"/>
                </a:moveTo>
                <a:lnTo>
                  <a:pt x="2" y="774"/>
                </a:lnTo>
                <a:lnTo>
                  <a:pt x="45" y="664"/>
                </a:lnTo>
                <a:lnTo>
                  <a:pt x="106" y="594"/>
                </a:lnTo>
                <a:lnTo>
                  <a:pt x="87" y="572"/>
                </a:lnTo>
                <a:lnTo>
                  <a:pt x="95" y="501"/>
                </a:lnTo>
                <a:lnTo>
                  <a:pt x="62" y="421"/>
                </a:lnTo>
                <a:lnTo>
                  <a:pt x="50" y="313"/>
                </a:lnTo>
                <a:lnTo>
                  <a:pt x="98" y="198"/>
                </a:lnTo>
                <a:lnTo>
                  <a:pt x="164" y="114"/>
                </a:lnTo>
                <a:lnTo>
                  <a:pt x="160" y="94"/>
                </a:lnTo>
                <a:lnTo>
                  <a:pt x="212" y="22"/>
                </a:lnTo>
                <a:lnTo>
                  <a:pt x="597" y="0"/>
                </a:lnTo>
                <a:lnTo>
                  <a:pt x="613" y="19"/>
                </a:lnTo>
                <a:lnTo>
                  <a:pt x="597" y="611"/>
                </a:lnTo>
                <a:lnTo>
                  <a:pt x="638" y="899"/>
                </a:lnTo>
                <a:lnTo>
                  <a:pt x="621" y="911"/>
                </a:lnTo>
                <a:lnTo>
                  <a:pt x="597" y="899"/>
                </a:lnTo>
                <a:lnTo>
                  <a:pt x="569" y="911"/>
                </a:lnTo>
                <a:lnTo>
                  <a:pt x="542" y="894"/>
                </a:lnTo>
                <a:lnTo>
                  <a:pt x="540" y="904"/>
                </a:lnTo>
                <a:lnTo>
                  <a:pt x="509" y="907"/>
                </a:lnTo>
                <a:lnTo>
                  <a:pt x="468" y="924"/>
                </a:lnTo>
                <a:lnTo>
                  <a:pt x="455" y="916"/>
                </a:lnTo>
                <a:lnTo>
                  <a:pt x="434" y="947"/>
                </a:lnTo>
                <a:lnTo>
                  <a:pt x="416" y="955"/>
                </a:lnTo>
                <a:lnTo>
                  <a:pt x="353" y="863"/>
                </a:lnTo>
                <a:lnTo>
                  <a:pt x="364" y="798"/>
                </a:lnTo>
                <a:lnTo>
                  <a:pt x="0" y="808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9" name="Freeform 83"/>
          <p:cNvSpPr/>
          <p:nvPr/>
        </p:nvSpPr>
        <p:spPr>
          <a:xfrm>
            <a:off x="4175280" y="3592440"/>
            <a:ext cx="826920" cy="709560"/>
          </a:xfrm>
          <a:custGeom>
            <a:avLst/>
            <a:gdLst>
              <a:gd name="textAreaLeft" fmla="*/ 0 w 826920"/>
              <a:gd name="textAreaRight" fmla="*/ 827280 w 826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198" h="897">
                <a:moveTo>
                  <a:pt x="0" y="14"/>
                </a:moveTo>
                <a:lnTo>
                  <a:pt x="73" y="129"/>
                </a:lnTo>
                <a:lnTo>
                  <a:pt x="107" y="156"/>
                </a:lnTo>
                <a:lnTo>
                  <a:pt x="131" y="151"/>
                </a:lnTo>
                <a:lnTo>
                  <a:pt x="150" y="166"/>
                </a:lnTo>
                <a:lnTo>
                  <a:pt x="152" y="180"/>
                </a:lnTo>
                <a:lnTo>
                  <a:pt x="134" y="180"/>
                </a:lnTo>
                <a:lnTo>
                  <a:pt x="111" y="223"/>
                </a:lnTo>
                <a:lnTo>
                  <a:pt x="163" y="288"/>
                </a:lnTo>
                <a:lnTo>
                  <a:pt x="206" y="298"/>
                </a:lnTo>
                <a:lnTo>
                  <a:pt x="198" y="718"/>
                </a:lnTo>
                <a:lnTo>
                  <a:pt x="204" y="820"/>
                </a:lnTo>
                <a:lnTo>
                  <a:pt x="998" y="796"/>
                </a:lnTo>
                <a:lnTo>
                  <a:pt x="1009" y="856"/>
                </a:lnTo>
                <a:lnTo>
                  <a:pt x="976" y="897"/>
                </a:lnTo>
                <a:lnTo>
                  <a:pt x="1098" y="892"/>
                </a:lnTo>
                <a:lnTo>
                  <a:pt x="1117" y="856"/>
                </a:lnTo>
                <a:lnTo>
                  <a:pt x="1121" y="820"/>
                </a:lnTo>
                <a:lnTo>
                  <a:pt x="1150" y="790"/>
                </a:lnTo>
                <a:lnTo>
                  <a:pt x="1161" y="762"/>
                </a:lnTo>
                <a:lnTo>
                  <a:pt x="1188" y="759"/>
                </a:lnTo>
                <a:lnTo>
                  <a:pt x="1198" y="697"/>
                </a:lnTo>
                <a:lnTo>
                  <a:pt x="1181" y="692"/>
                </a:lnTo>
                <a:lnTo>
                  <a:pt x="1154" y="690"/>
                </a:lnTo>
                <a:lnTo>
                  <a:pt x="1125" y="642"/>
                </a:lnTo>
                <a:lnTo>
                  <a:pt x="1111" y="579"/>
                </a:lnTo>
                <a:lnTo>
                  <a:pt x="1080" y="540"/>
                </a:lnTo>
                <a:lnTo>
                  <a:pt x="1032" y="521"/>
                </a:lnTo>
                <a:lnTo>
                  <a:pt x="974" y="480"/>
                </a:lnTo>
                <a:lnTo>
                  <a:pt x="953" y="427"/>
                </a:lnTo>
                <a:lnTo>
                  <a:pt x="986" y="341"/>
                </a:lnTo>
                <a:lnTo>
                  <a:pt x="957" y="322"/>
                </a:lnTo>
                <a:lnTo>
                  <a:pt x="888" y="324"/>
                </a:lnTo>
                <a:lnTo>
                  <a:pt x="876" y="271"/>
                </a:lnTo>
                <a:lnTo>
                  <a:pt x="761" y="166"/>
                </a:lnTo>
                <a:lnTo>
                  <a:pt x="732" y="79"/>
                </a:lnTo>
                <a:lnTo>
                  <a:pt x="747" y="45"/>
                </a:lnTo>
                <a:lnTo>
                  <a:pt x="693" y="0"/>
                </a:lnTo>
                <a:lnTo>
                  <a:pt x="0" y="1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0" name="Freeform 84"/>
          <p:cNvSpPr/>
          <p:nvPr/>
        </p:nvSpPr>
        <p:spPr>
          <a:xfrm>
            <a:off x="4175280" y="3592440"/>
            <a:ext cx="826920" cy="709560"/>
          </a:xfrm>
          <a:custGeom>
            <a:avLst/>
            <a:gdLst>
              <a:gd name="textAreaLeft" fmla="*/ 0 w 826920"/>
              <a:gd name="textAreaRight" fmla="*/ 827280 w 826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198" h="897">
                <a:moveTo>
                  <a:pt x="0" y="14"/>
                </a:moveTo>
                <a:lnTo>
                  <a:pt x="73" y="129"/>
                </a:lnTo>
                <a:lnTo>
                  <a:pt x="107" y="156"/>
                </a:lnTo>
                <a:lnTo>
                  <a:pt x="131" y="151"/>
                </a:lnTo>
                <a:lnTo>
                  <a:pt x="150" y="166"/>
                </a:lnTo>
                <a:lnTo>
                  <a:pt x="152" y="180"/>
                </a:lnTo>
                <a:lnTo>
                  <a:pt x="134" y="180"/>
                </a:lnTo>
                <a:lnTo>
                  <a:pt x="111" y="223"/>
                </a:lnTo>
                <a:lnTo>
                  <a:pt x="163" y="288"/>
                </a:lnTo>
                <a:lnTo>
                  <a:pt x="206" y="298"/>
                </a:lnTo>
                <a:lnTo>
                  <a:pt x="198" y="718"/>
                </a:lnTo>
                <a:lnTo>
                  <a:pt x="204" y="820"/>
                </a:lnTo>
                <a:lnTo>
                  <a:pt x="998" y="796"/>
                </a:lnTo>
                <a:lnTo>
                  <a:pt x="1009" y="856"/>
                </a:lnTo>
                <a:lnTo>
                  <a:pt x="976" y="897"/>
                </a:lnTo>
                <a:lnTo>
                  <a:pt x="1098" y="892"/>
                </a:lnTo>
                <a:lnTo>
                  <a:pt x="1117" y="856"/>
                </a:lnTo>
                <a:lnTo>
                  <a:pt x="1121" y="820"/>
                </a:lnTo>
                <a:lnTo>
                  <a:pt x="1150" y="790"/>
                </a:lnTo>
                <a:lnTo>
                  <a:pt x="1161" y="762"/>
                </a:lnTo>
                <a:lnTo>
                  <a:pt x="1188" y="759"/>
                </a:lnTo>
                <a:lnTo>
                  <a:pt x="1198" y="697"/>
                </a:lnTo>
                <a:lnTo>
                  <a:pt x="1181" y="692"/>
                </a:lnTo>
                <a:lnTo>
                  <a:pt x="1154" y="690"/>
                </a:lnTo>
                <a:lnTo>
                  <a:pt x="1125" y="642"/>
                </a:lnTo>
                <a:lnTo>
                  <a:pt x="1111" y="579"/>
                </a:lnTo>
                <a:lnTo>
                  <a:pt x="1080" y="540"/>
                </a:lnTo>
                <a:lnTo>
                  <a:pt x="1032" y="521"/>
                </a:lnTo>
                <a:lnTo>
                  <a:pt x="974" y="480"/>
                </a:lnTo>
                <a:lnTo>
                  <a:pt x="953" y="427"/>
                </a:lnTo>
                <a:lnTo>
                  <a:pt x="986" y="341"/>
                </a:lnTo>
                <a:lnTo>
                  <a:pt x="957" y="322"/>
                </a:lnTo>
                <a:lnTo>
                  <a:pt x="888" y="324"/>
                </a:lnTo>
                <a:lnTo>
                  <a:pt x="876" y="271"/>
                </a:lnTo>
                <a:lnTo>
                  <a:pt x="761" y="166"/>
                </a:lnTo>
                <a:lnTo>
                  <a:pt x="732" y="79"/>
                </a:lnTo>
                <a:lnTo>
                  <a:pt x="747" y="45"/>
                </a:lnTo>
                <a:lnTo>
                  <a:pt x="693" y="0"/>
                </a:lnTo>
                <a:lnTo>
                  <a:pt x="0" y="14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1" name="Freeform 85"/>
          <p:cNvSpPr/>
          <p:nvPr/>
        </p:nvSpPr>
        <p:spPr>
          <a:xfrm>
            <a:off x="2044800" y="2076480"/>
            <a:ext cx="1271520" cy="79848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40" h="1008">
                <a:moveTo>
                  <a:pt x="0" y="190"/>
                </a:moveTo>
                <a:lnTo>
                  <a:pt x="31" y="255"/>
                </a:lnTo>
                <a:lnTo>
                  <a:pt x="35" y="299"/>
                </a:lnTo>
                <a:lnTo>
                  <a:pt x="17" y="304"/>
                </a:lnTo>
                <a:lnTo>
                  <a:pt x="73" y="349"/>
                </a:lnTo>
                <a:lnTo>
                  <a:pt x="129" y="471"/>
                </a:lnTo>
                <a:lnTo>
                  <a:pt x="148" y="464"/>
                </a:lnTo>
                <a:lnTo>
                  <a:pt x="150" y="484"/>
                </a:lnTo>
                <a:lnTo>
                  <a:pt x="177" y="489"/>
                </a:lnTo>
                <a:lnTo>
                  <a:pt x="198" y="491"/>
                </a:lnTo>
                <a:lnTo>
                  <a:pt x="146" y="580"/>
                </a:lnTo>
                <a:lnTo>
                  <a:pt x="154" y="638"/>
                </a:lnTo>
                <a:lnTo>
                  <a:pt x="116" y="695"/>
                </a:lnTo>
                <a:lnTo>
                  <a:pt x="143" y="719"/>
                </a:lnTo>
                <a:lnTo>
                  <a:pt x="214" y="683"/>
                </a:lnTo>
                <a:lnTo>
                  <a:pt x="270" y="873"/>
                </a:lnTo>
                <a:lnTo>
                  <a:pt x="301" y="881"/>
                </a:lnTo>
                <a:lnTo>
                  <a:pt x="308" y="941"/>
                </a:lnTo>
                <a:lnTo>
                  <a:pt x="337" y="965"/>
                </a:lnTo>
                <a:lnTo>
                  <a:pt x="358" y="943"/>
                </a:lnTo>
                <a:lnTo>
                  <a:pt x="405" y="962"/>
                </a:lnTo>
                <a:lnTo>
                  <a:pt x="435" y="941"/>
                </a:lnTo>
                <a:lnTo>
                  <a:pt x="538" y="960"/>
                </a:lnTo>
                <a:lnTo>
                  <a:pt x="559" y="964"/>
                </a:lnTo>
                <a:lnTo>
                  <a:pt x="582" y="924"/>
                </a:lnTo>
                <a:lnTo>
                  <a:pt x="622" y="986"/>
                </a:lnTo>
                <a:lnTo>
                  <a:pt x="644" y="890"/>
                </a:lnTo>
                <a:lnTo>
                  <a:pt x="1141" y="953"/>
                </a:lnTo>
                <a:lnTo>
                  <a:pt x="1759" y="1008"/>
                </a:lnTo>
                <a:lnTo>
                  <a:pt x="1778" y="827"/>
                </a:lnTo>
                <a:lnTo>
                  <a:pt x="1840" y="234"/>
                </a:lnTo>
                <a:lnTo>
                  <a:pt x="1027" y="154"/>
                </a:lnTo>
                <a:lnTo>
                  <a:pt x="618" y="96"/>
                </a:lnTo>
                <a:lnTo>
                  <a:pt x="48" y="0"/>
                </a:lnTo>
                <a:lnTo>
                  <a:pt x="0" y="19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2" name="Freeform 86"/>
          <p:cNvSpPr/>
          <p:nvPr/>
        </p:nvSpPr>
        <p:spPr>
          <a:xfrm>
            <a:off x="2044800" y="2076480"/>
            <a:ext cx="1271520" cy="79848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840" h="1008">
                <a:moveTo>
                  <a:pt x="0" y="190"/>
                </a:moveTo>
                <a:lnTo>
                  <a:pt x="31" y="255"/>
                </a:lnTo>
                <a:lnTo>
                  <a:pt x="35" y="299"/>
                </a:lnTo>
                <a:lnTo>
                  <a:pt x="17" y="304"/>
                </a:lnTo>
                <a:lnTo>
                  <a:pt x="73" y="349"/>
                </a:lnTo>
                <a:lnTo>
                  <a:pt x="129" y="471"/>
                </a:lnTo>
                <a:lnTo>
                  <a:pt x="148" y="464"/>
                </a:lnTo>
                <a:lnTo>
                  <a:pt x="150" y="484"/>
                </a:lnTo>
                <a:lnTo>
                  <a:pt x="177" y="489"/>
                </a:lnTo>
                <a:lnTo>
                  <a:pt x="198" y="491"/>
                </a:lnTo>
                <a:lnTo>
                  <a:pt x="146" y="580"/>
                </a:lnTo>
                <a:lnTo>
                  <a:pt x="154" y="638"/>
                </a:lnTo>
                <a:lnTo>
                  <a:pt x="116" y="695"/>
                </a:lnTo>
                <a:lnTo>
                  <a:pt x="143" y="719"/>
                </a:lnTo>
                <a:lnTo>
                  <a:pt x="214" y="683"/>
                </a:lnTo>
                <a:lnTo>
                  <a:pt x="270" y="873"/>
                </a:lnTo>
                <a:lnTo>
                  <a:pt x="301" y="881"/>
                </a:lnTo>
                <a:lnTo>
                  <a:pt x="308" y="941"/>
                </a:lnTo>
                <a:lnTo>
                  <a:pt x="337" y="965"/>
                </a:lnTo>
                <a:lnTo>
                  <a:pt x="358" y="943"/>
                </a:lnTo>
                <a:lnTo>
                  <a:pt x="405" y="962"/>
                </a:lnTo>
                <a:lnTo>
                  <a:pt x="435" y="941"/>
                </a:lnTo>
                <a:lnTo>
                  <a:pt x="538" y="960"/>
                </a:lnTo>
                <a:lnTo>
                  <a:pt x="559" y="964"/>
                </a:lnTo>
                <a:lnTo>
                  <a:pt x="582" y="924"/>
                </a:lnTo>
                <a:lnTo>
                  <a:pt x="622" y="986"/>
                </a:lnTo>
                <a:lnTo>
                  <a:pt x="644" y="890"/>
                </a:lnTo>
                <a:lnTo>
                  <a:pt x="1141" y="953"/>
                </a:lnTo>
                <a:lnTo>
                  <a:pt x="1759" y="1008"/>
                </a:lnTo>
                <a:lnTo>
                  <a:pt x="1778" y="827"/>
                </a:lnTo>
                <a:lnTo>
                  <a:pt x="1840" y="234"/>
                </a:lnTo>
                <a:lnTo>
                  <a:pt x="1027" y="154"/>
                </a:lnTo>
                <a:lnTo>
                  <a:pt x="618" y="96"/>
                </a:lnTo>
                <a:lnTo>
                  <a:pt x="48" y="0"/>
                </a:lnTo>
                <a:lnTo>
                  <a:pt x="0" y="190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3" name="Freeform 87"/>
          <p:cNvSpPr/>
          <p:nvPr/>
        </p:nvSpPr>
        <p:spPr>
          <a:xfrm>
            <a:off x="3200400" y="3186000"/>
            <a:ext cx="1023840" cy="5065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488" h="641">
                <a:moveTo>
                  <a:pt x="0" y="391"/>
                </a:moveTo>
                <a:lnTo>
                  <a:pt x="43" y="0"/>
                </a:lnTo>
                <a:lnTo>
                  <a:pt x="960" y="48"/>
                </a:lnTo>
                <a:lnTo>
                  <a:pt x="1020" y="88"/>
                </a:lnTo>
                <a:lnTo>
                  <a:pt x="1129" y="86"/>
                </a:lnTo>
                <a:lnTo>
                  <a:pt x="1181" y="94"/>
                </a:lnTo>
                <a:lnTo>
                  <a:pt x="1245" y="117"/>
                </a:lnTo>
                <a:lnTo>
                  <a:pt x="1274" y="151"/>
                </a:lnTo>
                <a:lnTo>
                  <a:pt x="1301" y="158"/>
                </a:lnTo>
                <a:lnTo>
                  <a:pt x="1355" y="278"/>
                </a:lnTo>
                <a:lnTo>
                  <a:pt x="1355" y="317"/>
                </a:lnTo>
                <a:lnTo>
                  <a:pt x="1388" y="373"/>
                </a:lnTo>
                <a:lnTo>
                  <a:pt x="1403" y="466"/>
                </a:lnTo>
                <a:lnTo>
                  <a:pt x="1395" y="493"/>
                </a:lnTo>
                <a:lnTo>
                  <a:pt x="1415" y="526"/>
                </a:lnTo>
                <a:lnTo>
                  <a:pt x="1488" y="641"/>
                </a:lnTo>
                <a:lnTo>
                  <a:pt x="825" y="634"/>
                </a:lnTo>
                <a:lnTo>
                  <a:pt x="326" y="611"/>
                </a:lnTo>
                <a:lnTo>
                  <a:pt x="339" y="415"/>
                </a:lnTo>
                <a:lnTo>
                  <a:pt x="0" y="3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4" name="Freeform 88"/>
          <p:cNvSpPr/>
          <p:nvPr/>
        </p:nvSpPr>
        <p:spPr>
          <a:xfrm>
            <a:off x="3200400" y="3186000"/>
            <a:ext cx="1023840" cy="50652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488" h="641">
                <a:moveTo>
                  <a:pt x="0" y="391"/>
                </a:moveTo>
                <a:lnTo>
                  <a:pt x="43" y="0"/>
                </a:lnTo>
                <a:lnTo>
                  <a:pt x="960" y="48"/>
                </a:lnTo>
                <a:lnTo>
                  <a:pt x="1020" y="88"/>
                </a:lnTo>
                <a:lnTo>
                  <a:pt x="1129" y="86"/>
                </a:lnTo>
                <a:lnTo>
                  <a:pt x="1181" y="94"/>
                </a:lnTo>
                <a:lnTo>
                  <a:pt x="1245" y="117"/>
                </a:lnTo>
                <a:lnTo>
                  <a:pt x="1274" y="151"/>
                </a:lnTo>
                <a:lnTo>
                  <a:pt x="1301" y="158"/>
                </a:lnTo>
                <a:lnTo>
                  <a:pt x="1355" y="278"/>
                </a:lnTo>
                <a:lnTo>
                  <a:pt x="1355" y="317"/>
                </a:lnTo>
                <a:lnTo>
                  <a:pt x="1388" y="373"/>
                </a:lnTo>
                <a:lnTo>
                  <a:pt x="1403" y="466"/>
                </a:lnTo>
                <a:lnTo>
                  <a:pt x="1395" y="493"/>
                </a:lnTo>
                <a:lnTo>
                  <a:pt x="1415" y="526"/>
                </a:lnTo>
                <a:lnTo>
                  <a:pt x="1488" y="641"/>
                </a:lnTo>
                <a:lnTo>
                  <a:pt x="825" y="634"/>
                </a:lnTo>
                <a:lnTo>
                  <a:pt x="326" y="611"/>
                </a:lnTo>
                <a:lnTo>
                  <a:pt x="339" y="415"/>
                </a:lnTo>
                <a:lnTo>
                  <a:pt x="0" y="391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5" name="Freeform 89"/>
          <p:cNvSpPr/>
          <p:nvPr/>
        </p:nvSpPr>
        <p:spPr>
          <a:xfrm>
            <a:off x="1281240" y="3022560"/>
            <a:ext cx="787320" cy="1209600"/>
          </a:xfrm>
          <a:custGeom>
            <a:avLst/>
            <a:gdLst>
              <a:gd name="textAreaLeft" fmla="*/ 0 w 787320"/>
              <a:gd name="textAreaRight" fmla="*/ 787680 w 78732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145" h="1525">
                <a:moveTo>
                  <a:pt x="0" y="561"/>
                </a:moveTo>
                <a:lnTo>
                  <a:pt x="50" y="649"/>
                </a:lnTo>
                <a:lnTo>
                  <a:pt x="728" y="1525"/>
                </a:lnTo>
                <a:lnTo>
                  <a:pt x="754" y="1320"/>
                </a:lnTo>
                <a:lnTo>
                  <a:pt x="794" y="1310"/>
                </a:lnTo>
                <a:lnTo>
                  <a:pt x="865" y="1344"/>
                </a:lnTo>
                <a:lnTo>
                  <a:pt x="923" y="1162"/>
                </a:lnTo>
                <a:lnTo>
                  <a:pt x="1145" y="197"/>
                </a:lnTo>
                <a:lnTo>
                  <a:pt x="655" y="106"/>
                </a:lnTo>
                <a:lnTo>
                  <a:pt x="170" y="0"/>
                </a:lnTo>
                <a:lnTo>
                  <a:pt x="0" y="56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6" name="Freeform 90"/>
          <p:cNvSpPr/>
          <p:nvPr/>
        </p:nvSpPr>
        <p:spPr>
          <a:xfrm>
            <a:off x="1281240" y="3022560"/>
            <a:ext cx="787320" cy="1209600"/>
          </a:xfrm>
          <a:custGeom>
            <a:avLst/>
            <a:gdLst>
              <a:gd name="textAreaLeft" fmla="*/ 0 w 787320"/>
              <a:gd name="textAreaRight" fmla="*/ 787680 w 78732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145" h="1525">
                <a:moveTo>
                  <a:pt x="0" y="561"/>
                </a:moveTo>
                <a:lnTo>
                  <a:pt x="50" y="649"/>
                </a:lnTo>
                <a:lnTo>
                  <a:pt x="728" y="1525"/>
                </a:lnTo>
                <a:lnTo>
                  <a:pt x="754" y="1320"/>
                </a:lnTo>
                <a:lnTo>
                  <a:pt x="794" y="1310"/>
                </a:lnTo>
                <a:lnTo>
                  <a:pt x="865" y="1344"/>
                </a:lnTo>
                <a:lnTo>
                  <a:pt x="923" y="1162"/>
                </a:lnTo>
                <a:lnTo>
                  <a:pt x="1145" y="197"/>
                </a:lnTo>
                <a:lnTo>
                  <a:pt x="655" y="106"/>
                </a:lnTo>
                <a:lnTo>
                  <a:pt x="170" y="0"/>
                </a:lnTo>
                <a:lnTo>
                  <a:pt x="0" y="561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7" name="Freeform 91"/>
          <p:cNvSpPr/>
          <p:nvPr/>
        </p:nvSpPr>
        <p:spPr>
          <a:xfrm>
            <a:off x="6802560" y="2529000"/>
            <a:ext cx="203040" cy="426960"/>
          </a:xfrm>
          <a:custGeom>
            <a:avLst/>
            <a:gdLst>
              <a:gd name="textAreaLeft" fmla="*/ 0 w 203040"/>
              <a:gd name="textAreaRight" fmla="*/ 203400 w 2030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293" h="539">
                <a:moveTo>
                  <a:pt x="0" y="369"/>
                </a:moveTo>
                <a:lnTo>
                  <a:pt x="15" y="251"/>
                </a:lnTo>
                <a:lnTo>
                  <a:pt x="50" y="196"/>
                </a:lnTo>
                <a:lnTo>
                  <a:pt x="54" y="71"/>
                </a:lnTo>
                <a:lnTo>
                  <a:pt x="52" y="27"/>
                </a:lnTo>
                <a:lnTo>
                  <a:pt x="102" y="0"/>
                </a:lnTo>
                <a:lnTo>
                  <a:pt x="225" y="337"/>
                </a:lnTo>
                <a:lnTo>
                  <a:pt x="285" y="409"/>
                </a:lnTo>
                <a:lnTo>
                  <a:pt x="293" y="424"/>
                </a:lnTo>
                <a:lnTo>
                  <a:pt x="283" y="458"/>
                </a:lnTo>
                <a:lnTo>
                  <a:pt x="227" y="494"/>
                </a:lnTo>
                <a:lnTo>
                  <a:pt x="25" y="539"/>
                </a:lnTo>
                <a:lnTo>
                  <a:pt x="0" y="36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8" name="Freeform 92"/>
          <p:cNvSpPr/>
          <p:nvPr/>
        </p:nvSpPr>
        <p:spPr>
          <a:xfrm>
            <a:off x="6802560" y="2529000"/>
            <a:ext cx="203040" cy="426960"/>
          </a:xfrm>
          <a:custGeom>
            <a:avLst/>
            <a:gdLst>
              <a:gd name="textAreaLeft" fmla="*/ 0 w 203040"/>
              <a:gd name="textAreaRight" fmla="*/ 203400 w 2030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293" h="539">
                <a:moveTo>
                  <a:pt x="0" y="369"/>
                </a:moveTo>
                <a:lnTo>
                  <a:pt x="15" y="251"/>
                </a:lnTo>
                <a:lnTo>
                  <a:pt x="50" y="196"/>
                </a:lnTo>
                <a:lnTo>
                  <a:pt x="54" y="71"/>
                </a:lnTo>
                <a:lnTo>
                  <a:pt x="52" y="27"/>
                </a:lnTo>
                <a:lnTo>
                  <a:pt x="102" y="0"/>
                </a:lnTo>
                <a:lnTo>
                  <a:pt x="225" y="337"/>
                </a:lnTo>
                <a:lnTo>
                  <a:pt x="285" y="409"/>
                </a:lnTo>
                <a:lnTo>
                  <a:pt x="293" y="424"/>
                </a:lnTo>
                <a:lnTo>
                  <a:pt x="283" y="458"/>
                </a:lnTo>
                <a:lnTo>
                  <a:pt x="227" y="494"/>
                </a:lnTo>
                <a:lnTo>
                  <a:pt x="25" y="539"/>
                </a:lnTo>
                <a:lnTo>
                  <a:pt x="0" y="36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9" name="Freeform 93"/>
          <p:cNvSpPr/>
          <p:nvPr/>
        </p:nvSpPr>
        <p:spPr>
          <a:xfrm>
            <a:off x="6578640" y="3220920"/>
            <a:ext cx="169920" cy="376200"/>
          </a:xfrm>
          <a:custGeom>
            <a:avLst/>
            <a:gdLst>
              <a:gd name="textAreaLeft" fmla="*/ 0 w 169920"/>
              <a:gd name="textAreaRight" fmla="*/ 170280 w 1699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43" h="474">
                <a:moveTo>
                  <a:pt x="0" y="351"/>
                </a:moveTo>
                <a:lnTo>
                  <a:pt x="13" y="322"/>
                </a:lnTo>
                <a:lnTo>
                  <a:pt x="56" y="299"/>
                </a:lnTo>
                <a:lnTo>
                  <a:pt x="77" y="262"/>
                </a:lnTo>
                <a:lnTo>
                  <a:pt x="112" y="231"/>
                </a:lnTo>
                <a:lnTo>
                  <a:pt x="12" y="161"/>
                </a:lnTo>
                <a:lnTo>
                  <a:pt x="8" y="92"/>
                </a:lnTo>
                <a:lnTo>
                  <a:pt x="54" y="0"/>
                </a:lnTo>
                <a:lnTo>
                  <a:pt x="208" y="46"/>
                </a:lnTo>
                <a:lnTo>
                  <a:pt x="210" y="63"/>
                </a:lnTo>
                <a:lnTo>
                  <a:pt x="193" y="116"/>
                </a:lnTo>
                <a:lnTo>
                  <a:pt x="175" y="130"/>
                </a:lnTo>
                <a:lnTo>
                  <a:pt x="173" y="156"/>
                </a:lnTo>
                <a:lnTo>
                  <a:pt x="189" y="162"/>
                </a:lnTo>
                <a:lnTo>
                  <a:pt x="206" y="161"/>
                </a:lnTo>
                <a:lnTo>
                  <a:pt x="222" y="162"/>
                </a:lnTo>
                <a:lnTo>
                  <a:pt x="218" y="150"/>
                </a:lnTo>
                <a:lnTo>
                  <a:pt x="225" y="156"/>
                </a:lnTo>
                <a:lnTo>
                  <a:pt x="239" y="186"/>
                </a:lnTo>
                <a:lnTo>
                  <a:pt x="243" y="286"/>
                </a:lnTo>
                <a:lnTo>
                  <a:pt x="237" y="260"/>
                </a:lnTo>
                <a:lnTo>
                  <a:pt x="227" y="238"/>
                </a:lnTo>
                <a:lnTo>
                  <a:pt x="225" y="250"/>
                </a:lnTo>
                <a:lnTo>
                  <a:pt x="229" y="274"/>
                </a:lnTo>
                <a:lnTo>
                  <a:pt x="225" y="286"/>
                </a:lnTo>
                <a:lnTo>
                  <a:pt x="227" y="311"/>
                </a:lnTo>
                <a:lnTo>
                  <a:pt x="216" y="340"/>
                </a:lnTo>
                <a:lnTo>
                  <a:pt x="200" y="340"/>
                </a:lnTo>
                <a:lnTo>
                  <a:pt x="206" y="363"/>
                </a:lnTo>
                <a:lnTo>
                  <a:pt x="183" y="397"/>
                </a:lnTo>
                <a:lnTo>
                  <a:pt x="148" y="474"/>
                </a:lnTo>
                <a:lnTo>
                  <a:pt x="135" y="474"/>
                </a:lnTo>
                <a:lnTo>
                  <a:pt x="137" y="443"/>
                </a:lnTo>
                <a:lnTo>
                  <a:pt x="133" y="431"/>
                </a:lnTo>
                <a:lnTo>
                  <a:pt x="91" y="433"/>
                </a:lnTo>
                <a:lnTo>
                  <a:pt x="33" y="402"/>
                </a:lnTo>
                <a:lnTo>
                  <a:pt x="12" y="390"/>
                </a:lnTo>
                <a:lnTo>
                  <a:pt x="0" y="35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0" name="Freeform 94"/>
          <p:cNvSpPr/>
          <p:nvPr/>
        </p:nvSpPr>
        <p:spPr>
          <a:xfrm>
            <a:off x="6553080" y="3220920"/>
            <a:ext cx="195480" cy="360360"/>
          </a:xfrm>
          <a:custGeom>
            <a:avLst/>
            <a:gdLst>
              <a:gd name="textAreaLeft" fmla="*/ 0 w 195480"/>
              <a:gd name="textAreaRight" fmla="*/ 195840 w 1954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43" h="474">
                <a:moveTo>
                  <a:pt x="0" y="351"/>
                </a:moveTo>
                <a:lnTo>
                  <a:pt x="13" y="322"/>
                </a:lnTo>
                <a:lnTo>
                  <a:pt x="56" y="299"/>
                </a:lnTo>
                <a:lnTo>
                  <a:pt x="77" y="262"/>
                </a:lnTo>
                <a:lnTo>
                  <a:pt x="112" y="231"/>
                </a:lnTo>
                <a:lnTo>
                  <a:pt x="12" y="161"/>
                </a:lnTo>
                <a:lnTo>
                  <a:pt x="8" y="92"/>
                </a:lnTo>
                <a:lnTo>
                  <a:pt x="54" y="0"/>
                </a:lnTo>
                <a:lnTo>
                  <a:pt x="208" y="46"/>
                </a:lnTo>
                <a:lnTo>
                  <a:pt x="210" y="63"/>
                </a:lnTo>
                <a:lnTo>
                  <a:pt x="193" y="116"/>
                </a:lnTo>
                <a:lnTo>
                  <a:pt x="175" y="130"/>
                </a:lnTo>
                <a:lnTo>
                  <a:pt x="173" y="156"/>
                </a:lnTo>
                <a:lnTo>
                  <a:pt x="189" y="162"/>
                </a:lnTo>
                <a:lnTo>
                  <a:pt x="206" y="161"/>
                </a:lnTo>
                <a:lnTo>
                  <a:pt x="222" y="162"/>
                </a:lnTo>
                <a:lnTo>
                  <a:pt x="218" y="150"/>
                </a:lnTo>
                <a:lnTo>
                  <a:pt x="225" y="156"/>
                </a:lnTo>
                <a:lnTo>
                  <a:pt x="239" y="186"/>
                </a:lnTo>
                <a:lnTo>
                  <a:pt x="243" y="286"/>
                </a:lnTo>
                <a:lnTo>
                  <a:pt x="237" y="260"/>
                </a:lnTo>
                <a:lnTo>
                  <a:pt x="227" y="238"/>
                </a:lnTo>
                <a:lnTo>
                  <a:pt x="225" y="250"/>
                </a:lnTo>
                <a:lnTo>
                  <a:pt x="229" y="274"/>
                </a:lnTo>
                <a:lnTo>
                  <a:pt x="225" y="286"/>
                </a:lnTo>
                <a:lnTo>
                  <a:pt x="227" y="311"/>
                </a:lnTo>
                <a:lnTo>
                  <a:pt x="216" y="340"/>
                </a:lnTo>
                <a:lnTo>
                  <a:pt x="200" y="340"/>
                </a:lnTo>
                <a:lnTo>
                  <a:pt x="206" y="363"/>
                </a:lnTo>
                <a:lnTo>
                  <a:pt x="183" y="397"/>
                </a:lnTo>
                <a:lnTo>
                  <a:pt x="148" y="474"/>
                </a:lnTo>
                <a:lnTo>
                  <a:pt x="135" y="474"/>
                </a:lnTo>
                <a:lnTo>
                  <a:pt x="137" y="443"/>
                </a:lnTo>
                <a:lnTo>
                  <a:pt x="133" y="431"/>
                </a:lnTo>
                <a:lnTo>
                  <a:pt x="91" y="433"/>
                </a:lnTo>
                <a:lnTo>
                  <a:pt x="33" y="402"/>
                </a:lnTo>
                <a:lnTo>
                  <a:pt x="12" y="390"/>
                </a:lnTo>
                <a:lnTo>
                  <a:pt x="0" y="351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1" name="Freeform 95"/>
          <p:cNvSpPr/>
          <p:nvPr/>
        </p:nvSpPr>
        <p:spPr>
          <a:xfrm>
            <a:off x="2401920" y="4048200"/>
            <a:ext cx="873000" cy="884160"/>
          </a:xfrm>
          <a:custGeom>
            <a:avLst/>
            <a:gdLst>
              <a:gd name="textAreaLeft" fmla="*/ 0 w 873000"/>
              <a:gd name="textAreaRight" fmla="*/ 873360 w 87300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266" h="1117">
                <a:moveTo>
                  <a:pt x="0" y="1098"/>
                </a:moveTo>
                <a:lnTo>
                  <a:pt x="158" y="1117"/>
                </a:lnTo>
                <a:lnTo>
                  <a:pt x="174" y="1031"/>
                </a:lnTo>
                <a:lnTo>
                  <a:pt x="494" y="1067"/>
                </a:lnTo>
                <a:lnTo>
                  <a:pt x="478" y="1026"/>
                </a:lnTo>
                <a:lnTo>
                  <a:pt x="528" y="1030"/>
                </a:lnTo>
                <a:lnTo>
                  <a:pt x="1162" y="1083"/>
                </a:lnTo>
                <a:lnTo>
                  <a:pt x="1257" y="204"/>
                </a:lnTo>
                <a:lnTo>
                  <a:pt x="1266" y="102"/>
                </a:lnTo>
                <a:lnTo>
                  <a:pt x="727" y="60"/>
                </a:lnTo>
                <a:lnTo>
                  <a:pt x="185" y="0"/>
                </a:lnTo>
                <a:lnTo>
                  <a:pt x="0" y="10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2" name="Freeform 96"/>
          <p:cNvSpPr/>
          <p:nvPr/>
        </p:nvSpPr>
        <p:spPr>
          <a:xfrm>
            <a:off x="2401920" y="4048200"/>
            <a:ext cx="873000" cy="884160"/>
          </a:xfrm>
          <a:custGeom>
            <a:avLst/>
            <a:gdLst>
              <a:gd name="textAreaLeft" fmla="*/ 0 w 873000"/>
              <a:gd name="textAreaRight" fmla="*/ 873360 w 87300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266" h="1117">
                <a:moveTo>
                  <a:pt x="0" y="1098"/>
                </a:moveTo>
                <a:lnTo>
                  <a:pt x="158" y="1117"/>
                </a:lnTo>
                <a:lnTo>
                  <a:pt x="174" y="1031"/>
                </a:lnTo>
                <a:lnTo>
                  <a:pt x="494" y="1067"/>
                </a:lnTo>
                <a:lnTo>
                  <a:pt x="478" y="1026"/>
                </a:lnTo>
                <a:lnTo>
                  <a:pt x="528" y="1030"/>
                </a:lnTo>
                <a:lnTo>
                  <a:pt x="1162" y="1083"/>
                </a:lnTo>
                <a:lnTo>
                  <a:pt x="1257" y="204"/>
                </a:lnTo>
                <a:lnTo>
                  <a:pt x="1266" y="102"/>
                </a:lnTo>
                <a:lnTo>
                  <a:pt x="727" y="60"/>
                </a:lnTo>
                <a:lnTo>
                  <a:pt x="185" y="0"/>
                </a:lnTo>
                <a:lnTo>
                  <a:pt x="0" y="1098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3" name="Freeform 97"/>
          <p:cNvSpPr/>
          <p:nvPr/>
        </p:nvSpPr>
        <p:spPr>
          <a:xfrm>
            <a:off x="6014880" y="2633760"/>
            <a:ext cx="736920" cy="652320"/>
          </a:xfrm>
          <a:custGeom>
            <a:avLst/>
            <a:gdLst>
              <a:gd name="textAreaLeft" fmla="*/ 0 w 736920"/>
              <a:gd name="textAreaRight" fmla="*/ 737280 w 736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1066" h="824">
                <a:moveTo>
                  <a:pt x="0" y="709"/>
                </a:moveTo>
                <a:lnTo>
                  <a:pt x="35" y="755"/>
                </a:lnTo>
                <a:lnTo>
                  <a:pt x="730" y="642"/>
                </a:lnTo>
                <a:lnTo>
                  <a:pt x="779" y="661"/>
                </a:lnTo>
                <a:lnTo>
                  <a:pt x="807" y="709"/>
                </a:lnTo>
                <a:lnTo>
                  <a:pt x="873" y="742"/>
                </a:lnTo>
                <a:lnTo>
                  <a:pt x="1027" y="788"/>
                </a:lnTo>
                <a:lnTo>
                  <a:pt x="1029" y="805"/>
                </a:lnTo>
                <a:lnTo>
                  <a:pt x="1041" y="824"/>
                </a:lnTo>
                <a:lnTo>
                  <a:pt x="1050" y="814"/>
                </a:lnTo>
                <a:lnTo>
                  <a:pt x="1066" y="774"/>
                </a:lnTo>
                <a:lnTo>
                  <a:pt x="1066" y="704"/>
                </a:lnTo>
                <a:lnTo>
                  <a:pt x="1041" y="572"/>
                </a:lnTo>
                <a:lnTo>
                  <a:pt x="1039" y="432"/>
                </a:lnTo>
                <a:lnTo>
                  <a:pt x="1012" y="322"/>
                </a:lnTo>
                <a:lnTo>
                  <a:pt x="963" y="233"/>
                </a:lnTo>
                <a:lnTo>
                  <a:pt x="954" y="141"/>
                </a:lnTo>
                <a:lnTo>
                  <a:pt x="908" y="0"/>
                </a:lnTo>
                <a:lnTo>
                  <a:pt x="696" y="50"/>
                </a:lnTo>
                <a:lnTo>
                  <a:pt x="678" y="45"/>
                </a:lnTo>
                <a:lnTo>
                  <a:pt x="613" y="93"/>
                </a:lnTo>
                <a:lnTo>
                  <a:pt x="553" y="165"/>
                </a:lnTo>
                <a:lnTo>
                  <a:pt x="547" y="197"/>
                </a:lnTo>
                <a:lnTo>
                  <a:pt x="522" y="228"/>
                </a:lnTo>
                <a:lnTo>
                  <a:pt x="474" y="266"/>
                </a:lnTo>
                <a:lnTo>
                  <a:pt x="495" y="291"/>
                </a:lnTo>
                <a:lnTo>
                  <a:pt x="501" y="273"/>
                </a:lnTo>
                <a:lnTo>
                  <a:pt x="513" y="278"/>
                </a:lnTo>
                <a:lnTo>
                  <a:pt x="507" y="286"/>
                </a:lnTo>
                <a:lnTo>
                  <a:pt x="515" y="291"/>
                </a:lnTo>
                <a:lnTo>
                  <a:pt x="507" y="309"/>
                </a:lnTo>
                <a:lnTo>
                  <a:pt x="501" y="307"/>
                </a:lnTo>
                <a:lnTo>
                  <a:pt x="499" y="317"/>
                </a:lnTo>
                <a:lnTo>
                  <a:pt x="522" y="343"/>
                </a:lnTo>
                <a:lnTo>
                  <a:pt x="522" y="367"/>
                </a:lnTo>
                <a:lnTo>
                  <a:pt x="490" y="382"/>
                </a:lnTo>
                <a:lnTo>
                  <a:pt x="455" y="425"/>
                </a:lnTo>
                <a:lnTo>
                  <a:pt x="418" y="449"/>
                </a:lnTo>
                <a:lnTo>
                  <a:pt x="351" y="451"/>
                </a:lnTo>
                <a:lnTo>
                  <a:pt x="326" y="468"/>
                </a:lnTo>
                <a:lnTo>
                  <a:pt x="287" y="454"/>
                </a:lnTo>
                <a:lnTo>
                  <a:pt x="172" y="464"/>
                </a:lnTo>
                <a:lnTo>
                  <a:pt x="83" y="495"/>
                </a:lnTo>
                <a:lnTo>
                  <a:pt x="91" y="519"/>
                </a:lnTo>
                <a:lnTo>
                  <a:pt x="83" y="533"/>
                </a:lnTo>
                <a:lnTo>
                  <a:pt x="91" y="533"/>
                </a:lnTo>
                <a:lnTo>
                  <a:pt x="104" y="559"/>
                </a:lnTo>
                <a:lnTo>
                  <a:pt x="116" y="557"/>
                </a:lnTo>
                <a:lnTo>
                  <a:pt x="129" y="583"/>
                </a:lnTo>
                <a:lnTo>
                  <a:pt x="127" y="591"/>
                </a:lnTo>
                <a:lnTo>
                  <a:pt x="106" y="603"/>
                </a:lnTo>
                <a:lnTo>
                  <a:pt x="95" y="634"/>
                </a:lnTo>
                <a:lnTo>
                  <a:pt x="0" y="70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4" name="Freeform 98"/>
          <p:cNvSpPr/>
          <p:nvPr/>
        </p:nvSpPr>
        <p:spPr>
          <a:xfrm>
            <a:off x="6014880" y="2633760"/>
            <a:ext cx="736920" cy="652320"/>
          </a:xfrm>
          <a:custGeom>
            <a:avLst/>
            <a:gdLst>
              <a:gd name="textAreaLeft" fmla="*/ 0 w 736920"/>
              <a:gd name="textAreaRight" fmla="*/ 737280 w 73692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1066" h="824">
                <a:moveTo>
                  <a:pt x="0" y="709"/>
                </a:moveTo>
                <a:lnTo>
                  <a:pt x="35" y="755"/>
                </a:lnTo>
                <a:lnTo>
                  <a:pt x="730" y="642"/>
                </a:lnTo>
                <a:lnTo>
                  <a:pt x="779" y="661"/>
                </a:lnTo>
                <a:lnTo>
                  <a:pt x="807" y="709"/>
                </a:lnTo>
                <a:lnTo>
                  <a:pt x="873" y="742"/>
                </a:lnTo>
                <a:lnTo>
                  <a:pt x="1027" y="788"/>
                </a:lnTo>
                <a:lnTo>
                  <a:pt x="1029" y="805"/>
                </a:lnTo>
                <a:lnTo>
                  <a:pt x="1041" y="824"/>
                </a:lnTo>
                <a:lnTo>
                  <a:pt x="1050" y="814"/>
                </a:lnTo>
                <a:lnTo>
                  <a:pt x="1066" y="774"/>
                </a:lnTo>
                <a:lnTo>
                  <a:pt x="1066" y="704"/>
                </a:lnTo>
                <a:lnTo>
                  <a:pt x="1041" y="572"/>
                </a:lnTo>
                <a:lnTo>
                  <a:pt x="1039" y="432"/>
                </a:lnTo>
                <a:lnTo>
                  <a:pt x="1012" y="322"/>
                </a:lnTo>
                <a:lnTo>
                  <a:pt x="963" y="233"/>
                </a:lnTo>
                <a:lnTo>
                  <a:pt x="954" y="141"/>
                </a:lnTo>
                <a:lnTo>
                  <a:pt x="908" y="0"/>
                </a:lnTo>
                <a:lnTo>
                  <a:pt x="696" y="50"/>
                </a:lnTo>
                <a:lnTo>
                  <a:pt x="678" y="45"/>
                </a:lnTo>
                <a:lnTo>
                  <a:pt x="613" y="93"/>
                </a:lnTo>
                <a:lnTo>
                  <a:pt x="553" y="165"/>
                </a:lnTo>
                <a:lnTo>
                  <a:pt x="547" y="197"/>
                </a:lnTo>
                <a:lnTo>
                  <a:pt x="522" y="228"/>
                </a:lnTo>
                <a:lnTo>
                  <a:pt x="474" y="266"/>
                </a:lnTo>
                <a:lnTo>
                  <a:pt x="495" y="291"/>
                </a:lnTo>
                <a:lnTo>
                  <a:pt x="501" y="273"/>
                </a:lnTo>
                <a:lnTo>
                  <a:pt x="513" y="278"/>
                </a:lnTo>
                <a:lnTo>
                  <a:pt x="507" y="286"/>
                </a:lnTo>
                <a:lnTo>
                  <a:pt x="515" y="291"/>
                </a:lnTo>
                <a:lnTo>
                  <a:pt x="507" y="309"/>
                </a:lnTo>
                <a:lnTo>
                  <a:pt x="501" y="307"/>
                </a:lnTo>
                <a:lnTo>
                  <a:pt x="499" y="317"/>
                </a:lnTo>
                <a:lnTo>
                  <a:pt x="522" y="343"/>
                </a:lnTo>
                <a:lnTo>
                  <a:pt x="522" y="367"/>
                </a:lnTo>
                <a:lnTo>
                  <a:pt x="490" y="382"/>
                </a:lnTo>
                <a:lnTo>
                  <a:pt x="455" y="425"/>
                </a:lnTo>
                <a:lnTo>
                  <a:pt x="418" y="449"/>
                </a:lnTo>
                <a:lnTo>
                  <a:pt x="351" y="451"/>
                </a:lnTo>
                <a:lnTo>
                  <a:pt x="326" y="468"/>
                </a:lnTo>
                <a:lnTo>
                  <a:pt x="287" y="454"/>
                </a:lnTo>
                <a:lnTo>
                  <a:pt x="172" y="464"/>
                </a:lnTo>
                <a:lnTo>
                  <a:pt x="83" y="495"/>
                </a:lnTo>
                <a:lnTo>
                  <a:pt x="91" y="519"/>
                </a:lnTo>
                <a:lnTo>
                  <a:pt x="83" y="533"/>
                </a:lnTo>
                <a:lnTo>
                  <a:pt x="91" y="533"/>
                </a:lnTo>
                <a:lnTo>
                  <a:pt x="104" y="559"/>
                </a:lnTo>
                <a:lnTo>
                  <a:pt x="116" y="557"/>
                </a:lnTo>
                <a:lnTo>
                  <a:pt x="129" y="583"/>
                </a:lnTo>
                <a:lnTo>
                  <a:pt x="127" y="591"/>
                </a:lnTo>
                <a:lnTo>
                  <a:pt x="106" y="603"/>
                </a:lnTo>
                <a:lnTo>
                  <a:pt x="95" y="634"/>
                </a:lnTo>
                <a:lnTo>
                  <a:pt x="0" y="709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5" name="Freeform 99"/>
          <p:cNvSpPr/>
          <p:nvPr/>
        </p:nvSpPr>
        <p:spPr>
          <a:xfrm>
            <a:off x="6697800" y="3314880"/>
            <a:ext cx="21960" cy="29880"/>
          </a:xfrm>
          <a:custGeom>
            <a:avLst/>
            <a:gdLst>
              <a:gd name="textAreaLeft" fmla="*/ 0 w 21960"/>
              <a:gd name="textAreaRight" fmla="*/ 22320 w 219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1" h="40">
                <a:moveTo>
                  <a:pt x="0" y="40"/>
                </a:moveTo>
                <a:lnTo>
                  <a:pt x="2" y="14"/>
                </a:lnTo>
                <a:lnTo>
                  <a:pt x="20" y="0"/>
                </a:lnTo>
                <a:lnTo>
                  <a:pt x="31" y="7"/>
                </a:lnTo>
                <a:lnTo>
                  <a:pt x="14" y="31"/>
                </a:lnTo>
                <a:lnTo>
                  <a:pt x="0" y="4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6" name="Freeform 100"/>
          <p:cNvSpPr/>
          <p:nvPr/>
        </p:nvSpPr>
        <p:spPr>
          <a:xfrm>
            <a:off x="6697800" y="3314880"/>
            <a:ext cx="21960" cy="29880"/>
          </a:xfrm>
          <a:custGeom>
            <a:avLst/>
            <a:gdLst>
              <a:gd name="textAreaLeft" fmla="*/ 0 w 21960"/>
              <a:gd name="textAreaRight" fmla="*/ 22320 w 219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1" h="40">
                <a:moveTo>
                  <a:pt x="0" y="40"/>
                </a:moveTo>
                <a:lnTo>
                  <a:pt x="2" y="14"/>
                </a:lnTo>
                <a:lnTo>
                  <a:pt x="20" y="0"/>
                </a:lnTo>
                <a:lnTo>
                  <a:pt x="31" y="7"/>
                </a:lnTo>
                <a:lnTo>
                  <a:pt x="14" y="31"/>
                </a:lnTo>
                <a:lnTo>
                  <a:pt x="0" y="40"/>
                </a:lnTo>
              </a:path>
            </a:pathLst>
          </a:custGeom>
          <a:solidFill>
            <a:srgbClr val="c0c0c0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7" name="Freeform 101"/>
          <p:cNvSpPr/>
          <p:nvPr/>
        </p:nvSpPr>
        <p:spPr>
          <a:xfrm>
            <a:off x="5635800" y="3992400"/>
            <a:ext cx="1042920" cy="46692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1538" h="591">
                <a:moveTo>
                  <a:pt x="0" y="463"/>
                </a:moveTo>
                <a:lnTo>
                  <a:pt x="0" y="507"/>
                </a:lnTo>
                <a:lnTo>
                  <a:pt x="222" y="487"/>
                </a:lnTo>
                <a:lnTo>
                  <a:pt x="353" y="428"/>
                </a:lnTo>
                <a:lnTo>
                  <a:pt x="600" y="406"/>
                </a:lnTo>
                <a:lnTo>
                  <a:pt x="700" y="459"/>
                </a:lnTo>
                <a:lnTo>
                  <a:pt x="860" y="442"/>
                </a:lnTo>
                <a:lnTo>
                  <a:pt x="1099" y="591"/>
                </a:lnTo>
                <a:lnTo>
                  <a:pt x="1133" y="572"/>
                </a:lnTo>
                <a:lnTo>
                  <a:pt x="1193" y="570"/>
                </a:lnTo>
                <a:lnTo>
                  <a:pt x="1205" y="531"/>
                </a:lnTo>
                <a:lnTo>
                  <a:pt x="1218" y="552"/>
                </a:lnTo>
                <a:lnTo>
                  <a:pt x="1235" y="483"/>
                </a:lnTo>
                <a:lnTo>
                  <a:pt x="1264" y="449"/>
                </a:lnTo>
                <a:lnTo>
                  <a:pt x="1295" y="428"/>
                </a:lnTo>
                <a:lnTo>
                  <a:pt x="1280" y="420"/>
                </a:lnTo>
                <a:lnTo>
                  <a:pt x="1284" y="406"/>
                </a:lnTo>
                <a:lnTo>
                  <a:pt x="1270" y="389"/>
                </a:lnTo>
                <a:lnTo>
                  <a:pt x="1293" y="406"/>
                </a:lnTo>
                <a:lnTo>
                  <a:pt x="1287" y="413"/>
                </a:lnTo>
                <a:lnTo>
                  <a:pt x="1305" y="420"/>
                </a:lnTo>
                <a:lnTo>
                  <a:pt x="1322" y="404"/>
                </a:lnTo>
                <a:lnTo>
                  <a:pt x="1330" y="399"/>
                </a:lnTo>
                <a:lnTo>
                  <a:pt x="1322" y="375"/>
                </a:lnTo>
                <a:lnTo>
                  <a:pt x="1330" y="372"/>
                </a:lnTo>
                <a:lnTo>
                  <a:pt x="1341" y="389"/>
                </a:lnTo>
                <a:lnTo>
                  <a:pt x="1393" y="367"/>
                </a:lnTo>
                <a:lnTo>
                  <a:pt x="1440" y="365"/>
                </a:lnTo>
                <a:lnTo>
                  <a:pt x="1471" y="315"/>
                </a:lnTo>
                <a:lnTo>
                  <a:pt x="1459" y="303"/>
                </a:lnTo>
                <a:lnTo>
                  <a:pt x="1442" y="320"/>
                </a:lnTo>
                <a:lnTo>
                  <a:pt x="1436" y="295"/>
                </a:lnTo>
                <a:lnTo>
                  <a:pt x="1415" y="312"/>
                </a:lnTo>
                <a:lnTo>
                  <a:pt x="1424" y="327"/>
                </a:lnTo>
                <a:lnTo>
                  <a:pt x="1405" y="319"/>
                </a:lnTo>
                <a:lnTo>
                  <a:pt x="1403" y="336"/>
                </a:lnTo>
                <a:lnTo>
                  <a:pt x="1353" y="331"/>
                </a:lnTo>
                <a:lnTo>
                  <a:pt x="1320" y="310"/>
                </a:lnTo>
                <a:lnTo>
                  <a:pt x="1322" y="300"/>
                </a:lnTo>
                <a:lnTo>
                  <a:pt x="1376" y="327"/>
                </a:lnTo>
                <a:lnTo>
                  <a:pt x="1415" y="285"/>
                </a:lnTo>
                <a:lnTo>
                  <a:pt x="1393" y="281"/>
                </a:lnTo>
                <a:lnTo>
                  <a:pt x="1419" y="250"/>
                </a:lnTo>
                <a:lnTo>
                  <a:pt x="1392" y="259"/>
                </a:lnTo>
                <a:lnTo>
                  <a:pt x="1311" y="231"/>
                </a:lnTo>
                <a:lnTo>
                  <a:pt x="1353" y="226"/>
                </a:lnTo>
                <a:lnTo>
                  <a:pt x="1392" y="240"/>
                </a:lnTo>
                <a:lnTo>
                  <a:pt x="1392" y="231"/>
                </a:lnTo>
                <a:lnTo>
                  <a:pt x="1376" y="213"/>
                </a:lnTo>
                <a:lnTo>
                  <a:pt x="1390" y="213"/>
                </a:lnTo>
                <a:lnTo>
                  <a:pt x="1413" y="202"/>
                </a:lnTo>
                <a:lnTo>
                  <a:pt x="1399" y="219"/>
                </a:lnTo>
                <a:lnTo>
                  <a:pt x="1409" y="237"/>
                </a:lnTo>
                <a:lnTo>
                  <a:pt x="1428" y="221"/>
                </a:lnTo>
                <a:lnTo>
                  <a:pt x="1440" y="240"/>
                </a:lnTo>
                <a:lnTo>
                  <a:pt x="1455" y="237"/>
                </a:lnTo>
                <a:lnTo>
                  <a:pt x="1478" y="237"/>
                </a:lnTo>
                <a:lnTo>
                  <a:pt x="1501" y="213"/>
                </a:lnTo>
                <a:lnTo>
                  <a:pt x="1515" y="177"/>
                </a:lnTo>
                <a:lnTo>
                  <a:pt x="1538" y="172"/>
                </a:lnTo>
                <a:lnTo>
                  <a:pt x="1538" y="151"/>
                </a:lnTo>
                <a:lnTo>
                  <a:pt x="1521" y="118"/>
                </a:lnTo>
                <a:lnTo>
                  <a:pt x="1498" y="118"/>
                </a:lnTo>
                <a:lnTo>
                  <a:pt x="1474" y="172"/>
                </a:lnTo>
                <a:lnTo>
                  <a:pt x="1463" y="144"/>
                </a:lnTo>
                <a:lnTo>
                  <a:pt x="1459" y="108"/>
                </a:lnTo>
                <a:lnTo>
                  <a:pt x="1411" y="129"/>
                </a:lnTo>
                <a:lnTo>
                  <a:pt x="1345" y="141"/>
                </a:lnTo>
                <a:lnTo>
                  <a:pt x="1353" y="115"/>
                </a:lnTo>
                <a:lnTo>
                  <a:pt x="1388" y="100"/>
                </a:lnTo>
                <a:lnTo>
                  <a:pt x="1453" y="77"/>
                </a:lnTo>
                <a:lnTo>
                  <a:pt x="1432" y="50"/>
                </a:lnTo>
                <a:lnTo>
                  <a:pt x="1478" y="69"/>
                </a:lnTo>
                <a:lnTo>
                  <a:pt x="1461" y="45"/>
                </a:lnTo>
                <a:lnTo>
                  <a:pt x="1505" y="77"/>
                </a:lnTo>
                <a:lnTo>
                  <a:pt x="1472" y="23"/>
                </a:lnTo>
                <a:lnTo>
                  <a:pt x="1440" y="0"/>
                </a:lnTo>
                <a:lnTo>
                  <a:pt x="891" y="89"/>
                </a:lnTo>
                <a:lnTo>
                  <a:pt x="440" y="141"/>
                </a:lnTo>
                <a:lnTo>
                  <a:pt x="432" y="185"/>
                </a:lnTo>
                <a:lnTo>
                  <a:pt x="407" y="199"/>
                </a:lnTo>
                <a:lnTo>
                  <a:pt x="376" y="247"/>
                </a:lnTo>
                <a:lnTo>
                  <a:pt x="351" y="243"/>
                </a:lnTo>
                <a:lnTo>
                  <a:pt x="322" y="257"/>
                </a:lnTo>
                <a:lnTo>
                  <a:pt x="303" y="281"/>
                </a:lnTo>
                <a:lnTo>
                  <a:pt x="276" y="266"/>
                </a:lnTo>
                <a:lnTo>
                  <a:pt x="236" y="295"/>
                </a:lnTo>
                <a:lnTo>
                  <a:pt x="230" y="320"/>
                </a:lnTo>
                <a:lnTo>
                  <a:pt x="58" y="410"/>
                </a:lnTo>
                <a:lnTo>
                  <a:pt x="47" y="445"/>
                </a:lnTo>
                <a:lnTo>
                  <a:pt x="0" y="46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8" name="Freeform 102"/>
          <p:cNvSpPr/>
          <p:nvPr/>
        </p:nvSpPr>
        <p:spPr>
          <a:xfrm>
            <a:off x="5629320" y="3992400"/>
            <a:ext cx="1058760" cy="46692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1538" h="591">
                <a:moveTo>
                  <a:pt x="0" y="463"/>
                </a:moveTo>
                <a:lnTo>
                  <a:pt x="0" y="507"/>
                </a:lnTo>
                <a:lnTo>
                  <a:pt x="222" y="487"/>
                </a:lnTo>
                <a:lnTo>
                  <a:pt x="353" y="428"/>
                </a:lnTo>
                <a:lnTo>
                  <a:pt x="600" y="406"/>
                </a:lnTo>
                <a:lnTo>
                  <a:pt x="700" y="459"/>
                </a:lnTo>
                <a:lnTo>
                  <a:pt x="860" y="442"/>
                </a:lnTo>
                <a:lnTo>
                  <a:pt x="1099" y="591"/>
                </a:lnTo>
                <a:lnTo>
                  <a:pt x="1133" y="572"/>
                </a:lnTo>
                <a:lnTo>
                  <a:pt x="1193" y="570"/>
                </a:lnTo>
                <a:lnTo>
                  <a:pt x="1205" y="531"/>
                </a:lnTo>
                <a:lnTo>
                  <a:pt x="1218" y="552"/>
                </a:lnTo>
                <a:lnTo>
                  <a:pt x="1235" y="483"/>
                </a:lnTo>
                <a:lnTo>
                  <a:pt x="1264" y="449"/>
                </a:lnTo>
                <a:lnTo>
                  <a:pt x="1295" y="428"/>
                </a:lnTo>
                <a:lnTo>
                  <a:pt x="1280" y="420"/>
                </a:lnTo>
                <a:lnTo>
                  <a:pt x="1284" y="406"/>
                </a:lnTo>
                <a:lnTo>
                  <a:pt x="1270" y="389"/>
                </a:lnTo>
                <a:lnTo>
                  <a:pt x="1293" y="406"/>
                </a:lnTo>
                <a:lnTo>
                  <a:pt x="1287" y="413"/>
                </a:lnTo>
                <a:lnTo>
                  <a:pt x="1305" y="420"/>
                </a:lnTo>
                <a:lnTo>
                  <a:pt x="1322" y="404"/>
                </a:lnTo>
                <a:lnTo>
                  <a:pt x="1330" y="399"/>
                </a:lnTo>
                <a:lnTo>
                  <a:pt x="1322" y="375"/>
                </a:lnTo>
                <a:lnTo>
                  <a:pt x="1330" y="372"/>
                </a:lnTo>
                <a:lnTo>
                  <a:pt x="1341" y="389"/>
                </a:lnTo>
                <a:lnTo>
                  <a:pt x="1393" y="367"/>
                </a:lnTo>
                <a:lnTo>
                  <a:pt x="1440" y="365"/>
                </a:lnTo>
                <a:lnTo>
                  <a:pt x="1471" y="315"/>
                </a:lnTo>
                <a:lnTo>
                  <a:pt x="1459" y="303"/>
                </a:lnTo>
                <a:lnTo>
                  <a:pt x="1442" y="320"/>
                </a:lnTo>
                <a:lnTo>
                  <a:pt x="1436" y="295"/>
                </a:lnTo>
                <a:lnTo>
                  <a:pt x="1415" y="312"/>
                </a:lnTo>
                <a:lnTo>
                  <a:pt x="1424" y="327"/>
                </a:lnTo>
                <a:lnTo>
                  <a:pt x="1405" y="319"/>
                </a:lnTo>
                <a:lnTo>
                  <a:pt x="1403" y="336"/>
                </a:lnTo>
                <a:lnTo>
                  <a:pt x="1353" y="331"/>
                </a:lnTo>
                <a:lnTo>
                  <a:pt x="1320" y="310"/>
                </a:lnTo>
                <a:lnTo>
                  <a:pt x="1322" y="300"/>
                </a:lnTo>
                <a:lnTo>
                  <a:pt x="1376" y="327"/>
                </a:lnTo>
                <a:lnTo>
                  <a:pt x="1415" y="285"/>
                </a:lnTo>
                <a:lnTo>
                  <a:pt x="1393" y="281"/>
                </a:lnTo>
                <a:lnTo>
                  <a:pt x="1419" y="250"/>
                </a:lnTo>
                <a:lnTo>
                  <a:pt x="1392" y="259"/>
                </a:lnTo>
                <a:lnTo>
                  <a:pt x="1311" y="231"/>
                </a:lnTo>
                <a:lnTo>
                  <a:pt x="1353" y="226"/>
                </a:lnTo>
                <a:lnTo>
                  <a:pt x="1392" y="240"/>
                </a:lnTo>
                <a:lnTo>
                  <a:pt x="1392" y="231"/>
                </a:lnTo>
                <a:lnTo>
                  <a:pt x="1376" y="213"/>
                </a:lnTo>
                <a:lnTo>
                  <a:pt x="1390" y="213"/>
                </a:lnTo>
                <a:lnTo>
                  <a:pt x="1413" y="202"/>
                </a:lnTo>
                <a:lnTo>
                  <a:pt x="1399" y="219"/>
                </a:lnTo>
                <a:lnTo>
                  <a:pt x="1409" y="237"/>
                </a:lnTo>
                <a:lnTo>
                  <a:pt x="1428" y="221"/>
                </a:lnTo>
                <a:lnTo>
                  <a:pt x="1440" y="240"/>
                </a:lnTo>
                <a:lnTo>
                  <a:pt x="1455" y="237"/>
                </a:lnTo>
                <a:lnTo>
                  <a:pt x="1478" y="237"/>
                </a:lnTo>
                <a:lnTo>
                  <a:pt x="1501" y="213"/>
                </a:lnTo>
                <a:lnTo>
                  <a:pt x="1515" y="177"/>
                </a:lnTo>
                <a:lnTo>
                  <a:pt x="1538" y="172"/>
                </a:lnTo>
                <a:lnTo>
                  <a:pt x="1538" y="151"/>
                </a:lnTo>
                <a:lnTo>
                  <a:pt x="1521" y="118"/>
                </a:lnTo>
                <a:lnTo>
                  <a:pt x="1498" y="118"/>
                </a:lnTo>
                <a:lnTo>
                  <a:pt x="1474" y="172"/>
                </a:lnTo>
                <a:lnTo>
                  <a:pt x="1463" y="144"/>
                </a:lnTo>
                <a:lnTo>
                  <a:pt x="1459" y="108"/>
                </a:lnTo>
                <a:lnTo>
                  <a:pt x="1411" y="129"/>
                </a:lnTo>
                <a:lnTo>
                  <a:pt x="1345" y="141"/>
                </a:lnTo>
                <a:lnTo>
                  <a:pt x="1353" y="115"/>
                </a:lnTo>
                <a:lnTo>
                  <a:pt x="1388" y="100"/>
                </a:lnTo>
                <a:lnTo>
                  <a:pt x="1453" y="77"/>
                </a:lnTo>
                <a:lnTo>
                  <a:pt x="1432" y="50"/>
                </a:lnTo>
                <a:lnTo>
                  <a:pt x="1478" y="69"/>
                </a:lnTo>
                <a:lnTo>
                  <a:pt x="1461" y="45"/>
                </a:lnTo>
                <a:lnTo>
                  <a:pt x="1505" y="77"/>
                </a:lnTo>
                <a:lnTo>
                  <a:pt x="1472" y="23"/>
                </a:lnTo>
                <a:lnTo>
                  <a:pt x="1440" y="0"/>
                </a:lnTo>
                <a:lnTo>
                  <a:pt x="891" y="89"/>
                </a:lnTo>
                <a:lnTo>
                  <a:pt x="440" y="141"/>
                </a:lnTo>
                <a:lnTo>
                  <a:pt x="432" y="185"/>
                </a:lnTo>
                <a:lnTo>
                  <a:pt x="407" y="199"/>
                </a:lnTo>
                <a:lnTo>
                  <a:pt x="376" y="247"/>
                </a:lnTo>
                <a:lnTo>
                  <a:pt x="351" y="243"/>
                </a:lnTo>
                <a:lnTo>
                  <a:pt x="322" y="257"/>
                </a:lnTo>
                <a:lnTo>
                  <a:pt x="303" y="281"/>
                </a:lnTo>
                <a:lnTo>
                  <a:pt x="276" y="266"/>
                </a:lnTo>
                <a:lnTo>
                  <a:pt x="236" y="295"/>
                </a:lnTo>
                <a:lnTo>
                  <a:pt x="230" y="320"/>
                </a:lnTo>
                <a:lnTo>
                  <a:pt x="58" y="410"/>
                </a:lnTo>
                <a:lnTo>
                  <a:pt x="47" y="445"/>
                </a:lnTo>
                <a:lnTo>
                  <a:pt x="0" y="463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9" name="Freeform 103"/>
          <p:cNvSpPr/>
          <p:nvPr/>
        </p:nvSpPr>
        <p:spPr>
          <a:xfrm>
            <a:off x="3273480" y="2260440"/>
            <a:ext cx="815760" cy="513000"/>
          </a:xfrm>
          <a:custGeom>
            <a:avLst/>
            <a:gdLst>
              <a:gd name="textAreaLeft" fmla="*/ 0 w 815760"/>
              <a:gd name="textAreaRight" fmla="*/ 816120 w 81576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1187" h="646">
                <a:moveTo>
                  <a:pt x="0" y="593"/>
                </a:moveTo>
                <a:lnTo>
                  <a:pt x="62" y="0"/>
                </a:lnTo>
                <a:lnTo>
                  <a:pt x="646" y="36"/>
                </a:lnTo>
                <a:lnTo>
                  <a:pt x="1095" y="48"/>
                </a:lnTo>
                <a:lnTo>
                  <a:pt x="1102" y="211"/>
                </a:lnTo>
                <a:lnTo>
                  <a:pt x="1147" y="341"/>
                </a:lnTo>
                <a:lnTo>
                  <a:pt x="1154" y="510"/>
                </a:lnTo>
                <a:lnTo>
                  <a:pt x="1187" y="646"/>
                </a:lnTo>
                <a:lnTo>
                  <a:pt x="563" y="627"/>
                </a:lnTo>
                <a:lnTo>
                  <a:pt x="0" y="59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0" name="Freeform 104"/>
          <p:cNvSpPr/>
          <p:nvPr/>
        </p:nvSpPr>
        <p:spPr>
          <a:xfrm>
            <a:off x="3273480" y="2260440"/>
            <a:ext cx="815760" cy="513000"/>
          </a:xfrm>
          <a:custGeom>
            <a:avLst/>
            <a:gdLst>
              <a:gd name="textAreaLeft" fmla="*/ 0 w 815760"/>
              <a:gd name="textAreaRight" fmla="*/ 816120 w 81576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1187" h="646">
                <a:moveTo>
                  <a:pt x="0" y="593"/>
                </a:moveTo>
                <a:lnTo>
                  <a:pt x="62" y="0"/>
                </a:lnTo>
                <a:lnTo>
                  <a:pt x="646" y="36"/>
                </a:lnTo>
                <a:lnTo>
                  <a:pt x="1095" y="48"/>
                </a:lnTo>
                <a:lnTo>
                  <a:pt x="1102" y="211"/>
                </a:lnTo>
                <a:lnTo>
                  <a:pt x="1147" y="341"/>
                </a:lnTo>
                <a:lnTo>
                  <a:pt x="1154" y="510"/>
                </a:lnTo>
                <a:lnTo>
                  <a:pt x="1187" y="646"/>
                </a:lnTo>
                <a:lnTo>
                  <a:pt x="563" y="627"/>
                </a:lnTo>
                <a:lnTo>
                  <a:pt x="0" y="59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1" name="Freeform 105"/>
          <p:cNvSpPr/>
          <p:nvPr/>
        </p:nvSpPr>
        <p:spPr>
          <a:xfrm>
            <a:off x="5451480" y="3254400"/>
            <a:ext cx="517680" cy="581040"/>
          </a:xfrm>
          <a:custGeom>
            <a:avLst/>
            <a:gdLst>
              <a:gd name="textAreaLeft" fmla="*/ 0 w 517680"/>
              <a:gd name="textAreaRight" fmla="*/ 518040 w 51768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w="754" h="734">
                <a:moveTo>
                  <a:pt x="0" y="135"/>
                </a:moveTo>
                <a:lnTo>
                  <a:pt x="60" y="640"/>
                </a:lnTo>
                <a:lnTo>
                  <a:pt x="118" y="640"/>
                </a:lnTo>
                <a:lnTo>
                  <a:pt x="154" y="650"/>
                </a:lnTo>
                <a:lnTo>
                  <a:pt x="172" y="686"/>
                </a:lnTo>
                <a:lnTo>
                  <a:pt x="233" y="695"/>
                </a:lnTo>
                <a:lnTo>
                  <a:pt x="266" y="710"/>
                </a:lnTo>
                <a:lnTo>
                  <a:pt x="349" y="707"/>
                </a:lnTo>
                <a:lnTo>
                  <a:pt x="386" y="686"/>
                </a:lnTo>
                <a:lnTo>
                  <a:pt x="474" y="734"/>
                </a:lnTo>
                <a:lnTo>
                  <a:pt x="530" y="693"/>
                </a:lnTo>
                <a:lnTo>
                  <a:pt x="542" y="613"/>
                </a:lnTo>
                <a:lnTo>
                  <a:pt x="576" y="630"/>
                </a:lnTo>
                <a:lnTo>
                  <a:pt x="594" y="561"/>
                </a:lnTo>
                <a:lnTo>
                  <a:pt x="690" y="502"/>
                </a:lnTo>
                <a:lnTo>
                  <a:pt x="721" y="467"/>
                </a:lnTo>
                <a:lnTo>
                  <a:pt x="744" y="306"/>
                </a:lnTo>
                <a:lnTo>
                  <a:pt x="729" y="272"/>
                </a:lnTo>
                <a:lnTo>
                  <a:pt x="754" y="257"/>
                </a:lnTo>
                <a:lnTo>
                  <a:pt x="702" y="0"/>
                </a:lnTo>
                <a:lnTo>
                  <a:pt x="628" y="34"/>
                </a:lnTo>
                <a:lnTo>
                  <a:pt x="576" y="58"/>
                </a:lnTo>
                <a:lnTo>
                  <a:pt x="553" y="85"/>
                </a:lnTo>
                <a:lnTo>
                  <a:pt x="513" y="120"/>
                </a:lnTo>
                <a:lnTo>
                  <a:pt x="465" y="121"/>
                </a:lnTo>
                <a:lnTo>
                  <a:pt x="416" y="145"/>
                </a:lnTo>
                <a:lnTo>
                  <a:pt x="393" y="156"/>
                </a:lnTo>
                <a:lnTo>
                  <a:pt x="362" y="140"/>
                </a:lnTo>
                <a:lnTo>
                  <a:pt x="320" y="156"/>
                </a:lnTo>
                <a:lnTo>
                  <a:pt x="312" y="149"/>
                </a:lnTo>
                <a:lnTo>
                  <a:pt x="353" y="130"/>
                </a:lnTo>
                <a:lnTo>
                  <a:pt x="349" y="128"/>
                </a:lnTo>
                <a:lnTo>
                  <a:pt x="330" y="121"/>
                </a:lnTo>
                <a:lnTo>
                  <a:pt x="316" y="135"/>
                </a:lnTo>
                <a:lnTo>
                  <a:pt x="247" y="108"/>
                </a:lnTo>
                <a:lnTo>
                  <a:pt x="218" y="120"/>
                </a:lnTo>
                <a:lnTo>
                  <a:pt x="224" y="104"/>
                </a:lnTo>
                <a:lnTo>
                  <a:pt x="0" y="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2" name="Freeform 106"/>
          <p:cNvSpPr/>
          <p:nvPr/>
        </p:nvSpPr>
        <p:spPr>
          <a:xfrm>
            <a:off x="5451480" y="3254400"/>
            <a:ext cx="517680" cy="581040"/>
          </a:xfrm>
          <a:custGeom>
            <a:avLst/>
            <a:gdLst>
              <a:gd name="textAreaLeft" fmla="*/ 0 w 517680"/>
              <a:gd name="textAreaRight" fmla="*/ 518040 w 51768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w="754" h="734">
                <a:moveTo>
                  <a:pt x="0" y="135"/>
                </a:moveTo>
                <a:lnTo>
                  <a:pt x="60" y="640"/>
                </a:lnTo>
                <a:lnTo>
                  <a:pt x="118" y="640"/>
                </a:lnTo>
                <a:lnTo>
                  <a:pt x="154" y="650"/>
                </a:lnTo>
                <a:lnTo>
                  <a:pt x="172" y="686"/>
                </a:lnTo>
                <a:lnTo>
                  <a:pt x="233" y="695"/>
                </a:lnTo>
                <a:lnTo>
                  <a:pt x="266" y="710"/>
                </a:lnTo>
                <a:lnTo>
                  <a:pt x="349" y="707"/>
                </a:lnTo>
                <a:lnTo>
                  <a:pt x="386" y="686"/>
                </a:lnTo>
                <a:lnTo>
                  <a:pt x="474" y="734"/>
                </a:lnTo>
                <a:lnTo>
                  <a:pt x="530" y="693"/>
                </a:lnTo>
                <a:lnTo>
                  <a:pt x="542" y="613"/>
                </a:lnTo>
                <a:lnTo>
                  <a:pt x="576" y="630"/>
                </a:lnTo>
                <a:lnTo>
                  <a:pt x="594" y="561"/>
                </a:lnTo>
                <a:lnTo>
                  <a:pt x="690" y="502"/>
                </a:lnTo>
                <a:lnTo>
                  <a:pt x="721" y="467"/>
                </a:lnTo>
                <a:lnTo>
                  <a:pt x="744" y="306"/>
                </a:lnTo>
                <a:lnTo>
                  <a:pt x="729" y="272"/>
                </a:lnTo>
                <a:lnTo>
                  <a:pt x="754" y="257"/>
                </a:lnTo>
                <a:lnTo>
                  <a:pt x="702" y="0"/>
                </a:lnTo>
                <a:lnTo>
                  <a:pt x="628" y="34"/>
                </a:lnTo>
                <a:lnTo>
                  <a:pt x="576" y="58"/>
                </a:lnTo>
                <a:lnTo>
                  <a:pt x="553" y="85"/>
                </a:lnTo>
                <a:lnTo>
                  <a:pt x="513" y="120"/>
                </a:lnTo>
                <a:lnTo>
                  <a:pt x="465" y="121"/>
                </a:lnTo>
                <a:lnTo>
                  <a:pt x="416" y="145"/>
                </a:lnTo>
                <a:lnTo>
                  <a:pt x="393" y="156"/>
                </a:lnTo>
                <a:lnTo>
                  <a:pt x="362" y="140"/>
                </a:lnTo>
                <a:lnTo>
                  <a:pt x="320" y="156"/>
                </a:lnTo>
                <a:lnTo>
                  <a:pt x="312" y="149"/>
                </a:lnTo>
                <a:lnTo>
                  <a:pt x="353" y="130"/>
                </a:lnTo>
                <a:lnTo>
                  <a:pt x="349" y="128"/>
                </a:lnTo>
                <a:lnTo>
                  <a:pt x="330" y="121"/>
                </a:lnTo>
                <a:lnTo>
                  <a:pt x="316" y="135"/>
                </a:lnTo>
                <a:lnTo>
                  <a:pt x="247" y="108"/>
                </a:lnTo>
                <a:lnTo>
                  <a:pt x="218" y="120"/>
                </a:lnTo>
                <a:lnTo>
                  <a:pt x="224" y="104"/>
                </a:lnTo>
                <a:lnTo>
                  <a:pt x="0" y="135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3" name="Freeform 107"/>
          <p:cNvSpPr/>
          <p:nvPr/>
        </p:nvSpPr>
        <p:spPr>
          <a:xfrm>
            <a:off x="3268800" y="4127400"/>
            <a:ext cx="1073160" cy="55404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556" h="700">
                <a:moveTo>
                  <a:pt x="0" y="102"/>
                </a:moveTo>
                <a:lnTo>
                  <a:pt x="9" y="0"/>
                </a:lnTo>
                <a:lnTo>
                  <a:pt x="181" y="11"/>
                </a:lnTo>
                <a:lnTo>
                  <a:pt x="946" y="44"/>
                </a:lnTo>
                <a:lnTo>
                  <a:pt x="1514" y="41"/>
                </a:lnTo>
                <a:lnTo>
                  <a:pt x="1520" y="143"/>
                </a:lnTo>
                <a:lnTo>
                  <a:pt x="1556" y="361"/>
                </a:lnTo>
                <a:lnTo>
                  <a:pt x="1549" y="700"/>
                </a:lnTo>
                <a:lnTo>
                  <a:pt x="1500" y="686"/>
                </a:lnTo>
                <a:lnTo>
                  <a:pt x="1423" y="640"/>
                </a:lnTo>
                <a:lnTo>
                  <a:pt x="1393" y="654"/>
                </a:lnTo>
                <a:lnTo>
                  <a:pt x="1290" y="660"/>
                </a:lnTo>
                <a:lnTo>
                  <a:pt x="1192" y="690"/>
                </a:lnTo>
                <a:lnTo>
                  <a:pt x="1154" y="659"/>
                </a:lnTo>
                <a:lnTo>
                  <a:pt x="1104" y="667"/>
                </a:lnTo>
                <a:lnTo>
                  <a:pt x="1092" y="642"/>
                </a:lnTo>
                <a:lnTo>
                  <a:pt x="1057" y="664"/>
                </a:lnTo>
                <a:lnTo>
                  <a:pt x="1052" y="691"/>
                </a:lnTo>
                <a:lnTo>
                  <a:pt x="1040" y="654"/>
                </a:lnTo>
                <a:lnTo>
                  <a:pt x="1003" y="674"/>
                </a:lnTo>
                <a:lnTo>
                  <a:pt x="948" y="636"/>
                </a:lnTo>
                <a:lnTo>
                  <a:pt x="917" y="664"/>
                </a:lnTo>
                <a:lnTo>
                  <a:pt x="897" y="648"/>
                </a:lnTo>
                <a:lnTo>
                  <a:pt x="870" y="599"/>
                </a:lnTo>
                <a:lnTo>
                  <a:pt x="818" y="599"/>
                </a:lnTo>
                <a:lnTo>
                  <a:pt x="811" y="612"/>
                </a:lnTo>
                <a:lnTo>
                  <a:pt x="780" y="594"/>
                </a:lnTo>
                <a:lnTo>
                  <a:pt x="753" y="600"/>
                </a:lnTo>
                <a:lnTo>
                  <a:pt x="714" y="587"/>
                </a:lnTo>
                <a:lnTo>
                  <a:pt x="668" y="582"/>
                </a:lnTo>
                <a:lnTo>
                  <a:pt x="670" y="558"/>
                </a:lnTo>
                <a:lnTo>
                  <a:pt x="643" y="534"/>
                </a:lnTo>
                <a:lnTo>
                  <a:pt x="632" y="549"/>
                </a:lnTo>
                <a:lnTo>
                  <a:pt x="578" y="547"/>
                </a:lnTo>
                <a:lnTo>
                  <a:pt x="526" y="508"/>
                </a:lnTo>
                <a:lnTo>
                  <a:pt x="543" y="131"/>
                </a:lnTo>
                <a:lnTo>
                  <a:pt x="0" y="10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4" name="Freeform 108"/>
          <p:cNvSpPr/>
          <p:nvPr/>
        </p:nvSpPr>
        <p:spPr>
          <a:xfrm>
            <a:off x="3268800" y="4127400"/>
            <a:ext cx="1073160" cy="55404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556" h="700">
                <a:moveTo>
                  <a:pt x="0" y="102"/>
                </a:moveTo>
                <a:lnTo>
                  <a:pt x="9" y="0"/>
                </a:lnTo>
                <a:lnTo>
                  <a:pt x="181" y="11"/>
                </a:lnTo>
                <a:lnTo>
                  <a:pt x="946" y="44"/>
                </a:lnTo>
                <a:lnTo>
                  <a:pt x="1514" y="41"/>
                </a:lnTo>
                <a:lnTo>
                  <a:pt x="1520" y="143"/>
                </a:lnTo>
                <a:lnTo>
                  <a:pt x="1556" y="361"/>
                </a:lnTo>
                <a:lnTo>
                  <a:pt x="1549" y="700"/>
                </a:lnTo>
                <a:lnTo>
                  <a:pt x="1500" y="686"/>
                </a:lnTo>
                <a:lnTo>
                  <a:pt x="1423" y="640"/>
                </a:lnTo>
                <a:lnTo>
                  <a:pt x="1393" y="654"/>
                </a:lnTo>
                <a:lnTo>
                  <a:pt x="1290" y="660"/>
                </a:lnTo>
                <a:lnTo>
                  <a:pt x="1192" y="690"/>
                </a:lnTo>
                <a:lnTo>
                  <a:pt x="1154" y="659"/>
                </a:lnTo>
                <a:lnTo>
                  <a:pt x="1104" y="667"/>
                </a:lnTo>
                <a:lnTo>
                  <a:pt x="1092" y="642"/>
                </a:lnTo>
                <a:lnTo>
                  <a:pt x="1057" y="664"/>
                </a:lnTo>
                <a:lnTo>
                  <a:pt x="1052" y="691"/>
                </a:lnTo>
                <a:lnTo>
                  <a:pt x="1040" y="654"/>
                </a:lnTo>
                <a:lnTo>
                  <a:pt x="1003" y="674"/>
                </a:lnTo>
                <a:lnTo>
                  <a:pt x="948" y="636"/>
                </a:lnTo>
                <a:lnTo>
                  <a:pt x="917" y="664"/>
                </a:lnTo>
                <a:lnTo>
                  <a:pt x="897" y="648"/>
                </a:lnTo>
                <a:lnTo>
                  <a:pt x="870" y="599"/>
                </a:lnTo>
                <a:lnTo>
                  <a:pt x="818" y="599"/>
                </a:lnTo>
                <a:lnTo>
                  <a:pt x="811" y="612"/>
                </a:lnTo>
                <a:lnTo>
                  <a:pt x="780" y="594"/>
                </a:lnTo>
                <a:lnTo>
                  <a:pt x="753" y="600"/>
                </a:lnTo>
                <a:lnTo>
                  <a:pt x="714" y="587"/>
                </a:lnTo>
                <a:lnTo>
                  <a:pt x="668" y="582"/>
                </a:lnTo>
                <a:lnTo>
                  <a:pt x="670" y="558"/>
                </a:lnTo>
                <a:lnTo>
                  <a:pt x="643" y="534"/>
                </a:lnTo>
                <a:lnTo>
                  <a:pt x="632" y="549"/>
                </a:lnTo>
                <a:lnTo>
                  <a:pt x="578" y="547"/>
                </a:lnTo>
                <a:lnTo>
                  <a:pt x="526" y="508"/>
                </a:lnTo>
                <a:lnTo>
                  <a:pt x="543" y="131"/>
                </a:lnTo>
                <a:lnTo>
                  <a:pt x="0" y="102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5" name="Freeform 109"/>
          <p:cNvSpPr/>
          <p:nvPr/>
        </p:nvSpPr>
        <p:spPr>
          <a:xfrm>
            <a:off x="930240" y="2270160"/>
            <a:ext cx="990720" cy="836640"/>
          </a:xfrm>
          <a:custGeom>
            <a:avLst/>
            <a:gdLst>
              <a:gd name="textAreaLeft" fmla="*/ 0 w 990720"/>
              <a:gd name="textAreaRight" fmla="*/ 991080 w 9907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436" h="1057">
                <a:moveTo>
                  <a:pt x="0" y="786"/>
                </a:moveTo>
                <a:lnTo>
                  <a:pt x="24" y="596"/>
                </a:lnTo>
                <a:lnTo>
                  <a:pt x="133" y="442"/>
                </a:lnTo>
                <a:lnTo>
                  <a:pt x="313" y="0"/>
                </a:lnTo>
                <a:lnTo>
                  <a:pt x="401" y="26"/>
                </a:lnTo>
                <a:lnTo>
                  <a:pt x="405" y="45"/>
                </a:lnTo>
                <a:lnTo>
                  <a:pt x="428" y="47"/>
                </a:lnTo>
                <a:lnTo>
                  <a:pt x="474" y="124"/>
                </a:lnTo>
                <a:lnTo>
                  <a:pt x="465" y="149"/>
                </a:lnTo>
                <a:lnTo>
                  <a:pt x="536" y="201"/>
                </a:lnTo>
                <a:lnTo>
                  <a:pt x="657" y="197"/>
                </a:lnTo>
                <a:lnTo>
                  <a:pt x="750" y="232"/>
                </a:lnTo>
                <a:lnTo>
                  <a:pt x="792" y="223"/>
                </a:lnTo>
                <a:lnTo>
                  <a:pt x="1070" y="232"/>
                </a:lnTo>
                <a:lnTo>
                  <a:pt x="1382" y="295"/>
                </a:lnTo>
                <a:lnTo>
                  <a:pt x="1397" y="329"/>
                </a:lnTo>
                <a:lnTo>
                  <a:pt x="1436" y="379"/>
                </a:lnTo>
                <a:lnTo>
                  <a:pt x="1386" y="442"/>
                </a:lnTo>
                <a:lnTo>
                  <a:pt x="1330" y="518"/>
                </a:lnTo>
                <a:lnTo>
                  <a:pt x="1261" y="572"/>
                </a:lnTo>
                <a:lnTo>
                  <a:pt x="1253" y="610"/>
                </a:lnTo>
                <a:lnTo>
                  <a:pt x="1291" y="651"/>
                </a:lnTo>
                <a:lnTo>
                  <a:pt x="1249" y="735"/>
                </a:lnTo>
                <a:lnTo>
                  <a:pt x="1162" y="1057"/>
                </a:lnTo>
                <a:lnTo>
                  <a:pt x="677" y="951"/>
                </a:lnTo>
                <a:lnTo>
                  <a:pt x="0" y="78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6" name="Freeform 110"/>
          <p:cNvSpPr/>
          <p:nvPr/>
        </p:nvSpPr>
        <p:spPr>
          <a:xfrm>
            <a:off x="930240" y="2270160"/>
            <a:ext cx="990720" cy="836640"/>
          </a:xfrm>
          <a:custGeom>
            <a:avLst/>
            <a:gdLst>
              <a:gd name="textAreaLeft" fmla="*/ 0 w 990720"/>
              <a:gd name="textAreaRight" fmla="*/ 991080 w 9907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436" h="1057">
                <a:moveTo>
                  <a:pt x="0" y="786"/>
                </a:moveTo>
                <a:lnTo>
                  <a:pt x="24" y="596"/>
                </a:lnTo>
                <a:lnTo>
                  <a:pt x="133" y="442"/>
                </a:lnTo>
                <a:lnTo>
                  <a:pt x="313" y="0"/>
                </a:lnTo>
                <a:lnTo>
                  <a:pt x="401" y="26"/>
                </a:lnTo>
                <a:lnTo>
                  <a:pt x="405" y="45"/>
                </a:lnTo>
                <a:lnTo>
                  <a:pt x="428" y="47"/>
                </a:lnTo>
                <a:lnTo>
                  <a:pt x="474" y="124"/>
                </a:lnTo>
                <a:lnTo>
                  <a:pt x="465" y="149"/>
                </a:lnTo>
                <a:lnTo>
                  <a:pt x="536" y="201"/>
                </a:lnTo>
                <a:lnTo>
                  <a:pt x="657" y="197"/>
                </a:lnTo>
                <a:lnTo>
                  <a:pt x="750" y="232"/>
                </a:lnTo>
                <a:lnTo>
                  <a:pt x="792" y="223"/>
                </a:lnTo>
                <a:lnTo>
                  <a:pt x="1070" y="232"/>
                </a:lnTo>
                <a:lnTo>
                  <a:pt x="1382" y="295"/>
                </a:lnTo>
                <a:lnTo>
                  <a:pt x="1397" y="329"/>
                </a:lnTo>
                <a:lnTo>
                  <a:pt x="1436" y="379"/>
                </a:lnTo>
                <a:lnTo>
                  <a:pt x="1386" y="442"/>
                </a:lnTo>
                <a:lnTo>
                  <a:pt x="1330" y="518"/>
                </a:lnTo>
                <a:lnTo>
                  <a:pt x="1261" y="572"/>
                </a:lnTo>
                <a:lnTo>
                  <a:pt x="1253" y="610"/>
                </a:lnTo>
                <a:lnTo>
                  <a:pt x="1291" y="651"/>
                </a:lnTo>
                <a:lnTo>
                  <a:pt x="1249" y="735"/>
                </a:lnTo>
                <a:lnTo>
                  <a:pt x="1162" y="1057"/>
                </a:lnTo>
                <a:lnTo>
                  <a:pt x="677" y="951"/>
                </a:lnTo>
                <a:lnTo>
                  <a:pt x="0" y="786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7" name="Freeform 111"/>
          <p:cNvSpPr/>
          <p:nvPr/>
        </p:nvSpPr>
        <p:spPr>
          <a:xfrm>
            <a:off x="5934240" y="3143160"/>
            <a:ext cx="722160" cy="457200"/>
          </a:xfrm>
          <a:custGeom>
            <a:avLst/>
            <a:gdLst>
              <a:gd name="textAreaLeft" fmla="*/ 0 w 722160"/>
              <a:gd name="textAreaRight" fmla="*/ 722520 w 722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8" h="579">
                <a:moveTo>
                  <a:pt x="0" y="141"/>
                </a:moveTo>
                <a:lnTo>
                  <a:pt x="52" y="398"/>
                </a:lnTo>
                <a:lnTo>
                  <a:pt x="86" y="579"/>
                </a:lnTo>
                <a:lnTo>
                  <a:pt x="260" y="553"/>
                </a:lnTo>
                <a:lnTo>
                  <a:pt x="888" y="449"/>
                </a:lnTo>
                <a:lnTo>
                  <a:pt x="913" y="422"/>
                </a:lnTo>
                <a:lnTo>
                  <a:pt x="949" y="422"/>
                </a:lnTo>
                <a:lnTo>
                  <a:pt x="992" y="399"/>
                </a:lnTo>
                <a:lnTo>
                  <a:pt x="1013" y="362"/>
                </a:lnTo>
                <a:lnTo>
                  <a:pt x="1048" y="331"/>
                </a:lnTo>
                <a:lnTo>
                  <a:pt x="948" y="261"/>
                </a:lnTo>
                <a:lnTo>
                  <a:pt x="944" y="192"/>
                </a:lnTo>
                <a:lnTo>
                  <a:pt x="990" y="100"/>
                </a:lnTo>
                <a:lnTo>
                  <a:pt x="924" y="67"/>
                </a:lnTo>
                <a:lnTo>
                  <a:pt x="896" y="19"/>
                </a:lnTo>
                <a:lnTo>
                  <a:pt x="847" y="0"/>
                </a:lnTo>
                <a:lnTo>
                  <a:pt x="152" y="113"/>
                </a:lnTo>
                <a:lnTo>
                  <a:pt x="117" y="67"/>
                </a:lnTo>
                <a:lnTo>
                  <a:pt x="0" y="14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8" name="Freeform 112"/>
          <p:cNvSpPr/>
          <p:nvPr/>
        </p:nvSpPr>
        <p:spPr>
          <a:xfrm>
            <a:off x="5934240" y="3143160"/>
            <a:ext cx="722160" cy="457200"/>
          </a:xfrm>
          <a:custGeom>
            <a:avLst/>
            <a:gdLst>
              <a:gd name="textAreaLeft" fmla="*/ 0 w 722160"/>
              <a:gd name="textAreaRight" fmla="*/ 722520 w 722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048" h="579">
                <a:moveTo>
                  <a:pt x="0" y="141"/>
                </a:moveTo>
                <a:lnTo>
                  <a:pt x="52" y="398"/>
                </a:lnTo>
                <a:lnTo>
                  <a:pt x="86" y="579"/>
                </a:lnTo>
                <a:lnTo>
                  <a:pt x="260" y="553"/>
                </a:lnTo>
                <a:lnTo>
                  <a:pt x="888" y="449"/>
                </a:lnTo>
                <a:lnTo>
                  <a:pt x="913" y="422"/>
                </a:lnTo>
                <a:lnTo>
                  <a:pt x="949" y="422"/>
                </a:lnTo>
                <a:lnTo>
                  <a:pt x="992" y="399"/>
                </a:lnTo>
                <a:lnTo>
                  <a:pt x="1013" y="362"/>
                </a:lnTo>
                <a:lnTo>
                  <a:pt x="1048" y="331"/>
                </a:lnTo>
                <a:lnTo>
                  <a:pt x="948" y="261"/>
                </a:lnTo>
                <a:lnTo>
                  <a:pt x="944" y="192"/>
                </a:lnTo>
                <a:lnTo>
                  <a:pt x="990" y="100"/>
                </a:lnTo>
                <a:lnTo>
                  <a:pt x="924" y="67"/>
                </a:lnTo>
                <a:lnTo>
                  <a:pt x="896" y="19"/>
                </a:lnTo>
                <a:lnTo>
                  <a:pt x="847" y="0"/>
                </a:lnTo>
                <a:lnTo>
                  <a:pt x="152" y="113"/>
                </a:lnTo>
                <a:lnTo>
                  <a:pt x="117" y="67"/>
                </a:lnTo>
                <a:lnTo>
                  <a:pt x="0" y="141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9" name="Freeform 113"/>
          <p:cNvSpPr/>
          <p:nvPr/>
        </p:nvSpPr>
        <p:spPr>
          <a:xfrm>
            <a:off x="6924600" y="3035160"/>
            <a:ext cx="95400" cy="117720"/>
          </a:xfrm>
          <a:custGeom>
            <a:avLst/>
            <a:gdLst>
              <a:gd name="textAreaLeft" fmla="*/ 0 w 95400"/>
              <a:gd name="textAreaRight" fmla="*/ 95760 w 9540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139" h="151">
                <a:moveTo>
                  <a:pt x="0" y="16"/>
                </a:moveTo>
                <a:lnTo>
                  <a:pt x="29" y="144"/>
                </a:lnTo>
                <a:lnTo>
                  <a:pt x="35" y="151"/>
                </a:lnTo>
                <a:lnTo>
                  <a:pt x="89" y="123"/>
                </a:lnTo>
                <a:lnTo>
                  <a:pt x="81" y="86"/>
                </a:lnTo>
                <a:lnTo>
                  <a:pt x="92" y="65"/>
                </a:lnTo>
                <a:lnTo>
                  <a:pt x="104" y="81"/>
                </a:lnTo>
                <a:lnTo>
                  <a:pt x="108" y="106"/>
                </a:lnTo>
                <a:lnTo>
                  <a:pt x="123" y="106"/>
                </a:lnTo>
                <a:lnTo>
                  <a:pt x="139" y="81"/>
                </a:lnTo>
                <a:lnTo>
                  <a:pt x="123" y="46"/>
                </a:lnTo>
                <a:lnTo>
                  <a:pt x="90" y="43"/>
                </a:lnTo>
                <a:lnTo>
                  <a:pt x="69" y="2"/>
                </a:lnTo>
                <a:lnTo>
                  <a:pt x="48" y="0"/>
                </a:lnTo>
                <a:lnTo>
                  <a:pt x="0" y="1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0" name="Freeform 114"/>
          <p:cNvSpPr/>
          <p:nvPr/>
        </p:nvSpPr>
        <p:spPr>
          <a:xfrm>
            <a:off x="5756400" y="4314960"/>
            <a:ext cx="630000" cy="473040"/>
          </a:xfrm>
          <a:custGeom>
            <a:avLst/>
            <a:gdLst>
              <a:gd name="textAreaLeft" fmla="*/ 0 w 630000"/>
              <a:gd name="textAreaRight" fmla="*/ 630360 w 6300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914" h="599">
                <a:moveTo>
                  <a:pt x="0" y="142"/>
                </a:moveTo>
                <a:lnTo>
                  <a:pt x="37" y="81"/>
                </a:lnTo>
                <a:lnTo>
                  <a:pt x="168" y="22"/>
                </a:lnTo>
                <a:lnTo>
                  <a:pt x="415" y="0"/>
                </a:lnTo>
                <a:lnTo>
                  <a:pt x="515" y="53"/>
                </a:lnTo>
                <a:lnTo>
                  <a:pt x="675" y="36"/>
                </a:lnTo>
                <a:lnTo>
                  <a:pt x="914" y="185"/>
                </a:lnTo>
                <a:lnTo>
                  <a:pt x="844" y="255"/>
                </a:lnTo>
                <a:lnTo>
                  <a:pt x="810" y="300"/>
                </a:lnTo>
                <a:lnTo>
                  <a:pt x="813" y="349"/>
                </a:lnTo>
                <a:lnTo>
                  <a:pt x="750" y="392"/>
                </a:lnTo>
                <a:lnTo>
                  <a:pt x="700" y="461"/>
                </a:lnTo>
                <a:lnTo>
                  <a:pt x="634" y="497"/>
                </a:lnTo>
                <a:lnTo>
                  <a:pt x="600" y="502"/>
                </a:lnTo>
                <a:lnTo>
                  <a:pt x="586" y="545"/>
                </a:lnTo>
                <a:lnTo>
                  <a:pt x="548" y="521"/>
                </a:lnTo>
                <a:lnTo>
                  <a:pt x="582" y="562"/>
                </a:lnTo>
                <a:lnTo>
                  <a:pt x="550" y="599"/>
                </a:lnTo>
                <a:lnTo>
                  <a:pt x="517" y="596"/>
                </a:lnTo>
                <a:lnTo>
                  <a:pt x="494" y="570"/>
                </a:lnTo>
                <a:lnTo>
                  <a:pt x="455" y="512"/>
                </a:lnTo>
                <a:lnTo>
                  <a:pt x="434" y="505"/>
                </a:lnTo>
                <a:lnTo>
                  <a:pt x="388" y="425"/>
                </a:lnTo>
                <a:lnTo>
                  <a:pt x="326" y="392"/>
                </a:lnTo>
                <a:lnTo>
                  <a:pt x="282" y="337"/>
                </a:lnTo>
                <a:lnTo>
                  <a:pt x="174" y="267"/>
                </a:lnTo>
                <a:lnTo>
                  <a:pt x="118" y="206"/>
                </a:lnTo>
                <a:lnTo>
                  <a:pt x="0" y="1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1" name="Freeform 115"/>
          <p:cNvSpPr/>
          <p:nvPr/>
        </p:nvSpPr>
        <p:spPr>
          <a:xfrm>
            <a:off x="5756400" y="4314960"/>
            <a:ext cx="630000" cy="473040"/>
          </a:xfrm>
          <a:custGeom>
            <a:avLst/>
            <a:gdLst>
              <a:gd name="textAreaLeft" fmla="*/ 0 w 630000"/>
              <a:gd name="textAreaRight" fmla="*/ 630360 w 6300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914" h="599">
                <a:moveTo>
                  <a:pt x="0" y="142"/>
                </a:moveTo>
                <a:lnTo>
                  <a:pt x="37" y="81"/>
                </a:lnTo>
                <a:lnTo>
                  <a:pt x="168" y="22"/>
                </a:lnTo>
                <a:lnTo>
                  <a:pt x="415" y="0"/>
                </a:lnTo>
                <a:lnTo>
                  <a:pt x="515" y="53"/>
                </a:lnTo>
                <a:lnTo>
                  <a:pt x="675" y="36"/>
                </a:lnTo>
                <a:lnTo>
                  <a:pt x="914" y="185"/>
                </a:lnTo>
                <a:lnTo>
                  <a:pt x="844" y="255"/>
                </a:lnTo>
                <a:lnTo>
                  <a:pt x="810" y="300"/>
                </a:lnTo>
                <a:lnTo>
                  <a:pt x="813" y="349"/>
                </a:lnTo>
                <a:lnTo>
                  <a:pt x="750" y="392"/>
                </a:lnTo>
                <a:lnTo>
                  <a:pt x="700" y="461"/>
                </a:lnTo>
                <a:lnTo>
                  <a:pt x="634" y="497"/>
                </a:lnTo>
                <a:lnTo>
                  <a:pt x="600" y="502"/>
                </a:lnTo>
                <a:lnTo>
                  <a:pt x="586" y="545"/>
                </a:lnTo>
                <a:lnTo>
                  <a:pt x="548" y="521"/>
                </a:lnTo>
                <a:lnTo>
                  <a:pt x="582" y="562"/>
                </a:lnTo>
                <a:lnTo>
                  <a:pt x="550" y="599"/>
                </a:lnTo>
                <a:lnTo>
                  <a:pt x="517" y="596"/>
                </a:lnTo>
                <a:lnTo>
                  <a:pt x="494" y="570"/>
                </a:lnTo>
                <a:lnTo>
                  <a:pt x="455" y="512"/>
                </a:lnTo>
                <a:lnTo>
                  <a:pt x="434" y="505"/>
                </a:lnTo>
                <a:lnTo>
                  <a:pt x="388" y="425"/>
                </a:lnTo>
                <a:lnTo>
                  <a:pt x="326" y="392"/>
                </a:lnTo>
                <a:lnTo>
                  <a:pt x="282" y="337"/>
                </a:lnTo>
                <a:lnTo>
                  <a:pt x="174" y="267"/>
                </a:lnTo>
                <a:lnTo>
                  <a:pt x="118" y="206"/>
                </a:lnTo>
                <a:lnTo>
                  <a:pt x="0" y="142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2" name="Freeform 116"/>
          <p:cNvSpPr/>
          <p:nvPr/>
        </p:nvSpPr>
        <p:spPr>
          <a:xfrm>
            <a:off x="3228840" y="2730600"/>
            <a:ext cx="873360" cy="581040"/>
          </a:xfrm>
          <a:custGeom>
            <a:avLst/>
            <a:gdLst>
              <a:gd name="textAreaLeft" fmla="*/ 0 w 873360"/>
              <a:gd name="textAreaRight" fmla="*/ 873720 w 8733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1266" h="731">
                <a:moveTo>
                  <a:pt x="0" y="573"/>
                </a:moveTo>
                <a:lnTo>
                  <a:pt x="42" y="181"/>
                </a:lnTo>
                <a:lnTo>
                  <a:pt x="61" y="0"/>
                </a:lnTo>
                <a:lnTo>
                  <a:pt x="624" y="34"/>
                </a:lnTo>
                <a:lnTo>
                  <a:pt x="1248" y="53"/>
                </a:lnTo>
                <a:lnTo>
                  <a:pt x="1206" y="119"/>
                </a:lnTo>
                <a:lnTo>
                  <a:pt x="1266" y="173"/>
                </a:lnTo>
                <a:lnTo>
                  <a:pt x="1264" y="530"/>
                </a:lnTo>
                <a:lnTo>
                  <a:pt x="1239" y="529"/>
                </a:lnTo>
                <a:lnTo>
                  <a:pt x="1241" y="575"/>
                </a:lnTo>
                <a:lnTo>
                  <a:pt x="1260" y="613"/>
                </a:lnTo>
                <a:lnTo>
                  <a:pt x="1248" y="647"/>
                </a:lnTo>
                <a:lnTo>
                  <a:pt x="1258" y="731"/>
                </a:lnTo>
                <a:lnTo>
                  <a:pt x="1231" y="724"/>
                </a:lnTo>
                <a:lnTo>
                  <a:pt x="1202" y="690"/>
                </a:lnTo>
                <a:lnTo>
                  <a:pt x="1138" y="667"/>
                </a:lnTo>
                <a:lnTo>
                  <a:pt x="1086" y="659"/>
                </a:lnTo>
                <a:lnTo>
                  <a:pt x="977" y="661"/>
                </a:lnTo>
                <a:lnTo>
                  <a:pt x="917" y="621"/>
                </a:lnTo>
                <a:lnTo>
                  <a:pt x="0" y="57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3" name="Freeform 117"/>
          <p:cNvSpPr/>
          <p:nvPr/>
        </p:nvSpPr>
        <p:spPr>
          <a:xfrm>
            <a:off x="3228840" y="2730600"/>
            <a:ext cx="873360" cy="581040"/>
          </a:xfrm>
          <a:custGeom>
            <a:avLst/>
            <a:gdLst>
              <a:gd name="textAreaLeft" fmla="*/ 0 w 873360"/>
              <a:gd name="textAreaRight" fmla="*/ 873720 w 8733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1266" h="731">
                <a:moveTo>
                  <a:pt x="0" y="573"/>
                </a:moveTo>
                <a:lnTo>
                  <a:pt x="42" y="181"/>
                </a:lnTo>
                <a:lnTo>
                  <a:pt x="61" y="0"/>
                </a:lnTo>
                <a:lnTo>
                  <a:pt x="624" y="34"/>
                </a:lnTo>
                <a:lnTo>
                  <a:pt x="1248" y="53"/>
                </a:lnTo>
                <a:lnTo>
                  <a:pt x="1206" y="119"/>
                </a:lnTo>
                <a:lnTo>
                  <a:pt x="1266" y="173"/>
                </a:lnTo>
                <a:lnTo>
                  <a:pt x="1264" y="530"/>
                </a:lnTo>
                <a:lnTo>
                  <a:pt x="1239" y="529"/>
                </a:lnTo>
                <a:lnTo>
                  <a:pt x="1241" y="575"/>
                </a:lnTo>
                <a:lnTo>
                  <a:pt x="1260" y="613"/>
                </a:lnTo>
                <a:lnTo>
                  <a:pt x="1248" y="647"/>
                </a:lnTo>
                <a:lnTo>
                  <a:pt x="1258" y="731"/>
                </a:lnTo>
                <a:lnTo>
                  <a:pt x="1231" y="724"/>
                </a:lnTo>
                <a:lnTo>
                  <a:pt x="1202" y="690"/>
                </a:lnTo>
                <a:lnTo>
                  <a:pt x="1138" y="667"/>
                </a:lnTo>
                <a:lnTo>
                  <a:pt x="1086" y="659"/>
                </a:lnTo>
                <a:lnTo>
                  <a:pt x="977" y="661"/>
                </a:lnTo>
                <a:lnTo>
                  <a:pt x="917" y="621"/>
                </a:lnTo>
                <a:lnTo>
                  <a:pt x="0" y="573"/>
                </a:lnTo>
              </a:path>
            </a:pathLst>
          </a:custGeom>
          <a:solidFill>
            <a:srgbClr val="c0c0c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4" name="Freeform 118"/>
          <p:cNvSpPr/>
          <p:nvPr/>
        </p:nvSpPr>
        <p:spPr>
          <a:xfrm>
            <a:off x="4873680" y="4103640"/>
            <a:ext cx="1057320" cy="35568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355680"/>
              <a:gd name="textAreaBottom" fmla="*/ 355680 h 355680"/>
            </a:gdLst>
            <a:ahLst/>
            <a:rect l="textAreaLeft" t="textAreaTop" r="textAreaRight" b="textAreaBottom"/>
            <a:pathLst>
              <a:path w="1536" h="450">
                <a:moveTo>
                  <a:pt x="0" y="450"/>
                </a:moveTo>
                <a:lnTo>
                  <a:pt x="23" y="370"/>
                </a:lnTo>
                <a:lnTo>
                  <a:pt x="16" y="363"/>
                </a:lnTo>
                <a:lnTo>
                  <a:pt x="60" y="332"/>
                </a:lnTo>
                <a:lnTo>
                  <a:pt x="102" y="260"/>
                </a:lnTo>
                <a:lnTo>
                  <a:pt x="89" y="246"/>
                </a:lnTo>
                <a:lnTo>
                  <a:pt x="108" y="210"/>
                </a:lnTo>
                <a:lnTo>
                  <a:pt x="112" y="174"/>
                </a:lnTo>
                <a:lnTo>
                  <a:pt x="141" y="144"/>
                </a:lnTo>
                <a:lnTo>
                  <a:pt x="382" y="130"/>
                </a:lnTo>
                <a:lnTo>
                  <a:pt x="382" y="96"/>
                </a:lnTo>
                <a:lnTo>
                  <a:pt x="455" y="99"/>
                </a:lnTo>
                <a:lnTo>
                  <a:pt x="1175" y="41"/>
                </a:lnTo>
                <a:lnTo>
                  <a:pt x="1536" y="0"/>
                </a:lnTo>
                <a:lnTo>
                  <a:pt x="1528" y="44"/>
                </a:lnTo>
                <a:lnTo>
                  <a:pt x="1503" y="58"/>
                </a:lnTo>
                <a:lnTo>
                  <a:pt x="1472" y="106"/>
                </a:lnTo>
                <a:lnTo>
                  <a:pt x="1447" y="102"/>
                </a:lnTo>
                <a:lnTo>
                  <a:pt x="1418" y="116"/>
                </a:lnTo>
                <a:lnTo>
                  <a:pt x="1399" y="140"/>
                </a:lnTo>
                <a:lnTo>
                  <a:pt x="1372" y="125"/>
                </a:lnTo>
                <a:lnTo>
                  <a:pt x="1332" y="154"/>
                </a:lnTo>
                <a:lnTo>
                  <a:pt x="1326" y="179"/>
                </a:lnTo>
                <a:lnTo>
                  <a:pt x="1154" y="269"/>
                </a:lnTo>
                <a:lnTo>
                  <a:pt x="1143" y="304"/>
                </a:lnTo>
                <a:lnTo>
                  <a:pt x="1096" y="322"/>
                </a:lnTo>
                <a:lnTo>
                  <a:pt x="1096" y="366"/>
                </a:lnTo>
                <a:lnTo>
                  <a:pt x="861" y="392"/>
                </a:lnTo>
                <a:lnTo>
                  <a:pt x="385" y="428"/>
                </a:lnTo>
                <a:lnTo>
                  <a:pt x="0" y="45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5" name="Freeform 119"/>
          <p:cNvSpPr/>
          <p:nvPr/>
        </p:nvSpPr>
        <p:spPr>
          <a:xfrm>
            <a:off x="4873680" y="4103640"/>
            <a:ext cx="1057320" cy="355680"/>
          </a:xfrm>
          <a:custGeom>
            <a:avLst/>
            <a:gdLst>
              <a:gd name="textAreaLeft" fmla="*/ 0 w 1057320"/>
              <a:gd name="textAreaRight" fmla="*/ 1057680 w 1057320"/>
              <a:gd name="textAreaTop" fmla="*/ 0 h 355680"/>
              <a:gd name="textAreaBottom" fmla="*/ 355680 h 355680"/>
            </a:gdLst>
            <a:ahLst/>
            <a:rect l="textAreaLeft" t="textAreaTop" r="textAreaRight" b="textAreaBottom"/>
            <a:pathLst>
              <a:path w="1536" h="450">
                <a:moveTo>
                  <a:pt x="0" y="450"/>
                </a:moveTo>
                <a:lnTo>
                  <a:pt x="23" y="370"/>
                </a:lnTo>
                <a:lnTo>
                  <a:pt x="16" y="363"/>
                </a:lnTo>
                <a:lnTo>
                  <a:pt x="60" y="332"/>
                </a:lnTo>
                <a:lnTo>
                  <a:pt x="102" y="260"/>
                </a:lnTo>
                <a:lnTo>
                  <a:pt x="89" y="246"/>
                </a:lnTo>
                <a:lnTo>
                  <a:pt x="108" y="210"/>
                </a:lnTo>
                <a:lnTo>
                  <a:pt x="112" y="174"/>
                </a:lnTo>
                <a:lnTo>
                  <a:pt x="141" y="144"/>
                </a:lnTo>
                <a:lnTo>
                  <a:pt x="382" y="130"/>
                </a:lnTo>
                <a:lnTo>
                  <a:pt x="382" y="96"/>
                </a:lnTo>
                <a:lnTo>
                  <a:pt x="455" y="99"/>
                </a:lnTo>
                <a:lnTo>
                  <a:pt x="1175" y="41"/>
                </a:lnTo>
                <a:lnTo>
                  <a:pt x="1536" y="0"/>
                </a:lnTo>
                <a:lnTo>
                  <a:pt x="1528" y="44"/>
                </a:lnTo>
                <a:lnTo>
                  <a:pt x="1503" y="58"/>
                </a:lnTo>
                <a:lnTo>
                  <a:pt x="1472" y="106"/>
                </a:lnTo>
                <a:lnTo>
                  <a:pt x="1447" y="102"/>
                </a:lnTo>
                <a:lnTo>
                  <a:pt x="1418" y="116"/>
                </a:lnTo>
                <a:lnTo>
                  <a:pt x="1399" y="140"/>
                </a:lnTo>
                <a:lnTo>
                  <a:pt x="1372" y="125"/>
                </a:lnTo>
                <a:lnTo>
                  <a:pt x="1332" y="154"/>
                </a:lnTo>
                <a:lnTo>
                  <a:pt x="1326" y="179"/>
                </a:lnTo>
                <a:lnTo>
                  <a:pt x="1154" y="269"/>
                </a:lnTo>
                <a:lnTo>
                  <a:pt x="1143" y="304"/>
                </a:lnTo>
                <a:lnTo>
                  <a:pt x="1096" y="322"/>
                </a:lnTo>
                <a:lnTo>
                  <a:pt x="1096" y="366"/>
                </a:lnTo>
                <a:lnTo>
                  <a:pt x="861" y="392"/>
                </a:lnTo>
                <a:lnTo>
                  <a:pt x="385" y="428"/>
                </a:lnTo>
                <a:lnTo>
                  <a:pt x="0" y="450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6" name="Freeform 120"/>
          <p:cNvSpPr/>
          <p:nvPr/>
        </p:nvSpPr>
        <p:spPr>
          <a:xfrm>
            <a:off x="2732040" y="4210200"/>
            <a:ext cx="1736640" cy="16621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518" h="2099">
                <a:moveTo>
                  <a:pt x="16" y="863"/>
                </a:moveTo>
                <a:lnTo>
                  <a:pt x="0" y="822"/>
                </a:lnTo>
                <a:lnTo>
                  <a:pt x="50" y="826"/>
                </a:lnTo>
                <a:lnTo>
                  <a:pt x="684" y="879"/>
                </a:lnTo>
                <a:lnTo>
                  <a:pt x="779" y="0"/>
                </a:lnTo>
                <a:lnTo>
                  <a:pt x="1322" y="29"/>
                </a:lnTo>
                <a:lnTo>
                  <a:pt x="1305" y="406"/>
                </a:lnTo>
                <a:lnTo>
                  <a:pt x="1357" y="445"/>
                </a:lnTo>
                <a:lnTo>
                  <a:pt x="1411" y="447"/>
                </a:lnTo>
                <a:lnTo>
                  <a:pt x="1422" y="432"/>
                </a:lnTo>
                <a:lnTo>
                  <a:pt x="1449" y="456"/>
                </a:lnTo>
                <a:lnTo>
                  <a:pt x="1447" y="480"/>
                </a:lnTo>
                <a:lnTo>
                  <a:pt x="1493" y="485"/>
                </a:lnTo>
                <a:lnTo>
                  <a:pt x="1532" y="498"/>
                </a:lnTo>
                <a:lnTo>
                  <a:pt x="1559" y="492"/>
                </a:lnTo>
                <a:lnTo>
                  <a:pt x="1590" y="510"/>
                </a:lnTo>
                <a:lnTo>
                  <a:pt x="1597" y="497"/>
                </a:lnTo>
                <a:lnTo>
                  <a:pt x="1649" y="497"/>
                </a:lnTo>
                <a:lnTo>
                  <a:pt x="1676" y="546"/>
                </a:lnTo>
                <a:lnTo>
                  <a:pt x="1696" y="562"/>
                </a:lnTo>
                <a:lnTo>
                  <a:pt x="1727" y="534"/>
                </a:lnTo>
                <a:lnTo>
                  <a:pt x="1782" y="572"/>
                </a:lnTo>
                <a:lnTo>
                  <a:pt x="1819" y="552"/>
                </a:lnTo>
                <a:lnTo>
                  <a:pt x="1831" y="589"/>
                </a:lnTo>
                <a:lnTo>
                  <a:pt x="1836" y="562"/>
                </a:lnTo>
                <a:lnTo>
                  <a:pt x="1871" y="540"/>
                </a:lnTo>
                <a:lnTo>
                  <a:pt x="1883" y="565"/>
                </a:lnTo>
                <a:lnTo>
                  <a:pt x="1933" y="557"/>
                </a:lnTo>
                <a:lnTo>
                  <a:pt x="1971" y="588"/>
                </a:lnTo>
                <a:lnTo>
                  <a:pt x="2069" y="558"/>
                </a:lnTo>
                <a:lnTo>
                  <a:pt x="2172" y="552"/>
                </a:lnTo>
                <a:lnTo>
                  <a:pt x="2202" y="538"/>
                </a:lnTo>
                <a:lnTo>
                  <a:pt x="2279" y="584"/>
                </a:lnTo>
                <a:lnTo>
                  <a:pt x="2328" y="598"/>
                </a:lnTo>
                <a:lnTo>
                  <a:pt x="2347" y="618"/>
                </a:lnTo>
                <a:lnTo>
                  <a:pt x="2412" y="617"/>
                </a:lnTo>
                <a:lnTo>
                  <a:pt x="2414" y="723"/>
                </a:lnTo>
                <a:lnTo>
                  <a:pt x="2426" y="928"/>
                </a:lnTo>
                <a:lnTo>
                  <a:pt x="2453" y="954"/>
                </a:lnTo>
                <a:lnTo>
                  <a:pt x="2463" y="1005"/>
                </a:lnTo>
                <a:lnTo>
                  <a:pt x="2518" y="1079"/>
                </a:lnTo>
                <a:lnTo>
                  <a:pt x="2515" y="1141"/>
                </a:lnTo>
                <a:lnTo>
                  <a:pt x="2484" y="1200"/>
                </a:lnTo>
                <a:lnTo>
                  <a:pt x="2486" y="1235"/>
                </a:lnTo>
                <a:lnTo>
                  <a:pt x="2495" y="1266"/>
                </a:lnTo>
                <a:lnTo>
                  <a:pt x="2491" y="1300"/>
                </a:lnTo>
                <a:lnTo>
                  <a:pt x="2472" y="1322"/>
                </a:lnTo>
                <a:lnTo>
                  <a:pt x="2449" y="1349"/>
                </a:lnTo>
                <a:lnTo>
                  <a:pt x="2464" y="1365"/>
                </a:lnTo>
                <a:lnTo>
                  <a:pt x="2364" y="1394"/>
                </a:lnTo>
                <a:lnTo>
                  <a:pt x="2283" y="1433"/>
                </a:lnTo>
                <a:lnTo>
                  <a:pt x="2332" y="1399"/>
                </a:lnTo>
                <a:lnTo>
                  <a:pt x="2279" y="1399"/>
                </a:lnTo>
                <a:lnTo>
                  <a:pt x="2295" y="1348"/>
                </a:lnTo>
                <a:lnTo>
                  <a:pt x="2251" y="1377"/>
                </a:lnTo>
                <a:lnTo>
                  <a:pt x="2231" y="1367"/>
                </a:lnTo>
                <a:lnTo>
                  <a:pt x="2233" y="1403"/>
                </a:lnTo>
                <a:lnTo>
                  <a:pt x="2249" y="1409"/>
                </a:lnTo>
                <a:lnTo>
                  <a:pt x="2253" y="1442"/>
                </a:lnTo>
                <a:lnTo>
                  <a:pt x="2224" y="1468"/>
                </a:lnTo>
                <a:lnTo>
                  <a:pt x="2202" y="1466"/>
                </a:lnTo>
                <a:lnTo>
                  <a:pt x="2199" y="1504"/>
                </a:lnTo>
                <a:lnTo>
                  <a:pt x="1965" y="1627"/>
                </a:lnTo>
                <a:lnTo>
                  <a:pt x="1967" y="1615"/>
                </a:lnTo>
                <a:lnTo>
                  <a:pt x="2075" y="1555"/>
                </a:lnTo>
                <a:lnTo>
                  <a:pt x="1992" y="1593"/>
                </a:lnTo>
                <a:lnTo>
                  <a:pt x="1998" y="1557"/>
                </a:lnTo>
                <a:lnTo>
                  <a:pt x="1975" y="1577"/>
                </a:lnTo>
                <a:lnTo>
                  <a:pt x="1952" y="1563"/>
                </a:lnTo>
                <a:lnTo>
                  <a:pt x="1940" y="1593"/>
                </a:lnTo>
                <a:lnTo>
                  <a:pt x="1904" y="1563"/>
                </a:lnTo>
                <a:lnTo>
                  <a:pt x="1908" y="1591"/>
                </a:lnTo>
                <a:lnTo>
                  <a:pt x="1952" y="1617"/>
                </a:lnTo>
                <a:lnTo>
                  <a:pt x="1900" y="1639"/>
                </a:lnTo>
                <a:lnTo>
                  <a:pt x="1879" y="1606"/>
                </a:lnTo>
                <a:lnTo>
                  <a:pt x="1861" y="1688"/>
                </a:lnTo>
                <a:lnTo>
                  <a:pt x="1840" y="1656"/>
                </a:lnTo>
                <a:lnTo>
                  <a:pt x="1794" y="1668"/>
                </a:lnTo>
                <a:lnTo>
                  <a:pt x="1786" y="1690"/>
                </a:lnTo>
                <a:lnTo>
                  <a:pt x="1806" y="1724"/>
                </a:lnTo>
                <a:lnTo>
                  <a:pt x="1725" y="1730"/>
                </a:lnTo>
                <a:lnTo>
                  <a:pt x="1753" y="1736"/>
                </a:lnTo>
                <a:lnTo>
                  <a:pt x="1755" y="1772"/>
                </a:lnTo>
                <a:lnTo>
                  <a:pt x="1775" y="1764"/>
                </a:lnTo>
                <a:lnTo>
                  <a:pt x="1765" y="1789"/>
                </a:lnTo>
                <a:lnTo>
                  <a:pt x="1727" y="1841"/>
                </a:lnTo>
                <a:lnTo>
                  <a:pt x="1730" y="1815"/>
                </a:lnTo>
                <a:lnTo>
                  <a:pt x="1705" y="1837"/>
                </a:lnTo>
                <a:lnTo>
                  <a:pt x="1673" y="1805"/>
                </a:lnTo>
                <a:lnTo>
                  <a:pt x="1678" y="1843"/>
                </a:lnTo>
                <a:lnTo>
                  <a:pt x="1742" y="1848"/>
                </a:lnTo>
                <a:lnTo>
                  <a:pt x="1715" y="1901"/>
                </a:lnTo>
                <a:lnTo>
                  <a:pt x="1738" y="2009"/>
                </a:lnTo>
                <a:lnTo>
                  <a:pt x="1794" y="2098"/>
                </a:lnTo>
                <a:lnTo>
                  <a:pt x="1723" y="2099"/>
                </a:lnTo>
                <a:lnTo>
                  <a:pt x="1651" y="2075"/>
                </a:lnTo>
                <a:lnTo>
                  <a:pt x="1590" y="2077"/>
                </a:lnTo>
                <a:lnTo>
                  <a:pt x="1503" y="2034"/>
                </a:lnTo>
                <a:lnTo>
                  <a:pt x="1401" y="2000"/>
                </a:lnTo>
                <a:lnTo>
                  <a:pt x="1387" y="1968"/>
                </a:lnTo>
                <a:lnTo>
                  <a:pt x="1364" y="1918"/>
                </a:lnTo>
                <a:lnTo>
                  <a:pt x="1332" y="1879"/>
                </a:lnTo>
                <a:lnTo>
                  <a:pt x="1337" y="1841"/>
                </a:lnTo>
                <a:lnTo>
                  <a:pt x="1318" y="1825"/>
                </a:lnTo>
                <a:lnTo>
                  <a:pt x="1318" y="1772"/>
                </a:lnTo>
                <a:lnTo>
                  <a:pt x="1258" y="1730"/>
                </a:lnTo>
                <a:lnTo>
                  <a:pt x="1193" y="1647"/>
                </a:lnTo>
                <a:lnTo>
                  <a:pt x="1085" y="1438"/>
                </a:lnTo>
                <a:lnTo>
                  <a:pt x="1002" y="1384"/>
                </a:lnTo>
                <a:lnTo>
                  <a:pt x="977" y="1336"/>
                </a:lnTo>
                <a:lnTo>
                  <a:pt x="906" y="1329"/>
                </a:lnTo>
                <a:lnTo>
                  <a:pt x="846" y="1322"/>
                </a:lnTo>
                <a:lnTo>
                  <a:pt x="794" y="1300"/>
                </a:lnTo>
                <a:lnTo>
                  <a:pt x="779" y="1322"/>
                </a:lnTo>
                <a:lnTo>
                  <a:pt x="723" y="1322"/>
                </a:lnTo>
                <a:lnTo>
                  <a:pt x="673" y="1421"/>
                </a:lnTo>
                <a:lnTo>
                  <a:pt x="619" y="1464"/>
                </a:lnTo>
                <a:lnTo>
                  <a:pt x="588" y="1464"/>
                </a:lnTo>
                <a:lnTo>
                  <a:pt x="491" y="1399"/>
                </a:lnTo>
                <a:lnTo>
                  <a:pt x="451" y="1391"/>
                </a:lnTo>
                <a:lnTo>
                  <a:pt x="357" y="1317"/>
                </a:lnTo>
                <a:lnTo>
                  <a:pt x="334" y="1259"/>
                </a:lnTo>
                <a:lnTo>
                  <a:pt x="334" y="1200"/>
                </a:lnTo>
                <a:lnTo>
                  <a:pt x="289" y="1117"/>
                </a:lnTo>
                <a:lnTo>
                  <a:pt x="214" y="1065"/>
                </a:lnTo>
                <a:lnTo>
                  <a:pt x="108" y="951"/>
                </a:lnTo>
                <a:lnTo>
                  <a:pt x="71" y="933"/>
                </a:lnTo>
                <a:lnTo>
                  <a:pt x="44" y="873"/>
                </a:lnTo>
                <a:lnTo>
                  <a:pt x="16" y="8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7" name="Freeform 121"/>
          <p:cNvSpPr/>
          <p:nvPr/>
        </p:nvSpPr>
        <p:spPr>
          <a:xfrm>
            <a:off x="2732040" y="4210200"/>
            <a:ext cx="1736640" cy="16621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2518" h="2099">
                <a:moveTo>
                  <a:pt x="16" y="863"/>
                </a:moveTo>
                <a:lnTo>
                  <a:pt x="0" y="822"/>
                </a:lnTo>
                <a:lnTo>
                  <a:pt x="50" y="826"/>
                </a:lnTo>
                <a:lnTo>
                  <a:pt x="684" y="879"/>
                </a:lnTo>
                <a:lnTo>
                  <a:pt x="779" y="0"/>
                </a:lnTo>
                <a:lnTo>
                  <a:pt x="1322" y="29"/>
                </a:lnTo>
                <a:lnTo>
                  <a:pt x="1305" y="406"/>
                </a:lnTo>
                <a:lnTo>
                  <a:pt x="1357" y="445"/>
                </a:lnTo>
                <a:lnTo>
                  <a:pt x="1411" y="447"/>
                </a:lnTo>
                <a:lnTo>
                  <a:pt x="1422" y="432"/>
                </a:lnTo>
                <a:lnTo>
                  <a:pt x="1449" y="456"/>
                </a:lnTo>
                <a:lnTo>
                  <a:pt x="1447" y="480"/>
                </a:lnTo>
                <a:lnTo>
                  <a:pt x="1493" y="485"/>
                </a:lnTo>
                <a:lnTo>
                  <a:pt x="1532" y="498"/>
                </a:lnTo>
                <a:lnTo>
                  <a:pt x="1559" y="492"/>
                </a:lnTo>
                <a:lnTo>
                  <a:pt x="1590" y="510"/>
                </a:lnTo>
                <a:lnTo>
                  <a:pt x="1597" y="497"/>
                </a:lnTo>
                <a:lnTo>
                  <a:pt x="1649" y="497"/>
                </a:lnTo>
                <a:lnTo>
                  <a:pt x="1676" y="546"/>
                </a:lnTo>
                <a:lnTo>
                  <a:pt x="1696" y="562"/>
                </a:lnTo>
                <a:lnTo>
                  <a:pt x="1727" y="534"/>
                </a:lnTo>
                <a:lnTo>
                  <a:pt x="1782" y="572"/>
                </a:lnTo>
                <a:lnTo>
                  <a:pt x="1819" y="552"/>
                </a:lnTo>
                <a:lnTo>
                  <a:pt x="1831" y="589"/>
                </a:lnTo>
                <a:lnTo>
                  <a:pt x="1836" y="562"/>
                </a:lnTo>
                <a:lnTo>
                  <a:pt x="1871" y="540"/>
                </a:lnTo>
                <a:lnTo>
                  <a:pt x="1883" y="565"/>
                </a:lnTo>
                <a:lnTo>
                  <a:pt x="1933" y="557"/>
                </a:lnTo>
                <a:lnTo>
                  <a:pt x="1971" y="588"/>
                </a:lnTo>
                <a:lnTo>
                  <a:pt x="2069" y="558"/>
                </a:lnTo>
                <a:lnTo>
                  <a:pt x="2172" y="552"/>
                </a:lnTo>
                <a:lnTo>
                  <a:pt x="2202" y="538"/>
                </a:lnTo>
                <a:lnTo>
                  <a:pt x="2279" y="584"/>
                </a:lnTo>
                <a:lnTo>
                  <a:pt x="2328" y="598"/>
                </a:lnTo>
                <a:lnTo>
                  <a:pt x="2347" y="618"/>
                </a:lnTo>
                <a:lnTo>
                  <a:pt x="2412" y="617"/>
                </a:lnTo>
                <a:lnTo>
                  <a:pt x="2414" y="723"/>
                </a:lnTo>
                <a:lnTo>
                  <a:pt x="2426" y="928"/>
                </a:lnTo>
                <a:lnTo>
                  <a:pt x="2453" y="954"/>
                </a:lnTo>
                <a:lnTo>
                  <a:pt x="2463" y="1005"/>
                </a:lnTo>
                <a:lnTo>
                  <a:pt x="2518" y="1079"/>
                </a:lnTo>
                <a:lnTo>
                  <a:pt x="2515" y="1141"/>
                </a:lnTo>
                <a:lnTo>
                  <a:pt x="2484" y="1200"/>
                </a:lnTo>
                <a:lnTo>
                  <a:pt x="2486" y="1235"/>
                </a:lnTo>
                <a:lnTo>
                  <a:pt x="2495" y="1266"/>
                </a:lnTo>
                <a:lnTo>
                  <a:pt x="2491" y="1300"/>
                </a:lnTo>
                <a:lnTo>
                  <a:pt x="2472" y="1322"/>
                </a:lnTo>
                <a:lnTo>
                  <a:pt x="2449" y="1349"/>
                </a:lnTo>
                <a:lnTo>
                  <a:pt x="2464" y="1365"/>
                </a:lnTo>
                <a:lnTo>
                  <a:pt x="2364" y="1394"/>
                </a:lnTo>
                <a:lnTo>
                  <a:pt x="2283" y="1433"/>
                </a:lnTo>
                <a:lnTo>
                  <a:pt x="2332" y="1399"/>
                </a:lnTo>
                <a:lnTo>
                  <a:pt x="2279" y="1399"/>
                </a:lnTo>
                <a:lnTo>
                  <a:pt x="2295" y="1348"/>
                </a:lnTo>
                <a:lnTo>
                  <a:pt x="2251" y="1377"/>
                </a:lnTo>
                <a:lnTo>
                  <a:pt x="2231" y="1367"/>
                </a:lnTo>
                <a:lnTo>
                  <a:pt x="2233" y="1403"/>
                </a:lnTo>
                <a:lnTo>
                  <a:pt x="2249" y="1409"/>
                </a:lnTo>
                <a:lnTo>
                  <a:pt x="2253" y="1442"/>
                </a:lnTo>
                <a:lnTo>
                  <a:pt x="2224" y="1468"/>
                </a:lnTo>
                <a:lnTo>
                  <a:pt x="2202" y="1466"/>
                </a:lnTo>
                <a:lnTo>
                  <a:pt x="2199" y="1504"/>
                </a:lnTo>
                <a:lnTo>
                  <a:pt x="1965" y="1627"/>
                </a:lnTo>
                <a:lnTo>
                  <a:pt x="1967" y="1615"/>
                </a:lnTo>
                <a:lnTo>
                  <a:pt x="2075" y="1555"/>
                </a:lnTo>
                <a:lnTo>
                  <a:pt x="1992" y="1593"/>
                </a:lnTo>
                <a:lnTo>
                  <a:pt x="1998" y="1557"/>
                </a:lnTo>
                <a:lnTo>
                  <a:pt x="1975" y="1577"/>
                </a:lnTo>
                <a:lnTo>
                  <a:pt x="1952" y="1563"/>
                </a:lnTo>
                <a:lnTo>
                  <a:pt x="1940" y="1593"/>
                </a:lnTo>
                <a:lnTo>
                  <a:pt x="1904" y="1563"/>
                </a:lnTo>
                <a:lnTo>
                  <a:pt x="1908" y="1591"/>
                </a:lnTo>
                <a:lnTo>
                  <a:pt x="1952" y="1617"/>
                </a:lnTo>
                <a:lnTo>
                  <a:pt x="1900" y="1639"/>
                </a:lnTo>
                <a:lnTo>
                  <a:pt x="1879" y="1606"/>
                </a:lnTo>
                <a:lnTo>
                  <a:pt x="1861" y="1688"/>
                </a:lnTo>
                <a:lnTo>
                  <a:pt x="1840" y="1656"/>
                </a:lnTo>
                <a:lnTo>
                  <a:pt x="1794" y="1668"/>
                </a:lnTo>
                <a:lnTo>
                  <a:pt x="1786" y="1690"/>
                </a:lnTo>
                <a:lnTo>
                  <a:pt x="1806" y="1724"/>
                </a:lnTo>
                <a:lnTo>
                  <a:pt x="1725" y="1730"/>
                </a:lnTo>
                <a:lnTo>
                  <a:pt x="1753" y="1736"/>
                </a:lnTo>
                <a:lnTo>
                  <a:pt x="1755" y="1772"/>
                </a:lnTo>
                <a:lnTo>
                  <a:pt x="1775" y="1764"/>
                </a:lnTo>
                <a:lnTo>
                  <a:pt x="1765" y="1789"/>
                </a:lnTo>
                <a:lnTo>
                  <a:pt x="1727" y="1841"/>
                </a:lnTo>
                <a:lnTo>
                  <a:pt x="1730" y="1815"/>
                </a:lnTo>
                <a:lnTo>
                  <a:pt x="1705" y="1837"/>
                </a:lnTo>
                <a:lnTo>
                  <a:pt x="1673" y="1805"/>
                </a:lnTo>
                <a:lnTo>
                  <a:pt x="1678" y="1843"/>
                </a:lnTo>
                <a:lnTo>
                  <a:pt x="1742" y="1848"/>
                </a:lnTo>
                <a:lnTo>
                  <a:pt x="1715" y="1901"/>
                </a:lnTo>
                <a:lnTo>
                  <a:pt x="1738" y="2009"/>
                </a:lnTo>
                <a:lnTo>
                  <a:pt x="1794" y="2098"/>
                </a:lnTo>
                <a:lnTo>
                  <a:pt x="1723" y="2099"/>
                </a:lnTo>
                <a:lnTo>
                  <a:pt x="1651" y="2075"/>
                </a:lnTo>
                <a:lnTo>
                  <a:pt x="1590" y="2077"/>
                </a:lnTo>
                <a:lnTo>
                  <a:pt x="1503" y="2034"/>
                </a:lnTo>
                <a:lnTo>
                  <a:pt x="1401" y="2000"/>
                </a:lnTo>
                <a:lnTo>
                  <a:pt x="1387" y="1968"/>
                </a:lnTo>
                <a:lnTo>
                  <a:pt x="1364" y="1918"/>
                </a:lnTo>
                <a:lnTo>
                  <a:pt x="1332" y="1879"/>
                </a:lnTo>
                <a:lnTo>
                  <a:pt x="1337" y="1841"/>
                </a:lnTo>
                <a:lnTo>
                  <a:pt x="1318" y="1825"/>
                </a:lnTo>
                <a:lnTo>
                  <a:pt x="1318" y="1772"/>
                </a:lnTo>
                <a:lnTo>
                  <a:pt x="1258" y="1730"/>
                </a:lnTo>
                <a:lnTo>
                  <a:pt x="1193" y="1647"/>
                </a:lnTo>
                <a:lnTo>
                  <a:pt x="1085" y="1438"/>
                </a:lnTo>
                <a:lnTo>
                  <a:pt x="1002" y="1384"/>
                </a:lnTo>
                <a:lnTo>
                  <a:pt x="977" y="1336"/>
                </a:lnTo>
                <a:lnTo>
                  <a:pt x="906" y="1329"/>
                </a:lnTo>
                <a:lnTo>
                  <a:pt x="846" y="1322"/>
                </a:lnTo>
                <a:lnTo>
                  <a:pt x="794" y="1300"/>
                </a:lnTo>
                <a:lnTo>
                  <a:pt x="779" y="1322"/>
                </a:lnTo>
                <a:lnTo>
                  <a:pt x="723" y="1322"/>
                </a:lnTo>
                <a:lnTo>
                  <a:pt x="673" y="1421"/>
                </a:lnTo>
                <a:lnTo>
                  <a:pt x="619" y="1464"/>
                </a:lnTo>
                <a:lnTo>
                  <a:pt x="588" y="1464"/>
                </a:lnTo>
                <a:lnTo>
                  <a:pt x="491" y="1399"/>
                </a:lnTo>
                <a:lnTo>
                  <a:pt x="451" y="1391"/>
                </a:lnTo>
                <a:lnTo>
                  <a:pt x="357" y="1317"/>
                </a:lnTo>
                <a:lnTo>
                  <a:pt x="334" y="1259"/>
                </a:lnTo>
                <a:lnTo>
                  <a:pt x="334" y="1200"/>
                </a:lnTo>
                <a:lnTo>
                  <a:pt x="289" y="1117"/>
                </a:lnTo>
                <a:lnTo>
                  <a:pt x="214" y="1065"/>
                </a:lnTo>
                <a:lnTo>
                  <a:pt x="108" y="951"/>
                </a:lnTo>
                <a:lnTo>
                  <a:pt x="71" y="933"/>
                </a:lnTo>
                <a:lnTo>
                  <a:pt x="44" y="873"/>
                </a:lnTo>
                <a:lnTo>
                  <a:pt x="16" y="863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8" name="Freeform 122"/>
          <p:cNvSpPr/>
          <p:nvPr/>
        </p:nvSpPr>
        <p:spPr>
          <a:xfrm>
            <a:off x="1916280" y="3179880"/>
            <a:ext cx="701640" cy="868320"/>
          </a:xfrm>
          <a:custGeom>
            <a:avLst/>
            <a:gdLst>
              <a:gd name="textAreaLeft" fmla="*/ 0 w 701640"/>
              <a:gd name="textAreaRight" fmla="*/ 702000 w 7016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017" h="1095">
                <a:moveTo>
                  <a:pt x="0" y="965"/>
                </a:moveTo>
                <a:lnTo>
                  <a:pt x="222" y="0"/>
                </a:lnTo>
                <a:lnTo>
                  <a:pt x="717" y="75"/>
                </a:lnTo>
                <a:lnTo>
                  <a:pt x="678" y="272"/>
                </a:lnTo>
                <a:lnTo>
                  <a:pt x="1017" y="315"/>
                </a:lnTo>
                <a:lnTo>
                  <a:pt x="888" y="1095"/>
                </a:lnTo>
                <a:lnTo>
                  <a:pt x="0" y="96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9" name="Freeform 123"/>
          <p:cNvSpPr/>
          <p:nvPr/>
        </p:nvSpPr>
        <p:spPr>
          <a:xfrm>
            <a:off x="1916280" y="3179880"/>
            <a:ext cx="701640" cy="868320"/>
          </a:xfrm>
          <a:custGeom>
            <a:avLst/>
            <a:gdLst>
              <a:gd name="textAreaLeft" fmla="*/ 0 w 701640"/>
              <a:gd name="textAreaRight" fmla="*/ 702000 w 7016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017" h="1095">
                <a:moveTo>
                  <a:pt x="0" y="965"/>
                </a:moveTo>
                <a:lnTo>
                  <a:pt x="222" y="0"/>
                </a:lnTo>
                <a:lnTo>
                  <a:pt x="717" y="75"/>
                </a:lnTo>
                <a:lnTo>
                  <a:pt x="678" y="272"/>
                </a:lnTo>
                <a:lnTo>
                  <a:pt x="1017" y="315"/>
                </a:lnTo>
                <a:lnTo>
                  <a:pt x="888" y="1095"/>
                </a:lnTo>
                <a:lnTo>
                  <a:pt x="0" y="965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0" name="Freeform 124"/>
          <p:cNvSpPr/>
          <p:nvPr/>
        </p:nvSpPr>
        <p:spPr>
          <a:xfrm>
            <a:off x="6640560" y="2585880"/>
            <a:ext cx="199800" cy="387360"/>
          </a:xfrm>
          <a:custGeom>
            <a:avLst/>
            <a:gdLst>
              <a:gd name="textAreaLeft" fmla="*/ 0 w 199800"/>
              <a:gd name="textAreaRight" fmla="*/ 200160 w 1998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89" h="492">
                <a:moveTo>
                  <a:pt x="0" y="60"/>
                </a:moveTo>
                <a:lnTo>
                  <a:pt x="46" y="201"/>
                </a:lnTo>
                <a:lnTo>
                  <a:pt x="55" y="293"/>
                </a:lnTo>
                <a:lnTo>
                  <a:pt x="104" y="382"/>
                </a:lnTo>
                <a:lnTo>
                  <a:pt x="131" y="492"/>
                </a:lnTo>
                <a:lnTo>
                  <a:pt x="260" y="468"/>
                </a:lnTo>
                <a:lnTo>
                  <a:pt x="235" y="298"/>
                </a:lnTo>
                <a:lnTo>
                  <a:pt x="250" y="180"/>
                </a:lnTo>
                <a:lnTo>
                  <a:pt x="285" y="125"/>
                </a:lnTo>
                <a:lnTo>
                  <a:pt x="289" y="0"/>
                </a:lnTo>
                <a:lnTo>
                  <a:pt x="0" y="6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1" name="Freeform 125"/>
          <p:cNvSpPr/>
          <p:nvPr/>
        </p:nvSpPr>
        <p:spPr>
          <a:xfrm>
            <a:off x="6640560" y="2585880"/>
            <a:ext cx="199800" cy="387360"/>
          </a:xfrm>
          <a:custGeom>
            <a:avLst/>
            <a:gdLst>
              <a:gd name="textAreaLeft" fmla="*/ 0 w 199800"/>
              <a:gd name="textAreaRight" fmla="*/ 200160 w 1998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89" h="492">
                <a:moveTo>
                  <a:pt x="0" y="60"/>
                </a:moveTo>
                <a:lnTo>
                  <a:pt x="46" y="201"/>
                </a:lnTo>
                <a:lnTo>
                  <a:pt x="55" y="293"/>
                </a:lnTo>
                <a:lnTo>
                  <a:pt x="104" y="382"/>
                </a:lnTo>
                <a:lnTo>
                  <a:pt x="131" y="492"/>
                </a:lnTo>
                <a:lnTo>
                  <a:pt x="260" y="468"/>
                </a:lnTo>
                <a:lnTo>
                  <a:pt x="235" y="298"/>
                </a:lnTo>
                <a:lnTo>
                  <a:pt x="250" y="180"/>
                </a:lnTo>
                <a:lnTo>
                  <a:pt x="285" y="125"/>
                </a:lnTo>
                <a:lnTo>
                  <a:pt x="289" y="0"/>
                </a:lnTo>
                <a:lnTo>
                  <a:pt x="0" y="60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2" name="Freeform 126"/>
          <p:cNvSpPr/>
          <p:nvPr/>
        </p:nvSpPr>
        <p:spPr>
          <a:xfrm>
            <a:off x="5681520" y="3597120"/>
            <a:ext cx="962280" cy="538200"/>
          </a:xfrm>
          <a:custGeom>
            <a:avLst/>
            <a:gdLst>
              <a:gd name="textAreaLeft" fmla="*/ 0 w 962280"/>
              <a:gd name="textAreaRight" fmla="*/ 962640 w 9622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395" h="678">
                <a:moveTo>
                  <a:pt x="0" y="678"/>
                </a:moveTo>
                <a:lnTo>
                  <a:pt x="131" y="604"/>
                </a:lnTo>
                <a:lnTo>
                  <a:pt x="131" y="589"/>
                </a:lnTo>
                <a:lnTo>
                  <a:pt x="178" y="539"/>
                </a:lnTo>
                <a:lnTo>
                  <a:pt x="224" y="512"/>
                </a:lnTo>
                <a:lnTo>
                  <a:pt x="272" y="462"/>
                </a:lnTo>
                <a:lnTo>
                  <a:pt x="322" y="512"/>
                </a:lnTo>
                <a:lnTo>
                  <a:pt x="386" y="486"/>
                </a:lnTo>
                <a:lnTo>
                  <a:pt x="413" y="503"/>
                </a:lnTo>
                <a:lnTo>
                  <a:pt x="451" y="486"/>
                </a:lnTo>
                <a:lnTo>
                  <a:pt x="474" y="459"/>
                </a:lnTo>
                <a:lnTo>
                  <a:pt x="544" y="447"/>
                </a:lnTo>
                <a:lnTo>
                  <a:pt x="584" y="406"/>
                </a:lnTo>
                <a:lnTo>
                  <a:pt x="561" y="395"/>
                </a:lnTo>
                <a:lnTo>
                  <a:pt x="627" y="265"/>
                </a:lnTo>
                <a:lnTo>
                  <a:pt x="642" y="200"/>
                </a:lnTo>
                <a:lnTo>
                  <a:pt x="706" y="227"/>
                </a:lnTo>
                <a:lnTo>
                  <a:pt x="740" y="150"/>
                </a:lnTo>
                <a:lnTo>
                  <a:pt x="771" y="147"/>
                </a:lnTo>
                <a:lnTo>
                  <a:pt x="817" y="77"/>
                </a:lnTo>
                <a:lnTo>
                  <a:pt x="833" y="0"/>
                </a:lnTo>
                <a:lnTo>
                  <a:pt x="931" y="46"/>
                </a:lnTo>
                <a:lnTo>
                  <a:pt x="946" y="7"/>
                </a:lnTo>
                <a:lnTo>
                  <a:pt x="993" y="17"/>
                </a:lnTo>
                <a:lnTo>
                  <a:pt x="1020" y="49"/>
                </a:lnTo>
                <a:lnTo>
                  <a:pt x="1062" y="65"/>
                </a:lnTo>
                <a:lnTo>
                  <a:pt x="1083" y="90"/>
                </a:lnTo>
                <a:lnTo>
                  <a:pt x="1079" y="111"/>
                </a:lnTo>
                <a:lnTo>
                  <a:pt x="1051" y="156"/>
                </a:lnTo>
                <a:lnTo>
                  <a:pt x="1062" y="185"/>
                </a:lnTo>
                <a:lnTo>
                  <a:pt x="1099" y="171"/>
                </a:lnTo>
                <a:lnTo>
                  <a:pt x="1112" y="192"/>
                </a:lnTo>
                <a:lnTo>
                  <a:pt x="1124" y="205"/>
                </a:lnTo>
                <a:lnTo>
                  <a:pt x="1185" y="205"/>
                </a:lnTo>
                <a:lnTo>
                  <a:pt x="1205" y="226"/>
                </a:lnTo>
                <a:lnTo>
                  <a:pt x="1262" y="239"/>
                </a:lnTo>
                <a:lnTo>
                  <a:pt x="1249" y="255"/>
                </a:lnTo>
                <a:lnTo>
                  <a:pt x="1253" y="282"/>
                </a:lnTo>
                <a:lnTo>
                  <a:pt x="1257" y="296"/>
                </a:lnTo>
                <a:lnTo>
                  <a:pt x="1235" y="291"/>
                </a:lnTo>
                <a:lnTo>
                  <a:pt x="1195" y="272"/>
                </a:lnTo>
                <a:lnTo>
                  <a:pt x="1133" y="236"/>
                </a:lnTo>
                <a:lnTo>
                  <a:pt x="1222" y="306"/>
                </a:lnTo>
                <a:lnTo>
                  <a:pt x="1266" y="306"/>
                </a:lnTo>
                <a:lnTo>
                  <a:pt x="1243" y="318"/>
                </a:lnTo>
                <a:lnTo>
                  <a:pt x="1286" y="337"/>
                </a:lnTo>
                <a:lnTo>
                  <a:pt x="1286" y="352"/>
                </a:lnTo>
                <a:lnTo>
                  <a:pt x="1268" y="340"/>
                </a:lnTo>
                <a:lnTo>
                  <a:pt x="1251" y="342"/>
                </a:lnTo>
                <a:lnTo>
                  <a:pt x="1255" y="354"/>
                </a:lnTo>
                <a:lnTo>
                  <a:pt x="1268" y="366"/>
                </a:lnTo>
                <a:lnTo>
                  <a:pt x="1251" y="373"/>
                </a:lnTo>
                <a:lnTo>
                  <a:pt x="1203" y="342"/>
                </a:lnTo>
                <a:lnTo>
                  <a:pt x="1183" y="327"/>
                </a:lnTo>
                <a:lnTo>
                  <a:pt x="1195" y="347"/>
                </a:lnTo>
                <a:lnTo>
                  <a:pt x="1243" y="378"/>
                </a:lnTo>
                <a:lnTo>
                  <a:pt x="1262" y="380"/>
                </a:lnTo>
                <a:lnTo>
                  <a:pt x="1284" y="387"/>
                </a:lnTo>
                <a:lnTo>
                  <a:pt x="1282" y="397"/>
                </a:lnTo>
                <a:lnTo>
                  <a:pt x="1293" y="397"/>
                </a:lnTo>
                <a:lnTo>
                  <a:pt x="1297" y="407"/>
                </a:lnTo>
                <a:lnTo>
                  <a:pt x="1278" y="421"/>
                </a:lnTo>
                <a:lnTo>
                  <a:pt x="1243" y="407"/>
                </a:lnTo>
                <a:lnTo>
                  <a:pt x="1232" y="392"/>
                </a:lnTo>
                <a:lnTo>
                  <a:pt x="1185" y="387"/>
                </a:lnTo>
                <a:lnTo>
                  <a:pt x="1178" y="375"/>
                </a:lnTo>
                <a:lnTo>
                  <a:pt x="1160" y="390"/>
                </a:lnTo>
                <a:lnTo>
                  <a:pt x="1224" y="404"/>
                </a:lnTo>
                <a:lnTo>
                  <a:pt x="1228" y="418"/>
                </a:lnTo>
                <a:lnTo>
                  <a:pt x="1278" y="438"/>
                </a:lnTo>
                <a:lnTo>
                  <a:pt x="1297" y="438"/>
                </a:lnTo>
                <a:lnTo>
                  <a:pt x="1301" y="421"/>
                </a:lnTo>
                <a:lnTo>
                  <a:pt x="1318" y="426"/>
                </a:lnTo>
                <a:lnTo>
                  <a:pt x="1355" y="424"/>
                </a:lnTo>
                <a:lnTo>
                  <a:pt x="1395" y="486"/>
                </a:lnTo>
                <a:lnTo>
                  <a:pt x="1368" y="476"/>
                </a:lnTo>
                <a:lnTo>
                  <a:pt x="1361" y="496"/>
                </a:lnTo>
                <a:lnTo>
                  <a:pt x="812" y="585"/>
                </a:lnTo>
                <a:lnTo>
                  <a:pt x="361" y="637"/>
                </a:lnTo>
                <a:lnTo>
                  <a:pt x="0" y="67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3" name="Freeform 127"/>
          <p:cNvSpPr/>
          <p:nvPr/>
        </p:nvSpPr>
        <p:spPr>
          <a:xfrm>
            <a:off x="5681520" y="3597120"/>
            <a:ext cx="962280" cy="538200"/>
          </a:xfrm>
          <a:custGeom>
            <a:avLst/>
            <a:gdLst>
              <a:gd name="textAreaLeft" fmla="*/ 0 w 962280"/>
              <a:gd name="textAreaRight" fmla="*/ 962640 w 9622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395" h="678">
                <a:moveTo>
                  <a:pt x="0" y="678"/>
                </a:moveTo>
                <a:lnTo>
                  <a:pt x="131" y="604"/>
                </a:lnTo>
                <a:lnTo>
                  <a:pt x="131" y="589"/>
                </a:lnTo>
                <a:lnTo>
                  <a:pt x="178" y="539"/>
                </a:lnTo>
                <a:lnTo>
                  <a:pt x="224" y="512"/>
                </a:lnTo>
                <a:lnTo>
                  <a:pt x="272" y="462"/>
                </a:lnTo>
                <a:lnTo>
                  <a:pt x="322" y="512"/>
                </a:lnTo>
                <a:lnTo>
                  <a:pt x="386" y="486"/>
                </a:lnTo>
                <a:lnTo>
                  <a:pt x="413" y="503"/>
                </a:lnTo>
                <a:lnTo>
                  <a:pt x="451" y="486"/>
                </a:lnTo>
                <a:lnTo>
                  <a:pt x="474" y="459"/>
                </a:lnTo>
                <a:lnTo>
                  <a:pt x="544" y="447"/>
                </a:lnTo>
                <a:lnTo>
                  <a:pt x="584" y="406"/>
                </a:lnTo>
                <a:lnTo>
                  <a:pt x="561" y="395"/>
                </a:lnTo>
                <a:lnTo>
                  <a:pt x="627" y="265"/>
                </a:lnTo>
                <a:lnTo>
                  <a:pt x="642" y="200"/>
                </a:lnTo>
                <a:lnTo>
                  <a:pt x="706" y="227"/>
                </a:lnTo>
                <a:lnTo>
                  <a:pt x="740" y="150"/>
                </a:lnTo>
                <a:lnTo>
                  <a:pt x="771" y="147"/>
                </a:lnTo>
                <a:lnTo>
                  <a:pt x="817" y="77"/>
                </a:lnTo>
                <a:lnTo>
                  <a:pt x="833" y="0"/>
                </a:lnTo>
                <a:lnTo>
                  <a:pt x="931" y="46"/>
                </a:lnTo>
                <a:lnTo>
                  <a:pt x="946" y="7"/>
                </a:lnTo>
                <a:lnTo>
                  <a:pt x="993" y="17"/>
                </a:lnTo>
                <a:lnTo>
                  <a:pt x="1020" y="49"/>
                </a:lnTo>
                <a:lnTo>
                  <a:pt x="1062" y="65"/>
                </a:lnTo>
                <a:lnTo>
                  <a:pt x="1083" y="90"/>
                </a:lnTo>
                <a:lnTo>
                  <a:pt x="1079" y="111"/>
                </a:lnTo>
                <a:lnTo>
                  <a:pt x="1051" y="156"/>
                </a:lnTo>
                <a:lnTo>
                  <a:pt x="1062" y="185"/>
                </a:lnTo>
                <a:lnTo>
                  <a:pt x="1099" y="171"/>
                </a:lnTo>
                <a:lnTo>
                  <a:pt x="1112" y="192"/>
                </a:lnTo>
                <a:lnTo>
                  <a:pt x="1124" y="205"/>
                </a:lnTo>
                <a:lnTo>
                  <a:pt x="1185" y="205"/>
                </a:lnTo>
                <a:lnTo>
                  <a:pt x="1205" y="226"/>
                </a:lnTo>
                <a:lnTo>
                  <a:pt x="1262" y="239"/>
                </a:lnTo>
                <a:lnTo>
                  <a:pt x="1249" y="255"/>
                </a:lnTo>
                <a:lnTo>
                  <a:pt x="1253" y="282"/>
                </a:lnTo>
                <a:lnTo>
                  <a:pt x="1257" y="296"/>
                </a:lnTo>
                <a:lnTo>
                  <a:pt x="1235" y="291"/>
                </a:lnTo>
                <a:lnTo>
                  <a:pt x="1195" y="272"/>
                </a:lnTo>
                <a:lnTo>
                  <a:pt x="1133" y="236"/>
                </a:lnTo>
                <a:lnTo>
                  <a:pt x="1222" y="306"/>
                </a:lnTo>
                <a:lnTo>
                  <a:pt x="1266" y="306"/>
                </a:lnTo>
                <a:lnTo>
                  <a:pt x="1243" y="318"/>
                </a:lnTo>
                <a:lnTo>
                  <a:pt x="1286" y="337"/>
                </a:lnTo>
                <a:lnTo>
                  <a:pt x="1286" y="352"/>
                </a:lnTo>
                <a:lnTo>
                  <a:pt x="1268" y="340"/>
                </a:lnTo>
                <a:lnTo>
                  <a:pt x="1251" y="342"/>
                </a:lnTo>
                <a:lnTo>
                  <a:pt x="1255" y="354"/>
                </a:lnTo>
                <a:lnTo>
                  <a:pt x="1268" y="366"/>
                </a:lnTo>
                <a:lnTo>
                  <a:pt x="1251" y="373"/>
                </a:lnTo>
                <a:lnTo>
                  <a:pt x="1203" y="342"/>
                </a:lnTo>
                <a:lnTo>
                  <a:pt x="1183" y="327"/>
                </a:lnTo>
                <a:lnTo>
                  <a:pt x="1195" y="347"/>
                </a:lnTo>
                <a:lnTo>
                  <a:pt x="1243" y="378"/>
                </a:lnTo>
                <a:lnTo>
                  <a:pt x="1262" y="380"/>
                </a:lnTo>
                <a:lnTo>
                  <a:pt x="1284" y="387"/>
                </a:lnTo>
                <a:lnTo>
                  <a:pt x="1282" y="397"/>
                </a:lnTo>
                <a:lnTo>
                  <a:pt x="1293" y="397"/>
                </a:lnTo>
                <a:lnTo>
                  <a:pt x="1297" y="407"/>
                </a:lnTo>
                <a:lnTo>
                  <a:pt x="1278" y="421"/>
                </a:lnTo>
                <a:lnTo>
                  <a:pt x="1243" y="407"/>
                </a:lnTo>
                <a:lnTo>
                  <a:pt x="1232" y="392"/>
                </a:lnTo>
                <a:lnTo>
                  <a:pt x="1185" y="387"/>
                </a:lnTo>
                <a:lnTo>
                  <a:pt x="1178" y="375"/>
                </a:lnTo>
                <a:lnTo>
                  <a:pt x="1160" y="390"/>
                </a:lnTo>
                <a:lnTo>
                  <a:pt x="1224" y="404"/>
                </a:lnTo>
                <a:lnTo>
                  <a:pt x="1228" y="418"/>
                </a:lnTo>
                <a:lnTo>
                  <a:pt x="1278" y="438"/>
                </a:lnTo>
                <a:lnTo>
                  <a:pt x="1297" y="438"/>
                </a:lnTo>
                <a:lnTo>
                  <a:pt x="1301" y="421"/>
                </a:lnTo>
                <a:lnTo>
                  <a:pt x="1318" y="426"/>
                </a:lnTo>
                <a:lnTo>
                  <a:pt x="1355" y="424"/>
                </a:lnTo>
                <a:lnTo>
                  <a:pt x="1395" y="486"/>
                </a:lnTo>
                <a:lnTo>
                  <a:pt x="1368" y="476"/>
                </a:lnTo>
                <a:lnTo>
                  <a:pt x="1361" y="496"/>
                </a:lnTo>
                <a:lnTo>
                  <a:pt x="812" y="585"/>
                </a:lnTo>
                <a:lnTo>
                  <a:pt x="361" y="637"/>
                </a:lnTo>
                <a:lnTo>
                  <a:pt x="0" y="678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4" name="Freeform 128"/>
          <p:cNvSpPr/>
          <p:nvPr/>
        </p:nvSpPr>
        <p:spPr>
          <a:xfrm>
            <a:off x="6600960" y="3746520"/>
            <a:ext cx="54000" cy="154080"/>
          </a:xfrm>
          <a:custGeom>
            <a:avLst/>
            <a:gdLst>
              <a:gd name="textAreaLeft" fmla="*/ 0 w 54000"/>
              <a:gd name="textAreaRight" fmla="*/ 54360 w 5400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77" h="196">
                <a:moveTo>
                  <a:pt x="0" y="110"/>
                </a:moveTo>
                <a:lnTo>
                  <a:pt x="0" y="172"/>
                </a:lnTo>
                <a:lnTo>
                  <a:pt x="17" y="196"/>
                </a:lnTo>
                <a:lnTo>
                  <a:pt x="27" y="124"/>
                </a:lnTo>
                <a:lnTo>
                  <a:pt x="56" y="93"/>
                </a:lnTo>
                <a:lnTo>
                  <a:pt x="77" y="0"/>
                </a:lnTo>
                <a:lnTo>
                  <a:pt x="32" y="21"/>
                </a:lnTo>
                <a:lnTo>
                  <a:pt x="0" y="11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5" name="Freeform 130"/>
          <p:cNvSpPr/>
          <p:nvPr/>
        </p:nvSpPr>
        <p:spPr>
          <a:xfrm>
            <a:off x="1149480" y="1905120"/>
            <a:ext cx="830160" cy="596880"/>
          </a:xfrm>
          <a:custGeom>
            <a:avLst/>
            <a:gdLst>
              <a:gd name="textAreaLeft" fmla="*/ 0 w 830160"/>
              <a:gd name="textAreaRight" fmla="*/ 830520 w 8301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205" h="755">
                <a:moveTo>
                  <a:pt x="29" y="130"/>
                </a:moveTo>
                <a:lnTo>
                  <a:pt x="47" y="164"/>
                </a:lnTo>
                <a:lnTo>
                  <a:pt x="43" y="209"/>
                </a:lnTo>
                <a:lnTo>
                  <a:pt x="39" y="250"/>
                </a:lnTo>
                <a:lnTo>
                  <a:pt x="45" y="265"/>
                </a:lnTo>
                <a:lnTo>
                  <a:pt x="33" y="322"/>
                </a:lnTo>
                <a:lnTo>
                  <a:pt x="56" y="310"/>
                </a:lnTo>
                <a:lnTo>
                  <a:pt x="85" y="334"/>
                </a:lnTo>
                <a:lnTo>
                  <a:pt x="52" y="337"/>
                </a:lnTo>
                <a:lnTo>
                  <a:pt x="31" y="334"/>
                </a:lnTo>
                <a:lnTo>
                  <a:pt x="29" y="356"/>
                </a:lnTo>
                <a:lnTo>
                  <a:pt x="29" y="373"/>
                </a:lnTo>
                <a:lnTo>
                  <a:pt x="56" y="373"/>
                </a:lnTo>
                <a:lnTo>
                  <a:pt x="60" y="383"/>
                </a:lnTo>
                <a:lnTo>
                  <a:pt x="39" y="392"/>
                </a:lnTo>
                <a:lnTo>
                  <a:pt x="43" y="416"/>
                </a:lnTo>
                <a:lnTo>
                  <a:pt x="25" y="440"/>
                </a:lnTo>
                <a:lnTo>
                  <a:pt x="16" y="440"/>
                </a:lnTo>
                <a:lnTo>
                  <a:pt x="27" y="401"/>
                </a:lnTo>
                <a:lnTo>
                  <a:pt x="20" y="390"/>
                </a:lnTo>
                <a:lnTo>
                  <a:pt x="0" y="447"/>
                </a:lnTo>
                <a:lnTo>
                  <a:pt x="31" y="466"/>
                </a:lnTo>
                <a:lnTo>
                  <a:pt x="85" y="486"/>
                </a:lnTo>
                <a:lnTo>
                  <a:pt x="89" y="505"/>
                </a:lnTo>
                <a:lnTo>
                  <a:pt x="112" y="507"/>
                </a:lnTo>
                <a:lnTo>
                  <a:pt x="158" y="584"/>
                </a:lnTo>
                <a:lnTo>
                  <a:pt x="149" y="609"/>
                </a:lnTo>
                <a:lnTo>
                  <a:pt x="220" y="661"/>
                </a:lnTo>
                <a:lnTo>
                  <a:pt x="341" y="657"/>
                </a:lnTo>
                <a:lnTo>
                  <a:pt x="434" y="692"/>
                </a:lnTo>
                <a:lnTo>
                  <a:pt x="476" y="683"/>
                </a:lnTo>
                <a:lnTo>
                  <a:pt x="754" y="692"/>
                </a:lnTo>
                <a:lnTo>
                  <a:pt x="1066" y="755"/>
                </a:lnTo>
                <a:lnTo>
                  <a:pt x="1072" y="673"/>
                </a:lnTo>
                <a:lnTo>
                  <a:pt x="1205" y="188"/>
                </a:lnTo>
                <a:lnTo>
                  <a:pt x="368" y="0"/>
                </a:lnTo>
                <a:lnTo>
                  <a:pt x="361" y="3"/>
                </a:lnTo>
                <a:lnTo>
                  <a:pt x="368" y="15"/>
                </a:lnTo>
                <a:lnTo>
                  <a:pt x="359" y="20"/>
                </a:lnTo>
                <a:lnTo>
                  <a:pt x="368" y="29"/>
                </a:lnTo>
                <a:lnTo>
                  <a:pt x="365" y="39"/>
                </a:lnTo>
                <a:lnTo>
                  <a:pt x="368" y="53"/>
                </a:lnTo>
                <a:lnTo>
                  <a:pt x="376" y="48"/>
                </a:lnTo>
                <a:lnTo>
                  <a:pt x="392" y="55"/>
                </a:lnTo>
                <a:lnTo>
                  <a:pt x="388" y="75"/>
                </a:lnTo>
                <a:lnTo>
                  <a:pt x="392" y="86"/>
                </a:lnTo>
                <a:lnTo>
                  <a:pt x="376" y="115"/>
                </a:lnTo>
                <a:lnTo>
                  <a:pt x="357" y="96"/>
                </a:lnTo>
                <a:lnTo>
                  <a:pt x="349" y="98"/>
                </a:lnTo>
                <a:lnTo>
                  <a:pt x="349" y="111"/>
                </a:lnTo>
                <a:lnTo>
                  <a:pt x="363" y="115"/>
                </a:lnTo>
                <a:lnTo>
                  <a:pt x="378" y="145"/>
                </a:lnTo>
                <a:lnTo>
                  <a:pt x="372" y="183"/>
                </a:lnTo>
                <a:lnTo>
                  <a:pt x="376" y="195"/>
                </a:lnTo>
                <a:lnTo>
                  <a:pt x="390" y="199"/>
                </a:lnTo>
                <a:lnTo>
                  <a:pt x="384" y="207"/>
                </a:lnTo>
                <a:lnTo>
                  <a:pt x="372" y="209"/>
                </a:lnTo>
                <a:lnTo>
                  <a:pt x="349" y="234"/>
                </a:lnTo>
                <a:lnTo>
                  <a:pt x="349" y="243"/>
                </a:lnTo>
                <a:lnTo>
                  <a:pt x="341" y="258"/>
                </a:lnTo>
                <a:lnTo>
                  <a:pt x="334" y="260"/>
                </a:lnTo>
                <a:lnTo>
                  <a:pt x="341" y="270"/>
                </a:lnTo>
                <a:lnTo>
                  <a:pt x="332" y="277"/>
                </a:lnTo>
                <a:lnTo>
                  <a:pt x="332" y="318"/>
                </a:lnTo>
                <a:lnTo>
                  <a:pt x="313" y="324"/>
                </a:lnTo>
                <a:lnTo>
                  <a:pt x="313" y="337"/>
                </a:lnTo>
                <a:lnTo>
                  <a:pt x="295" y="322"/>
                </a:lnTo>
                <a:lnTo>
                  <a:pt x="295" y="329"/>
                </a:lnTo>
                <a:lnTo>
                  <a:pt x="261" y="356"/>
                </a:lnTo>
                <a:lnTo>
                  <a:pt x="251" y="353"/>
                </a:lnTo>
                <a:lnTo>
                  <a:pt x="243" y="341"/>
                </a:lnTo>
                <a:lnTo>
                  <a:pt x="239" y="347"/>
                </a:lnTo>
                <a:lnTo>
                  <a:pt x="232" y="341"/>
                </a:lnTo>
                <a:lnTo>
                  <a:pt x="224" y="359"/>
                </a:lnTo>
                <a:lnTo>
                  <a:pt x="222" y="358"/>
                </a:lnTo>
                <a:lnTo>
                  <a:pt x="222" y="344"/>
                </a:lnTo>
                <a:lnTo>
                  <a:pt x="212" y="347"/>
                </a:lnTo>
                <a:lnTo>
                  <a:pt x="224" y="336"/>
                </a:lnTo>
                <a:lnTo>
                  <a:pt x="209" y="334"/>
                </a:lnTo>
                <a:lnTo>
                  <a:pt x="222" y="327"/>
                </a:lnTo>
                <a:lnTo>
                  <a:pt x="205" y="322"/>
                </a:lnTo>
                <a:lnTo>
                  <a:pt x="212" y="315"/>
                </a:lnTo>
                <a:lnTo>
                  <a:pt x="230" y="322"/>
                </a:lnTo>
                <a:lnTo>
                  <a:pt x="236" y="310"/>
                </a:lnTo>
                <a:lnTo>
                  <a:pt x="261" y="300"/>
                </a:lnTo>
                <a:lnTo>
                  <a:pt x="249" y="325"/>
                </a:lnTo>
                <a:lnTo>
                  <a:pt x="253" y="339"/>
                </a:lnTo>
                <a:lnTo>
                  <a:pt x="262" y="313"/>
                </a:lnTo>
                <a:lnTo>
                  <a:pt x="286" y="303"/>
                </a:lnTo>
                <a:lnTo>
                  <a:pt x="274" y="320"/>
                </a:lnTo>
                <a:lnTo>
                  <a:pt x="286" y="329"/>
                </a:lnTo>
                <a:lnTo>
                  <a:pt x="286" y="315"/>
                </a:lnTo>
                <a:lnTo>
                  <a:pt x="299" y="305"/>
                </a:lnTo>
                <a:lnTo>
                  <a:pt x="313" y="286"/>
                </a:lnTo>
                <a:lnTo>
                  <a:pt x="309" y="274"/>
                </a:lnTo>
                <a:lnTo>
                  <a:pt x="286" y="276"/>
                </a:lnTo>
                <a:lnTo>
                  <a:pt x="291" y="257"/>
                </a:lnTo>
                <a:lnTo>
                  <a:pt x="301" y="267"/>
                </a:lnTo>
                <a:lnTo>
                  <a:pt x="305" y="240"/>
                </a:lnTo>
                <a:lnTo>
                  <a:pt x="332" y="240"/>
                </a:lnTo>
                <a:lnTo>
                  <a:pt x="334" y="214"/>
                </a:lnTo>
                <a:lnTo>
                  <a:pt x="324" y="200"/>
                </a:lnTo>
                <a:lnTo>
                  <a:pt x="324" y="224"/>
                </a:lnTo>
                <a:lnTo>
                  <a:pt x="313" y="219"/>
                </a:lnTo>
                <a:lnTo>
                  <a:pt x="295" y="229"/>
                </a:lnTo>
                <a:lnTo>
                  <a:pt x="286" y="248"/>
                </a:lnTo>
                <a:lnTo>
                  <a:pt x="268" y="250"/>
                </a:lnTo>
                <a:lnTo>
                  <a:pt x="239" y="264"/>
                </a:lnTo>
                <a:lnTo>
                  <a:pt x="216" y="286"/>
                </a:lnTo>
                <a:lnTo>
                  <a:pt x="257" y="288"/>
                </a:lnTo>
                <a:lnTo>
                  <a:pt x="222" y="294"/>
                </a:lnTo>
                <a:lnTo>
                  <a:pt x="205" y="288"/>
                </a:lnTo>
                <a:lnTo>
                  <a:pt x="239" y="250"/>
                </a:lnTo>
                <a:lnTo>
                  <a:pt x="262" y="240"/>
                </a:lnTo>
                <a:lnTo>
                  <a:pt x="288" y="212"/>
                </a:lnTo>
                <a:lnTo>
                  <a:pt x="293" y="226"/>
                </a:lnTo>
                <a:lnTo>
                  <a:pt x="309" y="214"/>
                </a:lnTo>
                <a:lnTo>
                  <a:pt x="324" y="187"/>
                </a:lnTo>
                <a:lnTo>
                  <a:pt x="318" y="166"/>
                </a:lnTo>
                <a:lnTo>
                  <a:pt x="313" y="180"/>
                </a:lnTo>
                <a:lnTo>
                  <a:pt x="305" y="180"/>
                </a:lnTo>
                <a:lnTo>
                  <a:pt x="313" y="159"/>
                </a:lnTo>
                <a:lnTo>
                  <a:pt x="301" y="159"/>
                </a:lnTo>
                <a:lnTo>
                  <a:pt x="299" y="178"/>
                </a:lnTo>
                <a:lnTo>
                  <a:pt x="289" y="183"/>
                </a:lnTo>
                <a:lnTo>
                  <a:pt x="288" y="163"/>
                </a:lnTo>
                <a:lnTo>
                  <a:pt x="280" y="159"/>
                </a:lnTo>
                <a:lnTo>
                  <a:pt x="272" y="166"/>
                </a:lnTo>
                <a:lnTo>
                  <a:pt x="259" y="142"/>
                </a:lnTo>
                <a:lnTo>
                  <a:pt x="232" y="140"/>
                </a:lnTo>
                <a:lnTo>
                  <a:pt x="124" y="96"/>
                </a:lnTo>
                <a:lnTo>
                  <a:pt x="52" y="38"/>
                </a:lnTo>
                <a:lnTo>
                  <a:pt x="29" y="79"/>
                </a:lnTo>
                <a:lnTo>
                  <a:pt x="29" y="13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6" name="Freeform 131"/>
          <p:cNvSpPr/>
          <p:nvPr/>
        </p:nvSpPr>
        <p:spPr>
          <a:xfrm>
            <a:off x="1149480" y="1905120"/>
            <a:ext cx="830160" cy="596880"/>
          </a:xfrm>
          <a:custGeom>
            <a:avLst/>
            <a:gdLst>
              <a:gd name="textAreaLeft" fmla="*/ 0 w 830160"/>
              <a:gd name="textAreaRight" fmla="*/ 830520 w 8301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205" h="755">
                <a:moveTo>
                  <a:pt x="29" y="130"/>
                </a:moveTo>
                <a:lnTo>
                  <a:pt x="47" y="164"/>
                </a:lnTo>
                <a:lnTo>
                  <a:pt x="43" y="209"/>
                </a:lnTo>
                <a:lnTo>
                  <a:pt x="39" y="250"/>
                </a:lnTo>
                <a:lnTo>
                  <a:pt x="45" y="265"/>
                </a:lnTo>
                <a:lnTo>
                  <a:pt x="33" y="322"/>
                </a:lnTo>
                <a:lnTo>
                  <a:pt x="56" y="310"/>
                </a:lnTo>
                <a:lnTo>
                  <a:pt x="85" y="334"/>
                </a:lnTo>
                <a:lnTo>
                  <a:pt x="52" y="337"/>
                </a:lnTo>
                <a:lnTo>
                  <a:pt x="31" y="334"/>
                </a:lnTo>
                <a:lnTo>
                  <a:pt x="29" y="356"/>
                </a:lnTo>
                <a:lnTo>
                  <a:pt x="29" y="373"/>
                </a:lnTo>
                <a:lnTo>
                  <a:pt x="56" y="373"/>
                </a:lnTo>
                <a:lnTo>
                  <a:pt x="60" y="383"/>
                </a:lnTo>
                <a:lnTo>
                  <a:pt x="39" y="392"/>
                </a:lnTo>
                <a:lnTo>
                  <a:pt x="43" y="416"/>
                </a:lnTo>
                <a:lnTo>
                  <a:pt x="25" y="440"/>
                </a:lnTo>
                <a:lnTo>
                  <a:pt x="16" y="440"/>
                </a:lnTo>
                <a:lnTo>
                  <a:pt x="27" y="401"/>
                </a:lnTo>
                <a:lnTo>
                  <a:pt x="20" y="390"/>
                </a:lnTo>
                <a:lnTo>
                  <a:pt x="0" y="447"/>
                </a:lnTo>
                <a:lnTo>
                  <a:pt x="31" y="466"/>
                </a:lnTo>
                <a:lnTo>
                  <a:pt x="85" y="486"/>
                </a:lnTo>
                <a:lnTo>
                  <a:pt x="89" y="505"/>
                </a:lnTo>
                <a:lnTo>
                  <a:pt x="112" y="507"/>
                </a:lnTo>
                <a:lnTo>
                  <a:pt x="158" y="584"/>
                </a:lnTo>
                <a:lnTo>
                  <a:pt x="149" y="609"/>
                </a:lnTo>
                <a:lnTo>
                  <a:pt x="220" y="661"/>
                </a:lnTo>
                <a:lnTo>
                  <a:pt x="341" y="657"/>
                </a:lnTo>
                <a:lnTo>
                  <a:pt x="434" y="692"/>
                </a:lnTo>
                <a:lnTo>
                  <a:pt x="476" y="683"/>
                </a:lnTo>
                <a:lnTo>
                  <a:pt x="754" y="692"/>
                </a:lnTo>
                <a:lnTo>
                  <a:pt x="1066" y="755"/>
                </a:lnTo>
                <a:lnTo>
                  <a:pt x="1072" y="673"/>
                </a:lnTo>
                <a:lnTo>
                  <a:pt x="1205" y="188"/>
                </a:lnTo>
                <a:lnTo>
                  <a:pt x="368" y="0"/>
                </a:lnTo>
                <a:lnTo>
                  <a:pt x="361" y="3"/>
                </a:lnTo>
                <a:lnTo>
                  <a:pt x="368" y="15"/>
                </a:lnTo>
                <a:lnTo>
                  <a:pt x="359" y="20"/>
                </a:lnTo>
                <a:lnTo>
                  <a:pt x="368" y="29"/>
                </a:lnTo>
                <a:lnTo>
                  <a:pt x="365" y="39"/>
                </a:lnTo>
                <a:lnTo>
                  <a:pt x="368" y="53"/>
                </a:lnTo>
                <a:lnTo>
                  <a:pt x="376" y="48"/>
                </a:lnTo>
                <a:lnTo>
                  <a:pt x="392" y="55"/>
                </a:lnTo>
                <a:lnTo>
                  <a:pt x="388" y="75"/>
                </a:lnTo>
                <a:lnTo>
                  <a:pt x="392" y="86"/>
                </a:lnTo>
                <a:lnTo>
                  <a:pt x="376" y="115"/>
                </a:lnTo>
                <a:lnTo>
                  <a:pt x="357" y="96"/>
                </a:lnTo>
                <a:lnTo>
                  <a:pt x="349" y="98"/>
                </a:lnTo>
                <a:lnTo>
                  <a:pt x="349" y="111"/>
                </a:lnTo>
                <a:lnTo>
                  <a:pt x="363" y="115"/>
                </a:lnTo>
                <a:lnTo>
                  <a:pt x="378" y="145"/>
                </a:lnTo>
                <a:lnTo>
                  <a:pt x="372" y="183"/>
                </a:lnTo>
                <a:lnTo>
                  <a:pt x="376" y="195"/>
                </a:lnTo>
                <a:lnTo>
                  <a:pt x="390" y="199"/>
                </a:lnTo>
                <a:lnTo>
                  <a:pt x="384" y="207"/>
                </a:lnTo>
                <a:lnTo>
                  <a:pt x="372" y="209"/>
                </a:lnTo>
                <a:lnTo>
                  <a:pt x="349" y="234"/>
                </a:lnTo>
                <a:lnTo>
                  <a:pt x="349" y="243"/>
                </a:lnTo>
                <a:lnTo>
                  <a:pt x="341" y="258"/>
                </a:lnTo>
                <a:lnTo>
                  <a:pt x="334" y="260"/>
                </a:lnTo>
                <a:lnTo>
                  <a:pt x="341" y="270"/>
                </a:lnTo>
                <a:lnTo>
                  <a:pt x="332" y="277"/>
                </a:lnTo>
                <a:lnTo>
                  <a:pt x="332" y="318"/>
                </a:lnTo>
                <a:lnTo>
                  <a:pt x="313" y="324"/>
                </a:lnTo>
                <a:lnTo>
                  <a:pt x="313" y="337"/>
                </a:lnTo>
                <a:lnTo>
                  <a:pt x="295" y="322"/>
                </a:lnTo>
                <a:lnTo>
                  <a:pt x="295" y="329"/>
                </a:lnTo>
                <a:lnTo>
                  <a:pt x="261" y="356"/>
                </a:lnTo>
                <a:lnTo>
                  <a:pt x="251" y="353"/>
                </a:lnTo>
                <a:lnTo>
                  <a:pt x="243" y="341"/>
                </a:lnTo>
                <a:lnTo>
                  <a:pt x="239" y="347"/>
                </a:lnTo>
                <a:lnTo>
                  <a:pt x="232" y="341"/>
                </a:lnTo>
                <a:lnTo>
                  <a:pt x="224" y="359"/>
                </a:lnTo>
                <a:lnTo>
                  <a:pt x="222" y="358"/>
                </a:lnTo>
                <a:lnTo>
                  <a:pt x="222" y="344"/>
                </a:lnTo>
                <a:lnTo>
                  <a:pt x="212" y="347"/>
                </a:lnTo>
                <a:lnTo>
                  <a:pt x="224" y="336"/>
                </a:lnTo>
                <a:lnTo>
                  <a:pt x="209" y="334"/>
                </a:lnTo>
                <a:lnTo>
                  <a:pt x="222" y="327"/>
                </a:lnTo>
                <a:lnTo>
                  <a:pt x="205" y="322"/>
                </a:lnTo>
                <a:lnTo>
                  <a:pt x="212" y="315"/>
                </a:lnTo>
                <a:lnTo>
                  <a:pt x="230" y="322"/>
                </a:lnTo>
                <a:lnTo>
                  <a:pt x="236" y="310"/>
                </a:lnTo>
                <a:lnTo>
                  <a:pt x="261" y="300"/>
                </a:lnTo>
                <a:lnTo>
                  <a:pt x="249" y="325"/>
                </a:lnTo>
                <a:lnTo>
                  <a:pt x="253" y="339"/>
                </a:lnTo>
                <a:lnTo>
                  <a:pt x="262" y="313"/>
                </a:lnTo>
                <a:lnTo>
                  <a:pt x="286" y="303"/>
                </a:lnTo>
                <a:lnTo>
                  <a:pt x="274" y="320"/>
                </a:lnTo>
                <a:lnTo>
                  <a:pt x="286" y="329"/>
                </a:lnTo>
                <a:lnTo>
                  <a:pt x="286" y="315"/>
                </a:lnTo>
                <a:lnTo>
                  <a:pt x="299" y="305"/>
                </a:lnTo>
                <a:lnTo>
                  <a:pt x="313" y="286"/>
                </a:lnTo>
                <a:lnTo>
                  <a:pt x="309" y="274"/>
                </a:lnTo>
                <a:lnTo>
                  <a:pt x="286" y="276"/>
                </a:lnTo>
                <a:lnTo>
                  <a:pt x="291" y="257"/>
                </a:lnTo>
                <a:lnTo>
                  <a:pt x="301" y="267"/>
                </a:lnTo>
                <a:lnTo>
                  <a:pt x="305" y="240"/>
                </a:lnTo>
                <a:lnTo>
                  <a:pt x="332" y="240"/>
                </a:lnTo>
                <a:lnTo>
                  <a:pt x="334" y="214"/>
                </a:lnTo>
                <a:lnTo>
                  <a:pt x="324" y="200"/>
                </a:lnTo>
                <a:lnTo>
                  <a:pt x="324" y="224"/>
                </a:lnTo>
                <a:lnTo>
                  <a:pt x="313" y="219"/>
                </a:lnTo>
                <a:lnTo>
                  <a:pt x="295" y="229"/>
                </a:lnTo>
                <a:lnTo>
                  <a:pt x="286" y="248"/>
                </a:lnTo>
                <a:lnTo>
                  <a:pt x="268" y="250"/>
                </a:lnTo>
                <a:lnTo>
                  <a:pt x="239" y="264"/>
                </a:lnTo>
                <a:lnTo>
                  <a:pt x="216" y="286"/>
                </a:lnTo>
                <a:lnTo>
                  <a:pt x="257" y="288"/>
                </a:lnTo>
                <a:lnTo>
                  <a:pt x="222" y="294"/>
                </a:lnTo>
                <a:lnTo>
                  <a:pt x="205" y="288"/>
                </a:lnTo>
                <a:lnTo>
                  <a:pt x="239" y="250"/>
                </a:lnTo>
                <a:lnTo>
                  <a:pt x="262" y="240"/>
                </a:lnTo>
                <a:lnTo>
                  <a:pt x="288" y="212"/>
                </a:lnTo>
                <a:lnTo>
                  <a:pt x="293" y="226"/>
                </a:lnTo>
                <a:lnTo>
                  <a:pt x="309" y="214"/>
                </a:lnTo>
                <a:lnTo>
                  <a:pt x="324" y="187"/>
                </a:lnTo>
                <a:lnTo>
                  <a:pt x="318" y="166"/>
                </a:lnTo>
                <a:lnTo>
                  <a:pt x="313" y="180"/>
                </a:lnTo>
                <a:lnTo>
                  <a:pt x="305" y="180"/>
                </a:lnTo>
                <a:lnTo>
                  <a:pt x="313" y="159"/>
                </a:lnTo>
                <a:lnTo>
                  <a:pt x="301" y="159"/>
                </a:lnTo>
                <a:lnTo>
                  <a:pt x="299" y="178"/>
                </a:lnTo>
                <a:lnTo>
                  <a:pt x="289" y="183"/>
                </a:lnTo>
                <a:lnTo>
                  <a:pt x="288" y="163"/>
                </a:lnTo>
                <a:lnTo>
                  <a:pt x="280" y="159"/>
                </a:lnTo>
                <a:lnTo>
                  <a:pt x="272" y="166"/>
                </a:lnTo>
                <a:lnTo>
                  <a:pt x="259" y="142"/>
                </a:lnTo>
                <a:lnTo>
                  <a:pt x="232" y="140"/>
                </a:lnTo>
                <a:lnTo>
                  <a:pt x="124" y="96"/>
                </a:lnTo>
                <a:lnTo>
                  <a:pt x="52" y="38"/>
                </a:lnTo>
                <a:lnTo>
                  <a:pt x="29" y="79"/>
                </a:lnTo>
                <a:lnTo>
                  <a:pt x="29" y="130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7" name="Freeform 132"/>
          <p:cNvSpPr/>
          <p:nvPr/>
        </p:nvSpPr>
        <p:spPr>
          <a:xfrm>
            <a:off x="1344600" y="1940040"/>
            <a:ext cx="36360" cy="44280"/>
          </a:xfrm>
          <a:custGeom>
            <a:avLst/>
            <a:gdLst>
              <a:gd name="textAreaLeft" fmla="*/ 0 w 36360"/>
              <a:gd name="textAreaRight" fmla="*/ 36720 w 36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52" h="57">
                <a:moveTo>
                  <a:pt x="0" y="24"/>
                </a:moveTo>
                <a:lnTo>
                  <a:pt x="44" y="0"/>
                </a:lnTo>
                <a:lnTo>
                  <a:pt x="52" y="23"/>
                </a:lnTo>
                <a:lnTo>
                  <a:pt x="44" y="57"/>
                </a:lnTo>
                <a:lnTo>
                  <a:pt x="0" y="24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8" name="Freeform 133"/>
          <p:cNvSpPr/>
          <p:nvPr/>
        </p:nvSpPr>
        <p:spPr>
          <a:xfrm>
            <a:off x="1344600" y="1940040"/>
            <a:ext cx="36360" cy="44280"/>
          </a:xfrm>
          <a:custGeom>
            <a:avLst/>
            <a:gdLst>
              <a:gd name="textAreaLeft" fmla="*/ 0 w 36360"/>
              <a:gd name="textAreaRight" fmla="*/ 36720 w 3636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52" h="57">
                <a:moveTo>
                  <a:pt x="0" y="24"/>
                </a:moveTo>
                <a:lnTo>
                  <a:pt x="44" y="0"/>
                </a:lnTo>
                <a:lnTo>
                  <a:pt x="52" y="23"/>
                </a:lnTo>
                <a:lnTo>
                  <a:pt x="44" y="57"/>
                </a:lnTo>
                <a:lnTo>
                  <a:pt x="0" y="24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9" name="Freeform 134"/>
          <p:cNvSpPr/>
          <p:nvPr/>
        </p:nvSpPr>
        <p:spPr>
          <a:xfrm>
            <a:off x="1366920" y="2000160"/>
            <a:ext cx="30240" cy="61920"/>
          </a:xfrm>
          <a:custGeom>
            <a:avLst/>
            <a:gdLst>
              <a:gd name="textAreaLeft" fmla="*/ 0 w 30240"/>
              <a:gd name="textAreaRight" fmla="*/ 30600 w 30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1" h="81">
                <a:moveTo>
                  <a:pt x="0" y="21"/>
                </a:moveTo>
                <a:lnTo>
                  <a:pt x="25" y="0"/>
                </a:lnTo>
                <a:lnTo>
                  <a:pt x="41" y="12"/>
                </a:lnTo>
                <a:lnTo>
                  <a:pt x="31" y="81"/>
                </a:lnTo>
                <a:lnTo>
                  <a:pt x="0" y="21"/>
                </a:lnTo>
                <a:close/>
              </a:path>
            </a:pathLst>
          </a:custGeom>
          <a:solidFill>
            <a:srgbClr val="c0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0" name="Freeform 135"/>
          <p:cNvSpPr/>
          <p:nvPr/>
        </p:nvSpPr>
        <p:spPr>
          <a:xfrm>
            <a:off x="1366920" y="2000160"/>
            <a:ext cx="30240" cy="61920"/>
          </a:xfrm>
          <a:custGeom>
            <a:avLst/>
            <a:gdLst>
              <a:gd name="textAreaLeft" fmla="*/ 0 w 30240"/>
              <a:gd name="textAreaRight" fmla="*/ 30600 w 30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41" h="81">
                <a:moveTo>
                  <a:pt x="0" y="21"/>
                </a:moveTo>
                <a:lnTo>
                  <a:pt x="25" y="0"/>
                </a:lnTo>
                <a:lnTo>
                  <a:pt x="41" y="12"/>
                </a:lnTo>
                <a:lnTo>
                  <a:pt x="31" y="81"/>
                </a:lnTo>
                <a:lnTo>
                  <a:pt x="0" y="21"/>
                </a:lnTo>
              </a:path>
            </a:pathLst>
          </a:custGeom>
          <a:noFill/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1" name="Freeform 136"/>
          <p:cNvSpPr/>
          <p:nvPr/>
        </p:nvSpPr>
        <p:spPr>
          <a:xfrm>
            <a:off x="5776920" y="3457440"/>
            <a:ext cx="557280" cy="546120"/>
          </a:xfrm>
          <a:custGeom>
            <a:avLst/>
            <a:gdLst>
              <a:gd name="textAreaLeft" fmla="*/ 0 w 557280"/>
              <a:gd name="textAreaRight" fmla="*/ 557640 w 5572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09" h="690">
                <a:moveTo>
                  <a:pt x="0" y="477"/>
                </a:moveTo>
                <a:lnTo>
                  <a:pt x="33" y="573"/>
                </a:lnTo>
                <a:lnTo>
                  <a:pt x="68" y="606"/>
                </a:lnTo>
                <a:lnTo>
                  <a:pt x="135" y="640"/>
                </a:lnTo>
                <a:lnTo>
                  <a:pt x="185" y="690"/>
                </a:lnTo>
                <a:lnTo>
                  <a:pt x="249" y="664"/>
                </a:lnTo>
                <a:lnTo>
                  <a:pt x="276" y="681"/>
                </a:lnTo>
                <a:lnTo>
                  <a:pt x="314" y="664"/>
                </a:lnTo>
                <a:lnTo>
                  <a:pt x="337" y="637"/>
                </a:lnTo>
                <a:lnTo>
                  <a:pt x="407" y="625"/>
                </a:lnTo>
                <a:lnTo>
                  <a:pt x="447" y="584"/>
                </a:lnTo>
                <a:lnTo>
                  <a:pt x="424" y="573"/>
                </a:lnTo>
                <a:lnTo>
                  <a:pt x="490" y="443"/>
                </a:lnTo>
                <a:lnTo>
                  <a:pt x="505" y="378"/>
                </a:lnTo>
                <a:lnTo>
                  <a:pt x="569" y="405"/>
                </a:lnTo>
                <a:lnTo>
                  <a:pt x="603" y="328"/>
                </a:lnTo>
                <a:lnTo>
                  <a:pt x="634" y="325"/>
                </a:lnTo>
                <a:lnTo>
                  <a:pt x="680" y="255"/>
                </a:lnTo>
                <a:lnTo>
                  <a:pt x="696" y="178"/>
                </a:lnTo>
                <a:lnTo>
                  <a:pt x="794" y="224"/>
                </a:lnTo>
                <a:lnTo>
                  <a:pt x="809" y="185"/>
                </a:lnTo>
                <a:lnTo>
                  <a:pt x="784" y="155"/>
                </a:lnTo>
                <a:lnTo>
                  <a:pt x="738" y="138"/>
                </a:lnTo>
                <a:lnTo>
                  <a:pt x="684" y="142"/>
                </a:lnTo>
                <a:lnTo>
                  <a:pt x="669" y="169"/>
                </a:lnTo>
                <a:lnTo>
                  <a:pt x="569" y="193"/>
                </a:lnTo>
                <a:lnTo>
                  <a:pt x="509" y="255"/>
                </a:lnTo>
                <a:lnTo>
                  <a:pt x="488" y="155"/>
                </a:lnTo>
                <a:lnTo>
                  <a:pt x="314" y="181"/>
                </a:lnTo>
                <a:lnTo>
                  <a:pt x="280" y="0"/>
                </a:lnTo>
                <a:lnTo>
                  <a:pt x="255" y="15"/>
                </a:lnTo>
                <a:lnTo>
                  <a:pt x="270" y="49"/>
                </a:lnTo>
                <a:lnTo>
                  <a:pt x="247" y="210"/>
                </a:lnTo>
                <a:lnTo>
                  <a:pt x="216" y="245"/>
                </a:lnTo>
                <a:lnTo>
                  <a:pt x="120" y="304"/>
                </a:lnTo>
                <a:lnTo>
                  <a:pt x="102" y="373"/>
                </a:lnTo>
                <a:lnTo>
                  <a:pt x="68" y="356"/>
                </a:lnTo>
                <a:lnTo>
                  <a:pt x="56" y="436"/>
                </a:lnTo>
                <a:lnTo>
                  <a:pt x="0" y="47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2" name="Freeform 137"/>
          <p:cNvSpPr/>
          <p:nvPr/>
        </p:nvSpPr>
        <p:spPr>
          <a:xfrm>
            <a:off x="5776920" y="3457440"/>
            <a:ext cx="557280" cy="546120"/>
          </a:xfrm>
          <a:custGeom>
            <a:avLst/>
            <a:gdLst>
              <a:gd name="textAreaLeft" fmla="*/ 0 w 557280"/>
              <a:gd name="textAreaRight" fmla="*/ 557640 w 5572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09" h="690">
                <a:moveTo>
                  <a:pt x="0" y="477"/>
                </a:moveTo>
                <a:lnTo>
                  <a:pt x="33" y="573"/>
                </a:lnTo>
                <a:lnTo>
                  <a:pt x="68" y="606"/>
                </a:lnTo>
                <a:lnTo>
                  <a:pt x="135" y="640"/>
                </a:lnTo>
                <a:lnTo>
                  <a:pt x="185" y="690"/>
                </a:lnTo>
                <a:lnTo>
                  <a:pt x="249" y="664"/>
                </a:lnTo>
                <a:lnTo>
                  <a:pt x="276" y="681"/>
                </a:lnTo>
                <a:lnTo>
                  <a:pt x="314" y="664"/>
                </a:lnTo>
                <a:lnTo>
                  <a:pt x="337" y="637"/>
                </a:lnTo>
                <a:lnTo>
                  <a:pt x="407" y="625"/>
                </a:lnTo>
                <a:lnTo>
                  <a:pt x="447" y="584"/>
                </a:lnTo>
                <a:lnTo>
                  <a:pt x="424" y="573"/>
                </a:lnTo>
                <a:lnTo>
                  <a:pt x="490" y="443"/>
                </a:lnTo>
                <a:lnTo>
                  <a:pt x="505" y="378"/>
                </a:lnTo>
                <a:lnTo>
                  <a:pt x="569" y="405"/>
                </a:lnTo>
                <a:lnTo>
                  <a:pt x="603" y="328"/>
                </a:lnTo>
                <a:lnTo>
                  <a:pt x="634" y="325"/>
                </a:lnTo>
                <a:lnTo>
                  <a:pt x="680" y="255"/>
                </a:lnTo>
                <a:lnTo>
                  <a:pt x="696" y="178"/>
                </a:lnTo>
                <a:lnTo>
                  <a:pt x="794" y="224"/>
                </a:lnTo>
                <a:lnTo>
                  <a:pt x="809" y="185"/>
                </a:lnTo>
                <a:lnTo>
                  <a:pt x="784" y="155"/>
                </a:lnTo>
                <a:lnTo>
                  <a:pt x="738" y="138"/>
                </a:lnTo>
                <a:lnTo>
                  <a:pt x="684" y="142"/>
                </a:lnTo>
                <a:lnTo>
                  <a:pt x="669" y="169"/>
                </a:lnTo>
                <a:lnTo>
                  <a:pt x="569" y="193"/>
                </a:lnTo>
                <a:lnTo>
                  <a:pt x="509" y="255"/>
                </a:lnTo>
                <a:lnTo>
                  <a:pt x="488" y="155"/>
                </a:lnTo>
                <a:lnTo>
                  <a:pt x="314" y="181"/>
                </a:lnTo>
                <a:lnTo>
                  <a:pt x="280" y="0"/>
                </a:lnTo>
                <a:lnTo>
                  <a:pt x="255" y="15"/>
                </a:lnTo>
                <a:lnTo>
                  <a:pt x="270" y="49"/>
                </a:lnTo>
                <a:lnTo>
                  <a:pt x="247" y="210"/>
                </a:lnTo>
                <a:lnTo>
                  <a:pt x="216" y="245"/>
                </a:lnTo>
                <a:lnTo>
                  <a:pt x="120" y="304"/>
                </a:lnTo>
                <a:lnTo>
                  <a:pt x="102" y="373"/>
                </a:lnTo>
                <a:lnTo>
                  <a:pt x="68" y="356"/>
                </a:lnTo>
                <a:lnTo>
                  <a:pt x="56" y="436"/>
                </a:lnTo>
                <a:lnTo>
                  <a:pt x="0" y="477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3" name="Freeform 138"/>
          <p:cNvSpPr/>
          <p:nvPr/>
        </p:nvSpPr>
        <p:spPr>
          <a:xfrm>
            <a:off x="4491000" y="2606760"/>
            <a:ext cx="657360" cy="684000"/>
          </a:xfrm>
          <a:custGeom>
            <a:avLst/>
            <a:gdLst>
              <a:gd name="textAreaLeft" fmla="*/ 0 w 657360"/>
              <a:gd name="textAreaRight" fmla="*/ 657720 w 65736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952" h="865">
                <a:moveTo>
                  <a:pt x="0" y="264"/>
                </a:moveTo>
                <a:lnTo>
                  <a:pt x="23" y="331"/>
                </a:lnTo>
                <a:lnTo>
                  <a:pt x="21" y="437"/>
                </a:lnTo>
                <a:lnTo>
                  <a:pt x="137" y="498"/>
                </a:lnTo>
                <a:lnTo>
                  <a:pt x="183" y="543"/>
                </a:lnTo>
                <a:lnTo>
                  <a:pt x="251" y="581"/>
                </a:lnTo>
                <a:lnTo>
                  <a:pt x="274" y="605"/>
                </a:lnTo>
                <a:lnTo>
                  <a:pt x="289" y="675"/>
                </a:lnTo>
                <a:lnTo>
                  <a:pt x="306" y="774"/>
                </a:lnTo>
                <a:lnTo>
                  <a:pt x="395" y="865"/>
                </a:lnTo>
                <a:lnTo>
                  <a:pt x="869" y="837"/>
                </a:lnTo>
                <a:lnTo>
                  <a:pt x="840" y="704"/>
                </a:lnTo>
                <a:lnTo>
                  <a:pt x="857" y="567"/>
                </a:lnTo>
                <a:lnTo>
                  <a:pt x="886" y="505"/>
                </a:lnTo>
                <a:lnTo>
                  <a:pt x="884" y="449"/>
                </a:lnTo>
                <a:lnTo>
                  <a:pt x="944" y="324"/>
                </a:lnTo>
                <a:lnTo>
                  <a:pt x="952" y="293"/>
                </a:lnTo>
                <a:lnTo>
                  <a:pt x="935" y="286"/>
                </a:lnTo>
                <a:lnTo>
                  <a:pt x="911" y="310"/>
                </a:lnTo>
                <a:lnTo>
                  <a:pt x="892" y="375"/>
                </a:lnTo>
                <a:lnTo>
                  <a:pt x="854" y="384"/>
                </a:lnTo>
                <a:lnTo>
                  <a:pt x="834" y="420"/>
                </a:lnTo>
                <a:lnTo>
                  <a:pt x="796" y="445"/>
                </a:lnTo>
                <a:lnTo>
                  <a:pt x="800" y="404"/>
                </a:lnTo>
                <a:lnTo>
                  <a:pt x="823" y="361"/>
                </a:lnTo>
                <a:lnTo>
                  <a:pt x="852" y="346"/>
                </a:lnTo>
                <a:lnTo>
                  <a:pt x="856" y="331"/>
                </a:lnTo>
                <a:lnTo>
                  <a:pt x="804" y="211"/>
                </a:lnTo>
                <a:lnTo>
                  <a:pt x="767" y="200"/>
                </a:lnTo>
                <a:lnTo>
                  <a:pt x="753" y="175"/>
                </a:lnTo>
                <a:lnTo>
                  <a:pt x="663" y="164"/>
                </a:lnTo>
                <a:lnTo>
                  <a:pt x="464" y="120"/>
                </a:lnTo>
                <a:lnTo>
                  <a:pt x="384" y="72"/>
                </a:lnTo>
                <a:lnTo>
                  <a:pt x="339" y="55"/>
                </a:lnTo>
                <a:lnTo>
                  <a:pt x="312" y="72"/>
                </a:lnTo>
                <a:lnTo>
                  <a:pt x="303" y="67"/>
                </a:lnTo>
                <a:lnTo>
                  <a:pt x="318" y="55"/>
                </a:lnTo>
                <a:lnTo>
                  <a:pt x="318" y="33"/>
                </a:lnTo>
                <a:lnTo>
                  <a:pt x="326" y="26"/>
                </a:lnTo>
                <a:lnTo>
                  <a:pt x="326" y="9"/>
                </a:lnTo>
                <a:lnTo>
                  <a:pt x="316" y="0"/>
                </a:lnTo>
                <a:lnTo>
                  <a:pt x="204" y="43"/>
                </a:lnTo>
                <a:lnTo>
                  <a:pt x="162" y="58"/>
                </a:lnTo>
                <a:lnTo>
                  <a:pt x="145" y="60"/>
                </a:lnTo>
                <a:lnTo>
                  <a:pt x="118" y="46"/>
                </a:lnTo>
                <a:lnTo>
                  <a:pt x="114" y="58"/>
                </a:lnTo>
                <a:lnTo>
                  <a:pt x="110" y="46"/>
                </a:lnTo>
                <a:lnTo>
                  <a:pt x="87" y="63"/>
                </a:lnTo>
                <a:lnTo>
                  <a:pt x="95" y="163"/>
                </a:lnTo>
                <a:lnTo>
                  <a:pt x="0" y="26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4" name="Freeform 139"/>
          <p:cNvSpPr/>
          <p:nvPr/>
        </p:nvSpPr>
        <p:spPr>
          <a:xfrm>
            <a:off x="4491000" y="2606760"/>
            <a:ext cx="657360" cy="684000"/>
          </a:xfrm>
          <a:custGeom>
            <a:avLst/>
            <a:gdLst>
              <a:gd name="textAreaLeft" fmla="*/ 0 w 657360"/>
              <a:gd name="textAreaRight" fmla="*/ 657720 w 65736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952" h="865">
                <a:moveTo>
                  <a:pt x="0" y="264"/>
                </a:moveTo>
                <a:lnTo>
                  <a:pt x="23" y="331"/>
                </a:lnTo>
                <a:lnTo>
                  <a:pt x="21" y="437"/>
                </a:lnTo>
                <a:lnTo>
                  <a:pt x="137" y="498"/>
                </a:lnTo>
                <a:lnTo>
                  <a:pt x="183" y="543"/>
                </a:lnTo>
                <a:lnTo>
                  <a:pt x="251" y="581"/>
                </a:lnTo>
                <a:lnTo>
                  <a:pt x="274" y="605"/>
                </a:lnTo>
                <a:lnTo>
                  <a:pt x="289" y="675"/>
                </a:lnTo>
                <a:lnTo>
                  <a:pt x="306" y="774"/>
                </a:lnTo>
                <a:lnTo>
                  <a:pt x="395" y="865"/>
                </a:lnTo>
                <a:lnTo>
                  <a:pt x="869" y="837"/>
                </a:lnTo>
                <a:lnTo>
                  <a:pt x="840" y="704"/>
                </a:lnTo>
                <a:lnTo>
                  <a:pt x="857" y="567"/>
                </a:lnTo>
                <a:lnTo>
                  <a:pt x="886" y="505"/>
                </a:lnTo>
                <a:lnTo>
                  <a:pt x="884" y="449"/>
                </a:lnTo>
                <a:lnTo>
                  <a:pt x="944" y="324"/>
                </a:lnTo>
                <a:lnTo>
                  <a:pt x="952" y="293"/>
                </a:lnTo>
                <a:lnTo>
                  <a:pt x="935" y="286"/>
                </a:lnTo>
                <a:lnTo>
                  <a:pt x="911" y="310"/>
                </a:lnTo>
                <a:lnTo>
                  <a:pt x="892" y="375"/>
                </a:lnTo>
                <a:lnTo>
                  <a:pt x="854" y="384"/>
                </a:lnTo>
                <a:lnTo>
                  <a:pt x="834" y="420"/>
                </a:lnTo>
                <a:lnTo>
                  <a:pt x="796" y="445"/>
                </a:lnTo>
                <a:lnTo>
                  <a:pt x="800" y="404"/>
                </a:lnTo>
                <a:lnTo>
                  <a:pt x="823" y="361"/>
                </a:lnTo>
                <a:lnTo>
                  <a:pt x="852" y="346"/>
                </a:lnTo>
                <a:lnTo>
                  <a:pt x="856" y="331"/>
                </a:lnTo>
                <a:lnTo>
                  <a:pt x="804" y="211"/>
                </a:lnTo>
                <a:lnTo>
                  <a:pt x="767" y="200"/>
                </a:lnTo>
                <a:lnTo>
                  <a:pt x="753" y="175"/>
                </a:lnTo>
                <a:lnTo>
                  <a:pt x="663" y="164"/>
                </a:lnTo>
                <a:lnTo>
                  <a:pt x="464" y="120"/>
                </a:lnTo>
                <a:lnTo>
                  <a:pt x="384" y="72"/>
                </a:lnTo>
                <a:lnTo>
                  <a:pt x="339" y="55"/>
                </a:lnTo>
                <a:lnTo>
                  <a:pt x="312" y="72"/>
                </a:lnTo>
                <a:lnTo>
                  <a:pt x="303" y="67"/>
                </a:lnTo>
                <a:lnTo>
                  <a:pt x="318" y="55"/>
                </a:lnTo>
                <a:lnTo>
                  <a:pt x="318" y="33"/>
                </a:lnTo>
                <a:lnTo>
                  <a:pt x="326" y="26"/>
                </a:lnTo>
                <a:lnTo>
                  <a:pt x="326" y="9"/>
                </a:lnTo>
                <a:lnTo>
                  <a:pt x="316" y="0"/>
                </a:lnTo>
                <a:lnTo>
                  <a:pt x="204" y="43"/>
                </a:lnTo>
                <a:lnTo>
                  <a:pt x="162" y="58"/>
                </a:lnTo>
                <a:lnTo>
                  <a:pt x="145" y="60"/>
                </a:lnTo>
                <a:lnTo>
                  <a:pt x="118" y="46"/>
                </a:lnTo>
                <a:lnTo>
                  <a:pt x="114" y="58"/>
                </a:lnTo>
                <a:lnTo>
                  <a:pt x="110" y="46"/>
                </a:lnTo>
                <a:lnTo>
                  <a:pt x="87" y="63"/>
                </a:lnTo>
                <a:lnTo>
                  <a:pt x="95" y="163"/>
                </a:lnTo>
                <a:lnTo>
                  <a:pt x="0" y="264"/>
                </a:lnTo>
              </a:path>
            </a:pathLst>
          </a:custGeom>
          <a:solidFill>
            <a:srgbClr val="ffff00"/>
          </a:solidFill>
          <a:ln cap="sq"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5" name="Freeform 140"/>
          <p:cNvSpPr/>
          <p:nvPr/>
        </p:nvSpPr>
        <p:spPr>
          <a:xfrm>
            <a:off x="2384280" y="2782800"/>
            <a:ext cx="876600" cy="712800"/>
          </a:xfrm>
          <a:custGeom>
            <a:avLst/>
            <a:gdLst>
              <a:gd name="textAreaLeft" fmla="*/ 0 w 876600"/>
              <a:gd name="textAreaRight" fmla="*/ 876960 w 8766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268" h="901">
                <a:moveTo>
                  <a:pt x="0" y="774"/>
                </a:moveTo>
                <a:lnTo>
                  <a:pt x="39" y="577"/>
                </a:lnTo>
                <a:lnTo>
                  <a:pt x="131" y="96"/>
                </a:lnTo>
                <a:lnTo>
                  <a:pt x="153" y="0"/>
                </a:lnTo>
                <a:lnTo>
                  <a:pt x="650" y="63"/>
                </a:lnTo>
                <a:lnTo>
                  <a:pt x="1268" y="118"/>
                </a:lnTo>
                <a:lnTo>
                  <a:pt x="1226" y="510"/>
                </a:lnTo>
                <a:lnTo>
                  <a:pt x="1183" y="901"/>
                </a:lnTo>
                <a:lnTo>
                  <a:pt x="339" y="817"/>
                </a:lnTo>
                <a:lnTo>
                  <a:pt x="0" y="7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6" name="Freeform 141"/>
          <p:cNvSpPr/>
          <p:nvPr/>
        </p:nvSpPr>
        <p:spPr>
          <a:xfrm>
            <a:off x="2384280" y="2782800"/>
            <a:ext cx="876600" cy="712800"/>
          </a:xfrm>
          <a:custGeom>
            <a:avLst/>
            <a:gdLst>
              <a:gd name="textAreaLeft" fmla="*/ 0 w 876600"/>
              <a:gd name="textAreaRight" fmla="*/ 876960 w 87660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268" h="901">
                <a:moveTo>
                  <a:pt x="0" y="774"/>
                </a:moveTo>
                <a:lnTo>
                  <a:pt x="39" y="577"/>
                </a:lnTo>
                <a:lnTo>
                  <a:pt x="131" y="96"/>
                </a:lnTo>
                <a:lnTo>
                  <a:pt x="153" y="0"/>
                </a:lnTo>
                <a:lnTo>
                  <a:pt x="650" y="63"/>
                </a:lnTo>
                <a:lnTo>
                  <a:pt x="1268" y="118"/>
                </a:lnTo>
                <a:lnTo>
                  <a:pt x="1226" y="510"/>
                </a:lnTo>
                <a:lnTo>
                  <a:pt x="1183" y="901"/>
                </a:lnTo>
                <a:lnTo>
                  <a:pt x="339" y="817"/>
                </a:lnTo>
                <a:lnTo>
                  <a:pt x="0" y="774"/>
                </a:lnTo>
              </a:path>
            </a:pathLst>
          </a:custGeom>
          <a:solidFill>
            <a:srgbClr val="ffff00"/>
          </a:solidFill>
          <a:ln cap="sq"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7" name="Freeform 142"/>
          <p:cNvSpPr/>
          <p:nvPr/>
        </p:nvSpPr>
        <p:spPr>
          <a:xfrm>
            <a:off x="5516640" y="4467240"/>
            <a:ext cx="282600" cy="214200"/>
          </a:xfrm>
          <a:custGeom>
            <a:avLst/>
            <a:gdLst>
              <a:gd name="textAreaLeft" fmla="*/ 0 w 282600"/>
              <a:gd name="textAreaRight" fmla="*/ 282960 w 2826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408" h="269">
                <a:moveTo>
                  <a:pt x="0" y="166"/>
                </a:moveTo>
                <a:lnTo>
                  <a:pt x="71" y="105"/>
                </a:lnTo>
                <a:lnTo>
                  <a:pt x="71" y="41"/>
                </a:lnTo>
                <a:lnTo>
                  <a:pt x="131" y="21"/>
                </a:lnTo>
                <a:lnTo>
                  <a:pt x="202" y="0"/>
                </a:lnTo>
                <a:lnTo>
                  <a:pt x="310" y="21"/>
                </a:lnTo>
                <a:lnTo>
                  <a:pt x="323" y="74"/>
                </a:lnTo>
                <a:lnTo>
                  <a:pt x="335" y="105"/>
                </a:lnTo>
                <a:lnTo>
                  <a:pt x="408" y="156"/>
                </a:lnTo>
                <a:lnTo>
                  <a:pt x="408" y="189"/>
                </a:lnTo>
                <a:lnTo>
                  <a:pt x="408" y="269"/>
                </a:lnTo>
                <a:lnTo>
                  <a:pt x="383" y="269"/>
                </a:lnTo>
                <a:lnTo>
                  <a:pt x="350" y="238"/>
                </a:lnTo>
                <a:lnTo>
                  <a:pt x="263" y="218"/>
                </a:lnTo>
                <a:lnTo>
                  <a:pt x="250" y="230"/>
                </a:lnTo>
                <a:lnTo>
                  <a:pt x="154" y="259"/>
                </a:lnTo>
                <a:lnTo>
                  <a:pt x="131" y="218"/>
                </a:lnTo>
                <a:lnTo>
                  <a:pt x="23" y="230"/>
                </a:lnTo>
                <a:lnTo>
                  <a:pt x="11" y="156"/>
                </a:lnTo>
                <a:lnTo>
                  <a:pt x="154" y="136"/>
                </a:lnTo>
                <a:lnTo>
                  <a:pt x="0" y="1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8" name="Freeform 79"/>
          <p:cNvSpPr/>
          <p:nvPr/>
        </p:nvSpPr>
        <p:spPr>
          <a:xfrm>
            <a:off x="4027320" y="2243160"/>
            <a:ext cx="814680" cy="909720"/>
          </a:xfrm>
          <a:custGeom>
            <a:avLst/>
            <a:gdLst>
              <a:gd name="textAreaLeft" fmla="*/ 0 w 814680"/>
              <a:gd name="textAreaRight" fmla="*/ 815040 w 8146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1185" h="1145">
                <a:moveTo>
                  <a:pt x="0" y="70"/>
                </a:moveTo>
                <a:lnTo>
                  <a:pt x="7" y="233"/>
                </a:lnTo>
                <a:lnTo>
                  <a:pt x="52" y="363"/>
                </a:lnTo>
                <a:lnTo>
                  <a:pt x="59" y="532"/>
                </a:lnTo>
                <a:lnTo>
                  <a:pt x="92" y="668"/>
                </a:lnTo>
                <a:lnTo>
                  <a:pt x="50" y="734"/>
                </a:lnTo>
                <a:lnTo>
                  <a:pt x="110" y="788"/>
                </a:lnTo>
                <a:lnTo>
                  <a:pt x="108" y="1145"/>
                </a:lnTo>
                <a:lnTo>
                  <a:pt x="963" y="1132"/>
                </a:lnTo>
                <a:lnTo>
                  <a:pt x="948" y="1062"/>
                </a:lnTo>
                <a:lnTo>
                  <a:pt x="925" y="1038"/>
                </a:lnTo>
                <a:lnTo>
                  <a:pt x="857" y="1000"/>
                </a:lnTo>
                <a:lnTo>
                  <a:pt x="811" y="955"/>
                </a:lnTo>
                <a:lnTo>
                  <a:pt x="695" y="894"/>
                </a:lnTo>
                <a:lnTo>
                  <a:pt x="697" y="788"/>
                </a:lnTo>
                <a:lnTo>
                  <a:pt x="674" y="721"/>
                </a:lnTo>
                <a:lnTo>
                  <a:pt x="769" y="620"/>
                </a:lnTo>
                <a:lnTo>
                  <a:pt x="761" y="520"/>
                </a:lnTo>
                <a:lnTo>
                  <a:pt x="784" y="503"/>
                </a:lnTo>
                <a:lnTo>
                  <a:pt x="898" y="421"/>
                </a:lnTo>
                <a:lnTo>
                  <a:pt x="957" y="360"/>
                </a:lnTo>
                <a:lnTo>
                  <a:pt x="1034" y="308"/>
                </a:lnTo>
                <a:lnTo>
                  <a:pt x="1185" y="241"/>
                </a:lnTo>
                <a:lnTo>
                  <a:pt x="1129" y="245"/>
                </a:lnTo>
                <a:lnTo>
                  <a:pt x="1077" y="223"/>
                </a:lnTo>
                <a:lnTo>
                  <a:pt x="992" y="231"/>
                </a:lnTo>
                <a:lnTo>
                  <a:pt x="973" y="202"/>
                </a:lnTo>
                <a:lnTo>
                  <a:pt x="946" y="214"/>
                </a:lnTo>
                <a:lnTo>
                  <a:pt x="888" y="245"/>
                </a:lnTo>
                <a:lnTo>
                  <a:pt x="847" y="235"/>
                </a:lnTo>
                <a:lnTo>
                  <a:pt x="830" y="219"/>
                </a:lnTo>
                <a:lnTo>
                  <a:pt x="799" y="212"/>
                </a:lnTo>
                <a:lnTo>
                  <a:pt x="784" y="190"/>
                </a:lnTo>
                <a:lnTo>
                  <a:pt x="753" y="192"/>
                </a:lnTo>
                <a:lnTo>
                  <a:pt x="753" y="212"/>
                </a:lnTo>
                <a:lnTo>
                  <a:pt x="742" y="216"/>
                </a:lnTo>
                <a:lnTo>
                  <a:pt x="718" y="171"/>
                </a:lnTo>
                <a:lnTo>
                  <a:pt x="688" y="171"/>
                </a:lnTo>
                <a:lnTo>
                  <a:pt x="697" y="152"/>
                </a:lnTo>
                <a:lnTo>
                  <a:pt x="630" y="142"/>
                </a:lnTo>
                <a:lnTo>
                  <a:pt x="605" y="140"/>
                </a:lnTo>
                <a:lnTo>
                  <a:pt x="524" y="166"/>
                </a:lnTo>
                <a:lnTo>
                  <a:pt x="510" y="142"/>
                </a:lnTo>
                <a:lnTo>
                  <a:pt x="387" y="120"/>
                </a:lnTo>
                <a:lnTo>
                  <a:pt x="366" y="9"/>
                </a:lnTo>
                <a:lnTo>
                  <a:pt x="312" y="0"/>
                </a:lnTo>
                <a:lnTo>
                  <a:pt x="312" y="72"/>
                </a:lnTo>
                <a:lnTo>
                  <a:pt x="0" y="7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9" name="Freeform 80"/>
          <p:cNvSpPr/>
          <p:nvPr/>
        </p:nvSpPr>
        <p:spPr>
          <a:xfrm>
            <a:off x="4027320" y="2243160"/>
            <a:ext cx="814680" cy="909720"/>
          </a:xfrm>
          <a:custGeom>
            <a:avLst/>
            <a:gdLst>
              <a:gd name="textAreaLeft" fmla="*/ 0 w 814680"/>
              <a:gd name="textAreaRight" fmla="*/ 815040 w 8146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1185" h="1145">
                <a:moveTo>
                  <a:pt x="0" y="70"/>
                </a:moveTo>
                <a:lnTo>
                  <a:pt x="7" y="233"/>
                </a:lnTo>
                <a:lnTo>
                  <a:pt x="52" y="363"/>
                </a:lnTo>
                <a:lnTo>
                  <a:pt x="59" y="532"/>
                </a:lnTo>
                <a:lnTo>
                  <a:pt x="92" y="668"/>
                </a:lnTo>
                <a:lnTo>
                  <a:pt x="50" y="734"/>
                </a:lnTo>
                <a:lnTo>
                  <a:pt x="110" y="788"/>
                </a:lnTo>
                <a:lnTo>
                  <a:pt x="108" y="1145"/>
                </a:lnTo>
                <a:lnTo>
                  <a:pt x="963" y="1132"/>
                </a:lnTo>
                <a:lnTo>
                  <a:pt x="948" y="1062"/>
                </a:lnTo>
                <a:lnTo>
                  <a:pt x="925" y="1038"/>
                </a:lnTo>
                <a:lnTo>
                  <a:pt x="857" y="1000"/>
                </a:lnTo>
                <a:lnTo>
                  <a:pt x="811" y="955"/>
                </a:lnTo>
                <a:lnTo>
                  <a:pt x="695" y="894"/>
                </a:lnTo>
                <a:lnTo>
                  <a:pt x="697" y="788"/>
                </a:lnTo>
                <a:lnTo>
                  <a:pt x="674" y="721"/>
                </a:lnTo>
                <a:lnTo>
                  <a:pt x="769" y="620"/>
                </a:lnTo>
                <a:lnTo>
                  <a:pt x="761" y="520"/>
                </a:lnTo>
                <a:lnTo>
                  <a:pt x="784" y="503"/>
                </a:lnTo>
                <a:lnTo>
                  <a:pt x="898" y="421"/>
                </a:lnTo>
                <a:lnTo>
                  <a:pt x="957" y="360"/>
                </a:lnTo>
                <a:lnTo>
                  <a:pt x="1034" y="308"/>
                </a:lnTo>
                <a:lnTo>
                  <a:pt x="1185" y="241"/>
                </a:lnTo>
                <a:lnTo>
                  <a:pt x="1129" y="245"/>
                </a:lnTo>
                <a:lnTo>
                  <a:pt x="1077" y="223"/>
                </a:lnTo>
                <a:lnTo>
                  <a:pt x="992" y="231"/>
                </a:lnTo>
                <a:lnTo>
                  <a:pt x="973" y="202"/>
                </a:lnTo>
                <a:lnTo>
                  <a:pt x="946" y="214"/>
                </a:lnTo>
                <a:lnTo>
                  <a:pt x="888" y="245"/>
                </a:lnTo>
                <a:lnTo>
                  <a:pt x="847" y="235"/>
                </a:lnTo>
                <a:lnTo>
                  <a:pt x="830" y="219"/>
                </a:lnTo>
                <a:lnTo>
                  <a:pt x="799" y="212"/>
                </a:lnTo>
                <a:lnTo>
                  <a:pt x="784" y="190"/>
                </a:lnTo>
                <a:lnTo>
                  <a:pt x="753" y="192"/>
                </a:lnTo>
                <a:lnTo>
                  <a:pt x="753" y="212"/>
                </a:lnTo>
                <a:lnTo>
                  <a:pt x="742" y="216"/>
                </a:lnTo>
                <a:lnTo>
                  <a:pt x="718" y="171"/>
                </a:lnTo>
                <a:lnTo>
                  <a:pt x="688" y="171"/>
                </a:lnTo>
                <a:lnTo>
                  <a:pt x="697" y="152"/>
                </a:lnTo>
                <a:lnTo>
                  <a:pt x="630" y="142"/>
                </a:lnTo>
                <a:lnTo>
                  <a:pt x="605" y="140"/>
                </a:lnTo>
                <a:lnTo>
                  <a:pt x="524" y="166"/>
                </a:lnTo>
                <a:lnTo>
                  <a:pt x="510" y="142"/>
                </a:lnTo>
                <a:lnTo>
                  <a:pt x="387" y="120"/>
                </a:lnTo>
                <a:lnTo>
                  <a:pt x="366" y="9"/>
                </a:lnTo>
                <a:lnTo>
                  <a:pt x="312" y="0"/>
                </a:lnTo>
                <a:lnTo>
                  <a:pt x="312" y="72"/>
                </a:lnTo>
                <a:lnTo>
                  <a:pt x="0" y="70"/>
                </a:lnTo>
              </a:path>
            </a:pathLst>
          </a:custGeom>
          <a:solidFill>
            <a:srgbClr val="ffff00"/>
          </a:solidFill>
          <a:ln cap="sq"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0" name="Text Box 147"/>
          <p:cNvSpPr/>
          <p:nvPr/>
        </p:nvSpPr>
        <p:spPr>
          <a:xfrm>
            <a:off x="6934320" y="4946760"/>
            <a:ext cx="2209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1" name="Text Box 148"/>
          <p:cNvSpPr/>
          <p:nvPr/>
        </p:nvSpPr>
        <p:spPr>
          <a:xfrm>
            <a:off x="60800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2" name="Freeform 149"/>
          <p:cNvSpPr/>
          <p:nvPr/>
        </p:nvSpPr>
        <p:spPr>
          <a:xfrm>
            <a:off x="6734160" y="31701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78" h="109">
                <a:moveTo>
                  <a:pt x="7" y="105"/>
                </a:moveTo>
                <a:lnTo>
                  <a:pt x="4" y="107"/>
                </a:lnTo>
                <a:lnTo>
                  <a:pt x="2" y="109"/>
                </a:lnTo>
                <a:lnTo>
                  <a:pt x="0" y="107"/>
                </a:lnTo>
                <a:lnTo>
                  <a:pt x="0" y="105"/>
                </a:lnTo>
                <a:lnTo>
                  <a:pt x="0" y="103"/>
                </a:lnTo>
                <a:lnTo>
                  <a:pt x="0" y="102"/>
                </a:lnTo>
                <a:lnTo>
                  <a:pt x="0" y="98"/>
                </a:lnTo>
                <a:lnTo>
                  <a:pt x="0" y="97"/>
                </a:lnTo>
                <a:lnTo>
                  <a:pt x="0" y="95"/>
                </a:lnTo>
                <a:lnTo>
                  <a:pt x="2" y="92"/>
                </a:lnTo>
                <a:lnTo>
                  <a:pt x="4" y="88"/>
                </a:lnTo>
                <a:lnTo>
                  <a:pt x="6" y="85"/>
                </a:lnTo>
                <a:lnTo>
                  <a:pt x="7" y="83"/>
                </a:lnTo>
                <a:lnTo>
                  <a:pt x="9" y="81"/>
                </a:lnTo>
                <a:lnTo>
                  <a:pt x="11" y="80"/>
                </a:lnTo>
                <a:lnTo>
                  <a:pt x="12" y="80"/>
                </a:lnTo>
                <a:lnTo>
                  <a:pt x="16" y="78"/>
                </a:lnTo>
                <a:lnTo>
                  <a:pt x="19" y="76"/>
                </a:lnTo>
                <a:lnTo>
                  <a:pt x="21" y="73"/>
                </a:lnTo>
                <a:lnTo>
                  <a:pt x="22" y="70"/>
                </a:lnTo>
                <a:lnTo>
                  <a:pt x="22" y="68"/>
                </a:lnTo>
                <a:lnTo>
                  <a:pt x="24" y="65"/>
                </a:lnTo>
                <a:lnTo>
                  <a:pt x="24" y="61"/>
                </a:lnTo>
                <a:lnTo>
                  <a:pt x="26" y="61"/>
                </a:lnTo>
                <a:lnTo>
                  <a:pt x="26" y="59"/>
                </a:lnTo>
                <a:lnTo>
                  <a:pt x="28" y="59"/>
                </a:lnTo>
                <a:lnTo>
                  <a:pt x="31" y="58"/>
                </a:lnTo>
                <a:lnTo>
                  <a:pt x="34" y="58"/>
                </a:lnTo>
                <a:lnTo>
                  <a:pt x="38" y="56"/>
                </a:lnTo>
                <a:lnTo>
                  <a:pt x="39" y="54"/>
                </a:lnTo>
                <a:lnTo>
                  <a:pt x="41" y="53"/>
                </a:lnTo>
                <a:lnTo>
                  <a:pt x="43" y="51"/>
                </a:lnTo>
                <a:lnTo>
                  <a:pt x="63" y="53"/>
                </a:lnTo>
                <a:lnTo>
                  <a:pt x="63" y="51"/>
                </a:lnTo>
                <a:lnTo>
                  <a:pt x="65" y="49"/>
                </a:lnTo>
                <a:lnTo>
                  <a:pt x="65" y="48"/>
                </a:lnTo>
                <a:lnTo>
                  <a:pt x="66" y="46"/>
                </a:lnTo>
                <a:lnTo>
                  <a:pt x="68" y="43"/>
                </a:lnTo>
                <a:lnTo>
                  <a:pt x="70" y="41"/>
                </a:lnTo>
                <a:lnTo>
                  <a:pt x="73" y="39"/>
                </a:lnTo>
                <a:lnTo>
                  <a:pt x="77" y="39"/>
                </a:lnTo>
                <a:lnTo>
                  <a:pt x="80" y="39"/>
                </a:lnTo>
                <a:lnTo>
                  <a:pt x="82" y="37"/>
                </a:lnTo>
                <a:lnTo>
                  <a:pt x="83" y="37"/>
                </a:lnTo>
                <a:lnTo>
                  <a:pt x="94" y="36"/>
                </a:lnTo>
                <a:lnTo>
                  <a:pt x="100" y="34"/>
                </a:lnTo>
                <a:lnTo>
                  <a:pt x="105" y="31"/>
                </a:lnTo>
                <a:lnTo>
                  <a:pt x="109" y="29"/>
                </a:lnTo>
                <a:lnTo>
                  <a:pt x="112" y="27"/>
                </a:lnTo>
                <a:lnTo>
                  <a:pt x="116" y="24"/>
                </a:lnTo>
                <a:lnTo>
                  <a:pt x="119" y="19"/>
                </a:lnTo>
                <a:lnTo>
                  <a:pt x="124" y="12"/>
                </a:lnTo>
                <a:lnTo>
                  <a:pt x="132" y="4"/>
                </a:lnTo>
                <a:lnTo>
                  <a:pt x="138" y="0"/>
                </a:lnTo>
                <a:lnTo>
                  <a:pt x="138" y="2"/>
                </a:lnTo>
                <a:lnTo>
                  <a:pt x="136" y="7"/>
                </a:lnTo>
                <a:lnTo>
                  <a:pt x="132" y="10"/>
                </a:lnTo>
                <a:lnTo>
                  <a:pt x="131" y="14"/>
                </a:lnTo>
                <a:lnTo>
                  <a:pt x="129" y="15"/>
                </a:lnTo>
                <a:lnTo>
                  <a:pt x="129" y="17"/>
                </a:lnTo>
                <a:lnTo>
                  <a:pt x="127" y="19"/>
                </a:lnTo>
                <a:lnTo>
                  <a:pt x="127" y="21"/>
                </a:lnTo>
                <a:lnTo>
                  <a:pt x="126" y="21"/>
                </a:lnTo>
                <a:lnTo>
                  <a:pt x="122" y="26"/>
                </a:lnTo>
                <a:lnTo>
                  <a:pt x="119" y="29"/>
                </a:lnTo>
                <a:lnTo>
                  <a:pt x="117" y="32"/>
                </a:lnTo>
                <a:lnTo>
                  <a:pt x="116" y="34"/>
                </a:lnTo>
                <a:lnTo>
                  <a:pt x="116" y="36"/>
                </a:lnTo>
                <a:lnTo>
                  <a:pt x="116" y="37"/>
                </a:lnTo>
                <a:lnTo>
                  <a:pt x="119" y="36"/>
                </a:lnTo>
                <a:lnTo>
                  <a:pt x="122" y="36"/>
                </a:lnTo>
                <a:lnTo>
                  <a:pt x="124" y="37"/>
                </a:lnTo>
                <a:lnTo>
                  <a:pt x="122" y="39"/>
                </a:lnTo>
                <a:lnTo>
                  <a:pt x="122" y="41"/>
                </a:lnTo>
                <a:lnTo>
                  <a:pt x="122" y="43"/>
                </a:lnTo>
                <a:lnTo>
                  <a:pt x="121" y="48"/>
                </a:lnTo>
                <a:lnTo>
                  <a:pt x="122" y="48"/>
                </a:lnTo>
                <a:lnTo>
                  <a:pt x="124" y="46"/>
                </a:lnTo>
                <a:lnTo>
                  <a:pt x="126" y="46"/>
                </a:lnTo>
                <a:lnTo>
                  <a:pt x="129" y="43"/>
                </a:lnTo>
                <a:lnTo>
                  <a:pt x="132" y="41"/>
                </a:lnTo>
                <a:lnTo>
                  <a:pt x="132" y="39"/>
                </a:lnTo>
                <a:lnTo>
                  <a:pt x="129" y="34"/>
                </a:lnTo>
                <a:lnTo>
                  <a:pt x="129" y="31"/>
                </a:lnTo>
                <a:lnTo>
                  <a:pt x="131" y="26"/>
                </a:lnTo>
                <a:lnTo>
                  <a:pt x="136" y="22"/>
                </a:lnTo>
                <a:lnTo>
                  <a:pt x="139" y="19"/>
                </a:lnTo>
                <a:lnTo>
                  <a:pt x="144" y="15"/>
                </a:lnTo>
                <a:lnTo>
                  <a:pt x="148" y="14"/>
                </a:lnTo>
                <a:lnTo>
                  <a:pt x="149" y="12"/>
                </a:lnTo>
                <a:lnTo>
                  <a:pt x="154" y="12"/>
                </a:lnTo>
                <a:lnTo>
                  <a:pt x="160" y="14"/>
                </a:lnTo>
                <a:lnTo>
                  <a:pt x="161" y="14"/>
                </a:lnTo>
                <a:lnTo>
                  <a:pt x="163" y="12"/>
                </a:lnTo>
                <a:lnTo>
                  <a:pt x="165" y="9"/>
                </a:lnTo>
                <a:lnTo>
                  <a:pt x="166" y="9"/>
                </a:lnTo>
                <a:lnTo>
                  <a:pt x="171" y="4"/>
                </a:lnTo>
                <a:lnTo>
                  <a:pt x="175" y="0"/>
                </a:lnTo>
                <a:lnTo>
                  <a:pt x="176" y="0"/>
                </a:lnTo>
                <a:lnTo>
                  <a:pt x="178" y="2"/>
                </a:lnTo>
                <a:lnTo>
                  <a:pt x="178" y="4"/>
                </a:lnTo>
                <a:lnTo>
                  <a:pt x="176" y="7"/>
                </a:lnTo>
                <a:lnTo>
                  <a:pt x="175" y="9"/>
                </a:lnTo>
                <a:lnTo>
                  <a:pt x="170" y="14"/>
                </a:lnTo>
                <a:lnTo>
                  <a:pt x="165" y="17"/>
                </a:lnTo>
                <a:lnTo>
                  <a:pt x="160" y="22"/>
                </a:lnTo>
                <a:lnTo>
                  <a:pt x="154" y="27"/>
                </a:lnTo>
                <a:lnTo>
                  <a:pt x="148" y="31"/>
                </a:lnTo>
                <a:lnTo>
                  <a:pt x="143" y="36"/>
                </a:lnTo>
                <a:lnTo>
                  <a:pt x="138" y="39"/>
                </a:lnTo>
                <a:lnTo>
                  <a:pt x="132" y="44"/>
                </a:lnTo>
                <a:lnTo>
                  <a:pt x="127" y="48"/>
                </a:lnTo>
                <a:lnTo>
                  <a:pt x="122" y="51"/>
                </a:lnTo>
                <a:lnTo>
                  <a:pt x="119" y="54"/>
                </a:lnTo>
                <a:lnTo>
                  <a:pt x="116" y="58"/>
                </a:lnTo>
                <a:lnTo>
                  <a:pt x="112" y="59"/>
                </a:lnTo>
                <a:lnTo>
                  <a:pt x="110" y="61"/>
                </a:lnTo>
                <a:lnTo>
                  <a:pt x="109" y="63"/>
                </a:lnTo>
                <a:lnTo>
                  <a:pt x="97" y="71"/>
                </a:lnTo>
                <a:lnTo>
                  <a:pt x="88" y="76"/>
                </a:lnTo>
                <a:lnTo>
                  <a:pt x="85" y="78"/>
                </a:lnTo>
                <a:lnTo>
                  <a:pt x="85" y="76"/>
                </a:lnTo>
                <a:lnTo>
                  <a:pt x="87" y="73"/>
                </a:lnTo>
                <a:lnTo>
                  <a:pt x="88" y="71"/>
                </a:lnTo>
                <a:lnTo>
                  <a:pt x="90" y="70"/>
                </a:lnTo>
                <a:lnTo>
                  <a:pt x="97" y="61"/>
                </a:lnTo>
                <a:lnTo>
                  <a:pt x="100" y="58"/>
                </a:lnTo>
                <a:lnTo>
                  <a:pt x="97" y="58"/>
                </a:lnTo>
                <a:lnTo>
                  <a:pt x="94" y="59"/>
                </a:lnTo>
                <a:lnTo>
                  <a:pt x="87" y="65"/>
                </a:lnTo>
                <a:lnTo>
                  <a:pt x="80" y="68"/>
                </a:lnTo>
                <a:lnTo>
                  <a:pt x="75" y="71"/>
                </a:lnTo>
                <a:lnTo>
                  <a:pt x="73" y="73"/>
                </a:lnTo>
                <a:lnTo>
                  <a:pt x="61" y="76"/>
                </a:lnTo>
                <a:lnTo>
                  <a:pt x="61" y="78"/>
                </a:lnTo>
                <a:lnTo>
                  <a:pt x="58" y="80"/>
                </a:lnTo>
                <a:lnTo>
                  <a:pt x="55" y="81"/>
                </a:lnTo>
                <a:lnTo>
                  <a:pt x="51" y="85"/>
                </a:lnTo>
                <a:lnTo>
                  <a:pt x="48" y="87"/>
                </a:lnTo>
                <a:lnTo>
                  <a:pt x="44" y="90"/>
                </a:lnTo>
                <a:lnTo>
                  <a:pt x="41" y="92"/>
                </a:lnTo>
                <a:lnTo>
                  <a:pt x="39" y="92"/>
                </a:lnTo>
                <a:lnTo>
                  <a:pt x="29" y="100"/>
                </a:lnTo>
                <a:lnTo>
                  <a:pt x="21" y="105"/>
                </a:lnTo>
                <a:lnTo>
                  <a:pt x="16" y="109"/>
                </a:lnTo>
                <a:lnTo>
                  <a:pt x="14" y="109"/>
                </a:lnTo>
                <a:lnTo>
                  <a:pt x="12" y="109"/>
                </a:lnTo>
                <a:lnTo>
                  <a:pt x="12" y="107"/>
                </a:lnTo>
                <a:lnTo>
                  <a:pt x="14" y="105"/>
                </a:lnTo>
                <a:lnTo>
                  <a:pt x="16" y="103"/>
                </a:lnTo>
                <a:lnTo>
                  <a:pt x="17" y="102"/>
                </a:lnTo>
                <a:lnTo>
                  <a:pt x="19" y="98"/>
                </a:lnTo>
                <a:lnTo>
                  <a:pt x="19" y="97"/>
                </a:lnTo>
                <a:lnTo>
                  <a:pt x="19" y="95"/>
                </a:lnTo>
                <a:lnTo>
                  <a:pt x="16" y="97"/>
                </a:lnTo>
                <a:lnTo>
                  <a:pt x="12" y="98"/>
                </a:lnTo>
                <a:lnTo>
                  <a:pt x="7" y="10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3" name="Freeform 28"/>
          <p:cNvSpPr/>
          <p:nvPr/>
        </p:nvSpPr>
        <p:spPr>
          <a:xfrm>
            <a:off x="6553080" y="3475080"/>
            <a:ext cx="130320" cy="216000"/>
          </a:xfrm>
          <a:custGeom>
            <a:avLst/>
            <a:gdLst>
              <a:gd name="textAreaLeft" fmla="*/ 0 w 130320"/>
              <a:gd name="textAreaRight" fmla="*/ 130680 w 13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89" h="268">
                <a:moveTo>
                  <a:pt x="0" y="27"/>
                </a:moveTo>
                <a:lnTo>
                  <a:pt x="25" y="0"/>
                </a:lnTo>
                <a:lnTo>
                  <a:pt x="61" y="0"/>
                </a:lnTo>
                <a:lnTo>
                  <a:pt x="48" y="29"/>
                </a:lnTo>
                <a:lnTo>
                  <a:pt x="40" y="37"/>
                </a:lnTo>
                <a:lnTo>
                  <a:pt x="48" y="68"/>
                </a:lnTo>
                <a:lnTo>
                  <a:pt x="65" y="89"/>
                </a:lnTo>
                <a:lnTo>
                  <a:pt x="92" y="111"/>
                </a:lnTo>
                <a:lnTo>
                  <a:pt x="102" y="140"/>
                </a:lnTo>
                <a:lnTo>
                  <a:pt x="119" y="166"/>
                </a:lnTo>
                <a:lnTo>
                  <a:pt x="139" y="179"/>
                </a:lnTo>
                <a:lnTo>
                  <a:pt x="169" y="188"/>
                </a:lnTo>
                <a:lnTo>
                  <a:pt x="183" y="212"/>
                </a:lnTo>
                <a:lnTo>
                  <a:pt x="158" y="234"/>
                </a:lnTo>
                <a:lnTo>
                  <a:pt x="183" y="229"/>
                </a:lnTo>
                <a:lnTo>
                  <a:pt x="189" y="250"/>
                </a:lnTo>
                <a:lnTo>
                  <a:pt x="140" y="260"/>
                </a:lnTo>
                <a:lnTo>
                  <a:pt x="75" y="268"/>
                </a:lnTo>
                <a:lnTo>
                  <a:pt x="71" y="251"/>
                </a:lnTo>
                <a:lnTo>
                  <a:pt x="0" y="2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4" name="Text Box 146"/>
          <p:cNvSpPr/>
          <p:nvPr/>
        </p:nvSpPr>
        <p:spPr>
          <a:xfrm>
            <a:off x="733320" y="6172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rbel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558800" y="338040"/>
            <a:ext cx="52531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Arial Narrow"/>
                <a:ea typeface="Arial"/>
              </a:rPr>
              <a:t>Geographical Distribution of KPC-Producers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76" name="Rectangle 145"/>
          <p:cNvSpPr/>
          <p:nvPr/>
        </p:nvSpPr>
        <p:spPr>
          <a:xfrm>
            <a:off x="6705720" y="501336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7" name="Text Box 162"/>
          <p:cNvSpPr/>
          <p:nvPr/>
        </p:nvSpPr>
        <p:spPr>
          <a:xfrm>
            <a:off x="6934320" y="4572000"/>
            <a:ext cx="2209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Sporadic and Widespread isolate(s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8" name="TextBox 147"/>
          <p:cNvSpPr/>
          <p:nvPr/>
        </p:nvSpPr>
        <p:spPr>
          <a:xfrm>
            <a:off x="5540400" y="6537240"/>
            <a:ext cx="358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olas"/>
              </a:rPr>
              <a:t>Centers for Disease Control and Prevention.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9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C592-6390-43F7-8071-02E27800530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Rectangle 2" descr=""/>
          <p:cNvPicPr/>
          <p:nvPr/>
        </p:nvPicPr>
        <p:blipFill>
          <a:blip r:embed="rId1"/>
          <a:stretch/>
        </p:blipFill>
        <p:spPr>
          <a:xfrm>
            <a:off x="384120" y="0"/>
            <a:ext cx="8229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1" name=""/>
          <p:cNvGraphicFramePr/>
          <p:nvPr/>
        </p:nvGraphicFramePr>
        <p:xfrm>
          <a:off x="228600" y="1143000"/>
          <a:ext cx="8559720" cy="5151600"/>
        </p:xfrm>
        <a:graphic>
          <a:graphicData uri="http://schemas.openxmlformats.org/drawingml/2006/table">
            <a:tbl>
              <a:tblPr/>
              <a:tblGrid>
                <a:gridCol w="1905120"/>
                <a:gridCol w="1981080"/>
                <a:gridCol w="228600"/>
                <a:gridCol w="2362320"/>
                <a:gridCol w="2082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ntimicrob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terpre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ntimicrob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terpre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ikac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hloramphenic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ox/cla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iprofloxac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picill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rtapen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ztreon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ntamic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fazol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mipen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fpodox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ropen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fotax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ipercillin/Taz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totet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obramyc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foxi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rimeth/Sulf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ftazid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olymyxin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C &gt;4mg/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ftriax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lis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C &gt;4mg/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fep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igecyc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2da2bf"/>
                      </a:solidFill>
                    </a:lnL>
                    <a:lnR w="5760">
                      <a:solidFill>
                        <a:srgbClr val="2da2bf"/>
                      </a:solidFill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2" name="Rectangle 2" descr=""/>
          <p:cNvPicPr/>
          <p:nvPr/>
        </p:nvPicPr>
        <p:blipFill>
          <a:blip r:embed="rId1"/>
          <a:stretch/>
        </p:blipFill>
        <p:spPr>
          <a:xfrm>
            <a:off x="1517760" y="231840"/>
            <a:ext cx="6254640" cy="90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3" name="Object 3"/>
          <p:cNvGraphicFramePr/>
          <p:nvPr/>
        </p:nvGraphicFramePr>
        <p:xfrm>
          <a:off x="838080" y="1219320"/>
          <a:ext cx="7589880" cy="510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19320"/>
                    <a:ext cx="758988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AutoShape 4"/>
          <p:cNvSpPr/>
          <p:nvPr/>
        </p:nvSpPr>
        <p:spPr>
          <a:xfrm>
            <a:off x="4495680" y="1981080"/>
            <a:ext cx="198144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&lt;0.001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6" name="AutoShape 5"/>
          <p:cNvSpPr/>
          <p:nvPr/>
        </p:nvSpPr>
        <p:spPr>
          <a:xfrm>
            <a:off x="2209680" y="1371600"/>
            <a:ext cx="198144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&lt;0.00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7" name="Text Box 6"/>
          <p:cNvSpPr/>
          <p:nvPr/>
        </p:nvSpPr>
        <p:spPr>
          <a:xfrm>
            <a:off x="3243240" y="45147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8" name="Text Box 7"/>
          <p:cNvSpPr/>
          <p:nvPr/>
        </p:nvSpPr>
        <p:spPr>
          <a:xfrm>
            <a:off x="2557440" y="45147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9" name="Text Box 8"/>
          <p:cNvSpPr/>
          <p:nvPr/>
        </p:nvSpPr>
        <p:spPr>
          <a:xfrm>
            <a:off x="5567400" y="45147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0" name="Text Box 9"/>
          <p:cNvSpPr/>
          <p:nvPr/>
        </p:nvSpPr>
        <p:spPr>
          <a:xfrm>
            <a:off x="4924440" y="4495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8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1" name="Text Box 10"/>
          <p:cNvSpPr/>
          <p:nvPr/>
        </p:nvSpPr>
        <p:spPr>
          <a:xfrm>
            <a:off x="1600200" y="5791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OR 3.71 (1.97-7.01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2" name="Text Box 11"/>
          <p:cNvSpPr/>
          <p:nvPr/>
        </p:nvSpPr>
        <p:spPr>
          <a:xfrm>
            <a:off x="4614840" y="6130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OR 4.5 (2.16-9.35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ew clinical cases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large reservoir of colonized patients in LTCFs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lonization rate was as high as 49% in one outbreak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Recipe for CRKP outbreaks: 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ection control breaches (lack of complianc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recognized colonized residents serving as reservoirs for transmiss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5284-B0CC-4936-BCB2-D807AC74501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9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Non-motile gram negative bacteria (32 species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Ubiquitous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widely distributed in nature (soil, water, food, sewage) &amp; the hospital environ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DR-Ab is primarily a nosocomial patho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Long survival time on inanimate surfaces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extensive environmental contamin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ransmission …. and…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eservoirs: …… and …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4086-305E-4442-9484-95BA6C687C7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98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70000"/>
          </a:xfrm>
          <a:prstGeom prst="rect">
            <a:avLst/>
          </a:prstGeom>
          <a:ln w="0">
            <a:noFill/>
          </a:ln>
        </p:spPr>
      </p:pic>
      <p:sp>
        <p:nvSpPr>
          <p:cNvPr id="1400" name="PlaceHolder 1"/>
          <p:cNvSpPr>
            <a:spLocks noGrp="1"/>
          </p:cNvSpPr>
          <p:nvPr>
            <p:ph/>
          </p:nvPr>
        </p:nvSpPr>
        <p:spPr>
          <a:xfrm>
            <a:off x="457200" y="4800600"/>
            <a:ext cx="8231040" cy="1752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Most common gram negative carried by skin of HCP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common gram negative carried by skin of HC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quently colonizes tracheostomy sit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lorohexidine resista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609120" y="2093760"/>
            <a:ext cx="3886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spiratory care equipment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ed rails, Bedside tables,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ttresses, Pillow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urtains, door handl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eyboard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loor mops, sink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4645080" y="2133720"/>
            <a:ext cx="38894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ir humidifiers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tient care ite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und care procedu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quipment carts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usion pump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tient monitors and X-ray boar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E669-FD44-4320-B6EE-2B771A5881E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4" name="Rectangle 7"/>
          <p:cNvSpPr/>
          <p:nvPr/>
        </p:nvSpPr>
        <p:spPr>
          <a:xfrm>
            <a:off x="1219320" y="14479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despread environmental contamination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DR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inetobacter mainly cau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neumonia (Ventilator-associated pneumonia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rinary tract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acteremi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ningiti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kin/wound infection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DR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inetobac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cute care (ICUs)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aditionally, associated with outbreak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TAC &amp; LTCF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jured military personnel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utbreak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mortality rates up to 75%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C984-3EA4-4E3E-8537-3F9A22C2ED3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erobic gram-negative rods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Ubiquitous in soil and water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oist environment (hydrophilic) (e.g. sink drains, vegetables, river water, etc.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. aeruginos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is an opportunistic infection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rarely colonize healthy individuals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t Risk individual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mmuno-compromised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rn patients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Patients on mechanical ventilation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ystic fibrosis patient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56DC-1654-4D14-9D12-A7A70614139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10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0% of all hospital-acquired infection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ften cause severe life threatening HAI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n be found everywhere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n be community acquired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 healthcare facilities:  respiratory equipment, food, sinks, taps, toilets, weak disinfectants, showers and mops, uncooked vegetables, flower water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ransmission …..and ………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servoirs ……. and …………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onization precedes infection in 50% of cas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4E0D-7601-4943-A1B5-FF3960E762F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1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70000"/>
          </a:xfrm>
          <a:prstGeom prst="rect">
            <a:avLst/>
          </a:prstGeom>
          <a:ln w="0">
            <a:noFill/>
          </a:ln>
        </p:spPr>
      </p:pic>
      <p:sp>
        <p:nvSpPr>
          <p:cNvPr id="1415" name=""/>
          <p:cNvSpPr txBox="1"/>
          <p:nvPr/>
        </p:nvSpPr>
        <p:spPr>
          <a:xfrm>
            <a:off x="456840" y="1371240"/>
            <a:ext cx="4724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re Measure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ministrative support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urveillanc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tient placement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tient/staff cohorting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nd hygien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tact precaution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tocol for lab notifica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dicated equipment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vice us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vironmental measur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nitor complianc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ducation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ntimicrobial stewardship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4876560" y="1444320"/>
            <a:ext cx="38098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lemental Measur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emptive isolati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 surveillance cultur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lorohexidine bathing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FB0F-119D-4767-B6B9-49493DEC604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finition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organisms, predominantly bacteria, that are resistant to one or more classes of antimicrobial ag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ortanc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ed options for treatment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the length of stay and cost of hospitalizati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admission to and stay in ICU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mortality rat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97A2-3C57-4310-96FF-725B61FF4C9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89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m positive spore forming bacillus (rods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ligate anaerob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 of the GI Flora i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-3% of healthy adul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0% of children &lt; 12 month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 strains produce toxins A &amp; B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xins-producing strains ca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. dif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 (CDI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DI ranges from mild, moderate, to severe and even fatal illnes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A579-946D-45DF-A8AE-26B9C0E3087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2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3" descr="B2201548-Clostridium_difficile_bacteria,_TEM-SPL.jpg"/>
          <p:cNvPicPr/>
          <p:nvPr/>
        </p:nvPicPr>
        <p:blipFill>
          <a:blip r:embed="rId2"/>
          <a:stretch/>
        </p:blipFill>
        <p:spPr>
          <a:xfrm>
            <a:off x="5562720" y="2209680"/>
            <a:ext cx="2666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ransmission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ecal – oral rout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aminated hands of healthcare worker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aminated environmental surfaces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erson to person in hospitals and LTCF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eservoir: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Human: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lonized or infected persons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aminated environmen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. dif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spores can survive for up 5 months on environmental surface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F200-4B96-425B-9809-83DE264D674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2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common cause of nosocomial antibiotic-associated diarrhea (AAD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st common infectious cause of acute diarrheal illness in LTCF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only nosocomial organism that is anaerobic and forms spore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ective dose is &lt; 10 spores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4CF6-483C-46A8-BF44-E11375719C3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2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8" name=""/>
          <p:cNvGraphicFramePr/>
          <p:nvPr/>
        </p:nvGraphicFramePr>
        <p:xfrm>
          <a:off x="228600" y="1523880"/>
          <a:ext cx="8686800" cy="3962520"/>
        </p:xfrm>
        <a:graphic>
          <a:graphicData uri="http://schemas.openxmlformats.org/drawingml/2006/table">
            <a:tbl>
              <a:tblPr/>
              <a:tblGrid>
                <a:gridCol w="3459240"/>
                <a:gridCol w="1608120"/>
                <a:gridCol w="1447920"/>
                <a:gridCol w="217152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annual cas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annual death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33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ospital-onset, hospital acquired (HO-H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.3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6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ursing home-ons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3.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.2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sp>
        <p:nvSpPr>
          <p:cNvPr id="142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A72F-9640-4623-A7D5-0ACE6A99F1C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30" name="Title 1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 txBox="1"/>
          <p:nvPr/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llness caused by toxin-producing strains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. diffici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anges f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symptomatic carriers  = Colonize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ld or moderate diarrhea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seudo membranous colitis that can be fata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median time between exposure to onset of CDI symptoms is of 2–3 days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isk of developing CDI after exposure ranges between  5-10 days to 10 weeks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AC4F-AF4F-4AB1-885E-575001AB1F6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3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Slide Number Placeholder 3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293B-0634-43DF-9456-79B11AFB3F3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3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436" name="TextBox 3"/>
          <p:cNvSpPr/>
          <p:nvPr/>
        </p:nvSpPr>
        <p:spPr>
          <a:xfrm>
            <a:off x="2590920" y="2590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Lucida Sans Unicode"/>
              </a:rPr>
              <a:t>Antimicrobial stewardship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7" name="Freeform 19"/>
          <p:cNvSpPr/>
          <p:nvPr/>
        </p:nvSpPr>
        <p:spPr>
          <a:xfrm>
            <a:off x="7010280" y="4343400"/>
            <a:ext cx="1447920" cy="2133720"/>
          </a:xfrm>
          <a:prstGeom prst="pie">
            <a:avLst/>
          </a:prstGeom>
          <a:solidFill>
            <a:srgbClr val="a317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1438" name="Group 4"/>
          <p:cNvGrpSpPr/>
          <p:nvPr/>
        </p:nvGrpSpPr>
        <p:grpSpPr>
          <a:xfrm>
            <a:off x="7086600" y="1752480"/>
            <a:ext cx="1599840" cy="2438280"/>
            <a:chOff x="7086600" y="1752480"/>
            <a:chExt cx="1599840" cy="2438280"/>
          </a:xfrm>
        </p:grpSpPr>
        <p:sp>
          <p:nvSpPr>
            <p:cNvPr id="1439" name="AutoShape 3"/>
            <p:cNvSpPr/>
            <p:nvPr/>
          </p:nvSpPr>
          <p:spPr>
            <a:xfrm>
              <a:off x="7086600" y="1752480"/>
              <a:ext cx="159156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0" name="Freeform 5"/>
            <p:cNvSpPr/>
            <p:nvPr/>
          </p:nvSpPr>
          <p:spPr>
            <a:xfrm>
              <a:off x="7086600" y="1752480"/>
              <a:ext cx="1599120" cy="2438280"/>
            </a:xfrm>
            <a:custGeom>
              <a:avLst/>
              <a:gdLst/>
              <a:ahLst/>
              <a:rect l="l" t="t" r="r" b="b"/>
              <a:pathLst>
                <a:path w="1543" h="1298">
                  <a:moveTo>
                    <a:pt x="0" y="369"/>
                  </a:moveTo>
                  <a:lnTo>
                    <a:pt x="1" y="452"/>
                  </a:lnTo>
                  <a:lnTo>
                    <a:pt x="46" y="460"/>
                  </a:lnTo>
                  <a:lnTo>
                    <a:pt x="38" y="482"/>
                  </a:lnTo>
                  <a:lnTo>
                    <a:pt x="34" y="495"/>
                  </a:lnTo>
                  <a:lnTo>
                    <a:pt x="169" y="528"/>
                  </a:lnTo>
                  <a:lnTo>
                    <a:pt x="184" y="680"/>
                  </a:lnTo>
                  <a:lnTo>
                    <a:pt x="290" y="702"/>
                  </a:lnTo>
                  <a:lnTo>
                    <a:pt x="307" y="767"/>
                  </a:lnTo>
                  <a:lnTo>
                    <a:pt x="324" y="833"/>
                  </a:lnTo>
                  <a:lnTo>
                    <a:pt x="330" y="865"/>
                  </a:lnTo>
                  <a:lnTo>
                    <a:pt x="337" y="898"/>
                  </a:lnTo>
                  <a:lnTo>
                    <a:pt x="341" y="931"/>
                  </a:lnTo>
                  <a:lnTo>
                    <a:pt x="344" y="963"/>
                  </a:lnTo>
                  <a:lnTo>
                    <a:pt x="347" y="996"/>
                  </a:lnTo>
                  <a:lnTo>
                    <a:pt x="347" y="1029"/>
                  </a:lnTo>
                  <a:lnTo>
                    <a:pt x="344" y="1062"/>
                  </a:lnTo>
                  <a:lnTo>
                    <a:pt x="340" y="1095"/>
                  </a:lnTo>
                  <a:lnTo>
                    <a:pt x="333" y="1127"/>
                  </a:lnTo>
                  <a:lnTo>
                    <a:pt x="324" y="1160"/>
                  </a:lnTo>
                  <a:lnTo>
                    <a:pt x="311" y="1193"/>
                  </a:lnTo>
                  <a:lnTo>
                    <a:pt x="303" y="1209"/>
                  </a:lnTo>
                  <a:lnTo>
                    <a:pt x="295" y="1225"/>
                  </a:lnTo>
                  <a:lnTo>
                    <a:pt x="295" y="1225"/>
                  </a:lnTo>
                  <a:lnTo>
                    <a:pt x="349" y="1233"/>
                  </a:lnTo>
                  <a:lnTo>
                    <a:pt x="318" y="1272"/>
                  </a:lnTo>
                  <a:lnTo>
                    <a:pt x="348" y="1296"/>
                  </a:lnTo>
                  <a:lnTo>
                    <a:pt x="572" y="1296"/>
                  </a:lnTo>
                  <a:lnTo>
                    <a:pt x="600" y="1289"/>
                  </a:lnTo>
                  <a:lnTo>
                    <a:pt x="600" y="1230"/>
                  </a:lnTo>
                  <a:lnTo>
                    <a:pt x="651" y="1220"/>
                  </a:lnTo>
                  <a:lnTo>
                    <a:pt x="768" y="762"/>
                  </a:lnTo>
                  <a:lnTo>
                    <a:pt x="873" y="1055"/>
                  </a:lnTo>
                  <a:lnTo>
                    <a:pt x="871" y="1067"/>
                  </a:lnTo>
                  <a:lnTo>
                    <a:pt x="871" y="1079"/>
                  </a:lnTo>
                  <a:lnTo>
                    <a:pt x="873" y="1090"/>
                  </a:lnTo>
                  <a:lnTo>
                    <a:pt x="876" y="1102"/>
                  </a:lnTo>
                  <a:lnTo>
                    <a:pt x="880" y="1114"/>
                  </a:lnTo>
                  <a:lnTo>
                    <a:pt x="885" y="1126"/>
                  </a:lnTo>
                  <a:lnTo>
                    <a:pt x="892" y="1137"/>
                  </a:lnTo>
                  <a:lnTo>
                    <a:pt x="899" y="1149"/>
                  </a:lnTo>
                  <a:lnTo>
                    <a:pt x="907" y="1161"/>
                  </a:lnTo>
                  <a:lnTo>
                    <a:pt x="916" y="1172"/>
                  </a:lnTo>
                  <a:lnTo>
                    <a:pt x="927" y="1184"/>
                  </a:lnTo>
                  <a:lnTo>
                    <a:pt x="939" y="1195"/>
                  </a:lnTo>
                  <a:lnTo>
                    <a:pt x="952" y="1207"/>
                  </a:lnTo>
                  <a:lnTo>
                    <a:pt x="965" y="1218"/>
                  </a:lnTo>
                  <a:lnTo>
                    <a:pt x="980" y="1229"/>
                  </a:lnTo>
                  <a:lnTo>
                    <a:pt x="997" y="1240"/>
                  </a:lnTo>
                  <a:lnTo>
                    <a:pt x="977" y="1291"/>
                  </a:lnTo>
                  <a:lnTo>
                    <a:pt x="1018" y="1298"/>
                  </a:lnTo>
                  <a:lnTo>
                    <a:pt x="1241" y="1298"/>
                  </a:lnTo>
                  <a:lnTo>
                    <a:pt x="1244" y="1294"/>
                  </a:lnTo>
                  <a:lnTo>
                    <a:pt x="1245" y="1290"/>
                  </a:lnTo>
                  <a:lnTo>
                    <a:pt x="1245" y="1282"/>
                  </a:lnTo>
                  <a:lnTo>
                    <a:pt x="1243" y="1274"/>
                  </a:lnTo>
                  <a:lnTo>
                    <a:pt x="1239" y="1267"/>
                  </a:lnTo>
                  <a:lnTo>
                    <a:pt x="1230" y="1259"/>
                  </a:lnTo>
                  <a:lnTo>
                    <a:pt x="1221" y="1252"/>
                  </a:lnTo>
                  <a:lnTo>
                    <a:pt x="1210" y="1245"/>
                  </a:lnTo>
                  <a:lnTo>
                    <a:pt x="1196" y="1238"/>
                  </a:lnTo>
                  <a:lnTo>
                    <a:pt x="1228" y="1234"/>
                  </a:lnTo>
                  <a:lnTo>
                    <a:pt x="1207" y="699"/>
                  </a:lnTo>
                  <a:lnTo>
                    <a:pt x="1339" y="685"/>
                  </a:lnTo>
                  <a:lnTo>
                    <a:pt x="1312" y="556"/>
                  </a:lnTo>
                  <a:lnTo>
                    <a:pt x="1543" y="428"/>
                  </a:lnTo>
                  <a:lnTo>
                    <a:pt x="1490" y="315"/>
                  </a:lnTo>
                  <a:lnTo>
                    <a:pt x="1336" y="214"/>
                  </a:lnTo>
                  <a:lnTo>
                    <a:pt x="945" y="174"/>
                  </a:lnTo>
                  <a:lnTo>
                    <a:pt x="939" y="135"/>
                  </a:lnTo>
                  <a:lnTo>
                    <a:pt x="980" y="124"/>
                  </a:lnTo>
                  <a:lnTo>
                    <a:pt x="1021" y="65"/>
                  </a:lnTo>
                  <a:lnTo>
                    <a:pt x="927" y="12"/>
                  </a:lnTo>
                  <a:lnTo>
                    <a:pt x="706" y="0"/>
                  </a:lnTo>
                  <a:lnTo>
                    <a:pt x="583" y="12"/>
                  </a:lnTo>
                  <a:lnTo>
                    <a:pt x="468" y="68"/>
                  </a:lnTo>
                  <a:lnTo>
                    <a:pt x="553" y="132"/>
                  </a:lnTo>
                  <a:lnTo>
                    <a:pt x="589" y="135"/>
                  </a:lnTo>
                  <a:lnTo>
                    <a:pt x="589" y="161"/>
                  </a:lnTo>
                  <a:lnTo>
                    <a:pt x="540" y="175"/>
                  </a:lnTo>
                  <a:lnTo>
                    <a:pt x="132" y="213"/>
                  </a:lnTo>
                  <a:lnTo>
                    <a:pt x="114" y="222"/>
                  </a:lnTo>
                  <a:lnTo>
                    <a:pt x="101" y="232"/>
                  </a:lnTo>
                  <a:lnTo>
                    <a:pt x="87" y="241"/>
                  </a:lnTo>
                  <a:lnTo>
                    <a:pt x="75" y="251"/>
                  </a:lnTo>
                  <a:lnTo>
                    <a:pt x="64" y="260"/>
                  </a:lnTo>
                  <a:lnTo>
                    <a:pt x="56" y="270"/>
                  </a:lnTo>
                  <a:lnTo>
                    <a:pt x="48" y="280"/>
                  </a:lnTo>
                  <a:lnTo>
                    <a:pt x="41" y="289"/>
                  </a:lnTo>
                  <a:lnTo>
                    <a:pt x="29" y="309"/>
                  </a:lnTo>
                  <a:lnTo>
                    <a:pt x="19" y="329"/>
                  </a:lnTo>
                  <a:lnTo>
                    <a:pt x="15" y="339"/>
                  </a:lnTo>
                  <a:lnTo>
                    <a:pt x="11" y="34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7d3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1" name="Freeform 6"/>
            <p:cNvSpPr/>
            <p:nvPr/>
          </p:nvSpPr>
          <p:spPr>
            <a:xfrm>
              <a:off x="7086600" y="2445480"/>
              <a:ext cx="301320" cy="625320"/>
            </a:xfrm>
            <a:custGeom>
              <a:avLst/>
              <a:gdLst/>
              <a:ahLst/>
              <a:rect l="l" t="t" r="r" b="b"/>
              <a:pathLst>
                <a:path w="291" h="33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83"/>
                  </a:lnTo>
                  <a:lnTo>
                    <a:pt x="1" y="83"/>
                  </a:lnTo>
                  <a:lnTo>
                    <a:pt x="45" y="92"/>
                  </a:lnTo>
                  <a:lnTo>
                    <a:pt x="45" y="91"/>
                  </a:lnTo>
                  <a:lnTo>
                    <a:pt x="38" y="113"/>
                  </a:lnTo>
                  <a:lnTo>
                    <a:pt x="33" y="126"/>
                  </a:lnTo>
                  <a:lnTo>
                    <a:pt x="33" y="126"/>
                  </a:lnTo>
                  <a:lnTo>
                    <a:pt x="169" y="159"/>
                  </a:lnTo>
                  <a:lnTo>
                    <a:pt x="169" y="159"/>
                  </a:lnTo>
                  <a:lnTo>
                    <a:pt x="184" y="311"/>
                  </a:lnTo>
                  <a:lnTo>
                    <a:pt x="184" y="311"/>
                  </a:lnTo>
                  <a:lnTo>
                    <a:pt x="290" y="333"/>
                  </a:lnTo>
                  <a:lnTo>
                    <a:pt x="291" y="333"/>
                  </a:lnTo>
                  <a:lnTo>
                    <a:pt x="291" y="333"/>
                  </a:lnTo>
                  <a:lnTo>
                    <a:pt x="185" y="311"/>
                  </a:lnTo>
                  <a:lnTo>
                    <a:pt x="185" y="311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34" y="126"/>
                  </a:lnTo>
                  <a:lnTo>
                    <a:pt x="34" y="126"/>
                  </a:lnTo>
                  <a:lnTo>
                    <a:pt x="39" y="113"/>
                  </a:lnTo>
                  <a:lnTo>
                    <a:pt x="46" y="91"/>
                  </a:lnTo>
                  <a:lnTo>
                    <a:pt x="46" y="91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2" name="Freeform 7"/>
            <p:cNvSpPr/>
            <p:nvPr/>
          </p:nvSpPr>
          <p:spPr>
            <a:xfrm>
              <a:off x="7387200" y="3071160"/>
              <a:ext cx="58680" cy="982800"/>
            </a:xfrm>
            <a:custGeom>
              <a:avLst/>
              <a:gdLst/>
              <a:ahLst/>
              <a:rect l="l" t="t" r="r" b="b"/>
              <a:pathLst>
                <a:path w="57" h="52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6"/>
                  </a:lnTo>
                  <a:lnTo>
                    <a:pt x="8" y="33"/>
                  </a:lnTo>
                  <a:lnTo>
                    <a:pt x="12" y="49"/>
                  </a:lnTo>
                  <a:lnTo>
                    <a:pt x="17" y="65"/>
                  </a:lnTo>
                  <a:lnTo>
                    <a:pt x="21" y="81"/>
                  </a:lnTo>
                  <a:lnTo>
                    <a:pt x="25" y="98"/>
                  </a:lnTo>
                  <a:lnTo>
                    <a:pt x="29" y="114"/>
                  </a:lnTo>
                  <a:lnTo>
                    <a:pt x="34" y="131"/>
                  </a:lnTo>
                  <a:lnTo>
                    <a:pt x="36" y="147"/>
                  </a:lnTo>
                  <a:lnTo>
                    <a:pt x="40" y="163"/>
                  </a:lnTo>
                  <a:lnTo>
                    <a:pt x="46" y="196"/>
                  </a:lnTo>
                  <a:lnTo>
                    <a:pt x="49" y="212"/>
                  </a:lnTo>
                  <a:lnTo>
                    <a:pt x="50" y="229"/>
                  </a:lnTo>
                  <a:lnTo>
                    <a:pt x="53" y="245"/>
                  </a:lnTo>
                  <a:lnTo>
                    <a:pt x="54" y="261"/>
                  </a:lnTo>
                  <a:lnTo>
                    <a:pt x="55" y="310"/>
                  </a:lnTo>
                  <a:lnTo>
                    <a:pt x="55" y="327"/>
                  </a:lnTo>
                  <a:lnTo>
                    <a:pt x="53" y="360"/>
                  </a:lnTo>
                  <a:lnTo>
                    <a:pt x="51" y="376"/>
                  </a:lnTo>
                  <a:lnTo>
                    <a:pt x="49" y="392"/>
                  </a:lnTo>
                  <a:lnTo>
                    <a:pt x="46" y="409"/>
                  </a:lnTo>
                  <a:lnTo>
                    <a:pt x="42" y="425"/>
                  </a:lnTo>
                  <a:lnTo>
                    <a:pt x="38" y="442"/>
                  </a:lnTo>
                  <a:lnTo>
                    <a:pt x="32" y="458"/>
                  </a:lnTo>
                  <a:lnTo>
                    <a:pt x="27" y="474"/>
                  </a:lnTo>
                  <a:lnTo>
                    <a:pt x="20" y="490"/>
                  </a:lnTo>
                  <a:lnTo>
                    <a:pt x="5" y="523"/>
                  </a:lnTo>
                  <a:lnTo>
                    <a:pt x="5" y="523"/>
                  </a:lnTo>
                  <a:lnTo>
                    <a:pt x="6" y="523"/>
                  </a:lnTo>
                  <a:lnTo>
                    <a:pt x="6" y="523"/>
                  </a:lnTo>
                  <a:lnTo>
                    <a:pt x="21" y="490"/>
                  </a:lnTo>
                  <a:lnTo>
                    <a:pt x="27" y="474"/>
                  </a:lnTo>
                  <a:lnTo>
                    <a:pt x="34" y="458"/>
                  </a:lnTo>
                  <a:lnTo>
                    <a:pt x="38" y="442"/>
                  </a:lnTo>
                  <a:lnTo>
                    <a:pt x="43" y="425"/>
                  </a:lnTo>
                  <a:lnTo>
                    <a:pt x="46" y="409"/>
                  </a:lnTo>
                  <a:lnTo>
                    <a:pt x="50" y="392"/>
                  </a:lnTo>
                  <a:lnTo>
                    <a:pt x="53" y="376"/>
                  </a:lnTo>
                  <a:lnTo>
                    <a:pt x="54" y="360"/>
                  </a:lnTo>
                  <a:lnTo>
                    <a:pt x="57" y="327"/>
                  </a:lnTo>
                  <a:lnTo>
                    <a:pt x="57" y="310"/>
                  </a:lnTo>
                  <a:lnTo>
                    <a:pt x="55" y="261"/>
                  </a:lnTo>
                  <a:lnTo>
                    <a:pt x="53" y="245"/>
                  </a:lnTo>
                  <a:lnTo>
                    <a:pt x="51" y="229"/>
                  </a:lnTo>
                  <a:lnTo>
                    <a:pt x="49" y="212"/>
                  </a:lnTo>
                  <a:lnTo>
                    <a:pt x="47" y="196"/>
                  </a:lnTo>
                  <a:lnTo>
                    <a:pt x="40" y="163"/>
                  </a:lnTo>
                  <a:lnTo>
                    <a:pt x="38" y="147"/>
                  </a:lnTo>
                  <a:lnTo>
                    <a:pt x="34" y="131"/>
                  </a:lnTo>
                  <a:lnTo>
                    <a:pt x="29" y="114"/>
                  </a:lnTo>
                  <a:lnTo>
                    <a:pt x="25" y="98"/>
                  </a:lnTo>
                  <a:lnTo>
                    <a:pt x="21" y="81"/>
                  </a:lnTo>
                  <a:lnTo>
                    <a:pt x="17" y="65"/>
                  </a:lnTo>
                  <a:lnTo>
                    <a:pt x="13" y="49"/>
                  </a:lnTo>
                  <a:lnTo>
                    <a:pt x="9" y="33"/>
                  </a:lnTo>
                  <a:lnTo>
                    <a:pt x="4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3" name="Freeform 8"/>
            <p:cNvSpPr/>
            <p:nvPr/>
          </p:nvSpPr>
          <p:spPr>
            <a:xfrm>
              <a:off x="7392240" y="3183840"/>
              <a:ext cx="599040" cy="1003320"/>
            </a:xfrm>
            <a:custGeom>
              <a:avLst/>
              <a:gdLst/>
              <a:ahLst/>
              <a:rect l="l" t="t" r="r" b="b"/>
              <a:pathLst>
                <a:path w="578" h="534">
                  <a:moveTo>
                    <a:pt x="0" y="463"/>
                  </a:moveTo>
                  <a:lnTo>
                    <a:pt x="0" y="463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4" y="471"/>
                  </a:lnTo>
                  <a:lnTo>
                    <a:pt x="53" y="471"/>
                  </a:lnTo>
                  <a:lnTo>
                    <a:pt x="23" y="510"/>
                  </a:lnTo>
                  <a:lnTo>
                    <a:pt x="52" y="534"/>
                  </a:lnTo>
                  <a:lnTo>
                    <a:pt x="52" y="534"/>
                  </a:lnTo>
                  <a:lnTo>
                    <a:pt x="53" y="534"/>
                  </a:lnTo>
                  <a:lnTo>
                    <a:pt x="277" y="534"/>
                  </a:lnTo>
                  <a:lnTo>
                    <a:pt x="279" y="534"/>
                  </a:lnTo>
                  <a:lnTo>
                    <a:pt x="306" y="527"/>
                  </a:lnTo>
                  <a:lnTo>
                    <a:pt x="306" y="468"/>
                  </a:lnTo>
                  <a:lnTo>
                    <a:pt x="306" y="468"/>
                  </a:lnTo>
                  <a:lnTo>
                    <a:pt x="356" y="458"/>
                  </a:lnTo>
                  <a:lnTo>
                    <a:pt x="356" y="458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576" y="293"/>
                  </a:lnTo>
                  <a:lnTo>
                    <a:pt x="576" y="293"/>
                  </a:lnTo>
                  <a:lnTo>
                    <a:pt x="578" y="293"/>
                  </a:lnTo>
                  <a:lnTo>
                    <a:pt x="578" y="293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355" y="458"/>
                  </a:lnTo>
                  <a:lnTo>
                    <a:pt x="355" y="458"/>
                  </a:lnTo>
                  <a:lnTo>
                    <a:pt x="305" y="467"/>
                  </a:lnTo>
                  <a:lnTo>
                    <a:pt x="305" y="468"/>
                  </a:lnTo>
                  <a:lnTo>
                    <a:pt x="305" y="527"/>
                  </a:lnTo>
                  <a:lnTo>
                    <a:pt x="305" y="527"/>
                  </a:lnTo>
                  <a:lnTo>
                    <a:pt x="277" y="534"/>
                  </a:lnTo>
                  <a:lnTo>
                    <a:pt x="277" y="534"/>
                  </a:lnTo>
                  <a:lnTo>
                    <a:pt x="53" y="534"/>
                  </a:lnTo>
                  <a:lnTo>
                    <a:pt x="53" y="534"/>
                  </a:lnTo>
                  <a:lnTo>
                    <a:pt x="24" y="510"/>
                  </a:lnTo>
                  <a:lnTo>
                    <a:pt x="54" y="471"/>
                  </a:lnTo>
                  <a:lnTo>
                    <a:pt x="54" y="471"/>
                  </a:lnTo>
                  <a:lnTo>
                    <a:pt x="54" y="471"/>
                  </a:lnTo>
                  <a:lnTo>
                    <a:pt x="0" y="46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4" name="Freeform 9"/>
            <p:cNvSpPr/>
            <p:nvPr/>
          </p:nvSpPr>
          <p:spPr>
            <a:xfrm>
              <a:off x="7988040" y="3732840"/>
              <a:ext cx="131400" cy="349200"/>
            </a:xfrm>
            <a:custGeom>
              <a:avLst/>
              <a:gdLst/>
              <a:ahLst/>
              <a:rect l="l" t="t" r="r" b="b"/>
              <a:pathLst>
                <a:path w="127" h="186">
                  <a:moveTo>
                    <a:pt x="3" y="1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18"/>
                  </a:lnTo>
                  <a:lnTo>
                    <a:pt x="1" y="30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7" y="54"/>
                  </a:lnTo>
                  <a:lnTo>
                    <a:pt x="10" y="60"/>
                  </a:lnTo>
                  <a:lnTo>
                    <a:pt x="11" y="66"/>
                  </a:lnTo>
                  <a:lnTo>
                    <a:pt x="14" y="72"/>
                  </a:lnTo>
                  <a:lnTo>
                    <a:pt x="16" y="77"/>
                  </a:lnTo>
                  <a:lnTo>
                    <a:pt x="20" y="83"/>
                  </a:lnTo>
                  <a:lnTo>
                    <a:pt x="25" y="89"/>
                  </a:lnTo>
                  <a:lnTo>
                    <a:pt x="29" y="95"/>
                  </a:lnTo>
                  <a:lnTo>
                    <a:pt x="31" y="101"/>
                  </a:lnTo>
                  <a:lnTo>
                    <a:pt x="41" y="112"/>
                  </a:lnTo>
                  <a:lnTo>
                    <a:pt x="50" y="124"/>
                  </a:lnTo>
                  <a:lnTo>
                    <a:pt x="56" y="129"/>
                  </a:lnTo>
                  <a:lnTo>
                    <a:pt x="61" y="135"/>
                  </a:lnTo>
                  <a:lnTo>
                    <a:pt x="68" y="141"/>
                  </a:lnTo>
                  <a:lnTo>
                    <a:pt x="73" y="147"/>
                  </a:lnTo>
                  <a:lnTo>
                    <a:pt x="80" y="152"/>
                  </a:lnTo>
                  <a:lnTo>
                    <a:pt x="87" y="158"/>
                  </a:lnTo>
                  <a:lnTo>
                    <a:pt x="101" y="169"/>
                  </a:lnTo>
                  <a:lnTo>
                    <a:pt x="109" y="175"/>
                  </a:lnTo>
                  <a:lnTo>
                    <a:pt x="116" y="181"/>
                  </a:lnTo>
                  <a:lnTo>
                    <a:pt x="125" y="186"/>
                  </a:lnTo>
                  <a:lnTo>
                    <a:pt x="125" y="186"/>
                  </a:lnTo>
                  <a:lnTo>
                    <a:pt x="127" y="186"/>
                  </a:lnTo>
                  <a:lnTo>
                    <a:pt x="127" y="186"/>
                  </a:lnTo>
                  <a:lnTo>
                    <a:pt x="117" y="181"/>
                  </a:lnTo>
                  <a:lnTo>
                    <a:pt x="110" y="175"/>
                  </a:lnTo>
                  <a:lnTo>
                    <a:pt x="102" y="169"/>
                  </a:lnTo>
                  <a:lnTo>
                    <a:pt x="88" y="158"/>
                  </a:lnTo>
                  <a:lnTo>
                    <a:pt x="82" y="152"/>
                  </a:lnTo>
                  <a:lnTo>
                    <a:pt x="75" y="147"/>
                  </a:lnTo>
                  <a:lnTo>
                    <a:pt x="69" y="141"/>
                  </a:lnTo>
                  <a:lnTo>
                    <a:pt x="63" y="135"/>
                  </a:lnTo>
                  <a:lnTo>
                    <a:pt x="57" y="129"/>
                  </a:lnTo>
                  <a:lnTo>
                    <a:pt x="52" y="124"/>
                  </a:lnTo>
                  <a:lnTo>
                    <a:pt x="41" y="112"/>
                  </a:lnTo>
                  <a:lnTo>
                    <a:pt x="33" y="101"/>
                  </a:lnTo>
                  <a:lnTo>
                    <a:pt x="29" y="95"/>
                  </a:lnTo>
                  <a:lnTo>
                    <a:pt x="25" y="89"/>
                  </a:lnTo>
                  <a:lnTo>
                    <a:pt x="20" y="83"/>
                  </a:lnTo>
                  <a:lnTo>
                    <a:pt x="18" y="77"/>
                  </a:lnTo>
                  <a:lnTo>
                    <a:pt x="15" y="72"/>
                  </a:lnTo>
                  <a:lnTo>
                    <a:pt x="12" y="66"/>
                  </a:lnTo>
                  <a:lnTo>
                    <a:pt x="10" y="60"/>
                  </a:lnTo>
                  <a:lnTo>
                    <a:pt x="7" y="54"/>
                  </a:lnTo>
                  <a:lnTo>
                    <a:pt x="6" y="48"/>
                  </a:lnTo>
                  <a:lnTo>
                    <a:pt x="4" y="42"/>
                  </a:lnTo>
                  <a:lnTo>
                    <a:pt x="3" y="30"/>
                  </a:lnTo>
                  <a:lnTo>
                    <a:pt x="1" y="18"/>
                  </a:lnTo>
                  <a:lnTo>
                    <a:pt x="1" y="6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5" name="Freeform 10"/>
            <p:cNvSpPr/>
            <p:nvPr/>
          </p:nvSpPr>
          <p:spPr>
            <a:xfrm>
              <a:off x="8097840" y="4082040"/>
              <a:ext cx="276480" cy="108360"/>
            </a:xfrm>
            <a:custGeom>
              <a:avLst/>
              <a:gdLst/>
              <a:ahLst/>
              <a:rect l="l" t="t" r="r" b="b"/>
              <a:pathLst>
                <a:path w="267" h="58">
                  <a:moveTo>
                    <a:pt x="21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41" y="58"/>
                  </a:lnTo>
                  <a:lnTo>
                    <a:pt x="267" y="58"/>
                  </a:lnTo>
                  <a:lnTo>
                    <a:pt x="267" y="58"/>
                  </a:lnTo>
                  <a:lnTo>
                    <a:pt x="265" y="58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6" name="Freeform 11"/>
            <p:cNvSpPr/>
            <p:nvPr/>
          </p:nvSpPr>
          <p:spPr>
            <a:xfrm>
              <a:off x="8325000" y="4078440"/>
              <a:ext cx="51480" cy="11232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46" y="60"/>
                  </a:moveTo>
                  <a:lnTo>
                    <a:pt x="46" y="60"/>
                  </a:lnTo>
                  <a:lnTo>
                    <a:pt x="48" y="60"/>
                  </a:lnTo>
                  <a:lnTo>
                    <a:pt x="48" y="58"/>
                  </a:lnTo>
                  <a:lnTo>
                    <a:pt x="49" y="56"/>
                  </a:lnTo>
                  <a:lnTo>
                    <a:pt x="49" y="54"/>
                  </a:lnTo>
                  <a:lnTo>
                    <a:pt x="50" y="52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50" y="44"/>
                  </a:lnTo>
                  <a:lnTo>
                    <a:pt x="50" y="42"/>
                  </a:lnTo>
                  <a:lnTo>
                    <a:pt x="49" y="38"/>
                  </a:lnTo>
                  <a:lnTo>
                    <a:pt x="48" y="36"/>
                  </a:lnTo>
                  <a:lnTo>
                    <a:pt x="48" y="34"/>
                  </a:lnTo>
                  <a:lnTo>
                    <a:pt x="44" y="31"/>
                  </a:lnTo>
                  <a:lnTo>
                    <a:pt x="44" y="29"/>
                  </a:lnTo>
                  <a:lnTo>
                    <a:pt x="42" y="27"/>
                  </a:lnTo>
                  <a:lnTo>
                    <a:pt x="39" y="25"/>
                  </a:lnTo>
                  <a:lnTo>
                    <a:pt x="38" y="23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6" y="14"/>
                  </a:lnTo>
                  <a:lnTo>
                    <a:pt x="23" y="12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6"/>
                  </a:lnTo>
                  <a:lnTo>
                    <a:pt x="11" y="5"/>
                  </a:lnTo>
                  <a:lnTo>
                    <a:pt x="8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19" y="10"/>
                  </a:lnTo>
                  <a:lnTo>
                    <a:pt x="22" y="12"/>
                  </a:lnTo>
                  <a:lnTo>
                    <a:pt x="24" y="14"/>
                  </a:lnTo>
                  <a:lnTo>
                    <a:pt x="27" y="16"/>
                  </a:lnTo>
                  <a:lnTo>
                    <a:pt x="30" y="17"/>
                  </a:lnTo>
                  <a:lnTo>
                    <a:pt x="37" y="23"/>
                  </a:lnTo>
                  <a:lnTo>
                    <a:pt x="38" y="25"/>
                  </a:lnTo>
                  <a:lnTo>
                    <a:pt x="41" y="27"/>
                  </a:lnTo>
                  <a:lnTo>
                    <a:pt x="42" y="29"/>
                  </a:lnTo>
                  <a:lnTo>
                    <a:pt x="44" y="31"/>
                  </a:lnTo>
                  <a:lnTo>
                    <a:pt x="46" y="34"/>
                  </a:lnTo>
                  <a:lnTo>
                    <a:pt x="46" y="36"/>
                  </a:lnTo>
                  <a:lnTo>
                    <a:pt x="48" y="38"/>
                  </a:lnTo>
                  <a:lnTo>
                    <a:pt x="49" y="42"/>
                  </a:lnTo>
                  <a:lnTo>
                    <a:pt x="49" y="44"/>
                  </a:lnTo>
                  <a:lnTo>
                    <a:pt x="49" y="48"/>
                  </a:lnTo>
                  <a:lnTo>
                    <a:pt x="49" y="50"/>
                  </a:lnTo>
                  <a:lnTo>
                    <a:pt x="49" y="52"/>
                  </a:lnTo>
                  <a:lnTo>
                    <a:pt x="48" y="54"/>
                  </a:lnTo>
                  <a:lnTo>
                    <a:pt x="48" y="56"/>
                  </a:lnTo>
                  <a:lnTo>
                    <a:pt x="46" y="58"/>
                  </a:lnTo>
                  <a:lnTo>
                    <a:pt x="46" y="6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7" name="Freeform 12"/>
            <p:cNvSpPr/>
            <p:nvPr/>
          </p:nvSpPr>
          <p:spPr>
            <a:xfrm>
              <a:off x="7223040" y="1752480"/>
              <a:ext cx="1463400" cy="2325960"/>
            </a:xfrm>
            <a:custGeom>
              <a:avLst/>
              <a:gdLst/>
              <a:ahLst/>
              <a:rect l="l" t="t" r="r" b="b"/>
              <a:pathLst>
                <a:path w="1412" h="1238">
                  <a:moveTo>
                    <a:pt x="1064" y="1238"/>
                  </a:moveTo>
                  <a:lnTo>
                    <a:pt x="1063" y="1238"/>
                  </a:lnTo>
                  <a:lnTo>
                    <a:pt x="1063" y="1238"/>
                  </a:lnTo>
                  <a:lnTo>
                    <a:pt x="1064" y="1238"/>
                  </a:lnTo>
                  <a:lnTo>
                    <a:pt x="1096" y="1235"/>
                  </a:lnTo>
                  <a:lnTo>
                    <a:pt x="1097" y="1235"/>
                  </a:lnTo>
                  <a:lnTo>
                    <a:pt x="1097" y="1234"/>
                  </a:lnTo>
                  <a:lnTo>
                    <a:pt x="1077" y="699"/>
                  </a:lnTo>
                  <a:lnTo>
                    <a:pt x="1075" y="699"/>
                  </a:lnTo>
                  <a:lnTo>
                    <a:pt x="1207" y="685"/>
                  </a:lnTo>
                  <a:lnTo>
                    <a:pt x="1208" y="685"/>
                  </a:lnTo>
                  <a:lnTo>
                    <a:pt x="1208" y="685"/>
                  </a:lnTo>
                  <a:lnTo>
                    <a:pt x="1181" y="556"/>
                  </a:lnTo>
                  <a:lnTo>
                    <a:pt x="1412" y="428"/>
                  </a:lnTo>
                  <a:lnTo>
                    <a:pt x="1358" y="315"/>
                  </a:lnTo>
                  <a:lnTo>
                    <a:pt x="1204" y="214"/>
                  </a:lnTo>
                  <a:lnTo>
                    <a:pt x="1204" y="214"/>
                  </a:lnTo>
                  <a:lnTo>
                    <a:pt x="1204" y="214"/>
                  </a:lnTo>
                  <a:lnTo>
                    <a:pt x="813" y="174"/>
                  </a:lnTo>
                  <a:lnTo>
                    <a:pt x="814" y="174"/>
                  </a:lnTo>
                  <a:lnTo>
                    <a:pt x="809" y="135"/>
                  </a:lnTo>
                  <a:lnTo>
                    <a:pt x="809" y="135"/>
                  </a:lnTo>
                  <a:lnTo>
                    <a:pt x="850" y="124"/>
                  </a:lnTo>
                  <a:lnTo>
                    <a:pt x="850" y="124"/>
                  </a:lnTo>
                  <a:lnTo>
                    <a:pt x="889" y="65"/>
                  </a:lnTo>
                  <a:lnTo>
                    <a:pt x="795" y="12"/>
                  </a:lnTo>
                  <a:lnTo>
                    <a:pt x="795" y="12"/>
                  </a:lnTo>
                  <a:lnTo>
                    <a:pt x="795" y="12"/>
                  </a:lnTo>
                  <a:lnTo>
                    <a:pt x="574" y="0"/>
                  </a:lnTo>
                  <a:lnTo>
                    <a:pt x="451" y="12"/>
                  </a:lnTo>
                  <a:lnTo>
                    <a:pt x="451" y="12"/>
                  </a:lnTo>
                  <a:lnTo>
                    <a:pt x="451" y="12"/>
                  </a:lnTo>
                  <a:lnTo>
                    <a:pt x="334" y="68"/>
                  </a:lnTo>
                  <a:lnTo>
                    <a:pt x="420" y="132"/>
                  </a:lnTo>
                  <a:lnTo>
                    <a:pt x="420" y="132"/>
                  </a:lnTo>
                  <a:lnTo>
                    <a:pt x="421" y="132"/>
                  </a:lnTo>
                  <a:lnTo>
                    <a:pt x="457" y="135"/>
                  </a:lnTo>
                  <a:lnTo>
                    <a:pt x="455" y="135"/>
                  </a:lnTo>
                  <a:lnTo>
                    <a:pt x="455" y="161"/>
                  </a:lnTo>
                  <a:lnTo>
                    <a:pt x="455" y="160"/>
                  </a:lnTo>
                  <a:lnTo>
                    <a:pt x="406" y="175"/>
                  </a:lnTo>
                  <a:lnTo>
                    <a:pt x="408" y="17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408" y="175"/>
                  </a:lnTo>
                  <a:lnTo>
                    <a:pt x="408" y="175"/>
                  </a:lnTo>
                  <a:lnTo>
                    <a:pt x="457" y="161"/>
                  </a:lnTo>
                  <a:lnTo>
                    <a:pt x="457" y="161"/>
                  </a:lnTo>
                  <a:lnTo>
                    <a:pt x="457" y="135"/>
                  </a:lnTo>
                  <a:lnTo>
                    <a:pt x="457" y="134"/>
                  </a:lnTo>
                  <a:lnTo>
                    <a:pt x="457" y="134"/>
                  </a:lnTo>
                  <a:lnTo>
                    <a:pt x="421" y="132"/>
                  </a:lnTo>
                  <a:lnTo>
                    <a:pt x="421" y="132"/>
                  </a:lnTo>
                  <a:lnTo>
                    <a:pt x="336" y="68"/>
                  </a:lnTo>
                  <a:lnTo>
                    <a:pt x="451" y="12"/>
                  </a:lnTo>
                  <a:lnTo>
                    <a:pt x="451" y="13"/>
                  </a:lnTo>
                  <a:lnTo>
                    <a:pt x="574" y="0"/>
                  </a:lnTo>
                  <a:lnTo>
                    <a:pt x="795" y="13"/>
                  </a:lnTo>
                  <a:lnTo>
                    <a:pt x="794" y="12"/>
                  </a:lnTo>
                  <a:lnTo>
                    <a:pt x="889" y="65"/>
                  </a:lnTo>
                  <a:lnTo>
                    <a:pt x="848" y="124"/>
                  </a:lnTo>
                  <a:lnTo>
                    <a:pt x="848" y="124"/>
                  </a:lnTo>
                  <a:lnTo>
                    <a:pt x="807" y="134"/>
                  </a:lnTo>
                  <a:lnTo>
                    <a:pt x="807" y="135"/>
                  </a:lnTo>
                  <a:lnTo>
                    <a:pt x="813" y="174"/>
                  </a:lnTo>
                  <a:lnTo>
                    <a:pt x="813" y="174"/>
                  </a:lnTo>
                  <a:lnTo>
                    <a:pt x="813" y="174"/>
                  </a:lnTo>
                  <a:lnTo>
                    <a:pt x="1204" y="214"/>
                  </a:lnTo>
                  <a:lnTo>
                    <a:pt x="1203" y="214"/>
                  </a:lnTo>
                  <a:lnTo>
                    <a:pt x="1357" y="315"/>
                  </a:lnTo>
                  <a:lnTo>
                    <a:pt x="1411" y="428"/>
                  </a:lnTo>
                  <a:lnTo>
                    <a:pt x="1180" y="556"/>
                  </a:lnTo>
                  <a:lnTo>
                    <a:pt x="1207" y="685"/>
                  </a:lnTo>
                  <a:lnTo>
                    <a:pt x="1207" y="685"/>
                  </a:lnTo>
                  <a:lnTo>
                    <a:pt x="1075" y="699"/>
                  </a:lnTo>
                  <a:lnTo>
                    <a:pt x="1075" y="699"/>
                  </a:lnTo>
                  <a:lnTo>
                    <a:pt x="1075" y="699"/>
                  </a:lnTo>
                  <a:lnTo>
                    <a:pt x="1096" y="1234"/>
                  </a:lnTo>
                  <a:lnTo>
                    <a:pt x="1096" y="1234"/>
                  </a:lnTo>
                  <a:lnTo>
                    <a:pt x="1064" y="123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448" name="Freeform 13"/>
            <p:cNvSpPr/>
            <p:nvPr/>
          </p:nvSpPr>
          <p:spPr>
            <a:xfrm>
              <a:off x="7086600" y="2152440"/>
              <a:ext cx="136440" cy="293040"/>
            </a:xfrm>
            <a:custGeom>
              <a:avLst/>
              <a:gdLst/>
              <a:ahLst/>
              <a:rect l="l" t="t" r="r" b="b"/>
              <a:pathLst>
                <a:path w="132" h="156">
                  <a:moveTo>
                    <a:pt x="132" y="0"/>
                  </a:move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2" y="5"/>
                  </a:lnTo>
                  <a:lnTo>
                    <a:pt x="114" y="9"/>
                  </a:lnTo>
                  <a:lnTo>
                    <a:pt x="98" y="19"/>
                  </a:lnTo>
                  <a:lnTo>
                    <a:pt x="91" y="23"/>
                  </a:lnTo>
                  <a:lnTo>
                    <a:pt x="79" y="33"/>
                  </a:lnTo>
                  <a:lnTo>
                    <a:pt x="73" y="38"/>
                  </a:lnTo>
                  <a:lnTo>
                    <a:pt x="68" y="42"/>
                  </a:lnTo>
                  <a:lnTo>
                    <a:pt x="58" y="52"/>
                  </a:lnTo>
                  <a:lnTo>
                    <a:pt x="54" y="57"/>
                  </a:lnTo>
                  <a:lnTo>
                    <a:pt x="50" y="61"/>
                  </a:lnTo>
                  <a:lnTo>
                    <a:pt x="46" y="66"/>
                  </a:lnTo>
                  <a:lnTo>
                    <a:pt x="44" y="71"/>
                  </a:lnTo>
                  <a:lnTo>
                    <a:pt x="39" y="76"/>
                  </a:lnTo>
                  <a:lnTo>
                    <a:pt x="37" y="81"/>
                  </a:lnTo>
                  <a:lnTo>
                    <a:pt x="31" y="91"/>
                  </a:lnTo>
                  <a:lnTo>
                    <a:pt x="26" y="101"/>
                  </a:lnTo>
                  <a:lnTo>
                    <a:pt x="23" y="106"/>
                  </a:lnTo>
                  <a:lnTo>
                    <a:pt x="20" y="111"/>
                  </a:lnTo>
                  <a:lnTo>
                    <a:pt x="19" y="116"/>
                  </a:lnTo>
                  <a:lnTo>
                    <a:pt x="16" y="121"/>
                  </a:lnTo>
                  <a:lnTo>
                    <a:pt x="14" y="126"/>
                  </a:lnTo>
                  <a:lnTo>
                    <a:pt x="10" y="136"/>
                  </a:lnTo>
                  <a:lnTo>
                    <a:pt x="7" y="141"/>
                  </a:lnTo>
                  <a:lnTo>
                    <a:pt x="4" y="146"/>
                  </a:lnTo>
                  <a:lnTo>
                    <a:pt x="1" y="151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3" y="151"/>
                  </a:lnTo>
                  <a:lnTo>
                    <a:pt x="5" y="146"/>
                  </a:lnTo>
                  <a:lnTo>
                    <a:pt x="8" y="141"/>
                  </a:lnTo>
                  <a:lnTo>
                    <a:pt x="11" y="136"/>
                  </a:lnTo>
                  <a:lnTo>
                    <a:pt x="15" y="126"/>
                  </a:lnTo>
                  <a:lnTo>
                    <a:pt x="18" y="121"/>
                  </a:lnTo>
                  <a:lnTo>
                    <a:pt x="19" y="116"/>
                  </a:lnTo>
                  <a:lnTo>
                    <a:pt x="22" y="111"/>
                  </a:lnTo>
                  <a:lnTo>
                    <a:pt x="24" y="106"/>
                  </a:lnTo>
                  <a:lnTo>
                    <a:pt x="27" y="101"/>
                  </a:lnTo>
                  <a:lnTo>
                    <a:pt x="31" y="91"/>
                  </a:lnTo>
                  <a:lnTo>
                    <a:pt x="38" y="81"/>
                  </a:lnTo>
                  <a:lnTo>
                    <a:pt x="41" y="76"/>
                  </a:lnTo>
                  <a:lnTo>
                    <a:pt x="44" y="71"/>
                  </a:lnTo>
                  <a:lnTo>
                    <a:pt x="48" y="66"/>
                  </a:lnTo>
                  <a:lnTo>
                    <a:pt x="52" y="61"/>
                  </a:lnTo>
                  <a:lnTo>
                    <a:pt x="56" y="57"/>
                  </a:lnTo>
                  <a:lnTo>
                    <a:pt x="60" y="52"/>
                  </a:lnTo>
                  <a:lnTo>
                    <a:pt x="69" y="42"/>
                  </a:lnTo>
                  <a:lnTo>
                    <a:pt x="75" y="38"/>
                  </a:lnTo>
                  <a:lnTo>
                    <a:pt x="80" y="33"/>
                  </a:lnTo>
                  <a:lnTo>
                    <a:pt x="92" y="23"/>
                  </a:lnTo>
                  <a:lnTo>
                    <a:pt x="99" y="19"/>
                  </a:lnTo>
                  <a:lnTo>
                    <a:pt x="114" y="9"/>
                  </a:lnTo>
                  <a:lnTo>
                    <a:pt x="124" y="5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1449" name="Freeform 5"/>
          <p:cNvSpPr/>
          <p:nvPr/>
        </p:nvSpPr>
        <p:spPr>
          <a:xfrm>
            <a:off x="380880" y="2057400"/>
            <a:ext cx="1981440" cy="2976480"/>
          </a:xfrm>
          <a:custGeom>
            <a:avLst/>
            <a:gdLst/>
            <a:ahLst/>
            <a:rect l="l" t="t" r="r" b="b"/>
            <a:pathLst>
              <a:path w="1543" h="1298">
                <a:moveTo>
                  <a:pt x="0" y="369"/>
                </a:moveTo>
                <a:lnTo>
                  <a:pt x="1" y="452"/>
                </a:lnTo>
                <a:lnTo>
                  <a:pt x="46" y="460"/>
                </a:lnTo>
                <a:lnTo>
                  <a:pt x="38" y="482"/>
                </a:lnTo>
                <a:lnTo>
                  <a:pt x="34" y="495"/>
                </a:lnTo>
                <a:lnTo>
                  <a:pt x="169" y="528"/>
                </a:lnTo>
                <a:lnTo>
                  <a:pt x="184" y="680"/>
                </a:lnTo>
                <a:lnTo>
                  <a:pt x="290" y="702"/>
                </a:lnTo>
                <a:lnTo>
                  <a:pt x="307" y="767"/>
                </a:lnTo>
                <a:lnTo>
                  <a:pt x="324" y="833"/>
                </a:lnTo>
                <a:lnTo>
                  <a:pt x="330" y="865"/>
                </a:lnTo>
                <a:lnTo>
                  <a:pt x="337" y="898"/>
                </a:lnTo>
                <a:lnTo>
                  <a:pt x="341" y="931"/>
                </a:lnTo>
                <a:lnTo>
                  <a:pt x="344" y="963"/>
                </a:lnTo>
                <a:lnTo>
                  <a:pt x="347" y="996"/>
                </a:lnTo>
                <a:lnTo>
                  <a:pt x="347" y="1029"/>
                </a:lnTo>
                <a:lnTo>
                  <a:pt x="344" y="1062"/>
                </a:lnTo>
                <a:lnTo>
                  <a:pt x="340" y="1095"/>
                </a:lnTo>
                <a:lnTo>
                  <a:pt x="333" y="1127"/>
                </a:lnTo>
                <a:lnTo>
                  <a:pt x="324" y="1160"/>
                </a:lnTo>
                <a:lnTo>
                  <a:pt x="311" y="1193"/>
                </a:lnTo>
                <a:lnTo>
                  <a:pt x="303" y="1209"/>
                </a:lnTo>
                <a:lnTo>
                  <a:pt x="295" y="1225"/>
                </a:lnTo>
                <a:lnTo>
                  <a:pt x="295" y="1225"/>
                </a:lnTo>
                <a:lnTo>
                  <a:pt x="349" y="1233"/>
                </a:lnTo>
                <a:lnTo>
                  <a:pt x="318" y="1272"/>
                </a:lnTo>
                <a:lnTo>
                  <a:pt x="348" y="1296"/>
                </a:lnTo>
                <a:lnTo>
                  <a:pt x="572" y="1296"/>
                </a:lnTo>
                <a:lnTo>
                  <a:pt x="600" y="1289"/>
                </a:lnTo>
                <a:lnTo>
                  <a:pt x="600" y="1230"/>
                </a:lnTo>
                <a:lnTo>
                  <a:pt x="651" y="1220"/>
                </a:lnTo>
                <a:lnTo>
                  <a:pt x="768" y="762"/>
                </a:lnTo>
                <a:lnTo>
                  <a:pt x="873" y="1055"/>
                </a:lnTo>
                <a:lnTo>
                  <a:pt x="871" y="1067"/>
                </a:lnTo>
                <a:lnTo>
                  <a:pt x="871" y="1079"/>
                </a:lnTo>
                <a:lnTo>
                  <a:pt x="873" y="1090"/>
                </a:lnTo>
                <a:lnTo>
                  <a:pt x="876" y="1102"/>
                </a:lnTo>
                <a:lnTo>
                  <a:pt x="880" y="1114"/>
                </a:lnTo>
                <a:lnTo>
                  <a:pt x="885" y="1126"/>
                </a:lnTo>
                <a:lnTo>
                  <a:pt x="892" y="1137"/>
                </a:lnTo>
                <a:lnTo>
                  <a:pt x="899" y="1149"/>
                </a:lnTo>
                <a:lnTo>
                  <a:pt x="907" y="1161"/>
                </a:lnTo>
                <a:lnTo>
                  <a:pt x="916" y="1172"/>
                </a:lnTo>
                <a:lnTo>
                  <a:pt x="927" y="1184"/>
                </a:lnTo>
                <a:lnTo>
                  <a:pt x="939" y="1195"/>
                </a:lnTo>
                <a:lnTo>
                  <a:pt x="952" y="1207"/>
                </a:lnTo>
                <a:lnTo>
                  <a:pt x="965" y="1218"/>
                </a:lnTo>
                <a:lnTo>
                  <a:pt x="980" y="1229"/>
                </a:lnTo>
                <a:lnTo>
                  <a:pt x="997" y="1240"/>
                </a:lnTo>
                <a:lnTo>
                  <a:pt x="977" y="1291"/>
                </a:lnTo>
                <a:lnTo>
                  <a:pt x="1018" y="1298"/>
                </a:lnTo>
                <a:lnTo>
                  <a:pt x="1241" y="1298"/>
                </a:lnTo>
                <a:lnTo>
                  <a:pt x="1244" y="1294"/>
                </a:lnTo>
                <a:lnTo>
                  <a:pt x="1245" y="1290"/>
                </a:lnTo>
                <a:lnTo>
                  <a:pt x="1245" y="1282"/>
                </a:lnTo>
                <a:lnTo>
                  <a:pt x="1243" y="1274"/>
                </a:lnTo>
                <a:lnTo>
                  <a:pt x="1239" y="1267"/>
                </a:lnTo>
                <a:lnTo>
                  <a:pt x="1230" y="1259"/>
                </a:lnTo>
                <a:lnTo>
                  <a:pt x="1221" y="1252"/>
                </a:lnTo>
                <a:lnTo>
                  <a:pt x="1210" y="1245"/>
                </a:lnTo>
                <a:lnTo>
                  <a:pt x="1196" y="1238"/>
                </a:lnTo>
                <a:lnTo>
                  <a:pt x="1228" y="1234"/>
                </a:lnTo>
                <a:lnTo>
                  <a:pt x="1207" y="699"/>
                </a:lnTo>
                <a:lnTo>
                  <a:pt x="1339" y="685"/>
                </a:lnTo>
                <a:lnTo>
                  <a:pt x="1312" y="556"/>
                </a:lnTo>
                <a:lnTo>
                  <a:pt x="1543" y="428"/>
                </a:lnTo>
                <a:lnTo>
                  <a:pt x="1490" y="315"/>
                </a:lnTo>
                <a:lnTo>
                  <a:pt x="1336" y="214"/>
                </a:lnTo>
                <a:lnTo>
                  <a:pt x="945" y="174"/>
                </a:lnTo>
                <a:lnTo>
                  <a:pt x="939" y="135"/>
                </a:lnTo>
                <a:lnTo>
                  <a:pt x="980" y="124"/>
                </a:lnTo>
                <a:lnTo>
                  <a:pt x="1021" y="65"/>
                </a:lnTo>
                <a:lnTo>
                  <a:pt x="927" y="12"/>
                </a:lnTo>
                <a:lnTo>
                  <a:pt x="706" y="0"/>
                </a:lnTo>
                <a:lnTo>
                  <a:pt x="583" y="12"/>
                </a:lnTo>
                <a:lnTo>
                  <a:pt x="468" y="68"/>
                </a:lnTo>
                <a:lnTo>
                  <a:pt x="553" y="132"/>
                </a:lnTo>
                <a:lnTo>
                  <a:pt x="589" y="135"/>
                </a:lnTo>
                <a:lnTo>
                  <a:pt x="589" y="161"/>
                </a:lnTo>
                <a:lnTo>
                  <a:pt x="540" y="175"/>
                </a:lnTo>
                <a:lnTo>
                  <a:pt x="132" y="213"/>
                </a:lnTo>
                <a:lnTo>
                  <a:pt x="114" y="222"/>
                </a:lnTo>
                <a:lnTo>
                  <a:pt x="101" y="232"/>
                </a:lnTo>
                <a:lnTo>
                  <a:pt x="87" y="241"/>
                </a:lnTo>
                <a:lnTo>
                  <a:pt x="75" y="251"/>
                </a:lnTo>
                <a:lnTo>
                  <a:pt x="64" y="260"/>
                </a:lnTo>
                <a:lnTo>
                  <a:pt x="56" y="270"/>
                </a:lnTo>
                <a:lnTo>
                  <a:pt x="48" y="280"/>
                </a:lnTo>
                <a:lnTo>
                  <a:pt x="41" y="289"/>
                </a:lnTo>
                <a:lnTo>
                  <a:pt x="29" y="309"/>
                </a:lnTo>
                <a:lnTo>
                  <a:pt x="19" y="329"/>
                </a:lnTo>
                <a:lnTo>
                  <a:pt x="15" y="339"/>
                </a:lnTo>
                <a:lnTo>
                  <a:pt x="11" y="349"/>
                </a:lnTo>
                <a:lnTo>
                  <a:pt x="0" y="369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1450" name="Straight Arrow Connector 30"/>
          <p:cNvCxnSpPr/>
          <p:nvPr/>
        </p:nvCxnSpPr>
        <p:spPr>
          <a:xfrm>
            <a:off x="2057400" y="3733560"/>
            <a:ext cx="320112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1" name="Straight Arrow Connector 38"/>
          <p:cNvCxnSpPr/>
          <p:nvPr/>
        </p:nvCxnSpPr>
        <p:spPr>
          <a:xfrm flipV="1">
            <a:off x="5181480" y="2894760"/>
            <a:ext cx="1905840" cy="839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2" name="Straight Arrow Connector 44"/>
          <p:cNvCxnSpPr/>
          <p:nvPr/>
        </p:nvCxnSpPr>
        <p:spPr>
          <a:xfrm>
            <a:off x="5181480" y="3733920"/>
            <a:ext cx="1982160" cy="16768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3" name="TextBox 49"/>
          <p:cNvSpPr/>
          <p:nvPr/>
        </p:nvSpPr>
        <p:spPr>
          <a:xfrm>
            <a:off x="304920" y="52578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dmitted to healthcare facility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4" name="TextBox 50"/>
          <p:cNvSpPr/>
          <p:nvPr/>
        </p:nvSpPr>
        <p:spPr>
          <a:xfrm>
            <a:off x="2598120" y="327672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ntimicrobials</a:t>
            </a: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5" name="TextBox 51"/>
          <p:cNvSpPr/>
          <p:nvPr/>
        </p:nvSpPr>
        <p:spPr>
          <a:xfrm>
            <a:off x="1981080" y="3886200"/>
            <a:ext cx="36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 Dif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xposure &amp; acquisition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6" name="TextBox 53"/>
          <p:cNvSpPr/>
          <p:nvPr/>
        </p:nvSpPr>
        <p:spPr>
          <a:xfrm>
            <a:off x="5257800" y="18288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lonized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 symptoms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7" name="TextBox 54"/>
          <p:cNvSpPr/>
          <p:nvPr/>
        </p:nvSpPr>
        <p:spPr>
          <a:xfrm>
            <a:off x="4876920" y="5486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fected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ymptomatic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8" name="Multiply 26"/>
          <p:cNvSpPr/>
          <p:nvPr/>
        </p:nvSpPr>
        <p:spPr>
          <a:xfrm>
            <a:off x="2971800" y="3048120"/>
            <a:ext cx="914400" cy="761760"/>
          </a:xfrm>
          <a:custGeom>
            <a:avLst/>
            <a:gdLst/>
            <a:ahLst/>
            <a:rect l="l" t="t" r="r" b="b"/>
            <a:pathLst>
              <a:path w="914400" h="762000">
                <a:moveTo>
                  <a:pt x="162248" y="251855"/>
                </a:moveTo>
                <a:lnTo>
                  <a:pt x="276984" y="114172"/>
                </a:lnTo>
                <a:lnTo>
                  <a:pt x="457200" y="264352"/>
                </a:lnTo>
                <a:lnTo>
                  <a:pt x="637416" y="114172"/>
                </a:lnTo>
                <a:lnTo>
                  <a:pt x="752152" y="251855"/>
                </a:lnTo>
                <a:lnTo>
                  <a:pt x="597177" y="381000"/>
                </a:lnTo>
                <a:lnTo>
                  <a:pt x="752152" y="510145"/>
                </a:lnTo>
                <a:lnTo>
                  <a:pt x="637416" y="647828"/>
                </a:lnTo>
                <a:lnTo>
                  <a:pt x="457200" y="497648"/>
                </a:lnTo>
                <a:lnTo>
                  <a:pt x="276984" y="647828"/>
                </a:lnTo>
                <a:lnTo>
                  <a:pt x="162248" y="510145"/>
                </a:lnTo>
                <a:lnTo>
                  <a:pt x="317223" y="381000"/>
                </a:lnTo>
                <a:lnTo>
                  <a:pt x="162248" y="251855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9" name="Multiply 27"/>
          <p:cNvSpPr/>
          <p:nvPr/>
        </p:nvSpPr>
        <p:spPr>
          <a:xfrm>
            <a:off x="2971800" y="3733920"/>
            <a:ext cx="914400" cy="761760"/>
          </a:xfrm>
          <a:custGeom>
            <a:avLst/>
            <a:gdLst/>
            <a:ahLst/>
            <a:rect l="l" t="t" r="r" b="b"/>
            <a:pathLst>
              <a:path w="914400" h="762000">
                <a:moveTo>
                  <a:pt x="162248" y="251855"/>
                </a:moveTo>
                <a:lnTo>
                  <a:pt x="276984" y="114172"/>
                </a:lnTo>
                <a:lnTo>
                  <a:pt x="457200" y="264352"/>
                </a:lnTo>
                <a:lnTo>
                  <a:pt x="637416" y="114172"/>
                </a:lnTo>
                <a:lnTo>
                  <a:pt x="752152" y="251855"/>
                </a:lnTo>
                <a:lnTo>
                  <a:pt x="597177" y="381000"/>
                </a:lnTo>
                <a:lnTo>
                  <a:pt x="752152" y="510145"/>
                </a:lnTo>
                <a:lnTo>
                  <a:pt x="637416" y="647828"/>
                </a:lnTo>
                <a:lnTo>
                  <a:pt x="457200" y="497648"/>
                </a:lnTo>
                <a:lnTo>
                  <a:pt x="276984" y="647828"/>
                </a:lnTo>
                <a:lnTo>
                  <a:pt x="162248" y="510145"/>
                </a:lnTo>
                <a:lnTo>
                  <a:pt x="317223" y="381000"/>
                </a:lnTo>
                <a:lnTo>
                  <a:pt x="162248" y="251855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0" name="TextBox 29"/>
          <p:cNvSpPr/>
          <p:nvPr/>
        </p:nvSpPr>
        <p:spPr>
          <a:xfrm>
            <a:off x="2057400" y="46483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Lucida Sans Unicode"/>
              </a:rPr>
              <a:t>Optimizing Environmental cleaning and Hand Hygien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4495680" y="1523880"/>
            <a:ext cx="42674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upplemental Measure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tend (CP) beyond duration of diarrhea (48 hours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esumptive isolation for symptomatic patient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mplement soap and water for HH before exiting room of a patient with CD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mplement universal glove use on units with high CDI rat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se sodium hypochlorite (bleach) - containing agents for environmental cleaning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mplement an antimicrobial stewardship program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4735-A29C-49D9-91B1-FC6B6419883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63" name="Title 1" descr=""/>
          <p:cNvPicPr/>
          <p:nvPr/>
        </p:nvPicPr>
        <p:blipFill>
          <a:blip r:embed="rId1"/>
          <a:stretch/>
        </p:blipFill>
        <p:spPr>
          <a:xfrm>
            <a:off x="304920" y="23184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464" name="TextBox 3"/>
          <p:cNvSpPr/>
          <p:nvPr/>
        </p:nvSpPr>
        <p:spPr>
          <a:xfrm>
            <a:off x="228600" y="1447920"/>
            <a:ext cx="4267080" cy="39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re Measur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urveillanc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ontact Precautions (CP) for duration of diarrhea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Hand hygiene (HH)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edicated equipment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leaning and disinfection of equipment and environmen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Laboratory-based alert system for immediate notification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Educate HCP, housekeeping, admin staff, patients, families, visitors, about CDI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Monitor compliance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5" name="TextBox 4"/>
          <p:cNvSpPr/>
          <p:nvPr/>
        </p:nvSpPr>
        <p:spPr>
          <a:xfrm>
            <a:off x="5638680" y="6858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tient placement (factors to consider)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nd hygiene (HH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love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on gloves upon room entry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hange gloves after contact with infectious materials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hange gloves when moving from contaminated to non contaminated site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move gloves and HH before leaving the room or caring for another patient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own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on gown upon room entry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move and discard gloves before removing gown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iscarding gown before exiting the room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fter gown and gloves removal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HH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make sure not to touch any potentially contaminated environmental surface in the room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dicated equipment  (BP cuff, stethoscope, thermometer, etc.)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1DE9-AEB8-459E-A363-DCFF4A8D9B9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6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hallenges of implementing CP in LTCF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ntact Precautions should be used for the following residents with MDRO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ependent on HCP in their activities of daily lif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Ventilator-dependen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ontinent of stoo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und with difficult to contain discharge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ntact Precautions can be relaxed for all others residents with MDROs (consider resident’s mental status and personal hygiene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tandard precautions should be observed all time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edicated equipment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ignage for HCP and visitor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7A98-2C3C-460A-BECE-C8D0325F8DA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7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DROs represent a major clinical and infection control challenge particularly in LTCF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You cannot do it alon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Regional approach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ggressive infection control approach work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ppropriate antimicrobial use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raining and education (HCP, Patients, Families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mmunications (intrafacility and interfacilities)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5FFD-50CB-4EC3-8076-2205A696739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7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mission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ly person to person through hands of healthcare personnel (HCP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act with contaminated environmental surfac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ssion depends 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ailability of vulnerable pati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timicrobial pressu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onization pressu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herence to infection control measur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quent movement among healthcare faciliti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84CA-D6AA-47C5-B956-B3C34050CF9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9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During morning rounds you were assigned rooms 103 and 107 for the d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oom 103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der contact precaution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s 2 patient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ient #1 was recently treated for CRKP UTI, has a Foley catheter and is stool incontin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ient # 2 is CRKP colonized and has a deep bedsore in the right buttock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oom # 107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s two residents admitted for short term rehabilitation S/P total knee replacement. One of them is stool incontinent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447F-0A9A-4C85-9C55-39AEBCE63C3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7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533520" y="1481040"/>
            <a:ext cx="815328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type of precautions would you use upon entering Room 103 and 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is this type of organism transmitted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type of precautions will you be using for room 107 and why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 you think it is a good practice to provide care for these two rooms in the same day? Please explain why and what is the best practice in this situation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ient # 2 in room 103 is ambulatory and he wants to go to the activity room.  What would you do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schedule, all four patients are due for bathing.  Specify who would go firs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CE9D-C865-477E-BDFC-1CA9ED5754D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80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CEF4-D22C-46D8-9B9F-4D7F6886F2F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EA/APIC Guideline: Infection Prevention and Control in the Long-Term Care Facilit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dhhr.wv.gov/oeps/disease/AtoZ/Documents/SHEA%20Guide%20to%20LTCF%20Infection%20Control%20Jul08.pdf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uideline for Isolation Precautions: Preventing Transmission of Infectious Agents in Healthcare Setting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cdc.gov/hicpac/pdf/isolation/Isolation2007.pdf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 of Multidrug-Resistant Organisms In Healthcare Settings, 200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cdc.gov/hicpac/pdf/MDRO/MDROGuideline2006.pdf   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DE Websi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dhhr.wv.gov/oeps/disease/HAI/Pages/default.aspx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C Healthcare-Associated Infections http://www.cdc.gov/hai/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C SHEA “Train the Trainer” May 2011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pidemiology and Prevention of Common Emerging MDROs       “Alex Kallen, MD, MPH” DHQP,  CDC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4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29A6-FB6C-4B30-AD04-D5781931DC4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485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servoi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ected and colonized patient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aminated environmental surfaces &amp; patient care equip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isk factor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onization, age &gt; 65, ICU admission, long hospital stay, frequent hospitalizations, invasive procedures, indwelling devices, underlying diseases, enteral feeding, LTCFs, antimicrobial exposur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94D1-4ACF-49AA-B6DC-B65423AD33A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95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f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person who has culture-positive for an MDRO and displays signs or symptoms of infection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lon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person who has culture-positive for an MDRO but has no signs or symptoms of infection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B408-7866-4D53-8E88-326DB544C7E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9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terococcus faecium  (VRE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phylococcus aureus (MRSA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stridium difficile    (C. Diff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inetobacter baumanni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udomonas aeruginos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terobacteriaceae (CRKP/CRE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F71F-8B15-487D-8130-F75EA0B6005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01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thicillin‐Resista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phylococcus aureu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MRSA)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ancomycin‐Resista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terococ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VRE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A4B0-8CF0-4808-B900-0C1CAD0248F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0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taph aureus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(SA)</a:t>
            </a:r>
            <a:r>
              <a:rPr b="0" i="1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resistant to beta‐lactam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Nasal colonization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general population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5-30 % for S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&lt; 2% for MRSA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ther colonization sites: rectum, axilla, throat, wound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Higher carriage among HCP, dialysis patients, diabetics, IV drug user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eservoirs: ……. and……..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ransmission…… and……… 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D57E-F589-4C84-85BE-EAB17325F1D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22:32:38Z</dcterms:created>
  <dc:creator>sherif ibrahim</dc:creator>
  <dc:description/>
  <dc:language>en-US</dc:language>
  <cp:lastModifiedBy>Armstrong, Brett E</cp:lastModifiedBy>
  <dcterms:modified xsi:type="dcterms:W3CDTF">2012-11-20T16:10:32Z</dcterms:modified>
  <cp:revision>161</cp:revision>
  <dc:subject/>
  <dc:title>PowerPoint Presentation</dc:title>
</cp:coreProperties>
</file>