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4.wmf" ContentType="image/x-wmf"/>
  <Override PartName="/ppt/media/image23.jpeg" ContentType="image/jpeg"/>
  <Override PartName="/ppt/media/image52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2.jpeg" ContentType="image/jpeg"/>
  <Override PartName="/ppt/media/image9.wmf" ContentType="image/x-wmf"/>
  <Override PartName="/ppt/media/image43.wmf" ContentType="image/x-wmf"/>
  <Override PartName="/ppt/media/image44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32.jpeg" ContentType="image/jpeg"/>
  <Override PartName="/ppt/media/image49.jpeg" ContentType="image/jpeg"/>
  <Override PartName="/ppt/media/image17.jpeg" ContentType="image/jpeg"/>
  <Override PartName="/ppt/media/image45.wmf" ContentType="image/x-wmf"/>
  <Override PartName="/ppt/media/image25.jpeg" ContentType="image/jpeg"/>
  <Override PartName="/ppt/media/image51.png" ContentType="image/png"/>
  <Override PartName="/ppt/media/image12.wmf" ContentType="image/x-wmf"/>
  <Override PartName="/ppt/media/image1.gif" ContentType="image/gif"/>
  <Override PartName="/ppt/media/image10.wmf" ContentType="image/x-wmf"/>
  <Override PartName="/ppt/media/image47.wmf" ContentType="image/x-wmf"/>
  <Override PartName="/ppt/media/image7.jpeg" ContentType="image/jpeg"/>
  <Override PartName="/ppt/media/image3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  <p:sldId id="368" r:id="rId128"/>
    <p:sldId id="369" r:id="rId1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slide" Target="slides/slide113.xml"/><Relationship Id="rId129" Type="http://schemas.openxmlformats.org/officeDocument/2006/relationships/slide" Target="slides/slide114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1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D5B5BD-511E-4D34-95AB-41A8ABEE1F5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8720" y="441936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tivirus (a subgroup of retrovir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862AFA-1618-4503-B1AC-95F9E622D916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306979-22B6-4418-AFEA-B21423F810F9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5843CF-D201-4528-BE29-DD751AAA36E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BA3AA3-7C28-425D-8066-264E58D63D9A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s an early symptom (or set of symptoms) that might indicate the start of a disease before specific symptoms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028444-F3D8-4B01-AD98-3A516097F2F7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zema vaccinatum is a rare severe adverse reaction to smallpox vaccination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5CFF08-69B2-455E-914B-0370E24E1616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030 – Bloodborne pathog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34 – Respiratory Prot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.1200 – Hazard Commun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00 – Fire Department Occupational Safety and Health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PA 1581 – Comprehensive Occupational Medical Program for Fire Depar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an White Act – Federally Funded Program for people with HIV /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cut Department of Public Health / Office of Emergency Medica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or Disease Cont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55C41D-8FB6-410E-945D-8314111435D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patitis B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F22334-1222-4725-9392-3BB2BAD9F6E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2D455-C175-4807-811E-EDA691C9CA3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493D6-ED95-4EC1-846E-2778A5DACE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7C3CC-8D74-4200-93A6-F4FE7678DF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ACA86-E117-4544-9534-E0D7BEF6CA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17F8F-1EE2-4358-A8C6-CE715136A9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9903A-E200-4E54-91EE-CEA0504EF3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9BFBD-C61F-45EB-A153-1CB5CBC9DB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B4CD0-AB38-4170-A7DE-4CADD92DE34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FFF4C-7C7C-4332-8927-9F0444EA23B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BBB0-3269-4FD7-AC88-80FB7BF2E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9AAA-2572-430E-B697-C2991F13E4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F2F2-1775-4646-87AA-C7DFC1F7E1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3063-6031-40E5-8AEF-FB197A5632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DCC69-9B64-4477-A3F3-B1B00A326B9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60AD-257E-4368-8BB1-F149ADB622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4FFD-150F-4347-9227-67BEB2C08A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8633-D2F6-46F7-B6F5-FF78C22C5E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1C2B-CE23-4EA7-81C7-8AC21F5C55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E650-569B-4A97-BF52-AB4BD8F228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7598-ABC0-4E73-A5CA-F25A469D8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A259-02B7-48F7-BB6B-2C1503057B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4FFB4-60AB-4E8A-AE78-5249236A31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F79ED-D20B-4342-9E31-0D9CA0CF33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BD301-2717-4AE3-BF1D-8389B415EE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58600-13C8-4608-B438-5619980FBC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9359D-A162-4377-BBE3-34EBBCA7AA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29F3D-E4ED-4021-BEAD-92BCEC4D823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928E3-A772-4A62-9D2A-D3796BADE6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36CF2-C38E-4C96-A895-9E62A2138E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D9D198-3983-466B-8670-C9D708386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73A9-BE45-42C0-814F-69F24240E43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5D250-727C-4DB7-A14A-F6E4BE86F3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748C8-312F-45A3-8C0F-2068CD89C0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1A5B0-5A3B-4E88-BE0A-96D50E2C63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BA54E-6E60-47C4-BE9D-53D38AD4503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DA771-8178-49C6-BE2E-3CEA66F3F3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1F4CE-2996-47F8-B3B6-79C4B351C5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CBB3B-A69F-48B4-837C-067E83F11F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9BDA2-8345-44B8-849D-6CC8C40658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34576-5DE8-457D-9696-F94A028038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F2284-9CA6-4ECC-9286-733679F77A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5F2A-5D81-49B4-AB75-440CBCF896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FAFF9-2C66-4F08-9964-4780325837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2D407-C4AD-4BCF-9345-2AD9F6DE25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4627A-51A1-4396-B5C5-D4B4E21E57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4F74B-1C58-4683-8690-0B28F4B2FC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24FCD-564F-4AB9-9337-BC2F639C97A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43512-9CB8-4BA5-B679-030AF452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25C54-D7E7-4FB6-BE26-35DC998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029C-A536-4E1F-B272-DFDA37A5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6D218-8BE9-4E06-85C7-D51E74E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01120-D630-4C8B-B2E8-125DB3B7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9B2D-E12F-41AF-8E27-1D29984AE5A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D13C6-3A25-44AC-B006-B86574B2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EF465F-75FF-4FAC-8E8E-07AB28D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351A9-9492-4F95-8892-643F90E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E4005-AB36-4425-A0A9-C457A6F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2404B-01B8-4295-9F12-4A23A9B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02AAA-100B-4C30-B2EB-DED0B130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D65F-4C9C-4524-A040-09B6AC30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5141-0F46-40FE-9DF7-9E73194BD2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3584-17FA-4031-94EF-E4AB777731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79C9-2DFC-4154-8B5C-A8DA170FB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17AE-CBCE-47E5-8769-3C7B84A1D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B400-5955-413F-8938-0A2DEFD3C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5F96-7FF3-4FB4-B5DC-F259CD11F4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EAB0-91BB-448D-90E9-86CBD1DF7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2393-8C1D-4BA2-B208-A27040F077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322A-B1F8-4CF6-B8A8-D868807D6B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C065-3F85-4C25-A500-68CC88E976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2A32-E2BA-44FE-87D8-A33B6AF49F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5366-432A-4523-A34C-3E07F3FA6C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9621-CD51-4E6B-888E-2F7D9994DC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AE1D-5CE6-4647-9DD8-A7B6AB4AD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DEBF-2F47-4ECE-B342-5314B41E2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4FF8-A1E1-4266-AC20-1DD0F89194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CC3C-7004-4705-99DC-5A88FB030E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49EC-E7A0-41CE-95AA-4DA05AD31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A0A8-8534-4D63-9B76-72CD5CD616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410C-087A-4507-A6F3-1BD7B36804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4F7E-9CB6-4558-9312-13B0232BDF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F6D-6C13-4F52-9445-18FDD1855F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177-D260-40E5-9A23-F8FABE14EA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1BA-283B-4CBE-8B6A-723C92ACC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A97-A411-4903-9A27-640CAB1E08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1BD-46FA-4FF1-AE65-3BC6B21F2A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6CB-6854-44AB-B1D6-347F88427E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E8E-590C-402B-BE53-0A5003E0A5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72B-1766-460B-8221-259D6C7611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9D4-7EE4-4B02-B3C4-85F1437F9B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7B8-2830-4253-B573-2C77F79D87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414-2645-4AD2-853C-47F4AF455D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E31-E8EA-41F4-87CE-195C25EDBB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9599-0DBF-49F3-8394-EC6A6D43A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7D066-6481-4698-B0F7-AC018ACF00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A82AB-0F23-4901-9115-38DFF25F46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31D63-0C72-4EBB-ADC1-CC4663DF24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E698-CE4D-49E1-9766-73D2A5123D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AD2E6-8D89-4887-9B61-414BF29637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0CB4D-5F07-482E-B373-0A7761CA93F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3382F-7459-4F58-BA6A-BC39E9DF40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56B83-5E8A-4F07-975D-8805E3C81D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8C5CE-6439-4DDF-8558-DF1362DD7F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8BE00-3B02-429F-A527-252C81AF3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FCDB8-D66C-4039-B377-7904B6E3FD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2F6C5-3A31-4F22-A545-13EF04E958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9281F-A4F3-4923-A473-86E0CD8330C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AF929-80AC-4BF3-A7AF-271746B8D5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21010-69FB-4E2F-AD32-28997A94F12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DA92E-A0F5-4B7B-A696-B444B875C9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76651-AA75-464B-886C-73AFC7D4DB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5F818-F0BE-4228-9674-433099BE24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78C99-FA7E-4B2D-84E7-D468D01E43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51D5-A8DD-47B4-95B5-3038CB3F7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D3E5-4C71-4D5B-B4C0-70DD5E5941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A3C2-12F2-4A90-987A-21EB30645E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E3EB1-85FF-434A-8C48-B81FA4BC7D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3262-65CF-45A6-9EF8-6AF2F70334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73AD-838C-400C-B804-4EA3C8287E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2F01-AA45-49F0-BC30-C09D0B49FD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D247-5B47-4754-B090-F09EA495F2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C83B-C3DE-4246-8754-AB925997E1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EFE7-8AEB-4696-B51C-DB82A5C11D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94CA-5B69-43CC-BED1-DBB57B94D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D05-CD19-4221-AE11-EA312012F5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3CB-A421-4DED-93E2-FCA3642114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B828-F2F4-4F3C-94AB-78147002F1B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EF8A-01D9-4831-9D2C-F286FA0236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835-D811-445C-9535-5EB0FF37E1B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804B4-060E-47F2-BEB8-6D2161A6B1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D99DD-46E5-4FA1-B842-71500C36E8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B7436-AB6A-464A-BA5E-FC3A911248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21F1A-1951-46A3-AC48-C34E2AE6D0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2D731-F5A4-45D4-94EF-D69677AA2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42759-3649-4F4C-B6BE-695BEE10E9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EC7DE-3AC3-477E-99EA-C3BD005674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A2E24-AF4C-4882-99A1-C70733F695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EB1A1-D6B5-43FD-AE27-D1F09A435E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0ABEB-D055-4364-B08B-0890BDF693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1328B-1A59-42EB-9276-287FB2660E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180EA-E7BA-4F2E-911A-9510DBA0A2E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305DB-B6DB-474E-B8CC-3A96CC8CD0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938FF-B445-4B86-9638-DE6E5E4D0C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C5CB8-9D4F-4E59-998F-313581FEC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9274-F19B-4A7B-B869-FD8CD0ADBF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5B6-58C2-4AEB-9C22-3E95670A2C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3BD-EAF4-4416-9A24-4396ACF9D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1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1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4B9-C443-43EF-92BB-DD03C0FC8B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B5D-1893-4B5A-8CED-10DF239F9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12B1-733E-4A16-9661-4A3081276E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6A04-5B26-4698-9842-A852E5929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3DB-F337-4826-BED8-2AC0FB1E8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4C3-5492-4F6C-BA4D-81374774F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DA47-C35E-4C41-92F8-AEEDA2ABD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2F4-3EE5-49AA-84B4-AA821B592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78080" y="6248520"/>
            <a:ext cx="74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pperplate Gothic Bold"/>
              </a:rPr>
              <a:t>Department of Emergency Services and Public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7" descr="P:\Certification - 2011-2014-NEW\despp Seal gif.gif"/>
          <p:cNvPicPr/>
          <p:nvPr/>
        </p:nvPicPr>
        <p:blipFill>
          <a:blip r:embed="rId2"/>
          <a:stretch/>
        </p:blipFill>
        <p:spPr>
          <a:xfrm>
            <a:off x="93600" y="5616720"/>
            <a:ext cx="1284480" cy="1279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367-2228-4980-A33C-D21ADF2C6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uact=8&amp;ved=0CAcQjRw&amp;url=http://bioland-sci.com/index.php?main_page%3Dindex%26cPath%3D10&amp;ei=xWhGVLXQNM2VgwTehoKADw&amp;bvm=bv.77880786,d.cWc&amp;psig=AFQjCNE4jVN5L8YrRUO5k1FFZJQW1MABxA&amp;ust=141398679709037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google.com/url?sa=i&amp;rct=j&amp;q=&amp;esrc=s&amp;frm=1&amp;source=images&amp;cd=&amp;cad=rja&amp;uact=8&amp;ved=0CAcQjRw&amp;url=http://paramedic-schools.info/emt-training-first-step-towards-a-paramedic-career/&amp;ei=CWpGVKiYLIjJgwSZ_4KoBA&amp;bvm=bv.77880786,d.cWc&amp;psig=AFQjCNHzCDCCSljRiO87W28K468RT8HQEA&amp;ust=1413987165469986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google.com/url?sa=i&amp;rct=j&amp;q=&amp;esrc=s&amp;frm=1&amp;source=images&amp;cd=&amp;cad=rja&amp;uact=8&amp;ved=0CAcQjRw&amp;url=http://www.shopmedvet.com/product/nitrile-gloves-x-large-100-bx/gloves-exam-nitrile&amp;ei=8WhGVPzaCJHLggSX_4H4Dw&amp;bvm=bv.77880786,d.cWc&amp;psig=AFQjCNE4jVN5L8YrRUO5k1FFZJQW1MABxA&amp;ust=1413986797090375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google.com/url?sa=i&amp;rct=j&amp;q=&amp;esrc=s&amp;frm=1&amp;source=images&amp;cd=&amp;cad=rja&amp;uact=8&amp;ved=0CAcQjRw&amp;url=http://www.quickmedical.com/qmelite-multi-use-chemical-resistant-nitrile-exam-gloves.html&amp;ei=gWhGVImmIInBggSR_4LAAw&amp;bvm=bv.77880786,d.cWc&amp;psig=AFQjCNE4jVN5L8YrRUO5k1FFZJQW1MABxA&amp;ust=1413986797090375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beforeitsnews.com/r2/?url=http://www.amazon.com/gp/product/B000GUP7UC/ref=as_li_tl?ie=UTF8&amp;camp=1789&amp;creative=9325&amp;creativeASIN=B000GUP7UC&amp;linkCode=as2&amp;tag=hugeonlinegar-20&amp;linkId=IPWH5QKONI6MRQAB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457200" y="380880"/>
            <a:ext cx="82296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Medical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ction Control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ergency First Respo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312408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October 01,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actor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 Hard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Surviv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house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e Clea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oval of soil in absence of visible body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mycobacterium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getative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iruses &amp; 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acterial s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method for ambu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mediate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A registered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ly available hard surface germ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-Chlorine Bleach (1: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ups bleach to 1 gal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lev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s all forms of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large numbers of bacterial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reusabl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muc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Laryngoscope bl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riliz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all micro-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not practical for 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4" descr="DCP_0011"/>
          <p:cNvPicPr/>
          <p:nvPr/>
        </p:nvPicPr>
        <p:blipFill>
          <a:blip r:embed="rId1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ed in designat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48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soap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priate level disinf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6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dry in clean storag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ing of PPE - Uni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n ASAP upon retu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appropriately until lau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der in designated front loading washer or commerc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manufacturers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lorine bleach on turnout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Hands and Exposed Skin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Thoroug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sh with Anti-Bacterial 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2" descr="handwashing_fight_germs"/>
          <p:cNvPicPr/>
          <p:nvPr/>
        </p:nvPicPr>
        <p:blipFill>
          <a:blip r:embed="rId1"/>
          <a:stretch/>
        </p:blipFill>
        <p:spPr>
          <a:xfrm>
            <a:off x="2438280" y="3048120"/>
            <a:ext cx="4457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proper storage equipment /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usage levels for inventor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shel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SD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dry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front loading wa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pre-metered dete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ized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completely drain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… Do not bring h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osure Seve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o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s &amp; Mouth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utane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re, Non-Intact Skin, Human B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ignific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thing, Intact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on / Hom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decontamination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e room, properly marked,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vent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drainage, including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orous sink with hot &amp; 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water for hand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ck/shelves for dr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going risk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Re-Evaluation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contro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nagement Poli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hysical changes to the workp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ractice controls (Modified meth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cor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Object 4"/>
          <p:cNvGraphicFramePr/>
          <p:nvPr/>
        </p:nvGraphicFramePr>
        <p:xfrm>
          <a:off x="4419720" y="3227400"/>
          <a:ext cx="3940200" cy="24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27400"/>
                    <a:ext cx="394020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Text Box 6"/>
          <p:cNvSpPr/>
          <p:nvPr/>
        </p:nvSpPr>
        <p:spPr>
          <a:xfrm>
            <a:off x="54100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fe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arc A. Scrive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e Service Instru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necticut Fire Academy Sta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x Types of Patho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us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kett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Object 4"/>
          <p:cNvGraphicFramePr/>
          <p:nvPr/>
        </p:nvGraphicFramePr>
        <p:xfrm>
          <a:off x="5334120" y="2362320"/>
          <a:ext cx="263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263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seases of Conce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 the Emergency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ovirus (EV-D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/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 hemorrhagic f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simp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disease of humans and other primates caused by Ebola vir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irus is acquired by contact with blood or other body fluids of an infected human or other a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occur by direct contact with a recently contaminated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ble to transmit the disease via semen for nearly two mon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bola Symp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 (greater than 38.6°C or 101.4°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(stomach)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xplained hemorrhage (bleeding or brui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 genus of positive-sense single-stranded RNA viruses associated with several human and mammalian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1 human Enterovirus serotypes on the basis of antibody neutralization te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oviruses affect millions of people worldwide each year, and are often found in the respiratory secretions (e.g., saliva, sputum, or nasal mucus) and stool of an infected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oviru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-D68 was first identified in California in 196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eople who get infected are infants, children and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 with Enteroviruses are usually common in the United States during summer and f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pecific treatment for EV-D68. Talk to your child's doctor about the best way to control his or her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oviru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EV-D6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ld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and Muscle 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e symptom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y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erminology &amp;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Means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Risk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P.P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nfection Control Policies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al hepatitis is the most common cause of hepatitis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s of viral hepatitis are the five unrelated hepatotropic viru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D (which requires hepatitis B to cause diseas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titi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patiti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, Body fluids,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appetite/Nau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 for Hep A Virus, Hep B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virus 1 and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SV-1 and HSV-2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known as human herpes virus 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SV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cold sor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SV-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ch produces most genital herpe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ubiquitous and contag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simplex can be spread through contact with saliva, such as sharing dri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re for herpes has not yet been developed. Once infected, the virus remains in the body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Simplex 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by direct contact with a lesion or the body fluid of an infected individ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gers are at particular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ions around mouth, Malaise, Sore Thr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Cold Sores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SV-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Geni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infection with Varicella Zoster Virus (VZV) causes the acute, short-lived illness chickenpox which generally occurs in children and young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n episode of chickenpox has resolved, the virus is not elimin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chickenpox and / or other forms of herpes, direct contact with an active rash can spread VZV to a person who has no immunity to the virus. This newly infected individual may then develop chickenpox, but will not immediately develop shi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iest symptoms of herpes zo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ed by sensations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p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sthesia (oversensitivity)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sthesia (“pins and needles”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gling, pricking, or numb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rpes Zoster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h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Immunodeficiency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lentivirus (a subgroup of retrovirus) that causes the Acquired Immunodeficiency Syndrome (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with HIV occurs by the transfer of blood, semen, vaginal fluid, pre-ejaculate, or breast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 /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fluids with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sw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mmonly known as "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is an infectious disease of birds and mammals caused by RNA viruses of the family Orthomyxovirida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influenza is transmitted through the air by coughs or sneezes, creating an aerosol containing the vir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za can also be transmitted by direct contact with bird droppings or nasal secretions, or through contact with contaminated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4" descr="DCP_0012"/>
          <p:cNvPicPr/>
          <p:nvPr/>
        </p:nvPicPr>
        <p:blipFill>
          <a:blip r:embed="rId1"/>
          <a:stretch/>
        </p:blipFill>
        <p:spPr>
          <a:xfrm>
            <a:off x="4343400" y="27432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symptom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y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 p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ache (often sev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g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 /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ute inflammation of the protective membranes covering the brain and spinal cord, known collectively as the men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aused by infection with viruses, bacteria, or other micro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l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Contact with Oral / Nasal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or Direct Exposure (i.e. Kis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ver &gt;101 F, Sudden Severe Head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k / Back Stif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es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ning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al (Comm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al / 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Bacterial; Also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dominal dis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 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berculosis typically attacks the lungs, but can also affect other parts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through the air when people who have an active TB infection cough, sneeze, or otherwise transmit respiratory fluids through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ntoux tuberculin skin test is often used to screen people at high risk for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bo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 Swe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cin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 (Bacterial &amp; Vi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5638680" y="1828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0" descr="Smallpox2"/>
          <p:cNvPicPr/>
          <p:nvPr/>
        </p:nvPicPr>
        <p:blipFill>
          <a:blip r:embed="rId1"/>
          <a:stretch/>
        </p:blipFill>
        <p:spPr>
          <a:xfrm>
            <a:off x="4884840" y="1103400"/>
            <a:ext cx="3809880" cy="2609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Other Diseases of Conc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cute disease caused by the bacteri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illus anthrac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orms of the disease are let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can enter the human body through the intestine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ges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g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inhalation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ski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cutaneo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does not usually spread from an infected human to a non-infected hu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vaccines against anthrax are now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cken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highly contagious disease caused by primary infection with Varicell Zoster Virus (VZV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 is an airborne disease which spreads easily through coughing or sneez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an infectious disease caused by either of two virus varian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aj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la min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occurs through inhalation of airborne variola virus, usually droplets expressed from the oral, nasal, or pharyngeal mucosa of an infected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pox is highly contagious, but generally spreads more slowly and less widely than some other viral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nfection Control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ef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i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ing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ubation period is 12-1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 rash appears 2-3 days after nonspecific, flu-like prodrome (fever and headach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 begins on face, hands, forearms and spreads to legs and centrally to trunk; Lesions are more predominant on the extremities than the tr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7" descr="VAX7"/>
          <p:cNvPicPr/>
          <p:nvPr/>
        </p:nvPicPr>
        <p:blipFill>
          <a:blip r:embed="rId1"/>
          <a:stretch/>
        </p:blipFill>
        <p:spPr>
          <a:xfrm>
            <a:off x="420840" y="1371600"/>
            <a:ext cx="4512960" cy="30481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EV_NOBLK"/>
          <p:cNvPicPr/>
          <p:nvPr/>
        </p:nvPicPr>
        <p:blipFill>
          <a:blip r:embed="rId2"/>
          <a:stretch/>
        </p:blipFill>
        <p:spPr>
          <a:xfrm>
            <a:off x="5181480" y="1371600"/>
            <a:ext cx="3124440" cy="4700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ox Eczema Vaccina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… More Diseas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Measles (Rub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nucle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phi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9" name="Object 4"/>
          <p:cNvGraphicFramePr/>
          <p:nvPr/>
        </p:nvGraphicFramePr>
        <p:xfrm>
          <a:off x="5410080" y="2895480"/>
          <a:ext cx="291492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895480"/>
                    <a:ext cx="291492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58280" y="1312920"/>
            <a:ext cx="40388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p.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33840" y="1294920"/>
            <a:ext cx="415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to 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days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3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o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to 16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49280" y="5676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hy is this important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cubation Period(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ection Contro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Health Maintenance Syst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ncept &amp;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th Maintenance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(HM)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 system to optimize the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of employees, and to minim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the risk of occupation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cquired illness or injur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905120" y="4876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K.A. “Risk Managemen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System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u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exposur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 assistanc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335268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4"/>
          <p:cNvGraphicFramePr/>
          <p:nvPr/>
        </p:nvGraphicFramePr>
        <p:xfrm>
          <a:off x="5638680" y="2590920"/>
          <a:ext cx="2438640" cy="35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90920"/>
                    <a:ext cx="243864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entry health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ness fo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Going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exams as determined by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active Inf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ble Laws and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0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 CFR 1910.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FPA 15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yan Whi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cut DPH / O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 for Diseas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program offers protection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e / family members of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 respons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BV or A/B com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requirement to be offered (HB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0.1030(f)(1)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10.1030 App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hot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er recommended by C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02/09/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Vacci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htheria-Pertussis-Tetanu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D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les-Mumps-Rubell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MM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cken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age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Object 4"/>
          <p:cNvGraphicFramePr/>
          <p:nvPr/>
        </p:nvGraphicFramePr>
        <p:xfrm>
          <a:off x="5943600" y="3733920"/>
          <a:ext cx="286704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733920"/>
                    <a:ext cx="28670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versal 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recautions taken to prevent occupational risk exposure to blood and other bodily fluid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1"/>
          <p:cNvSpPr/>
          <p:nvPr/>
        </p:nvSpPr>
        <p:spPr>
          <a:xfrm>
            <a:off x="304920" y="4572000"/>
            <a:ext cx="84582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niversal Precautions now referred to as “Standard Precaution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ften “Body Substance Isolation” used in its’ place by First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Substance Isolation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B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n infection control strategy that consider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ody substances as potentially infectiou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imilar to Universal Precautions .. But goes furth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solating workers from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Two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vels of B.S.I. –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andard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day calls, First Responder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olation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vel of B.S.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(special circum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Body Protection – No Skin Ex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8" descr=""/>
          <p:cNvPicPr/>
          <p:nvPr/>
        </p:nvPicPr>
        <p:blipFill>
          <a:blip r:embed="rId1"/>
          <a:stretch/>
        </p:blipFill>
        <p:spPr>
          <a:xfrm>
            <a:off x="7315200" y="4013280"/>
            <a:ext cx="139212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ed 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ash Protection – G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95 or N-100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6934320" y="1447920"/>
          <a:ext cx="189540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447920"/>
                    <a:ext cx="18954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3" name="Picture 2" descr="DCP_0006"/>
          <p:cNvPicPr/>
          <p:nvPr/>
        </p:nvPicPr>
        <p:blipFill>
          <a:blip r:embed="rId3"/>
          <a:stretch/>
        </p:blipFill>
        <p:spPr>
          <a:xfrm>
            <a:off x="3276720" y="419112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6" descr="https://encrypted-tbn2.gstatic.com/images?q=tbn:ANd9GcQpcuf1uOeJeYuUuGQQ-TIkn9NAOpMXhPKZzXjvEeSuplLLejk2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https://encrypted-tbn0.gstatic.com/images?q=tbn:ANd9GcRZCtRbDA2-cYiG-lAqWUM8xBcvutqeNjcDYcGcIGieTEisN5z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276720"/>
            <a:ext cx="4286160" cy="2914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8" descr="https://encrypted-tbn1.gstatic.com/images?q=tbn:ANd9GcRk485hOllXhYGj--_Y0sz_i1GwyajtW0LGdHMM8aJC8XGqEvSW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9907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https://encrypted-tbn2.gstatic.com/images?q=tbn:ANd9GcS55MHdyoIvrgOgdHpr3sCjUD6Si5pFS45qH8cIJhPkuw3rG4Q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3352680"/>
            <a:ext cx="28386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5" descr="http://www.prudentialuniforms.com/images/made/images/uploads/product_images/validated-reusable-goggle-program_284_265_bor1_cccccc_tl_4_tr_4_s_c1_c_t.jpg"/>
          <p:cNvPicPr/>
          <p:nvPr/>
        </p:nvPicPr>
        <p:blipFill>
          <a:blip r:embed="rId1"/>
          <a:stretch/>
        </p:blipFill>
        <p:spPr>
          <a:xfrm>
            <a:off x="533520" y="1311120"/>
            <a:ext cx="3117600" cy="29098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http://emeco-xray.ca/files/emeco/imagecache/product/files/emeco/sanax-ear-loop-mask-with-eye-shield.200x200.png"/>
          <p:cNvPicPr/>
          <p:nvPr/>
        </p:nvPicPr>
        <p:blipFill>
          <a:blip r:embed="rId2"/>
          <a:stretch/>
        </p:blipFill>
        <p:spPr>
          <a:xfrm>
            <a:off x="4038480" y="13111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http://emeco-xray.ca/files/emeco/imagecache/product/files/emeco/sanax-ear-loop-cone-mask-with-eye-shield.200x200.png"/>
          <p:cNvPicPr/>
          <p:nvPr/>
        </p:nvPicPr>
        <p:blipFill>
          <a:blip r:embed="rId3"/>
          <a:stretch/>
        </p:blipFill>
        <p:spPr>
          <a:xfrm>
            <a:off x="6324480" y="12938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3" name="AutoShape 6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2" descr="Medical Laser Safety by LASERVISION"/>
          <p:cNvPicPr/>
          <p:nvPr/>
        </p:nvPicPr>
        <p:blipFill>
          <a:blip r:embed="rId4"/>
          <a:stretch/>
        </p:blipFill>
        <p:spPr>
          <a:xfrm>
            <a:off x="4038480" y="330516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4" descr="http://www.canmedhealthcare.com/en/home/site/media/Parent/eye_protection.JPG"/>
          <p:cNvPicPr/>
          <p:nvPr/>
        </p:nvPicPr>
        <p:blipFill>
          <a:blip r:embed="rId5"/>
          <a:stretch/>
        </p:blipFill>
        <p:spPr>
          <a:xfrm>
            <a:off x="1306440" y="4419720"/>
            <a:ext cx="240840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09480" y="609480"/>
            <a:ext cx="7848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Communicable Diseases, Epidemiolog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Symp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6" descr="http://www.smaonline.com.au/images/clinical_apparels/96/96.jpg"/>
          <p:cNvPicPr/>
          <p:nvPr/>
        </p:nvPicPr>
        <p:blipFill>
          <a:blip r:embed="rId1"/>
          <a:stretch/>
        </p:blipFill>
        <p:spPr>
          <a:xfrm>
            <a:off x="349200" y="1379520"/>
            <a:ext cx="4013280" cy="31924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http://www.smaonline.com.au/images/clinical_apparels/106/106.jpg"/>
          <p:cNvPicPr/>
          <p:nvPr/>
        </p:nvPicPr>
        <p:blipFill>
          <a:blip r:embed="rId2"/>
          <a:stretch/>
        </p:blipFill>
        <p:spPr>
          <a:xfrm>
            <a:off x="4657680" y="1379520"/>
            <a:ext cx="4105440" cy="31924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"/>
          <p:cNvSpPr/>
          <p:nvPr/>
        </p:nvSpPr>
        <p:spPr>
          <a:xfrm>
            <a:off x="1553760" y="486252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3"/>
          <p:cNvSpPr/>
          <p:nvPr/>
        </p:nvSpPr>
        <p:spPr>
          <a:xfrm>
            <a:off x="5941800" y="48006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http://ws-na.amazon-adsystem.com/widgets/q?_encoding=UTF8&amp;ASIN=B000GUP7UC&amp;Format=_SL250_&amp;ID=AsinImage&amp;MarketPlace=US&amp;ServiceVersion=20070822&amp;WS=1&amp;tag=hugeonlinegar-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78040"/>
            <a:ext cx="1920960" cy="1905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http://www.iaff.org/hs/Media/P-100.jpg"/>
          <p:cNvPicPr/>
          <p:nvPr/>
        </p:nvPicPr>
        <p:blipFill>
          <a:blip r:embed="rId3"/>
          <a:stretch/>
        </p:blipFill>
        <p:spPr>
          <a:xfrm>
            <a:off x="5943600" y="132084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Mask"/>
          <p:cNvPicPr/>
          <p:nvPr/>
        </p:nvPicPr>
        <p:blipFill>
          <a:blip r:embed="rId4"/>
          <a:stretch/>
        </p:blipFill>
        <p:spPr>
          <a:xfrm>
            <a:off x="392040" y="1371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"/>
          <p:cNvSpPr/>
          <p:nvPr/>
        </p:nvSpPr>
        <p:spPr>
          <a:xfrm>
            <a:off x="406440" y="4162320"/>
            <a:ext cx="837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irators that filter out at least 95% of airborne particles during “worse case” testing using a “most-penetrating” sized particle are given a "95" rating. Those that filter out at least 99% receive a “99” rating. And those that filter at least 99.97% (essentially 100%) receive a “100” r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tandard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K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http://what-when-how.com/wp-content/uploads/2012/04/tmp2624_thumb.jpg"/>
          <p:cNvPicPr/>
          <p:nvPr/>
        </p:nvPicPr>
        <p:blipFill>
          <a:blip r:embed="rId1"/>
          <a:stretch/>
        </p:blipFill>
        <p:spPr>
          <a:xfrm>
            <a:off x="1676520" y="1143000"/>
            <a:ext cx="60958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Disposable Respiratory De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.P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uble 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/ Face splash protection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O GOG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wns / Coveralls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mplete Body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od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part of Splash Protection or PAPR 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Protection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APR or N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Powered Air Purifying Respi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 Covers – if not using a one piece s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ble Resuscitation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https://encrypted-tbn2.gstatic.com/images?q=tbn:ANd9GcQpcuf1uOeJeYuUuGQQ-TIkn9NAOpMXhPKZzXjvEeSuplLLejk2UA"/>
          <p:cNvPicPr/>
          <p:nvPr/>
        </p:nvPicPr>
        <p:blipFill>
          <a:blip r:embed="rId1"/>
          <a:stretch/>
        </p:blipFill>
        <p:spPr>
          <a:xfrm>
            <a:off x="152280" y="990720"/>
            <a:ext cx="4343400" cy="2698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8" descr="https://encrypted-tbn1.gstatic.com/images?q=tbn:ANd9GcRk485hOllXhYGj--_Y0sz_i1GwyajtW0LGdHMM8aJC8XGqEvSW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736" name="TextBox 1"/>
          <p:cNvSpPr/>
          <p:nvPr/>
        </p:nvSpPr>
        <p:spPr>
          <a:xfrm>
            <a:off x="1447920" y="4572000"/>
            <a:ext cx="640080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uble Glove is highly recommend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Pair put on first under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ond Glove over top on top of Sleeve C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Eye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Guardall Full Length Face Shield (40/Case)"/>
          <p:cNvPicPr/>
          <p:nvPr/>
        </p:nvPicPr>
        <p:blipFill>
          <a:blip r:embed="rId1"/>
          <a:stretch/>
        </p:blipFill>
        <p:spPr>
          <a:xfrm>
            <a:off x="380880" y="115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BSL-3 lab"/>
          <p:cNvPicPr/>
          <p:nvPr/>
        </p:nvPicPr>
        <p:blipFill>
          <a:blip r:embed="rId2"/>
          <a:stretch/>
        </p:blipFill>
        <p:spPr>
          <a:xfrm>
            <a:off x="2743200" y="1150920"/>
            <a:ext cx="3352680" cy="2222640"/>
          </a:xfrm>
          <a:prstGeom prst="rect">
            <a:avLst/>
          </a:prstGeom>
          <a:ln w="0">
            <a:noFill/>
          </a:ln>
        </p:spPr>
      </p:pic>
      <p:sp>
        <p:nvSpPr>
          <p:cNvPr id="740" name="TextBox 1"/>
          <p:cNvSpPr/>
          <p:nvPr/>
        </p:nvSpPr>
        <p:spPr>
          <a:xfrm>
            <a:off x="380880" y="395136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is recommending full face shields or full hoods for ey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oogles / Glasses tend to “Fog” – Responders then place hands 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eyes to move goggles, thus potentially exposing to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8" descr="Medical protective clothing, Surgical hood for Ebola"/>
          <p:cNvPicPr/>
          <p:nvPr/>
        </p:nvPicPr>
        <p:blipFill>
          <a:blip r:embed="rId3"/>
          <a:stretch/>
        </p:blipFill>
        <p:spPr>
          <a:xfrm>
            <a:off x="6280200" y="1150920"/>
            <a:ext cx="24829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Gown / Cover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Inside the Isolation Wards That Keep Us Safe From Ebola"/>
          <p:cNvPicPr/>
          <p:nvPr/>
        </p:nvPicPr>
        <p:blipFill>
          <a:blip r:embed="rId1"/>
          <a:stretch/>
        </p:blipFill>
        <p:spPr>
          <a:xfrm>
            <a:off x="1143000" y="1066680"/>
            <a:ext cx="6972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2" descr="3M H-Series Protective Hood, Tychem QC"/>
          <p:cNvPicPr/>
          <p:nvPr/>
        </p:nvPicPr>
        <p:blipFill>
          <a:blip r:embed="rId1"/>
          <a:stretch/>
        </p:blipFill>
        <p:spPr>
          <a:xfrm>
            <a:off x="838080" y="1273320"/>
            <a:ext cx="2524320" cy="25239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Medical protective clothing, Surgical hood for Ebola"/>
          <p:cNvPicPr/>
          <p:nvPr/>
        </p:nvPicPr>
        <p:blipFill>
          <a:blip r:embed="rId2"/>
          <a:stretch/>
        </p:blipFill>
        <p:spPr>
          <a:xfrm>
            <a:off x="4191120" y="1273320"/>
            <a:ext cx="4147920" cy="3714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Amy Manning, R.N., looks out from the protective hood of a DuPont Tychem SL suit in a decontamination room at Riverside Regional Medical Center on Wednesday in Newport News."/>
          <p:cNvPicPr/>
          <p:nvPr/>
        </p:nvPicPr>
        <p:blipFill>
          <a:blip r:embed="rId3"/>
          <a:stretch/>
        </p:blipFill>
        <p:spPr>
          <a:xfrm>
            <a:off x="826920" y="3797280"/>
            <a:ext cx="2624400" cy="1808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1"/>
          <p:cNvSpPr/>
          <p:nvPr/>
        </p:nvSpPr>
        <p:spPr>
          <a:xfrm>
            <a:off x="4191120" y="5251320"/>
            <a:ext cx="41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ods offer more body protection, usually require PAPR ai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Respi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3M™ Versaflo™ Easy Clean PAPR Respirator Kit TR-300-ECK 1/case"/>
          <p:cNvPicPr/>
          <p:nvPr/>
        </p:nvPicPr>
        <p:blipFill>
          <a:blip r:embed="rId1"/>
          <a:stretch/>
        </p:blipFill>
        <p:spPr>
          <a:xfrm>
            <a:off x="81900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" descr="Optimair 6HC PAPR"/>
          <p:cNvPicPr/>
          <p:nvPr/>
        </p:nvPicPr>
        <p:blipFill>
          <a:blip r:embed="rId2"/>
          <a:stretch/>
        </p:blipFill>
        <p:spPr>
          <a:xfrm>
            <a:off x="3759120" y="1143000"/>
            <a:ext cx="4965840" cy="3429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8" descr="Survivair Belt Mount PAPR"/>
          <p:cNvPicPr/>
          <p:nvPr/>
        </p:nvPicPr>
        <p:blipFill>
          <a:blip r:embed="rId3"/>
          <a:stretch/>
        </p:blipFill>
        <p:spPr>
          <a:xfrm>
            <a:off x="1095480" y="35053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3" name="TextBox 1"/>
          <p:cNvSpPr/>
          <p:nvPr/>
        </p:nvSpPr>
        <p:spPr>
          <a:xfrm>
            <a:off x="3759120" y="4876920"/>
            <a:ext cx="49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ed Air Purifying Respirators (P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recommended for long duration work capacity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057400" y="21337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682560" y="8539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nciples &amp; Modes of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bd05584_"/>
          <p:cNvPicPr/>
          <p:nvPr/>
        </p:nvPicPr>
        <p:blipFill>
          <a:blip r:embed="rId1"/>
          <a:stretch/>
        </p:blipFill>
        <p:spPr>
          <a:xfrm>
            <a:off x="6008760" y="229716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.P.E. – Boot C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120600" y="-639720"/>
            <a:ext cx="1333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72880" y="-487440"/>
            <a:ext cx="1333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4"/>
          <p:cNvSpPr/>
          <p:nvPr/>
        </p:nvSpPr>
        <p:spPr>
          <a:xfrm>
            <a:off x="425520" y="4724280"/>
            <a:ext cx="559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nee high boot covers are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protective suit / coveralls being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2" descr="https://www.medline.com/media/catalog/sku/SLD/SLDBL200_PRI03.JPG"/>
          <p:cNvPicPr/>
          <p:nvPr/>
        </p:nvPicPr>
        <p:blipFill>
          <a:blip r:embed="rId1"/>
          <a:stretch/>
        </p:blipFill>
        <p:spPr>
          <a:xfrm>
            <a:off x="1992240" y="1150920"/>
            <a:ext cx="4761000" cy="3174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http://www.medical-supplies-equipment-company.com/files/media/images/Leak-Proof-Boot-Covers-2.jpeg"/>
          <p:cNvPicPr/>
          <p:nvPr/>
        </p:nvPicPr>
        <p:blipFill>
          <a:blip r:embed="rId2"/>
          <a:stretch/>
        </p:blipFill>
        <p:spPr>
          <a:xfrm>
            <a:off x="6222960" y="1150920"/>
            <a:ext cx="2594160" cy="4411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0" descr="http://www.medwell.net/userfiles/Boot%20Cover.jpg"/>
          <p:cNvPicPr/>
          <p:nvPr/>
        </p:nvPicPr>
        <p:blipFill>
          <a:blip r:embed="rId3"/>
          <a:stretch/>
        </p:blipFill>
        <p:spPr>
          <a:xfrm>
            <a:off x="272880" y="1144440"/>
            <a:ext cx="2438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solation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P.E. – Ventilation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6" descr="Vinyl Disposable BVM (Infant)"/>
          <p:cNvPicPr/>
          <p:nvPr/>
        </p:nvPicPr>
        <p:blipFill>
          <a:blip r:embed="rId1"/>
          <a:stretch/>
        </p:blipFill>
        <p:spPr>
          <a:xfrm>
            <a:off x="3962520" y="1219320"/>
            <a:ext cx="4593960" cy="45939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http://www.wellmedlab.com/photo/pc1546317-custom_medical_injection_moulding_for_portable_disposable_medical_respirator.jpg"/>
          <p:cNvPicPr/>
          <p:nvPr/>
        </p:nvPicPr>
        <p:blipFill>
          <a:blip r:embed="rId2"/>
          <a:stretch/>
        </p:blipFill>
        <p:spPr>
          <a:xfrm>
            <a:off x="228600" y="2514600"/>
            <a:ext cx="36162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location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cene self de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 Exposur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ritical Information for the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4" descr="bs00554_"/>
          <p:cNvPicPr/>
          <p:nvPr/>
        </p:nvPicPr>
        <p:blipFill>
          <a:blip r:embed="rId1"/>
          <a:stretch/>
        </p:blipFill>
        <p:spPr>
          <a:xfrm>
            <a:off x="6477120" y="380880"/>
            <a:ext cx="26668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45720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ou’re operating at the scene of a stressful emergency; You think you’ve just been exposed to blood or body fluid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457200" y="3124080"/>
            <a:ext cx="6324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o do you no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you go to the hospi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WordArt 7"/>
          <p:cNvSpPr txBox="1"/>
          <p:nvPr/>
        </p:nvSpPr>
        <p:spPr>
          <a:xfrm>
            <a:off x="6324480" y="314316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p!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Do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t exposure system establishes uniform procedures to protect the health of responders after a possible exposure to communicabl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Playe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Administrator (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 Control Practitioner (I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cy Physici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ire / EMS / Law Enfor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457200" y="2286000"/>
            <a:ext cx="82296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eatment / Follow-up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is per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 verbally to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vs. non-significant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workers’ comp. Ho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ie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or (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ly verifies exposure when fea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decon and treatment when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orses exposur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s Infection Control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s workers’ comp. has been ca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Modes of Disease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Indirect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irborne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Vector Trans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715000" y="3200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hm00163_"/>
          <p:cNvPicPr/>
          <p:nvPr/>
        </p:nvPicPr>
        <p:blipFill>
          <a:blip r:embed="rId1"/>
          <a:stretch/>
        </p:blipFill>
        <p:spPr>
          <a:xfrm>
            <a:off x="6095880" y="41911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attempts to verify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schedules medical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for significant exp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ed within 48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an White Car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is act delineates specific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quirements that allow responders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ut if they have been exposed to 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ectious diseas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 No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spital notifies 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potential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pply to non-transporting respo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P contacts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yan White Care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cation by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ed by local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tacts receiving facility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with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took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osure did not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fficient information / un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identialit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You’ve been expo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ct limits information that can be given to ICA or CEO by ICP /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give your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ard is it to keep a secret in your a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art on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Evaluation w/in 48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n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ba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hylac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6019920" y="3048120"/>
          <a:ext cx="2585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048120"/>
                    <a:ext cx="258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ry / illnes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A conducts follow up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 reasonable period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responder need retrai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gency need to alter current proced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this be prevented from happening aga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Exposu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seling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er support / CIS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usal or family couns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Safe sex pract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ining in infection control, if nee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Infection Contro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r Elements of Trans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bility and Viru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age, Duration, &amp;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66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ident Operations &amp;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hases of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fo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respon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Object 8"/>
          <p:cNvGraphicFramePr/>
          <p:nvPr/>
        </p:nvGraphicFramePr>
        <p:xfrm>
          <a:off x="5410080" y="2590920"/>
          <a:ext cx="32004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590920"/>
                    <a:ext cx="3200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P/SOG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of PPE (vehicles &amp; s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inventory,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Hyg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d out of th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dispatc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. “Size-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PPE en route when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m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tiality and th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SI / 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patient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resuscitation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ap nee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Handle sharps only when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3"/>
          <p:cNvSpPr/>
          <p:nvPr/>
        </p:nvSpPr>
        <p:spPr>
          <a:xfrm>
            <a:off x="457200" y="21337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In health care workers, 80% of exposures are due to sharps inj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457200" y="4191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st percentage of needle-stick accidents occur during recapp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Object 5"/>
          <p:cNvGraphicFramePr/>
          <p:nvPr/>
        </p:nvGraphicFramePr>
        <p:xfrm>
          <a:off x="1828800" y="533520"/>
          <a:ext cx="538164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3816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at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chanical clean up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Dust pan &amp; b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dispose of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package contaminated g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to fire station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relations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universal preca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is uncomfortable with glo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e B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 Coveralls for chest pains is overki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5" name="Object 4"/>
          <p:cNvGraphicFramePr/>
          <p:nvPr/>
        </p:nvGraphicFramePr>
        <p:xfrm>
          <a:off x="5867280" y="3886200"/>
          <a:ext cx="27432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8862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e Manageme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formation at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’s medical statu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re when discussing patient’s information at s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information is “need to kno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disposal of 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priate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“Bio” b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s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d deco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decon (In ho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for out-of-house de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4" descr="DCP_0007"/>
          <p:cNvPicPr/>
          <p:nvPr/>
        </p:nvPicPr>
        <p:blipFill>
          <a:blip r:embed="rId1"/>
          <a:stretch/>
        </p:blipFill>
        <p:spPr>
          <a:xfrm>
            <a:off x="6248520" y="1447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6" descr="http://www.sharpmedsolutions.org/images/red_sharps_containers.jpg"/>
          <p:cNvPicPr/>
          <p:nvPr/>
        </p:nvPicPr>
        <p:blipFill>
          <a:blip r:embed="rId2"/>
          <a:stretch/>
        </p:blipFill>
        <p:spPr>
          <a:xfrm>
            <a:off x="6434280" y="3886200"/>
            <a:ext cx="2143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Response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infection, Decon,  &amp; 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level’s of disinf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– Routine ambulance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– Typical pos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– (ie. Intubation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ilization – Destroys all micro-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02:19Z</dcterms:created>
  <dc:creator>Eric Munsell</dc:creator>
  <dc:description/>
  <dc:language>en-US</dc:language>
  <cp:lastModifiedBy>Eric Munsell</cp:lastModifiedBy>
  <dcterms:modified xsi:type="dcterms:W3CDTF">2014-10-29T18:39:16Z</dcterms:modified>
  <cp:revision>294</cp:revision>
  <dc:subject/>
  <dc:title>Slide 1</dc:title>
</cp:coreProperties>
</file>