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_rels/notesSlide5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1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2.jpeg" ContentType="image/jpeg"/>
  <Override PartName="/ppt/media/image21.jpeg" ContentType="image/jpeg"/>
  <Override PartName="/ppt/media/image19.png" ContentType="image/png"/>
  <Override PartName="/ppt/media/image18.jpeg" ContentType="image/jpeg"/>
  <Override PartName="/ppt/media/image16.jpeg" ContentType="image/jpeg"/>
  <Override PartName="/ppt/media/image5.wmf" ContentType="image/x-wmf"/>
  <Override PartName="/ppt/media/image14.jpeg" ContentType="image/jpeg"/>
  <Override PartName="/ppt/media/image41.jpeg" ContentType="image/jpeg"/>
  <Override PartName="/ppt/media/image4.wmf" ContentType="image/x-wmf"/>
  <Override PartName="/ppt/media/image23.jpeg" ContentType="image/jpeg"/>
  <Override PartName="/ppt/media/image52.wmf" ContentType="image/x-wmf"/>
  <Override PartName="/ppt/media/image2.jpeg" ContentType="image/jpeg"/>
  <Override PartName="/ppt/media/image20.png" ContentType="image/png"/>
  <Override PartName="/ppt/media/image36.jpeg" ContentType="image/jpeg"/>
  <Override PartName="/ppt/media/image15.jpeg" ContentType="image/jpeg"/>
  <Override PartName="/ppt/media/image3.wmf" ContentType="image/x-wmf"/>
  <Override PartName="/ppt/media/image29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png" ContentType="image/png"/>
  <Override PartName="/ppt/media/image33.jpeg" ContentType="image/jpeg"/>
  <Override PartName="/ppt/media/image6.jpeg" ContentType="image/jpeg"/>
  <Override PartName="/ppt/media/image34.jpeg" ContentType="image/jpeg"/>
  <Override PartName="/ppt/media/image28.jpeg" ContentType="image/jpeg"/>
  <Override PartName="/ppt/media/image35.jpeg" ContentType="image/jpeg"/>
  <Override PartName="/ppt/media/image37.jpeg" ContentType="image/jpeg"/>
  <Override PartName="/ppt/media/image27.jpeg" ContentType="image/jpeg"/>
  <Override PartName="/ppt/media/image50.jpeg" ContentType="image/jpeg"/>
  <Override PartName="/ppt/media/image42.jpeg" ContentType="image/jpeg"/>
  <Override PartName="/ppt/media/image9.wmf" ContentType="image/x-wmf"/>
  <Override PartName="/ppt/media/image43.wmf" ContentType="image/x-wmf"/>
  <Override PartName="/ppt/media/image44.wmf" ContentType="image/x-wmf"/>
  <Override PartName="/ppt/media/image11.wmf" ContentType="image/x-wmf"/>
  <Override PartName="/ppt/media/image46.wmf" ContentType="image/x-wmf"/>
  <Override PartName="/ppt/media/image48.jpeg" ContentType="image/jpeg"/>
  <Override PartName="/ppt/media/image32.jpeg" ContentType="image/jpeg"/>
  <Override PartName="/ppt/media/image49.jpeg" ContentType="image/jpeg"/>
  <Override PartName="/ppt/media/image17.jpeg" ContentType="image/jpeg"/>
  <Override PartName="/ppt/media/image45.wmf" ContentType="image/x-wmf"/>
  <Override PartName="/ppt/media/image25.jpeg" ContentType="image/jpeg"/>
  <Override PartName="/ppt/media/image51.png" ContentType="image/png"/>
  <Override PartName="/ppt/media/image12.wmf" ContentType="image/x-wmf"/>
  <Override PartName="/ppt/media/image1.gif" ContentType="image/gif"/>
  <Override PartName="/ppt/media/image10.wmf" ContentType="image/x-wmf"/>
  <Override PartName="/ppt/media/image47.wmf" ContentType="image/x-wmf"/>
  <Override PartName="/ppt/media/image7.jpeg" ContentType="image/jpeg"/>
  <Override PartName="/ppt/media/image38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74.xml.rels" ContentType="application/vnd.openxmlformats-package.relationships+xml"/>
  <Override PartName="/ppt/slides/_rels/slide104.xml.rels" ContentType="application/vnd.openxmlformats-package.relationships+xml"/>
  <Override PartName="/ppt/slides/_rels/slide10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114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14.xml" ContentType="application/vnd.openxmlformats-officedocument.presentationml.slide+xml"/>
  <Override PartName="/ppt/slides/slide89.xml" ContentType="application/vnd.openxmlformats-officedocument.presentationml.slide+xml"/>
  <Override PartName="/ppt/slides/slide113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  <p:sldId id="302" r:id="rId62"/>
    <p:sldId id="303" r:id="rId63"/>
    <p:sldId id="304" r:id="rId64"/>
    <p:sldId id="305" r:id="rId65"/>
    <p:sldId id="306" r:id="rId66"/>
    <p:sldId id="307" r:id="rId67"/>
    <p:sldId id="308" r:id="rId68"/>
    <p:sldId id="309" r:id="rId69"/>
    <p:sldId id="310" r:id="rId70"/>
    <p:sldId id="311" r:id="rId71"/>
    <p:sldId id="312" r:id="rId72"/>
    <p:sldId id="313" r:id="rId73"/>
    <p:sldId id="314" r:id="rId74"/>
    <p:sldId id="315" r:id="rId75"/>
    <p:sldId id="316" r:id="rId76"/>
    <p:sldId id="317" r:id="rId77"/>
    <p:sldId id="318" r:id="rId78"/>
    <p:sldId id="319" r:id="rId79"/>
    <p:sldId id="320" r:id="rId80"/>
    <p:sldId id="321" r:id="rId81"/>
    <p:sldId id="322" r:id="rId82"/>
    <p:sldId id="323" r:id="rId83"/>
    <p:sldId id="324" r:id="rId84"/>
    <p:sldId id="325" r:id="rId85"/>
    <p:sldId id="326" r:id="rId86"/>
    <p:sldId id="327" r:id="rId87"/>
    <p:sldId id="328" r:id="rId88"/>
    <p:sldId id="329" r:id="rId89"/>
    <p:sldId id="330" r:id="rId90"/>
    <p:sldId id="331" r:id="rId91"/>
    <p:sldId id="332" r:id="rId92"/>
    <p:sldId id="333" r:id="rId93"/>
    <p:sldId id="334" r:id="rId94"/>
    <p:sldId id="335" r:id="rId95"/>
    <p:sldId id="336" r:id="rId96"/>
    <p:sldId id="337" r:id="rId97"/>
    <p:sldId id="338" r:id="rId98"/>
    <p:sldId id="339" r:id="rId99"/>
    <p:sldId id="340" r:id="rId100"/>
    <p:sldId id="341" r:id="rId101"/>
    <p:sldId id="342" r:id="rId102"/>
    <p:sldId id="343" r:id="rId103"/>
    <p:sldId id="344" r:id="rId104"/>
    <p:sldId id="345" r:id="rId105"/>
    <p:sldId id="346" r:id="rId106"/>
    <p:sldId id="347" r:id="rId107"/>
    <p:sldId id="348" r:id="rId108"/>
    <p:sldId id="349" r:id="rId109"/>
    <p:sldId id="350" r:id="rId110"/>
    <p:sldId id="351" r:id="rId111"/>
    <p:sldId id="352" r:id="rId112"/>
    <p:sldId id="353" r:id="rId113"/>
    <p:sldId id="354" r:id="rId114"/>
    <p:sldId id="355" r:id="rId115"/>
    <p:sldId id="356" r:id="rId116"/>
    <p:sldId id="357" r:id="rId117"/>
    <p:sldId id="358" r:id="rId118"/>
    <p:sldId id="359" r:id="rId119"/>
    <p:sldId id="360" r:id="rId120"/>
    <p:sldId id="361" r:id="rId121"/>
    <p:sldId id="362" r:id="rId122"/>
    <p:sldId id="363" r:id="rId123"/>
    <p:sldId id="364" r:id="rId124"/>
    <p:sldId id="365" r:id="rId125"/>
    <p:sldId id="366" r:id="rId126"/>
    <p:sldId id="367" r:id="rId127"/>
    <p:sldId id="368" r:id="rId128"/>
    <p:sldId id="369" r:id="rId12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slide" Target="slides/slide47.xml"/><Relationship Id="rId63" Type="http://schemas.openxmlformats.org/officeDocument/2006/relationships/slide" Target="slides/slide48.xml"/><Relationship Id="rId64" Type="http://schemas.openxmlformats.org/officeDocument/2006/relationships/slide" Target="slides/slide49.xml"/><Relationship Id="rId65" Type="http://schemas.openxmlformats.org/officeDocument/2006/relationships/slide" Target="slides/slide50.xml"/><Relationship Id="rId66" Type="http://schemas.openxmlformats.org/officeDocument/2006/relationships/slide" Target="slides/slide51.xml"/><Relationship Id="rId67" Type="http://schemas.openxmlformats.org/officeDocument/2006/relationships/slide" Target="slides/slide52.xml"/><Relationship Id="rId68" Type="http://schemas.openxmlformats.org/officeDocument/2006/relationships/slide" Target="slides/slide53.xml"/><Relationship Id="rId69" Type="http://schemas.openxmlformats.org/officeDocument/2006/relationships/slide" Target="slides/slide54.xml"/><Relationship Id="rId70" Type="http://schemas.openxmlformats.org/officeDocument/2006/relationships/slide" Target="slides/slide55.xml"/><Relationship Id="rId71" Type="http://schemas.openxmlformats.org/officeDocument/2006/relationships/slide" Target="slides/slide56.xml"/><Relationship Id="rId72" Type="http://schemas.openxmlformats.org/officeDocument/2006/relationships/slide" Target="slides/slide57.xml"/><Relationship Id="rId73" Type="http://schemas.openxmlformats.org/officeDocument/2006/relationships/slide" Target="slides/slide58.xml"/><Relationship Id="rId74" Type="http://schemas.openxmlformats.org/officeDocument/2006/relationships/slide" Target="slides/slide59.xml"/><Relationship Id="rId75" Type="http://schemas.openxmlformats.org/officeDocument/2006/relationships/slide" Target="slides/slide60.xml"/><Relationship Id="rId76" Type="http://schemas.openxmlformats.org/officeDocument/2006/relationships/slide" Target="slides/slide61.xml"/><Relationship Id="rId77" Type="http://schemas.openxmlformats.org/officeDocument/2006/relationships/slide" Target="slides/slide62.xml"/><Relationship Id="rId78" Type="http://schemas.openxmlformats.org/officeDocument/2006/relationships/slide" Target="slides/slide63.xml"/><Relationship Id="rId79" Type="http://schemas.openxmlformats.org/officeDocument/2006/relationships/slide" Target="slides/slide64.xml"/><Relationship Id="rId80" Type="http://schemas.openxmlformats.org/officeDocument/2006/relationships/slide" Target="slides/slide65.xml"/><Relationship Id="rId81" Type="http://schemas.openxmlformats.org/officeDocument/2006/relationships/slide" Target="slides/slide66.xml"/><Relationship Id="rId82" Type="http://schemas.openxmlformats.org/officeDocument/2006/relationships/slide" Target="slides/slide67.xml"/><Relationship Id="rId83" Type="http://schemas.openxmlformats.org/officeDocument/2006/relationships/slide" Target="slides/slide68.xml"/><Relationship Id="rId84" Type="http://schemas.openxmlformats.org/officeDocument/2006/relationships/slide" Target="slides/slide69.xml"/><Relationship Id="rId85" Type="http://schemas.openxmlformats.org/officeDocument/2006/relationships/slide" Target="slides/slide70.xml"/><Relationship Id="rId86" Type="http://schemas.openxmlformats.org/officeDocument/2006/relationships/slide" Target="slides/slide71.xml"/><Relationship Id="rId87" Type="http://schemas.openxmlformats.org/officeDocument/2006/relationships/slide" Target="slides/slide72.xml"/><Relationship Id="rId88" Type="http://schemas.openxmlformats.org/officeDocument/2006/relationships/slide" Target="slides/slide73.xml"/><Relationship Id="rId89" Type="http://schemas.openxmlformats.org/officeDocument/2006/relationships/slide" Target="slides/slide74.xml"/><Relationship Id="rId90" Type="http://schemas.openxmlformats.org/officeDocument/2006/relationships/slide" Target="slides/slide75.xml"/><Relationship Id="rId91" Type="http://schemas.openxmlformats.org/officeDocument/2006/relationships/slide" Target="slides/slide76.xml"/><Relationship Id="rId92" Type="http://schemas.openxmlformats.org/officeDocument/2006/relationships/slide" Target="slides/slide77.xml"/><Relationship Id="rId93" Type="http://schemas.openxmlformats.org/officeDocument/2006/relationships/slide" Target="slides/slide78.xml"/><Relationship Id="rId94" Type="http://schemas.openxmlformats.org/officeDocument/2006/relationships/slide" Target="slides/slide79.xml"/><Relationship Id="rId95" Type="http://schemas.openxmlformats.org/officeDocument/2006/relationships/slide" Target="slides/slide80.xml"/><Relationship Id="rId96" Type="http://schemas.openxmlformats.org/officeDocument/2006/relationships/slide" Target="slides/slide81.xml"/><Relationship Id="rId97" Type="http://schemas.openxmlformats.org/officeDocument/2006/relationships/slide" Target="slides/slide82.xml"/><Relationship Id="rId98" Type="http://schemas.openxmlformats.org/officeDocument/2006/relationships/slide" Target="slides/slide83.xml"/><Relationship Id="rId99" Type="http://schemas.openxmlformats.org/officeDocument/2006/relationships/slide" Target="slides/slide84.xml"/><Relationship Id="rId100" Type="http://schemas.openxmlformats.org/officeDocument/2006/relationships/slide" Target="slides/slide85.xml"/><Relationship Id="rId101" Type="http://schemas.openxmlformats.org/officeDocument/2006/relationships/slide" Target="slides/slide86.xml"/><Relationship Id="rId102" Type="http://schemas.openxmlformats.org/officeDocument/2006/relationships/slide" Target="slides/slide87.xml"/><Relationship Id="rId103" Type="http://schemas.openxmlformats.org/officeDocument/2006/relationships/slide" Target="slides/slide88.xml"/><Relationship Id="rId104" Type="http://schemas.openxmlformats.org/officeDocument/2006/relationships/slide" Target="slides/slide89.xml"/><Relationship Id="rId105" Type="http://schemas.openxmlformats.org/officeDocument/2006/relationships/slide" Target="slides/slide90.xml"/><Relationship Id="rId106" Type="http://schemas.openxmlformats.org/officeDocument/2006/relationships/slide" Target="slides/slide91.xml"/><Relationship Id="rId107" Type="http://schemas.openxmlformats.org/officeDocument/2006/relationships/slide" Target="slides/slide92.xml"/><Relationship Id="rId108" Type="http://schemas.openxmlformats.org/officeDocument/2006/relationships/slide" Target="slides/slide93.xml"/><Relationship Id="rId109" Type="http://schemas.openxmlformats.org/officeDocument/2006/relationships/slide" Target="slides/slide94.xml"/><Relationship Id="rId110" Type="http://schemas.openxmlformats.org/officeDocument/2006/relationships/slide" Target="slides/slide95.xml"/><Relationship Id="rId111" Type="http://schemas.openxmlformats.org/officeDocument/2006/relationships/slide" Target="slides/slide96.xml"/><Relationship Id="rId112" Type="http://schemas.openxmlformats.org/officeDocument/2006/relationships/slide" Target="slides/slide97.xml"/><Relationship Id="rId113" Type="http://schemas.openxmlformats.org/officeDocument/2006/relationships/slide" Target="slides/slide98.xml"/><Relationship Id="rId114" Type="http://schemas.openxmlformats.org/officeDocument/2006/relationships/slide" Target="slides/slide99.xml"/><Relationship Id="rId115" Type="http://schemas.openxmlformats.org/officeDocument/2006/relationships/slide" Target="slides/slide100.xml"/><Relationship Id="rId116" Type="http://schemas.openxmlformats.org/officeDocument/2006/relationships/slide" Target="slides/slide101.xml"/><Relationship Id="rId117" Type="http://schemas.openxmlformats.org/officeDocument/2006/relationships/slide" Target="slides/slide102.xml"/><Relationship Id="rId118" Type="http://schemas.openxmlformats.org/officeDocument/2006/relationships/slide" Target="slides/slide103.xml"/><Relationship Id="rId119" Type="http://schemas.openxmlformats.org/officeDocument/2006/relationships/slide" Target="slides/slide104.xml"/><Relationship Id="rId120" Type="http://schemas.openxmlformats.org/officeDocument/2006/relationships/slide" Target="slides/slide105.xml"/><Relationship Id="rId121" Type="http://schemas.openxmlformats.org/officeDocument/2006/relationships/slide" Target="slides/slide106.xml"/><Relationship Id="rId122" Type="http://schemas.openxmlformats.org/officeDocument/2006/relationships/slide" Target="slides/slide107.xml"/><Relationship Id="rId123" Type="http://schemas.openxmlformats.org/officeDocument/2006/relationships/slide" Target="slides/slide108.xml"/><Relationship Id="rId124" Type="http://schemas.openxmlformats.org/officeDocument/2006/relationships/slide" Target="slides/slide109.xml"/><Relationship Id="rId125" Type="http://schemas.openxmlformats.org/officeDocument/2006/relationships/slide" Target="slides/slide110.xml"/><Relationship Id="rId126" Type="http://schemas.openxmlformats.org/officeDocument/2006/relationships/slide" Target="slides/slide111.xml"/><Relationship Id="rId127" Type="http://schemas.openxmlformats.org/officeDocument/2006/relationships/slide" Target="slides/slide112.xml"/><Relationship Id="rId128" Type="http://schemas.openxmlformats.org/officeDocument/2006/relationships/slide" Target="slides/slide113.xml"/><Relationship Id="rId129" Type="http://schemas.openxmlformats.org/officeDocument/2006/relationships/slide" Target="slides/slide114.xml"/><Relationship Id="rId1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dt" idx="15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Copperplate Gothic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pperplate Gothic Bol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ftr" idx="16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 type="sldNum" idx="17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Copperplate Gothic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E204E98-DA1B-479C-BF43-1299AE80EA06}" type="slidenum">
              <a:rPr b="0" lang="en-US" sz="1200" spc="-1" strike="noStrike">
                <a:solidFill>
                  <a:srgbClr val="000000"/>
                </a:solidFill>
                <a:latin typeface="Copperplate Gothic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918720" y="441936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tivirus (a subgroup of retroviru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F8FFE42-216B-4C83-B635-0283A47769A2}" type="slidenum">
              <a:rPr b="0" lang="en-US" sz="1200" spc="-1" strike="noStrike">
                <a:solidFill>
                  <a:srgbClr val="000000"/>
                </a:solidFill>
                <a:latin typeface="Copperplate Gothic Bol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rodrom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is an early symptom (or set of symptoms) that might indicate the start of a disease before specific symptoms occu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9E09015-C163-45AE-A972-0C11E6D65869}" type="slidenum">
              <a:rPr b="0" lang="en-US" sz="1200" spc="-1" strike="noStrike">
                <a:solidFill>
                  <a:srgbClr val="000000"/>
                </a:solidFill>
                <a:latin typeface="Copperplate Gothic Bol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rodrom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is an early symptom (or set of symptoms) that might indicate the start of a disease before specific symptoms occu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D03E629-C14E-4581-B66C-B5D1F47B70F3}" type="slidenum">
              <a:rPr b="0" lang="en-US" sz="1200" spc="-1" strike="noStrike">
                <a:solidFill>
                  <a:srgbClr val="000000"/>
                </a:solidFill>
                <a:latin typeface="Copperplate Gothic Bol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rodrom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is an early symptom (or set of symptoms) that might indicate the start of a disease before specific symptoms occu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C5BB8B0-9801-4DC5-BDD6-4D60A215F309}" type="slidenum">
              <a:rPr b="0" lang="en-US" sz="1200" spc="-1" strike="noStrike">
                <a:solidFill>
                  <a:srgbClr val="000000"/>
                </a:solidFill>
                <a:latin typeface="Copperplate Gothic Bol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rodrom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is an early symptom (or set of symptoms) that might indicate the start of a disease before specific symptoms occu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0A92411-E0E7-448A-B136-CD2B1494BA2F}" type="slidenum">
              <a:rPr b="0" lang="en-US" sz="1200" spc="-1" strike="noStrike">
                <a:solidFill>
                  <a:srgbClr val="000000"/>
                </a:solidFill>
                <a:latin typeface="Copperplate Gothic Bol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czema vaccinatum is a rare severe adverse reaction to smallpox vaccination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40CD59B-C082-416E-942C-3A19230EE776}" type="slidenum">
              <a:rPr b="0" lang="en-US" sz="1200" spc="-1" strike="noStrike">
                <a:solidFill>
                  <a:srgbClr val="000000"/>
                </a:solidFill>
                <a:latin typeface="Copperplate Gothic Bol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10.1030 – Bloodborne pathoge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10.134 – Respiratory Prot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10.1200 – Hazard Communic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FPA 1500 – Fire Department Occupational Safety and Health Progr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FPA 1581 – Comprehensive Occupational Medical Program for Fire Depart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yan White Act – Federally Funded Program for people with HIV / A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icut Department of Public Health / Office of Emergency Medical Serv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 for Disease Contr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F9C1FBC-86AC-40F0-90A9-DE17F277D665}" type="slidenum">
              <a:rPr b="0" lang="en-US" sz="1200" spc="-1" strike="noStrike">
                <a:solidFill>
                  <a:srgbClr val="000000"/>
                </a:solidFill>
                <a:latin typeface="Copperplate Gothic Bol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patitis B Vir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E4C302D-F265-4FCD-9C26-A6C846E9629F}" type="slidenum">
              <a:rPr b="0" lang="en-US" sz="1200" spc="-1" strike="noStrike">
                <a:solidFill>
                  <a:srgbClr val="000000"/>
                </a:solidFill>
                <a:latin typeface="Copperplate Gothic Bol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E0F910-A682-4320-880E-330496A83457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10BFD6-B75C-4974-AD6E-4C70F5A940D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D5E7C0-2550-4BFD-BB56-4BFB34B0E3C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9BA339-633A-4BC8-ACF2-E70DCCFAFE7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76108E-9ED1-454F-9C08-3D3F9755987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24B7B4-F91C-4432-B833-02F7AD7F84C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F4B1CB-D488-460C-9219-548EEB105A3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9EE647-0ED9-46F6-81C2-155DB452E79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E91A3C-71F2-4D3E-B5A9-EEF59A035ACF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40628-68A3-475B-A8C0-B865BCC395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BE4B7-3D6E-4CD9-A949-BEEE158470EE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853DE-8434-42BF-B8BC-D8A3DEB5B96F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B5523-FC41-4902-8F41-4477DFE192BF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0574F-580E-45D5-BFA2-8AF6BCBF4E63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F50A1-31C5-40C6-9F25-8CE59F18D5CD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8EF9F-F4D9-419A-99B7-0609CCF1530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BF31F-A893-476D-85FB-620FAC9038FD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870AA-C7BB-4459-8C7C-3041F733EC4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057D7-D618-4BB4-82D0-8DF6DFAC1AA8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69BE9-99BF-47FD-9A5B-C8166895A1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4C8DA-9A7C-4B54-B391-2540F6728E03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AAE363-2604-4731-8557-86C65F2DCBE4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8A8C46-77C0-46DC-9132-56701443797E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CACB3F-AC42-44FE-A367-56271B848276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7DAC0B-E0C1-4431-B818-C73B98BC3358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24882C-72DF-418E-BDCF-219CCBC6EFAB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89A28B-01B3-445F-ACC2-5EF399AA761D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174B0E-8228-48A1-94F2-204572636ED5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9C005F-5904-4587-A8C0-F5A544E6FC2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BCC8BB-6759-4895-AFCD-DB17AFE58C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92F2A-DB91-482E-B242-B6501563C079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406B0F-6A18-430E-9003-F5A854BCD781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32CF71-81AF-44EC-831F-9C8D576D5357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12E5AF-9568-4673-8398-F650A4F2EACC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BF1E78-F351-4F3E-A172-3DE2430ECA39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03C3A2-7422-474F-84C3-E2AAE0AE93E3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AB82DC-715D-4FC8-835F-A3941265C975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9C31B1-0108-4FB9-8BF5-C0C234D5D40B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73888C-D283-4E7C-8CD1-0841D2170131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64E556-FD24-4FDA-9E7B-54AEED844AB0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F94CF8-E452-422F-B9F2-82D320473ED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03064-B060-47C8-84AA-33224F1B01DF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ED9908-C727-4AAA-BF31-39032184C773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571D53-17D9-4D81-B3CB-CCC9C196CD1F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9A5D68-9E02-4B80-8F8D-3E4A650ACE26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6CF67D-C972-4BD4-9752-5586D1DB8330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432754-D5BF-4C1E-9684-7AC825A07F29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845B4E-BD18-466A-8F38-707768C1E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454465-DB7A-4E98-ABFC-BA7EC2575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2DFC2C-D61C-47C1-B6AE-FA5D4428D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6E9317-006B-497B-98EC-8ECFB3524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95C5A7-6514-4F5A-8E59-BC3E2179B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29551-6446-4FD7-8911-923301D2CF1B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540B81-D967-4617-B44A-D0AD1E374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07B46A-C4E4-4D0C-8ADC-EE0E3E3DE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2AE966-58D0-4526-AD45-A3D3A8D63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01C84D-516C-45E4-8C74-8286CC07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CCDA7D-BAB3-4253-91D4-08174B71F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61D4F3-3944-4A04-B22A-D8EFD3A32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11BC84-4850-4C21-ACEB-249F08FCA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DE9F6-89B3-43C4-B98E-0E50E03B122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7AAE9-EA6F-4B7C-8A64-DE10E86721E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6C529-2C16-47C3-B35B-4ECE15B782C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C6766-8B55-43AC-898B-C195D2F8EA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7E6E0-1501-4778-A514-23AC648C02E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8A23E-453D-44C4-917A-23D2EC8F304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7DBDD-E5C3-4723-9143-ADC2B969713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28C57-C805-4215-B893-1ED91388D85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8AE11-761B-456B-93AA-8CC640306AD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8E493-CAF1-413F-8BE0-B143E3F6782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B0201-1B75-475A-89E8-11F4648A948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10A32-3907-4D26-945B-BEDF339DD4A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96C98-5C00-4CBB-9A73-01CF511AAB7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78EFB-4543-4D91-93CC-B870F572F5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F1238-D61E-4211-ABF2-577228670FC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7F7E7-42E3-47B0-9599-CC4F3799E5F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ACC15-4168-4A45-869A-1BC67B24C41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9885B-D712-4FC9-8315-4B7ADF58727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D26D1-6A2D-46C4-A058-6E5B4552D61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9A829-0026-466E-9153-1A1A7705387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2C6C0-C1BC-42AA-A56C-FD26FE2BF14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E38E-A3F7-4C0F-B906-8413BCAD002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0303-1EFA-4ADD-8AD4-6CFF5C8EAB9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7CA4-1C3A-4D27-A9A8-B208EA16CB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8052-77F3-4164-97D7-E541B9825D6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1A85-E111-47FD-8030-50D197C6781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F86D-3CA5-4712-86B6-BB35ED9BC68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6DBD-03E8-43C5-9ACD-C2BDEA9C242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2763-E10C-45AF-AA36-79B8B638194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377A-ACDC-4886-AC79-384433432D6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11BE-9F48-4528-9C5D-FABA0BFE364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99B2-56C0-4033-BBD0-001C9DA4B9E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0E46-22F6-4E7D-9D47-5B17BA10519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EFE085-D77E-455C-96F7-819A93260B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3703D1-95AA-448E-B82B-DF5087C251D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1BDA41-0D23-4551-A1D7-63552F2B6C3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18EAD0-EF70-435E-9936-BAD9A1ABEA0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3C5FEE-02CD-4CA8-9A13-830D6A97611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187802-A506-4FE5-A53A-5D8CEC5036C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7FB2A0-9C0F-4E94-8304-03BB43050BB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0F8F23-4AA6-4A5A-BD12-01D7F472E4F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CD4196-BBF2-4E12-9AEF-DCF826D82C2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361D49-16A5-4A52-8D03-C8F42CAAEA0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FE74D5-7FBE-4598-BECC-15ED0A80FE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D25A34-E185-4DFB-99E2-FDA52FBC53A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648D4A-32A5-4321-84D1-19057434633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257A12-E374-470B-B2E0-BB636BACAB9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DD0944-5560-44EC-A4A3-75D2EDD7612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37CC4A-03D1-4A4B-9EEB-88D4C2538CE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9B7A01-DA98-4650-BDFB-618A100F6F7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BBF998-FD0D-4089-8A81-FDE771E57A3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F36970-5BED-4867-BAF5-1FB4885E646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BA7128-568F-4316-9171-845275F23AF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07A9E0-E26D-483F-B0A4-907972D4B7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C22FB7-2CD0-4F90-9AF1-9169DED1827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C6A7B5-E3AE-4CC3-88CB-F35E663676F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2091EC-B892-44CC-A162-92D97E073E7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E09AA-1308-45D1-B60C-E51EF859129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558B0-C8DE-4438-9451-5821C8660C7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03A0B-C4E2-458A-A863-1EF61A0389F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E9358-094A-4364-9946-7E8B6134FC9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84ABB-FBF9-4CE7-9D7D-3EC16B2BC78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7C00F-0657-4705-A3B5-19FAD770DC9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D2721-96A7-42CC-9FBC-AFE2D2107B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91359-E44E-4A59-B0EB-E16D828C2C2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1A674-A2C4-4BDE-866F-2AAF2E4CAA4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CEA0E-5775-4D83-AAE8-8568ADE6BBB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6EB12-1717-42B4-A389-4CA937B3E78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67712-58DA-4189-A486-E264DF096B3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3B34C4-5584-4AAF-B124-E6254063586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C4BF59-F99A-4A12-BBC5-5358092671F0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9F054F-B3D8-40AD-93FD-CE6756C66D0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EAF308-2914-40AD-AEF6-FD62D55B3F6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C3C329-3200-4FEC-B4B1-D468EBB63C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0C62C9-8724-4763-9FA4-99B82B0CD3F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16E84E-F7C9-473C-B8B9-BBD3FB3C26EA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7789D3-CB60-467A-82C4-87ED083EB843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161916-82A6-43FE-ADDB-00B1F0E881F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B86721-FAE6-4A14-B675-50EEF3D90FC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1FE9B1-64DF-4068-8D2D-8E446ABC40A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2AF10F-79ED-4BB1-B35F-70E199A3609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BE0733-053A-449D-81CE-56EA3C22DE1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3FCD75-E0E4-4397-9BBF-659FB98D641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863CCB-E1F2-41C6-9283-48810991F4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7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17"/>
          <p:cNvSpPr/>
          <p:nvPr/>
        </p:nvSpPr>
        <p:spPr>
          <a:xfrm>
            <a:off x="0" y="6629400"/>
            <a:ext cx="9144000" cy="0"/>
          </a:xfrm>
          <a:prstGeom prst="line">
            <a:avLst/>
          </a:prstGeom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4"/>
          <p:cNvSpPr/>
          <p:nvPr/>
        </p:nvSpPr>
        <p:spPr>
          <a:xfrm>
            <a:off x="1378080" y="6248520"/>
            <a:ext cx="746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pperplate Gothic Bold"/>
              </a:rPr>
              <a:t>Department of Emergency Services and Public Prot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7" descr="P:\Certification - 2011-2014-NEW\despp Seal gif.gif"/>
          <p:cNvPicPr/>
          <p:nvPr/>
        </p:nvPicPr>
        <p:blipFill>
          <a:blip r:embed="rId2"/>
          <a:stretch/>
        </p:blipFill>
        <p:spPr>
          <a:xfrm>
            <a:off x="93600" y="5616720"/>
            <a:ext cx="1284480" cy="1279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Line 7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17"/>
          <p:cNvSpPr/>
          <p:nvPr/>
        </p:nvSpPr>
        <p:spPr>
          <a:xfrm>
            <a:off x="0" y="6629400"/>
            <a:ext cx="9144000" cy="0"/>
          </a:xfrm>
          <a:prstGeom prst="line">
            <a:avLst/>
          </a:prstGeom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14"/>
          <p:cNvSpPr/>
          <p:nvPr/>
        </p:nvSpPr>
        <p:spPr>
          <a:xfrm>
            <a:off x="1378080" y="6248520"/>
            <a:ext cx="746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pperplate Gothic Bold"/>
              </a:rPr>
              <a:t>Department of Emergency Services and Public Prot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17" descr="P:\Certification - 2011-2014-NEW\despp Seal gif.gif"/>
          <p:cNvPicPr/>
          <p:nvPr/>
        </p:nvPicPr>
        <p:blipFill>
          <a:blip r:embed="rId2"/>
          <a:stretch/>
        </p:blipFill>
        <p:spPr>
          <a:xfrm>
            <a:off x="93600" y="5616720"/>
            <a:ext cx="1284480" cy="127944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2887C-0D86-406C-BCA7-81636D98548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Line 7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17"/>
          <p:cNvSpPr/>
          <p:nvPr/>
        </p:nvSpPr>
        <p:spPr>
          <a:xfrm>
            <a:off x="0" y="6629400"/>
            <a:ext cx="9144000" cy="0"/>
          </a:xfrm>
          <a:prstGeom prst="line">
            <a:avLst/>
          </a:prstGeom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14"/>
          <p:cNvSpPr/>
          <p:nvPr/>
        </p:nvSpPr>
        <p:spPr>
          <a:xfrm>
            <a:off x="1378080" y="6248520"/>
            <a:ext cx="746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pperplate Gothic Bold"/>
              </a:rPr>
              <a:t>Department of Emergency Services and Public Prot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17" descr="P:\Certification - 2011-2014-NEW\despp Seal gif.gif"/>
          <p:cNvPicPr/>
          <p:nvPr/>
        </p:nvPicPr>
        <p:blipFill>
          <a:blip r:embed="rId2"/>
          <a:stretch/>
        </p:blipFill>
        <p:spPr>
          <a:xfrm>
            <a:off x="93600" y="5616720"/>
            <a:ext cx="1284480" cy="127944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91C84-AEAE-4D10-B033-9F03406B18B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Line 7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17"/>
          <p:cNvSpPr/>
          <p:nvPr/>
        </p:nvSpPr>
        <p:spPr>
          <a:xfrm>
            <a:off x="0" y="6629400"/>
            <a:ext cx="9144000" cy="0"/>
          </a:xfrm>
          <a:prstGeom prst="line">
            <a:avLst/>
          </a:prstGeom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14"/>
          <p:cNvSpPr/>
          <p:nvPr/>
        </p:nvSpPr>
        <p:spPr>
          <a:xfrm>
            <a:off x="1378080" y="6248520"/>
            <a:ext cx="746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pperplate Gothic Bold"/>
              </a:rPr>
              <a:t>Department of Emergency Services and Public Prot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17" descr="P:\Certification - 2011-2014-NEW\despp Seal gif.gif"/>
          <p:cNvPicPr/>
          <p:nvPr/>
        </p:nvPicPr>
        <p:blipFill>
          <a:blip r:embed="rId2"/>
          <a:stretch/>
        </p:blipFill>
        <p:spPr>
          <a:xfrm>
            <a:off x="93600" y="5616720"/>
            <a:ext cx="1284480" cy="127944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47A0C-CF8F-4F60-ADBD-4D76243525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Line 7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17"/>
          <p:cNvSpPr/>
          <p:nvPr/>
        </p:nvSpPr>
        <p:spPr>
          <a:xfrm>
            <a:off x="0" y="6629400"/>
            <a:ext cx="9144000" cy="0"/>
          </a:xfrm>
          <a:prstGeom prst="line">
            <a:avLst/>
          </a:prstGeom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14"/>
          <p:cNvSpPr/>
          <p:nvPr/>
        </p:nvSpPr>
        <p:spPr>
          <a:xfrm>
            <a:off x="1378080" y="6248520"/>
            <a:ext cx="746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pperplate Gothic Bold"/>
              </a:rPr>
              <a:t>Department of Emergency Services and Public Prot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17" descr="P:\Certification - 2011-2014-NEW\despp Seal gif.gif"/>
          <p:cNvPicPr/>
          <p:nvPr/>
        </p:nvPicPr>
        <p:blipFill>
          <a:blip r:embed="rId2"/>
          <a:stretch/>
        </p:blipFill>
        <p:spPr>
          <a:xfrm>
            <a:off x="93600" y="5616720"/>
            <a:ext cx="1284480" cy="127944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12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13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14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B3A29-B072-47E3-A892-932DB40ED62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7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17"/>
          <p:cNvSpPr/>
          <p:nvPr/>
        </p:nvSpPr>
        <p:spPr>
          <a:xfrm>
            <a:off x="0" y="6629400"/>
            <a:ext cx="9144000" cy="0"/>
          </a:xfrm>
          <a:prstGeom prst="line">
            <a:avLst/>
          </a:prstGeom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4"/>
          <p:cNvSpPr/>
          <p:nvPr/>
        </p:nvSpPr>
        <p:spPr>
          <a:xfrm>
            <a:off x="1378080" y="6248520"/>
            <a:ext cx="746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pperplate Gothic Bold"/>
              </a:rPr>
              <a:t>Department of Emergency Services and Public Prot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7" descr="P:\Certification - 2011-2014-NEW\despp Seal gif.gif"/>
          <p:cNvPicPr/>
          <p:nvPr/>
        </p:nvPicPr>
        <p:blipFill>
          <a:blip r:embed="rId2"/>
          <a:stretch/>
        </p:blipFill>
        <p:spPr>
          <a:xfrm>
            <a:off x="93600" y="5616720"/>
            <a:ext cx="1284480" cy="12794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B6613-17FB-47E9-95AC-2656D1A74F5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Line 7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7"/>
          <p:cNvSpPr/>
          <p:nvPr/>
        </p:nvSpPr>
        <p:spPr>
          <a:xfrm>
            <a:off x="0" y="6629400"/>
            <a:ext cx="9144000" cy="0"/>
          </a:xfrm>
          <a:prstGeom prst="line">
            <a:avLst/>
          </a:prstGeom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4"/>
          <p:cNvSpPr/>
          <p:nvPr/>
        </p:nvSpPr>
        <p:spPr>
          <a:xfrm>
            <a:off x="1378080" y="6248520"/>
            <a:ext cx="746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pperplate Gothic Bold"/>
              </a:rPr>
              <a:t>Department of Emergency Services and Public Prot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7" descr="P:\Certification - 2011-2014-NEW\despp Seal gif.gif"/>
          <p:cNvPicPr/>
          <p:nvPr/>
        </p:nvPicPr>
        <p:blipFill>
          <a:blip r:embed="rId2"/>
          <a:stretch/>
        </p:blipFill>
        <p:spPr>
          <a:xfrm>
            <a:off x="93600" y="5616720"/>
            <a:ext cx="1284480" cy="12794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B4494-01AA-4C5E-96E8-AD7233D1CA1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Line 7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7"/>
          <p:cNvSpPr/>
          <p:nvPr/>
        </p:nvSpPr>
        <p:spPr>
          <a:xfrm>
            <a:off x="0" y="6629400"/>
            <a:ext cx="9144000" cy="0"/>
          </a:xfrm>
          <a:prstGeom prst="line">
            <a:avLst/>
          </a:prstGeom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4"/>
          <p:cNvSpPr/>
          <p:nvPr/>
        </p:nvSpPr>
        <p:spPr>
          <a:xfrm>
            <a:off x="1378080" y="6248520"/>
            <a:ext cx="746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pperplate Gothic Bold"/>
              </a:rPr>
              <a:t>Department of Emergency Services and Public Prot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7" descr="P:\Certification - 2011-2014-NEW\despp Seal gif.gif"/>
          <p:cNvPicPr/>
          <p:nvPr/>
        </p:nvPicPr>
        <p:blipFill>
          <a:blip r:embed="rId2"/>
          <a:stretch/>
        </p:blipFill>
        <p:spPr>
          <a:xfrm>
            <a:off x="93600" y="5616720"/>
            <a:ext cx="1284480" cy="12794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826DF-B504-4E4F-8FA6-8984F8F6BAB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Line 7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7"/>
          <p:cNvSpPr/>
          <p:nvPr/>
        </p:nvSpPr>
        <p:spPr>
          <a:xfrm>
            <a:off x="0" y="6629400"/>
            <a:ext cx="9144000" cy="0"/>
          </a:xfrm>
          <a:prstGeom prst="line">
            <a:avLst/>
          </a:prstGeom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4"/>
          <p:cNvSpPr/>
          <p:nvPr/>
        </p:nvSpPr>
        <p:spPr>
          <a:xfrm>
            <a:off x="1378080" y="6248520"/>
            <a:ext cx="746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pperplate Gothic Bold"/>
              </a:rPr>
              <a:t>Department of Emergency Services and Public Prot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7" descr="P:\Certification - 2011-2014-NEW\despp Seal gif.gif"/>
          <p:cNvPicPr/>
          <p:nvPr/>
        </p:nvPicPr>
        <p:blipFill>
          <a:blip r:embed="rId2"/>
          <a:stretch/>
        </p:blipFill>
        <p:spPr>
          <a:xfrm>
            <a:off x="93600" y="5616720"/>
            <a:ext cx="1284480" cy="12794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18611-8026-4C2D-8D22-EFC2CAD398E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Line 7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7"/>
          <p:cNvSpPr/>
          <p:nvPr/>
        </p:nvSpPr>
        <p:spPr>
          <a:xfrm>
            <a:off x="0" y="6629400"/>
            <a:ext cx="9144000" cy="0"/>
          </a:xfrm>
          <a:prstGeom prst="line">
            <a:avLst/>
          </a:prstGeom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4"/>
          <p:cNvSpPr/>
          <p:nvPr/>
        </p:nvSpPr>
        <p:spPr>
          <a:xfrm>
            <a:off x="1378080" y="6248520"/>
            <a:ext cx="746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pperplate Gothic Bold"/>
              </a:rPr>
              <a:t>Department of Emergency Services and Public Prot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7" descr="P:\Certification - 2011-2014-NEW\despp Seal gif.gif"/>
          <p:cNvPicPr/>
          <p:nvPr/>
        </p:nvPicPr>
        <p:blipFill>
          <a:blip r:embed="rId2"/>
          <a:stretch/>
        </p:blipFill>
        <p:spPr>
          <a:xfrm>
            <a:off x="93600" y="5616720"/>
            <a:ext cx="1284480" cy="127944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D149B-A185-4795-90CF-BA352BE5CB3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Line 7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7"/>
          <p:cNvSpPr/>
          <p:nvPr/>
        </p:nvSpPr>
        <p:spPr>
          <a:xfrm>
            <a:off x="0" y="6629400"/>
            <a:ext cx="9144000" cy="0"/>
          </a:xfrm>
          <a:prstGeom prst="line">
            <a:avLst/>
          </a:prstGeom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4"/>
          <p:cNvSpPr/>
          <p:nvPr/>
        </p:nvSpPr>
        <p:spPr>
          <a:xfrm>
            <a:off x="1378080" y="6248520"/>
            <a:ext cx="746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pperplate Gothic Bold"/>
              </a:rPr>
              <a:t>Department of Emergency Services and Public Prot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17" descr="P:\Certification - 2011-2014-NEW\despp Seal gif.gif"/>
          <p:cNvPicPr/>
          <p:nvPr/>
        </p:nvPicPr>
        <p:blipFill>
          <a:blip r:embed="rId2"/>
          <a:stretch/>
        </p:blipFill>
        <p:spPr>
          <a:xfrm>
            <a:off x="93600" y="5616720"/>
            <a:ext cx="1284480" cy="127944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B3317-7F7E-4A22-8F9B-81DBF81699B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Line 7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7"/>
          <p:cNvSpPr/>
          <p:nvPr/>
        </p:nvSpPr>
        <p:spPr>
          <a:xfrm>
            <a:off x="0" y="6629400"/>
            <a:ext cx="9144000" cy="0"/>
          </a:xfrm>
          <a:prstGeom prst="line">
            <a:avLst/>
          </a:prstGeom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4"/>
          <p:cNvSpPr/>
          <p:nvPr/>
        </p:nvSpPr>
        <p:spPr>
          <a:xfrm>
            <a:off x="1378080" y="6248520"/>
            <a:ext cx="746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pperplate Gothic Bold"/>
              </a:rPr>
              <a:t>Department of Emergency Services and Public Prot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17" descr="P:\Certification - 2011-2014-NEW\despp Seal gif.gif"/>
          <p:cNvPicPr/>
          <p:nvPr/>
        </p:nvPicPr>
        <p:blipFill>
          <a:blip r:embed="rId2"/>
          <a:stretch/>
        </p:blipFill>
        <p:spPr>
          <a:xfrm>
            <a:off x="93600" y="5616720"/>
            <a:ext cx="1284480" cy="127944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4F836-1C70-4445-BA4B-29020448DE9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Line 7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17"/>
          <p:cNvSpPr/>
          <p:nvPr/>
        </p:nvSpPr>
        <p:spPr>
          <a:xfrm>
            <a:off x="0" y="6629400"/>
            <a:ext cx="9144000" cy="0"/>
          </a:xfrm>
          <a:prstGeom prst="line">
            <a:avLst/>
          </a:prstGeom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4"/>
          <p:cNvSpPr/>
          <p:nvPr/>
        </p:nvSpPr>
        <p:spPr>
          <a:xfrm>
            <a:off x="1378080" y="6248520"/>
            <a:ext cx="746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pperplate Gothic Bold"/>
              </a:rPr>
              <a:t>Department of Emergency Services and Public Prot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17" descr="P:\Certification - 2011-2014-NEW\despp Seal gif.gif"/>
          <p:cNvPicPr/>
          <p:nvPr/>
        </p:nvPicPr>
        <p:blipFill>
          <a:blip r:embed="rId2"/>
          <a:stretch/>
        </p:blipFill>
        <p:spPr>
          <a:xfrm>
            <a:off x="93600" y="5616720"/>
            <a:ext cx="1284480" cy="127944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99D3F-0A45-4F57-A01F-B356C7E2215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2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2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25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hyperlink" Target="http://www.google.com/url?sa=i&amp;rct=j&amp;q=&amp;esrc=s&amp;frm=1&amp;source=images&amp;cd=&amp;cad=rja&amp;uact=8&amp;ved=0CAcQjRw&amp;url=http://bioland-sci.com/index.php?main_page%3Dindex%26cPath%3D10&amp;ei=xWhGVLXQNM2VgwTehoKADw&amp;bvm=bv.77880786,d.cWc&amp;psig=AFQjCNE4jVN5L8YrRUO5k1FFZJQW1MABxA&amp;ust=1413986797090375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www.google.com/url?sa=i&amp;rct=j&amp;q=&amp;esrc=s&amp;frm=1&amp;source=images&amp;cd=&amp;cad=rja&amp;uact=8&amp;ved=0CAcQjRw&amp;url=http://paramedic-schools.info/emt-training-first-step-towards-a-paramedic-career/&amp;ei=CWpGVKiYLIjJgwSZ_4KoBA&amp;bvm=bv.77880786,d.cWc&amp;psig=AFQjCNHzCDCCSljRiO87W28K468RT8HQEA&amp;ust=1413987165469986" TargetMode="External"/><Relationship Id="rId4" Type="http://schemas.openxmlformats.org/officeDocument/2006/relationships/image" Target="../media/image15.jpeg"/><Relationship Id="rId5" Type="http://schemas.openxmlformats.org/officeDocument/2006/relationships/hyperlink" Target="http://www.google.com/url?sa=i&amp;rct=j&amp;q=&amp;esrc=s&amp;frm=1&amp;source=images&amp;cd=&amp;cad=rja&amp;uact=8&amp;ved=0CAcQjRw&amp;url=http://www.shopmedvet.com/product/nitrile-gloves-x-large-100-bx/gloves-exam-nitrile&amp;ei=8WhGVPzaCJHLggSX_4H4Dw&amp;bvm=bv.77880786,d.cWc&amp;psig=AFQjCNE4jVN5L8YrRUO5k1FFZJQW1MABxA&amp;ust=1413986797090375" TargetMode="External"/><Relationship Id="rId6" Type="http://schemas.openxmlformats.org/officeDocument/2006/relationships/image" Target="../media/image16.jpeg"/><Relationship Id="rId7" Type="http://schemas.openxmlformats.org/officeDocument/2006/relationships/hyperlink" Target="http://www.google.com/url?sa=i&amp;rct=j&amp;q=&amp;esrc=s&amp;frm=1&amp;source=images&amp;cd=&amp;cad=rja&amp;uact=8&amp;ved=0CAcQjRw&amp;url=http://www.quickmedical.com/qmelite-multi-use-chemical-resistant-nitrile-exam-gloves.html&amp;ei=gWhGVImmIInBggSR_4LAAw&amp;bvm=bv.77880786,d.cWc&amp;psig=AFQjCNE4jVN5L8YrRUO5k1FFZJQW1MABxA&amp;ust=1413986797090375" TargetMode="External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http://beforeitsnews.com/r2/?url=http://www.amazon.com/gp/product/B000GUP7UC/ref=as_li_tl?ie=UTF8&amp;camp=1789&amp;creative=9325&amp;creativeASIN=B000GUP7UC&amp;linkCode=as2&amp;tag=hugeonlinegar-20&amp;linkId=IPWH5QKONI6MRQAB" TargetMode="External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3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2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2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8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2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3"/>
          <p:cNvSpPr/>
          <p:nvPr/>
        </p:nvSpPr>
        <p:spPr>
          <a:xfrm>
            <a:off x="457200" y="380880"/>
            <a:ext cx="822960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ergency Medical Serv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“</a:t>
            </a:r>
            <a:r>
              <a:rPr b="1" i="1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fection Control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mergency First Respond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4"/>
          <p:cNvSpPr/>
          <p:nvPr/>
        </p:nvSpPr>
        <p:spPr>
          <a:xfrm>
            <a:off x="3124080" y="57150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October 01, 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ur Elements of Transmi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6600cc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S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osure 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Signific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Factor(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sm Hard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al Survivabi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sinf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w level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outine housekeep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outine Clea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moval of soil in absence of visible body flui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sinf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mediate level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troys mycobacterium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getative Bacte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viruses &amp; Fung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Bacterial sp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ical method for ambula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sinf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mediate level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 typ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PA registered Disinfec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ially available hard surface germici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ter-Chlorine Bleach (1:1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cups bleach to 1 gal.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sinf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gh level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troys all forms of micro-organis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ept large numbers of bacterial sp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d for reusable instr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ct with mucous membra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Laryngoscope bla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sinf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rilization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troys all micro-organis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ually not practical for 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5" name="Picture 4" descr="DCP_0011"/>
          <p:cNvPicPr/>
          <p:nvPr/>
        </p:nvPicPr>
        <p:blipFill>
          <a:blip r:embed="rId1"/>
          <a:stretch/>
        </p:blipFill>
        <p:spPr>
          <a:xfrm>
            <a:off x="4952880" y="3352680"/>
            <a:ext cx="373392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st Response Ph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pment Decontam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-33660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ducted in designated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-33660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priate P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-33660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ss Dec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9480" indent="-336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ld soap &amp;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-33660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priate level disinfec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-33660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r dry in clean storage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st Response Ph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ing of PPE - Unifo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on ASAP upon retu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re appropriately until laund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under in designated front loading washer or commerci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 manufacturers instru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chlorine bleach on turnout g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not bring hom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st Response Ph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Wash Hands and Exposed Skin Of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Wash Thorough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Wash with Anti-Bacterial So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2" name="Picture 2" descr="handwashing_fight_germs"/>
          <p:cNvPicPr/>
          <p:nvPr/>
        </p:nvPicPr>
        <p:blipFill>
          <a:blip r:embed="rId1"/>
          <a:stretch/>
        </p:blipFill>
        <p:spPr>
          <a:xfrm>
            <a:off x="2438280" y="3048120"/>
            <a:ext cx="445788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ion / Home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pment Sto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sure proper storage equipment / suppl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nitor usage levels for inventory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nitor shelf li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SDS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ion / Home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undry Issu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ial front loading was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matic pre-metered deterg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rized cy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temper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ter completely drains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ain… Do not bring hom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posure Sever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gnifica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cos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yes &amp; Mouth Membra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cutaneo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ncture, Non-Intact Skin, Human B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n-Significa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thing, Intact Sk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ion / Home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ated decontamination a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parate room, properly marked, sec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er venti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equate drainage, including flo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-porous sink with hot &amp; cold 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matic water for hand was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ck/shelves for dry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priate suppl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gram Eval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-going risk assess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nual Re-Evaluation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nistrative contro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nagement Polic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gineering contr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hysical changes to the workpla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 practice controls (Modified method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P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ccin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gram Eval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nual record re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fety 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rps lo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jury lo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osure re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3" name="Object 4"/>
          <p:cNvGraphicFramePr/>
          <p:nvPr/>
        </p:nvGraphicFramePr>
        <p:xfrm>
          <a:off x="4419720" y="3227400"/>
          <a:ext cx="3940200" cy="241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3227400"/>
                    <a:ext cx="3940200" cy="24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5" name="Text Box 6"/>
          <p:cNvSpPr/>
          <p:nvPr/>
        </p:nvSpPr>
        <p:spPr>
          <a:xfrm>
            <a:off x="5410080" y="51814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fety Committ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33523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Questions &amp; Answ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ubTitle"/>
          </p:nvPr>
        </p:nvSpPr>
        <p:spPr>
          <a:xfrm>
            <a:off x="1371600" y="1447920"/>
            <a:ext cx="64008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Marc A. Scriven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re Service Instruct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necticut Fire Academy Staf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ix Types of Pathoge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uses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teria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g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oz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cketts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sitic Wo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Most Comm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4" name="Object 4"/>
          <p:cNvGraphicFramePr/>
          <p:nvPr/>
        </p:nvGraphicFramePr>
        <p:xfrm>
          <a:off x="5334120" y="2362320"/>
          <a:ext cx="2638440" cy="34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2362320"/>
                    <a:ext cx="2638440" cy="34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Diseases of Concer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or the Emergency Respo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me Diseases of Concer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300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bo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00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erovirus (EV-D6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00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pat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00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00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pes Zoster (Shingl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00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V / A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00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luen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00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ing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00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bercul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bo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bola hemorrhagic fe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H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or simpl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bol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disease of humans and other primates caused by Ebola viru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virus is acquired by contact with blood or other body fluids of an infected human or other anim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also occur by direct contact with a recently contaminated i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be able to transmit the disease via semen for nearly two month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bola Symp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ver (greater than 38.6°C or 101.4°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e heada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cle p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k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arrh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mi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dominal (stomach) p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explained hemorrhage (bleeding or bruis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nterovirus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(EV-D68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terovirus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a genus of positive-sense single-stranded RNA viruses associated with several human and mammalian disea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1 human Enterovirus serotypes on the basis of antibody neutralization test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eroviruses affect millions of people worldwide each year, and are often found in the respiratory secretions (e.g., saliva, sputum, or nasal mucus) and stool of an infected per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nterovirus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(EV-D68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teroviru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V-D68 was first identified in California in 196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people who get infected are infants, children and tee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ections with Enteroviruses are usually common in the United States during summer and f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is no specific treatment for EV-D68. Talk to your child's doctor about the best way to control his or her sympto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nterovirus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(EV-D68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mpto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ld symptoms may inclu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y n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nee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dy and Muscle ac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re symptoms may inclu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e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iculty brea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bjective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Terminology &amp; Concep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y Means of Transmi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y Risk Fac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nstrate P.P.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 Infection Control Policies and Proced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epatitis Fami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ral hepatitis is the most common cause of hepatitis worldwi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common causes of viral hepatitis are the five unrelated hepatotropic virus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patitis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patitis 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patitis 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patitis D (which requires hepatitis B to cause disease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patitis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epatitis Fami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missio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cal / Oral, Body fluids, bl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pto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s of appetite/Naus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und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ti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Vaccine Available for Hep A Virus, Hep B Vir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pes simplex virus 1 and 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HSV-1 and HSV-2)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 known as human herpes virus 1 and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HSV-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hich produces most cold sores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HSV-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hich produces most genital herpes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ubiquitous and contagio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pes simplex can be spread through contact with saliva, such as sharing drin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ure for herpes has not yet been developed. Once infected, the virus remains in the body for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Rectangle 2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Herpes Simplex Vir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miss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mitted by direct contact with a lesion or the body fluid of an infected individu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gers are at particular ris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mptom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sions around mouth, Malaise, Sore Thro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 vaccine 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Rectangle 2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HSV-1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(Cold Sores)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amp;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HSV-2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(Geni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itial infection with Varicella Zoster Virus (VZV) causes the acute, short-lived illness chickenpox which generally occurs in children and young adul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ce an episode of chickenpox has resolved, the virus is not elimin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Rectangle 2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Herpes Zoster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(Shing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miss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with chickenpox and / or other forms of herpes, direct contact with an active rash can spread VZV to a person who has no immunity to the virus. This newly infected individual may then develop chickenpox, but will not immediately develop shing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Rectangle 2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Herpes Zoster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(Shing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rliest symptoms of herpes zost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da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la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ed by sensations of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rning pa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ch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peresthesia (oversensitivity) 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esthesia (“pins and needles”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00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ngling, pricking, or numb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Rectangle 2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Herpes Zoster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(Shing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V / AI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uman Immunodeficiency Vir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s a lentivirus (a subgroup of retrovirus) that causes the Acquired Immunodeficiency Syndrome (AID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ection with HIV occurs by the transfer of blood, semen, vaginal fluid, pre-ejaculate, or breast mil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V / AI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miss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 fluids with bl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pto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ght swe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ight lo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 vaccine 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fluen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fluenz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commonly known as "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l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", is an infectious disease of birds and mammals caused by RNA viruses of the family Orthomyxovirida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ly, influenza is transmitted through the air by coughs or sneezes, creating an aerosol containing the vir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uenza can also be transmitted by direct contact with bird droppings or nasal secretions, or through contact with contaminated surf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lcom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Sched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ea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Picture 4" descr="DCP_0012"/>
          <p:cNvPicPr/>
          <p:nvPr/>
        </p:nvPicPr>
        <p:blipFill>
          <a:blip r:embed="rId1"/>
          <a:stretch/>
        </p:blipFill>
        <p:spPr>
          <a:xfrm>
            <a:off x="4343400" y="2743200"/>
            <a:ext cx="388620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fluen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common symptoms ar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ny n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e thro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cle p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ache (often seve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g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kness / fati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 discomf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ningit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cute inflammation of the protective membranes covering the brain and spinal cord, known collectively as the menin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be caused by infection with viruses, bacteria, or other microorganis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ningit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terial (Ra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miss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 Contact with Oral / Nasal Secre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imate or Direct Exposure (i.e. Kiss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pto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ver &gt;101 F, Sudden Severe Head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ck / Back Stiff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ntal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shes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Vaccine avail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ningit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al (Comm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miss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cal / O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pto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as Bacterial; Also possi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dominal discomf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st p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 vaccine avail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uberculo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berculosis typically attacks the lungs, but can also affect other parts of the bod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read through the air when people who have an active TB infection cough, sneeze, or otherwise transmit respiratory fluids through the 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antoux tuberculin skin test is often used to screen people at high risk for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uberculo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miss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rbor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mptom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ght Swea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ight lo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tig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Vaccine avail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/>
          </p:nvPr>
        </p:nvSpPr>
        <p:spPr>
          <a:xfrm>
            <a:off x="457200" y="1218960"/>
            <a:ext cx="6019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thr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ckenpox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p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y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R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neumonia (Bacterial &amp; Vir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st N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5"/>
          <p:cNvSpPr/>
          <p:nvPr/>
        </p:nvSpPr>
        <p:spPr>
          <a:xfrm>
            <a:off x="5638680" y="1828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Picture 10" descr="Smallpox2"/>
          <p:cNvPicPr/>
          <p:nvPr/>
        </p:nvPicPr>
        <p:blipFill>
          <a:blip r:embed="rId1"/>
          <a:stretch/>
        </p:blipFill>
        <p:spPr>
          <a:xfrm>
            <a:off x="4884840" y="1103400"/>
            <a:ext cx="3809880" cy="2609640"/>
          </a:xfrm>
          <a:prstGeom prst="rect">
            <a:avLst/>
          </a:prstGeom>
          <a:ln w="0">
            <a:noFill/>
          </a:ln>
        </p:spPr>
      </p:pic>
      <p:sp>
        <p:nvSpPr>
          <p:cNvPr id="645" name="Rectangle 2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Other Diseases of Concer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nthra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thra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n acute disease caused by the bacteriu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cillus anthrac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forms of the disease are leth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hrax can enter the human body through the intestines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(ingestion)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ungs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(inhalation)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skin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(cutaneou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hrax does not usually spread from an infected human to a non-infected hum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ective vaccines against anthrax are now 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ickenp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ickenpo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highly contagious disease caused by primary infection with Varicell Zoster Virus (VZV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ickenpox is an airborne disease which spreads easily through coughing or sneez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mallp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mallpo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 an infectious disease caused by either of two virus variants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riola maj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riola min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mission occurs through inhalation of airborne variola virus, usually droplets expressed from the oral, nasal, or pharyngeal mucosa of an infected 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pox is highly contagious, but generally spreads more slowly and less widely than some other viral dise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Infection Control Pl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ief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oes it 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 to Your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taining a Cop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mallp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ubation period is 12-14 d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cteristic rash appears 2-3 days after nonspecific, flu-like prodrome (fever and headach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sh begins on face, hands, forearms and spreads to legs and centrally to trunk; Lesions are more predominant on the extremities than the tru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Picture 7" descr="VAX7"/>
          <p:cNvPicPr/>
          <p:nvPr/>
        </p:nvPicPr>
        <p:blipFill>
          <a:blip r:embed="rId1"/>
          <a:stretch/>
        </p:blipFill>
        <p:spPr>
          <a:xfrm>
            <a:off x="420840" y="1371600"/>
            <a:ext cx="4512960" cy="304812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9" descr="EV_NOBLK"/>
          <p:cNvPicPr/>
          <p:nvPr/>
        </p:nvPicPr>
        <p:blipFill>
          <a:blip r:embed="rId2"/>
          <a:stretch/>
        </p:blipFill>
        <p:spPr>
          <a:xfrm>
            <a:off x="5181480" y="1371600"/>
            <a:ext cx="3124440" cy="4700520"/>
          </a:xfrm>
          <a:prstGeom prst="rect">
            <a:avLst/>
          </a:prstGeom>
          <a:ln w="0">
            <a:noFill/>
          </a:ln>
        </p:spPr>
      </p:pic>
      <p:sp>
        <p:nvSpPr>
          <p:cNvPr id="656" name="Rectangle 2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mallpox Eczema Vaccinat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nd… More Disease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rman Measles (Rubell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s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onucle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m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ab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phil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9" name="Object 4"/>
          <p:cNvGraphicFramePr/>
          <p:nvPr/>
        </p:nvGraphicFramePr>
        <p:xfrm>
          <a:off x="5410080" y="2895480"/>
          <a:ext cx="2914920" cy="22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2895480"/>
                    <a:ext cx="291492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/>
          </p:nvPr>
        </p:nvSpPr>
        <p:spPr>
          <a:xfrm>
            <a:off x="458280" y="1312920"/>
            <a:ext cx="403884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hr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bo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p. Fam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V/A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ningit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ickenp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neumo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33840" y="1294920"/>
            <a:ext cx="4152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to 7 d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1 D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 days or m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3 Mon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 to 10 d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 to 12 wee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4 to 16 d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Text Box 6"/>
          <p:cNvSpPr/>
          <p:nvPr/>
        </p:nvSpPr>
        <p:spPr>
          <a:xfrm>
            <a:off x="449280" y="567684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Why is this important to kn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2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cubation Period(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fection Control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Health Maintenance System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Concept &amp;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ealth Maintenance 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(HM)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i="1" lang="en-US" sz="4400" spc="-1" strike="noStrike">
                <a:solidFill>
                  <a:srgbClr val="0000ff"/>
                </a:solidFill>
                <a:latin typeface="Times New Roman"/>
              </a:rPr>
              <a:t>A system to optimize the heal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Times New Roman"/>
              </a:rPr>
              <a:t>of employees, and to minimi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Times New Roman"/>
              </a:rPr>
              <a:t>the risk of occupational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Times New Roman"/>
              </a:rPr>
              <a:t>acquired illness or injury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 Box 4"/>
          <p:cNvSpPr/>
          <p:nvPr/>
        </p:nvSpPr>
        <p:spPr>
          <a:xfrm>
            <a:off x="1905120" y="48769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.K.A. “Risk Management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M System Compon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ysical Ex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muniz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-exposure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ber assistance prog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hysical Exami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Rectangle 5"/>
          <p:cNvSpPr/>
          <p:nvPr/>
        </p:nvSpPr>
        <p:spPr>
          <a:xfrm>
            <a:off x="3352680" y="16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5" name="Object 4"/>
          <p:cNvGraphicFramePr/>
          <p:nvPr/>
        </p:nvGraphicFramePr>
        <p:xfrm>
          <a:off x="5638680" y="2590920"/>
          <a:ext cx="2438640" cy="351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2590920"/>
                    <a:ext cx="2438640" cy="35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hysical Examin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4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-entry health assess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 ex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ation of bas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tness for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Going Assess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eat exams as determined by M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mmuniz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Proactive Infection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pplicable Laws and Standar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9 CFR 1910.103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9 CFR 1910.13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9 CFR 1910.1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FPA 1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FPA 158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yan White 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necticut DPH / O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er for Disease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muniz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active program offers protection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loy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ouse / family members of employ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ergency response organ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n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mon Vaccin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BV or A/B comb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HA requirement to be offered (HB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10.1030(f)(1)(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lination sta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910.1030 App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 shot s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ter recommended by C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of 02/09/19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mon Vaccin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phtheria-Pertussis-Tetanus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DP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sles-Mumps-Rubella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MM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luen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neumon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ckenp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p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ersonal Protective Equi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Usage Concep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9" name="Object 4"/>
          <p:cNvGraphicFramePr/>
          <p:nvPr/>
        </p:nvGraphicFramePr>
        <p:xfrm>
          <a:off x="5943600" y="3733920"/>
          <a:ext cx="2867040" cy="217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3733920"/>
                    <a:ext cx="2867040" cy="21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niversal Precau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8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Precautions taken to prevent occupational risk exposure to blood and other bodily fluids.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Box 1"/>
          <p:cNvSpPr/>
          <p:nvPr/>
        </p:nvSpPr>
        <p:spPr>
          <a:xfrm>
            <a:off x="304920" y="4572000"/>
            <a:ext cx="8458200" cy="7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Universal Precautions now referred to as “Standard Precautions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Often “Body Substance Isolation” used in its’ place by First Respon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ody Substance Isolation 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(BS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An infection control strategy that considers </a:t>
            </a:r>
            <a:r>
              <a:rPr b="1" i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all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 body substances as potentially infectious.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Similar to Universal Precautions .. But goes further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isolating workers from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00cc"/>
                </a:solidFill>
                <a:latin typeface="Arial"/>
              </a:rPr>
              <a:t>“</a:t>
            </a:r>
            <a:r>
              <a:rPr b="1" i="1" lang="en-US" sz="4000" spc="-1" strike="noStrike">
                <a:solidFill>
                  <a:srgbClr val="6600cc"/>
                </a:solidFill>
                <a:latin typeface="Arial"/>
              </a:rPr>
              <a:t>Two”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evels of B.S.I. – P.P.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tandard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vel of B.S.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day calls, First Responder Prot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solation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vel of B.S.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(special circumstanc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ll Body Protection – No Skin Expo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8" name="Picture 8" descr=""/>
          <p:cNvPicPr/>
          <p:nvPr/>
        </p:nvPicPr>
        <p:blipFill>
          <a:blip r:embed="rId1"/>
          <a:stretch/>
        </p:blipFill>
        <p:spPr>
          <a:xfrm>
            <a:off x="7315200" y="4013280"/>
            <a:ext cx="1392120" cy="21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Standard”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ommended P.P.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ye / Face splash prot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lash Protection – Gow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95 or N-100 ma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posable resuscitation equi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1" name="Object 4"/>
          <p:cNvGraphicFramePr/>
          <p:nvPr/>
        </p:nvGraphicFramePr>
        <p:xfrm>
          <a:off x="6934320" y="1447920"/>
          <a:ext cx="1895400" cy="287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1447920"/>
                    <a:ext cx="1895400" cy="28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3" name="Picture 2" descr="DCP_0006"/>
          <p:cNvPicPr/>
          <p:nvPr/>
        </p:nvPicPr>
        <p:blipFill>
          <a:blip r:embed="rId3"/>
          <a:stretch/>
        </p:blipFill>
        <p:spPr>
          <a:xfrm>
            <a:off x="3276720" y="4191120"/>
            <a:ext cx="26668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Standard”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.P.E. – Glo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5" name="Picture 6" descr="https://encrypted-tbn2.gstatic.com/images?q=tbn:ANd9GcQpcuf1uOeJeYuUuGQQ-TIkn9NAOpMXhPKZzXjvEeSuplLLejk2U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990720"/>
            <a:ext cx="4343400" cy="2698560"/>
          </a:xfrm>
          <a:prstGeom prst="rect">
            <a:avLst/>
          </a:prstGeom>
          <a:ln w="0">
            <a:noFill/>
          </a:ln>
        </p:spPr>
      </p:pic>
      <p:pic>
        <p:nvPicPr>
          <p:cNvPr id="706" name="Picture 10" descr="https://encrypted-tbn0.gstatic.com/images?q=tbn:ANd9GcRZCtRbDA2-cYiG-lAqWUM8xBcvutqeNjcDYcGcIGieTEisN5zD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371600" y="3276720"/>
            <a:ext cx="4286160" cy="291456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8" descr="https://encrypted-tbn1.gstatic.com/images?q=tbn:ANd9GcRk485hOllXhYGj--_Y0sz_i1GwyajtW0LGdHMM8aJC8XGqEvSW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19920" y="990720"/>
            <a:ext cx="2361960" cy="236196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4" descr="https://encrypted-tbn2.gstatic.com/images?q=tbn:ANd9GcS55MHdyoIvrgOgdHpr3sCjUD6Si5pFS45qH8cIJhPkuw3rG4Qb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867280" y="3352680"/>
            <a:ext cx="283860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Standard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.P.E. – Eye Prot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Picture 5" descr="http://www.prudentialuniforms.com/images/made/images/uploads/product_images/validated-reusable-goggle-program_284_265_bor1_cccccc_tl_4_tr_4_s_c1_c_t.jpg"/>
          <p:cNvPicPr/>
          <p:nvPr/>
        </p:nvPicPr>
        <p:blipFill>
          <a:blip r:embed="rId1"/>
          <a:stretch/>
        </p:blipFill>
        <p:spPr>
          <a:xfrm>
            <a:off x="533520" y="1311120"/>
            <a:ext cx="3117600" cy="290988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2" descr="http://emeco-xray.ca/files/emeco/imagecache/product/files/emeco/sanax-ear-loop-mask-with-eye-shield.200x200.png"/>
          <p:cNvPicPr/>
          <p:nvPr/>
        </p:nvPicPr>
        <p:blipFill>
          <a:blip r:embed="rId2"/>
          <a:stretch/>
        </p:blipFill>
        <p:spPr>
          <a:xfrm>
            <a:off x="4038480" y="131112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4" descr="http://emeco-xray.ca/files/emeco/imagecache/product/files/emeco/sanax-ear-loop-cone-mask-with-eye-shield.200x200.png"/>
          <p:cNvPicPr/>
          <p:nvPr/>
        </p:nvPicPr>
        <p:blipFill>
          <a:blip r:embed="rId3"/>
          <a:stretch/>
        </p:blipFill>
        <p:spPr>
          <a:xfrm>
            <a:off x="6324480" y="129384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713" name="AutoShape 6"/>
          <p:cNvSpPr/>
          <p:nvPr/>
        </p:nvSpPr>
        <p:spPr>
          <a:xfrm>
            <a:off x="12060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4" name="Picture 12" descr="Medical Laser Safety by LASERVISION"/>
          <p:cNvPicPr/>
          <p:nvPr/>
        </p:nvPicPr>
        <p:blipFill>
          <a:blip r:embed="rId4"/>
          <a:stretch/>
        </p:blipFill>
        <p:spPr>
          <a:xfrm>
            <a:off x="4038480" y="3305160"/>
            <a:ext cx="4286520" cy="285768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14" descr="http://www.canmedhealthcare.com/en/home/site/media/Parent/eye_protection.JPG"/>
          <p:cNvPicPr/>
          <p:nvPr/>
        </p:nvPicPr>
        <p:blipFill>
          <a:blip r:embed="rId5"/>
          <a:stretch/>
        </p:blipFill>
        <p:spPr>
          <a:xfrm>
            <a:off x="1306440" y="4419720"/>
            <a:ext cx="2408400" cy="156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2"/>
          <p:cNvSpPr/>
          <p:nvPr/>
        </p:nvSpPr>
        <p:spPr>
          <a:xfrm>
            <a:off x="609480" y="609480"/>
            <a:ext cx="78487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Communicable Diseases, Epidemiology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&amp;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Symptom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Standard”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.P.E. – Gow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7" name="Picture 6" descr="http://www.smaonline.com.au/images/clinical_apparels/96/96.jpg"/>
          <p:cNvPicPr/>
          <p:nvPr/>
        </p:nvPicPr>
        <p:blipFill>
          <a:blip r:embed="rId1"/>
          <a:stretch/>
        </p:blipFill>
        <p:spPr>
          <a:xfrm>
            <a:off x="349200" y="1379520"/>
            <a:ext cx="4013280" cy="3192480"/>
          </a:xfrm>
          <a:prstGeom prst="rect">
            <a:avLst/>
          </a:prstGeom>
          <a:ln w="0">
            <a:noFill/>
          </a:ln>
        </p:spPr>
      </p:pic>
      <p:pic>
        <p:nvPicPr>
          <p:cNvPr id="718" name="Picture 8" descr="http://www.smaonline.com.au/images/clinical_apparels/106/106.jpg"/>
          <p:cNvPicPr/>
          <p:nvPr/>
        </p:nvPicPr>
        <p:blipFill>
          <a:blip r:embed="rId2"/>
          <a:stretch/>
        </p:blipFill>
        <p:spPr>
          <a:xfrm>
            <a:off x="4657680" y="1379520"/>
            <a:ext cx="4105440" cy="3192480"/>
          </a:xfrm>
          <a:prstGeom prst="rect">
            <a:avLst/>
          </a:prstGeom>
          <a:ln w="0">
            <a:noFill/>
          </a:ln>
        </p:spPr>
      </p:pic>
      <p:sp>
        <p:nvSpPr>
          <p:cNvPr id="719" name="TextBox 2"/>
          <p:cNvSpPr/>
          <p:nvPr/>
        </p:nvSpPr>
        <p:spPr>
          <a:xfrm>
            <a:off x="1553760" y="4862520"/>
            <a:ext cx="160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p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Box 3"/>
          <p:cNvSpPr/>
          <p:nvPr/>
        </p:nvSpPr>
        <p:spPr>
          <a:xfrm>
            <a:off x="5941800" y="480060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ow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Standard”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.P.E. – Respi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2" name="Picture 2" descr="http://ws-na.amazon-adsystem.com/widgets/q?_encoding=UTF8&amp;ASIN=B000GUP7UC&amp;Format=_SL250_&amp;ID=AsinImage&amp;MarketPlace=US&amp;ServiceVersion=20070822&amp;WS=1&amp;tag=hugeonlinegar-2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29000" y="1778040"/>
            <a:ext cx="1920960" cy="190512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4" descr="http://www.iaff.org/hs/Media/P-100.jpg"/>
          <p:cNvPicPr/>
          <p:nvPr/>
        </p:nvPicPr>
        <p:blipFill>
          <a:blip r:embed="rId3"/>
          <a:stretch/>
        </p:blipFill>
        <p:spPr>
          <a:xfrm>
            <a:off x="5943600" y="1320840"/>
            <a:ext cx="2819520" cy="281952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6" descr="Mask"/>
          <p:cNvPicPr/>
          <p:nvPr/>
        </p:nvPicPr>
        <p:blipFill>
          <a:blip r:embed="rId4"/>
          <a:stretch/>
        </p:blipFill>
        <p:spPr>
          <a:xfrm>
            <a:off x="392040" y="137160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725" name="Rectangle 1"/>
          <p:cNvSpPr/>
          <p:nvPr/>
        </p:nvSpPr>
        <p:spPr>
          <a:xfrm>
            <a:off x="406440" y="4162320"/>
            <a:ext cx="8370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spirators that filter out at least 95% of airborne particles during “worse case” testing using a “most-penetrating” sized particle are given a "95" rating. Those that filter out at least 99% receive a “99” rating. And those that filter at least 99.97% (essentially 100%) receive a “100” ra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Standard”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.P.E. – K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Picture 4" descr="http://what-when-how.com/wp-content/uploads/2012/04/tmp2624_thumb.jpg"/>
          <p:cNvPicPr/>
          <p:nvPr/>
        </p:nvPicPr>
        <p:blipFill>
          <a:blip r:embed="rId1"/>
          <a:stretch/>
        </p:blipFill>
        <p:spPr>
          <a:xfrm>
            <a:off x="1676520" y="1143000"/>
            <a:ext cx="6095880" cy="48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Disposable Respiratory Dev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9" name="Picture 6" descr="Vinyl Disposable BVM (Infant)"/>
          <p:cNvPicPr/>
          <p:nvPr/>
        </p:nvPicPr>
        <p:blipFill>
          <a:blip r:embed="rId1"/>
          <a:stretch/>
        </p:blipFill>
        <p:spPr>
          <a:xfrm>
            <a:off x="3962520" y="1219320"/>
            <a:ext cx="4593960" cy="459396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2" descr="http://www.wellmedlab.com/photo/pc1546317-custom_medical_injection_moulding_for_portable_disposable_medical_respirator.jpg"/>
          <p:cNvPicPr/>
          <p:nvPr/>
        </p:nvPicPr>
        <p:blipFill>
          <a:blip r:embed="rId2"/>
          <a:stretch/>
        </p:blipFill>
        <p:spPr>
          <a:xfrm>
            <a:off x="228600" y="2514600"/>
            <a:ext cx="361620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Isolation”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.P.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ves –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ouble Gl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3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ye / Face splash protection –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NO GOGG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3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wns / Coveralls –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omplete Body Co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3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od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not part of Splash Protection or PAPR Ensem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3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piratory Protection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PAPR or N9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(Powered Air Purifying Respira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3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ot Covers – if not using a one piece su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3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posable Resuscitation Equi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Isolation”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.P.E. – Glo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4" name="Picture 6" descr="https://encrypted-tbn2.gstatic.com/images?q=tbn:ANd9GcQpcuf1uOeJeYuUuGQQ-TIkn9NAOpMXhPKZzXjvEeSuplLLejk2UA"/>
          <p:cNvPicPr/>
          <p:nvPr/>
        </p:nvPicPr>
        <p:blipFill>
          <a:blip r:embed="rId1"/>
          <a:stretch/>
        </p:blipFill>
        <p:spPr>
          <a:xfrm>
            <a:off x="152280" y="990720"/>
            <a:ext cx="4343400" cy="269856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8" descr="https://encrypted-tbn1.gstatic.com/images?q=tbn:ANd9GcRk485hOllXhYGj--_Y0sz_i1GwyajtW0LGdHMM8aJC8XGqEvSW"/>
          <p:cNvPicPr/>
          <p:nvPr/>
        </p:nvPicPr>
        <p:blipFill>
          <a:blip r:embed="rId2"/>
          <a:stretch/>
        </p:blipFill>
        <p:spPr>
          <a:xfrm>
            <a:off x="5181480" y="99072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736" name="TextBox 1"/>
          <p:cNvSpPr/>
          <p:nvPr/>
        </p:nvSpPr>
        <p:spPr>
          <a:xfrm>
            <a:off x="1447920" y="4572000"/>
            <a:ext cx="6400800" cy="11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uble Glove is highly recommende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rst Pair put on first under sleeve cu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cond Glove over top on top of Sleeve Cu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Isolation”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.P.E. – Eye Prot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Picture 2" descr="Guardall Full Length Face Shield (40/Case)"/>
          <p:cNvPicPr/>
          <p:nvPr/>
        </p:nvPicPr>
        <p:blipFill>
          <a:blip r:embed="rId1"/>
          <a:stretch/>
        </p:blipFill>
        <p:spPr>
          <a:xfrm>
            <a:off x="380880" y="1150920"/>
            <a:ext cx="2210040" cy="220968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6" descr="BSL-3 lab"/>
          <p:cNvPicPr/>
          <p:nvPr/>
        </p:nvPicPr>
        <p:blipFill>
          <a:blip r:embed="rId2"/>
          <a:stretch/>
        </p:blipFill>
        <p:spPr>
          <a:xfrm>
            <a:off x="2743200" y="1150920"/>
            <a:ext cx="3352680" cy="2222640"/>
          </a:xfrm>
          <a:prstGeom prst="rect">
            <a:avLst/>
          </a:prstGeom>
          <a:ln w="0">
            <a:noFill/>
          </a:ln>
        </p:spPr>
      </p:pic>
      <p:sp>
        <p:nvSpPr>
          <p:cNvPr id="740" name="TextBox 1"/>
          <p:cNvSpPr/>
          <p:nvPr/>
        </p:nvSpPr>
        <p:spPr>
          <a:xfrm>
            <a:off x="380880" y="3951360"/>
            <a:ext cx="8382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DC is recommending full face shields or full hoods for eye prot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Googles / Glasses tend to “Fog” – Responders then place hands 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the eyes to move goggles, thus potentially exposing to dis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Picture 8" descr="Medical protective clothing, Surgical hood for Ebola"/>
          <p:cNvPicPr/>
          <p:nvPr/>
        </p:nvPicPr>
        <p:blipFill>
          <a:blip r:embed="rId3"/>
          <a:stretch/>
        </p:blipFill>
        <p:spPr>
          <a:xfrm>
            <a:off x="6280200" y="1150920"/>
            <a:ext cx="2482920" cy="22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Isolation”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.P.E. – Gown / Covera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Picture 2" descr="Inside the Isolation Wards That Keep Us Safe From Ebola"/>
          <p:cNvPicPr/>
          <p:nvPr/>
        </p:nvPicPr>
        <p:blipFill>
          <a:blip r:embed="rId1"/>
          <a:stretch/>
        </p:blipFill>
        <p:spPr>
          <a:xfrm>
            <a:off x="1143000" y="1066680"/>
            <a:ext cx="69724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Isolation”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.P.E. – H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5" name="Picture 2" descr="3M H-Series Protective Hood, Tychem QC"/>
          <p:cNvPicPr/>
          <p:nvPr/>
        </p:nvPicPr>
        <p:blipFill>
          <a:blip r:embed="rId1"/>
          <a:stretch/>
        </p:blipFill>
        <p:spPr>
          <a:xfrm>
            <a:off x="838080" y="1273320"/>
            <a:ext cx="2524320" cy="252396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4" descr="Medical protective clothing, Surgical hood for Ebola"/>
          <p:cNvPicPr/>
          <p:nvPr/>
        </p:nvPicPr>
        <p:blipFill>
          <a:blip r:embed="rId2"/>
          <a:stretch/>
        </p:blipFill>
        <p:spPr>
          <a:xfrm>
            <a:off x="4191120" y="1273320"/>
            <a:ext cx="4147920" cy="3714480"/>
          </a:xfrm>
          <a:prstGeom prst="rect">
            <a:avLst/>
          </a:prstGeom>
          <a:ln w="0">
            <a:noFill/>
          </a:ln>
        </p:spPr>
      </p:pic>
      <p:pic>
        <p:nvPicPr>
          <p:cNvPr id="747" name="Picture 6" descr="Amy Manning, R.N., looks out from the protective hood of a DuPont Tychem SL suit in a decontamination room at Riverside Regional Medical Center on Wednesday in Newport News."/>
          <p:cNvPicPr/>
          <p:nvPr/>
        </p:nvPicPr>
        <p:blipFill>
          <a:blip r:embed="rId3"/>
          <a:stretch/>
        </p:blipFill>
        <p:spPr>
          <a:xfrm>
            <a:off x="826920" y="3797280"/>
            <a:ext cx="2624400" cy="1808280"/>
          </a:xfrm>
          <a:prstGeom prst="rect">
            <a:avLst/>
          </a:prstGeom>
          <a:ln w="0">
            <a:noFill/>
          </a:ln>
        </p:spPr>
      </p:pic>
      <p:sp>
        <p:nvSpPr>
          <p:cNvPr id="748" name="TextBox 1"/>
          <p:cNvSpPr/>
          <p:nvPr/>
        </p:nvSpPr>
        <p:spPr>
          <a:xfrm>
            <a:off x="4191120" y="5251320"/>
            <a:ext cx="41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oods offer more body protection, usually require PAPR air sup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Isolation”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.P.E. – Respi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0" name="Picture 2" descr="3M™ Versaflo™ Easy Clean PAPR Respirator Kit TR-300-ECK 1/case"/>
          <p:cNvPicPr/>
          <p:nvPr/>
        </p:nvPicPr>
        <p:blipFill>
          <a:blip r:embed="rId1"/>
          <a:stretch/>
        </p:blipFill>
        <p:spPr>
          <a:xfrm>
            <a:off x="819000" y="114300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751" name="Picture 6" descr="Optimair 6HC PAPR"/>
          <p:cNvPicPr/>
          <p:nvPr/>
        </p:nvPicPr>
        <p:blipFill>
          <a:blip r:embed="rId2"/>
          <a:stretch/>
        </p:blipFill>
        <p:spPr>
          <a:xfrm>
            <a:off x="3759120" y="1143000"/>
            <a:ext cx="4965840" cy="3429000"/>
          </a:xfrm>
          <a:prstGeom prst="rect">
            <a:avLst/>
          </a:prstGeom>
          <a:ln w="0">
            <a:noFill/>
          </a:ln>
        </p:spPr>
      </p:pic>
      <p:pic>
        <p:nvPicPr>
          <p:cNvPr id="752" name="Picture 8" descr="Survivair Belt Mount PAPR"/>
          <p:cNvPicPr/>
          <p:nvPr/>
        </p:nvPicPr>
        <p:blipFill>
          <a:blip r:embed="rId3"/>
          <a:stretch/>
        </p:blipFill>
        <p:spPr>
          <a:xfrm>
            <a:off x="1095480" y="350532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753" name="TextBox 1"/>
          <p:cNvSpPr/>
          <p:nvPr/>
        </p:nvSpPr>
        <p:spPr>
          <a:xfrm>
            <a:off x="3759120" y="4876920"/>
            <a:ext cx="4965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wered Air Purifying Respirators (PAP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re recommended for long duration work capacity and reli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ext Box 2"/>
          <p:cNvSpPr/>
          <p:nvPr/>
        </p:nvSpPr>
        <p:spPr>
          <a:xfrm>
            <a:off x="2057400" y="21337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3"/>
          <p:cNvSpPr/>
          <p:nvPr/>
        </p:nvSpPr>
        <p:spPr>
          <a:xfrm>
            <a:off x="682560" y="853920"/>
            <a:ext cx="6172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Principles &amp; Modes of Transmi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4" descr="bd05584_"/>
          <p:cNvPicPr/>
          <p:nvPr/>
        </p:nvPicPr>
        <p:blipFill>
          <a:blip r:embed="rId1"/>
          <a:stretch/>
        </p:blipFill>
        <p:spPr>
          <a:xfrm>
            <a:off x="6008760" y="2297160"/>
            <a:ext cx="258912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Isolation”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.P.E. – Boot Cov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AutoShape 2"/>
          <p:cNvSpPr/>
          <p:nvPr/>
        </p:nvSpPr>
        <p:spPr>
          <a:xfrm>
            <a:off x="12060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AutoShape 4"/>
          <p:cNvSpPr/>
          <p:nvPr/>
        </p:nvSpPr>
        <p:spPr>
          <a:xfrm>
            <a:off x="120600" y="-639720"/>
            <a:ext cx="133344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AutoShape 6"/>
          <p:cNvSpPr/>
          <p:nvPr/>
        </p:nvSpPr>
        <p:spPr>
          <a:xfrm>
            <a:off x="272880" y="-487440"/>
            <a:ext cx="133380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Box 4"/>
          <p:cNvSpPr/>
          <p:nvPr/>
        </p:nvSpPr>
        <p:spPr>
          <a:xfrm>
            <a:off x="425520" y="4724280"/>
            <a:ext cx="5594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nee high boot covers are recomme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pending on the type of protective suit / coveralls being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9" name="Picture 12" descr="https://www.medline.com/media/catalog/sku/SLD/SLDBL200_PRI03.JPG"/>
          <p:cNvPicPr/>
          <p:nvPr/>
        </p:nvPicPr>
        <p:blipFill>
          <a:blip r:embed="rId1"/>
          <a:stretch/>
        </p:blipFill>
        <p:spPr>
          <a:xfrm>
            <a:off x="1992240" y="1150920"/>
            <a:ext cx="4761000" cy="3174840"/>
          </a:xfrm>
          <a:prstGeom prst="rect">
            <a:avLst/>
          </a:prstGeom>
          <a:ln w="0">
            <a:noFill/>
          </a:ln>
        </p:spPr>
      </p:pic>
      <p:pic>
        <p:nvPicPr>
          <p:cNvPr id="760" name="Picture 8" descr="http://www.medical-supplies-equipment-company.com/files/media/images/Leak-Proof-Boot-Covers-2.jpeg"/>
          <p:cNvPicPr/>
          <p:nvPr/>
        </p:nvPicPr>
        <p:blipFill>
          <a:blip r:embed="rId2"/>
          <a:stretch/>
        </p:blipFill>
        <p:spPr>
          <a:xfrm>
            <a:off x="6222960" y="1150920"/>
            <a:ext cx="2594160" cy="4411800"/>
          </a:xfrm>
          <a:prstGeom prst="rect">
            <a:avLst/>
          </a:prstGeom>
          <a:ln w="0">
            <a:noFill/>
          </a:ln>
        </p:spPr>
      </p:pic>
      <p:pic>
        <p:nvPicPr>
          <p:cNvPr id="761" name="Picture 10" descr="http://www.medwell.net/userfiles/Boot%20Cover.jpg"/>
          <p:cNvPicPr/>
          <p:nvPr/>
        </p:nvPicPr>
        <p:blipFill>
          <a:blip r:embed="rId3"/>
          <a:stretch/>
        </p:blipFill>
        <p:spPr>
          <a:xfrm>
            <a:off x="272880" y="1144440"/>
            <a:ext cx="243864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Isolation”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.P.E. – Ventilation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3" name="Picture 6" descr="Vinyl Disposable BVM (Infant)"/>
          <p:cNvPicPr/>
          <p:nvPr/>
        </p:nvPicPr>
        <p:blipFill>
          <a:blip r:embed="rId1"/>
          <a:stretch/>
        </p:blipFill>
        <p:spPr>
          <a:xfrm>
            <a:off x="3962520" y="1219320"/>
            <a:ext cx="4593960" cy="4593960"/>
          </a:xfrm>
          <a:prstGeom prst="rect">
            <a:avLst/>
          </a:prstGeom>
          <a:ln w="0">
            <a:noFill/>
          </a:ln>
        </p:spPr>
      </p:pic>
      <p:pic>
        <p:nvPicPr>
          <p:cNvPr id="764" name="Picture 2" descr="http://www.wellmedlab.com/photo/pc1546317-custom_medical_injection_moulding_for_portable_disposable_medical_respirator.jpg"/>
          <p:cNvPicPr/>
          <p:nvPr/>
        </p:nvPicPr>
        <p:blipFill>
          <a:blip r:embed="rId2"/>
          <a:stretch/>
        </p:blipFill>
        <p:spPr>
          <a:xfrm>
            <a:off x="228600" y="2514600"/>
            <a:ext cx="361620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sonal Protective Equi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er u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age location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er remov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scene self decontam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 Was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pos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st Exposure Protoc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Critical Information for the Respo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9" name="Picture 4" descr="bs00554_"/>
          <p:cNvPicPr/>
          <p:nvPr/>
        </p:nvPicPr>
        <p:blipFill>
          <a:blip r:embed="rId1"/>
          <a:stretch/>
        </p:blipFill>
        <p:spPr>
          <a:xfrm>
            <a:off x="6477120" y="380880"/>
            <a:ext cx="2666880" cy="23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Text Box 4"/>
          <p:cNvSpPr/>
          <p:nvPr/>
        </p:nvSpPr>
        <p:spPr>
          <a:xfrm>
            <a:off x="457200" y="137160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You’re operating at the scene of a stressful emergency; You think you’ve just been exposed to blood or body fluids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5"/>
          <p:cNvSpPr/>
          <p:nvPr/>
        </p:nvSpPr>
        <p:spPr>
          <a:xfrm>
            <a:off x="457200" y="3124080"/>
            <a:ext cx="63244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at do you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o do you notif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hould you go to the hospit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WordArt 7"/>
          <p:cNvSpPr txBox="1"/>
          <p:nvPr/>
        </p:nvSpPr>
        <p:spPr>
          <a:xfrm>
            <a:off x="6324480" y="3143160"/>
            <a:ext cx="20574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elp!</a:t>
            </a:r>
            <a:endParaRPr b="0" lang="en-US" sz="18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3" name="Rectangle 2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What Do You 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st Exposure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ost exposure system establishes uniform procedures to protect the health of responders after a possible exposure to communicable dise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st Exposure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“Player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ervis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ection Control Administrator (IC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ection Control Practitioner (IC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ency Physicia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Fire / EMS / Law Enforce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lth Depar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st Exposure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Compon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457200" y="2286000"/>
            <a:ext cx="8229600" cy="28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er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reatment / Follow-up 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uns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st Exposure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ification Ph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d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osure is percei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orts verbally to 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tes exposure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 vs. non-significant expo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cts workers’ comp. Ho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ifies Infection Control Administ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st Exposure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ification Ph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ervisor (I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ually verifies exposure when fea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sures decon and treatment when nee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dorses exposure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cts Infection Control Administ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ifies workers’ comp. has been cal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ur Modes of Disease Transmi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200016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Direct Conta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Indirect Conta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Airborne Transmis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Vector Transmis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4"/>
          <p:cNvSpPr/>
          <p:nvPr/>
        </p:nvSpPr>
        <p:spPr>
          <a:xfrm>
            <a:off x="5715000" y="3200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Picture 5" descr="hm00163_"/>
          <p:cNvPicPr/>
          <p:nvPr/>
        </p:nvPicPr>
        <p:blipFill>
          <a:blip r:embed="rId1"/>
          <a:stretch/>
        </p:blipFill>
        <p:spPr>
          <a:xfrm>
            <a:off x="6095880" y="4191120"/>
            <a:ext cx="2076480" cy="14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st Exposure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ification Ph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s on sc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C attempts to verify expo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CA schedules medical ex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ily for significant expo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mmended within 48 h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CA contacts receiving fac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yan White Care 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yan White Care A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This act delineates specific not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requirements that allow responders to fi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out if they have been exposed to 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infectious disease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yan White Care A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ine Not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ospital notifies transporting respon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a potential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in 48 ho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not apply to non-transporting respon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CP contacts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dential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yan White Care A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ification by Requ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ted by local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CA contacts receiving facility IC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ly within 48 ho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exposure took p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exposure did not take p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ufficient information / undetermi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dential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fidentiality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You’ve been expos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vacy act limits information that can be given to ICA or CEO by ICP / M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information is confident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may give your cons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lity che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hard is it to keep a secret in your agenc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st Exposure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atment Ph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start on sc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l Evaluation w/in 48 ho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 and follow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ubation peri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be long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hylac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7" name="Object 4"/>
          <p:cNvGraphicFramePr/>
          <p:nvPr/>
        </p:nvGraphicFramePr>
        <p:xfrm>
          <a:off x="6019920" y="3048120"/>
          <a:ext cx="2585880" cy="28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3048120"/>
                    <a:ext cx="258588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st Exposure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 Ph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osure rec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jury / illness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ers’ compen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H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st Exposure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 Ph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CA conducts follow up 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in a reasonable period of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tio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responder need retrain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Agency need to alter current procedur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can this be prevented from happening agai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st Exposure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nseling Ph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er support / CIS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ss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ousal or family counse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mily prot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.g. Safe sex practic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raining in infection control, if need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cident Operations &amp; Re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The Infection Control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ur Elements of Transmi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6600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ho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cc"/>
              </a:buClr>
              <a:buFont typeface="Times New Roman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unicability and Virul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6600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cc"/>
              </a:buClr>
              <a:buFont typeface="Times New Roman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sage, Duration, &amp; Frequ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6600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scepti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cc"/>
              </a:buClr>
              <a:buFont typeface="Times New Roman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st Resi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cident Operations &amp; Recove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 phases of respo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aration for respo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e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-response reco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9" name="Object 8"/>
          <p:cNvGraphicFramePr/>
          <p:nvPr/>
        </p:nvGraphicFramePr>
        <p:xfrm>
          <a:off x="5410080" y="2590920"/>
          <a:ext cx="3200400" cy="30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0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2590920"/>
                    <a:ext cx="320040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paration Ph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C Trai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P/SOG Enforc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age of PPE (vehicles &amp; st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ular inventory, mainten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onal Hygi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nd out of the s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sponse Ph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uation of dispatch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K.A. “Size-up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 PPE en route when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ment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dentiality and the rad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ene Management Ph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tions at sc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BSI / P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 patient cont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mechanical resuscitation de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not recap need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Handle sharps only when necess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Text Box 3"/>
          <p:cNvSpPr/>
          <p:nvPr/>
        </p:nvSpPr>
        <p:spPr>
          <a:xfrm>
            <a:off x="457200" y="2133720"/>
            <a:ext cx="822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In health care workers, 80% of exposures are due to sharps injuri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 Box 4"/>
          <p:cNvSpPr/>
          <p:nvPr/>
        </p:nvSpPr>
        <p:spPr>
          <a:xfrm>
            <a:off x="457200" y="41911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greatest percentage of needle-stick accidents occur during recapp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9" name="Object 5"/>
          <p:cNvGraphicFramePr/>
          <p:nvPr/>
        </p:nvGraphicFramePr>
        <p:xfrm>
          <a:off x="1828800" y="533520"/>
          <a:ext cx="5381640" cy="98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533520"/>
                    <a:ext cx="5381640" cy="9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ene Management Ph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tions at sc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mechanical clean up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.g. Dust pan &amp; brus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erly dispose of wa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priate contai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erly package contaminated g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port to fire station saf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ene Management Ph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relations at the sc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ain universal preca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patient is uncomfortable with glove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e B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.g.  Coveralls for chest pains is overkil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5" name="Object 4"/>
          <p:cNvGraphicFramePr/>
          <p:nvPr/>
        </p:nvGraphicFramePr>
        <p:xfrm>
          <a:off x="5867280" y="3886200"/>
          <a:ext cx="2743200" cy="197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3886200"/>
                    <a:ext cx="2743200" cy="19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ene Management Ph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information at the sc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ient’s medical status confident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not broad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care when discussing patient’s information at sc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l information is “need to know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st Response Ph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er disposal of P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priate contai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 “Bio” ba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rps contai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gnated decon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mediate decon (In hou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rage for out-of-house dec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1" name="Picture 4" descr="DCP_0007"/>
          <p:cNvPicPr/>
          <p:nvPr/>
        </p:nvPicPr>
        <p:blipFill>
          <a:blip r:embed="rId1"/>
          <a:stretch/>
        </p:blipFill>
        <p:spPr>
          <a:xfrm>
            <a:off x="6248520" y="1447920"/>
            <a:ext cx="2514600" cy="1885680"/>
          </a:xfrm>
          <a:prstGeom prst="rect">
            <a:avLst/>
          </a:prstGeom>
          <a:ln w="0">
            <a:noFill/>
          </a:ln>
        </p:spPr>
      </p:pic>
      <p:pic>
        <p:nvPicPr>
          <p:cNvPr id="832" name="Picture 6" descr="http://www.sharpmedsolutions.org/images/red_sharps_containers.jpg"/>
          <p:cNvPicPr/>
          <p:nvPr/>
        </p:nvPicPr>
        <p:blipFill>
          <a:blip r:embed="rId2"/>
          <a:stretch/>
        </p:blipFill>
        <p:spPr>
          <a:xfrm>
            <a:off x="6434280" y="3886200"/>
            <a:ext cx="214308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st Response Ph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infection, Decon,  &amp; Clea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level’s of disinfe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 level – Routine ambulance clea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mediate – Typical post respo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level – (ie. Intubation equipm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rilization – Destroys all micro-organis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5T17:02:19Z</dcterms:created>
  <dc:creator>Eric Munsell</dc:creator>
  <dc:description/>
  <dc:language>en-US</dc:language>
  <cp:lastModifiedBy>Eric Munsell</cp:lastModifiedBy>
  <dcterms:modified xsi:type="dcterms:W3CDTF">2014-10-29T18:39:16Z</dcterms:modified>
  <cp:revision>294</cp:revision>
  <dc:subject/>
  <dc:title>Slide 1</dc:title>
</cp:coreProperties>
</file>