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5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4.wmf" ContentType="image/x-wmf"/>
  <Override PartName="/ppt/media/image23.jpeg" ContentType="image/jpeg"/>
  <Override PartName="/ppt/media/image52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15.jpeg" ContentType="image/jpeg"/>
  <Override PartName="/ppt/media/image3.wmf" ContentType="image/x-wmf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2.jpeg" ContentType="image/jpeg"/>
  <Override PartName="/ppt/media/image9.wmf" ContentType="image/x-wmf"/>
  <Override PartName="/ppt/media/image43.wmf" ContentType="image/x-wmf"/>
  <Override PartName="/ppt/media/image44.wmf" ContentType="image/x-wmf"/>
  <Override PartName="/ppt/media/image11.wmf" ContentType="image/x-wmf"/>
  <Override PartName="/ppt/media/image46.wmf" ContentType="image/x-wmf"/>
  <Override PartName="/ppt/media/image48.jpeg" ContentType="image/jpeg"/>
  <Override PartName="/ppt/media/image32.jpeg" ContentType="image/jpeg"/>
  <Override PartName="/ppt/media/image49.jpeg" ContentType="image/jpeg"/>
  <Override PartName="/ppt/media/image17.jpeg" ContentType="image/jpeg"/>
  <Override PartName="/ppt/media/image45.wmf" ContentType="image/x-wmf"/>
  <Override PartName="/ppt/media/image25.jpeg" ContentType="image/jpeg"/>
  <Override PartName="/ppt/media/image51.png" ContentType="image/png"/>
  <Override PartName="/ppt/media/image12.wmf" ContentType="image/x-wmf"/>
  <Override PartName="/ppt/media/image1.gif" ContentType="image/gif"/>
  <Override PartName="/ppt/media/image10.wmf" ContentType="image/x-wmf"/>
  <Override PartName="/ppt/media/image47.wmf" ContentType="image/x-wmf"/>
  <Override PartName="/ppt/media/image7.jpeg" ContentType="image/jpeg"/>
  <Override PartName="/ppt/media/image3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  <p:sldId id="349" r:id="rId109"/>
    <p:sldId id="350" r:id="rId110"/>
    <p:sldId id="351" r:id="rId111"/>
    <p:sldId id="352" r:id="rId112"/>
    <p:sldId id="353" r:id="rId113"/>
    <p:sldId id="354" r:id="rId114"/>
    <p:sldId id="355" r:id="rId115"/>
    <p:sldId id="356" r:id="rId116"/>
    <p:sldId id="357" r:id="rId117"/>
    <p:sldId id="358" r:id="rId118"/>
    <p:sldId id="359" r:id="rId119"/>
    <p:sldId id="360" r:id="rId120"/>
    <p:sldId id="361" r:id="rId121"/>
    <p:sldId id="362" r:id="rId122"/>
    <p:sldId id="363" r:id="rId123"/>
    <p:sldId id="364" r:id="rId124"/>
    <p:sldId id="365" r:id="rId125"/>
    <p:sldId id="366" r:id="rId126"/>
    <p:sldId id="367" r:id="rId127"/>
    <p:sldId id="368" r:id="rId128"/>
    <p:sldId id="369" r:id="rId1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slide" Target="slides/slide94.xml"/><Relationship Id="rId110" Type="http://schemas.openxmlformats.org/officeDocument/2006/relationships/slide" Target="slides/slide95.xml"/><Relationship Id="rId111" Type="http://schemas.openxmlformats.org/officeDocument/2006/relationships/slide" Target="slides/slide96.xml"/><Relationship Id="rId112" Type="http://schemas.openxmlformats.org/officeDocument/2006/relationships/slide" Target="slides/slide97.xml"/><Relationship Id="rId113" Type="http://schemas.openxmlformats.org/officeDocument/2006/relationships/slide" Target="slides/slide98.xml"/><Relationship Id="rId114" Type="http://schemas.openxmlformats.org/officeDocument/2006/relationships/slide" Target="slides/slide99.xml"/><Relationship Id="rId115" Type="http://schemas.openxmlformats.org/officeDocument/2006/relationships/slide" Target="slides/slide100.xml"/><Relationship Id="rId116" Type="http://schemas.openxmlformats.org/officeDocument/2006/relationships/slide" Target="slides/slide101.xml"/><Relationship Id="rId117" Type="http://schemas.openxmlformats.org/officeDocument/2006/relationships/slide" Target="slides/slide102.xml"/><Relationship Id="rId118" Type="http://schemas.openxmlformats.org/officeDocument/2006/relationships/slide" Target="slides/slide103.xml"/><Relationship Id="rId119" Type="http://schemas.openxmlformats.org/officeDocument/2006/relationships/slide" Target="slides/slide104.xml"/><Relationship Id="rId120" Type="http://schemas.openxmlformats.org/officeDocument/2006/relationships/slide" Target="slides/slide105.xml"/><Relationship Id="rId121" Type="http://schemas.openxmlformats.org/officeDocument/2006/relationships/slide" Target="slides/slide106.xml"/><Relationship Id="rId122" Type="http://schemas.openxmlformats.org/officeDocument/2006/relationships/slide" Target="slides/slide107.xml"/><Relationship Id="rId123" Type="http://schemas.openxmlformats.org/officeDocument/2006/relationships/slide" Target="slides/slide108.xml"/><Relationship Id="rId124" Type="http://schemas.openxmlformats.org/officeDocument/2006/relationships/slide" Target="slides/slide109.xml"/><Relationship Id="rId125" Type="http://schemas.openxmlformats.org/officeDocument/2006/relationships/slide" Target="slides/slide110.xml"/><Relationship Id="rId126" Type="http://schemas.openxmlformats.org/officeDocument/2006/relationships/slide" Target="slides/slide111.xml"/><Relationship Id="rId127" Type="http://schemas.openxmlformats.org/officeDocument/2006/relationships/slide" Target="slides/slide112.xml"/><Relationship Id="rId128" Type="http://schemas.openxmlformats.org/officeDocument/2006/relationships/slide" Target="slides/slide113.xml"/><Relationship Id="rId129" Type="http://schemas.openxmlformats.org/officeDocument/2006/relationships/slide" Target="slides/slide114.xml"/><Relationship Id="rId1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dt" idx="1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ftr" idx="1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 type="sldNum" idx="1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6E56DE-D14B-41F2-94AA-AE6997ACEA8F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8720" y="441936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tivirus (a subgroup of retrovir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DB916B-5F76-44F3-99F4-7C5DDA8047A4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C7CC6B-4A0E-4B62-BA42-130C9D8BE1A5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E95AC3-278E-474A-AE2A-E5BCC8711DFE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9482A9-1B6B-4787-8F5D-48AFF0A96A3C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BAB0F1-E2EE-4C64-9BB3-535BF0625569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zema vaccinatum is a rare severe adverse reaction to smallpox vaccination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51C308-6046-470A-BA5E-3A187406F5F4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0.1030 – Bloodborne pathog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0.134 – Respiratory Prot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0.1200 – Hazard Communi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PA 1500 – Fire Department Occupational Safety and Health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PA 1581 – Comprehensive Occupational Medical Program for Fire Depar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an White Act – Federally Funded Program for people with HIV /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cut Department of Public Health / Office of Emergency Medical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 for Disease Cont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5F5275-C8BC-44F8-9787-20AE37B508F8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patitis B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D616DD-1222-483B-B478-D2A7366910D4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FA6E3-1D50-418C-825B-241AE65F10E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37CB6-FEE3-454B-8C11-B41455C6B76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B2533-8B13-49E6-88EE-5C631B93723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17901-DDC9-4C49-AE9B-2F24AC46EBC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9C72D-413D-40F7-A184-85D29F90DDF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C98BF-274F-48D5-8488-346DA66B616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3EC18-CDC6-4552-A5EB-2B165548901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0D122-E067-4161-BED2-76D0662174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F1C3F-6D13-4F82-A875-B93845656EF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1101D-2666-4875-A441-C8DACF867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3F9E-E618-418A-8D13-925093F8FD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C38DA-41F9-4FBD-9C8F-565D3F7B5A4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6436-F29C-424B-B744-49D09BF50F8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00C2-0FAA-4D39-B82C-6AF9BAD3627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C4111-3BCE-45E2-8CAA-CC98EB3ADD1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B3A7-DDE7-4612-A2F1-6C61B7A6E65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D155-A017-43C9-8684-2F80F267BB6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01D2-917E-4939-90C0-2D53448B146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E1F41-D70F-409C-B532-55D6B9085C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8588-27C8-41CD-B4EB-3363A4E9E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7D693-57D7-47EA-BF03-CBAE6F34D04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72D9C2-E878-4D5F-A8CE-92334BA7605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706AB-EE9F-44C2-97DD-2CD9FA9E909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2A781-A50E-4F1C-BAB6-AC424ADB303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0F83B-760E-49B2-985F-A435C0D140F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7AC33-42F5-4E49-A07D-E83C05148F7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2999DD-BAC9-4A9D-AA03-95B20996D28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1320E-D60A-4932-9D2B-E04E4691793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18A1C-6EAF-40B0-854E-A86C4B4FDBE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C6E1C-838D-4034-B4C2-EA4AAE8FB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BED1-D4D8-4EB8-B710-65E77A98BCB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C7EFDC-0955-421B-AE75-AA751D6DD53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9807DD-D2EB-4368-AD3A-EA37DA0A11D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27390-1D4F-42F1-B2AD-FD49420B610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896AD-0C9B-46C2-852E-6D91D5130C1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B5075-F128-4775-B0BF-F01B941A772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9EA7C-7DF5-433A-A723-5C2816F562F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BC6CE-D3F3-4A29-A4FB-4C76E60BBC0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2BF63-0639-415B-A397-13F96D74CD6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373FF-2B5F-4182-8F2A-975F8500FC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0B384-44A8-40B4-95CC-A28F87CC5D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CC16-78D1-4B80-975F-E9C8E8E5C4F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9D32E-EFD0-4FFA-9867-3B920A581A5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6005B-8CA2-4D7A-A7D3-06260CBA498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97684-5E1C-4861-8A9F-73880F527D9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A342C-1650-452B-A1DD-EDBCC05DB7A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23C4F-53B3-4F10-B55C-4EFF5FF4667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AA8A4-6807-446E-B6BD-B3D1B5F3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9C95B-17BD-4C00-8DC9-7013A66F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0056C-2EE7-4FC4-B4EB-D3FB0A95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24C37-C2A4-4342-ACA0-43769C47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A4561-DC6D-4319-BFBC-F5C6B721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40FB-413D-4C4F-BF08-FC2C65C20FF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91163-936D-4EF7-8D48-8DDBD105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5F5AF-8E68-47E7-A644-6734B7BC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16F2C-DE90-4716-8733-EC9D6EED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66D3A-7CAE-46EB-916C-2A5D1DE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412D6-BB7B-4AC1-9A0B-E3542268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32462-D35B-46A8-834D-F0172A06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254DC-0FAA-489A-9346-8925E346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23E7-E780-49F8-9B0D-97D4D103F3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4F8B-3407-4216-86BA-A97C01369E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DBAC-0C2D-4B81-9AFD-B2B8C88C32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7155-721D-4153-B7B7-2EE42EA35D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D398-FE39-47BF-8B86-097B8C2B60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C33F-DB3B-4A33-AE08-3BB8764905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D72C-D767-4B3F-BFB0-C1AD538098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E9DE-08B7-4F85-8599-DE92D3ED21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30D3-EAE0-4F8C-8559-0832B4FC44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45E6-68A5-4750-B0DA-2704DEE0C2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5F78-90FF-463D-A9A4-C1F8E78A81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8D36-D351-445D-A27C-0C42DE2D5A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27EF-7318-4C5A-A687-F6C109246C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555A-2DAE-4374-AD7B-AD33708BF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7DBB-6B9A-4080-A0A8-A5E5E10A12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1487-8955-4569-B028-B92AAE496B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D9E9-D2E2-4A54-896F-625ED14FA7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245D-8FC8-4CA9-B5B3-F0CFAD052F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B8F4-8F53-4864-AA6A-D39AB83688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8F4F-B2C0-4AEF-B121-9BF546BF18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F8EE-0E02-406E-BB5A-4212B5B355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1B3-7F2B-45AA-836D-60CCCE44BF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3EA-86D1-46C1-B0FE-179AA5D29F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BF5-6A4C-4B83-B191-ED625E0C8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29C-215A-4217-8A57-E51B829C1C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C5B-70A0-4872-A411-C9326278DD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B6F-7519-4BC7-868E-1D92BC704E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B1C-FD2E-4111-809D-B49CA2D70E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3F0-E6A0-4004-817D-BDB975DA0E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BAE-C9C8-40FE-A014-C804C59801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57F-83E2-4019-A1C9-B9AB02D39B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70C-76BC-4B14-A0C1-817797B480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764-A1D8-4733-BB8D-E479625C57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6BB9D-14C0-4974-B312-AA1C918E7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59C03-84F8-4C0C-A0D4-1E8CDC3D34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BABE8-0253-4541-9AA9-CA2567BFE24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EEDD5-258E-441D-AAB3-A51F23FDAA9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E1293-4E06-4E75-A03B-CD3340F3AFE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06F1D-4EBB-4620-949A-C24E7FC4194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B0DC8-883B-4E85-B5C4-E417AF6D30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232D6-1F4B-4273-A318-8E0DACDFD0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7CB36-5527-400B-ACFC-F65725B8518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2A0F9-9362-4751-B391-ACA50622B4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5497D-E6CB-402A-8AD8-BC28D206F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B0A49-19FD-466E-B57A-E514A86728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7D49B-1EFF-4B82-8871-B06403E14D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2BD08-1D85-4860-B5CC-2009E3897F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10027-C8D7-4953-966C-1D0E0490FA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736FE-A9D8-4EDD-A0BD-066BB014FD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38E6C-847A-4560-A5D8-9B33AD3E513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4FAB1-5137-4170-9E2C-2E81DEF2FA3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B1D48-198A-47F6-BD98-955F202B867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2DB07-12CE-4581-95B3-B8496E0C47C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B64E6-C2E1-4AF0-8BA6-AE34F7771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45E9E-59CB-445E-936E-5FA56495F54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93184-539B-43C4-9850-6CECD77DB8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8B778-62B1-4F81-9148-D74CAD2BF5B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8AC4-0A65-44F9-BC1E-B0B3B62862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41DC-E1A9-4D3A-A06C-D3AAAC592E6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926A-B2D1-44E2-8F8A-1542898FA17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D532-5ED6-4569-B5D2-32F6B0F0E2D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8047-767C-475E-BE23-E421EBB05D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71D2-3DEA-4838-97BD-A7C769DDE0B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8571-E634-41F0-B218-3330C60A9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298D-DD25-4FD2-9835-7D771FA3746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321D-5831-44C7-A9D6-93E7019FE1F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7A7F-CA6A-4489-9E76-DC16F780A2D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19DD-7A1B-4494-97C1-FA68EDA086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EEC7-6620-444A-A6A3-6E88C564D44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CB9504-8CDE-44D4-8A8E-5C9F1A58648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A4C5F-A133-47A2-A9B6-B0FA9722D76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84D8F-FB60-4292-B0CC-94C1659CE38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D3219-8BEB-4790-9FB7-D078F11B5D4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1A182C-5B38-4DD3-BE5D-1DAB5EB6E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47EF87-D213-40F3-8341-3DE437B4F79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5DBD96-E03A-4550-AC56-8ECC26C220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E33E9-93BE-4E02-BD37-B970C71DBD7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33D0E8-26FD-4582-BAF1-9F6D0124009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77240D-3EFD-47B9-8C61-55EC07BDA86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C6B25-5735-4141-BF85-9865FCF82A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349A1-0632-4657-A5B1-F08B48B25E3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290C3-F643-450E-B91C-6CF77BF5A4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EAEE0-ACB2-48C2-9E9D-F5298D79F6E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4BBB2-104D-42DE-AF8C-81151AD25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9307-108E-4771-9C6F-F3C3180B56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4059-1084-45A8-8F21-F8DBF41DA1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8AD1-C7E2-4E59-88CA-282CB9C741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1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1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589-C495-44CD-BC1B-31D3B93A80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0A2F-2D2F-490C-BDFE-3BD3B6ECC6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0639-5D9C-464D-9012-705F81E324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7078-DF24-443E-B5B6-FE06EE6A10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EFDD-670F-4F3A-A74E-E58B956BEF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F739-A576-4524-8028-8D14CF94DA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1F28-A07B-4022-A06D-55A37EAD3B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F7DD-22F3-4229-98E3-E0330EBB1A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DEE0-91B7-4B84-BD37-B88418BCB1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uact=8&amp;ved=0CAcQjRw&amp;url=http://bioland-sci.com/index.php?main_page%3Dindex%26cPath%3D10&amp;ei=xWhGVLXQNM2VgwTehoKADw&amp;bvm=bv.77880786,d.cWc&amp;psig=AFQjCNE4jVN5L8YrRUO5k1FFZJQW1MABxA&amp;ust=141398679709037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google.com/url?sa=i&amp;rct=j&amp;q=&amp;esrc=s&amp;frm=1&amp;source=images&amp;cd=&amp;cad=rja&amp;uact=8&amp;ved=0CAcQjRw&amp;url=http://paramedic-schools.info/emt-training-first-step-towards-a-paramedic-career/&amp;ei=CWpGVKiYLIjJgwSZ_4KoBA&amp;bvm=bv.77880786,d.cWc&amp;psig=AFQjCNHzCDCCSljRiO87W28K468RT8HQEA&amp;ust=1413987165469986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google.com/url?sa=i&amp;rct=j&amp;q=&amp;esrc=s&amp;frm=1&amp;source=images&amp;cd=&amp;cad=rja&amp;uact=8&amp;ved=0CAcQjRw&amp;url=http://www.shopmedvet.com/product/nitrile-gloves-x-large-100-bx/gloves-exam-nitrile&amp;ei=8WhGVPzaCJHLggSX_4H4Dw&amp;bvm=bv.77880786,d.cWc&amp;psig=AFQjCNE4jVN5L8YrRUO5k1FFZJQW1MABxA&amp;ust=1413986797090375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google.com/url?sa=i&amp;rct=j&amp;q=&amp;esrc=s&amp;frm=1&amp;source=images&amp;cd=&amp;cad=rja&amp;uact=8&amp;ved=0CAcQjRw&amp;url=http://www.quickmedical.com/qmelite-multi-use-chemical-resistant-nitrile-exam-gloves.html&amp;ei=gWhGVImmIInBggSR_4LAAw&amp;bvm=bv.77880786,d.cWc&amp;psig=AFQjCNE4jVN5L8YrRUO5k1FFZJQW1MABxA&amp;ust=1413986797090375" TargetMode="Externa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beforeitsnews.com/r2/?url=http://www.amazon.com/gp/product/B000GUP7UC/ref=as_li_tl?ie=UTF8&amp;camp=1789&amp;creative=9325&amp;creativeASIN=B000GUP7UC&amp;linkCode=as2&amp;tag=hugeonlinegar-20&amp;linkId=IPWH5QKONI6MRQAB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3"/>
          <p:cNvSpPr/>
          <p:nvPr/>
        </p:nvSpPr>
        <p:spPr>
          <a:xfrm>
            <a:off x="457200" y="380880"/>
            <a:ext cx="82296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y Medical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ction Control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ergency First Respon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312408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October 01,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Elements of Trans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actor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 Hard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 Surviv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e housek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e Clea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oval of soil in absence of visible body fl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mediate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mycobacterium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getative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viruses &amp; Fun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acterial sp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method for ambul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mediate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A registered Disinfe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ly available hard surface germ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-Chlorine Bleach (1: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ups bleach to 1 gal.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s all forms of micro-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large numbers of bacterial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for reusabl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with mucous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Laryngoscope bl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rilizat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all micro-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not practical for 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Picture 4" descr="DCP_0011"/>
          <p:cNvPicPr/>
          <p:nvPr/>
        </p:nvPicPr>
        <p:blipFill>
          <a:blip r:embed="rId1"/>
          <a:stretch/>
        </p:blipFill>
        <p:spPr>
          <a:xfrm>
            <a:off x="4952880" y="33526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 De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ed in designate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priate 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De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48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soap &amp;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priate level disinfe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 dry in clean storag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ing of PPE - Uni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n ASAP upon retu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appropriately until lau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der in designated front loading washer or commerc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manufacturers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lorine bleach on turnout g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bring h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sh Hands and Exposed Skin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sh Thoroug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sh with Anti-Bacterial So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2" descr="handwashing_fight_germs"/>
          <p:cNvPicPr/>
          <p:nvPr/>
        </p:nvPicPr>
        <p:blipFill>
          <a:blip r:embed="rId1"/>
          <a:stretch/>
        </p:blipFill>
        <p:spPr>
          <a:xfrm>
            <a:off x="2438280" y="3048120"/>
            <a:ext cx="4457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on / Hom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proper storage equipment /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usage levels for inventor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shel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SD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on / Hom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dry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front loading wa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pre-metered deter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ized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completely drains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… Do not bring h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osure Seve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nific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o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s &amp; Mouth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utane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re, Non-Intact Skin, Human B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ignific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thing, Intact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on / Hom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ated decontamination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room, properly marked, 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vent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quate drainage, including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porous sink with hot &amp; col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water for hand w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ck/shelves for dr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going risk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Re-Evaluation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contro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nagement Poli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ing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hysical changes to the workpl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ractice controls (Modified metho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record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ty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s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ry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3" name="Object 4"/>
          <p:cNvGraphicFramePr/>
          <p:nvPr/>
        </p:nvGraphicFramePr>
        <p:xfrm>
          <a:off x="4419720" y="3227400"/>
          <a:ext cx="3940200" cy="24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227400"/>
                    <a:ext cx="3940200" cy="24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Text Box 6"/>
          <p:cNvSpPr/>
          <p:nvPr/>
        </p:nvSpPr>
        <p:spPr>
          <a:xfrm>
            <a:off x="5410080" y="5181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fe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Questions &amp; Ans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rc A. Scrive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e Service Instru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necticut Fire Academy Sta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x Types of Patho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use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a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kett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sitic W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Mos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Object 4"/>
          <p:cNvGraphicFramePr/>
          <p:nvPr/>
        </p:nvGraphicFramePr>
        <p:xfrm>
          <a:off x="5334120" y="2362320"/>
          <a:ext cx="263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362320"/>
                    <a:ext cx="263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eases of Conce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or the Emergency Res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Diseases of Con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ovirus (EV-D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/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b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bola hemorrhagic f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H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simp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bo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disease of humans and other primates caused by Ebola vir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irus is acquired by contact with blood or other body fluids of an infected human or other an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occur by direct contact with a recently contaminated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able to transmit the disease via semen for nearly two month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bola Symp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 (greater than 38.6°C or 101.4°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head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cle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(stomach)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xplained hemorrhage (bleeding or brui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eroviru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EV-D6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oviru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a genus of positive-sense single-stranded RNA viruses associated with several human and mammalian dis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1 human Enterovirus serotypes on the basis of antibody neutralization te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oviruses affect millions of people worldwide each year, and are often found in the respiratory secretions (e.g., saliva, sputum, or nasal mucus) and stool of an infected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eroviru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EV-D6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oviru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-D68 was first identified in California in 196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eople who get infected are infants, children and te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s with Enteroviruses are usually common in the United States during summer and f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specific treatment for EV-D68. Talk to your child's doctor about the best way to control his or her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eroviru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EV-D68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p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ld symptom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y n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and Muscle 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re symptom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erminology &amp;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Means of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Risk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e P.P.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nfection Control Policies and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ti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al hepatitis is the most common cause of hepatitis worldw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causes of viral hepatitis are the five unrelated hepatotropic viru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D (which requires hepatitis B to cause diseas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ti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al / Oral, Body fluids,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appetite/Nau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ccine Available for Hep A Virus, Hep B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simplex virus 1 and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SV-1 and HSV-2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known as human herpes virus 1 an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HSV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ich produces most cold sore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SV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ich produces most genital herpe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ubiquitous and contag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simplex can be spread through contact with saliva, such as sharing dri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re for herpes has not yet been developed. Once infected, the virus remains in the body fo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Simplex Vi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d by direct contact with a lesion or the body fluid of an infected 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gers are at particular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ions around mouth, Malaise, Sore Thr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 vaccin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SV-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Cold Sores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SV-2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Geni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 infection with Varicella Zoster Virus (VZV) causes the acute, short-lived illness chickenpox which generally occurs in children and young ad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n episode of chickenpox has resolved, the virus is not elimin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Zoste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Shi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ith chickenpox and / or other forms of herpes, direct contact with an active rash can spread VZV to a person who has no immunity to the virus. This newly infected individual may then develop chickenpox, but will not immediately develop shi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Zoste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Shi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iest symptoms of herpes zos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ed by sensations 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ing p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esthesia (oversensitivity)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sthesia (“pins and needles”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gling, pricking, or numb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Zoste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Shi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 /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Immunodeficiency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lentivirus (a subgroup of retrovirus) that causes the Acquired Immunodeficiency Syndrome (AI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 with HIV occurs by the transfer of blood, semen, vaginal fluid, pre-ejaculate, or breast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 /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fluids with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ht sw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 vaccin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uen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mmonly known as "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is an infectious disease of birds and mammals caused by RNA viruses of the family Orthomyxovirida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influenza is transmitted through the air by coughs or sneezes, creating an aerosol containing the vir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za can also be transmitted by direct contact with bird droppings or nasal secretions, or through contact with contaminated 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o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4" descr="DCP_0012"/>
          <p:cNvPicPr/>
          <p:nvPr/>
        </p:nvPicPr>
        <p:blipFill>
          <a:blip r:embed="rId1"/>
          <a:stretch/>
        </p:blipFill>
        <p:spPr>
          <a:xfrm>
            <a:off x="4343400" y="27432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symptoms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y 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le p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ache (often sev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g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ness /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dis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ning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ute inflammation of the protective membranes covering the brain and spinal cord, known collectively as the meni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caused by infection with viruses, bacteria, or other micro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ning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al (R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Contact with Oral / Nasal Secre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or Direct Exposure (i.e. Kis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 &gt;101 F, Sudden Severe Head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k / Back Stiff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hes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cin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ning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al (Comm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al / 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Bacterial; Also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dominal dis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vaccin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berculosis typically attacks the lungs, but can also affect other parts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 through the air when people who have an active TB infection cough, sneeze, or otherwise transmit respiratory fluids through the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ntoux tuberculin skin test is often used to screen people at high risk for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bo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ht Swe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cin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hr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po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nia (Bacterial &amp; Vi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 N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5638680" y="1828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10" descr="Smallpox2"/>
          <p:cNvPicPr/>
          <p:nvPr/>
        </p:nvPicPr>
        <p:blipFill>
          <a:blip r:embed="rId1"/>
          <a:stretch/>
        </p:blipFill>
        <p:spPr>
          <a:xfrm>
            <a:off x="4884840" y="1103400"/>
            <a:ext cx="3809880" cy="260964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Other Diseases of Con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h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thr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acute disease caused by the bacteri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illus anthrac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orms of the disease are leth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 can enter the human body through the intestine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ingestion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g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inhalation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skin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cutaneo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 does not usually spread from an infected human to a non-infected hu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vaccines against anthrax are now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ckenp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ckenp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highly contagious disease caused by primary infection with Varicell Zoster Virus (VZ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pox is an airborne disease which spreads easily through coughing or sneez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an infectious disease caused by either of two virus variant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la maj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la min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occurs through inhalation of airborne variola virus, usually droplets expressed from the oral, nasal, or pharyngeal mucosa of an infected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pox is highly contagious, but generally spreads more slowly and less widely than some other viral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Infection Control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ef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it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Your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ing a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ubation period is 12-14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 rash appears 2-3 days after nonspecific, flu-like prodrome (fever and heada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h begins on face, hands, forearms and spreads to legs and centrally to trunk; Lesions are more predominant on the extremities than the tr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7" descr="VAX7"/>
          <p:cNvPicPr/>
          <p:nvPr/>
        </p:nvPicPr>
        <p:blipFill>
          <a:blip r:embed="rId1"/>
          <a:stretch/>
        </p:blipFill>
        <p:spPr>
          <a:xfrm>
            <a:off x="420840" y="1371600"/>
            <a:ext cx="4512960" cy="30481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9" descr="EV_NOBLK"/>
          <p:cNvPicPr/>
          <p:nvPr/>
        </p:nvPicPr>
        <p:blipFill>
          <a:blip r:embed="rId2"/>
          <a:stretch/>
        </p:blipFill>
        <p:spPr>
          <a:xfrm>
            <a:off x="5181480" y="1371600"/>
            <a:ext cx="3124440" cy="4700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mallpox Eczema Vaccina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… More Diseas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Measles (Rube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nucle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b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phi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9" name="Object 4"/>
          <p:cNvGraphicFramePr/>
          <p:nvPr/>
        </p:nvGraphicFramePr>
        <p:xfrm>
          <a:off x="5410080" y="2895480"/>
          <a:ext cx="291492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895480"/>
                    <a:ext cx="291492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58280" y="1312920"/>
            <a:ext cx="40388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p.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p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33840" y="1294920"/>
            <a:ext cx="415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to 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days o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3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o 1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o 12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to 16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449280" y="56768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hy is this important to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cubation Period(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ection Control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Health Maintenance Syst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oncept &amp;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lth Maintenance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(HM)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 system to optimize the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of employees, and to minim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the risk of occupation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cquired illness or inju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1905120" y="4876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K.A. “Risk Managemen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M System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u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-exposur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 assistance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Ex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335268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Object 4"/>
          <p:cNvGraphicFramePr/>
          <p:nvPr/>
        </p:nvGraphicFramePr>
        <p:xfrm>
          <a:off x="5638680" y="2590920"/>
          <a:ext cx="243864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590920"/>
                    <a:ext cx="243864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ysical Exa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entry health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tion of bas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ness fo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Going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exams as determined by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mu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active Infect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ble Laws and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CFR 1910.10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CFR 1910.1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CFR 1910.1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PA 1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PA 15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yan Whit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cut DPH / O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 for Diseas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active program offers protection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use / family members of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ency response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on Vaccin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BV or A/B com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 requirement to be offered (HB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0.1030(f)(1)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inat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10.1030 App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hot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er recommended by C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02/09/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on Vaccin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htheria-Pertussis-Tetanu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D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les-Mumps-Rubell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MM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p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sage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Object 4"/>
          <p:cNvGraphicFramePr/>
          <p:nvPr/>
        </p:nvGraphicFramePr>
        <p:xfrm>
          <a:off x="5943600" y="3733920"/>
          <a:ext cx="286704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733920"/>
                    <a:ext cx="286704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versal Pre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recautions taken to prevent occupational risk exposure to blood and other bodily fluids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1"/>
          <p:cNvSpPr/>
          <p:nvPr/>
        </p:nvSpPr>
        <p:spPr>
          <a:xfrm>
            <a:off x="304920" y="4572000"/>
            <a:ext cx="845820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Universal Precautions now referred to as “Standard Precaution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ften “Body Substance Isolation” used in its’ place by First Re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Substance Isolation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(BS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n infection control strategy that considers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ll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body substances as potentially infectious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imilar to Universal Precautions .. But goes further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solating workers from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Two”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vels of B.S.I. – P.P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andard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 of B.S.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day calls, First Responder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olation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 of B.S.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(special circumsta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Body Protection – No Skin Ex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Picture 8" descr=""/>
          <p:cNvPicPr/>
          <p:nvPr/>
        </p:nvPicPr>
        <p:blipFill>
          <a:blip r:embed="rId1"/>
          <a:stretch/>
        </p:blipFill>
        <p:spPr>
          <a:xfrm>
            <a:off x="7315200" y="4013280"/>
            <a:ext cx="13921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mended P.P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 / Face splash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ash Protection – G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95 or N-100 m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sable resuscitation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Object 4"/>
          <p:cNvGraphicFramePr/>
          <p:nvPr/>
        </p:nvGraphicFramePr>
        <p:xfrm>
          <a:off x="6934320" y="1447920"/>
          <a:ext cx="1895400" cy="28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447920"/>
                    <a:ext cx="189540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3" name="Picture 2" descr="DCP_0006"/>
          <p:cNvPicPr/>
          <p:nvPr/>
        </p:nvPicPr>
        <p:blipFill>
          <a:blip r:embed="rId3"/>
          <a:stretch/>
        </p:blipFill>
        <p:spPr>
          <a:xfrm>
            <a:off x="3276720" y="419112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6" descr="https://encrypted-tbn2.gstatic.com/images?q=tbn:ANd9GcQpcuf1uOeJeYuUuGQQ-TIkn9NAOpMXhPKZzXjvEeSuplLLejk2U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990720"/>
            <a:ext cx="4343400" cy="2698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0" descr="https://encrypted-tbn0.gstatic.com/images?q=tbn:ANd9GcRZCtRbDA2-cYiG-lAqWUM8xBcvutqeNjcDYcGcIGieTEisN5z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276720"/>
            <a:ext cx="4286160" cy="2914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8" descr="https://encrypted-tbn1.gstatic.com/images?q=tbn:ANd9GcRk485hOllXhYGj--_Y0sz_i1GwyajtW0LGdHMM8aJC8XGqEvSW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9907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" descr="https://encrypted-tbn2.gstatic.com/images?q=tbn:ANd9GcS55MHdyoIvrgOgdHpr3sCjUD6Si5pFS45qH8cIJhPkuw3rG4Q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67280" y="3352680"/>
            <a:ext cx="28386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Eye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5" descr="http://www.prudentialuniforms.com/images/made/images/uploads/product_images/validated-reusable-goggle-program_284_265_bor1_cccccc_tl_4_tr_4_s_c1_c_t.jpg"/>
          <p:cNvPicPr/>
          <p:nvPr/>
        </p:nvPicPr>
        <p:blipFill>
          <a:blip r:embed="rId1"/>
          <a:stretch/>
        </p:blipFill>
        <p:spPr>
          <a:xfrm>
            <a:off x="533520" y="1311120"/>
            <a:ext cx="3117600" cy="29098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" descr="http://emeco-xray.ca/files/emeco/imagecache/product/files/emeco/sanax-ear-loop-mask-with-eye-shield.200x200.png"/>
          <p:cNvPicPr/>
          <p:nvPr/>
        </p:nvPicPr>
        <p:blipFill>
          <a:blip r:embed="rId2"/>
          <a:stretch/>
        </p:blipFill>
        <p:spPr>
          <a:xfrm>
            <a:off x="4038480" y="13111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" descr="http://emeco-xray.ca/files/emeco/imagecache/product/files/emeco/sanax-ear-loop-cone-mask-with-eye-shield.200x200.png"/>
          <p:cNvPicPr/>
          <p:nvPr/>
        </p:nvPicPr>
        <p:blipFill>
          <a:blip r:embed="rId3"/>
          <a:stretch/>
        </p:blipFill>
        <p:spPr>
          <a:xfrm>
            <a:off x="6324480" y="12938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3" name="AutoShape 6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12" descr="Medical Laser Safety by LASERVISION"/>
          <p:cNvPicPr/>
          <p:nvPr/>
        </p:nvPicPr>
        <p:blipFill>
          <a:blip r:embed="rId4"/>
          <a:stretch/>
        </p:blipFill>
        <p:spPr>
          <a:xfrm>
            <a:off x="4038480" y="330516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4" descr="http://www.canmedhealthcare.com/en/home/site/media/Parent/eye_protection.JPG"/>
          <p:cNvPicPr/>
          <p:nvPr/>
        </p:nvPicPr>
        <p:blipFill>
          <a:blip r:embed="rId5"/>
          <a:stretch/>
        </p:blipFill>
        <p:spPr>
          <a:xfrm>
            <a:off x="1306440" y="4419720"/>
            <a:ext cx="240840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09480" y="609480"/>
            <a:ext cx="784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Communicable Diseases, Epidemiolog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Sympto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6" descr="http://www.smaonline.com.au/images/clinical_apparels/96/96.jpg"/>
          <p:cNvPicPr/>
          <p:nvPr/>
        </p:nvPicPr>
        <p:blipFill>
          <a:blip r:embed="rId1"/>
          <a:stretch/>
        </p:blipFill>
        <p:spPr>
          <a:xfrm>
            <a:off x="349200" y="1379520"/>
            <a:ext cx="4013280" cy="31924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8" descr="http://www.smaonline.com.au/images/clinical_apparels/106/106.jpg"/>
          <p:cNvPicPr/>
          <p:nvPr/>
        </p:nvPicPr>
        <p:blipFill>
          <a:blip r:embed="rId2"/>
          <a:stretch/>
        </p:blipFill>
        <p:spPr>
          <a:xfrm>
            <a:off x="4657680" y="1379520"/>
            <a:ext cx="4105440" cy="31924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2"/>
          <p:cNvSpPr/>
          <p:nvPr/>
        </p:nvSpPr>
        <p:spPr>
          <a:xfrm>
            <a:off x="1553760" y="4862520"/>
            <a:ext cx="16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3"/>
          <p:cNvSpPr/>
          <p:nvPr/>
        </p:nvSpPr>
        <p:spPr>
          <a:xfrm>
            <a:off x="5941800" y="480060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Respi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2" descr="http://ws-na.amazon-adsystem.com/widgets/q?_encoding=UTF8&amp;ASIN=B000GUP7UC&amp;Format=_SL250_&amp;ID=AsinImage&amp;MarketPlace=US&amp;ServiceVersion=20070822&amp;WS=1&amp;tag=hugeonlinegar-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778040"/>
            <a:ext cx="1920960" cy="19051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http://www.iaff.org/hs/Media/P-100.jpg"/>
          <p:cNvPicPr/>
          <p:nvPr/>
        </p:nvPicPr>
        <p:blipFill>
          <a:blip r:embed="rId3"/>
          <a:stretch/>
        </p:blipFill>
        <p:spPr>
          <a:xfrm>
            <a:off x="5943600" y="132084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Mask"/>
          <p:cNvPicPr/>
          <p:nvPr/>
        </p:nvPicPr>
        <p:blipFill>
          <a:blip r:embed="rId4"/>
          <a:stretch/>
        </p:blipFill>
        <p:spPr>
          <a:xfrm>
            <a:off x="392040" y="1371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1"/>
          <p:cNvSpPr/>
          <p:nvPr/>
        </p:nvSpPr>
        <p:spPr>
          <a:xfrm>
            <a:off x="406440" y="4162320"/>
            <a:ext cx="837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irators that filter out at least 95% of airborne particles during “worse case” testing using a “most-penetrating” sized particle are given a "95" rating. Those that filter out at least 99% receive a “99” rating. And those that filter at least 99.97% (essentially 100%) receive a “100” r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K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http://what-when-how.com/wp-content/uploads/2012/04/tmp2624_thumb.jpg"/>
          <p:cNvPicPr/>
          <p:nvPr/>
        </p:nvPicPr>
        <p:blipFill>
          <a:blip r:embed="rId1"/>
          <a:stretch/>
        </p:blipFill>
        <p:spPr>
          <a:xfrm>
            <a:off x="1676520" y="1143000"/>
            <a:ext cx="60958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Disposable Respiratory De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6" descr="Vinyl Disposable BVM (Infant)"/>
          <p:cNvPicPr/>
          <p:nvPr/>
        </p:nvPicPr>
        <p:blipFill>
          <a:blip r:embed="rId1"/>
          <a:stretch/>
        </p:blipFill>
        <p:spPr>
          <a:xfrm>
            <a:off x="3962520" y="1219320"/>
            <a:ext cx="4593960" cy="45939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" descr="http://www.wellmedlab.com/photo/pc1546317-custom_medical_injection_moulding_for_portable_disposable_medical_respirator.jpg"/>
          <p:cNvPicPr/>
          <p:nvPr/>
        </p:nvPicPr>
        <p:blipFill>
          <a:blip r:embed="rId2"/>
          <a:stretch/>
        </p:blipFill>
        <p:spPr>
          <a:xfrm>
            <a:off x="228600" y="2514600"/>
            <a:ext cx="36162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.P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s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uble G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 / Face splash protection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O GOG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wns / Coveralls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mplete Body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od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part of Splash Protection or PAPR Ense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ory Protection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PR or N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Powered Air Purifying Respi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t Covers – if not using a one piece s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sable Resuscitation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6" descr="https://encrypted-tbn2.gstatic.com/images?q=tbn:ANd9GcQpcuf1uOeJeYuUuGQQ-TIkn9NAOpMXhPKZzXjvEeSuplLLejk2UA"/>
          <p:cNvPicPr/>
          <p:nvPr/>
        </p:nvPicPr>
        <p:blipFill>
          <a:blip r:embed="rId1"/>
          <a:stretch/>
        </p:blipFill>
        <p:spPr>
          <a:xfrm>
            <a:off x="152280" y="990720"/>
            <a:ext cx="4343400" cy="2698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8" descr="https://encrypted-tbn1.gstatic.com/images?q=tbn:ANd9GcRk485hOllXhYGj--_Y0sz_i1GwyajtW0LGdHMM8aJC8XGqEvSW"/>
          <p:cNvPicPr/>
          <p:nvPr/>
        </p:nvPicPr>
        <p:blipFill>
          <a:blip r:embed="rId2"/>
          <a:stretch/>
        </p:blipFill>
        <p:spPr>
          <a:xfrm>
            <a:off x="5181480" y="990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736" name="TextBox 1"/>
          <p:cNvSpPr/>
          <p:nvPr/>
        </p:nvSpPr>
        <p:spPr>
          <a:xfrm>
            <a:off x="1447920" y="4572000"/>
            <a:ext cx="640080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uble Glove is highly recommend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Pair put on first under sleeve cu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ond Glove over top on top of Sleeve Cu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Eye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" descr="Guardall Full Length Face Shield (40/Case)"/>
          <p:cNvPicPr/>
          <p:nvPr/>
        </p:nvPicPr>
        <p:blipFill>
          <a:blip r:embed="rId1"/>
          <a:stretch/>
        </p:blipFill>
        <p:spPr>
          <a:xfrm>
            <a:off x="380880" y="1150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BSL-3 lab"/>
          <p:cNvPicPr/>
          <p:nvPr/>
        </p:nvPicPr>
        <p:blipFill>
          <a:blip r:embed="rId2"/>
          <a:stretch/>
        </p:blipFill>
        <p:spPr>
          <a:xfrm>
            <a:off x="2743200" y="1150920"/>
            <a:ext cx="3352680" cy="2222640"/>
          </a:xfrm>
          <a:prstGeom prst="rect">
            <a:avLst/>
          </a:prstGeom>
          <a:ln w="0">
            <a:noFill/>
          </a:ln>
        </p:spPr>
      </p:pic>
      <p:sp>
        <p:nvSpPr>
          <p:cNvPr id="740" name="TextBox 1"/>
          <p:cNvSpPr/>
          <p:nvPr/>
        </p:nvSpPr>
        <p:spPr>
          <a:xfrm>
            <a:off x="380880" y="395136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C is recommending full face shields or full hoods for eye pro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oogles / Glasses tend to “Fog” – Responders then place hands 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he eyes to move goggles, thus potentially exposing to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8" descr="Medical protective clothing, Surgical hood for Ebola"/>
          <p:cNvPicPr/>
          <p:nvPr/>
        </p:nvPicPr>
        <p:blipFill>
          <a:blip r:embed="rId3"/>
          <a:stretch/>
        </p:blipFill>
        <p:spPr>
          <a:xfrm>
            <a:off x="6280200" y="1150920"/>
            <a:ext cx="24829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own / Cover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2" descr="Inside the Isolation Wards That Keep Us Safe From Ebola"/>
          <p:cNvPicPr/>
          <p:nvPr/>
        </p:nvPicPr>
        <p:blipFill>
          <a:blip r:embed="rId1"/>
          <a:stretch/>
        </p:blipFill>
        <p:spPr>
          <a:xfrm>
            <a:off x="1143000" y="1066680"/>
            <a:ext cx="6972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2" descr="3M H-Series Protective Hood, Tychem QC"/>
          <p:cNvPicPr/>
          <p:nvPr/>
        </p:nvPicPr>
        <p:blipFill>
          <a:blip r:embed="rId1"/>
          <a:stretch/>
        </p:blipFill>
        <p:spPr>
          <a:xfrm>
            <a:off x="838080" y="1273320"/>
            <a:ext cx="2524320" cy="25239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Medical protective clothing, Surgical hood for Ebola"/>
          <p:cNvPicPr/>
          <p:nvPr/>
        </p:nvPicPr>
        <p:blipFill>
          <a:blip r:embed="rId2"/>
          <a:stretch/>
        </p:blipFill>
        <p:spPr>
          <a:xfrm>
            <a:off x="4191120" y="1273320"/>
            <a:ext cx="4147920" cy="37144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Amy Manning, R.N., looks out from the protective hood of a DuPont Tychem SL suit in a decontamination room at Riverside Regional Medical Center on Wednesday in Newport News."/>
          <p:cNvPicPr/>
          <p:nvPr/>
        </p:nvPicPr>
        <p:blipFill>
          <a:blip r:embed="rId3"/>
          <a:stretch/>
        </p:blipFill>
        <p:spPr>
          <a:xfrm>
            <a:off x="826920" y="3797280"/>
            <a:ext cx="2624400" cy="1808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1"/>
          <p:cNvSpPr/>
          <p:nvPr/>
        </p:nvSpPr>
        <p:spPr>
          <a:xfrm>
            <a:off x="4191120" y="5251320"/>
            <a:ext cx="41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ods offer more body protection, usually require PAPR ai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Respi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3M™ Versaflo™ Easy Clean PAPR Respirator Kit TR-300-ECK 1/case"/>
          <p:cNvPicPr/>
          <p:nvPr/>
        </p:nvPicPr>
        <p:blipFill>
          <a:blip r:embed="rId1"/>
          <a:stretch/>
        </p:blipFill>
        <p:spPr>
          <a:xfrm>
            <a:off x="819000" y="11430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6" descr="Optimair 6HC PAPR"/>
          <p:cNvPicPr/>
          <p:nvPr/>
        </p:nvPicPr>
        <p:blipFill>
          <a:blip r:embed="rId2"/>
          <a:stretch/>
        </p:blipFill>
        <p:spPr>
          <a:xfrm>
            <a:off x="3759120" y="1143000"/>
            <a:ext cx="4965840" cy="3429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8" descr="Survivair Belt Mount PAPR"/>
          <p:cNvPicPr/>
          <p:nvPr/>
        </p:nvPicPr>
        <p:blipFill>
          <a:blip r:embed="rId3"/>
          <a:stretch/>
        </p:blipFill>
        <p:spPr>
          <a:xfrm>
            <a:off x="1095480" y="35053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53" name="TextBox 1"/>
          <p:cNvSpPr/>
          <p:nvPr/>
        </p:nvSpPr>
        <p:spPr>
          <a:xfrm>
            <a:off x="3759120" y="4876920"/>
            <a:ext cx="49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ed Air Purifying Respirators (PA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recommended for long duration work capacity and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057400" y="21337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682560" y="85392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inciples &amp; Modes of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bd05584_"/>
          <p:cNvPicPr/>
          <p:nvPr/>
        </p:nvPicPr>
        <p:blipFill>
          <a:blip r:embed="rId1"/>
          <a:stretch/>
        </p:blipFill>
        <p:spPr>
          <a:xfrm>
            <a:off x="6008760" y="229716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Boot C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2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4"/>
          <p:cNvSpPr/>
          <p:nvPr/>
        </p:nvSpPr>
        <p:spPr>
          <a:xfrm>
            <a:off x="120600" y="-639720"/>
            <a:ext cx="1333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6"/>
          <p:cNvSpPr/>
          <p:nvPr/>
        </p:nvSpPr>
        <p:spPr>
          <a:xfrm>
            <a:off x="272880" y="-487440"/>
            <a:ext cx="1333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4"/>
          <p:cNvSpPr/>
          <p:nvPr/>
        </p:nvSpPr>
        <p:spPr>
          <a:xfrm>
            <a:off x="425520" y="4724280"/>
            <a:ext cx="559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nee high boot covers are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type of protective suit / coveralls being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12" descr="https://www.medline.com/media/catalog/sku/SLD/SLDBL200_PRI03.JPG"/>
          <p:cNvPicPr/>
          <p:nvPr/>
        </p:nvPicPr>
        <p:blipFill>
          <a:blip r:embed="rId1"/>
          <a:stretch/>
        </p:blipFill>
        <p:spPr>
          <a:xfrm>
            <a:off x="1992240" y="1150920"/>
            <a:ext cx="4761000" cy="3174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8" descr="http://www.medical-supplies-equipment-company.com/files/media/images/Leak-Proof-Boot-Covers-2.jpeg"/>
          <p:cNvPicPr/>
          <p:nvPr/>
        </p:nvPicPr>
        <p:blipFill>
          <a:blip r:embed="rId2"/>
          <a:stretch/>
        </p:blipFill>
        <p:spPr>
          <a:xfrm>
            <a:off x="6222960" y="1150920"/>
            <a:ext cx="2594160" cy="44118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0" descr="http://www.medwell.net/userfiles/Boot%20Cover.jpg"/>
          <p:cNvPicPr/>
          <p:nvPr/>
        </p:nvPicPr>
        <p:blipFill>
          <a:blip r:embed="rId3"/>
          <a:stretch/>
        </p:blipFill>
        <p:spPr>
          <a:xfrm>
            <a:off x="272880" y="1144440"/>
            <a:ext cx="24386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.P.E. – Ventilation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6" descr="Vinyl Disposable BVM (Infant)"/>
          <p:cNvPicPr/>
          <p:nvPr/>
        </p:nvPicPr>
        <p:blipFill>
          <a:blip r:embed="rId1"/>
          <a:stretch/>
        </p:blipFill>
        <p:spPr>
          <a:xfrm>
            <a:off x="3962520" y="1219320"/>
            <a:ext cx="4593960" cy="45939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" descr="http://www.wellmedlab.com/photo/pc1546317-custom_medical_injection_moulding_for_portable_disposable_medical_respirator.jpg"/>
          <p:cNvPicPr/>
          <p:nvPr/>
        </p:nvPicPr>
        <p:blipFill>
          <a:blip r:embed="rId2"/>
          <a:stretch/>
        </p:blipFill>
        <p:spPr>
          <a:xfrm>
            <a:off x="228600" y="2514600"/>
            <a:ext cx="36162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location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cene self de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 Wa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t Exposur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ritical Information for the Res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4" descr="bs00554_"/>
          <p:cNvPicPr/>
          <p:nvPr/>
        </p:nvPicPr>
        <p:blipFill>
          <a:blip r:embed="rId1"/>
          <a:stretch/>
        </p:blipFill>
        <p:spPr>
          <a:xfrm>
            <a:off x="6477120" y="380880"/>
            <a:ext cx="26668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457200" y="13716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You’re operating at the scene of a stressful emergency; You think you’ve just been exposed to blood or body fluid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457200" y="3124080"/>
            <a:ext cx="6324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o do you notif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uld you go to the hospit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WordArt 7"/>
          <p:cNvSpPr txBox="1"/>
          <p:nvPr/>
        </p:nvSpPr>
        <p:spPr>
          <a:xfrm>
            <a:off x="6324480" y="314316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lp!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Do You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t exposure system establishes uniform procedures to protect the health of responders after a possible exposure to communicable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Playe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 Control Administrator (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 Control Practitioner (I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cy Physici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Fire / EMS / Law Enforc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457200" y="2286000"/>
            <a:ext cx="82296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eatment / Follow-up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uns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c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is per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s verbally to 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s exposure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vs. non-significan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s workers’ comp. Ho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es Infection Control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c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or (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ly verifies exposure when fea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s decon and treatment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rses exposure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s Infection Control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es workers’ comp. has been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Modes of Disease Trans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Direct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Indirect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irborne Trans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Vector Trans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715000" y="3200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hm00163_"/>
          <p:cNvPicPr/>
          <p:nvPr/>
        </p:nvPicPr>
        <p:blipFill>
          <a:blip r:embed="rId1"/>
          <a:stretch/>
        </p:blipFill>
        <p:spPr>
          <a:xfrm>
            <a:off x="6095880" y="4191120"/>
            <a:ext cx="20764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on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 attempts to verify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schedules medical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for significant expo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ed within 48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contacts receiving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an White Car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yan White Car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is act delineates specific no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quirements that allow responders to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ut if they have been exposed to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fectious diseas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yan White Car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 No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spital notifies transporting respo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potential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48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pply to non-transporting respo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P contacts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yan White Car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cation by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ed by local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contacts receiving facility I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y within 48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osure took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osure did not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fficient information / un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identialit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ou’ve been expo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act limits information that can be given to ICA or CEO by ICP /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information i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give your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ty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ard is it to keep a secret in your ag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tart on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Evaluation w/in 48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and follow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uba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long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hylac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6019920" y="3048120"/>
          <a:ext cx="2585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048120"/>
                    <a:ext cx="2585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ry / illnes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’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conducts follow up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reasonable period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responder need retrai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Agency need to alter current proced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this be prevented from happening aga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seling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support / CI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usal or family couns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Safe sex pract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ining in infection control, if nee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cident Operations &amp;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Infection Contro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Elements of Trans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bility and Viru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age, Duration, &amp;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cept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ident Operations &amp;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phases of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 for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response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Object 8"/>
          <p:cNvGraphicFramePr/>
          <p:nvPr/>
        </p:nvGraphicFramePr>
        <p:xfrm>
          <a:off x="5410080" y="2590920"/>
          <a:ext cx="32004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590920"/>
                    <a:ext cx="3200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P/SOG 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of PPE (vehicles &amp; s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inventory,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Hyg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d out of th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dispatch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K.A. “Size-u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PPE en route when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me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tiality and the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t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SI / 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patient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chanical resuscitation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cap nee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Handle sharps only when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3"/>
          <p:cNvSpPr/>
          <p:nvPr/>
        </p:nvSpPr>
        <p:spPr>
          <a:xfrm>
            <a:off x="457200" y="21337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In health care workers, 80% of exposures are due to sharps inju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4"/>
          <p:cNvSpPr/>
          <p:nvPr/>
        </p:nvSpPr>
        <p:spPr>
          <a:xfrm>
            <a:off x="457200" y="4191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st percentage of needle-stick accidents occur during recapp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Object 5"/>
          <p:cNvGraphicFramePr/>
          <p:nvPr/>
        </p:nvGraphicFramePr>
        <p:xfrm>
          <a:off x="1828800" y="533520"/>
          <a:ext cx="538164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3816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t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chanical clean up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 Dust pan &amp; b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dispose of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package contaminated g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to fire station saf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relations at the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universal preca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tient is uncomfortable with glov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e B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  Coveralls for chest pains is overki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Object 4"/>
          <p:cNvGraphicFramePr/>
          <p:nvPr/>
        </p:nvGraphicFramePr>
        <p:xfrm>
          <a:off x="5867280" y="3886200"/>
          <a:ext cx="274320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8862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formation at the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’s medical statu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re when discussing patient’s information at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information is “need to know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disposal of 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“Bio”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ated deco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ediate decon (In hou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for out-of-house de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4" descr="DCP_0007"/>
          <p:cNvPicPr/>
          <p:nvPr/>
        </p:nvPicPr>
        <p:blipFill>
          <a:blip r:embed="rId1"/>
          <a:stretch/>
        </p:blipFill>
        <p:spPr>
          <a:xfrm>
            <a:off x="624852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6" descr="http://www.sharpmedsolutions.org/images/red_sharps_containers.jpg"/>
          <p:cNvPicPr/>
          <p:nvPr/>
        </p:nvPicPr>
        <p:blipFill>
          <a:blip r:embed="rId2"/>
          <a:stretch/>
        </p:blipFill>
        <p:spPr>
          <a:xfrm>
            <a:off x="6434280" y="3886200"/>
            <a:ext cx="21430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infection, Decon,  &amp; Cl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level’s of disinf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level – Routine ambulance cl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– Typical post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evel – (ie. Intubation equi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ilization – Destroys all micro-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17:02:19Z</dcterms:created>
  <dc:creator>Eric Munsell</dc:creator>
  <dc:description/>
  <dc:language>en-US</dc:language>
  <cp:lastModifiedBy>Eric Munsell</cp:lastModifiedBy>
  <dcterms:modified xsi:type="dcterms:W3CDTF">2014-10-29T18:39:16Z</dcterms:modified>
  <cp:revision>294</cp:revision>
  <dc:subject/>
  <dc:title>Slide 1</dc:title>
</cp:coreProperties>
</file>