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11.png" ContentType="image/png"/>
  <Override PartName="/ppt/media/image10.wmf" ContentType="image/x-wmf"/>
  <Override PartName="/ppt/media/image2.png" ContentType="image/png"/>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png" ContentType="image/png"/>
  <Override PartName="/ppt/media/image4.wmf" ContentType="image/x-wmf"/>
  <Override PartName="/ppt/media/image6.jpeg" ContentType="image/jpeg"/>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000000"/>
                </a:solidFill>
                <a:latin typeface="Calibri"/>
                <a:ea typeface="新細明體"/>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move the slide</a:t>
            </a:r>
            <a:endParaRPr b="1" lang="en-US" sz="3600" spc="-1" strike="noStrike">
              <a:solidFill>
                <a:srgbClr val="000000"/>
              </a:solidFill>
              <a:latin typeface="Trebuchet MS"/>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F04D0-6569-42F2-A0B6-36CD538E1F3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Yi-Hsiu Liu   RN, M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rebuchet MS"/>
                <a:ea typeface="新細明體"/>
                <a:hlinkClick r:id="rId1"/>
              </a:rPr>
              <a:t>yhliu@wsu.edu</a:t>
            </a:r>
            <a:endParaRPr b="0" lang="en-US" sz="1200" spc="-1" strike="noStrike">
              <a:solidFill>
                <a:srgbClr val="000000"/>
              </a:solidFill>
              <a:latin typeface="Calibri"/>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 Allen  Ph 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a@wsu.edu</a:t>
            </a:r>
            <a:endParaRPr b="0" lang="en-US" sz="1200" spc="-1" strike="noStrike">
              <a:solidFill>
                <a:srgbClr val="000000"/>
              </a:solidFill>
              <a:latin typeface="Calibri"/>
            </a:endParaRPr>
          </a:p>
        </p:txBody>
      </p:sp>
      <p:sp>
        <p:nvSpPr>
          <p:cNvPr id="59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11E43-D017-4031-AD4E-E9306A37713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the United States, 1 out of every 136 hospital patients becomes seriously ill as a result of acquiring an infection in hospital; this is equivalent to two million cases and about 80 000 deaths a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England, more than 100 000 cases of health care-associated infection lead to over 5000 deaths directly attributed to infection each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Mexico, an estimated 450 000 cases of health care-associated infection cause 32 deaths per 100 000 inhabitants each yea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ealth care-associated infections in England are estimated to cost £1 billion a year. In the United States, the estimate is between US$ 4.5 billion and US$ 5.7 billion per year. In Mexico, the annual cost approaches US$ 1.5 bill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C7440-C0D8-4F03-AC09-157A7E2E686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44ADD-C4EF-4D7D-AF59-1EC0534A3C9D}"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at students need to know (knowledg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extent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main causes and types of infections.</a:t>
            </a:r>
            <a:endParaRPr b="0" lang="en-US" sz="1200" spc="-1" strike="noStrike">
              <a:solidFill>
                <a:srgbClr val="000000"/>
              </a:solidFill>
              <a:latin typeface="Calibri"/>
            </a:endParaRPr>
          </a:p>
        </p:txBody>
      </p:sp>
      <p:sp>
        <p:nvSpPr>
          <p:cNvPr id="62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E76FF-832C-4BFE-9166-AE54AD01C8A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3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87F5C-9C9D-4491-A909-418BCDB73A8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Universal precautions: </a:t>
            </a:r>
            <a:r>
              <a:rPr b="0" lang="en-US" sz="1200" spc="-1" strike="noStrike">
                <a:solidFill>
                  <a:srgbClr val="000000"/>
                </a:solidFill>
                <a:latin typeface="Calibri"/>
              </a:rPr>
              <a:t>"Universal precautions," as defined by CDC, are a set of precautions designed to prevent transmission of human immunodeficiency virus (HIV), hepatitis B virus (HBV), and other bloodborne pathogens when providing first aid or health care. Under universal precautions, blood and certain body fluids of all patients are considered potentially infectious for HIV, HBV and other bloodborne pathogens.   Retrieved from CDC web site http://www.cdc.gov/ncidod/dhqp/bp_universal_precaution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p:txBody>
      </p:sp>
      <p:sp>
        <p:nvSpPr>
          <p:cNvPr id="63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C0362-AC3A-40BF-9F83-6DDFF358D14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7F952-E904-4101-A822-7AFB9DD41535}"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caused by bacteria, fungi or viruses entering the body through one or more of the following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person via hands of health-care providers patients and vis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al equipment (e.g. stethoscopes, computers) and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environmental 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airborne trans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carriers on the hospital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rare common-source out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pidemiological evidence suggests that multidrug-resistant organisms are carried from person-to-person by health-care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Carriers are individuals who harbor disease organisms in their body without visible symptoms and may pass the infection to another person.   It is possible to carry an organism without being aware of it for example, Typhoid Mary a woman who carried the typhoid bacillus and unknowingly started an epidemic in the US in the 1880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Outbreak</a:t>
            </a:r>
            <a:r>
              <a:rPr b="0" lang="en-US" sz="1200" spc="-1" strike="noStrike">
                <a:solidFill>
                  <a:srgbClr val="000000"/>
                </a:solidFill>
                <a:latin typeface="Calibri"/>
                <a:ea typeface="新細明體"/>
              </a:rPr>
              <a:t> is a term used in epidemiology to describe an occurrence of disease greater than would otherwise be expected in a particular time and place. It may be small and localized group or impact upon thousands of people across an entire continent. Two linked cases of a rare infectious disease may be sufficient to constitute an outbreak. Outbreaks may also refer to epidemics, which affect a region in a country or a group of countries, or pandemics, which describe global disease outbrea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Common source outbreak</a:t>
            </a: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me diseases arise from a single definable source, such as a common water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basic idea is that </a:t>
            </a:r>
            <a:r>
              <a:rPr b="0" i="1" lang="en-US" sz="1200" spc="-1" strike="noStrike">
                <a:solidFill>
                  <a:srgbClr val="000000"/>
                </a:solidFill>
                <a:latin typeface="Calibri"/>
                <a:ea typeface="新細明體"/>
              </a:rPr>
              <a:t>common source outbreaks</a:t>
            </a:r>
            <a:r>
              <a:rPr b="0" lang="en-US" sz="1200" spc="-1" strike="noStrike">
                <a:solidFill>
                  <a:srgbClr val="000000"/>
                </a:solidFill>
                <a:latin typeface="Calibri"/>
                <a:ea typeface="新細明體"/>
              </a:rPr>
              <a:t> are not propagated from individual-to-individual (e.g., person-to-person). Instead, sick individuals typically are propagation dead 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Yet the disease continues to be endemic and perhaps epidemic as a consequence of contact with some typically geographically well-defined disease reser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CEF7F-88C2-4391-A917-9C17D8E99BC5}"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Clean hands are safer han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prevent antimicrobial resista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5 million lives</a:t>
            </a:r>
            <a:endParaRPr b="0" lang="en-US" sz="11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Developing country focus </a:t>
            </a:r>
            <a:endParaRPr b="0" lang="en-US" sz="12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Recognizing this worldwide crisis, WHO established the campaign </a:t>
            </a:r>
            <a:r>
              <a:rPr b="0" i="1" lang="en-US" sz="1100" spc="-1" strike="noStrike">
                <a:solidFill>
                  <a:srgbClr val="000000"/>
                </a:solidFill>
                <a:latin typeface="Calibri"/>
                <a:ea typeface="新細明體"/>
              </a:rPr>
              <a:t>Clean hands are safer hands and joins other campaigns by addressing </a:t>
            </a:r>
            <a:r>
              <a:rPr b="0" lang="en-US" sz="1100" spc="-1" strike="noStrike">
                <a:solidFill>
                  <a:srgbClr val="000000"/>
                </a:solidFill>
                <a:latin typeface="Calibri"/>
                <a:ea typeface="新細明體"/>
              </a:rPr>
              <a:t>the high infection rates through the implementation of endorsed guidelines aimed at reducing death from transmission of health care-associated infec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CDC’s campaign to </a:t>
            </a:r>
            <a:r>
              <a:rPr b="0" i="1" lang="en-US" sz="1100" spc="-1" strike="noStrike">
                <a:solidFill>
                  <a:srgbClr val="000000"/>
                </a:solidFill>
                <a:latin typeface="Calibri"/>
                <a:ea typeface="新細明體"/>
              </a:rPr>
              <a:t>Prevent antimicrobial resistance </a:t>
            </a:r>
            <a:r>
              <a:rPr b="0" lang="en-US" sz="1100" spc="-1" strike="noStrike">
                <a:solidFill>
                  <a:srgbClr val="000000"/>
                </a:solidFill>
                <a:latin typeface="Calibri"/>
                <a:ea typeface="新細明體"/>
              </a:rPr>
              <a:t>aims to prevent antimicrobial resistance in health-care settings by a range of strategies aimed at preventing infection, diagnosing and treating infection, using antimicrobials wisely and preventing infection transmission. The campaign is targeting clinicians who treat particular patient groups such as hospitalized adults, dialysis patients, surgical patients, hospitalized children and long-term care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IHI campaign called the </a:t>
            </a:r>
            <a:r>
              <a:rPr b="0" i="1" lang="en-US" sz="1100" spc="-1" strike="noStrike">
                <a:solidFill>
                  <a:srgbClr val="000000"/>
                </a:solidFill>
                <a:latin typeface="Calibri"/>
                <a:ea typeface="新細明體"/>
              </a:rPr>
              <a:t>5 million lives aims to </a:t>
            </a:r>
            <a:r>
              <a:rPr b="0" lang="en-US" sz="1100" spc="-1" strike="noStrike">
                <a:solidFill>
                  <a:srgbClr val="000000"/>
                </a:solidFill>
                <a:latin typeface="Calibri"/>
                <a:ea typeface="新細明體"/>
              </a:rPr>
              <a:t>reduce MRSA infections through the implementation of five key interven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hand hygien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decontamination of environment, equip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active surveillance cultur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contact precautions for infected and colonized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compliance with central venous catheter and ventilator bundles.</a:t>
            </a:r>
            <a:endParaRPr b="0" lang="en-US" sz="1100" spc="-1" strike="noStrike">
              <a:solidFill>
                <a:srgbClr val="000000"/>
              </a:solidFill>
              <a:latin typeface="Calibri"/>
            </a:endParaRPr>
          </a:p>
        </p:txBody>
      </p:sp>
      <p:sp>
        <p:nvSpPr>
          <p:cNvPr id="64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765F0-8071-4F69-AF97-724F2FC9AD5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following four types of infections account for more than 80% of all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urinary tract infections usually associated with cath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catheter-associated urinary tract infections are the most frequent, accounting for about 35%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surgical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these are second in frequency, about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bloodstream infections associated with the use of an intravascular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neumonia associated with ventil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p:txBody>
      </p:sp>
      <p:sp>
        <p:nvSpPr>
          <p:cNvPr id="64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808F2-F162-49E3-A0B1-FA0245DC4B85}"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0798A-9EB9-42E6-BA19-6006BCC2A3DA}" type="slidenum">
              <a:rPr b="0" lang="en-US"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urke, J. P. (2003). Infection control — A problem for patient safety. </a:t>
            </a:r>
            <a:r>
              <a:rPr b="0" i="1" lang="en-US" sz="1200" spc="-1" strike="noStrike">
                <a:solidFill>
                  <a:srgbClr val="000000"/>
                </a:solidFill>
                <a:latin typeface="Calibri"/>
                <a:ea typeface="新細明體"/>
              </a:rPr>
              <a:t>The New England Journal of Medicine, 348</a:t>
            </a:r>
            <a:r>
              <a:rPr b="0" lang="en-US" sz="1200" spc="-1" strike="noStrike">
                <a:solidFill>
                  <a:srgbClr val="000000"/>
                </a:solidFill>
                <a:latin typeface="Calibri"/>
                <a:ea typeface="新細明體"/>
              </a:rPr>
              <a:t>, p. 651-656.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新細明體"/>
              </a:rPr>
              <a:t>“</a:t>
            </a:r>
            <a:r>
              <a:rPr b="0" lang="en-US" sz="1200" spc="-1" strike="noStrike">
                <a:solidFill>
                  <a:srgbClr val="000000"/>
                </a:solidFill>
                <a:latin typeface="Calibri"/>
                <a:ea typeface="新細明體"/>
              </a:rPr>
              <a:t>WHO is the directing and coordinating authority for health within the United Nations system. It is responsible for providing leadership on global health matters, shaping the health research agenda, setting norms and standards, articulating evidence-based policy options, providing technical support to countries and monitoring and assessing health tr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t>
            </a:r>
            <a:r>
              <a:rPr b="0" lang="en-US" sz="1200" spc="-1" strike="noStrike">
                <a:solidFill>
                  <a:srgbClr val="000000"/>
                </a:solidFill>
                <a:latin typeface="Calibri"/>
                <a:ea typeface="新細明體"/>
              </a:rPr>
              <a:t>In the 21st century, health is a shared responsibility, involving equitable access to essential care and collective defense against transnational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trieved from: </a:t>
            </a:r>
            <a:r>
              <a:rPr b="0" lang="en-US" sz="1200" spc="-1" strike="noStrike" u="sng">
                <a:solidFill>
                  <a:srgbClr val="000000"/>
                </a:solidFill>
                <a:uFillTx/>
                <a:latin typeface="Calibri"/>
                <a:ea typeface="新細明體"/>
              </a:rPr>
              <a:t>http://www.who.int/abou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Patient Safety Curriculum Guide is retrieved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education/curriculum/en/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information_centre/documents/who_ps_curriculum_summary.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lease note, the major content of this lecture is obtained from the World Health Organization to be used by nursing students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1849C-A026-4CD3-B328-F548B027C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approach every situation as having the potential to infect a patient or a health-care worker 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preventable when health-care workers use the right techniques and remain on the look out for unclean and unsafe situations.</a:t>
            </a:r>
            <a:endParaRPr b="0" lang="en-US" sz="1200" spc="-1" strike="noStrike">
              <a:solidFill>
                <a:srgbClr val="000000"/>
              </a:solidFill>
              <a:latin typeface="Calibri"/>
            </a:endParaRPr>
          </a:p>
        </p:txBody>
      </p:sp>
      <p:sp>
        <p:nvSpPr>
          <p:cNvPr id="6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F19D0-712C-4EB4-85DA-7F8DC8FC06E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0408D-EEE2-4E2F-818A-85A1FB78A94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andwashing today is the single most important intervention </a:t>
            </a:r>
            <a:r>
              <a:rPr b="0" i="1" lang="en-US" sz="1200" spc="-1" strike="noStrike">
                <a:solidFill>
                  <a:srgbClr val="000000"/>
                </a:solidFill>
                <a:latin typeface="Calibri"/>
                <a:ea typeface="新細明體"/>
              </a:rPr>
              <a:t>before and after patient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very health-care worker is required to act responsibly and without fail to apply the techniques for handwashing at every patient encounter. They also should advise patients and families of the importance of handwashing and give them permission to remind the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Decontamination refers to the process for physical removal of blood, bodily fluids and the removal or destruction of micro-organisms from the hands.</a:t>
            </a:r>
            <a:endParaRPr b="0" lang="en-US" sz="1200" spc="-1" strike="noStrike">
              <a:solidFill>
                <a:srgbClr val="000000"/>
              </a:solidFill>
              <a:latin typeface="Calibri"/>
            </a:endParaRPr>
          </a:p>
        </p:txBody>
      </p:sp>
      <p:sp>
        <p:nvSpPr>
          <p:cNvPr id="65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17C71-E3E5-49F4-853E-9B99A4ECF9E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D28DD-64A4-438C-83D8-1ADACBD4E95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limited studies available to test the technique of hand de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methods based on expert opi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before clinical shift begins remove all wrist and hand jewel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cuts and abrasions covered with waterproof dress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fingernails kept short clean and free from nail polish.</a:t>
            </a:r>
            <a:endParaRPr b="0" lang="en-US" sz="1200" spc="-1" strike="noStrike">
              <a:solidFill>
                <a:srgbClr val="000000"/>
              </a:solidFill>
              <a:latin typeface="Calibri"/>
            </a:endParaRPr>
          </a:p>
        </p:txBody>
      </p:sp>
      <p:sp>
        <p:nvSpPr>
          <p:cNvPr id="66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97FA2-3485-4E2B-BAA7-447CD14AD5E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ap solution must have contact with whole surface area of hands—vigorous rubbing of hands for 10–15 seconds (especially tips of fingers, thumbs and areas between fin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 link to drawings showing the procedure - </a:t>
            </a:r>
            <a:r>
              <a:rPr b="0" lang="en-US" sz="1200" spc="-1" strike="noStrike">
                <a:solidFill>
                  <a:srgbClr val="000000"/>
                </a:solidFill>
                <a:latin typeface="Trebuchet MS"/>
                <a:ea typeface="新細明體"/>
              </a:rPr>
              <a:t>Effective Handwashing Technique</a:t>
            </a:r>
            <a:endParaRPr b="0" lang="en-US" sz="1200" spc="-1" strike="noStrike">
              <a:solidFill>
                <a:srgbClr val="000000"/>
              </a:solidFill>
              <a:latin typeface="Calibri"/>
            </a:endParaRPr>
          </a:p>
        </p:txBody>
      </p:sp>
      <p:sp>
        <p:nvSpPr>
          <p:cNvPr id="66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022B0-8F91-4007-B4C6-21D92C186785}"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Links to drawings and directions for this procedure - </a:t>
            </a:r>
            <a:r>
              <a:rPr b="0" lang="en-US" sz="1200" spc="-1" strike="noStrike">
                <a:solidFill>
                  <a:srgbClr val="000000"/>
                </a:solidFill>
                <a:latin typeface="Trebuchet MS"/>
                <a:ea typeface="新細明體"/>
              </a:rPr>
              <a:t>How to use waterless handru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o start video (link to the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2F6F9-982A-4B0D-80D2-61E787D19E8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5momentsHandHygiene_A3.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GPSC-HandRub-Wash.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has developed easy-to-follow brochures and diagrams to help health-care workers follow correct handwashing procedures, available on the WHO web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gpsc/tools/Five_moments/en/I 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Five Moments for Hand Hygi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newly developed Five Moments for Hand Hygiene has emerged from the WHO Guidelines on Hand Hygiene in Health Care (Advanced Draft) to add value to any hand hygiene improvement strategy. Quite simply, it defines the key moments for hand hygiene, overcoming misleading language and complicated descriptions. It presents a unified vision and promotes a strong sense of owne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ot only does the Five Moments align with the evidence base concerning the spread of HAI but it is interwoven with the natural workflow of care and is designed to be easy to learn, logical and applicable in a wide range of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571D6-0795-4318-94FF-B041E12E219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ersonal protective equipment includes the use of gowns, gloves, aprons, eye protection and face mask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se of these equipment is usually based on assessment of the risk of micro-organism transmission to the patient or to the carer as well as the risk of contamination of the health-care practitioner’s clothing and skin by the patient’s blood, bodily fluids, secretions or excretions.</a:t>
            </a:r>
            <a:endParaRPr b="0" lang="en-US" sz="1200" spc="-1" strike="noStrike">
              <a:solidFill>
                <a:srgbClr val="000000"/>
              </a:solidFill>
              <a:latin typeface="Calibri"/>
            </a:endParaRPr>
          </a:p>
        </p:txBody>
      </p:sp>
      <p:sp>
        <p:nvSpPr>
          <p:cNvPr id="67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72BC8-AE94-4587-BE6A-B9FE0810536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fter completion of this unit, the learners will be able to:</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Recognize patient safety as an important nursing responsibility in global health care system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pply required knowledge in preventing and/or minimizing infec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Perform appropriate behaviors required to prevent health care 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Demonstrate required competence to provide patients with safe ca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E23FE-CB56-46B9-9999-B7FA323396F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Gloves are now an everyday part of clinical practice. There are two main indicators for wearing gloves in the clinical sett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protect the hands from contamination with organic matter and micro-organism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reduce the risk of transmitting microorganisms to both patients and staf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Even if a student is required to wear gloves this does not replace the need for cleaning one’s hand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Gloves must be worn fo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invasive procedur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sterile si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non-intact skin or mucous membran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activities assessed as having a risk of exposure to blood, bodily fluids, secretions and excretions, and handling sharps or contaminated instrument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Gloves should be worn only once and should be put on immediately before the care activity, removed immediately afterwards and changed between patients and  pisodes of ca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Gloves must be disposed of as clinical waste and hands must be decontaminated by washing appropriately.</a:t>
            </a:r>
            <a:endParaRPr b="0" lang="en-US" sz="1100" spc="-1" strike="noStrike">
              <a:solidFill>
                <a:srgbClr val="000000"/>
              </a:solidFill>
              <a:latin typeface="Calibri"/>
            </a:endParaRPr>
          </a:p>
        </p:txBody>
      </p:sp>
      <p:sp>
        <p:nvSpPr>
          <p:cNvPr id="68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5B581-5470-45AA-8C67-550433A4FAF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be aware of the significant problem for health-care workers caused by needle stick injuries, which are as prevalent as injuries from falls and handling and exposure to hazardous substances.</a:t>
            </a:r>
            <a:endParaRPr b="0" lang="en-US" sz="1200" spc="-1" strike="noStrike">
              <a:solidFill>
                <a:srgbClr val="000000"/>
              </a:solidFill>
              <a:latin typeface="Calibri"/>
            </a:endParaRPr>
          </a:p>
        </p:txBody>
      </p:sp>
      <p:sp>
        <p:nvSpPr>
          <p:cNvPr id="6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B4D43-E9FA-481A-AB03-999159BB1A6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ursing students need to make every effort to minimize the spread of infection and to encourage patients and other health-care workers to actively engage in practices that minimize the spread of infection in the community, the hospitals, and the clinics.</a:t>
            </a:r>
            <a:endParaRPr b="0" lang="en-US" sz="1200" spc="-1" strike="noStrike">
              <a:solidFill>
                <a:srgbClr val="000000"/>
              </a:solidFill>
              <a:latin typeface="Calibri"/>
            </a:endParaRPr>
          </a:p>
        </p:txBody>
      </p:sp>
      <p:sp>
        <p:nvSpPr>
          <p:cNvPr id="6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00B6E-1035-44B2-95BE-20E5450CE1B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Before contact with each and every patient a student should clean their hands before touching a pati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is is important to protect the patient against harmful micro-organisms carried on the hands. Students may have been travelling on a bus immediately before entering the hospital and the ward where they intend to take a history from a patient. In doing so they may shake the hand of</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e patient or comfort the patient as a humane gesture. They may also be requested to assist a patient to move from the bed to a chair, or to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sitting area for more privacy. They might be required to perform a physical examination, take the pulse of the patient or blood pressure and</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abdominal palpat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A student should clean hands before an aseptic task.</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It is essential that students clean their hands immediately before any aseptic task. This is necessary to protect the patient against harmfu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icro-organisms, including the patient’s own micro-organisms, entering his or her body. Students must protect against transmission through contact with mucous membrane: oral/dental care, giving eye drops, secretion aspiration. Often students will be treating patients who have open wounds and any contact with non-intact skin: skin lesion care, wound dressing, any type of injection is an opportunity for transmiss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edical devices are well known for harbouring potentially harmful micro-organisms and contact with devices such as catheter insertion, opening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vascular access system or a draining system must be done with careful preparation. Students should also be diligent in preparation of food,  medications and dressing sets.</a:t>
            </a:r>
            <a:endParaRPr b="0" lang="en-US" sz="10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After contact with each and every patient a student should clean hands after any risk of exposure to body flui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tudents should habitually clean their hands immediately after an exposure risk to body fluids and after glove removal. Cases of transmis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ve been to know to occur even with gloving. This is essential to limit the opportunity of the student receiving an infection. It is also necessa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to maintain a safe health-car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should wash hands after actual patient contac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All students should clean their hands after touching a patient and his or her immediate surroundings. This should be done using one of the methods available to the clinic or hospital immediately after the patient contact is over. This is because in busy environments there are man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distractions and busy people tend to rush onto the next job or patient. Many people forget in the rush to wash their hands. Forgetting to was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nds can lead to the student getting an infection and increasing the chances of the microorganisms spreading throughout th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aying goodbye to the patient by shaking a hand or touching a shoulder provides opportunities for micro-organisms to be transferred to the student and vice versa. Activities in addition to those mentioned above that involve direct physical contact include helping a patient to move around, to get washed or to give a massage, which are known routes for micro-organisms spreading to others. Students performing clinical examination such as taking pulse, blood pressure, chest auscultation and abdominal palpation are all opportunities for cross-inf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must handwash after contact with patient surrounding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Micro-organisms are also known to survive on inanimate objects. So it is important to clean one’s hands after touching any object or furniture in the patient’s immediate surroundings when leaving them, even without touching the patient. Students may find themselves helping other staff a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change bed linen, adjust perfusion speed, monitor an alarm, hold a bed rail or make room on a side bed table for a patient.</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en this occurs students should maintain correct handwashing techniques and if appropriate have a discussion about the techniques used in the hospital or clinic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reasons for the variation. However, in many cultures this may not be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ow a student deals with this situation will depend on the relationship of the student to the person who fails to wash their hands, the culture of the hospital and the culture of the society.</a:t>
            </a:r>
            <a:endParaRPr b="0" lang="en-US" sz="1200" spc="-1" strike="noStrike">
              <a:solidFill>
                <a:srgbClr val="000000"/>
              </a:solidFill>
              <a:latin typeface="Calibri"/>
            </a:endParaRPr>
          </a:p>
        </p:txBody>
      </p:sp>
      <p:sp>
        <p:nvSpPr>
          <p:cNvPr id="69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D1709-FA75-420B-93F7-1BF3629B79A8}"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F2BB8-CD86-426F-9FFF-6611035EC7CD}"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ncbi.nlm.nih.gov/bookshelf/br.fcgi?book=aps2v1&amp;part=advances-emanuel-berwick_110</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9ADD1-57B3-4E79-8B41-43657686621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According to Institute of Medicine, safety is defined as “freedom of accidental in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manuel, L., Berwick, D., Conway, J., Combes, J., Hatlie, M., Leape, L., Reason, J., Schyve, P., Vincent, C., &amp; Walton, M. (2008). What exactly is patient safety? </a:t>
            </a:r>
            <a:r>
              <a:rPr b="0" i="1" lang="en-US" sz="1200" spc="-1" strike="noStrike">
                <a:solidFill>
                  <a:srgbClr val="000000"/>
                </a:solidFill>
                <a:latin typeface="Calibri"/>
                <a:ea typeface="新細明體"/>
              </a:rPr>
              <a:t>Advances in Patient Safety</a:t>
            </a:r>
            <a:r>
              <a:rPr b="0" lang="en-US" sz="1200" spc="-1" strike="noStrike">
                <a:solidFill>
                  <a:srgbClr val="000000"/>
                </a:solidFill>
                <a:latin typeface="Calibri"/>
                <a:ea typeface="新細明體"/>
              </a:rPr>
              <a:t>, Vol. 1: Assessment. Retrieved from http://www.ncbi.nlm.nih.gov/bookshelf/br.fcgi?book=aps2v1&amp;part=advances-emanuel-berwick_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98FAF-AFB3-471F-AB28-6FEDBB5132F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9D0BA-B86F-4F79-B7B6-536426F63008}"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0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97479-48E5-454F-993F-3B0E3237C4D5}"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nit of</a:t>
            </a:r>
            <a:r>
              <a:rPr b="1"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atient safety includes two parts. Part 1 is infection control; part 2 is safe medication administ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y infection control is relevant to patien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spread of infection in health-care settings today affects hundreds of millions of people worldwide. In the health care settings, infection is one of adverse events; some of infections are preventable. Through improved infection control, infection can be minimized. Therefore, improved infection control can facilitate health care providers reach the goal of patient safety.</a:t>
            </a:r>
            <a:endParaRPr b="0" lang="en-US" sz="1200" spc="-1" strike="noStrike">
              <a:solidFill>
                <a:srgbClr val="000000"/>
              </a:solidFill>
              <a:latin typeface="Calibri"/>
            </a:endParaRPr>
          </a:p>
        </p:txBody>
      </p:sp>
      <p:sp>
        <p:nvSpPr>
          <p:cNvPr id="61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CBA85-A3BE-4747-9427-1AAB932C091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a WHO sponsored survey study conducted in 55 hospitals of 14 countries representing four WHO regions (South-East Asia, Europe, the Eastern Mediterranean and the Western Pacific) it was found that, on average, 8.7% of hospital patients suffer health care-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etween 5% and 10% of patients admitted to modern hospitals in the developed world acquire one or more infections.</a:t>
            </a:r>
            <a:endParaRPr b="0" lang="en-US" sz="1200" spc="-1" strike="noStrike">
              <a:solidFill>
                <a:srgbClr val="000000"/>
              </a:solidFill>
              <a:latin typeface="Calibri"/>
            </a:endParaRPr>
          </a:p>
          <a:p>
            <a:pPr marL="228600" indent="-228600">
              <a:lnSpc>
                <a:spcPct val="100000"/>
              </a:lnSpc>
              <a:spcBef>
                <a:spcPts val="45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The risk of HAI in developing countries is from 2 to 20 times higher than in developed countries.</a:t>
            </a:r>
            <a:endParaRPr b="0" lang="en-US" sz="1200" spc="-1" strike="noStrike">
              <a:solidFill>
                <a:srgbClr val="000000"/>
              </a:solidFill>
              <a:latin typeface="Calibri"/>
            </a:endParaRPr>
          </a:p>
        </p:txBody>
      </p:sp>
      <p:sp>
        <p:nvSpPr>
          <p:cNvPr id="6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2DC21-C40E-4523-A25E-D494C6FB83D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12] defines a health care-associated infection (also called “nosocomial”) 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acquired in hospital by a patient who was admitted for a reason other than that infec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occurring in a patient in a hospital or other health-care facility in whom the infection was not present or incubating at the time of admission. This includes infections acquired in the hospital but appearing after discharge, and also occupational infections among staff of the facility.</a:t>
            </a:r>
            <a:endParaRPr b="0" lang="en-US" sz="1200" spc="-1" strike="noStrike">
              <a:solidFill>
                <a:srgbClr val="000000"/>
              </a:solidFill>
              <a:latin typeface="Calibri"/>
            </a:endParaRPr>
          </a:p>
        </p:txBody>
      </p:sp>
      <p:sp>
        <p:nvSpPr>
          <p:cNvPr id="6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0B61F-33EC-4297-B4EE-E34AECB42A2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35AB0-18A1-48BB-A3E5-3C7858875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C3DE1-F936-4378-9888-0DE104CC4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A9196-49C8-4C78-8FAA-283BB4F88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EB6F31-1EE8-48FC-813E-7A55146F5F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A00F4E-6E66-49E9-AFE1-C7BB7806F3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2B1AE-8871-4401-BD26-270DD3A0C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63B11-C34A-4007-862A-B9AA3B54E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7C310-ABF2-4DA8-8C14-6FABD31F2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A4D0F6-226C-4252-954F-2154EFB810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749C2E-34BE-49B0-9BEA-4A6ECE5B76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3AB1C-AB2C-4DEA-972C-3702292B95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4DC922-32EF-4A38-B382-F0AA9E1FE6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9E15D-55B6-4141-B71E-E42BE8C7C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9351DF-8309-491F-892A-38E49DCDD9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8535F5-81E3-4FE9-8B2A-6CB7791C93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12A370-B61B-4EBE-854F-1CC5DDEA8D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3D4159-BE86-4FB4-B513-90DB809622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D8BB98-DF28-4CC1-B8AE-48B0A53929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8C7C7F-3C0B-4E95-BEED-11D2910A04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6B4912-7D12-432B-A829-BFF91CF61D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C2507-C486-46AF-8616-BBE777A0A2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5A985E-143F-4FE8-AFD2-2C64C01A7F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33EA02-7E59-4DAF-999D-16CD8AAC11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97A7B-538F-46B6-ABC0-34601B1F1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4C0A51-26FE-44AB-B7AE-BBA9E9BDC4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7EE8B3-7CD2-436C-AD0C-79B35B1477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346B56-13CB-4862-9EB4-24FE55C0E0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B2BD93-E162-4957-B477-14DAD54752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E9B9B8-341B-46C2-BD83-39B150D742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201D12-21C5-4940-93C6-6634237425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A7CE01-8126-41A6-B267-A183417247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937D68-297A-4E27-8D3E-C417A1D0B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ECB066-FCBC-419E-9D17-7C63BA22F5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72FA2C-9173-4B6E-8A69-71C5753FE5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3AEFC-3B85-40EF-8E28-3EAB8FA61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C87342-C545-4F8F-9E9F-26AD9BEAC1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4CFC05-4B54-4656-ABA7-D29B282753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C57458-A3DE-4CA6-BD8D-A8F24F6E36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EFC832-26A3-4913-A255-1A37C06BD6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712E68-4124-4669-A1CD-73D2470E23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10BFF2-6FBF-48FA-AC9E-EE2AC6371B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294FF1-CBEF-4EEF-B983-D5381F42D9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F0D01A-B399-4D1E-8F11-79C9F21636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BBFC4C-32CA-4E05-B186-52A7EFBF32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494D28-2734-4E99-B9A4-2DBE05A8AD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68227-DD9B-4D8A-9B0E-E7070C463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AA27D-532A-42C1-88E8-6F50CD0B8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E15713-3D23-4D65-AAE2-3B3F738BFD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09B8E6-400A-4737-84A2-76EE38CF70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6E8EC5-40D2-49AC-98A7-6B9966F82F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FCC84F-ACAD-42F4-B478-2DC69CF5D5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7962C-DCE2-4FB0-A2AF-906F8D5E3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BA65A-4C2A-4D8A-86C6-B9F5B37AA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9916F-2354-4136-B603-F4B890821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6E8B3-35C4-4C6C-8163-19A353D1F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4AD93-FE74-47F7-883B-3167FC75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45950-A74A-4661-9131-64904612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2FD21-788D-4B74-9044-26E73C783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F0051-D2CE-42C2-89E0-4C5DB8523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D5972-454C-4FF7-BD05-440E4F4B8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976DB-C001-4AE5-B939-E832184CF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B4D0A-7036-4943-B652-EEE36E420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CF934-79B0-4BD4-A02B-666639144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68EB0-FC7A-4E42-83FE-543D9CF0F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E519D-A171-4746-B3CE-A566F9C35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55E1E-8370-4DDC-A261-4C2A2CE26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EF935-AF2C-4C67-B8D2-BB75720FD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80990-04C9-4121-ACC2-5A4F82BE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04880-5FEF-4F4D-B13D-DAED983CA5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2BE2D-E5D7-4848-B64A-69EA0D452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68718-4E62-4754-8E35-16D0A55D4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8E601-7D3A-4E83-ADB1-D4FD474C3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363A1-6AAE-4A28-8EA6-7C3676DBB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E7560-2D97-4A8A-B90C-BBAABA440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46030-7808-4924-83C5-2FBEA3FA5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F08DE2-04F5-423A-8A05-F3DE57410B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FCB51-0142-4AEB-9DF4-EE4839B26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F47E5-1A18-4A56-90B8-79FF9B9FF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3185-BAF1-44BB-B5E0-AE2A0227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3F80A-B8EC-4228-B721-4606ED510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5B372-D62E-48E4-BF94-F586331F5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350C4-3425-49D9-B6FB-BBC099F71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8BE99-9D0A-4EB2-B059-FB8BA39AE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7D592-9BCF-4AB6-94FA-5D80A4EB7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7AB27-442B-496C-88E3-F1A56A288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A9E3D-BA56-4D05-8FED-5828F9D1C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DA250C-CD03-4BCC-84AC-8F463BF6CE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F0CFA-C960-4823-9FBB-BEDC351117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78ACDB-EB28-4DB4-8F17-3FC6BD7121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83B1-7369-4932-A047-C6593510D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5160D-090E-41A7-A1BC-E11581E6CA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BFDA6-D4A9-4D7C-B34C-CD8E1569A1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4D566-9203-48AC-85FF-B95F95E9F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0DFAF-45D3-4ECE-B50F-C7C7B6961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9057F-DCD5-47D9-94D9-BDAB86139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1AB16-5C10-4E89-89CC-EE2810E3C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17972-9467-4226-877F-1C3A8EBCD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66417-44D6-4849-AA6A-76648F65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843D2-F4A2-4082-B96E-DB18DA728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E68FC7-3D70-4F4C-9ECB-FC4558291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132ED-BDB8-45EE-AA93-B4A44C28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9D3E4B-A669-47E7-A5D7-55E06CE4D8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DD1127-3330-497B-968B-75324D3EED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AB6F3D-9292-461D-B952-3AE5800C2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0A62C-5064-4D6D-9C4C-1FB0738E9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460C1-89EC-4B6F-AA75-8D554D082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ECBDEB-E4B7-42DD-92EE-ABB556016C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3145D-EE14-4149-8D3D-FFA59C2ED7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8F29F-7304-414C-9791-AA06BFC96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E83A7-2E2A-43BE-8E4B-EFA3A5AA2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0F2C3-CC9D-4359-9BE4-EDF765C03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767C-6681-4A85-AA77-01C2826EF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8715B-4B66-4219-B722-13469901F6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B94B74-6482-4C62-A0D7-E770D368C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D87E7D-756F-4B88-98FA-06AC5AB972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121A5C-1B1E-4144-8EFA-E35B26AE8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829DE-781F-4061-8750-4ABDFA264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EDBB38-8E68-4516-BE5B-5AD1DB5E72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B41F5-267C-4828-AE05-FDD4B2A90D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1D72F-8DFF-4920-A44B-22E9165AB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FE6DC-DCE6-4F5B-94E3-976D19574F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EDE6A-8E69-4158-BB11-2EF724B05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92FF-50EE-4877-BC5C-EF270D2F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F66A0-4175-450A-B836-3CFC018DD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77A48-B270-48FE-9D01-0649EC673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DD255-C16D-4DB0-AC03-69709118E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BC4C70-48A7-4714-B167-AA4ADBD72D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57E2AE-8947-4E57-8385-807BE4E436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85CB3-867D-43B0-A8D3-6EBEF8013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B49A7-BD0D-4F0A-B641-EED75D7A6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093FE1-5E5D-47B1-98B3-3CC53E4A17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E5D28-0A3C-4C00-AA2A-F73C27A9B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15909-5E5D-49FE-8336-DCC2E2AAD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F0C5-4679-4B67-9334-6815965F8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6AF59-2A9D-45F1-A310-FA9E67A3FD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8DB3D-363D-4295-8DE8-0A61F2850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50B53-BF22-46CB-8B09-368937D46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01802-B5C3-4395-822E-C66B2286A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0651B-877B-4063-8DF6-5C946A156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260444-2842-4B18-BE99-53E50C23E7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C5918E-BE47-4224-8CCC-6D0285AF77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AA979-5161-4F5B-888C-A0D7D9BA77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C5A7DD-A6EE-47AF-97F4-E68D404297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D7CD52-629F-48EB-BF80-149F2ADA64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rebuchet MS"/>
              </a:rPr>
              <a:t>NURS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C8C7C-AD78-43BB-9391-4BD49FE380D8}"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36FCC-3F3A-4910-BD54-DEBA02A01D35}"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7FC52-54B1-47A6-B3E0-A4DB6BDEC3C2}"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ED4FF-C694-419C-9261-38642177F4B1}"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pic>
        <p:nvPicPr>
          <p:cNvPr id="41" name="Picture 6" descr="NurseBlok.eps"/>
          <p:cNvPicPr/>
          <p:nvPr/>
        </p:nvPicPr>
        <p:blipFill>
          <a:blip r:embed="rId2"/>
          <a:stretch/>
        </p:blipFill>
        <p:spPr>
          <a:xfrm>
            <a:off x="4572000" y="5608800"/>
            <a:ext cx="3886200" cy="747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54240-C4B6-47C8-8A28-4CE814AAFE5C}"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F5BEF-BF3E-4F9E-A85A-3E33BADF46A6}"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423DC-E46D-4737-97E5-C0AF8AB8944F}"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BE61A-F732-491A-9C50-98F123BFA766}"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8148-BB26-489F-85BF-B0158DD0536A}"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AA833-48D3-41FB-BCE8-1BE19226D53D}"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3365A-EF66-4010-B60C-93F9A309F131}"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E49A7-4E8D-441A-A3FF-1075E58C7ED6}"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hyperlink" Target="mailto:carola@wsu.edu" TargetMode="External"/><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who.int/patientsafety/events/05/HH_en.pdf" TargetMode="External"/><Relationship Id="rId2" Type="http://schemas.openxmlformats.org/officeDocument/2006/relationships/hyperlink" Target="http://www.cdc.gov/mmwr/preview/mmwrhtml/mm5115a5.htm" TargetMode="External"/><Relationship Id="rId3" Type="http://schemas.openxmlformats.org/officeDocument/2006/relationships/hyperlink" Target="http://www.ihi.org/IHI/Topics/PatientSafety/SafetyGeneral/Measures/" TargetMode="External"/><Relationship Id="rId4" Type="http://schemas.openxmlformats.org/officeDocument/2006/relationships/hyperlink" Target="http://www.ihi.org/IHI/Topics/DevelopingCountries" TargetMode="External"/><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who.int/patientsafety/education/curriculum/en/index.html"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ho.int/gpsc/tools/5momentsHandHygiene_A3.pdf" TargetMode="External"/><Relationship Id="rId2" Type="http://schemas.openxmlformats.org/officeDocument/2006/relationships/hyperlink" Target="http://www.who.int/gpsc/tools/GPSC-HandRub-Wash.pdf" TargetMode="External"/><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hyperlink" Target="http://www.ncbi.nlm.nih.gov/bookshelf/br.fcgi?book=aps2v1&amp;part=advances-emanuel-berwick_110" TargetMode="External"/><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39320" y="2444400"/>
            <a:ext cx="7210440" cy="3419640"/>
          </a:xfrm>
          <a:prstGeom prst="rect">
            <a:avLst/>
          </a:prstGeom>
          <a:noFill/>
          <a:ln w="0">
            <a:noFill/>
          </a:ln>
        </p:spPr>
        <p:txBody>
          <a:bodyPr anchor="t">
            <a:noAutofit/>
          </a:bodyPr>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Patient Safety 1:</a:t>
            </a:r>
            <a:endParaRPr b="0" lang="en-US" sz="36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Infection Control</a:t>
            </a:r>
            <a:endParaRPr b="0" lang="en-US" sz="36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Yi-Hsiu Liu   RN, ME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yhliu@wsu.edu</a:t>
            </a:r>
            <a:endParaRPr b="0" lang="en-US" sz="24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Carol Allen  Ph 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carola@wsu.edu</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pic>
        <p:nvPicPr>
          <p:cNvPr id="501" name="Picture 5" descr="superCourse.eps"/>
          <p:cNvPicPr/>
          <p:nvPr/>
        </p:nvPicPr>
        <p:blipFill>
          <a:blip r:embed="rId3"/>
          <a:stretch/>
        </p:blipFill>
        <p:spPr>
          <a:xfrm>
            <a:off x="1625760" y="1290600"/>
            <a:ext cx="58924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mpacts of Health Care-Associated Infections (HAI)</a:t>
            </a:r>
            <a:endParaRPr b="1" lang="en-US" sz="3600" spc="-1" strike="noStrike">
              <a:solidFill>
                <a:srgbClr val="000000"/>
              </a:solidFill>
              <a:latin typeface="Trebuchet MS"/>
            </a:endParaRPr>
          </a:p>
        </p:txBody>
      </p:sp>
      <p:sp>
        <p:nvSpPr>
          <p:cNvPr id="520" name=""/>
          <p:cNvSpPr txBox="1"/>
          <p:nvPr/>
        </p:nvSpPr>
        <p:spPr>
          <a:xfrm>
            <a:off x="457200" y="1953720"/>
            <a:ext cx="8229600" cy="4172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ca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patients’ suffering.</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permanent disabili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death.</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olong hospital stay.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need for a higher level of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the costs to patients and hospital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ng infections</a:t>
            </a:r>
            <a:endParaRPr b="1" lang="en-US" sz="3600" spc="-1" strike="noStrike">
              <a:solidFill>
                <a:srgbClr val="000000"/>
              </a:solidFill>
              <a:latin typeface="Trebuchet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s health care providers who hav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Knowledge of common infections and their vector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n attitude of cooperation and commitment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kills necessary to provide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Knowledge</a:t>
            </a:r>
            <a:endParaRPr b="1" lang="en-US" sz="3600" spc="-1" strike="noStrike">
              <a:solidFill>
                <a:srgbClr val="000000"/>
              </a:solidFill>
              <a:latin typeface="Trebuchet MS"/>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extent of the problem;</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main causes, modes of transmission, and types of infec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5" name="Picture 4" descr="C:\Program Files\Microsoft Office\MEDIA\CAGCAT10\j0299125.wmf"/>
          <p:cNvPicPr/>
          <p:nvPr/>
        </p:nvPicPr>
        <p:blipFill>
          <a:blip r:embed="rId1"/>
          <a:stretch/>
        </p:blipFill>
        <p:spPr>
          <a:xfrm>
            <a:off x="6986520" y="387180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Attitudes</a:t>
            </a:r>
            <a:endParaRPr b="1" lang="en-US" sz="3600" spc="-1" strike="noStrike">
              <a:solidFill>
                <a:srgbClr val="000000"/>
              </a:solidFill>
              <a:latin typeface="Trebuchet MS"/>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eing an effective team player.</a:t>
            </a: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Commitment to preventing HAI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8" name="Picture 4" descr="C:\Documents and Settings\user\Local Settings\Temporary Internet Files\Content.IE5\4DEB41I3\MP900433193[1].jpg"/>
          <p:cNvPicPr/>
          <p:nvPr/>
        </p:nvPicPr>
        <p:blipFill>
          <a:blip r:embed="rId1"/>
          <a:stretch/>
        </p:blipFill>
        <p:spPr>
          <a:xfrm>
            <a:off x="5492880" y="4178160"/>
            <a:ext cx="2570040" cy="1947960"/>
          </a:xfrm>
          <a:prstGeom prst="rect">
            <a:avLst/>
          </a:prstGeom>
          <a:ln w="0">
            <a:noFill/>
          </a:ln>
        </p:spPr>
      </p:pic>
      <p:pic>
        <p:nvPicPr>
          <p:cNvPr id="529" name="Picture 5" descr="C:\Documents and Settings\user\Local Settings\Temporary Internet Files\Content.IE5\49IG19DJ\MP900433103[1].jpg"/>
          <p:cNvPicPr/>
          <p:nvPr/>
        </p:nvPicPr>
        <p:blipFill>
          <a:blip r:embed="rId2"/>
          <a:stretch/>
        </p:blipFill>
        <p:spPr>
          <a:xfrm>
            <a:off x="457200" y="274680"/>
            <a:ext cx="173844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Skills</a:t>
            </a:r>
            <a:endParaRPr b="1" lang="en-US" sz="3600" spc="-1" strike="noStrike">
              <a:solidFill>
                <a:srgbClr val="000000"/>
              </a:solidFill>
              <a:latin typeface="Trebuchet MS"/>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se personal protection method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now what to do if exposed</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ncourage others to use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port breaks in technique that increase patient ri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Observe patients for signs and symptoms of infec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One more important thing!</a:t>
            </a:r>
            <a:endParaRPr b="1" lang="en-US" sz="3600" spc="-1" strike="noStrike">
              <a:solidFill>
                <a:srgbClr val="000000"/>
              </a:solidFill>
              <a:latin typeface="Trebuchet MS"/>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80"/>
                </a:solidFill>
                <a:latin typeface="Trebuchet MS"/>
                <a:ea typeface="新細明體"/>
              </a:rPr>
              <a:t>Protect Yourself</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 sure you have been immunized against Hepatitis B since it is very easy to transmit!</a:t>
            </a:r>
            <a:endParaRPr b="0" lang="en-US" sz="2800" spc="-1" strike="noStrike">
              <a:solidFill>
                <a:srgbClr val="000000"/>
              </a:solidFill>
              <a:latin typeface="Trebuchet MS"/>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34" name="Picture 3" descr="C:\Documents and Settings\carola\Local Settings\Temporary Internet Files\Content.IE5\M8LJH8CM\MC900071363[1].wmf"/>
          <p:cNvPicPr/>
          <p:nvPr/>
        </p:nvPicPr>
        <p:blipFill>
          <a:blip r:embed="rId1"/>
          <a:stretch/>
        </p:blipFill>
        <p:spPr>
          <a:xfrm>
            <a:off x="6902280" y="4162320"/>
            <a:ext cx="1347840" cy="13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Main Sources</a:t>
            </a:r>
            <a:r>
              <a:rPr b="1" lang="en-AU" sz="3600" spc="-1" strike="noStrike">
                <a:solidFill>
                  <a:srgbClr val="ff0000"/>
                </a:solidFill>
                <a:latin typeface="Trebuchet MS"/>
                <a:ea typeface="新細明體"/>
              </a:rPr>
              <a:t> </a:t>
            </a:r>
            <a:r>
              <a:rPr b="1" lang="en-AU" sz="3600" spc="-1" strike="noStrike">
                <a:solidFill>
                  <a:srgbClr val="000000"/>
                </a:solidFill>
                <a:latin typeface="Trebuchet MS"/>
                <a:ea typeface="新細明體"/>
              </a:rPr>
              <a:t>of Infection</a:t>
            </a:r>
            <a:endParaRPr b="1" lang="en-US" sz="3600" spc="-1" strike="noStrike">
              <a:solidFill>
                <a:srgbClr val="000000"/>
              </a:solidFill>
              <a:latin typeface="Trebuchet MS"/>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 to person via hands of health-care  providers, patients, and visito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al clothing and equipment (e.g. Stethoscopes, flashlights etc.)</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Environmental contamin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Airborne transmiss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Hospital staff who are carrier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Rare common-source outbreaks</a:t>
            </a:r>
            <a:endParaRPr b="0" lang="en-US" sz="2800" spc="-1" strike="noStrike">
              <a:solidFill>
                <a:srgbClr val="000000"/>
              </a:solidFill>
              <a:latin typeface="Trebuchet MS"/>
            </a:endParaRPr>
          </a:p>
        </p:txBody>
      </p:sp>
      <p:pic>
        <p:nvPicPr>
          <p:cNvPr id="537" name="Picture 4" descr="C:\Documents and Settings\carola\Local Settings\Temporary Internet Files\Content.IE5\1EBDN5AL\MC900331728[1].wmf"/>
          <p:cNvPicPr/>
          <p:nvPr/>
        </p:nvPicPr>
        <p:blipFill>
          <a:blip r:embed="rId1"/>
          <a:stretch/>
        </p:blipFill>
        <p:spPr>
          <a:xfrm>
            <a:off x="6891480" y="4373640"/>
            <a:ext cx="17953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Campaigns to Decrease Infection Rates</a:t>
            </a:r>
            <a:endParaRPr b="1" lang="en-US" sz="3600" spc="-1" strike="noStrike">
              <a:solidFill>
                <a:srgbClr val="000000"/>
              </a:solidFill>
              <a:latin typeface="Trebuchet MS"/>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WHO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1"/>
              </a:rPr>
              <a:t>Clean hands are safer hand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Center</a:t>
            </a:r>
            <a:r>
              <a:rPr b="0" lang="en-US" sz="2800" spc="-1" strike="noStrike">
                <a:solidFill>
                  <a:srgbClr val="000000"/>
                </a:solidFill>
                <a:latin typeface="Trebuchet MS"/>
                <a:ea typeface="新細明體"/>
              </a:rPr>
              <a:t>s</a:t>
            </a:r>
            <a:r>
              <a:rPr b="0" lang="en-GB" sz="2800" spc="-1" strike="noStrike">
                <a:solidFill>
                  <a:srgbClr val="000000"/>
                </a:solidFill>
                <a:latin typeface="Trebuchet MS"/>
                <a:ea typeface="新細明體"/>
              </a:rPr>
              <a:t> for Disease Control and Prevention (CDC) “</a:t>
            </a:r>
            <a:r>
              <a:rPr b="0" lang="en-GB" sz="2800" spc="-1" strike="noStrike" u="sng">
                <a:solidFill>
                  <a:srgbClr val="0000ff"/>
                </a:solidFill>
                <a:uFillTx/>
                <a:latin typeface="Trebuchet MS"/>
                <a:ea typeface="新細明體"/>
                <a:hlinkClick r:id="rId2"/>
              </a:rPr>
              <a:t>prevent antimicrobial resistance</a:t>
            </a:r>
            <a:r>
              <a:rPr b="0" lang="en-GB" sz="2800" spc="-1" strike="noStrike">
                <a:solidFill>
                  <a:srgbClr val="000000"/>
                </a:solidFill>
                <a:latin typeface="Trebuchet MS"/>
                <a:ea typeface="新細明體"/>
              </a:rPr>
              <a:t>” campaign in health</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care sett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Institute for Healthcare Improvement (IHI)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3"/>
              </a:rPr>
              <a:t>5 million live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u="sng">
                <a:solidFill>
                  <a:srgbClr val="0000ff"/>
                </a:solidFill>
                <a:uFillTx/>
                <a:latin typeface="Trebuchet MS"/>
                <a:ea typeface="新細明體"/>
                <a:hlinkClick r:id="rId4"/>
              </a:rPr>
              <a:t>Developing country focu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Main Routes for infections</a:t>
            </a:r>
            <a:endParaRPr b="1" lang="en-US" sz="3600" spc="-1" strike="noStrike">
              <a:solidFill>
                <a:srgbClr val="000000"/>
              </a:solidFill>
              <a:latin typeface="Trebuchet MS"/>
            </a:endParaRPr>
          </a:p>
        </p:txBody>
      </p:sp>
      <p:sp>
        <p:nvSpPr>
          <p:cNvPr id="541" name=""/>
          <p:cNvSpPr txBox="1"/>
          <p:nvPr/>
        </p:nvSpPr>
        <p:spPr>
          <a:xfrm>
            <a:off x="228600" y="1600200"/>
            <a:ext cx="86868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Urinary tract infections (UTI)</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Catheter-associated UTIs are the most frequent, accounting for about 3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Surgical infections: about 20%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loodstream infections associated with the use of an intravascular device: about 1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neumonia associated with ventilators: about15% of HAI</a:t>
            </a:r>
            <a:endParaRPr b="0" lang="en-US" sz="2800" spc="-1" strike="noStrike">
              <a:solidFill>
                <a:srgbClr val="000000"/>
              </a:solidFill>
              <a:latin typeface="Trebuchet MS"/>
            </a:endParaRPr>
          </a:p>
        </p:txBody>
      </p:sp>
      <p:pic>
        <p:nvPicPr>
          <p:cNvPr id="542" name="Picture 5" descr="C:\Documents and Settings\carola\Local Settings\Temporary Internet Files\Content.IE5\1EBDN5AL\MC900293422[1].wmf"/>
          <p:cNvPicPr/>
          <p:nvPr/>
        </p:nvPicPr>
        <p:blipFill>
          <a:blip r:embed="rId1"/>
          <a:stretch/>
        </p:blipFill>
        <p:spPr>
          <a:xfrm>
            <a:off x="7723080" y="274680"/>
            <a:ext cx="685800" cy="1806480"/>
          </a:xfrm>
          <a:prstGeom prst="rect">
            <a:avLst/>
          </a:prstGeom>
          <a:ln w="0">
            <a:noFill/>
          </a:ln>
        </p:spPr>
      </p:pic>
      <p:pic>
        <p:nvPicPr>
          <p:cNvPr id="543" name="Picture 6" descr="C:\Documents and Settings\carola\Local Settings\Temporary Internet Files\Content.IE5\M8LJH8CM\MC900287370[1].wmf"/>
          <p:cNvPicPr/>
          <p:nvPr/>
        </p:nvPicPr>
        <p:blipFill>
          <a:blip r:embed="rId2"/>
          <a:stretch/>
        </p:blipFill>
        <p:spPr>
          <a:xfrm>
            <a:off x="3711600" y="5234040"/>
            <a:ext cx="1528560" cy="122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1028" descr=""/>
          <p:cNvPicPr/>
          <p:nvPr/>
        </p:nvPicPr>
        <p:blipFill>
          <a:blip r:embed="rId1"/>
          <a:stretch/>
        </p:blipFill>
        <p:spPr>
          <a:xfrm>
            <a:off x="112680" y="671400"/>
            <a:ext cx="8904240" cy="5386680"/>
          </a:xfrm>
          <a:prstGeom prst="rect">
            <a:avLst/>
          </a:prstGeom>
          <a:ln w="0">
            <a:noFill/>
          </a:ln>
        </p:spPr>
      </p:pic>
      <p:sp>
        <p:nvSpPr>
          <p:cNvPr id="545" name="Rectangle 1030"/>
          <p:cNvSpPr/>
          <p:nvPr/>
        </p:nvSpPr>
        <p:spPr>
          <a:xfrm>
            <a:off x="755640" y="6086880"/>
            <a:ext cx="820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1f497d"/>
                </a:solidFill>
                <a:latin typeface="Arial"/>
                <a:ea typeface="新細明體"/>
              </a:rPr>
              <a:t>Burke J Infection control-a problem for patient safety New Eng Journal of Medicine (February 13, 2003)</a:t>
            </a:r>
            <a:endParaRPr b="0" lang="en-US" sz="2000" spc="-1" strike="noStrike">
              <a:solidFill>
                <a:srgbClr val="000000"/>
              </a:solidFill>
              <a:latin typeface="Arial"/>
            </a:endParaRPr>
          </a:p>
        </p:txBody>
      </p:sp>
      <p:sp>
        <p:nvSpPr>
          <p:cNvPr id="546" name="PlaceHolder 1"/>
          <p:cNvSpPr>
            <a:spLocks noGrp="1"/>
          </p:cNvSpPr>
          <p:nvPr>
            <p:ph type="title"/>
          </p:nvPr>
        </p:nvSpPr>
        <p:spPr>
          <a:xfrm>
            <a:off x="468360" y="0"/>
            <a:ext cx="7850160" cy="668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Types of Infections</a:t>
            </a:r>
            <a:endParaRPr b="1"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90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Acknowledgments </a:t>
            </a:r>
            <a:endParaRPr b="1" lang="en-US" sz="3600" spc="-1" strike="noStrike">
              <a:solidFill>
                <a:srgbClr val="000000"/>
              </a:solidFill>
              <a:latin typeface="Trebuchet MS"/>
            </a:endParaRPr>
          </a:p>
        </p:txBody>
      </p:sp>
      <p:sp>
        <p:nvSpPr>
          <p:cNvPr id="503" name=""/>
          <p:cNvSpPr txBox="1"/>
          <p:nvPr/>
        </p:nvSpPr>
        <p:spPr>
          <a:xfrm>
            <a:off x="457200" y="1176120"/>
            <a:ext cx="8229600" cy="4949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orld Health Organiz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e World Health Organization is committed to promoting healthy outcomes for all of the world’s peopl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is lecture is primarily based on the World Health Organization Patient Safety Curriculum Guide retrieved from </a:t>
            </a:r>
            <a:r>
              <a:rPr b="0" lang="en-US" sz="2800" spc="-1" strike="noStrike" u="sng">
                <a:solidFill>
                  <a:srgbClr val="0000ff"/>
                </a:solidFill>
                <a:uFillTx/>
                <a:latin typeface="Trebuchet MS"/>
                <a:ea typeface="新細明體"/>
                <a:hlinkClick r:id="rId1"/>
              </a:rPr>
              <a:t>http://www.who.int/patientsafety/education/curriculum/en/index.html</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新細明體"/>
              </a:rPr>
              <a:t>Four Ways</a:t>
            </a:r>
            <a:r>
              <a:rPr b="1" lang="en-US" sz="4400" spc="-1" strike="noStrike">
                <a:solidFill>
                  <a:srgbClr val="ff0000"/>
                </a:solidFill>
                <a:latin typeface="Trebuchet MS"/>
                <a:ea typeface="新細明體"/>
              </a:rPr>
              <a:t> </a:t>
            </a:r>
            <a:r>
              <a:rPr b="1" lang="en-US" sz="4400" spc="-1" strike="noStrike">
                <a:solidFill>
                  <a:srgbClr val="000000"/>
                </a:solidFill>
                <a:latin typeface="Trebuchet MS"/>
                <a:ea typeface="新細明體"/>
              </a:rPr>
              <a:t>to Prevent HAI</a:t>
            </a:r>
            <a:endParaRPr b="1" lang="en-US" sz="4400" spc="-1" strike="noStrike">
              <a:solidFill>
                <a:srgbClr val="000000"/>
              </a:solidFill>
              <a:latin typeface="Trebuchet MS"/>
            </a:endParaRPr>
          </a:p>
        </p:txBody>
      </p:sp>
      <p:sp>
        <p:nvSpPr>
          <p:cNvPr id="548"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Maintain cleanliness of the hospital.</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sonal attention to handwashing before and after every contact with a patient or object.</a:t>
            </a:r>
            <a:r>
              <a:rPr b="0" lang="en-US" sz="2800" spc="-1" strike="noStrike">
                <a:solidFill>
                  <a:srgbClr val="ff0000"/>
                </a:solidFill>
                <a:latin typeface="Trebuchet MS"/>
                <a:ea typeface="微軟正黑體"/>
              </a:rPr>
              <a:t> </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personal protective equipment whenever indicated.</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and dispose of sharps safel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000000"/>
                </a:solidFill>
                <a:latin typeface="Trebuchet MS"/>
                <a:ea typeface="新細明體"/>
              </a:rPr>
              <a:t>Prevention in Hospitals and Clinics</a:t>
            </a:r>
            <a:endParaRPr b="1" lang="en-US" sz="4400" spc="-1" strike="noStrike">
              <a:solidFill>
                <a:srgbClr val="000000"/>
              </a:solidFill>
              <a:latin typeface="Trebuchet MS"/>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Studies show infections are minimized when hospitals/clinic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re visibly clea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increased levels of cleaning during outbreak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hypochlorite and detergents during outbrea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on through Handwashing</a:t>
            </a:r>
            <a:endParaRPr b="1" lang="en-US" sz="3600" spc="-1" strike="noStrike">
              <a:solidFill>
                <a:srgbClr val="000000"/>
              </a:solidFill>
              <a:latin typeface="Trebuchet MS"/>
            </a:endParaRPr>
          </a:p>
        </p:txBody>
      </p:sp>
      <p:sp>
        <p:nvSpPr>
          <p:cNvPr id="552" name=""/>
          <p:cNvSpPr txBox="1"/>
          <p:nvPr/>
        </p:nvSpPr>
        <p:spPr>
          <a:xfrm>
            <a:off x="228240" y="1143000"/>
            <a:ext cx="8458200" cy="542448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washing: the single most important intervention </a:t>
            </a:r>
            <a:r>
              <a:rPr b="1" i="1" lang="en-US" sz="2800" spc="-1" strike="noStrike">
                <a:solidFill>
                  <a:srgbClr val="000000"/>
                </a:solidFill>
                <a:latin typeface="Trebuchet MS"/>
                <a:ea typeface="新細明體"/>
              </a:rPr>
              <a:t>before</a:t>
            </a:r>
            <a:r>
              <a:rPr b="0" lang="en-US" sz="2800" spc="-1" strike="noStrike">
                <a:solidFill>
                  <a:srgbClr val="000000"/>
                </a:solidFill>
                <a:latin typeface="Trebuchet MS"/>
                <a:ea typeface="新細明體"/>
              </a:rPr>
              <a:t> and </a:t>
            </a:r>
            <a:r>
              <a:rPr b="1" i="1" lang="en-US" sz="2800" spc="-1" strike="noStrike">
                <a:solidFill>
                  <a:srgbClr val="000000"/>
                </a:solidFill>
                <a:latin typeface="Trebuchet MS"/>
                <a:ea typeface="新細明體"/>
              </a:rPr>
              <a:t>after</a:t>
            </a:r>
            <a:r>
              <a:rPr b="0" lang="en-US" sz="2800" spc="-1" strike="noStrike">
                <a:solidFill>
                  <a:srgbClr val="000000"/>
                </a:solidFill>
                <a:latin typeface="Trebuchet MS"/>
                <a:ea typeface="新細明體"/>
              </a:rPr>
              <a:t>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d knowledge and skill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How to clean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Rationale for choice of clean hand practic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echniques for hand hygien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tect hands from contaminant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mote adherence to hand hygiene guidelin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Five moments for hand hygiene</a:t>
            </a:r>
            <a:endParaRPr b="1" lang="en-US" sz="3600" spc="-1" strike="noStrike">
              <a:solidFill>
                <a:srgbClr val="000000"/>
              </a:solidFill>
              <a:latin typeface="Trebuchet MS"/>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an aseptic task</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body fluid exposure even if wearing glove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contact with patient surround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87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Your 5 moments for </a:t>
            </a:r>
            <a:r>
              <a:rPr b="1" lang="en-US" sz="3600" spc="-1" strike="noStrike">
                <a:solidFill>
                  <a:srgbClr val="ff3300"/>
                </a:solidFill>
                <a:latin typeface="Trebuchet MS"/>
                <a:ea typeface="新細明體"/>
              </a:rPr>
              <a:t>HAND HYGIENE</a:t>
            </a:r>
            <a:endParaRPr b="1" lang="en-US" sz="3600" spc="-1" strike="noStrike">
              <a:solidFill>
                <a:srgbClr val="000000"/>
              </a:solidFill>
              <a:latin typeface="Trebuchet MS"/>
            </a:endParaRPr>
          </a:p>
        </p:txBody>
      </p:sp>
      <p:pic>
        <p:nvPicPr>
          <p:cNvPr id="556" name="Picture 4" descr=""/>
          <p:cNvPicPr/>
          <p:nvPr/>
        </p:nvPicPr>
        <p:blipFill>
          <a:blip r:embed="rId1"/>
          <a:stretch/>
        </p:blipFill>
        <p:spPr>
          <a:xfrm>
            <a:off x="1054080" y="1152360"/>
            <a:ext cx="7155000" cy="549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How to Clean Hands</a:t>
            </a:r>
            <a:endParaRPr b="1" lang="en-US" sz="3600" spc="-1" strike="noStrike">
              <a:solidFill>
                <a:srgbClr val="000000"/>
              </a:solidFill>
              <a:latin typeface="Trebuchet MS"/>
            </a:endParaRPr>
          </a:p>
        </p:txBody>
      </p:sp>
      <p:sp>
        <p:nvSpPr>
          <p:cNvPr id="558" name=""/>
          <p:cNvSpPr txBox="1"/>
          <p:nvPr/>
        </p:nvSpPr>
        <p:spPr>
          <a:xfrm>
            <a:off x="457200" y="1731600"/>
            <a:ext cx="8229600" cy="45277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move all wrist and hand jewelr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Cover cuts and abrasions with waterproof dress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eep fingernails short, clean, and free from nail polish.</a:t>
            </a:r>
            <a:endParaRPr b="0" lang="en-US" sz="2800" spc="-1" strike="noStrike">
              <a:solidFill>
                <a:srgbClr val="000000"/>
              </a:solidFill>
              <a:latin typeface="Trebuchet MS"/>
            </a:endParaRPr>
          </a:p>
        </p:txBody>
      </p:sp>
      <p:pic>
        <p:nvPicPr>
          <p:cNvPr id="559" name="Picture 8" descr="C:\Documents and Settings\carola\Local Settings\Temporary Internet Files\Content.IE5\M8LJH8CM\MP900433075[1].jpg"/>
          <p:cNvPicPr/>
          <p:nvPr/>
        </p:nvPicPr>
        <p:blipFill>
          <a:blip r:embed="rId1"/>
          <a:stretch/>
        </p:blipFill>
        <p:spPr>
          <a:xfrm>
            <a:off x="3343320" y="3995640"/>
            <a:ext cx="2531880" cy="21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Effective Handwashing Technique</a:t>
            </a:r>
            <a:endParaRPr b="1" lang="en-US" sz="3600" spc="-1" strike="noStrike">
              <a:solidFill>
                <a:srgbClr val="000000"/>
              </a:solidFill>
              <a:latin typeface="Trebuchet MS"/>
            </a:endParaRPr>
          </a:p>
        </p:txBody>
      </p:sp>
      <p:sp>
        <p:nvSpPr>
          <p:cNvPr id="561" name=""/>
          <p:cNvSpPr txBox="1"/>
          <p:nvPr/>
        </p:nvSpPr>
        <p:spPr>
          <a:xfrm>
            <a:off x="457200" y="1600200"/>
            <a:ext cx="8229600" cy="490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et hands under tepid running water</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soap or antimicrobial prepar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olution must have contact with whole surface area of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vigorous rubbing of hands for 10–15 second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especially tips of fingers, thumbs and areas between finge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inse completel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Dry hands with good quality paper towe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How to use waterless handrub</a:t>
            </a:r>
            <a:endParaRPr b="1" lang="en-US" sz="3600" spc="-1" strike="noStrike">
              <a:solidFill>
                <a:srgbClr val="000000"/>
              </a:solidFill>
              <a:latin typeface="Trebuchet MS"/>
            </a:endParaRPr>
          </a:p>
        </p:txBody>
      </p:sp>
      <p:sp>
        <p:nvSpPr>
          <p:cNvPr id="563" name=""/>
          <p:cNvSpPr txBox="1"/>
          <p:nvPr/>
        </p:nvSpPr>
        <p:spPr>
          <a:xfrm>
            <a:off x="457200" y="1417680"/>
            <a:ext cx="8229600" cy="5062320"/>
          </a:xfrm>
          <a:prstGeom prst="rect">
            <a:avLst/>
          </a:prstGeom>
          <a:noFill/>
          <a:ln w="0">
            <a:noFill/>
          </a:ln>
        </p:spPr>
        <p:txBody>
          <a:bodyPr anchor="t">
            <a:normAutofit/>
          </a:bodyPr>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pply a palmful of product in cupped han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hands palm to palm </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ight palm over left hand with interlaced finger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Palm to palm with fingers interlac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Backs of fingers to opposing palms with fingers intelock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between thumb and forefinger</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otational rubbing, backwards and forwards with clasped fingers of right hand in left palm and vice versa</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Once dry your hands are saf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sources for Correct Handwashing Procedures</a:t>
            </a:r>
            <a:endParaRPr b="1" lang="en-US" sz="3600" spc="-1" strike="noStrike">
              <a:solidFill>
                <a:srgbClr val="000000"/>
              </a:solidFill>
              <a:latin typeface="Trebuchet MS"/>
            </a:endParaRPr>
          </a:p>
        </p:txBody>
      </p:sp>
      <p:sp>
        <p:nvSpPr>
          <p:cNvPr id="565" name=""/>
          <p:cNvSpPr txBox="1"/>
          <p:nvPr/>
        </p:nvSpPr>
        <p:spPr>
          <a:xfrm>
            <a:off x="457200" y="1163520"/>
            <a:ext cx="8229600" cy="52992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Your Five Moments for Hand Hygiene</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http://www.who.int/gpsc/tools/5momentsHandHygiene_A3.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ow to handrub? How to handwash?</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http://www.who.int/gpsc/tools/GPSC-HandRub-Wash.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16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ersonal Protective Equipment</a:t>
            </a:r>
            <a:endParaRPr b="1" lang="en-US" sz="3600" spc="-1" strike="noStrike">
              <a:solidFill>
                <a:srgbClr val="000000"/>
              </a:solidFill>
              <a:latin typeface="Trebuchet MS"/>
            </a:endParaRPr>
          </a:p>
        </p:txBody>
      </p:sp>
      <p:sp>
        <p:nvSpPr>
          <p:cNvPr id="567" name=""/>
          <p:cNvSpPr txBox="1"/>
          <p:nvPr/>
        </p:nvSpPr>
        <p:spPr>
          <a:xfrm>
            <a:off x="457200" y="1890360"/>
            <a:ext cx="8229600" cy="42354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aprons, gowns, eye protection, and face ma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ealth care workers should wear a face mask, eye protection and a gown if there is the potential for blood or other bodily fluids to splash.</a:t>
            </a:r>
            <a:endParaRPr b="0" lang="en-US" sz="2800" spc="-1" strike="noStrike">
              <a:solidFill>
                <a:srgbClr val="000000"/>
              </a:solidFill>
              <a:latin typeface="Trebuchet MS"/>
            </a:endParaRPr>
          </a:p>
        </p:txBody>
      </p:sp>
      <p:pic>
        <p:nvPicPr>
          <p:cNvPr id="568" name="Picture 6" descr="C:\Documents and Settings\carola\Local Settings\Temporary Internet Files\Content.IE5\1EBDN5AL\MC900363988[1].wmf"/>
          <p:cNvPicPr/>
          <p:nvPr/>
        </p:nvPicPr>
        <p:blipFill>
          <a:blip r:embed="rId1"/>
          <a:stretch/>
        </p:blipFill>
        <p:spPr>
          <a:xfrm>
            <a:off x="6399360" y="4449600"/>
            <a:ext cx="183168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236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Learning Objectives</a:t>
            </a:r>
            <a:endParaRPr b="1" lang="en-US" sz="3600" spc="-1" strike="noStrike">
              <a:solidFill>
                <a:srgbClr val="000000"/>
              </a:solidFill>
              <a:latin typeface="Trebuchet MS"/>
            </a:endParaRPr>
          </a:p>
        </p:txBody>
      </p:sp>
      <p:sp>
        <p:nvSpPr>
          <p:cNvPr id="505" name=""/>
          <p:cNvSpPr txBox="1"/>
          <p:nvPr/>
        </p:nvSpPr>
        <p:spPr>
          <a:xfrm>
            <a:off x="457200" y="1510920"/>
            <a:ext cx="8229600" cy="4971960"/>
          </a:xfrm>
          <a:prstGeom prst="rect">
            <a:avLst/>
          </a:prstGeom>
          <a:noFill/>
          <a:ln w="0">
            <a:noFill/>
          </a:ln>
        </p:spPr>
        <p:txBody>
          <a:bodyPr anchor="t">
            <a:normAutofit/>
          </a:bodyPr>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ecognize patient safety as an important nursing responsibility in global health care system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pply required knowledge in preventing and/or minimizing infection. </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form appropriate behaviors required to prevent health care associated infection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Demonstrate required competence to provide patients with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Personal protective equipment 2</a:t>
            </a:r>
            <a:endParaRPr b="1" lang="en-US" sz="3600" spc="-1" strike="noStrike">
              <a:solidFill>
                <a:srgbClr val="000000"/>
              </a:solidFill>
              <a:latin typeface="Trebuchet MS"/>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Masks should be wor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if an airborne infection is suspected or confirmed</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 </a:t>
            </a:r>
            <a:r>
              <a:rPr b="0" lang="en-US" sz="2800" spc="-1" strike="noStrike">
                <a:solidFill>
                  <a:srgbClr val="000000"/>
                </a:solidFill>
                <a:latin typeface="Trebuchet MS"/>
                <a:ea typeface="新細明體"/>
              </a:rPr>
              <a:t>to protect an immune compromised patien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71" name="Picture 3" descr="C:\Documents and Settings\carola\Local Settings\Temporary Internet Files\Content.IE5\S38OC8DM\MC900332706[1].wmf"/>
          <p:cNvPicPr/>
          <p:nvPr/>
        </p:nvPicPr>
        <p:blipFill>
          <a:blip r:embed="rId1"/>
          <a:stretch/>
        </p:blipFill>
        <p:spPr>
          <a:xfrm>
            <a:off x="6051600" y="3968640"/>
            <a:ext cx="1463760" cy="18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ves</a:t>
            </a:r>
            <a:endParaRPr b="1" lang="en-US" sz="3600" spc="-1" strike="noStrike">
              <a:solidFill>
                <a:srgbClr val="000000"/>
              </a:solidFill>
              <a:latin typeface="Trebuchet MS"/>
            </a:endParaRPr>
          </a:p>
        </p:txBody>
      </p:sp>
      <p:sp>
        <p:nvSpPr>
          <p:cNvPr id="5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must be worn for:</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invasive procedur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sterile sit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non-intact skin or mucous membran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activities assessed as having a risk of exposure to blood, bodily fluids, secretions and excretions, and handling sharps or contaminated instruments.</a:t>
            </a:r>
            <a:endParaRPr b="0" lang="en-US" sz="2400" spc="-1" strike="noStrike">
              <a:solidFill>
                <a:srgbClr val="000000"/>
              </a:solidFill>
              <a:latin typeface="Trebuchet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s should be washed before and after gloving</a:t>
            </a:r>
            <a:endParaRPr b="0" lang="en-US" sz="2800" spc="-1" strike="noStrike">
              <a:solidFill>
                <a:srgbClr val="000000"/>
              </a:solidFill>
              <a:latin typeface="Trebuchet MS"/>
            </a:endParaRPr>
          </a:p>
        </p:txBody>
      </p:sp>
      <p:pic>
        <p:nvPicPr>
          <p:cNvPr id="574" name="Picture 4" descr="C:\Documents and Settings\carola\Local Settings\Temporary Internet Files\Content.IE5\M8LJH8CM\MC900371340[1].wmf"/>
          <p:cNvPicPr/>
          <p:nvPr/>
        </p:nvPicPr>
        <p:blipFill>
          <a:blip r:embed="rId1"/>
          <a:stretch/>
        </p:blipFill>
        <p:spPr>
          <a:xfrm>
            <a:off x="7058160" y="5197320"/>
            <a:ext cx="1628640" cy="1311480"/>
          </a:xfrm>
          <a:prstGeom prst="rect">
            <a:avLst/>
          </a:prstGeom>
          <a:ln w="0">
            <a:noFill/>
          </a:ln>
        </p:spPr>
      </p:pic>
      <p:pic>
        <p:nvPicPr>
          <p:cNvPr id="575" name="Picture 7" descr="C:\Documents and Settings\carola\Local Settings\Temporary Internet Files\Content.IE5\S38OC8DM\MC900018421[1].wmf"/>
          <p:cNvPicPr/>
          <p:nvPr/>
        </p:nvPicPr>
        <p:blipFill>
          <a:blip r:embed="rId2"/>
          <a:stretch/>
        </p:blipFill>
        <p:spPr>
          <a:xfrm>
            <a:off x="457200" y="274680"/>
            <a:ext cx="1879560" cy="126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Safe Use and Disposal of Sharps</a:t>
            </a:r>
            <a:endParaRPr b="1" lang="en-US" sz="3600" spc="-1" strike="noStrike">
              <a:solidFill>
                <a:srgbClr val="000000"/>
              </a:solidFill>
              <a:latin typeface="Trebuchet MS"/>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Keep handling to a minimum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recap needles; bend or break after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iscard each needle into a sharps container at the point of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overload a bin if it is ful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leave a sharp bin in the reach of children</a:t>
            </a:r>
            <a:endParaRPr b="0" lang="en-US" sz="2800" spc="-1" strike="noStrike">
              <a:solidFill>
                <a:srgbClr val="000000"/>
              </a:solidFill>
              <a:latin typeface="Trebuchet MS"/>
            </a:endParaRPr>
          </a:p>
        </p:txBody>
      </p:sp>
      <p:pic>
        <p:nvPicPr>
          <p:cNvPr id="578" name="Picture 4" descr="C:\Documents and Settings\carola\Local Settings\Temporary Internet Files\Content.IE5\SC34GKUH\MC900292556[1].wmf"/>
          <p:cNvPicPr/>
          <p:nvPr/>
        </p:nvPicPr>
        <p:blipFill>
          <a:blip r:embed="rId1"/>
          <a:stretch/>
        </p:blipFill>
        <p:spPr>
          <a:xfrm>
            <a:off x="3071880" y="5241960"/>
            <a:ext cx="1717560" cy="83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Performance</a:t>
            </a:r>
            <a:endParaRPr b="1" lang="en-US" sz="3600" spc="-1" strike="noStrike">
              <a:solidFill>
                <a:srgbClr val="000000"/>
              </a:solidFill>
              <a:latin typeface="Trebuchet MS"/>
            </a:endParaRPr>
          </a:p>
        </p:txBody>
      </p:sp>
      <p:sp>
        <p:nvSpPr>
          <p:cNvPr id="5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Nursing students need to:</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a:t>
            </a:r>
            <a:r>
              <a:rPr b="0" lang="en-GB" sz="2800" spc="-1" strike="noStrike">
                <a:solidFill>
                  <a:srgbClr val="000000"/>
                </a:solidFill>
                <a:latin typeface="Trebuchet MS"/>
                <a:ea typeface="新細明體"/>
              </a:rPr>
              <a:t>pply universal precaution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a:t>
            </a:r>
            <a:r>
              <a:rPr b="0" lang="en-GB" sz="2800" spc="-1" strike="noStrike">
                <a:solidFill>
                  <a:srgbClr val="000000"/>
                </a:solidFill>
                <a:latin typeface="Trebuchet MS"/>
                <a:ea typeface="新細明體"/>
              </a:rPr>
              <a:t>e immunized against Hepatitis B</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a:t>
            </a:r>
            <a:r>
              <a:rPr b="0" lang="en-GB" sz="2800" spc="-1" strike="noStrike">
                <a:solidFill>
                  <a:srgbClr val="000000"/>
                </a:solidFill>
                <a:latin typeface="Trebuchet MS"/>
                <a:ea typeface="新細明體"/>
              </a:rPr>
              <a:t>se personal protection method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a:t>
            </a:r>
            <a:r>
              <a:rPr b="0" lang="en-GB" sz="2800" spc="-1" strike="noStrike">
                <a:solidFill>
                  <a:srgbClr val="000000"/>
                </a:solidFill>
                <a:latin typeface="Trebuchet MS"/>
                <a:ea typeface="新細明體"/>
              </a:rPr>
              <a:t>now what to do if exposed</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a:t>
            </a:r>
            <a:r>
              <a:rPr b="0" lang="en-GB" sz="2800" spc="-1" strike="noStrike">
                <a:solidFill>
                  <a:srgbClr val="000000"/>
                </a:solidFill>
                <a:latin typeface="Trebuchet MS"/>
                <a:ea typeface="新細明體"/>
              </a:rPr>
              <a:t>ncourage others to use universal precautio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1</a:t>
            </a:r>
            <a:endParaRPr b="1" lang="en-US" sz="3600" spc="-1" strike="noStrike">
              <a:solidFill>
                <a:srgbClr val="000000"/>
              </a:solidFill>
              <a:latin typeface="Trebuchet MS"/>
            </a:endParaRPr>
          </a:p>
        </p:txBody>
      </p:sp>
      <p:sp>
        <p:nvSpPr>
          <p:cNvPr id="582"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Before contact with each and every patien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before touching a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before an aseptic task </a:t>
            </a: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2</a:t>
            </a:r>
            <a:endParaRPr b="1" lang="en-US" sz="3600" spc="-1" strike="noStrike">
              <a:solidFill>
                <a:srgbClr val="000000"/>
              </a:solidFill>
              <a:latin typeface="Trebuchet MS"/>
            </a:endParaRPr>
          </a:p>
        </p:txBody>
      </p:sp>
      <p:sp>
        <p:nvSpPr>
          <p:cNvPr id="584"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After contact with each and every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ny risk of exposure to body fluid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ctual patient contac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after contact with patient surrounding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Encourage Others to Participate in Infection Control</a:t>
            </a:r>
            <a:endParaRPr b="1" lang="en-US" sz="3600" spc="-1" strike="noStrike">
              <a:solidFill>
                <a:srgbClr val="000000"/>
              </a:solidFill>
              <a:latin typeface="Trebuchet MS"/>
            </a:endParaRPr>
          </a:p>
        </p:txBody>
      </p:sp>
      <p:sp>
        <p:nvSpPr>
          <p:cNvPr id="586" name=""/>
          <p:cNvSpPr txBox="1"/>
          <p:nvPr/>
        </p:nvSpPr>
        <p:spPr>
          <a:xfrm>
            <a:off x="457200" y="2077560"/>
            <a:ext cx="8229600" cy="40482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Students may routinely observe staff who: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apply inadequate technique in handwashing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fail to wash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routinely violate correct infection control procedur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Summary-1</a:t>
            </a:r>
            <a:endParaRPr b="1" lang="en-US" sz="3600" spc="-1" strike="noStrike">
              <a:solidFill>
                <a:srgbClr val="000000"/>
              </a:solidFill>
              <a:latin typeface="Trebuchet MS"/>
            </a:endParaRPr>
          </a:p>
        </p:txBody>
      </p:sp>
      <p:sp>
        <p:nvSpPr>
          <p:cNvPr id="5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Know the main guidelines in each of the clinical environments you are assign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Accept responsibility for minimizing opportunities for infection transmission. </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Let staff know if supplies are inadequate or deplet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Summary-2</a:t>
            </a:r>
            <a:endParaRPr b="1" lang="en-US" sz="3600" spc="-1" strike="noStrike">
              <a:solidFill>
                <a:srgbClr val="000000"/>
              </a:solidFill>
              <a:latin typeface="Trebuchet MS"/>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ducate patients and families/visitors about clean hands and infection transmission.</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nsure patients on precautions have same standard of care as others:</a:t>
            </a:r>
            <a:endParaRPr b="0" lang="en-US" sz="32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frequency of entering the room</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monitoring vital sig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ferences </a:t>
            </a:r>
            <a:endParaRPr b="1" lang="en-US" sz="3600" spc="-1" strike="noStrike">
              <a:solidFill>
                <a:srgbClr val="000000"/>
              </a:solidFill>
              <a:latin typeface="Trebuchet MS"/>
            </a:endParaRPr>
          </a:p>
        </p:txBody>
      </p:sp>
      <p:sp>
        <p:nvSpPr>
          <p:cNvPr id="592" name=""/>
          <p:cNvSpPr txBox="1"/>
          <p:nvPr/>
        </p:nvSpPr>
        <p:spPr>
          <a:xfrm>
            <a:off x="457200" y="1417320"/>
            <a:ext cx="8229600" cy="4708440"/>
          </a:xfrm>
          <a:prstGeom prst="rect">
            <a:avLst/>
          </a:prstGeom>
          <a:noFill/>
          <a:ln w="0">
            <a:noFill/>
          </a:ln>
        </p:spPr>
        <p:txBody>
          <a:bodyPr anchor="t">
            <a:normAutofit/>
          </a:bodyPr>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WHO Patient Safety Curriculum Guide for Medical Schools. </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1: What is patient safety?</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9: Minimizing infection through improved infection control.</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Emanuel, L., Berwick, D., Conway, J., Combes, J., Hatlie, M., Leape, L., Reason, J., Schyve, P., Vincent, C., &amp; Walton, M. (2008). What exactly is patient safety? </a:t>
            </a:r>
            <a:r>
              <a:rPr b="0" i="1" lang="en-US" sz="2000" spc="-1" strike="noStrike">
                <a:solidFill>
                  <a:srgbClr val="000000"/>
                </a:solidFill>
                <a:latin typeface="Trebuchet MS"/>
                <a:ea typeface="新細明體"/>
              </a:rPr>
              <a:t>Advances in Patient Safety</a:t>
            </a:r>
            <a:r>
              <a:rPr b="0" lang="en-US" sz="2000" spc="-1" strike="noStrike">
                <a:solidFill>
                  <a:srgbClr val="000000"/>
                </a:solidFill>
                <a:latin typeface="Trebuchet MS"/>
                <a:ea typeface="新細明體"/>
              </a:rPr>
              <a:t>, Vol. 1: Assessment. Retrieved from </a:t>
            </a:r>
            <a:r>
              <a:rPr b="0" lang="en-US" sz="2000" spc="-1" strike="noStrike" u="sng">
                <a:solidFill>
                  <a:srgbClr val="0000ff"/>
                </a:solidFill>
                <a:uFillTx/>
                <a:latin typeface="Trebuchet MS"/>
                <a:ea typeface="新細明體"/>
                <a:hlinkClick r:id="rId1"/>
              </a:rPr>
              <a:t>http://www.ncbi.nlm.nih.gov/bookshelf/br.fcgi?book=aps2v1&amp;part=advances-emanuel-berwick_110</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Burke, J. P. (2003). Infection control — A problem for patient safety. </a:t>
            </a:r>
            <a:r>
              <a:rPr b="0" i="1" lang="en-US" sz="2000" spc="-1" strike="noStrike">
                <a:solidFill>
                  <a:srgbClr val="000000"/>
                </a:solidFill>
                <a:latin typeface="Trebuchet MS"/>
                <a:ea typeface="新細明體"/>
              </a:rPr>
              <a:t>The New England Journal of Medicine, 348</a:t>
            </a:r>
            <a:r>
              <a:rPr b="0" lang="en-US" sz="2000" spc="-1" strike="noStrike">
                <a:solidFill>
                  <a:srgbClr val="000000"/>
                </a:solidFill>
                <a:latin typeface="Trebuchet MS"/>
                <a:ea typeface="新細明體"/>
              </a:rPr>
              <a:t>, p. 651-656.</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Definition</a:t>
            </a:r>
            <a:endParaRPr b="1" lang="en-US" sz="3600" spc="-1" strike="noStrike">
              <a:solidFill>
                <a:srgbClr val="000000"/>
              </a:solidFill>
              <a:latin typeface="Trebuchet MS"/>
            </a:endParaRPr>
          </a:p>
        </p:txBody>
      </p:sp>
      <p:sp>
        <p:nvSpPr>
          <p:cNvPr id="507" name=""/>
          <p:cNvSpPr txBox="1"/>
          <p:nvPr/>
        </p:nvSpPr>
        <p:spPr>
          <a:xfrm>
            <a:off x="457200" y="1808280"/>
            <a:ext cx="8229600" cy="463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atient safety is a discipline in the health care sector that applies safety science methods toward the goal of achieving a trustworthy system of health care delivery. Patient safety is also an attribute of health care systems; it minimizes the incidence and impact of, and maximizes recovery from, adverse events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 Background</a:t>
            </a:r>
            <a:endParaRPr b="1" lang="en-US" sz="3600" spc="-1" strike="noStrike">
              <a:solidFill>
                <a:srgbClr val="000000"/>
              </a:solidFill>
              <a:latin typeface="Trebuchet MS"/>
            </a:endParaRPr>
          </a:p>
        </p:txBody>
      </p:sp>
      <p:sp>
        <p:nvSpPr>
          <p:cNvPr id="509" name=""/>
          <p:cNvSpPr txBox="1"/>
          <p:nvPr/>
        </p:nvSpPr>
        <p:spPr>
          <a:xfrm>
            <a:off x="457200" y="1995480"/>
            <a:ext cx="8229600" cy="4130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dverse medical events are widespread and preventable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Much unnecessary harm is caused by health-care errors and system failure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1: Hospital acquired infections from poor hand-washing.</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2: Complications from administering the wrong medic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67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Goal</a:t>
            </a:r>
            <a:endParaRPr b="1" lang="en-US" sz="3600" spc="-1" strike="noStrike">
              <a:solidFill>
                <a:srgbClr val="000000"/>
              </a:solidFill>
              <a:latin typeface="Trebuchet MS"/>
            </a:endParaRPr>
          </a:p>
        </p:txBody>
      </p:sp>
      <p:sp>
        <p:nvSpPr>
          <p:cNvPr id="511" name=""/>
          <p:cNvSpPr txBox="1"/>
          <p:nvPr/>
        </p:nvSpPr>
        <p:spPr>
          <a:xfrm>
            <a:off x="457200" y="1953720"/>
            <a:ext cx="8229600" cy="41720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event and/or minimize the adverse events and eliminate preventable harm in health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ll health care professionals including nurses are responsible for ensuring patient safe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600" cy="1334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endParaRPr b="1" lang="en-US" sz="3600" spc="-1" strike="noStrike">
              <a:solidFill>
                <a:srgbClr val="000000"/>
              </a:solidFill>
              <a:latin typeface="Trebuchet MS"/>
            </a:endParaRPr>
          </a:p>
        </p:txBody>
      </p:sp>
      <p:sp>
        <p:nvSpPr>
          <p:cNvPr id="513" name=""/>
          <p:cNvSpPr txBox="1"/>
          <p:nvPr/>
        </p:nvSpPr>
        <p:spPr>
          <a:xfrm>
            <a:off x="457200" y="1609560"/>
            <a:ext cx="8229600" cy="45165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rebuchet MS"/>
                <a:ea typeface="微軟正黑體"/>
              </a:rPr>
              <a:t>This unit of patient safety will focus on Infection Control</a:t>
            </a:r>
            <a:endParaRPr b="0" lang="en-US" sz="4000" spc="-1" strike="noStrike">
              <a:solidFill>
                <a:srgbClr val="000000"/>
              </a:solidFill>
              <a:latin typeface="Trebuchet MS"/>
            </a:endParaRPr>
          </a:p>
          <a:p>
            <a:pPr marL="343080" indent="-343080">
              <a:spcBef>
                <a:spcPts val="10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p:txBody>
      </p:sp>
      <p:pic>
        <p:nvPicPr>
          <p:cNvPr id="514" name="Picture 5" descr="C:\Documents and Settings\carola\Local Settings\Temporary Internet Files\Content.IE5\S38OC8DM\MC900441803[1].png"/>
          <p:cNvPicPr/>
          <p:nvPr/>
        </p:nvPicPr>
        <p:blipFill>
          <a:blip r:embed="rId1"/>
          <a:stretch/>
        </p:blipFill>
        <p:spPr>
          <a:xfrm>
            <a:off x="6350040" y="38354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bal Infection Problems</a:t>
            </a:r>
            <a:endParaRPr b="1" lang="en-US" sz="3600" spc="-1" strike="noStrike">
              <a:solidFill>
                <a:srgbClr val="000000"/>
              </a:solidFill>
              <a:latin typeface="Trebuchet MS"/>
            </a:endParaRPr>
          </a:p>
        </p:txBody>
      </p:sp>
      <p:sp>
        <p:nvSpPr>
          <p:cNvPr id="516" name=""/>
          <p:cNvSpPr txBox="1"/>
          <p:nvPr/>
        </p:nvSpPr>
        <p:spPr>
          <a:xfrm>
            <a:off x="457200" y="1417680"/>
            <a:ext cx="8229600" cy="5108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 (2005),</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On average, 8.7% of hospital patients suffer health care-associated infections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In developed countries: 5-10%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 developing countrie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isk of HAI: 2-20 times higher</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HAI may affect more than 25% of patient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t any one time, over 1.4 million people worldwide suffer from infections acquired while in hospita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Health Care-Associated Infections (HAI)</a:t>
            </a:r>
            <a:endParaRPr b="1" lang="en-US" sz="3600" spc="-1" strike="noStrike">
              <a:solidFill>
                <a:srgbClr val="000000"/>
              </a:solidFill>
              <a:latin typeface="Trebuchet MS"/>
            </a:endParaRPr>
          </a:p>
        </p:txBody>
      </p:sp>
      <p:sp>
        <p:nvSpPr>
          <p:cNvPr id="518" name=""/>
          <p:cNvSpPr txBox="1"/>
          <p:nvPr/>
        </p:nvSpPr>
        <p:spPr>
          <a:xfrm>
            <a:off x="457200" y="1600200"/>
            <a:ext cx="8229600" cy="48420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also called “</a:t>
            </a:r>
            <a:r>
              <a:rPr b="0" lang="en-US" sz="2800" spc="-1" strike="noStrike">
                <a:solidFill>
                  <a:srgbClr val="000000"/>
                </a:solidFill>
                <a:latin typeface="Trebuchet MS"/>
                <a:ea typeface="新細明體"/>
              </a:rPr>
              <a:t>nosocomial</a:t>
            </a:r>
            <a:r>
              <a:rPr b="0" lang="en-US" sz="2800" spc="-1" strike="noStrike">
                <a:solidFill>
                  <a:srgbClr val="000000"/>
                </a:solidFill>
                <a:latin typeface="Trebuchet MS"/>
                <a:ea typeface="微軟正黑體"/>
              </a:rPr>
              <a: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defined a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acquired in hospital by a patient who was admitted for a reason other than that infectio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occurring in a patient in a hospital or other health-care facility in whom the infection was not present or incubating at the time of admissio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21:27:10Z</dcterms:created>
  <dc:creator>Yi-Hsiu Liu, Carol Allen</dc:creator>
  <dc:description/>
  <dc:language>en-US</dc:language>
  <cp:lastModifiedBy>Eugene</cp:lastModifiedBy>
  <dcterms:modified xsi:type="dcterms:W3CDTF">2010-10-09T06:13:06Z</dcterms:modified>
  <cp:revision>222</cp:revision>
  <dc:subject/>
  <dc:title>Patient Safety 1:Infection Control</dc:title>
</cp:coreProperties>
</file>