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11.png" ContentType="image/png"/>
  <Override PartName="/ppt/media/image10.wmf" ContentType="image/x-wmf"/>
  <Override PartName="/ppt/media/image2.png" ContentType="image/png"/>
  <Override PartName="/ppt/media/image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png" ContentType="image/png"/>
  <Override PartName="/ppt/media/image4.wmf" ContentType="image/x-wmf"/>
  <Override PartName="/ppt/media/image6.jpeg" ContentType="image/jpeg"/>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000000"/>
                </a:solidFill>
                <a:latin typeface="Calibri"/>
                <a:ea typeface="新細明體"/>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move the slide</a:t>
            </a:r>
            <a:endParaRPr b="1" lang="en-US" sz="3600" spc="-1" strike="noStrike">
              <a:solidFill>
                <a:srgbClr val="000000"/>
              </a:solidFill>
              <a:latin typeface="Trebuchet MS"/>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000000"/>
                </a:solidFill>
                <a:latin typeface="Calibri"/>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14760-E796-41AA-B84C-6F60522C76A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yhliu@wsu.edu"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Yi-Hsiu Liu   RN, M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rebuchet MS"/>
                <a:ea typeface="新細明體"/>
                <a:hlinkClick r:id="rId1"/>
              </a:rPr>
              <a:t>yhliu@wsu.edu</a:t>
            </a:r>
            <a:endParaRPr b="0" lang="en-US" sz="1200" spc="-1" strike="noStrike">
              <a:solidFill>
                <a:srgbClr val="000000"/>
              </a:solidFill>
              <a:latin typeface="Calibri"/>
            </a:endParaRPr>
          </a:p>
          <a:p>
            <a:pPr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Carol Allen  Ph 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ea typeface="新細明體"/>
              </a:rPr>
              <a:t>carola@wsu.edu</a:t>
            </a:r>
            <a:endParaRPr b="0" lang="en-US" sz="1200" spc="-1" strike="noStrike">
              <a:solidFill>
                <a:srgbClr val="000000"/>
              </a:solidFill>
              <a:latin typeface="Calibri"/>
            </a:endParaRPr>
          </a:p>
        </p:txBody>
      </p:sp>
      <p:sp>
        <p:nvSpPr>
          <p:cNvPr id="59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0CFE5-8D86-425C-BF8D-0CC2AC6E0F7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the United States, 1 out of every 136 hospital patients becomes seriously ill as a result of acquiring an infection in hospital; this is equivalent to two million cases and about 80 000 deaths a year.</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England, more than 100 000 cases of health care-associated infection lead to over 5000 deaths directly attributed to infection each year.</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Mexico, an estimated 450 000 cases of health care-associated infection cause 32 deaths per 100 000 inhabitants each year.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ealth care-associated infections in England are estimated to cost £1 billion a year. In the United States, the estimate is between US$ 4.5 billion and US$ 5.7 billion per year. In Mexico, the annual cost approaches US$ 1.5 bill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FDE92-73B4-49C7-B578-74933F5ECC07}"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A1631-52D0-4583-9120-B18AEDE0159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What students need to know (knowledge requir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know the extent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know the main causes and types of infections.</a:t>
            </a:r>
            <a:endParaRPr b="0" lang="en-US" sz="1200" spc="-1" strike="noStrike">
              <a:solidFill>
                <a:srgbClr val="000000"/>
              </a:solidFill>
              <a:latin typeface="Calibri"/>
            </a:endParaRPr>
          </a:p>
        </p:txBody>
      </p:sp>
      <p:sp>
        <p:nvSpPr>
          <p:cNvPr id="62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F7B36-7C64-4475-A265-8BD6D94152B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63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34A9E-94FE-481A-8625-414AB909036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Universal precautions: </a:t>
            </a:r>
            <a:r>
              <a:rPr b="0" lang="en-US" sz="1200" spc="-1" strike="noStrike">
                <a:solidFill>
                  <a:srgbClr val="000000"/>
                </a:solidFill>
                <a:latin typeface="Calibri"/>
              </a:rPr>
              <a:t>"Universal precautions," as defined by CDC, are a set of precautions designed to prevent transmission of human immunodeficiency virus (HIV), hepatitis B virus (HBV), and other bloodborne pathogens when providing first aid or health care. Under universal precautions, blood and certain body fluids of all patients are considered potentially infectious for HIV, HBV and other bloodborne pathogens.   Retrieved from CDC web site http://www.cdc.gov/ncidod/dhqp/bp_universal_precautions.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endParaRPr b="0" lang="en-US" sz="1200" spc="-1" strike="noStrike">
              <a:solidFill>
                <a:srgbClr val="000000"/>
              </a:solidFill>
              <a:latin typeface="Calibri"/>
            </a:endParaRPr>
          </a:p>
        </p:txBody>
      </p:sp>
      <p:sp>
        <p:nvSpPr>
          <p:cNvPr id="63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83CE3-E1BC-4E1E-A827-DB478BFB31F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C50C0-12B3-4CB9-8F17-7E7AC5E1BF1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fections are caused by bacteria, fungi or viruses entering the body through one or more of the following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erson-person via hands of health-care providers patients and vis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ersonal equipment (e.g. stethoscopes, computers) and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environmental conta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airborne trans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carriers on the hospital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rare common-source outbrea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pidemiological evidence suggests that multidrug-resistant organisms are carried from person-to-person by health-care profess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Carriers are individuals who harbor disease organisms in their body without visible symptoms and may pass the infection to another person.   It is possible to carry an organism without being aware of it for example, Typhoid Mary a woman who carried the typhoid bacillus and unknowingly started an epidemic in the US in the 1880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Outbreak</a:t>
            </a:r>
            <a:r>
              <a:rPr b="0" lang="en-US" sz="1200" spc="-1" strike="noStrike">
                <a:solidFill>
                  <a:srgbClr val="000000"/>
                </a:solidFill>
                <a:latin typeface="Calibri"/>
                <a:ea typeface="新細明體"/>
              </a:rPr>
              <a:t> is a term used in epidemiology to describe an occurrence of disease greater than would otherwise be expected in a particular time and place. It may be small and localized group or impact upon thousands of people across an entire continent. Two linked cases of a rare infectious disease may be sufficient to constitute an outbreak. Outbreaks may also refer to epidemics, which affect a region in a country or a group of countries, or pandemics, which describe global disease outbrea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Common source outbreak</a:t>
            </a:r>
            <a:r>
              <a:rPr b="0" lang="en-US" sz="1200" spc="-1" strike="noStrike">
                <a:solidFill>
                  <a:srgbClr val="000000"/>
                </a:solidFill>
                <a:latin typeface="Calibri"/>
                <a:ea typeface="新細明體"/>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ome diseases arise from a single definable source, such as a common water supp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basic idea is that </a:t>
            </a:r>
            <a:r>
              <a:rPr b="0" i="1" lang="en-US" sz="1200" spc="-1" strike="noStrike">
                <a:solidFill>
                  <a:srgbClr val="000000"/>
                </a:solidFill>
                <a:latin typeface="Calibri"/>
                <a:ea typeface="新細明體"/>
              </a:rPr>
              <a:t>common source outbreaks</a:t>
            </a:r>
            <a:r>
              <a:rPr b="0" lang="en-US" sz="1200" spc="-1" strike="noStrike">
                <a:solidFill>
                  <a:srgbClr val="000000"/>
                </a:solidFill>
                <a:latin typeface="Calibri"/>
                <a:ea typeface="新細明體"/>
              </a:rPr>
              <a:t> are not propagated from individual-to-individual (e.g., person-to-person). Instead, sick individuals typically are propagation dead 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Yet the disease continues to be endemic and perhaps epidemic as a consequence of contact with some typically geographically well-defined disease reser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8D4F3-5E50-44AF-B36C-DCFA9AA151D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Clean hands are safer hand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prevent antimicrobial resista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新細明體"/>
              </a:rPr>
              <a:t>5 million lives</a:t>
            </a:r>
            <a:endParaRPr b="0" lang="en-US" sz="1100" spc="-1" strike="noStrike">
              <a:solidFill>
                <a:srgbClr val="000000"/>
              </a:solidFill>
              <a:latin typeface="Calibri"/>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新細明體"/>
              </a:rPr>
              <a:t>Developing country focus </a:t>
            </a:r>
            <a:endParaRPr b="0" lang="en-US" sz="12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Recognizing this worldwide crisis, WHO established the campaign </a:t>
            </a:r>
            <a:r>
              <a:rPr b="0" i="1" lang="en-US" sz="1100" spc="-1" strike="noStrike">
                <a:solidFill>
                  <a:srgbClr val="000000"/>
                </a:solidFill>
                <a:latin typeface="Calibri"/>
                <a:ea typeface="新細明體"/>
              </a:rPr>
              <a:t>Clean hands are safer hands and joins other campaigns by addressing </a:t>
            </a:r>
            <a:r>
              <a:rPr b="0" lang="en-US" sz="1100" spc="-1" strike="noStrike">
                <a:solidFill>
                  <a:srgbClr val="000000"/>
                </a:solidFill>
                <a:latin typeface="Calibri"/>
                <a:ea typeface="新細明體"/>
              </a:rPr>
              <a:t>the high infection rates through the implementation of endorsed guidelines aimed at reducing death from transmission of health care-associated infec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The CDC’s campaign to </a:t>
            </a:r>
            <a:r>
              <a:rPr b="0" i="1" lang="en-US" sz="1100" spc="-1" strike="noStrike">
                <a:solidFill>
                  <a:srgbClr val="000000"/>
                </a:solidFill>
                <a:latin typeface="Calibri"/>
                <a:ea typeface="新細明體"/>
              </a:rPr>
              <a:t>Prevent antimicrobial resistance </a:t>
            </a:r>
            <a:r>
              <a:rPr b="0" lang="en-US" sz="1100" spc="-1" strike="noStrike">
                <a:solidFill>
                  <a:srgbClr val="000000"/>
                </a:solidFill>
                <a:latin typeface="Calibri"/>
                <a:ea typeface="新細明體"/>
              </a:rPr>
              <a:t>aims to prevent antimicrobial resistance in health-care settings by a range of strategies aimed at preventing infection, diagnosing and treating infection, using antimicrobials wisely and preventing infection transmission. The campaign is targeting clinicians who treat particular patient groups such as hospitalized adults, dialysis patients, surgical patients, hospitalized children and long-term care patie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The IHI campaign called the </a:t>
            </a:r>
            <a:r>
              <a:rPr b="0" i="1" lang="en-US" sz="1100" spc="-1" strike="noStrike">
                <a:solidFill>
                  <a:srgbClr val="000000"/>
                </a:solidFill>
                <a:latin typeface="Calibri"/>
                <a:ea typeface="新細明體"/>
              </a:rPr>
              <a:t>5 million lives aims to </a:t>
            </a:r>
            <a:r>
              <a:rPr b="0" lang="en-US" sz="1100" spc="-1" strike="noStrike">
                <a:solidFill>
                  <a:srgbClr val="000000"/>
                </a:solidFill>
                <a:latin typeface="Calibri"/>
                <a:ea typeface="新細明體"/>
              </a:rPr>
              <a:t>reduce MRSA infections through the implementation of five key intervention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1. hand hygien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2. decontamination of environment, equipmen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3. active surveillance cultur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4. contact precautions for infected and colonized patien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5. compliance with central venous catheter and ventilator bundles.</a:t>
            </a:r>
            <a:endParaRPr b="0" lang="en-US" sz="1100" spc="-1" strike="noStrike">
              <a:solidFill>
                <a:srgbClr val="000000"/>
              </a:solidFill>
              <a:latin typeface="Calibri"/>
            </a:endParaRPr>
          </a:p>
        </p:txBody>
      </p:sp>
      <p:sp>
        <p:nvSpPr>
          <p:cNvPr id="64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F750F-5CBF-4D2C-B125-36864BD6213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following four types of infections account for more than 80% of all 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urinary tract infections usually associated with cath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catheter-associated urinary tract infections are the most frequent, accounting for about 35% health care-associated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surgical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these are second in frequency, about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bloodstream infections associated with the use of an intravascular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about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neumonia associated with ventil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 about 15%.</a:t>
            </a:r>
            <a:endParaRPr b="0" lang="en-US" sz="1200" spc="-1" strike="noStrike">
              <a:solidFill>
                <a:srgbClr val="000000"/>
              </a:solidFill>
              <a:latin typeface="Calibri"/>
            </a:endParaRPr>
          </a:p>
        </p:txBody>
      </p:sp>
      <p:sp>
        <p:nvSpPr>
          <p:cNvPr id="64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B1424-F0EF-46A9-8100-81457932CAC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F1DA7-DE29-4B59-AC8D-9625A2E47389}" type="slidenum">
              <a:rPr b="0" lang="en-US"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新細明體"/>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Burke, J. P. (2003). Infection control — A problem for patient safety. </a:t>
            </a:r>
            <a:r>
              <a:rPr b="0" i="1" lang="en-US" sz="1200" spc="-1" strike="noStrike">
                <a:solidFill>
                  <a:srgbClr val="000000"/>
                </a:solidFill>
                <a:latin typeface="Calibri"/>
                <a:ea typeface="新細明體"/>
              </a:rPr>
              <a:t>The New England Journal of Medicine, 348</a:t>
            </a:r>
            <a:r>
              <a:rPr b="0" lang="en-US" sz="1200" spc="-1" strike="noStrike">
                <a:solidFill>
                  <a:srgbClr val="000000"/>
                </a:solidFill>
                <a:latin typeface="Calibri"/>
                <a:ea typeface="新細明體"/>
              </a:rPr>
              <a:t>, p. 651-656.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ea typeface="新細明體"/>
              </a:rPr>
              <a:t>“</a:t>
            </a:r>
            <a:r>
              <a:rPr b="0" lang="en-US" sz="1200" spc="-1" strike="noStrike">
                <a:solidFill>
                  <a:srgbClr val="000000"/>
                </a:solidFill>
                <a:latin typeface="Calibri"/>
                <a:ea typeface="新細明體"/>
              </a:rPr>
              <a:t>WHO is the directing and coordinating authority for health within the United Nations system. It is responsible for providing leadership on global health matters, shaping the health research agenda, setting norms and standards, articulating evidence-based policy options, providing technical support to countries and monitoring and assessing health tr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t>
            </a:r>
            <a:r>
              <a:rPr b="0" lang="en-US" sz="1200" spc="-1" strike="noStrike">
                <a:solidFill>
                  <a:srgbClr val="000000"/>
                </a:solidFill>
                <a:latin typeface="Calibri"/>
                <a:ea typeface="新細明體"/>
              </a:rPr>
              <a:t>In the 21st century, health is a shared responsibility, involving equitable access to essential care and collective defense against transnational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Retrieved from: </a:t>
            </a:r>
            <a:r>
              <a:rPr b="0" lang="en-US" sz="1200" spc="-1" strike="noStrike" u="sng">
                <a:solidFill>
                  <a:srgbClr val="000000"/>
                </a:solidFill>
                <a:uFillTx/>
                <a:latin typeface="Calibri"/>
                <a:ea typeface="新細明體"/>
              </a:rPr>
              <a:t>http://www.who.int/abou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Patient Safety Curriculum Guide is retrieved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patientsafety/education/curriculum/en/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patientsafety/information_centre/documents/who_ps_curriculum_summary.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Please note, the major content of this lecture is obtained from the World Health Organization to be used by nursing students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A3D91-8F8D-4E25-A8DD-8C09B2B6D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tudents should approach every situation as having the potential to infect a patient or a health-care worker 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fections are preventable when health-care workers use the right techniques and remain on the look out for unclean and unsafe situations.</a:t>
            </a:r>
            <a:endParaRPr b="0" lang="en-US" sz="1200" spc="-1" strike="noStrike">
              <a:solidFill>
                <a:srgbClr val="000000"/>
              </a:solidFill>
              <a:latin typeface="Calibri"/>
            </a:endParaRPr>
          </a:p>
        </p:txBody>
      </p:sp>
      <p:sp>
        <p:nvSpPr>
          <p:cNvPr id="65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BAD4C-E166-442D-B9CE-A7D42E365A5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5CA26-468A-419A-9F4A-BBA4432154F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andwashing today is the single most important intervention </a:t>
            </a:r>
            <a:r>
              <a:rPr b="0" i="1" lang="en-US" sz="1200" spc="-1" strike="noStrike">
                <a:solidFill>
                  <a:srgbClr val="000000"/>
                </a:solidFill>
                <a:latin typeface="Calibri"/>
                <a:ea typeface="新細明體"/>
              </a:rPr>
              <a:t>before and after patient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very health-care worker is required to act responsibly and without fail to apply the techniques for handwashing at every patient encounter. They also should advise patients and families of the importance of handwashing and give them permission to remind the sta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Decontamination refers to the process for physical removal of blood, bodily fluids and the removal or destruction of micro-organisms from the hands.</a:t>
            </a:r>
            <a:endParaRPr b="0" lang="en-US" sz="1200" spc="-1" strike="noStrike">
              <a:solidFill>
                <a:srgbClr val="000000"/>
              </a:solidFill>
              <a:latin typeface="Calibri"/>
            </a:endParaRPr>
          </a:p>
        </p:txBody>
      </p:sp>
      <p:sp>
        <p:nvSpPr>
          <p:cNvPr id="65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77384-08C3-4E80-95C2-5E7BE505EEB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5EBEB-9C37-434F-B17C-B2A4B4F58F6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limited studies available to test the technique of hand deconta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methods based on expert opi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before clinical shift begins remove all wrist and hand jewel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cuts and abrasions covered with waterproof dress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 fingernails kept short clean and free from nail polish.</a:t>
            </a:r>
            <a:endParaRPr b="0" lang="en-US" sz="1200" spc="-1" strike="noStrike">
              <a:solidFill>
                <a:srgbClr val="000000"/>
              </a:solidFill>
              <a:latin typeface="Calibri"/>
            </a:endParaRPr>
          </a:p>
        </p:txBody>
      </p:sp>
      <p:sp>
        <p:nvSpPr>
          <p:cNvPr id="66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61E55-9D7F-468D-A7DE-56993AD4FE2E}"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oap solution must have contact with whole surface area of hands—vigorous rubbing of hands for 10–15 seconds (especially tips of fingers, thumbs and areas between fin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 link to drawings showing the procedure - </a:t>
            </a:r>
            <a:r>
              <a:rPr b="0" lang="en-US" sz="1200" spc="-1" strike="noStrike">
                <a:solidFill>
                  <a:srgbClr val="000000"/>
                </a:solidFill>
                <a:latin typeface="Trebuchet MS"/>
                <a:ea typeface="新細明體"/>
              </a:rPr>
              <a:t>Effective Handwashing Technique</a:t>
            </a:r>
            <a:endParaRPr b="0" lang="en-US" sz="1200" spc="-1" strike="noStrike">
              <a:solidFill>
                <a:srgbClr val="000000"/>
              </a:solidFill>
              <a:latin typeface="Calibri"/>
            </a:endParaRPr>
          </a:p>
        </p:txBody>
      </p:sp>
      <p:sp>
        <p:nvSpPr>
          <p:cNvPr id="66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FA8D7-4310-46A8-9A21-0F5BC11FFC3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Links to drawings and directions for this procedure - </a:t>
            </a:r>
            <a:r>
              <a:rPr b="0" lang="en-US" sz="1200" spc="-1" strike="noStrike">
                <a:solidFill>
                  <a:srgbClr val="000000"/>
                </a:solidFill>
                <a:latin typeface="Trebuchet MS"/>
                <a:ea typeface="新細明體"/>
              </a:rPr>
              <a:t>How to use waterless handru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to start video (link to the f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C3DC2-55A3-4ED8-88E7-672B8A0488D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who.int/gpsc/tools/5momentsHandHygiene_A3.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who.int/gpsc/tools/GPSC-HandRub-Wash.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has developed easy-to-follow brochures and diagrams to help health-care workers follow correct handwashing procedures, available on the WHO web p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ttp://www.who.int/gpsc/tools/Five_moments/en/I 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Five Moments for Hand Hygi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newly developed Five Moments for Hand Hygiene has emerged from the WHO Guidelines on Hand Hygiene in Health Care (Advanced Draft) to add value to any hand hygiene improvement strategy. Quite simply, it defines the key moments for hand hygiene, overcoming misleading language and complicated descriptions. It presents a unified vision and promotes a strong sense of owne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Not only does the Five Moments align with the evidence base concerning the spread of HAI but it is interwoven with the natural workflow of care and is designed to be easy to learn, logical and applicable in a wide range of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D12AF-E747-4417-92F0-D08BFDF45EC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Personal protective equipment includes the use of gowns, gloves, aprons, eye protection and face mask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use of these equipment is usually based on assessment of the risk of micro-organism transmission to the patient or to the carer as well as the risk of contamination of the health-care practitioner’s clothing and skin by the patient’s blood, bodily fluids, secretions or excretions.</a:t>
            </a:r>
            <a:endParaRPr b="0" lang="en-US" sz="1200" spc="-1" strike="noStrike">
              <a:solidFill>
                <a:srgbClr val="000000"/>
              </a:solidFill>
              <a:latin typeface="Calibri"/>
            </a:endParaRPr>
          </a:p>
        </p:txBody>
      </p:sp>
      <p:sp>
        <p:nvSpPr>
          <p:cNvPr id="67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017CF-268A-4C38-9E41-B2EB148C29E2}"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After completion of this unit, the learners will be able to:</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Recognize patient safety as an important nursing responsibility in global health care system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Apply required knowledge in preventing and/or minimizing infection.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Perform appropriate behaviors required to prevent health care associated infec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微軟正黑體"/>
              </a:rPr>
              <a:t>Demonstrate required competence to provide patients with safe car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63A3A-3A21-41D8-8749-E9147F1C04A9}"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1. Gloves are now an everyday part of clinical practice. There are two main indicators for wearing gloves in the clinical sett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to protect the hands from contamination with organic matter and micro-organism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to reduce the risk of transmitting microorganisms to both patients and staff.</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2. Even if a student is required to wear gloves this does not replace the need for cleaning one’s hand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3. Gloves must be worn fo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all invasive procedur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contact with sterile sit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contact with non-intact skin or mucous membran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     </a:t>
            </a:r>
            <a:r>
              <a:rPr b="0" lang="en-US" sz="1100" spc="-1" strike="noStrike">
                <a:solidFill>
                  <a:srgbClr val="000000"/>
                </a:solidFill>
                <a:latin typeface="Calibri"/>
                <a:ea typeface="新細明體"/>
              </a:rPr>
              <a:t>- all activities assessed as having a risk of exposure to blood, bodily fluids, secretions and excretions, and handling sharps or contaminated instrument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4. Gloves should be worn only once and should be put on immediately before the care activity, removed immediately afterwards and changed between patients and  pisodes of ca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新細明體"/>
              </a:rPr>
              <a:t>5. Gloves must be disposed of as clinical waste and hands must be decontaminated by washing appropriately.</a:t>
            </a:r>
            <a:endParaRPr b="0" lang="en-US" sz="1100" spc="-1" strike="noStrike">
              <a:solidFill>
                <a:srgbClr val="000000"/>
              </a:solidFill>
              <a:latin typeface="Calibri"/>
            </a:endParaRPr>
          </a:p>
        </p:txBody>
      </p:sp>
      <p:sp>
        <p:nvSpPr>
          <p:cNvPr id="68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9E186-3939-4ED5-B336-371C3E03DE90}"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Students should be aware of the significant problem for health-care workers caused by needle stick injuries, which are as prevalent as injuries from falls and handling and exposure to hazardous substances.</a:t>
            </a:r>
            <a:endParaRPr b="0" lang="en-US" sz="1200" spc="-1" strike="noStrike">
              <a:solidFill>
                <a:srgbClr val="000000"/>
              </a:solidFill>
              <a:latin typeface="Calibri"/>
            </a:endParaRPr>
          </a:p>
        </p:txBody>
      </p:sp>
      <p:sp>
        <p:nvSpPr>
          <p:cNvPr id="68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CCF3D-730B-4BFC-B1A2-2DED67735E4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Nursing students need to make every effort to minimize the spread of infection and to encourage patients and other health-care workers to actively engage in practices that minimize the spread of infection in the community, the hospitals, and the clinics.</a:t>
            </a:r>
            <a:endParaRPr b="0" lang="en-US" sz="1200" spc="-1" strike="noStrike">
              <a:solidFill>
                <a:srgbClr val="000000"/>
              </a:solidFill>
              <a:latin typeface="Calibri"/>
            </a:endParaRPr>
          </a:p>
        </p:txBody>
      </p:sp>
      <p:sp>
        <p:nvSpPr>
          <p:cNvPr id="6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9C43A-B456-4475-9481-0FBD334343BF}"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新細明體"/>
              </a:rPr>
              <a:t>Before contact with each and every patient a student should clean their hands before touching a pati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This is important to protect the patient against harmful micro-organisms carried on the hands. Students may have been travelling on a bus immediately before entering the hospital and the ward where they intend to take a history from a patient. In doing so they may shake the hand of</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the patient or comfort the patient as a humane gesture. They may also be requested to assist a patient to move from the bed to a chair, or to 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sitting area for more privacy. They might be required to perform a physical examination, take the pulse of the patient or blood pressure and</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abdominal palpatio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ea typeface="新細明體"/>
              </a:rPr>
              <a:t>A student should clean hands before an aseptic task.</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It is essential that students clean their hands immediately before any aseptic task. This is necessary to protect the patient against harmful</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micro-organisms, including the patient’s own micro-organisms, entering his or her body. Students must protect against transmission through contact with mucous membrane: oral/dental care, giving eye drops, secretion aspiration. Often students will be treating patients who have open wounds and any contact with non-intact skin: skin lesion care, wound dressing, any type of injection is an opportunity for transmission.</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Medical devices are well known for harbouring potentially harmful micro-organisms and contact with devices such as catheter insertion, opening 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新細明體"/>
              </a:rPr>
              <a:t>vascular access system or a draining system must be done with careful preparation. Students should also be diligent in preparation of food,  medications and dressing sets.</a:t>
            </a:r>
            <a:endParaRPr b="0" lang="en-US" sz="10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After contact with each and every patient a student should clean hands after any risk of exposure to body fluid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Students should habitually clean their hands immediately after an exposure risk to body fluids and after glove removal. Cases of transmiss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have been to know to occur even with gloving. This is essential to limit the opportunity of the student receiving an infection. It is also necessa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to maintain a safe health-care environ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Students should wash hands after actual patient contac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All students should clean their hands after touching a patient and his or her immediate surroundings. This should be done using one of the methods available to the clinic or hospital immediately after the patient contact is over. This is because in busy environments there are man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distractions and busy people tend to rush onto the next job or patient. Many people forget in the rush to wash their hands. Forgetting to was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hands can lead to the student getting an infection and increasing the chances of the microorganisms spreading throughout the environ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Saying goodbye to the patient by shaking a hand or touching a shoulder provides opportunities for micro-organisms to be transferred to the student and vice versa. Activities in addition to those mentioned above that involve direct physical contact include helping a patient to move around, to get washed or to give a massage, which are known routes for micro-organisms spreading to others. Students performing clinical examination such as taking pulse, blood pressure, chest auscultation and abdominal palpation are all opportunities for cross-inf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新細明體"/>
              </a:rPr>
              <a:t>Students must handwash after contact with patient surrounding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Micro-organisms are also known to survive on inanimate objects. So it is important to clean one’s hands after touching any object or furniture in the patient’s immediate surroundings when leaving them, even without touching the patient. Students may find themselves helping other staff an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新細明體"/>
              </a:rPr>
              <a:t>change bed linen, adjust perfusion speed, monitor an alarm, hold a bed rail or make room on a side bed table for a patient.</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en this occurs students should maintain correct handwashing techniques and if appropriate have a discussion about the techniques used in the hospital or clinic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reasons for the variation. However, in many cultures this may not be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How a student deals with this situation will depend on the relationship of the student to the person who fails to wash their hands, the culture of the hospital and the culture of the society.</a:t>
            </a:r>
            <a:endParaRPr b="0" lang="en-US" sz="1200" spc="-1" strike="noStrike">
              <a:solidFill>
                <a:srgbClr val="000000"/>
              </a:solidFill>
              <a:latin typeface="Calibri"/>
            </a:endParaRPr>
          </a:p>
        </p:txBody>
      </p:sp>
      <p:sp>
        <p:nvSpPr>
          <p:cNvPr id="69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167CE-8697-4A81-AC22-5FC9212E7346}"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15EBF-F229-49A2-A5F2-C65223C0490D}"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新細明體"/>
              </a:rPr>
              <a:t>http://www.ncbi.nlm.nih.gov/bookshelf/br.fcgi?book=aps2v1&amp;part=advances-emanuel-berwick_110</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52D3F-CFE7-47A3-B61A-ABB48AA95C6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微軟正黑體"/>
              </a:rPr>
              <a:t>According to Institute of Medicine, safety is defined as “freedom of accidental injur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Emanuel, L., Berwick, D., Conway, J., Combes, J., Hatlie, M., Leape, L., Reason, J., Schyve, P., Vincent, C., &amp; Walton, M. (2008). What exactly is patient safety? </a:t>
            </a:r>
            <a:r>
              <a:rPr b="0" i="1" lang="en-US" sz="1200" spc="-1" strike="noStrike">
                <a:solidFill>
                  <a:srgbClr val="000000"/>
                </a:solidFill>
                <a:latin typeface="Calibri"/>
                <a:ea typeface="新細明體"/>
              </a:rPr>
              <a:t>Advances in Patient Safety</a:t>
            </a:r>
            <a:r>
              <a:rPr b="0" lang="en-US" sz="1200" spc="-1" strike="noStrike">
                <a:solidFill>
                  <a:srgbClr val="000000"/>
                </a:solidFill>
                <a:latin typeface="Calibri"/>
                <a:ea typeface="新細明體"/>
              </a:rPr>
              <a:t>, Vol. 1: Assessment. Retrieved from http://www.ncbi.nlm.nih.gov/bookshelf/br.fcgi?book=aps2v1&amp;part=advances-emanuel-berwick_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C203F-E733-47F7-9BA6-F0C187FF90A3}"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048E8-072A-4667-9B7F-39BFBA23F4F4}"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a typeface="新細明體"/>
            </a:endParaRPr>
          </a:p>
        </p:txBody>
      </p:sp>
      <p:sp>
        <p:nvSpPr>
          <p:cNvPr id="60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75D12-63CD-455E-B245-000A0B38B421}"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unit of</a:t>
            </a:r>
            <a:r>
              <a:rPr b="1" lang="en-US" sz="1200" spc="-1" strike="noStrike">
                <a:solidFill>
                  <a:srgbClr val="000000"/>
                </a:solidFill>
                <a:latin typeface="Calibri"/>
                <a:ea typeface="新細明體"/>
              </a:rPr>
              <a:t> </a:t>
            </a:r>
            <a:r>
              <a:rPr b="0" lang="en-US" sz="1200" spc="-1" strike="noStrike">
                <a:solidFill>
                  <a:srgbClr val="000000"/>
                </a:solidFill>
                <a:latin typeface="Calibri"/>
                <a:ea typeface="新細明體"/>
              </a:rPr>
              <a:t>patient safety includes two parts. Part 1 is infection control; part 2 is safe medication administ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新細明體"/>
              </a:rPr>
              <a:t>Why infection control is relevant to patien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The spread of infection in health-care settings today affects hundreds of millions of people worldwide. In the health care settings, infection is one of adverse events; some of infections are preventable. Through improved infection control, infection can be minimized. Therefore, improved infection control can facilitate health care providers reach the goal of patient safety.</a:t>
            </a:r>
            <a:endParaRPr b="0" lang="en-US" sz="1200" spc="-1" strike="noStrike">
              <a:solidFill>
                <a:srgbClr val="000000"/>
              </a:solidFill>
              <a:latin typeface="Calibri"/>
            </a:endParaRPr>
          </a:p>
        </p:txBody>
      </p:sp>
      <p:sp>
        <p:nvSpPr>
          <p:cNvPr id="61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C3855-D510-4307-9F26-809AE705B29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In a WHO sponsored survey study conducted in 55 hospitals of 14 countries representing four WHO regions (South-East Asia, Europe, the Eastern Mediterranean and the Western Pacific) it was found that, on average, 8.7% of hospital patients suffer health care-associated infection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Between 5% and 10% of patients admitted to modern hospitals in the developed world acquire one or more infections.</a:t>
            </a:r>
            <a:endParaRPr b="0" lang="en-US" sz="1200" spc="-1" strike="noStrike">
              <a:solidFill>
                <a:srgbClr val="000000"/>
              </a:solidFill>
              <a:latin typeface="Calibri"/>
            </a:endParaRPr>
          </a:p>
          <a:p>
            <a:pPr marL="228600" indent="-228600">
              <a:lnSpc>
                <a:spcPct val="100000"/>
              </a:lnSpc>
              <a:spcBef>
                <a:spcPts val="45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微軟正黑體"/>
              </a:rPr>
              <a:t>The risk of HAI in developing countries is from 2 to 20 times higher than in developed countries.</a:t>
            </a:r>
            <a:endParaRPr b="0" lang="en-US" sz="1200" spc="-1" strike="noStrike">
              <a:solidFill>
                <a:srgbClr val="000000"/>
              </a:solidFill>
              <a:latin typeface="Calibri"/>
            </a:endParaRPr>
          </a:p>
        </p:txBody>
      </p:sp>
      <p:sp>
        <p:nvSpPr>
          <p:cNvPr id="6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F6CF1-9D8E-44D2-B6FB-FF64ADC6ABF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WHO [12] defines a health care-associated infection (also called “nosocomial”) 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n infection acquired in hospital by a patient who was admitted for a reason other than that infec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新細明體"/>
              </a:rPr>
              <a:t>An infection occurring in a patient in a hospital or other health-care facility in whom the infection was not present or incubating at the time of admission. This includes infections acquired in the hospital but appearing after discharge, and also occupational infections among staff of the facility.</a:t>
            </a:r>
            <a:endParaRPr b="0" lang="en-US" sz="1200" spc="-1" strike="noStrike">
              <a:solidFill>
                <a:srgbClr val="000000"/>
              </a:solidFill>
              <a:latin typeface="Calibri"/>
            </a:endParaRPr>
          </a:p>
        </p:txBody>
      </p:sp>
      <p:sp>
        <p:nvSpPr>
          <p:cNvPr id="6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C03F0-10DE-4E4B-831C-332D2C46B6CA}" type="slidenum">
              <a:rPr b="0" lang="zh-TW" sz="1200" spc="-1" strike="noStrike">
                <a:solidFill>
                  <a:srgbClr val="000000"/>
                </a:solidFill>
                <a:latin typeface="Calibri"/>
                <a:ea typeface="新細明體"/>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6AF76-0A64-41A8-9D91-89F03E201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78FF-FF88-4579-B931-EF4B77398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31A814-0712-4690-88DE-9DB540E2D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D1BF8E-CB4F-4DAD-9D0A-C87AC568B8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527DE-725B-41D3-A26D-CBB2BF9A7C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705C68-08F6-413C-A7A9-39C8CFDA29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24590-52C3-4867-915E-53E815B58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F7849-6380-46FC-84C5-5E249DD21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C4FB6-9EC9-47A3-AA88-9A1883A6E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F6E3C4-329E-42C3-9613-E3D662C7E5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4812E1-3D38-40C2-9591-4E733D8D10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4AAFE8-E86E-4BF8-ACF4-739E9D92D7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46B9-3CB4-4FF9-AE88-55367A192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721092-1794-410D-A9D6-6D0815E800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2BDEB7-F00C-4DFC-A475-C5551B02EB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921A8C-A9A2-4FE6-8227-E90F5EEFE1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BC7609-913D-469B-A1F1-DE40865857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68BAC6-1F77-42A9-958A-10CD9F4010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DA7045-AF34-4B6D-89B7-B63B820435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71E080-9344-4481-823A-91240992FF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AD9495-8EB0-4307-8C8F-6B22F5C5F5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39BAAD-B7F8-4AF6-AB5C-A7C8B8AC30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B1CFCA-1EDF-47D7-A65D-CCB41C0901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23114-1DB1-4660-AC44-7360EE97C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DF2543-4BB0-4BF2-9C5C-D4E71FA75D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984802-10D6-4A9F-BA13-85C3C6C521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417F0D-30F5-4011-81D8-9392ED92D6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145261-19F5-4C17-BA66-98BEDF24B1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6C3D2E-A260-42A7-A44D-AE3B349C22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4D5461-0299-477C-BF4F-A5E1CC1C20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E15F3C-ED6F-4FAE-8F4F-E04951E7C6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F33B74-723F-487C-A0E9-73A40E27A0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18C0D7-45BF-4F32-B454-6A7833F922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44BC88-C1B8-463F-A9CB-A0F5E3B4D6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4DE0B-1769-41C6-9658-EB46EE6BE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67F32C-C5EA-4F04-AA5F-0E6E8606B7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6A1628-9415-41B7-B230-B66DEFCFED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3EBFCB-9B04-4151-A0A2-85FBACBB27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EEC8B5-D939-4B3E-BB6C-C6B77A3B68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1E98BA-2525-4F65-A5D5-89C853AE9F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1D8DD9-4768-4117-BA54-89DF05F0A8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7F46CE-FA42-4876-8FD7-D139A9689D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B9AD61-1641-4E7F-97EF-ECDE5A540F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A1307A-1F04-48D4-9092-49AD670C40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B1DB95-319C-437C-8D3F-3F3DD08F63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A0594-E12D-4520-B697-0F49E7083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04C5E9-740A-468F-951F-EC97AB9ACB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691B7E-DC7C-43DB-B97F-885F8656ED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14B520-562B-4013-9A69-4F445076A4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D0026C-053E-47A3-BC6A-666201FBD0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52E331-0A8F-4163-8BD1-584CF943AD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C44BB-7C8A-43E9-AFC3-497791DFF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AF83F-C8D8-4983-BD33-25DC22E5A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FA2B0-EB29-411D-A6B8-4A93C8C1D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B135-9624-4876-AD3F-0B03C42EB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B3C4E-AE77-4F5C-A6A3-A54FF8133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12531-5119-4696-A814-F678B9B4E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7C27-7E4D-4359-8FA7-7AAB86F6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B7988-42D8-4DF2-B1AB-A3AD51A4B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0C255-4586-4687-A7D1-A88C68CAB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02E59-C8F2-4852-B1E4-0F92F7697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DD17C-286E-45D0-9D58-2964ABCC4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FD3829-6BFC-40C8-98FB-DFFCEBF547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00C51-3F02-4F6A-A8A1-C09C3A57D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9C8B8-F96C-4B79-87A2-AD710987D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59C2A-47CC-4271-B7B3-967FFB97D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CBB2B7-6DAA-48BB-B13A-58509C6A4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7940D-1F32-4CD7-BB7E-8F7A06FEF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A7FFF6-68E8-4CA1-89F7-B57E043BF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16AAF-D8E1-4A8E-B629-9C4AC3459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769AA-8836-406F-9D3A-A50DAFDD8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80508-78BE-4FAD-9067-A4555B5FA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49EE9-F31E-433E-9C62-E8553633A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470CD4-E763-43B0-B5E2-9960D47EA1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B30E03-83F0-4DC0-8E1E-32B720922E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1FCEDB-B89E-4D52-A53A-0AEAC87FB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8904C-8B05-4DA8-A317-261ACCF5E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1FCB0-2DAB-4A2A-B14B-159D523BB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68044-6C3B-4117-A7BC-4F2DBE6DF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9C61D-D2C0-4569-9A72-A409A17A1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15E20-5ACB-4469-81B0-D4C5F9FCA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AD9F4-9341-4FF9-9653-7DBA0F503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F808B-D5D4-48E0-A504-A89C98C0B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44012-0355-4CDA-82FE-E7FA3C769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38915-FD33-438C-B30D-BB04C31FC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F410C-DDC7-4BD5-AE46-013BD2FACF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2E3EDB-7547-48D9-A6B6-1309469E2E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0E5398-5209-4B25-9E75-C886E6988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DE52CA-8CA7-4C1D-8987-15CE5E585D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BC4C-D1F6-4F29-B86E-064BC6F87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164459-4BD7-4412-B824-B4EB0A1A5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80CBD-C8DD-44F3-B384-B5D733946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C6598-AEA5-42D0-997A-F21AE625E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44D001-5E5A-4C8C-8967-A2FAA8B56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6751D-B517-428E-A99B-490D54B3D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E97FC-12A7-4DE0-8663-AFC87BB96C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BF445-210D-48F0-8D25-B05A3A999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2B881-2E99-4D0C-9533-E52168C90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DFA49-3B72-4720-B94C-30552A8CBA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39A4A5-D7C7-4F95-98E9-56843A8C19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274F2-720A-4D04-98AC-0994221F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EF013F-F781-4776-B492-EEADF901BE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231209-402F-4FAE-8797-959274619F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7D51E9-EFDC-4AFC-AD2F-0D78A515E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577445-E185-47B2-9744-9D4218291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6304B0-4E07-48B1-B565-7E392E2FE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5B9928-0CE5-476B-B2E8-6BB2B0FAC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AEE7A-738A-4984-B3FC-7AB7A98337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E99D6-8239-414F-A17E-239713A3F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9F1E5-7AFB-4867-9A74-908012FB1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2AD44-CFBC-4540-A351-BF66D2D36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997E-82F3-466F-BA3B-93FD2E551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737BE-442A-47CB-8267-2C52BFBE5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534D30-20C6-43B9-A0E7-19A4A32269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676219-B414-480B-A93E-C251AD3E94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D07B1D-8170-4B33-A1A7-DF63B8DC4E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3D027-C8FF-436B-8386-907EEE5DF5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04634-8A64-496B-9E2B-500B609C36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052A0-0DF2-49B2-A73D-E4387FC9F4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A85D5-8504-4071-B291-927B29E43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57A16-529B-4FA9-A8AC-AC4C2A3F5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01410-285D-45CE-A57D-BBCD9C9C4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4DE3B-4283-475D-B8EC-F5D67DBC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65DB7-D93A-40EB-B6E9-1D542FBDE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63042-CD5D-4C69-86AA-5131F9A3A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24D57-1EA3-48B1-83A8-27426CC0B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DF64C0-37D2-4C8C-8365-4431D97E65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F49323-7A19-4E54-9F07-43FC140755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E6CFAF-6B95-4D52-BA5E-EB5F5C0D2C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C3EC7D-5AB7-442A-BD0F-0BEBAEDA5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CB1BF-BFAC-41E7-908A-97F9628ECC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F0896-124B-44EB-BCCF-A3AAA74D87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BC4E1-63D2-49AA-BEBD-D707919296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DA8FD-6355-4D9C-B530-A2BF80A8C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CE57A1-97AF-42F9-882B-BD1CE8E9C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6F5D71-DFAF-4C63-948D-6D90FC5F4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8B31D-1E5C-4475-9000-E74C5084B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4215C-EFEF-466B-BC2E-18EF1D683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67B5F8-BFD2-4EA9-A5AE-EB00047D1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EFAF95-1248-4EBB-8654-3B74CFDDB8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1281AA-3922-487C-BA08-DEAA58F489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3AB44A-60B0-42C9-9147-7234CACCE0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DE090-4AD8-441E-9E45-F540805BE3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Trebuchet MS"/>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65104-C335-4C84-B39D-E91E91B363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rebuchet MS"/>
              </a:rPr>
              <a:t>NURSI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89285-AC0E-4F6C-8BC4-4378F2E9D692}"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F2C1F-FD68-4244-B480-F32A7931D7CE}"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17E4C-1A53-42C7-BEF7-CEC498846C8F}"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43A7A-3860-4A85-8889-D902C879B550}"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pic>
        <p:nvPicPr>
          <p:cNvPr id="41" name="Picture 6" descr="NurseBlok.eps"/>
          <p:cNvPicPr/>
          <p:nvPr/>
        </p:nvPicPr>
        <p:blipFill>
          <a:blip r:embed="rId2"/>
          <a:stretch/>
        </p:blipFill>
        <p:spPr>
          <a:xfrm>
            <a:off x="4572000" y="5608800"/>
            <a:ext cx="3886200" cy="7477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AE6CD-7745-4280-9F56-28E7262B653D}"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B0D50-6866-4191-8B2C-F2272F35348D}"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8DDC6-8DA7-4A1A-84B0-FF6B00875068}"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77ED7-F17F-48F3-9A9F-26A037D3CE14}"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3EBEF-236E-4128-AF3F-9351393E4F99}"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47E93-D38D-4BE6-808A-B93C812855EE}"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C05AA-BB18-4842-9179-1493DA1312D6}"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e3c6"/>
            </a:gs>
            <a:gs pos="100000">
              <a:srgbClr val="ffffff"/>
            </a:gs>
          </a:gsLst>
          <a:lin ang="162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80083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8008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TW" sz="1200" spc="-1" strike="noStrike">
                <a:solidFill>
                  <a:srgbClr val="898989"/>
                </a:solidFill>
                <a:latin typeface="Trebuchet MS"/>
                <a:ea typeface="新細明體"/>
              </a:rPr>
              <a:t>&lt;date/time&gt;</a:t>
            </a:r>
            <a:endParaRPr b="0" lang="en-US" sz="12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TW" sz="1200" spc="-1" strike="noStrike">
                <a:solidFill>
                  <a:srgbClr val="898989"/>
                </a:solidFill>
                <a:latin typeface="Trebuchet MS"/>
                <a:ea typeface="新細明體"/>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A84D7-885E-4636-B007-2C205DAADF8B}" type="slidenum">
              <a:rPr b="0" lang="zh-TW" sz="1200" spc="-1" strike="noStrike">
                <a:solidFill>
                  <a:srgbClr val="898989"/>
                </a:solidFill>
                <a:latin typeface="Trebuchet MS"/>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hliu@wsu.edu" TargetMode="External"/><Relationship Id="rId2" Type="http://schemas.openxmlformats.org/officeDocument/2006/relationships/hyperlink" Target="mailto:carola@wsu.edu" TargetMode="External"/><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who.int/patientsafety/events/05/HH_en.pdf" TargetMode="External"/><Relationship Id="rId2" Type="http://schemas.openxmlformats.org/officeDocument/2006/relationships/hyperlink" Target="http://www.cdc.gov/mmwr/preview/mmwrhtml/mm5115a5.htm" TargetMode="External"/><Relationship Id="rId3" Type="http://schemas.openxmlformats.org/officeDocument/2006/relationships/hyperlink" Target="http://www.ihi.org/IHI/Topics/PatientSafety/SafetyGeneral/Measures/" TargetMode="External"/><Relationship Id="rId4" Type="http://schemas.openxmlformats.org/officeDocument/2006/relationships/hyperlink" Target="http://www.ihi.org/IHI/Topics/DevelopingCountries" TargetMode="External"/><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who.int/patientsafety/education/curriculum/en/index.html"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who.int/gpsc/tools/GPSC-HandRub-Wash.pdf" TargetMode="External"/><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who.int/gpsc/tools/GPSC-HandRub-Wash.pdf" TargetMode="External"/><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who.int/gpsc/tools/5momentsHandHygiene_A3.pdf" TargetMode="External"/><Relationship Id="rId2" Type="http://schemas.openxmlformats.org/officeDocument/2006/relationships/hyperlink" Target="http://www.who.int/gpsc/tools/GPSC-HandRub-Wash.pdf" TargetMode="External"/><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hyperlink" Target="http://www.ncbi.nlm.nih.gov/bookshelf/br.fcgi?book=aps2v1&amp;part=advances-emanuel-berwick_110" TargetMode="External"/><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039320" y="2444400"/>
            <a:ext cx="7210440" cy="3419640"/>
          </a:xfrm>
          <a:prstGeom prst="rect">
            <a:avLst/>
          </a:prstGeom>
          <a:noFill/>
          <a:ln w="0">
            <a:noFill/>
          </a:ln>
        </p:spPr>
        <p:txBody>
          <a:bodyPr anchor="t">
            <a:noAutofit/>
          </a:bodyPr>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ea typeface="新細明體"/>
              </a:rPr>
              <a:t>Patient Safety 1:</a:t>
            </a:r>
            <a:endParaRPr b="0" lang="en-US" sz="3600" spc="-1" strike="noStrike">
              <a:solidFill>
                <a:srgbClr val="000000"/>
              </a:solidFill>
              <a:latin typeface="Trebuchet MS"/>
            </a:endParaRPr>
          </a:p>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ea typeface="新細明體"/>
              </a:rPr>
              <a:t>Infection Control</a:t>
            </a:r>
            <a:endParaRPr b="0" lang="en-US" sz="36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rebuchet MS"/>
                <a:ea typeface="新細明體"/>
              </a:rPr>
              <a:t>Yi-Hsiu Liu   RN, MEd</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1"/>
              </a:rPr>
              <a:t>yhliu@wsu.edu</a:t>
            </a:r>
            <a:endParaRPr b="0" lang="en-US" sz="2400" spc="-1" strike="noStrike">
              <a:solidFill>
                <a:srgbClr val="000000"/>
              </a:solidFill>
              <a:latin typeface="Trebuchet MS"/>
            </a:endParaRPr>
          </a:p>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rebuchet MS"/>
                <a:ea typeface="新細明體"/>
              </a:rPr>
              <a:t>Carol Allen  Ph D</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2"/>
              </a:rPr>
              <a:t>carola@wsu.edu</a:t>
            </a: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pic>
        <p:nvPicPr>
          <p:cNvPr id="501" name="Picture 5" descr="superCourse.eps"/>
          <p:cNvPicPr/>
          <p:nvPr/>
        </p:nvPicPr>
        <p:blipFill>
          <a:blip r:embed="rId3"/>
          <a:stretch/>
        </p:blipFill>
        <p:spPr>
          <a:xfrm>
            <a:off x="1625760" y="1290600"/>
            <a:ext cx="58924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42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mpacts of Health Care-Associated Infections (HAI)</a:t>
            </a:r>
            <a:endParaRPr b="1" lang="en-US" sz="3600" spc="-1" strike="noStrike">
              <a:solidFill>
                <a:srgbClr val="000000"/>
              </a:solidFill>
              <a:latin typeface="Trebuchet MS"/>
            </a:endParaRPr>
          </a:p>
        </p:txBody>
      </p:sp>
      <p:sp>
        <p:nvSpPr>
          <p:cNvPr id="520" name=""/>
          <p:cNvSpPr txBox="1"/>
          <p:nvPr/>
        </p:nvSpPr>
        <p:spPr>
          <a:xfrm>
            <a:off x="457200" y="1953720"/>
            <a:ext cx="8229600" cy="4172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can: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patients’ suffering.</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Lead to permanent disabilit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Lead to death.</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rolong hospital stay.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need for a higher level of car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crease the costs to patients and hospital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reventing infections</a:t>
            </a:r>
            <a:endParaRPr b="1" lang="en-US" sz="3600" spc="-1" strike="noStrike">
              <a:solidFill>
                <a:srgbClr val="000000"/>
              </a:solidFill>
              <a:latin typeface="Trebuchet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quires health care providers who have: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Knowledge of common infections and their vector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An attitude of cooperation and commitment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Skills necessary to provide safe car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Knowledge</a:t>
            </a:r>
            <a:endParaRPr b="1" lang="en-US" sz="3600" spc="-1" strike="noStrike">
              <a:solidFill>
                <a:srgbClr val="000000"/>
              </a:solidFill>
              <a:latin typeface="Trebuchet MS"/>
            </a:endParaRPr>
          </a:p>
        </p:txBody>
      </p:sp>
      <p:sp>
        <p:nvSpPr>
          <p:cNvPr id="52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Knowledge of the extent of the problem;</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Knowledge of the main causes, modes of transmission, and types of infec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25" name="Picture 4" descr="C:\Program Files\Microsoft Office\MEDIA\CAGCAT10\j0299125.wmf"/>
          <p:cNvPicPr/>
          <p:nvPr/>
        </p:nvPicPr>
        <p:blipFill>
          <a:blip r:embed="rId1"/>
          <a:stretch/>
        </p:blipFill>
        <p:spPr>
          <a:xfrm>
            <a:off x="6986520" y="387180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Attitudes</a:t>
            </a:r>
            <a:endParaRPr b="1" lang="en-US" sz="3600" spc="-1" strike="noStrike">
              <a:solidFill>
                <a:srgbClr val="000000"/>
              </a:solidFill>
              <a:latin typeface="Trebuchet MS"/>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Being an effective team player.</a:t>
            </a: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Commitment to preventing HAI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28" name="Picture 4" descr="C:\Documents and Settings\user\Local Settings\Temporary Internet Files\Content.IE5\4DEB41I3\MP900433193[1].jpg"/>
          <p:cNvPicPr/>
          <p:nvPr/>
        </p:nvPicPr>
        <p:blipFill>
          <a:blip r:embed="rId1"/>
          <a:stretch/>
        </p:blipFill>
        <p:spPr>
          <a:xfrm>
            <a:off x="5492880" y="4178160"/>
            <a:ext cx="2570040" cy="1947960"/>
          </a:xfrm>
          <a:prstGeom prst="rect">
            <a:avLst/>
          </a:prstGeom>
          <a:ln w="0">
            <a:noFill/>
          </a:ln>
        </p:spPr>
      </p:pic>
      <p:pic>
        <p:nvPicPr>
          <p:cNvPr id="529" name="Picture 5" descr="C:\Documents and Settings\user\Local Settings\Temporary Internet Files\Content.IE5\49IG19DJ\MP900433103[1].jpg"/>
          <p:cNvPicPr/>
          <p:nvPr/>
        </p:nvPicPr>
        <p:blipFill>
          <a:blip r:embed="rId2"/>
          <a:stretch/>
        </p:blipFill>
        <p:spPr>
          <a:xfrm>
            <a:off x="457200" y="274680"/>
            <a:ext cx="173844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Skills</a:t>
            </a:r>
            <a:endParaRPr b="1" lang="en-US" sz="3600" spc="-1" strike="noStrike">
              <a:solidFill>
                <a:srgbClr val="000000"/>
              </a:solidFill>
              <a:latin typeface="Trebuchet MS"/>
            </a:endParaRPr>
          </a:p>
        </p:txBody>
      </p:sp>
      <p:sp>
        <p:nvSpPr>
          <p:cNvPr id="5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pply universal precau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Use personal protection method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now what to do if exposed</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Encourage others to use universal precaution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port breaks in technique that increase patient ris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Observe patients for signs and symptoms of infecti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One more important thing!</a:t>
            </a:r>
            <a:endParaRPr b="1" lang="en-US" sz="3600" spc="-1" strike="noStrike">
              <a:solidFill>
                <a:srgbClr val="000000"/>
              </a:solidFill>
              <a:latin typeface="Trebuchet MS"/>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80"/>
                </a:solidFill>
                <a:latin typeface="Trebuchet MS"/>
                <a:ea typeface="新細明體"/>
              </a:rPr>
              <a:t>Protect Yourself</a:t>
            </a:r>
            <a:r>
              <a:rPr b="0" lang="en-US" sz="2800" spc="-1" strike="noStrike">
                <a:solidFill>
                  <a:srgbClr val="000000"/>
                </a:solidFill>
                <a:latin typeface="Trebuchet MS"/>
                <a:ea typeface="新細明體"/>
              </a:rPr>
              <a:t> </a:t>
            </a:r>
            <a:endParaRPr b="0" lang="en-US" sz="2800" spc="-1" strike="noStrike">
              <a:solidFill>
                <a:srgbClr val="000000"/>
              </a:solidFill>
              <a:latin typeface="Trebuchet MS"/>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 sure you have been immunized against Hepatitis B since it is very easy to transmit!</a:t>
            </a:r>
            <a:endParaRPr b="0" lang="en-US" sz="2800" spc="-1" strike="noStrike">
              <a:solidFill>
                <a:srgbClr val="000000"/>
              </a:solidFill>
              <a:latin typeface="Trebuchet MS"/>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34" name="Picture 3" descr="C:\Documents and Settings\carola\Local Settings\Temporary Internet Files\Content.IE5\M8LJH8CM\MC900071363[1].wmf"/>
          <p:cNvPicPr/>
          <p:nvPr/>
        </p:nvPicPr>
        <p:blipFill>
          <a:blip r:embed="rId1"/>
          <a:stretch/>
        </p:blipFill>
        <p:spPr>
          <a:xfrm>
            <a:off x="6902280" y="4162320"/>
            <a:ext cx="1347840" cy="13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Main Sources</a:t>
            </a:r>
            <a:r>
              <a:rPr b="1" lang="en-AU" sz="3600" spc="-1" strike="noStrike">
                <a:solidFill>
                  <a:srgbClr val="ff0000"/>
                </a:solidFill>
                <a:latin typeface="Trebuchet MS"/>
                <a:ea typeface="新細明體"/>
              </a:rPr>
              <a:t> </a:t>
            </a:r>
            <a:r>
              <a:rPr b="1" lang="en-AU" sz="3600" spc="-1" strike="noStrike">
                <a:solidFill>
                  <a:srgbClr val="000000"/>
                </a:solidFill>
                <a:latin typeface="Trebuchet MS"/>
                <a:ea typeface="新細明體"/>
              </a:rPr>
              <a:t>of Infection</a:t>
            </a:r>
            <a:endParaRPr b="1" lang="en-US" sz="3600" spc="-1" strike="noStrike">
              <a:solidFill>
                <a:srgbClr val="000000"/>
              </a:solidFill>
              <a:latin typeface="Trebuchet MS"/>
            </a:endParaRPr>
          </a:p>
        </p:txBody>
      </p:sp>
      <p:sp>
        <p:nvSpPr>
          <p:cNvPr id="5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Person to person via hands of health-care  providers, patients, and visitor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Personal clothing and equipment (e.g. Stethoscopes, flashlights etc.)</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Environmental contaminat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Airborne transmiss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Hospital staff who are carriers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Rare common-source outbreaks</a:t>
            </a:r>
            <a:endParaRPr b="0" lang="en-US" sz="2800" spc="-1" strike="noStrike">
              <a:solidFill>
                <a:srgbClr val="000000"/>
              </a:solidFill>
              <a:latin typeface="Trebuchet MS"/>
            </a:endParaRPr>
          </a:p>
        </p:txBody>
      </p:sp>
      <p:pic>
        <p:nvPicPr>
          <p:cNvPr id="537" name="Picture 4" descr="C:\Documents and Settings\carola\Local Settings\Temporary Internet Files\Content.IE5\1EBDN5AL\MC900331728[1].wmf"/>
          <p:cNvPicPr/>
          <p:nvPr/>
        </p:nvPicPr>
        <p:blipFill>
          <a:blip r:embed="rId1"/>
          <a:stretch/>
        </p:blipFill>
        <p:spPr>
          <a:xfrm>
            <a:off x="6891480" y="4373640"/>
            <a:ext cx="179532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Campaigns to Decrease Infection Rates</a:t>
            </a:r>
            <a:endParaRPr b="1" lang="en-US" sz="3600" spc="-1" strike="noStrike">
              <a:solidFill>
                <a:srgbClr val="000000"/>
              </a:solidFill>
              <a:latin typeface="Trebuchet MS"/>
            </a:endParaRPr>
          </a:p>
        </p:txBody>
      </p:sp>
      <p:sp>
        <p:nvSpPr>
          <p:cNvPr id="53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WHO </a:t>
            </a:r>
            <a:r>
              <a:rPr b="0" lang="en-US" sz="2800" spc="-1" strike="noStrike">
                <a:solidFill>
                  <a:srgbClr val="000000"/>
                </a:solidFill>
                <a:latin typeface="Trebuchet MS"/>
                <a:ea typeface="新細明體"/>
              </a:rPr>
              <a:t>“</a:t>
            </a:r>
            <a:r>
              <a:rPr b="0" lang="en-GB" sz="2800" spc="-1" strike="noStrike" u="sng">
                <a:solidFill>
                  <a:srgbClr val="0000ff"/>
                </a:solidFill>
                <a:uFillTx/>
                <a:latin typeface="Trebuchet MS"/>
                <a:ea typeface="新細明體"/>
                <a:hlinkClick r:id="rId1"/>
              </a:rPr>
              <a:t>Clean hands are safer hands</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 campaig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Center</a:t>
            </a:r>
            <a:r>
              <a:rPr b="0" lang="en-US" sz="2800" spc="-1" strike="noStrike">
                <a:solidFill>
                  <a:srgbClr val="000000"/>
                </a:solidFill>
                <a:latin typeface="Trebuchet MS"/>
                <a:ea typeface="新細明體"/>
              </a:rPr>
              <a:t>s</a:t>
            </a:r>
            <a:r>
              <a:rPr b="0" lang="en-GB" sz="2800" spc="-1" strike="noStrike">
                <a:solidFill>
                  <a:srgbClr val="000000"/>
                </a:solidFill>
                <a:latin typeface="Trebuchet MS"/>
                <a:ea typeface="新細明體"/>
              </a:rPr>
              <a:t> for Disease Control and Prevention (CDC) “</a:t>
            </a:r>
            <a:r>
              <a:rPr b="0" lang="en-GB" sz="2800" spc="-1" strike="noStrike" u="sng">
                <a:solidFill>
                  <a:srgbClr val="0000ff"/>
                </a:solidFill>
                <a:uFillTx/>
                <a:latin typeface="Trebuchet MS"/>
                <a:ea typeface="新細明體"/>
                <a:hlinkClick r:id="rId2"/>
              </a:rPr>
              <a:t>prevent antimicrobial resistance</a:t>
            </a:r>
            <a:r>
              <a:rPr b="0" lang="en-GB" sz="2800" spc="-1" strike="noStrike">
                <a:solidFill>
                  <a:srgbClr val="000000"/>
                </a:solidFill>
                <a:latin typeface="Trebuchet MS"/>
                <a:ea typeface="新細明體"/>
              </a:rPr>
              <a:t>” campaign in health</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care sett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rebuchet MS"/>
                <a:ea typeface="新細明體"/>
              </a:rPr>
              <a:t>Institute for Healthcare Improvement (IHI) </a:t>
            </a:r>
            <a:r>
              <a:rPr b="0" lang="en-US" sz="2800" spc="-1" strike="noStrike">
                <a:solidFill>
                  <a:srgbClr val="000000"/>
                </a:solidFill>
                <a:latin typeface="Trebuchet MS"/>
                <a:ea typeface="新細明體"/>
              </a:rPr>
              <a:t>“</a:t>
            </a:r>
            <a:r>
              <a:rPr b="0" lang="en-GB" sz="2800" spc="-1" strike="noStrike" u="sng">
                <a:solidFill>
                  <a:srgbClr val="0000ff"/>
                </a:solidFill>
                <a:uFillTx/>
                <a:latin typeface="Trebuchet MS"/>
                <a:ea typeface="新細明體"/>
                <a:hlinkClick r:id="rId3"/>
              </a:rPr>
              <a:t>5 million lives</a:t>
            </a:r>
            <a:r>
              <a:rPr b="0" lang="en-US" sz="2800" spc="-1" strike="noStrike">
                <a:solidFill>
                  <a:srgbClr val="000000"/>
                </a:solidFill>
                <a:latin typeface="Trebuchet MS"/>
                <a:ea typeface="新細明體"/>
              </a:rPr>
              <a:t>”</a:t>
            </a:r>
            <a:r>
              <a:rPr b="0" lang="en-GB" sz="2800" spc="-1" strike="noStrike">
                <a:solidFill>
                  <a:srgbClr val="000000"/>
                </a:solidFill>
                <a:latin typeface="Trebuchet MS"/>
                <a:ea typeface="新細明體"/>
              </a:rPr>
              <a:t> campaig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u="sng">
                <a:solidFill>
                  <a:srgbClr val="0000ff"/>
                </a:solidFill>
                <a:uFillTx/>
                <a:latin typeface="Trebuchet MS"/>
                <a:ea typeface="新細明體"/>
                <a:hlinkClick r:id="rId4"/>
              </a:rPr>
              <a:t>Developing country focus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Main Routes for infections</a:t>
            </a:r>
            <a:endParaRPr b="1" lang="en-US" sz="3600" spc="-1" strike="noStrike">
              <a:solidFill>
                <a:srgbClr val="000000"/>
              </a:solidFill>
              <a:latin typeface="Trebuchet MS"/>
            </a:endParaRPr>
          </a:p>
        </p:txBody>
      </p:sp>
      <p:sp>
        <p:nvSpPr>
          <p:cNvPr id="541" name=""/>
          <p:cNvSpPr txBox="1"/>
          <p:nvPr/>
        </p:nvSpPr>
        <p:spPr>
          <a:xfrm>
            <a:off x="228600" y="1600200"/>
            <a:ext cx="86868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Urinary tract infections (UTI)</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Catheter-associated UTIs are the most frequent, accounting for about 35%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Surgical infections: about 20%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Bloodstream infections associated with the use of an intravascular device: about 15% of all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neumonia associated with ventilators: about15% of HAI</a:t>
            </a:r>
            <a:endParaRPr b="0" lang="en-US" sz="2800" spc="-1" strike="noStrike">
              <a:solidFill>
                <a:srgbClr val="000000"/>
              </a:solidFill>
              <a:latin typeface="Trebuchet MS"/>
            </a:endParaRPr>
          </a:p>
        </p:txBody>
      </p:sp>
      <p:pic>
        <p:nvPicPr>
          <p:cNvPr id="542" name="Picture 5" descr="C:\Documents and Settings\carola\Local Settings\Temporary Internet Files\Content.IE5\1EBDN5AL\MC900293422[1].wmf"/>
          <p:cNvPicPr/>
          <p:nvPr/>
        </p:nvPicPr>
        <p:blipFill>
          <a:blip r:embed="rId1"/>
          <a:stretch/>
        </p:blipFill>
        <p:spPr>
          <a:xfrm>
            <a:off x="7723080" y="274680"/>
            <a:ext cx="685800" cy="1806480"/>
          </a:xfrm>
          <a:prstGeom prst="rect">
            <a:avLst/>
          </a:prstGeom>
          <a:ln w="0">
            <a:noFill/>
          </a:ln>
        </p:spPr>
      </p:pic>
      <p:pic>
        <p:nvPicPr>
          <p:cNvPr id="543" name="Picture 6" descr="C:\Documents and Settings\carola\Local Settings\Temporary Internet Files\Content.IE5\M8LJH8CM\MC900287370[1].wmf"/>
          <p:cNvPicPr/>
          <p:nvPr/>
        </p:nvPicPr>
        <p:blipFill>
          <a:blip r:embed="rId2"/>
          <a:stretch/>
        </p:blipFill>
        <p:spPr>
          <a:xfrm>
            <a:off x="3711600" y="5234040"/>
            <a:ext cx="1528560" cy="122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1028" descr=""/>
          <p:cNvPicPr/>
          <p:nvPr/>
        </p:nvPicPr>
        <p:blipFill>
          <a:blip r:embed="rId1"/>
          <a:stretch/>
        </p:blipFill>
        <p:spPr>
          <a:xfrm>
            <a:off x="112680" y="671400"/>
            <a:ext cx="8904240" cy="5386680"/>
          </a:xfrm>
          <a:prstGeom prst="rect">
            <a:avLst/>
          </a:prstGeom>
          <a:ln w="0">
            <a:noFill/>
          </a:ln>
        </p:spPr>
      </p:pic>
      <p:sp>
        <p:nvSpPr>
          <p:cNvPr id="545" name="Rectangle 1030"/>
          <p:cNvSpPr/>
          <p:nvPr/>
        </p:nvSpPr>
        <p:spPr>
          <a:xfrm>
            <a:off x="755640" y="6086880"/>
            <a:ext cx="8209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1f497d"/>
                </a:solidFill>
                <a:latin typeface="Arial"/>
                <a:ea typeface="新細明體"/>
              </a:rPr>
              <a:t>Burke J Infection control-a problem for patient safety New Eng Journal of Medicine (February 13, 2003)</a:t>
            </a:r>
            <a:endParaRPr b="0" lang="en-US" sz="2000" spc="-1" strike="noStrike">
              <a:solidFill>
                <a:srgbClr val="000000"/>
              </a:solidFill>
              <a:latin typeface="Arial"/>
            </a:endParaRPr>
          </a:p>
        </p:txBody>
      </p:sp>
      <p:sp>
        <p:nvSpPr>
          <p:cNvPr id="546" name="PlaceHolder 1"/>
          <p:cNvSpPr>
            <a:spLocks noGrp="1"/>
          </p:cNvSpPr>
          <p:nvPr>
            <p:ph type="title"/>
          </p:nvPr>
        </p:nvSpPr>
        <p:spPr>
          <a:xfrm>
            <a:off x="468360" y="0"/>
            <a:ext cx="7850160" cy="668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Types of Infections</a:t>
            </a:r>
            <a:endParaRPr b="1"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90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Acknowledgments </a:t>
            </a:r>
            <a:endParaRPr b="1" lang="en-US" sz="3600" spc="-1" strike="noStrike">
              <a:solidFill>
                <a:srgbClr val="000000"/>
              </a:solidFill>
              <a:latin typeface="Trebuchet MS"/>
            </a:endParaRPr>
          </a:p>
        </p:txBody>
      </p:sp>
      <p:sp>
        <p:nvSpPr>
          <p:cNvPr id="503" name=""/>
          <p:cNvSpPr txBox="1"/>
          <p:nvPr/>
        </p:nvSpPr>
        <p:spPr>
          <a:xfrm>
            <a:off x="457200" y="1176120"/>
            <a:ext cx="8229600" cy="49496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World Health Organizatio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he World Health Organization is committed to promoting healthy outcomes for all of the world’s people.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his lecture is primarily based on the World Health Organization Patient Safety Curriculum Guide retrieved from </a:t>
            </a:r>
            <a:r>
              <a:rPr b="0" lang="en-US" sz="2800" spc="-1" strike="noStrike" u="sng">
                <a:solidFill>
                  <a:srgbClr val="0000ff"/>
                </a:solidFill>
                <a:uFillTx/>
                <a:latin typeface="Trebuchet MS"/>
                <a:ea typeface="新細明體"/>
                <a:hlinkClick r:id="rId1"/>
              </a:rPr>
              <a:t>http://www.who.int/patientsafety/education/curriculum/en/index.html</a:t>
            </a:r>
            <a:r>
              <a:rPr b="0" lang="en-US" sz="2800" spc="-1" strike="noStrike">
                <a:solidFill>
                  <a:srgbClr val="000000"/>
                </a:solidFill>
                <a:latin typeface="Trebuchet MS"/>
                <a:ea typeface="新細明體"/>
              </a:rPr>
              <a: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新細明體"/>
              </a:rPr>
              <a:t>Four Ways</a:t>
            </a:r>
            <a:r>
              <a:rPr b="1" lang="en-US" sz="4400" spc="-1" strike="noStrike">
                <a:solidFill>
                  <a:srgbClr val="ff0000"/>
                </a:solidFill>
                <a:latin typeface="Trebuchet MS"/>
                <a:ea typeface="新細明體"/>
              </a:rPr>
              <a:t> </a:t>
            </a:r>
            <a:r>
              <a:rPr b="1" lang="en-US" sz="4400" spc="-1" strike="noStrike">
                <a:solidFill>
                  <a:srgbClr val="000000"/>
                </a:solidFill>
                <a:latin typeface="Trebuchet MS"/>
                <a:ea typeface="新細明體"/>
              </a:rPr>
              <a:t>to Prevent HAI</a:t>
            </a:r>
            <a:endParaRPr b="1" lang="en-US" sz="4400" spc="-1" strike="noStrike">
              <a:solidFill>
                <a:srgbClr val="000000"/>
              </a:solidFill>
              <a:latin typeface="Trebuchet MS"/>
            </a:endParaRPr>
          </a:p>
        </p:txBody>
      </p:sp>
      <p:sp>
        <p:nvSpPr>
          <p:cNvPr id="548"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Maintain cleanliness of the hospital.</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Personal attention to handwashing before and after every contact with a patient or object.</a:t>
            </a:r>
            <a:r>
              <a:rPr b="0" lang="en-US" sz="2800" spc="-1" strike="noStrike">
                <a:solidFill>
                  <a:srgbClr val="ff0000"/>
                </a:solidFill>
                <a:latin typeface="Trebuchet MS"/>
                <a:ea typeface="微軟正黑體"/>
              </a:rPr>
              <a:t> </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Use personal protective equipment whenever indicated.</a:t>
            </a:r>
            <a:endParaRPr b="0" lang="en-US" sz="2800" spc="-1" strike="noStrike">
              <a:solidFill>
                <a:srgbClr val="000000"/>
              </a:solidFill>
              <a:latin typeface="Trebuchet MS"/>
            </a:endParaRPr>
          </a:p>
          <a:p>
            <a:pPr marL="514440" indent="-51444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Use and dispose of sharps safel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a:solidFill>
                  <a:srgbClr val="000000"/>
                </a:solidFill>
                <a:latin typeface="Trebuchet MS"/>
                <a:ea typeface="新細明體"/>
              </a:rPr>
              <a:t>Prevention in Hospitals and Clinics</a:t>
            </a:r>
            <a:endParaRPr b="1" lang="en-US" sz="4400" spc="-1" strike="noStrike">
              <a:solidFill>
                <a:srgbClr val="000000"/>
              </a:solidFill>
              <a:latin typeface="Trebuchet MS"/>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Studies show infections are minimized when hospitals/clinic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Are visibly clea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Use increased levels of cleaning during outbreak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Use hypochlorite and detergents during outbrea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revention through Handwashing</a:t>
            </a:r>
            <a:endParaRPr b="1" lang="en-US" sz="3600" spc="-1" strike="noStrike">
              <a:solidFill>
                <a:srgbClr val="000000"/>
              </a:solidFill>
              <a:latin typeface="Trebuchet MS"/>
            </a:endParaRPr>
          </a:p>
        </p:txBody>
      </p:sp>
      <p:sp>
        <p:nvSpPr>
          <p:cNvPr id="552" name=""/>
          <p:cNvSpPr txBox="1"/>
          <p:nvPr/>
        </p:nvSpPr>
        <p:spPr>
          <a:xfrm>
            <a:off x="228240" y="1143000"/>
            <a:ext cx="8458200" cy="542448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andwashing: the single most important intervention </a:t>
            </a:r>
            <a:r>
              <a:rPr b="1" i="1" lang="en-US" sz="2800" spc="-1" strike="noStrike">
                <a:solidFill>
                  <a:srgbClr val="000000"/>
                </a:solidFill>
                <a:latin typeface="Trebuchet MS"/>
                <a:ea typeface="新細明體"/>
              </a:rPr>
              <a:t>before</a:t>
            </a:r>
            <a:r>
              <a:rPr b="0" lang="en-US" sz="2800" spc="-1" strike="noStrike">
                <a:solidFill>
                  <a:srgbClr val="000000"/>
                </a:solidFill>
                <a:latin typeface="Trebuchet MS"/>
                <a:ea typeface="新細明體"/>
              </a:rPr>
              <a:t> and </a:t>
            </a:r>
            <a:r>
              <a:rPr b="1" i="1" lang="en-US" sz="2800" spc="-1" strike="noStrike">
                <a:solidFill>
                  <a:srgbClr val="000000"/>
                </a:solidFill>
                <a:latin typeface="Trebuchet MS"/>
                <a:ea typeface="新細明體"/>
              </a:rPr>
              <a:t>after</a:t>
            </a:r>
            <a:r>
              <a:rPr b="0" lang="en-US" sz="2800" spc="-1" strike="noStrike">
                <a:solidFill>
                  <a:srgbClr val="000000"/>
                </a:solidFill>
                <a:latin typeface="Trebuchet MS"/>
                <a:ea typeface="新細明體"/>
              </a:rPr>
              <a:t>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quired knowledge and skill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How to clean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Rationale for choice of clean hand practice</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Techniques for hand hygiene</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Protect hands from contaminant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Promote adherence to hand hygiene guidelin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Five moments for hand hygiene</a:t>
            </a:r>
            <a:endParaRPr b="1" lang="en-US" sz="3600" spc="-1" strike="noStrike">
              <a:solidFill>
                <a:srgbClr val="000000"/>
              </a:solidFill>
              <a:latin typeface="Trebuchet MS"/>
            </a:endParaRPr>
          </a:p>
        </p:txBody>
      </p:sp>
      <p:sp>
        <p:nvSpPr>
          <p:cNvPr id="5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fore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efore an aseptic task</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body fluid exposure even if wearing glove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patient contac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fter contact with patient surround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87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Your 5 moments for </a:t>
            </a:r>
            <a:r>
              <a:rPr b="1" lang="en-US" sz="3600" spc="-1" strike="noStrike">
                <a:solidFill>
                  <a:srgbClr val="ff3300"/>
                </a:solidFill>
                <a:latin typeface="Trebuchet MS"/>
                <a:ea typeface="新細明體"/>
              </a:rPr>
              <a:t>HAND HYGIENE</a:t>
            </a:r>
            <a:endParaRPr b="1" lang="en-US" sz="3600" spc="-1" strike="noStrike">
              <a:solidFill>
                <a:srgbClr val="000000"/>
              </a:solidFill>
              <a:latin typeface="Trebuchet MS"/>
            </a:endParaRPr>
          </a:p>
        </p:txBody>
      </p:sp>
      <p:pic>
        <p:nvPicPr>
          <p:cNvPr id="556" name="Picture 4" descr=""/>
          <p:cNvPicPr/>
          <p:nvPr/>
        </p:nvPicPr>
        <p:blipFill>
          <a:blip r:embed="rId1"/>
          <a:stretch/>
        </p:blipFill>
        <p:spPr>
          <a:xfrm>
            <a:off x="1054080" y="1152360"/>
            <a:ext cx="7155000" cy="549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How to Clean Hands</a:t>
            </a:r>
            <a:endParaRPr b="1" lang="en-US" sz="3600" spc="-1" strike="noStrike">
              <a:solidFill>
                <a:srgbClr val="000000"/>
              </a:solidFill>
              <a:latin typeface="Trebuchet MS"/>
            </a:endParaRPr>
          </a:p>
        </p:txBody>
      </p:sp>
      <p:sp>
        <p:nvSpPr>
          <p:cNvPr id="558" name=""/>
          <p:cNvSpPr txBox="1"/>
          <p:nvPr/>
        </p:nvSpPr>
        <p:spPr>
          <a:xfrm>
            <a:off x="457200" y="1731600"/>
            <a:ext cx="8229600" cy="45277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emove all wrist and hand jewelr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Cover cuts and abrasions with waterproof dressing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eep fingernails short, clean, and free from nail polish.</a:t>
            </a:r>
            <a:endParaRPr b="0" lang="en-US" sz="2800" spc="-1" strike="noStrike">
              <a:solidFill>
                <a:srgbClr val="000000"/>
              </a:solidFill>
              <a:latin typeface="Trebuchet MS"/>
            </a:endParaRPr>
          </a:p>
        </p:txBody>
      </p:sp>
      <p:pic>
        <p:nvPicPr>
          <p:cNvPr id="559" name="Picture 8" descr="C:\Documents and Settings\carola\Local Settings\Temporary Internet Files\Content.IE5\M8LJH8CM\MP900433075[1].jpg"/>
          <p:cNvPicPr/>
          <p:nvPr/>
        </p:nvPicPr>
        <p:blipFill>
          <a:blip r:embed="rId1"/>
          <a:stretch/>
        </p:blipFill>
        <p:spPr>
          <a:xfrm>
            <a:off x="3343320" y="3995640"/>
            <a:ext cx="2531880" cy="213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ff"/>
                </a:solidFill>
                <a:uFillTx/>
                <a:latin typeface="Trebuchet MS"/>
                <a:ea typeface="新細明體"/>
                <a:hlinkClick r:id="rId1"/>
              </a:rPr>
              <a:t>Effective Handwashing Technique</a:t>
            </a:r>
            <a:endParaRPr b="1" lang="en-US" sz="3600" spc="-1" strike="noStrike">
              <a:solidFill>
                <a:srgbClr val="000000"/>
              </a:solidFill>
              <a:latin typeface="Trebuchet MS"/>
            </a:endParaRPr>
          </a:p>
        </p:txBody>
      </p:sp>
      <p:sp>
        <p:nvSpPr>
          <p:cNvPr id="561" name=""/>
          <p:cNvSpPr txBox="1"/>
          <p:nvPr/>
        </p:nvSpPr>
        <p:spPr>
          <a:xfrm>
            <a:off x="457200" y="1600200"/>
            <a:ext cx="8229600" cy="4903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Wet hands under tepid running water</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pply soap or antimicrobial preparation</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solution must have contact with whole surface area of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vigorous rubbing of hands for 10–15 second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especially tips of fingers, thumbs and areas between finger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Rinse completel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Dry hands with good quality paper towe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ff"/>
                </a:solidFill>
                <a:uFillTx/>
                <a:latin typeface="Trebuchet MS"/>
                <a:ea typeface="新細明體"/>
                <a:hlinkClick r:id="rId1"/>
              </a:rPr>
              <a:t>How to use waterless handrub</a:t>
            </a:r>
            <a:endParaRPr b="1" lang="en-US" sz="3600" spc="-1" strike="noStrike">
              <a:solidFill>
                <a:srgbClr val="000000"/>
              </a:solidFill>
              <a:latin typeface="Trebuchet MS"/>
            </a:endParaRPr>
          </a:p>
        </p:txBody>
      </p:sp>
      <p:sp>
        <p:nvSpPr>
          <p:cNvPr id="563" name=""/>
          <p:cNvSpPr txBox="1"/>
          <p:nvPr/>
        </p:nvSpPr>
        <p:spPr>
          <a:xfrm>
            <a:off x="457200" y="1417680"/>
            <a:ext cx="8229600" cy="5062320"/>
          </a:xfrm>
          <a:prstGeom prst="rect">
            <a:avLst/>
          </a:prstGeom>
          <a:noFill/>
          <a:ln w="0">
            <a:noFill/>
          </a:ln>
        </p:spPr>
        <p:txBody>
          <a:bodyPr anchor="t">
            <a:normAutofit/>
          </a:bodyPr>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pply a palmful of product in cupped han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ub hands palm to palm </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ight palm over left hand with interlaced finger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Palm to palm with fingers interlace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Backs of fingers to opposing palms with fingers intelocked</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ub between thumb and forefinger</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Rotational rubbing, backwards and forwards with clasped fingers of right hand in left palm and vice versa</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Once dry your hands are saf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0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Resources for Correct Handwashing Procedures</a:t>
            </a:r>
            <a:endParaRPr b="1" lang="en-US" sz="3600" spc="-1" strike="noStrike">
              <a:solidFill>
                <a:srgbClr val="000000"/>
              </a:solidFill>
              <a:latin typeface="Trebuchet MS"/>
            </a:endParaRPr>
          </a:p>
        </p:txBody>
      </p:sp>
      <p:sp>
        <p:nvSpPr>
          <p:cNvPr id="565" name=""/>
          <p:cNvSpPr txBox="1"/>
          <p:nvPr/>
        </p:nvSpPr>
        <p:spPr>
          <a:xfrm>
            <a:off x="457200" y="1163520"/>
            <a:ext cx="8229600" cy="529920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Your Five Moments for Hand Hygiene</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1"/>
              </a:rPr>
              <a:t>http://www.who.int/gpsc/tools/5momentsHandHygiene_A3.pdf</a:t>
            </a:r>
            <a:endParaRPr b="0" lang="en-US" sz="24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ow to handrub? How to handwash?</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Trebuchet MS"/>
                <a:ea typeface="新細明體"/>
                <a:hlinkClick r:id="rId2"/>
              </a:rPr>
              <a:t>http://www.who.int/gpsc/tools/GPSC-HandRub-Wash.pdf</a:t>
            </a:r>
            <a:endParaRPr b="0" lang="en-US" sz="24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16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Personal Protective Equipment</a:t>
            </a:r>
            <a:endParaRPr b="1" lang="en-US" sz="3600" spc="-1" strike="noStrike">
              <a:solidFill>
                <a:srgbClr val="000000"/>
              </a:solidFill>
              <a:latin typeface="Trebuchet MS"/>
            </a:endParaRPr>
          </a:p>
        </p:txBody>
      </p:sp>
      <p:sp>
        <p:nvSpPr>
          <p:cNvPr id="567" name=""/>
          <p:cNvSpPr txBox="1"/>
          <p:nvPr/>
        </p:nvSpPr>
        <p:spPr>
          <a:xfrm>
            <a:off x="457200" y="1890360"/>
            <a:ext cx="8229600" cy="423540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Gloves, aprons, gowns, eye protection, and face mask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ealth care workers should wear a face mask, eye protection and a gown if there is the potential for blood or other bodily fluids to splash.</a:t>
            </a:r>
            <a:endParaRPr b="0" lang="en-US" sz="2800" spc="-1" strike="noStrike">
              <a:solidFill>
                <a:srgbClr val="000000"/>
              </a:solidFill>
              <a:latin typeface="Trebuchet MS"/>
            </a:endParaRPr>
          </a:p>
        </p:txBody>
      </p:sp>
      <p:pic>
        <p:nvPicPr>
          <p:cNvPr id="568" name="Picture 6" descr="C:\Documents and Settings\carola\Local Settings\Temporary Internet Files\Content.IE5\1EBDN5AL\MC900363988[1].wmf"/>
          <p:cNvPicPr/>
          <p:nvPr/>
        </p:nvPicPr>
        <p:blipFill>
          <a:blip r:embed="rId1"/>
          <a:stretch/>
        </p:blipFill>
        <p:spPr>
          <a:xfrm>
            <a:off x="6399360" y="4449600"/>
            <a:ext cx="183168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236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Learning Objectives</a:t>
            </a:r>
            <a:endParaRPr b="1" lang="en-US" sz="3600" spc="-1" strike="noStrike">
              <a:solidFill>
                <a:srgbClr val="000000"/>
              </a:solidFill>
              <a:latin typeface="Trebuchet MS"/>
            </a:endParaRPr>
          </a:p>
        </p:txBody>
      </p:sp>
      <p:sp>
        <p:nvSpPr>
          <p:cNvPr id="505" name=""/>
          <p:cNvSpPr txBox="1"/>
          <p:nvPr/>
        </p:nvSpPr>
        <p:spPr>
          <a:xfrm>
            <a:off x="457200" y="1510920"/>
            <a:ext cx="8229600" cy="4971960"/>
          </a:xfrm>
          <a:prstGeom prst="rect">
            <a:avLst/>
          </a:prstGeom>
          <a:noFill/>
          <a:ln w="0">
            <a:noFill/>
          </a:ln>
        </p:spPr>
        <p:txBody>
          <a:bodyPr anchor="t">
            <a:normAutofit/>
          </a:bodyPr>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Recognize patient safety as an important nursing responsibility in global health care systems.</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pply required knowledge in preventing and/or minimizing infection. </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Perform appropriate behaviors required to prevent health care associated infections.</a:t>
            </a:r>
            <a:endParaRPr b="0" lang="en-US" sz="2800" spc="-1" strike="noStrike">
              <a:solidFill>
                <a:srgbClr val="000000"/>
              </a:solidFill>
              <a:latin typeface="Trebuchet MS"/>
            </a:endParaRPr>
          </a:p>
          <a:p>
            <a:pPr marL="533520" indent="-533520">
              <a:spcBef>
                <a:spcPts val="700"/>
              </a:spcBef>
              <a:buClr>
                <a:srgbClr val="800837"/>
              </a:buClr>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Demonstrate required competence to provide patients with safe care.</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Personal protective equipment 2</a:t>
            </a:r>
            <a:endParaRPr b="1" lang="en-US" sz="3600" spc="-1" strike="noStrike">
              <a:solidFill>
                <a:srgbClr val="000000"/>
              </a:solidFill>
              <a:latin typeface="Trebuchet MS"/>
            </a:endParaRPr>
          </a:p>
        </p:txBody>
      </p:sp>
      <p:sp>
        <p:nvSpPr>
          <p:cNvPr id="5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Masks should be worn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if an airborne infection is suspected or confirmed</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 </a:t>
            </a:r>
            <a:r>
              <a:rPr b="0" lang="en-US" sz="2800" spc="-1" strike="noStrike">
                <a:solidFill>
                  <a:srgbClr val="000000"/>
                </a:solidFill>
                <a:latin typeface="Trebuchet MS"/>
                <a:ea typeface="新細明體"/>
              </a:rPr>
              <a:t>to protect an immune compromised patien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pic>
        <p:nvPicPr>
          <p:cNvPr id="571" name="Picture 3" descr="C:\Documents and Settings\carola\Local Settings\Temporary Internet Files\Content.IE5\S38OC8DM\MC900332706[1].wmf"/>
          <p:cNvPicPr/>
          <p:nvPr/>
        </p:nvPicPr>
        <p:blipFill>
          <a:blip r:embed="rId1"/>
          <a:stretch/>
        </p:blipFill>
        <p:spPr>
          <a:xfrm>
            <a:off x="6051600" y="3968640"/>
            <a:ext cx="1463760" cy="181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Gloves</a:t>
            </a:r>
            <a:endParaRPr b="1" lang="en-US" sz="3600" spc="-1" strike="noStrike">
              <a:solidFill>
                <a:srgbClr val="000000"/>
              </a:solidFill>
              <a:latin typeface="Trebuchet MS"/>
            </a:endParaRPr>
          </a:p>
        </p:txBody>
      </p:sp>
      <p:sp>
        <p:nvSpPr>
          <p:cNvPr id="5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Gloves must be worn for:</a:t>
            </a:r>
            <a:endParaRPr b="0" lang="en-US" sz="28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ll invasive procedur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contact with sterile sit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contact with non-intact skin or mucous membranes</a:t>
            </a:r>
            <a:endParaRPr b="0" lang="en-US" sz="2400" spc="-1" strike="noStrike">
              <a:solidFill>
                <a:srgbClr val="000000"/>
              </a:solidFill>
              <a:latin typeface="Trebuchet MS"/>
            </a:endParaRPr>
          </a:p>
          <a:p>
            <a:pPr marL="343080" indent="-343080">
              <a:spcBef>
                <a:spcPts val="6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新細明體"/>
              </a:rPr>
              <a:t>all activities assessed as having a risk of exposure to blood, bodily fluids, secretions and excretions, and handling sharps or contaminated instruments.</a:t>
            </a:r>
            <a:endParaRPr b="0" lang="en-US" sz="2400" spc="-1" strike="noStrike">
              <a:solidFill>
                <a:srgbClr val="000000"/>
              </a:solidFill>
              <a:latin typeface="Trebuchet MS"/>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Hands should be washed before and after gloving</a:t>
            </a:r>
            <a:endParaRPr b="0" lang="en-US" sz="2800" spc="-1" strike="noStrike">
              <a:solidFill>
                <a:srgbClr val="000000"/>
              </a:solidFill>
              <a:latin typeface="Trebuchet MS"/>
            </a:endParaRPr>
          </a:p>
        </p:txBody>
      </p:sp>
      <p:pic>
        <p:nvPicPr>
          <p:cNvPr id="574" name="Picture 4" descr="C:\Documents and Settings\carola\Local Settings\Temporary Internet Files\Content.IE5\M8LJH8CM\MC900371340[1].wmf"/>
          <p:cNvPicPr/>
          <p:nvPr/>
        </p:nvPicPr>
        <p:blipFill>
          <a:blip r:embed="rId1"/>
          <a:stretch/>
        </p:blipFill>
        <p:spPr>
          <a:xfrm>
            <a:off x="7058160" y="5197320"/>
            <a:ext cx="1628640" cy="1311480"/>
          </a:xfrm>
          <a:prstGeom prst="rect">
            <a:avLst/>
          </a:prstGeom>
          <a:ln w="0">
            <a:noFill/>
          </a:ln>
        </p:spPr>
      </p:pic>
      <p:pic>
        <p:nvPicPr>
          <p:cNvPr id="575" name="Picture 7" descr="C:\Documents and Settings\carola\Local Settings\Temporary Internet Files\Content.IE5\S38OC8DM\MC900018421[1].wmf"/>
          <p:cNvPicPr/>
          <p:nvPr/>
        </p:nvPicPr>
        <p:blipFill>
          <a:blip r:embed="rId2"/>
          <a:stretch/>
        </p:blipFill>
        <p:spPr>
          <a:xfrm>
            <a:off x="457200" y="274680"/>
            <a:ext cx="1879560" cy="126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Safe Use and Disposal of Sharps</a:t>
            </a:r>
            <a:endParaRPr b="1" lang="en-US" sz="3600" spc="-1" strike="noStrike">
              <a:solidFill>
                <a:srgbClr val="000000"/>
              </a:solidFill>
              <a:latin typeface="Trebuchet MS"/>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Keep handling to a minimum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recap needles; bend or break after us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iscard each needle into a sharps container at the point of us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overload a bin if it is ful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Do not leave a sharp bin in the reach of children</a:t>
            </a:r>
            <a:endParaRPr b="0" lang="en-US" sz="2800" spc="-1" strike="noStrike">
              <a:solidFill>
                <a:srgbClr val="000000"/>
              </a:solidFill>
              <a:latin typeface="Trebuchet MS"/>
            </a:endParaRPr>
          </a:p>
        </p:txBody>
      </p:sp>
      <p:pic>
        <p:nvPicPr>
          <p:cNvPr id="578" name="Picture 4" descr="C:\Documents and Settings\carola\Local Settings\Temporary Internet Files\Content.IE5\SC34GKUH\MC900292556[1].wmf"/>
          <p:cNvPicPr/>
          <p:nvPr/>
        </p:nvPicPr>
        <p:blipFill>
          <a:blip r:embed="rId1"/>
          <a:stretch/>
        </p:blipFill>
        <p:spPr>
          <a:xfrm>
            <a:off x="3071880" y="5241960"/>
            <a:ext cx="1717560" cy="83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Required Performance</a:t>
            </a:r>
            <a:endParaRPr b="1" lang="en-US" sz="3600" spc="-1" strike="noStrike">
              <a:solidFill>
                <a:srgbClr val="000000"/>
              </a:solidFill>
              <a:latin typeface="Trebuchet MS"/>
            </a:endParaRPr>
          </a:p>
        </p:txBody>
      </p:sp>
      <p:sp>
        <p:nvSpPr>
          <p:cNvPr id="5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Nursing students need to:</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a</a:t>
            </a:r>
            <a:r>
              <a:rPr b="0" lang="en-GB" sz="2800" spc="-1" strike="noStrike">
                <a:solidFill>
                  <a:srgbClr val="000000"/>
                </a:solidFill>
                <a:latin typeface="Trebuchet MS"/>
                <a:ea typeface="新細明體"/>
              </a:rPr>
              <a:t>pply universal precautions</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b</a:t>
            </a:r>
            <a:r>
              <a:rPr b="0" lang="en-GB" sz="2800" spc="-1" strike="noStrike">
                <a:solidFill>
                  <a:srgbClr val="000000"/>
                </a:solidFill>
                <a:latin typeface="Trebuchet MS"/>
                <a:ea typeface="新細明體"/>
              </a:rPr>
              <a:t>e immunized against Hepatitis B</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u</a:t>
            </a:r>
            <a:r>
              <a:rPr b="0" lang="en-GB" sz="2800" spc="-1" strike="noStrike">
                <a:solidFill>
                  <a:srgbClr val="000000"/>
                </a:solidFill>
                <a:latin typeface="Trebuchet MS"/>
                <a:ea typeface="新細明體"/>
              </a:rPr>
              <a:t>se personal protection methods</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k</a:t>
            </a:r>
            <a:r>
              <a:rPr b="0" lang="en-GB" sz="2800" spc="-1" strike="noStrike">
                <a:solidFill>
                  <a:srgbClr val="000000"/>
                </a:solidFill>
                <a:latin typeface="Trebuchet MS"/>
                <a:ea typeface="新細明體"/>
              </a:rPr>
              <a:t>now what to do if exposed</a:t>
            </a:r>
            <a:endParaRPr b="0" lang="en-US" sz="2800" spc="-1" strike="noStrike">
              <a:solidFill>
                <a:srgbClr val="000000"/>
              </a:solidFill>
              <a:latin typeface="Trebuchet MS"/>
            </a:endParaRPr>
          </a:p>
          <a:p>
            <a:pPr marL="343080" indent="-343080">
              <a:lnSpc>
                <a:spcPct val="90000"/>
              </a:lnSpc>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e</a:t>
            </a:r>
            <a:r>
              <a:rPr b="0" lang="en-GB" sz="2800" spc="-1" strike="noStrike">
                <a:solidFill>
                  <a:srgbClr val="000000"/>
                </a:solidFill>
                <a:latin typeface="Trebuchet MS"/>
                <a:ea typeface="新細明體"/>
              </a:rPr>
              <a:t>ncourage others to use universal precautio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Act to Minimize </a:t>
            </a:r>
            <a:br>
              <a:rPr sz="3600"/>
            </a:br>
            <a:r>
              <a:rPr b="1" lang="en-AU" sz="3600" spc="-1" strike="noStrike">
                <a:solidFill>
                  <a:srgbClr val="000000"/>
                </a:solidFill>
                <a:latin typeface="Trebuchet MS"/>
                <a:ea typeface="新細明體"/>
              </a:rPr>
              <a:t>Spread of Infection-1</a:t>
            </a:r>
            <a:endParaRPr b="1" lang="en-US" sz="3600" spc="-1" strike="noStrike">
              <a:solidFill>
                <a:srgbClr val="000000"/>
              </a:solidFill>
              <a:latin typeface="Trebuchet MS"/>
            </a:endParaRPr>
          </a:p>
        </p:txBody>
      </p:sp>
      <p:sp>
        <p:nvSpPr>
          <p:cNvPr id="582" name=""/>
          <p:cNvSpPr txBox="1"/>
          <p:nvPr/>
        </p:nvSpPr>
        <p:spPr>
          <a:xfrm>
            <a:off x="228240" y="2077560"/>
            <a:ext cx="8458200" cy="4048200"/>
          </a:xfrm>
          <a:prstGeom prst="rect">
            <a:avLst/>
          </a:prstGeom>
          <a:noFill/>
          <a:ln w="0">
            <a:noFill/>
          </a:ln>
        </p:spPr>
        <p:txBody>
          <a:bodyPr anchor="t">
            <a:normAutofit/>
          </a:bodyPr>
          <a:p>
            <a:pPr marL="571680" indent="-57168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rebuchet MS"/>
                <a:ea typeface="新細明體"/>
              </a:rPr>
              <a:t>Before contact with each and every patient:</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3200" spc="-1" strike="noStrike">
                <a:solidFill>
                  <a:srgbClr val="000000"/>
                </a:solidFill>
                <a:latin typeface="Trebuchet MS"/>
                <a:ea typeface="新細明體"/>
              </a:rPr>
              <a:t>clean hands before touching a patient </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before an aseptic task </a:t>
            </a:r>
            <a:endParaRPr b="0" lang="en-US" sz="3200" spc="-1" strike="noStrike">
              <a:solidFill>
                <a:srgbClr val="000000"/>
              </a:solidFill>
              <a:latin typeface="Trebuchet MS"/>
            </a:endParaRPr>
          </a:p>
          <a:p>
            <a:pPr marL="571680" indent="-571680">
              <a:spcBef>
                <a:spcPts val="799"/>
              </a:spcBef>
              <a:buClr>
                <a:srgbClr val="800837"/>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Act to Minimize </a:t>
            </a:r>
            <a:br>
              <a:rPr sz="3600"/>
            </a:br>
            <a:r>
              <a:rPr b="1" lang="en-AU" sz="3600" spc="-1" strike="noStrike">
                <a:solidFill>
                  <a:srgbClr val="000000"/>
                </a:solidFill>
                <a:latin typeface="Trebuchet MS"/>
                <a:ea typeface="新細明體"/>
              </a:rPr>
              <a:t>Spread of Infection-2</a:t>
            </a:r>
            <a:endParaRPr b="1" lang="en-US" sz="3600" spc="-1" strike="noStrike">
              <a:solidFill>
                <a:srgbClr val="000000"/>
              </a:solidFill>
              <a:latin typeface="Trebuchet MS"/>
            </a:endParaRPr>
          </a:p>
        </p:txBody>
      </p:sp>
      <p:sp>
        <p:nvSpPr>
          <p:cNvPr id="584" name=""/>
          <p:cNvSpPr txBox="1"/>
          <p:nvPr/>
        </p:nvSpPr>
        <p:spPr>
          <a:xfrm>
            <a:off x="228240" y="2077560"/>
            <a:ext cx="8458200" cy="4048200"/>
          </a:xfrm>
          <a:prstGeom prst="rect">
            <a:avLst/>
          </a:prstGeom>
          <a:noFill/>
          <a:ln w="0">
            <a:noFill/>
          </a:ln>
        </p:spPr>
        <p:txBody>
          <a:bodyPr anchor="t">
            <a:normAutofit/>
          </a:bodyPr>
          <a:p>
            <a:pPr marL="571680" indent="-57168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rebuchet MS"/>
                <a:ea typeface="新細明體"/>
              </a:rPr>
              <a:t>After contact with each and every patient: </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after any risk of exposure to body fluids</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Trebuchet MS"/>
                <a:ea typeface="新細明體"/>
              </a:rPr>
              <a:t>clean hands after actual patient contact</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3200" spc="-1" strike="noStrike">
                <a:solidFill>
                  <a:srgbClr val="000000"/>
                </a:solidFill>
                <a:latin typeface="Trebuchet MS"/>
                <a:ea typeface="新細明體"/>
              </a:rPr>
              <a:t>clean hands after contact with patient surroundings</a:t>
            </a:r>
            <a:endParaRPr b="0" lang="en-US" sz="3200" spc="-1" strike="noStrike">
              <a:solidFill>
                <a:srgbClr val="000000"/>
              </a:solidFill>
              <a:latin typeface="Trebuchet MS"/>
            </a:endParaRPr>
          </a:p>
          <a:p>
            <a:pPr lvl="1" marL="990720" indent="-533520">
              <a:lnSpc>
                <a:spcPct val="90000"/>
              </a:lnSpc>
              <a:spcBef>
                <a:spcPts val="799"/>
              </a:spcBef>
              <a:buClr>
                <a:srgbClr val="800837"/>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Trebuchet MS"/>
            </a:endParaRPr>
          </a:p>
          <a:p>
            <a:pPr marL="571680" indent="-571680">
              <a:spcBef>
                <a:spcPts val="799"/>
              </a:spcBef>
              <a:buClr>
                <a:srgbClr val="800837"/>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Trebuchet MS"/>
                <a:ea typeface="新細明體"/>
              </a:rPr>
              <a:t>Encourage Others to Participate in Infection Control</a:t>
            </a:r>
            <a:endParaRPr b="1" lang="en-US" sz="3600" spc="-1" strike="noStrike">
              <a:solidFill>
                <a:srgbClr val="000000"/>
              </a:solidFill>
              <a:latin typeface="Trebuchet MS"/>
            </a:endParaRPr>
          </a:p>
        </p:txBody>
      </p:sp>
      <p:sp>
        <p:nvSpPr>
          <p:cNvPr id="586" name=""/>
          <p:cNvSpPr txBox="1"/>
          <p:nvPr/>
        </p:nvSpPr>
        <p:spPr>
          <a:xfrm>
            <a:off x="457200" y="2077560"/>
            <a:ext cx="8229600" cy="40482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Students may routinely observe staff who: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apply inadequate technique in handwashing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fail to wash hand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routinely violate correct infection control procedur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Summary-1</a:t>
            </a:r>
            <a:endParaRPr b="1" lang="en-US" sz="3600" spc="-1" strike="noStrike">
              <a:solidFill>
                <a:srgbClr val="000000"/>
              </a:solidFill>
              <a:latin typeface="Trebuchet MS"/>
            </a:endParaRPr>
          </a:p>
        </p:txBody>
      </p:sp>
      <p:sp>
        <p:nvSpPr>
          <p:cNvPr id="5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Know the main guidelines in each of the clinical environments you are assigned.</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Accept responsibility for minimizing opportunities for infection transmission. </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Let staff know if supplies are inadequate or depleted.</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Summary-2</a:t>
            </a:r>
            <a:endParaRPr b="1" lang="en-US" sz="3600" spc="-1" strike="noStrike">
              <a:solidFill>
                <a:srgbClr val="000000"/>
              </a:solidFill>
              <a:latin typeface="Trebuchet MS"/>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Educate patients and families/visitors about clean hands and infection transmission.</a:t>
            </a:r>
            <a:endParaRPr b="0" lang="en-US" sz="3200" spc="-1" strike="noStrike">
              <a:solidFill>
                <a:srgbClr val="000000"/>
              </a:solidFill>
              <a:latin typeface="Trebuchet MS"/>
            </a:endParaRPr>
          </a:p>
          <a:p>
            <a:pPr marL="343080" indent="-343080">
              <a:spcBef>
                <a:spcPts val="7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ea typeface="新細明體"/>
              </a:rPr>
              <a:t>Ensure patients on precautions have same standard of care as others:</a:t>
            </a:r>
            <a:endParaRPr b="0" lang="en-US" sz="32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frequency of entering the room</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新細明體"/>
              </a:rPr>
              <a:t>monitoring vital sign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References </a:t>
            </a:r>
            <a:endParaRPr b="1" lang="en-US" sz="3600" spc="-1" strike="noStrike">
              <a:solidFill>
                <a:srgbClr val="000000"/>
              </a:solidFill>
              <a:latin typeface="Trebuchet MS"/>
            </a:endParaRPr>
          </a:p>
        </p:txBody>
      </p:sp>
      <p:sp>
        <p:nvSpPr>
          <p:cNvPr id="592" name=""/>
          <p:cNvSpPr txBox="1"/>
          <p:nvPr/>
        </p:nvSpPr>
        <p:spPr>
          <a:xfrm>
            <a:off x="457200" y="1417320"/>
            <a:ext cx="8229600" cy="4708440"/>
          </a:xfrm>
          <a:prstGeom prst="rect">
            <a:avLst/>
          </a:prstGeom>
          <a:noFill/>
          <a:ln w="0">
            <a:noFill/>
          </a:ln>
        </p:spPr>
        <p:txBody>
          <a:bodyPr anchor="t">
            <a:normAutofit/>
          </a:bodyPr>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WHO Patient Safety Curriculum Guide for Medical Schools. </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Topic 1: What is patient safety?</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World Health Organization. (2010). Topic 9: Minimizing infection through improved infection control.</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Emanuel, L., Berwick, D., Conway, J., Combes, J., Hatlie, M., Leape, L., Reason, J., Schyve, P., Vincent, C., &amp; Walton, M. (2008). What exactly is patient safety? </a:t>
            </a:r>
            <a:r>
              <a:rPr b="0" i="1" lang="en-US" sz="2000" spc="-1" strike="noStrike">
                <a:solidFill>
                  <a:srgbClr val="000000"/>
                </a:solidFill>
                <a:latin typeface="Trebuchet MS"/>
                <a:ea typeface="新細明體"/>
              </a:rPr>
              <a:t>Advances in Patient Safety</a:t>
            </a:r>
            <a:r>
              <a:rPr b="0" lang="en-US" sz="2000" spc="-1" strike="noStrike">
                <a:solidFill>
                  <a:srgbClr val="000000"/>
                </a:solidFill>
                <a:latin typeface="Trebuchet MS"/>
                <a:ea typeface="新細明體"/>
              </a:rPr>
              <a:t>, Vol. 1: Assessment. Retrieved from </a:t>
            </a:r>
            <a:r>
              <a:rPr b="0" lang="en-US" sz="2000" spc="-1" strike="noStrike" u="sng">
                <a:solidFill>
                  <a:srgbClr val="0000ff"/>
                </a:solidFill>
                <a:uFillTx/>
                <a:latin typeface="Trebuchet MS"/>
                <a:ea typeface="新細明體"/>
                <a:hlinkClick r:id="rId1"/>
              </a:rPr>
              <a:t>http://www.ncbi.nlm.nih.gov/bookshelf/br.fcgi?book=aps2v1&amp;part=advances-emanuel-berwick_110</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ea typeface="新細明體"/>
              </a:rPr>
              <a:t>Burke, J. P. (2003). Infection control — A problem for patient safety. </a:t>
            </a:r>
            <a:r>
              <a:rPr b="0" i="1" lang="en-US" sz="2000" spc="-1" strike="noStrike">
                <a:solidFill>
                  <a:srgbClr val="000000"/>
                </a:solidFill>
                <a:latin typeface="Trebuchet MS"/>
                <a:ea typeface="新細明體"/>
              </a:rPr>
              <a:t>The New England Journal of Medicine, 348</a:t>
            </a:r>
            <a:r>
              <a:rPr b="0" lang="en-US" sz="2000" spc="-1" strike="noStrike">
                <a:solidFill>
                  <a:srgbClr val="000000"/>
                </a:solidFill>
                <a:latin typeface="Trebuchet MS"/>
                <a:ea typeface="新細明體"/>
              </a:rPr>
              <a:t>, p. 651-656.</a:t>
            </a: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a:p>
            <a:pPr marL="343080" indent="-343080">
              <a:spcBef>
                <a:spcPts val="499"/>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680"/>
            <a:ext cx="8229600" cy="1533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Definition</a:t>
            </a:r>
            <a:endParaRPr b="1" lang="en-US" sz="3600" spc="-1" strike="noStrike">
              <a:solidFill>
                <a:srgbClr val="000000"/>
              </a:solidFill>
              <a:latin typeface="Trebuchet MS"/>
            </a:endParaRPr>
          </a:p>
        </p:txBody>
      </p:sp>
      <p:sp>
        <p:nvSpPr>
          <p:cNvPr id="507" name=""/>
          <p:cNvSpPr txBox="1"/>
          <p:nvPr/>
        </p:nvSpPr>
        <p:spPr>
          <a:xfrm>
            <a:off x="457200" y="1808280"/>
            <a:ext cx="8229600" cy="463392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atient safety is a discipline in the health care sector that applies safety science methods toward the goal of achieving a trustworthy system of health care delivery. Patient safety is also an attribute of health care systems; it minimizes the incidence and impact of, and maximizes recovery from, adverse events </a:t>
            </a:r>
            <a:r>
              <a:rPr b="0" lang="en-US" sz="2000" spc="-1" strike="noStrike">
                <a:solidFill>
                  <a:srgbClr val="000000"/>
                </a:solidFill>
                <a:latin typeface="Trebuchet MS"/>
                <a:ea typeface="微軟正黑體"/>
              </a:rPr>
              <a:t>(Emanuel et al., 2008)</a:t>
            </a:r>
            <a:r>
              <a:rPr b="0" lang="en-US" sz="2800" spc="-1" strike="noStrike">
                <a:solidFill>
                  <a:srgbClr val="000000"/>
                </a:solidFill>
                <a:latin typeface="Trebuchet MS"/>
                <a:ea typeface="微軟正黑體"/>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428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 Background</a:t>
            </a:r>
            <a:endParaRPr b="1" lang="en-US" sz="3600" spc="-1" strike="noStrike">
              <a:solidFill>
                <a:srgbClr val="000000"/>
              </a:solidFill>
              <a:latin typeface="Trebuchet MS"/>
            </a:endParaRPr>
          </a:p>
        </p:txBody>
      </p:sp>
      <p:sp>
        <p:nvSpPr>
          <p:cNvPr id="509" name=""/>
          <p:cNvSpPr txBox="1"/>
          <p:nvPr/>
        </p:nvSpPr>
        <p:spPr>
          <a:xfrm>
            <a:off x="457200" y="1995480"/>
            <a:ext cx="8229600" cy="41306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dverse medical events are widespread and preventable </a:t>
            </a:r>
            <a:r>
              <a:rPr b="0" lang="en-US" sz="2000" spc="-1" strike="noStrike">
                <a:solidFill>
                  <a:srgbClr val="000000"/>
                </a:solidFill>
                <a:latin typeface="Trebuchet MS"/>
                <a:ea typeface="微軟正黑體"/>
              </a:rPr>
              <a:t>(Emanuel et al., 2008)</a:t>
            </a:r>
            <a:r>
              <a:rPr b="0" lang="en-US" sz="2800" spc="-1" strike="noStrike">
                <a:solidFill>
                  <a:srgbClr val="000000"/>
                </a:solidFill>
                <a:latin typeface="Trebuchet MS"/>
                <a:ea typeface="微軟正黑體"/>
              </a:rPr>
              <a:t>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Trebuchet MS"/>
                <a:ea typeface="新細明體"/>
              </a:rPr>
              <a:t>Much unnecessary harm is caused by health-care errors and system failures.</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Ex. 1: Hospital acquired infections from poor hand-washing.</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Trebuchet MS"/>
                <a:ea typeface="新細明體"/>
              </a:rPr>
              <a:t>Ex. 2: Complications from administering the wrong medication.</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679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br>
              <a:rPr sz="3600"/>
            </a:br>
            <a:r>
              <a:rPr b="1" lang="en-US" sz="3600" spc="-1" strike="noStrike">
                <a:solidFill>
                  <a:srgbClr val="000000"/>
                </a:solidFill>
                <a:latin typeface="Trebuchet MS"/>
                <a:ea typeface="微軟正黑體"/>
              </a:rPr>
              <a:t>Goal</a:t>
            </a:r>
            <a:endParaRPr b="1" lang="en-US" sz="3600" spc="-1" strike="noStrike">
              <a:solidFill>
                <a:srgbClr val="000000"/>
              </a:solidFill>
              <a:latin typeface="Trebuchet MS"/>
            </a:endParaRPr>
          </a:p>
        </p:txBody>
      </p:sp>
      <p:sp>
        <p:nvSpPr>
          <p:cNvPr id="511" name=""/>
          <p:cNvSpPr txBox="1"/>
          <p:nvPr/>
        </p:nvSpPr>
        <p:spPr>
          <a:xfrm>
            <a:off x="457200" y="1953720"/>
            <a:ext cx="8229600" cy="4172040"/>
          </a:xfrm>
          <a:prstGeom prst="rect">
            <a:avLst/>
          </a:prstGeom>
          <a:noFill/>
          <a:ln w="0">
            <a:noFill/>
          </a:ln>
        </p:spPr>
        <p:txBody>
          <a:bodyPr anchor="t">
            <a:normAutofit/>
          </a:bodyPr>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Prevent and/or minimize the adverse events and eliminate preventable harm in health care.</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ll health care professionals including nurses are responsible for ensuring patient safety</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229600" cy="1334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Introduction to Patient Safety:</a:t>
            </a:r>
            <a:endParaRPr b="1" lang="en-US" sz="3600" spc="-1" strike="noStrike">
              <a:solidFill>
                <a:srgbClr val="000000"/>
              </a:solidFill>
              <a:latin typeface="Trebuchet MS"/>
            </a:endParaRPr>
          </a:p>
        </p:txBody>
      </p:sp>
      <p:sp>
        <p:nvSpPr>
          <p:cNvPr id="513" name=""/>
          <p:cNvSpPr txBox="1"/>
          <p:nvPr/>
        </p:nvSpPr>
        <p:spPr>
          <a:xfrm>
            <a:off x="457200" y="1609560"/>
            <a:ext cx="8229600" cy="451656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rebuchet MS"/>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rebuchet MS"/>
                <a:ea typeface="微軟正黑體"/>
              </a:rPr>
              <a:t>This unit of patient safety will focus on Infection Control</a:t>
            </a:r>
            <a:endParaRPr b="0" lang="en-US" sz="4000" spc="-1" strike="noStrike">
              <a:solidFill>
                <a:srgbClr val="000000"/>
              </a:solidFill>
              <a:latin typeface="Trebuchet MS"/>
            </a:endParaRPr>
          </a:p>
          <a:p>
            <a:pPr marL="343080" indent="-343080">
              <a:spcBef>
                <a:spcPts val="1001"/>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Trebuchet MS"/>
            </a:endParaRPr>
          </a:p>
        </p:txBody>
      </p:sp>
      <p:pic>
        <p:nvPicPr>
          <p:cNvPr id="514" name="Picture 5" descr="C:\Documents and Settings\carola\Local Settings\Temporary Internet Files\Content.IE5\S38OC8DM\MC900441803[1].png"/>
          <p:cNvPicPr/>
          <p:nvPr/>
        </p:nvPicPr>
        <p:blipFill>
          <a:blip r:embed="rId1"/>
          <a:stretch/>
        </p:blipFill>
        <p:spPr>
          <a:xfrm>
            <a:off x="6350040" y="383544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新細明體"/>
              </a:rPr>
              <a:t>Global Infection Problems</a:t>
            </a:r>
            <a:endParaRPr b="1" lang="en-US" sz="3600" spc="-1" strike="noStrike">
              <a:solidFill>
                <a:srgbClr val="000000"/>
              </a:solidFill>
              <a:latin typeface="Trebuchet MS"/>
            </a:endParaRPr>
          </a:p>
        </p:txBody>
      </p:sp>
      <p:sp>
        <p:nvSpPr>
          <p:cNvPr id="516" name=""/>
          <p:cNvSpPr txBox="1"/>
          <p:nvPr/>
        </p:nvSpPr>
        <p:spPr>
          <a:xfrm>
            <a:off x="457200" y="1417680"/>
            <a:ext cx="8229600" cy="5108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ccording to WHO (2005),</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On average, 8.7% of hospital patients suffer health care-associated infections (HAI).</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新細明體"/>
              </a:rPr>
              <a:t>In developed countries: 5-10%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In developing countrie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Risk of HAI: 2-20 times higher</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HAI may affect more than 25% of patients</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t any one time, over 1.4 million people worldwide suffer from infections acquired while in hospital.</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微軟正黑體"/>
              </a:rPr>
              <a:t>Health Care-Associated Infections (HAI)</a:t>
            </a:r>
            <a:endParaRPr b="1" lang="en-US" sz="3600" spc="-1" strike="noStrike">
              <a:solidFill>
                <a:srgbClr val="000000"/>
              </a:solidFill>
              <a:latin typeface="Trebuchet MS"/>
            </a:endParaRPr>
          </a:p>
        </p:txBody>
      </p:sp>
      <p:sp>
        <p:nvSpPr>
          <p:cNvPr id="518" name=""/>
          <p:cNvSpPr txBox="1"/>
          <p:nvPr/>
        </p:nvSpPr>
        <p:spPr>
          <a:xfrm>
            <a:off x="457200" y="1600200"/>
            <a:ext cx="8229600" cy="48420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According to WHO:</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is also called “</a:t>
            </a:r>
            <a:r>
              <a:rPr b="0" lang="en-US" sz="2800" spc="-1" strike="noStrike">
                <a:solidFill>
                  <a:srgbClr val="000000"/>
                </a:solidFill>
                <a:latin typeface="Trebuchet MS"/>
                <a:ea typeface="新細明體"/>
              </a:rPr>
              <a:t>nosocomial</a:t>
            </a:r>
            <a:r>
              <a:rPr b="0" lang="en-US" sz="2800" spc="-1" strike="noStrike">
                <a:solidFill>
                  <a:srgbClr val="000000"/>
                </a:solidFill>
                <a:latin typeface="Trebuchet MS"/>
                <a:ea typeface="微軟正黑體"/>
              </a:rPr>
              <a:t>”.</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微軟正黑體"/>
              </a:rPr>
              <a:t>HAI is defined as: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n infection acquired in hospital by a patient who was admitted for a reason other than that infection.  </a:t>
            </a:r>
            <a:endParaRPr b="0" lang="en-US" sz="2800" spc="-1" strike="noStrike">
              <a:solidFill>
                <a:srgbClr val="000000"/>
              </a:solidFill>
              <a:latin typeface="Trebuchet MS"/>
            </a:endParaRPr>
          </a:p>
          <a:p>
            <a:pPr lvl="1" marL="743040" indent="-285840">
              <a:spcBef>
                <a:spcPts val="700"/>
              </a:spcBef>
              <a:buClr>
                <a:srgbClr val="80083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微軟正黑體"/>
              </a:rPr>
              <a:t>an infection occurring in a patient in a hospital or other health-care facility in whom the infection was not present or incubating at the time of admission. </a:t>
            </a:r>
            <a:endParaRPr b="0" lang="en-US" sz="2800" spc="-1" strike="noStrike">
              <a:solidFill>
                <a:srgbClr val="000000"/>
              </a:solidFill>
              <a:latin typeface="Trebuchet MS"/>
            </a:endParaRPr>
          </a:p>
          <a:p>
            <a:pPr marL="343080" indent="-343080">
              <a:spcBef>
                <a:spcPts val="700"/>
              </a:spcBef>
              <a:buClr>
                <a:srgbClr val="800837"/>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21:27:10Z</dcterms:created>
  <dc:creator>Yi-Hsiu Liu, Carol Allen</dc:creator>
  <dc:description/>
  <dc:language>en-US</dc:language>
  <cp:lastModifiedBy>Eugene</cp:lastModifiedBy>
  <dcterms:modified xsi:type="dcterms:W3CDTF">2010-10-09T06:13:06Z</dcterms:modified>
  <cp:revision>222</cp:revision>
  <dc:subject/>
  <dc:title>Patient Safety 1:Infection Control</dc:title>
</cp:coreProperties>
</file>