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FA6E-3D18-4295-A92C-F19D2E10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2DFA6-5EBA-41EC-A43A-14447580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5E0E-FE95-463D-99BD-0B8AC80C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6084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760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5408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6084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760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98AE-741D-454C-9C68-54F6981D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2C7D-F2CE-4A36-8D2C-56262806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9A9A-ADB8-4D9E-B696-3886FB86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E56E-F521-4735-BE11-18B88824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B03D-2E5F-469A-AC8D-404FC748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65A8-16DA-495F-81DE-859EB045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50840" y="45684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A709-1165-4B5A-8210-64A7AFAF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A652-F65A-4D78-8590-4129CFBD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C357-3304-450D-840E-85878AAC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8B22-90FC-4E7F-86A0-C408174C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48EB-DE8C-4053-A332-5D5C8836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CC4B-FAD6-4461-BFCC-3466CB07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E67B-72EE-4F94-A588-52BDAA5F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6084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760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5408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6084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760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8758-F231-4341-8EAE-47F145EA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A14E7-C542-4A54-BF39-2B5EC4F5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FE91B-11BC-4B07-80FE-6543695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D01B3-F931-4403-83B4-7484DCD0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E098B-C1E3-46D2-8994-6F233F96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CE38D-6090-4B92-8CE1-9E5C45B0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E4C7-495C-4F4B-B5BC-73253FBA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50840" y="45684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F9BBF-0A31-44E4-84BD-FDAF0CBD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01E71-C2C6-4C8E-945C-F4C7C44E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C6AB4-0775-4E4E-A332-1561ADB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B8BB1-C80F-4D05-9E56-779899F5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4FD3E-9022-4AD8-9CE9-F5AE4B12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7C5BE-FA89-4109-8E6D-07458D37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6084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6760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5408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6084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6760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758EB-B0E8-4D01-B07E-3802F16E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A809-6046-4EA0-A07D-8700F653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F44B5-411F-4354-9D67-A51971AA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50840" y="45684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762F-19C0-4DFC-BC00-E6E3A860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C766-AD0A-40ED-B5D3-FC4E4532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F688-2CC6-42DE-8F6C-C3DA5FA4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EF5E-99DD-484C-843E-3F8752C3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3"/>
          <p:cNvSpPr/>
          <p:nvPr/>
        </p:nvSpPr>
        <p:spPr>
          <a:xfrm>
            <a:off x="152280" y="228600"/>
            <a:ext cx="8839440" cy="640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" name="Line 24"/>
          <p:cNvSpPr/>
          <p:nvPr/>
        </p:nvSpPr>
        <p:spPr>
          <a:xfrm>
            <a:off x="990720" y="685800"/>
            <a:ext cx="0" cy="510552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7" name="Line 25"/>
          <p:cNvSpPr/>
          <p:nvPr/>
        </p:nvSpPr>
        <p:spPr>
          <a:xfrm>
            <a:off x="380880" y="1447920"/>
            <a:ext cx="7391520" cy="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8" name="Picture 26" descr="KClogoStenciledTransparent"/>
          <p:cNvPicPr/>
          <p:nvPr/>
        </p:nvPicPr>
        <p:blipFill>
          <a:blip r:embed="rId2"/>
          <a:stretch/>
        </p:blipFill>
        <p:spPr>
          <a:xfrm>
            <a:off x="8599320" y="6432480"/>
            <a:ext cx="516240" cy="395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28"/>
          <p:cNvSpPr/>
          <p:nvPr/>
        </p:nvSpPr>
        <p:spPr>
          <a:xfrm>
            <a:off x="-61560" y="661176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11 Seattle / King County EM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054"/>
          <p:cNvSpPr/>
          <p:nvPr/>
        </p:nvSpPr>
        <p:spPr>
          <a:xfrm>
            <a:off x="152280" y="228600"/>
            <a:ext cx="8839440" cy="640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7" name="Line 1056"/>
          <p:cNvSpPr/>
          <p:nvPr/>
        </p:nvSpPr>
        <p:spPr>
          <a:xfrm>
            <a:off x="876240" y="3657600"/>
            <a:ext cx="7391520" cy="0"/>
          </a:xfrm>
          <a:prstGeom prst="line">
            <a:avLst/>
          </a:prstGeom>
          <a:ln cap="sq" w="28440">
            <a:solidFill>
              <a:srgbClr val="000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48" name="Picture 1059" descr="KClogoStenciledTransparent"/>
          <p:cNvPicPr/>
          <p:nvPr/>
        </p:nvPicPr>
        <p:blipFill>
          <a:blip r:embed="rId2"/>
          <a:stretch/>
        </p:blipFill>
        <p:spPr>
          <a:xfrm>
            <a:off x="8599320" y="6432480"/>
            <a:ext cx="516240" cy="395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60"/>
          <p:cNvSpPr/>
          <p:nvPr/>
        </p:nvSpPr>
        <p:spPr>
          <a:xfrm>
            <a:off x="-61560" y="661176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11 Seattle / King County EM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04920" y="6400800"/>
            <a:ext cx="2474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9548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1700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3"/>
          <p:cNvSpPr/>
          <p:nvPr/>
        </p:nvSpPr>
        <p:spPr>
          <a:xfrm>
            <a:off x="152280" y="228600"/>
            <a:ext cx="8839440" cy="640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990720" y="685800"/>
            <a:ext cx="0" cy="510552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380880" y="1447920"/>
            <a:ext cx="7391520" cy="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94" name="Picture 26" descr="KClogoStenciledTransparent"/>
          <p:cNvPicPr/>
          <p:nvPr/>
        </p:nvPicPr>
        <p:blipFill>
          <a:blip r:embed="rId2"/>
          <a:stretch/>
        </p:blipFill>
        <p:spPr>
          <a:xfrm>
            <a:off x="8599320" y="6432480"/>
            <a:ext cx="516240" cy="395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8"/>
          <p:cNvSpPr/>
          <p:nvPr/>
        </p:nvSpPr>
        <p:spPr>
          <a:xfrm>
            <a:off x="-61560" y="661176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11 Seattle / King County EM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5800" y="5410080"/>
            <a:ext cx="2449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9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emsonline.net/doc.asp" TargetMode="External"/><Relationship Id="rId2" Type="http://schemas.openxmlformats.org/officeDocument/2006/relationships/hyperlink" Target="http://www.emsonline.net/downloads.asp" TargetMode="External"/><Relationship Id="rId3" Type="http://schemas.openxmlformats.org/officeDocument/2006/relationships/hyperlink" Target="http://www.emsonline.net/downloads.asp" TargetMode="External"/><Relationship Id="rId4" Type="http://schemas.openxmlformats.org/officeDocument/2006/relationships/hyperlink" Target="http://www.emsonline.net/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284560"/>
            <a:ext cx="7850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BT621-EMT11: Infectious Dise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icillin-resistant Staphylococcus Aure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Content Placeholder 7" descr="mrsa_cdc.jpg"/>
          <p:cNvPicPr/>
          <p:nvPr/>
        </p:nvPicPr>
        <p:blipFill>
          <a:blip r:embed="rId1"/>
          <a:stretch/>
        </p:blipFill>
        <p:spPr>
          <a:xfrm>
            <a:off x="5105520" y="2209680"/>
            <a:ext cx="3525840" cy="2514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066680" y="2438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staph bacteria resistant to common antibiotics 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itionally associated with hospitals but now is epidemic of community-acquired MRSA 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ies rapidly causing many types of infection ranging from skin infections to septicemia and toxic shock syndrome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105520" y="4800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Cutaneous abscess caused by MRSA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-14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est defense against MRSA is to wash your hands often, especially after contact with other peop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47240" indent="-14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rough washing with soap and water or alcohol hand disinfecting gels is effective against MR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 commonly on human skin, in nose &amp; throat and, less commonly, in colon &amp; in ur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fect other tissues when skin or mucosal lining have been brea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cupational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pread through contact with pus from infected wound, skin-to-skin contact with infected person, &amp; contact with objects such as towels, sheets, or clothing used by infected pers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ph infections, including MRSA, generally start as small red bumps that resemble pimples, boils, or spider b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quickly turn into deep, painful absces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so burrow deep into body, causing potentially life-threatening infections in bones, joints, surgical wounds, the bloodstream, heart valves, &amp; lung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st defense against MRSA – wash hands often, especially after contact with other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orough washing with soap &amp; water or alcohol hand disinfecting gels is effective against MR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r a gown when caring for patients with a known or suspected MRSA infection of the skin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ome cases MRSA is a respiratory inf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ient has known or suspected MRSA skin infection &amp; has a cough, or has MRSA respiratory infection, wear fitted mas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 surgical or procedure mask on the patient if they can tolerate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 million persons infected with Hepatitis C in United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d by hepatitis C virus (HCV) found in blood of persons who have dis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read by contact with blood of infected per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common chronic bloodborne viral infection in United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cause cirrhosis of liver &amp; liver canc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Content Placeholder 4" descr="hepc_liverdis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5444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181480" y="464832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Cirrhosis of the liver and liver cancer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&amp; other bodily fluid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needles with infected pers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 with infected pers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woman to her baby during birt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8456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patitis C infection generally produces no signs or symptoms during its early stages; may produce none for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encountered, symptoms may inclu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tigu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us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mi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or appeti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cle &amp; joint p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-grade fe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needlestick or sharps exposure to HCV positive blood, about 2 healthcare workers out of 100 become infected with HC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ly 20% of patients with Hepatitis C recover completely following treatment with interferon and ribavir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ffective vaccine for hepatiti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ay to protect yourself – avoid exposure to infected bl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ypes of PP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50840" y="1598760"/>
            <a:ext cx="7178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t-tested masks (such as N95 and N100 mask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 protection (such as glasses, face shields and goggle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wns (or suit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295280" y="4495680"/>
            <a:ext cx="7239240" cy="129564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wear full PPE with any patient who is potentially infectious especially those with a history of a fever and cough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ing PP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on PPE </a:t>
            </a:r>
            <a:r>
              <a:rPr b="0" lang="en-US" sz="2800" spc="-1" strike="noStrike">
                <a:solidFill>
                  <a:srgbClr val="ac0000"/>
                </a:solidFill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tering the patient area. The sequence for donning PPE is MEG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54080" y="2971800"/>
            <a:ext cx="770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 protection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wn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050840" y="455760"/>
            <a:ext cx="772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295280" y="3809880"/>
            <a:ext cx="7239240" cy="205740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n the worldwide concern about infectious diseases—as an EMS provider and a citizen—you are responsible to help recognize infectious disease, treat your patients properly, and keep yourself safe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1141560" y="159876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-terrorism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ndemic flu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iratory infection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borne pathogen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ffing PP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5720" indent="-22572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move PPE once call is complete or crew has left patient are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5720" indent="-22572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e careful not to contaminate yourself taking it off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5720" indent="-22572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o remove PPE, reverse te order that you put it 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133720" y="3962520"/>
            <a:ext cx="5790960" cy="19810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ves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wn—hand washing min 20 sec.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ye protection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sk—hand washing min 20 sec.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and Washing is Vit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most effective way to prevent spread of dise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ap &amp; water for at least 20 seconds or with waterless alcoh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all patient contact, even if you wore glo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quipment Decontamin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mpleting a response to an infectious patient, must </a:t>
            </a:r>
            <a:r>
              <a:rPr b="0" lang="en-US" sz="2400" spc="-1" strike="noStrike">
                <a:solidFill>
                  <a:srgbClr val="ac0000"/>
                </a:solidFill>
                <a:latin typeface="Tahoma"/>
              </a:rPr>
              <a:t>decontamin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rything touched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143000" y="2438280"/>
            <a:ext cx="709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quipment that was exposed or cross-contaminated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 of kit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thoscope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EDs, etc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1146240" y="5286240"/>
            <a:ext cx="7391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0000"/>
                </a:solidFill>
                <a:latin typeface="Tahoma"/>
              </a:rPr>
              <a:t>Wear new gloves while decontaminating equipment.</a:t>
            </a:r>
            <a:endParaRPr b="0" lang="en-US" sz="1800" spc="-1" strike="noStrike">
              <a:solidFill>
                <a:srgbClr val="00ff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0000"/>
                </a:solidFill>
                <a:latin typeface="Tahoma"/>
              </a:rPr>
              <a:t>Wear clean eye protection and mask if there is splash risk or vapors.</a:t>
            </a:r>
            <a:endParaRPr b="0" lang="en-US" sz="1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caused by Human Immunodeficiency Virus (HI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V attacks cells of immun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une system fails &amp; patient becomes susceptible to "opportunistic" diseases &amp; inf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Content Placeholder 6" descr="hiv1_usdeptvetaffairs.jpg"/>
          <p:cNvPicPr/>
          <p:nvPr/>
        </p:nvPicPr>
        <p:blipFill>
          <a:blip r:embed="rId1"/>
          <a:stretch/>
        </p:blipFill>
        <p:spPr>
          <a:xfrm>
            <a:off x="4876920" y="2362320"/>
            <a:ext cx="1904760" cy="2028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hiv2_wikicomm.jpg"/>
          <p:cNvPicPr/>
          <p:nvPr/>
        </p:nvPicPr>
        <p:blipFill>
          <a:blip r:embed="rId2"/>
          <a:stretch/>
        </p:blipFill>
        <p:spPr>
          <a:xfrm>
            <a:off x="6877080" y="2362320"/>
            <a:ext cx="1536840" cy="20574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8"/>
          <p:cNvSpPr/>
          <p:nvPr/>
        </p:nvSpPr>
        <p:spPr>
          <a:xfrm>
            <a:off x="4952880" y="4419720"/>
            <a:ext cx="175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c0000"/>
                </a:solidFill>
                <a:latin typeface="Tahoma"/>
              </a:rPr>
              <a:t>Chest x-ray of HIV-infected man with </a:t>
            </a:r>
            <a:br>
              <a:rPr sz="1100"/>
            </a:br>
            <a:r>
              <a:rPr b="1" lang="en-US" sz="1100" spc="-1" strike="noStrike">
                <a:solidFill>
                  <a:srgbClr val="ac0000"/>
                </a:solidFill>
                <a:latin typeface="Tahoma"/>
              </a:rPr>
              <a:t>pulmonary Kaposi sarcoma</a:t>
            </a:r>
            <a:endParaRPr b="0" lang="en-US" sz="11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967440" y="4419720"/>
            <a:ext cx="144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c0000"/>
                </a:solidFill>
                <a:latin typeface="Tahoma"/>
              </a:rPr>
              <a:t>Kaposi's sarcoma on the skin of an AIDS patient</a:t>
            </a:r>
            <a:endParaRPr b="0" lang="en-US" sz="1100" spc="-1" strike="noStrike">
              <a:solidFill>
                <a:srgbClr val="00ff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otected sex with an infected partn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cted blood given during a transfusion (extremely rare)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ing of needles by IV drug user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cted mother to her baby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transmission usually by a needlestick of infected bloo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hydration &amp; hypotension secondary to diarrheal disease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izures or altered mental status secondary to nervous system infection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spnea secondary to respiratory infection (pneumonia, tuberculosis, etc.)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tion reaction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of life issu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ccupational risk of acquiring AIDS is VERY LOW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054080" y="3657600"/>
            <a:ext cx="79167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5800" y="434484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ention should focus on preventing significant blood exposures (needlesticks)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exposure prophylaxis (PEP) if expose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d by hepatitis B virus (HBV), which damages li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ccination against HBV has been available since 198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ead by contact with blood of person infected with te disease, or by sexual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Content Placeholder 6" descr="hepatitusb_cdc.jpg"/>
          <p:cNvPicPr/>
          <p:nvPr/>
        </p:nvPicPr>
        <p:blipFill>
          <a:blip r:embed="rId1"/>
          <a:stretch/>
        </p:blipFill>
        <p:spPr>
          <a:xfrm>
            <a:off x="5029200" y="1828800"/>
            <a:ext cx="3324240" cy="26892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7"/>
          <p:cNvSpPr/>
          <p:nvPr/>
        </p:nvSpPr>
        <p:spPr>
          <a:xfrm>
            <a:off x="5410080" y="45720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Hepatitis B Virus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 with infected person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&amp; other bodily fluid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ing needles with infected person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woman to her baby during birth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signs &amp; symptoms of Hep B mil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you will be called to respond to acute illness caused by this viru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 you may on occasion see a patient with end stage liver cancer or other complications from the diseas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types of PPE and how and when they should be appli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characteristics infectious diseases that are a threat to EMS providers. (HEPC, HB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ppropriate measures for protecting yourself against infectious diseases obtaining 3 of 3 test items 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appropriate actions to take for exposure to an infectious dis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inguish between the infectious diseases EMS providers can encoun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risk for acquiring HBV from unvaccinated person is significant. The risk for a vaccinated person is </a:t>
            </a:r>
            <a:r>
              <a:rPr b="0" lang="en-US" sz="2800" spc="-1" strike="noStrike">
                <a:solidFill>
                  <a:srgbClr val="ac0000"/>
                </a:solidFill>
                <a:latin typeface="Tahoma"/>
              </a:rPr>
              <a:t>VERY L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66680" y="3733920"/>
            <a:ext cx="79171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762120" y="44197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way to prevent occupational exposure to HBV, in addition to taking care to protect yourself from blood exposure, is to </a:t>
            </a:r>
            <a:r>
              <a:rPr b="0" lang="en-US" sz="2800" spc="-1" strike="noStrike">
                <a:solidFill>
                  <a:srgbClr val="ac0000"/>
                </a:solidFill>
                <a:latin typeface="Tahoma"/>
              </a:rPr>
              <a:t>be vaccin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gainst the diseas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 (TB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 small bacteria that travels from small airways to cells of lu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than 10% of people infected with TB develop active dise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others, bacteria hides, causing no disease until host (patient) becomes immuno-compromised or otherwise debilit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a small airborne particles expelled by cough, sneezing, or speaking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les are inhaled into small airway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longed exposure in confined space confers highest risk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gh, often productive of blood-tinged sputum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igue &amp; weaknes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ght sweat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grade 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appetite &amp; weight los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risk low but difficult to quantify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054080" y="3427560"/>
            <a:ext cx="79167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85800" y="411480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high index of suspicion among patients who are at risk of having TB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precautions if patients present with suspicious signs &amp; symptom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 the influenza virus which attacks the respiratory syste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seasonally from November to April in the northern hemispher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ructure of the virus changes slightly but frequently over time; this accounts for the appearance of different strains each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85800" y="2286000"/>
            <a:ext cx="7086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ghed droplet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uching contaminated surfaces (less common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219320" y="288144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ais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ach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y cough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ch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054080" y="2208240"/>
            <a:ext cx="763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dden onset of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cupational Ri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685800" y="205740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s depending on the strain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066680" y="2819520"/>
            <a:ext cx="36576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762120" y="3276720"/>
            <a:ext cx="4190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 washing, clean surfaces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mask on patient or ask patient to cover mouth when coughing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prevention is the flu vaccine, which must be taken yearly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251" name="Content Placeholder 7" descr="flu_cdc.jpg"/>
          <p:cNvPicPr/>
          <p:nvPr/>
        </p:nvPicPr>
        <p:blipFill>
          <a:blip r:embed="rId1"/>
          <a:stretch/>
        </p:blipFill>
        <p:spPr>
          <a:xfrm>
            <a:off x="5791320" y="1676520"/>
            <a:ext cx="2257200" cy="31176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0"/>
          <p:cNvSpPr/>
          <p:nvPr/>
        </p:nvSpPr>
        <p:spPr>
          <a:xfrm>
            <a:off x="5943600" y="4876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c0000"/>
                </a:solidFill>
                <a:latin typeface="Tahoma"/>
              </a:rPr>
              <a:t>Best flu prevention is the flu vaccine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contagious virus responsible for outbreaks of gastrointestinal disease on cruise shi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ovirus is the general name given to viruses of this typ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ible for many cases of severe but short-lived illnesses causing vomiting, diarrhea, and stomach cram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Stomach flu" and "food poisoning" are typical infections of a Norovir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tibod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Proteins made by the immune system that have a memory for an invading virus and help recognize and destroy future invasions by that vir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tibio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Medicine or drug that is effective in killing bacteria or inhibiting their grow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acte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— A single-celled, microscopic organism that can cause damage to the body's cells. They multiply very quickly by divid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19320" y="213372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via fecal-oral rout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food handler does not wash his hands after using bathroomyou then ingest food that has been contaminated with small amounts of fecal matter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295280" y="4572000"/>
            <a:ext cx="7239240" cy="121932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erson with a Norovirus is considered contagious from the time he or she starts feeling ill to as long as two weeks after recovery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219320" y="205740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usea, vomiting &amp; diarrhea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mach cramp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grade, transient 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feeling of malaise, headache, body ach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295280" y="4800600"/>
            <a:ext cx="7239240" cy="121932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ptoms begin suddenly, may last one to three days, and usually resolve on their own. Because the disease is caused by a virus, antibiotics are useless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685800" y="228600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ty-acquired, usually situations where large numbers share same food or living space (cruise ships, college dorm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outbreaks of noroviruses among staff at hospitals &amp; nursing hom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5800" y="213372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 glov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 yor hands thoroughly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use of protective eyewear &amp; mask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faces contacted by the patient must be thoroughly disinfecte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143000" y="5334120"/>
            <a:ext cx="7238880" cy="76176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become sick, wait two days after the last of your symptoms before returning to work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identified in Afr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irus causing the disease, West Nile Virus (WNV), infects certain types of birds (ravens, crows, and jays), mosquitoes, horses, and other anim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s are an incidental, rather than primary, h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Content Placeholder 7" descr="westnile_cdc.jpg"/>
          <p:cNvPicPr/>
          <p:nvPr/>
        </p:nvPicPr>
        <p:blipFill>
          <a:blip r:embed="rId1"/>
          <a:stretch/>
        </p:blipFill>
        <p:spPr>
          <a:xfrm>
            <a:off x="5029200" y="2133720"/>
            <a:ext cx="3486240" cy="2495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"/>
          <p:cNvSpPr/>
          <p:nvPr/>
        </p:nvSpPr>
        <p:spPr>
          <a:xfrm>
            <a:off x="1219320" y="2133720"/>
            <a:ext cx="3657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NV is transmitted through the bite of an infected mosquito.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NV is NOT transmitted person-to-person except in the rare case of a blood transfusion from an infected person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927680" y="4724280"/>
            <a:ext cx="39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c0000"/>
                </a:solidFill>
                <a:latin typeface="Tahoma"/>
              </a:rPr>
              <a:t>Mosquitoes like to lay eggs in standing water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219320" y="2133720"/>
            <a:ext cx="7238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ach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igu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rely, a rash &amp; swollen lymph nod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143000" y="4876920"/>
            <a:ext cx="7238880" cy="114300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than 1% of the people infected with WNV will develop severe illness. These people may present with high fever, headache or altered LOC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685800" y="228600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ccupational risk involved in caring for a person with WNV diseas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54080" y="3427560"/>
            <a:ext cx="7632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85800" y="411480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transmitted person-to-person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disease prevention precautions are necessary at work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ndemic Flu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break of contagious disease that affects entire population over a wide geographical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d by influenza virus to which humans have little or no natural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an outbreak has potential to cause many deaths &amp; illn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t pandemic flu viruses known for virulence causing rapid death, especially in young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difficult to accurately predict which strain of influenza may give rise to next pan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ndemic vs. Season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demic outbreaks different from seasonal outbreaks of influ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onal outbreaks caused by subtypes of influenza viruses that already circulate among hum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demic outbreaks caused by new sub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ypes never circulated among people or subtypes not circulated among people for a long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Content Placeholder 4" descr="pandemicflu_cdc.jpg"/>
          <p:cNvPicPr/>
          <p:nvPr/>
        </p:nvPicPr>
        <p:blipFill>
          <a:blip r:embed="rId1"/>
          <a:stretch/>
        </p:blipFill>
        <p:spPr>
          <a:xfrm>
            <a:off x="5105520" y="1981080"/>
            <a:ext cx="3438360" cy="23828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5"/>
          <p:cNvSpPr/>
          <p:nvPr/>
        </p:nvSpPr>
        <p:spPr>
          <a:xfrm>
            <a:off x="5334120" y="441972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c0000"/>
                </a:solidFill>
                <a:latin typeface="Tahoma"/>
              </a:rPr>
              <a:t>Microbiologist examining reconstructed 1918 Pandemic Influenza Viru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rm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pide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outbreak of a contagious disease that spreads among many individuals in an area or a population at the sam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nde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outbreak of a contagious disease that affects an entire population over a wide geographical area. A pandemic affects a far higher number of people and a much larger region than an epidemi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ra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organism that grows, feeds, and is sheltered on or in a different organism while contributing nothing to the survival of its h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s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53720" y="1598760"/>
            <a:ext cx="73278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 a fit-tested mask before entering the sce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 a mask on the patient, if tol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tted masks provide the highest level of protec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 and dispose of the mask without self contamin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ye Prote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ar eye protection on all calls. You must prepare for unanticipated splashes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Content Placeholder 7" descr="ppe_eyeprotection.jpg"/>
          <p:cNvPicPr/>
          <p:nvPr/>
        </p:nvPicPr>
        <p:blipFill>
          <a:blip r:embed="rId1"/>
          <a:stretch/>
        </p:blipFill>
        <p:spPr>
          <a:xfrm>
            <a:off x="4952880" y="2895480"/>
            <a:ext cx="3457800" cy="25527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914400" y="3124080"/>
            <a:ext cx="3594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miting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flicked from bloody hand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ent spit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ucometer strips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lashing fluids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iratory infection 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ent cough or sneeze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r medical gloves on all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bodily fluids, such as vomit or urine, do not typically carry blood borne vir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le working in rescue or extrication environment where risk of both cut &amp; body substance exposure present, wear latex or nitrile inner gloves &amp; other protective outer glo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Content Placeholder 6" descr="ppe_gloves.jpg"/>
          <p:cNvPicPr/>
          <p:nvPr/>
        </p:nvPicPr>
        <p:blipFill>
          <a:blip r:embed="rId1"/>
          <a:stretch/>
        </p:blipFill>
        <p:spPr>
          <a:xfrm>
            <a:off x="5105520" y="1905120"/>
            <a:ext cx="3076560" cy="22143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7"/>
          <p:cNvSpPr/>
          <p:nvPr/>
        </p:nvSpPr>
        <p:spPr>
          <a:xfrm>
            <a:off x="5105520" y="42670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Glove Up!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imits of Glo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 are for use during patient conta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 your hands after all patient contact, even if you wore glo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 will not protect you from sharp objects such as need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ar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53720" y="1598760"/>
            <a:ext cx="74804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lesticks represent greatest risk of occupational blood bor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"exposures" involve cases where EMS providers inadvertently stuck themselves with used needl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eye on paramedics &amp; need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ch where you put your h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edlestic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needlestick exposu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1130400" y="2209680"/>
            <a:ext cx="740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sh area well with soap &amp; water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use bleach or other harsh chemical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may damage the skin, making it more likely for the virus to enter the body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 exposure immediately to your officer for testing and possible post-exposure prophylaxi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kin/Mucu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posures to non-intact sk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130400" y="2209680"/>
            <a:ext cx="740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 with soap and water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the exposure immediately to your officer for testing and possible post-exposure prophylaxis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1143000" y="4495680"/>
            <a:ext cx="7238880" cy="129564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on intact skin is not considered a significant exposure. Non-intact skin includes abrasions and cuts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kin/Muc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posures to mucus membra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1130400" y="2209680"/>
            <a:ext cx="740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sh liberally with water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exposure immediately to your officer for testing &amp; possible post-exposure prophylaxi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irbor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possible exposure to your company offic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ospital may notify exposed responders if patient is diagnosed with airborne disease (e.g., TB or bacterial meningit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iseases may require automatic &amp; immediate post-exposure prophylax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may require post-exposure testing &amp; then treatment only if you become 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P for HIV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5564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possible exposure to a blood borne disease must be reported immediately to your company offic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exposure prophylaxis reduces the already very low risk of acquiring the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tions taken for PEP are TOX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tient is determined to be HIV-negative, PEP medications can be stop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rm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thog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agent that causes disease such as a bacterium, virus or fung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cc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 preparation of a weakened or disabled virus that stimulates antibody production and provides immunity when injected into the bo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ir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 very small agent made of genetic information (RNA or DNA) surrounded by a protein coat. It cannot reproduce on its own but must take over a living cell to multip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 washing is the most effective method of preventing infectious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n visible contamination first, then disinfect su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 gloves when disinfecting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risk of acquiring AIDS is VERY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way to prevent occupational exposure to HBV, in addition to taking care to protect yourself from blood exposure, is to be vaccin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 gloves when you are done with patient contact, before getting into your rig, talking on the radio, or driv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suspect TB, put a mask on patient (if tolerated), &amp; wear a mask yoursel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lesticks represent the greatest risk of occupational blood bor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EP is to be started, it should be started IMMEDIATELY after exposure, if at all possible within two ho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556400" cy="14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certification exam for this module is based on a variety of resources. We recommend that you review the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066680" y="3198960"/>
            <a:ext cx="70866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hapter 2 – Wellbeing of the EM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mergency Care and Transportation of the Sick and Inju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9th edition (AAOS)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118880" y="3959640"/>
            <a:ext cx="4714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r. Mickey Eisenber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al Director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k the Doc: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1"/>
              </a:rPr>
              <a:t>http://www.emsonline.net/doc.asp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103040" y="1813320"/>
            <a:ext cx="4236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MS 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idelines and Standing Orders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2"/>
              </a:rPr>
              <a:t>http://www.emsonline.net/downloads.asp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3"/>
              </a:rPr>
              <a:t> 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115280" y="2892960"/>
            <a:ext cx="3570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san Kolwitz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gram Manager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ail support: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4"/>
              </a:rPr>
              <a:t>help@emsonline.net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w Ter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54080" y="1599840"/>
            <a:ext cx="7709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ody substance isolation (BSI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An infection control practice that assumes all body substances including blood, urine, saliva, feces, tears, etc., are potentially infectiou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RS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— Methicillin-resistant Staphylococcus Aureus (MRSA) are a type of staphylococcus or "staph" bacteria that are resistant to many antibiot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ersonal protective equipment (PPE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pecialized clothing or equipment worn for protection against health and safety haz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universal precau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Universal precautions should be should be observed on every incident. Universal precautions include personal protective equipment (PPE) and body substance isolation (BS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 Protective Equip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50840" y="1598760"/>
            <a:ext cx="7178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at every scene that has a potentially infectious patient as a biological hazmat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infection from fluids and airborne particles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ntaminate equipment and surfaces after use and wash your hands frequently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 precautions should be universal – they should be observed on every incident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’s New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RSA is on the rise and MRSA exposure for EMTs and paramedics is greater than for the general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11:31:03Z</dcterms:created>
  <dc:creator>User1</dc:creator>
  <dc:description/>
  <dc:language>en-US</dc:language>
  <cp:lastModifiedBy>EE</cp:lastModifiedBy>
  <cp:lastPrinted>2009-04-22T19:24:48Z</cp:lastPrinted>
  <dcterms:modified xsi:type="dcterms:W3CDTF">2010-12-28T23:44:10Z</dcterms:modified>
  <cp:revision>703</cp:revision>
  <dc:subject>2010 Presentation</dc:subject>
  <dc:title>CBT621: Infectious Disease</dc:title>
</cp:coreProperties>
</file>