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31B48-1CA6-493E-82C6-943FBBA5E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54080" y="3910680"/>
            <a:ext cx="77090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28659-C104-481D-B1A3-209BA45A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0472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54080" y="391068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04720" y="391068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9C50B-13B5-437B-8A00-154FB67F1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60840" y="159876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67600" y="159876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54080" y="391068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60840" y="391068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67600" y="391068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76967-BD57-4A39-A46C-B953EEFC6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04C7-E9CF-4FFA-AC48-8C18816BC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C43E-1B9A-4846-9616-9292F94D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ABDB-9DDD-4914-9AC5-25FC0567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37620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04720" y="1598760"/>
            <a:ext cx="37620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0CB6-F5DD-46BC-8808-58BD9DF2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923C-1207-4407-AF5B-CA8755BB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50840" y="45684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5F4D-059E-4FD5-B1A6-9845BD15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04720" y="1598760"/>
            <a:ext cx="37620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54080" y="391068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14D6-DDDD-4307-82A2-91559BEC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982DD-0994-4AC4-8F99-74B34E7B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37620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0472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04720" y="391068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5792-7AB1-4D0E-B2DB-FEEF9AA1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472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54080" y="3910680"/>
            <a:ext cx="77090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7A62-E7AD-42FC-8BA6-F45FAB2B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54080" y="3910680"/>
            <a:ext cx="77090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06E0-6F9D-4CB4-B013-45836DE7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0472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54080" y="391068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04720" y="391068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A5F5-B7FB-411E-9BB2-08FB01A62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60840" y="159876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67600" y="159876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54080" y="391068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60840" y="391068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67600" y="391068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BBE3-A57E-478D-9EAC-68DB24EC2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A2D474-1A29-424A-B428-7421EA4AF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1523A8-A2F0-4816-85E6-65A9A93C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43D463-9504-4B41-A426-6A90C150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37620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04720" y="1598760"/>
            <a:ext cx="37620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71AB49-DC91-4B68-A80A-069F0BEA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0AD323-217A-449C-94C9-1AA4738F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DB314-13C5-4DB2-9864-AC46287A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050840" y="45684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F32FA7-4670-42AE-9294-0E2CCBAD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04720" y="1598760"/>
            <a:ext cx="37620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054080" y="391068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845DE0-AFEE-41DC-B630-45E6567B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37620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0472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04720" y="391068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F5D83A-C3EA-4D7F-9D80-9FF7C543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0472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054080" y="3910680"/>
            <a:ext cx="77090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6A2953-2DA6-47DF-A690-8B7A71B5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054080" y="3910680"/>
            <a:ext cx="77090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58989D-158C-46A6-8AA3-3F2D1563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0472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054080" y="391068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04720" y="391068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EA8C7C-08B8-4989-A3C8-69F6D6B84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660840" y="159876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67600" y="159876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054080" y="391068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660840" y="391068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267600" y="391068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4ED0C4-649F-4FDF-800D-B1DF36F0B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37620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4720" y="1598760"/>
            <a:ext cx="37620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BCCAE-894D-4DDC-A44C-E01AEC07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7600A-A41C-4DA6-AAC8-B9C8F040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50840" y="45684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980C7-7DAA-4572-B0D7-604F4864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4720" y="1598760"/>
            <a:ext cx="37620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54080" y="391068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C105A-35DE-422D-A413-D37EC708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37620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472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04720" y="391068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D005E-380C-4775-9940-71902E2B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0472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54080" y="3910680"/>
            <a:ext cx="77090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ACC3F-A20A-40DF-964C-233857A0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3"/>
          <p:cNvSpPr/>
          <p:nvPr/>
        </p:nvSpPr>
        <p:spPr>
          <a:xfrm>
            <a:off x="152280" y="228600"/>
            <a:ext cx="8839440" cy="640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969696"/>
            </a:solidFill>
            <a:miter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7720" y="6235560"/>
            <a:ext cx="2449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24760"/>
            <a:ext cx="2421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484440" y="6237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6" name="Line 24"/>
          <p:cNvSpPr/>
          <p:nvPr/>
        </p:nvSpPr>
        <p:spPr>
          <a:xfrm>
            <a:off x="990720" y="685800"/>
            <a:ext cx="0" cy="5105520"/>
          </a:xfrm>
          <a:prstGeom prst="line">
            <a:avLst/>
          </a:prstGeom>
          <a:ln cap="sq"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7" name="Line 25"/>
          <p:cNvSpPr/>
          <p:nvPr/>
        </p:nvSpPr>
        <p:spPr>
          <a:xfrm>
            <a:off x="380880" y="1447920"/>
            <a:ext cx="7391520" cy="0"/>
          </a:xfrm>
          <a:prstGeom prst="line">
            <a:avLst/>
          </a:prstGeom>
          <a:ln cap="sq"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pic>
        <p:nvPicPr>
          <p:cNvPr id="8" name="Picture 26" descr="KClogoStenciledTransparent"/>
          <p:cNvPicPr/>
          <p:nvPr/>
        </p:nvPicPr>
        <p:blipFill>
          <a:blip r:embed="rId2"/>
          <a:stretch/>
        </p:blipFill>
        <p:spPr>
          <a:xfrm>
            <a:off x="8599320" y="6432480"/>
            <a:ext cx="516240" cy="395280"/>
          </a:xfrm>
          <a:prstGeom prst="rect">
            <a:avLst/>
          </a:prstGeom>
          <a:ln w="0">
            <a:noFill/>
          </a:ln>
        </p:spPr>
      </p:pic>
      <p:sp>
        <p:nvSpPr>
          <p:cNvPr id="9" name="Rectangle 28"/>
          <p:cNvSpPr/>
          <p:nvPr/>
        </p:nvSpPr>
        <p:spPr>
          <a:xfrm>
            <a:off x="-61560" y="6611760"/>
            <a:ext cx="257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2011 Seattle / King County EMS</a:t>
            </a:r>
            <a:endParaRPr b="0" lang="en-US" sz="12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1054"/>
          <p:cNvSpPr/>
          <p:nvPr/>
        </p:nvSpPr>
        <p:spPr>
          <a:xfrm>
            <a:off x="152280" y="228600"/>
            <a:ext cx="8839440" cy="640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969696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47" name="Line 1056"/>
          <p:cNvSpPr/>
          <p:nvPr/>
        </p:nvSpPr>
        <p:spPr>
          <a:xfrm>
            <a:off x="876240" y="3657600"/>
            <a:ext cx="7391520" cy="0"/>
          </a:xfrm>
          <a:prstGeom prst="line">
            <a:avLst/>
          </a:prstGeom>
          <a:ln cap="sq" w="28440">
            <a:solidFill>
              <a:srgbClr val="0000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pic>
        <p:nvPicPr>
          <p:cNvPr id="48" name="Picture 1059" descr="KClogoStenciledTransparent"/>
          <p:cNvPicPr/>
          <p:nvPr/>
        </p:nvPicPr>
        <p:blipFill>
          <a:blip r:embed="rId2"/>
          <a:stretch/>
        </p:blipFill>
        <p:spPr>
          <a:xfrm>
            <a:off x="8599320" y="6432480"/>
            <a:ext cx="516240" cy="395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60"/>
          <p:cNvSpPr/>
          <p:nvPr/>
        </p:nvSpPr>
        <p:spPr>
          <a:xfrm>
            <a:off x="-61560" y="6611760"/>
            <a:ext cx="257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2011 Seattle / King County EMS</a:t>
            </a:r>
            <a:endParaRPr b="0" lang="en-US" sz="12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304920" y="6400800"/>
            <a:ext cx="2474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89548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17008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3"/>
          <p:cNvSpPr/>
          <p:nvPr/>
        </p:nvSpPr>
        <p:spPr>
          <a:xfrm>
            <a:off x="152280" y="228600"/>
            <a:ext cx="8839440" cy="640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969696"/>
            </a:solidFill>
            <a:miter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92" name="Line 24"/>
          <p:cNvSpPr/>
          <p:nvPr/>
        </p:nvSpPr>
        <p:spPr>
          <a:xfrm>
            <a:off x="990720" y="685800"/>
            <a:ext cx="0" cy="5105520"/>
          </a:xfrm>
          <a:prstGeom prst="line">
            <a:avLst/>
          </a:prstGeom>
          <a:ln cap="sq"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93" name="Line 25"/>
          <p:cNvSpPr/>
          <p:nvPr/>
        </p:nvSpPr>
        <p:spPr>
          <a:xfrm>
            <a:off x="380880" y="1447920"/>
            <a:ext cx="7391520" cy="0"/>
          </a:xfrm>
          <a:prstGeom prst="line">
            <a:avLst/>
          </a:prstGeom>
          <a:ln cap="sq"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pic>
        <p:nvPicPr>
          <p:cNvPr id="94" name="Picture 26" descr="KClogoStenciledTransparent"/>
          <p:cNvPicPr/>
          <p:nvPr/>
        </p:nvPicPr>
        <p:blipFill>
          <a:blip r:embed="rId2"/>
          <a:stretch/>
        </p:blipFill>
        <p:spPr>
          <a:xfrm>
            <a:off x="8599320" y="6432480"/>
            <a:ext cx="516240" cy="3952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8"/>
          <p:cNvSpPr/>
          <p:nvPr/>
        </p:nvSpPr>
        <p:spPr>
          <a:xfrm>
            <a:off x="-61560" y="6611760"/>
            <a:ext cx="257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2011 Seattle / King County EMS</a:t>
            </a:r>
            <a:endParaRPr b="0" lang="en-US" sz="12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85800" y="5410080"/>
            <a:ext cx="2449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8"/>
          </p:nvPr>
        </p:nvSpPr>
        <p:spPr>
          <a:xfrm>
            <a:off x="6552720" y="6224760"/>
            <a:ext cx="2421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9"/>
          </p:nvPr>
        </p:nvSpPr>
        <p:spPr>
          <a:xfrm>
            <a:off x="3484440" y="6237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http://www.emsonline.net/doc.asp" TargetMode="External"/><Relationship Id="rId2" Type="http://schemas.openxmlformats.org/officeDocument/2006/relationships/hyperlink" Target="http://www.emsonline.net/downloads.asp" TargetMode="External"/><Relationship Id="rId3" Type="http://schemas.openxmlformats.org/officeDocument/2006/relationships/hyperlink" Target="http://www.emsonline.net/downloads.asp" TargetMode="External"/><Relationship Id="rId4" Type="http://schemas.openxmlformats.org/officeDocument/2006/relationships/hyperlink" Target="http://www.emsonline.net/" TargetMode="External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2284560"/>
            <a:ext cx="78501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BT621-EMT11: Infectious Dise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RS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053720" y="1598760"/>
            <a:ext cx="37782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icillin-resistant Staphylococcus Aure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Content Placeholder 7" descr="mrsa_cdc.jpg"/>
          <p:cNvPicPr/>
          <p:nvPr/>
        </p:nvPicPr>
        <p:blipFill>
          <a:blip r:embed="rId1"/>
          <a:stretch/>
        </p:blipFill>
        <p:spPr>
          <a:xfrm>
            <a:off x="5105520" y="2209680"/>
            <a:ext cx="3525840" cy="25146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4"/>
          <p:cNvSpPr/>
          <p:nvPr/>
        </p:nvSpPr>
        <p:spPr>
          <a:xfrm>
            <a:off x="1066680" y="243828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of staph bacteria resistant to common antibiotics </a:t>
            </a:r>
            <a:endParaRPr b="0" lang="en-US" sz="2000" spc="-1" strike="noStrike">
              <a:solidFill>
                <a:srgbClr val="00ff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ditionally associated with hospitals but now is epidemic of community-acquired MRSA </a:t>
            </a:r>
            <a:endParaRPr b="0" lang="en-US" sz="2000" spc="-1" strike="noStrike">
              <a:solidFill>
                <a:srgbClr val="00ff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ies rapidly causing many types of infection ranging from skin infections to septicemia and toxic shock syndrome</a:t>
            </a:r>
            <a:endParaRPr b="0" lang="en-US" sz="20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5105520" y="480060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c0000"/>
                </a:solidFill>
                <a:latin typeface="Tahoma"/>
              </a:rPr>
              <a:t>Cutaneous abscess caused by MRSA</a:t>
            </a:r>
            <a:endParaRPr b="0" lang="en-US" sz="14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RSA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5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marL="147240" indent="-1472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best defense against MRSA is to wash your hands often, especially after contact with other peopl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47240" indent="-1472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orough washing with soap and water or alcohol hand disinfecting gels is effective against MRS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RSA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nd commonly on human skin, in nose &amp; throat and, less commonly, in colon &amp; in ur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nfect other tissues when skin or mucosal lining have been brea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ccupational Expos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pread through contact with pus from infected wound, skin-to-skin contact with infected person, &amp; contact with objects such as towels, sheets, or clothing used by infected perso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RSA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hospital Presen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ph infections, including MRSA, generally start as small red bumps that resemble pimples, boils, or spider b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quickly turn into deep, painful abscess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also burrow deep into body, causing potentially life-threatening infections in bones, joints, surgical wounds, the bloodstream, heart valves, &amp; lung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RSA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ev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st defense against MRSA – wash hands often, especially after contact with other peop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orough washing with soap &amp; water or alcohol hand disinfecting gels is effective against MRS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ar a gown when caring for patients with a known or suspected MRSA infection of the skin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some cases MRSA is a respiratory inf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tient has known or suspected MRSA skin infection &amp; has a cough, or has MRSA respiratory infection, wear fitted mas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t surgical or procedure mask on the patient if they can tolerate i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epatitis C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53720" y="1598760"/>
            <a:ext cx="37782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 million persons infected with Hepatitis C in United St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used by hepatitis C virus (HCV) found in blood of persons who have dise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read by contact with blood of infected pers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st common chronic bloodborne viral infection in United St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cause cirrhosis of liver &amp; liver canc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Content Placeholder 4" descr="hepc_liverdis.jpg"/>
          <p:cNvPicPr/>
          <p:nvPr/>
        </p:nvPicPr>
        <p:blipFill>
          <a:blip r:embed="rId1"/>
          <a:stretch/>
        </p:blipFill>
        <p:spPr>
          <a:xfrm>
            <a:off x="5486400" y="1600200"/>
            <a:ext cx="2854440" cy="30290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5181480" y="4648320"/>
            <a:ext cx="35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c0000"/>
                </a:solidFill>
                <a:latin typeface="Tahoma"/>
              </a:rPr>
              <a:t>Cirrhosis of the liver and liver cancer</a:t>
            </a:r>
            <a:endParaRPr b="0" lang="en-US" sz="14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epatitis C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053720" y="1598760"/>
            <a:ext cx="37782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od &amp; other bodily fluid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needles with infected pers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x with infected pers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a woman to her baby during birth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984560" y="1598760"/>
            <a:ext cx="37782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ehospital Pres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patitis C infection generally produces no signs or symptoms during its early stages; may produce none for yea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encountered, symptoms may includ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tigu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aus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omit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or appeti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scle &amp; joint pai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w-grade fev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epatitis C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ccupational R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needlestick or sharps exposure to HCV positive blood, about 2 healthcare workers out of 100 become infected with HC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ly 20% of patients with Hepatitis C recover completely following treatment with interferon and ribavir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ven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ffective vaccine for hepatiti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way to protect yourself – avoid exposure to infected blo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ypes of PP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050840" y="1598760"/>
            <a:ext cx="7178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t-tested masks (such as N95 and N100 masks)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marL="347760" indent="-3477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ye protection (such as glasses, face shields and goggles)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marL="347760" indent="-3477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wns (or suits)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marL="347760" indent="-3477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ves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1295280" y="4495680"/>
            <a:ext cx="7239240" cy="1295640"/>
          </a:xfrm>
          <a:prstGeom prst="rect">
            <a:avLst/>
          </a:prstGeom>
          <a:solidFill>
            <a:srgbClr val="ac0000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must wear full PPE with any patient who is potentially infectious especially those with a history of a fever and cough.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onning PP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on PPE </a:t>
            </a:r>
            <a:r>
              <a:rPr b="0" lang="en-US" sz="2800" spc="-1" strike="noStrike">
                <a:solidFill>
                  <a:srgbClr val="ac0000"/>
                </a:solidFill>
                <a:latin typeface="Tahoma"/>
              </a:rPr>
              <a:t>befo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ntering the patient area. The sequence for donning PPE is MEG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1054080" y="2971800"/>
            <a:ext cx="77090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k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 protection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wn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ves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1050840" y="455760"/>
            <a:ext cx="7726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40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1295280" y="3809880"/>
            <a:ext cx="7239240" cy="2057400"/>
          </a:xfrm>
          <a:prstGeom prst="rect">
            <a:avLst/>
          </a:prstGeom>
          <a:solidFill>
            <a:srgbClr val="ac0000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en the worldwide concern about infectious diseases—as an EMS provider and a citizen—you are responsible to help recognize infectious disease, treat your patients properly, and keep yourself safe.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40" name="Rectangle 17"/>
          <p:cNvSpPr/>
          <p:nvPr/>
        </p:nvSpPr>
        <p:spPr>
          <a:xfrm>
            <a:off x="1141560" y="1598760"/>
            <a:ext cx="7467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o-terrorism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marL="347760" indent="-3477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ndemic flu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marL="347760" indent="-3477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iratory infections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marL="347760" indent="-3477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od borne pathogens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offing PP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5000"/>
          </a:bodyPr>
          <a:p>
            <a:pPr marL="225720" indent="-225720"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move PPE once call is complete or crew has left patient are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25720" indent="-225720"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Be careful not to contaminate yourself taking it off 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25720" indent="-225720"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o remove PPE, reverse te order that you put it on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2133720" y="3962520"/>
            <a:ext cx="5790960" cy="19810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oves</a:t>
            </a:r>
            <a:endParaRPr b="0" lang="en-US" sz="2600" spc="-1" strike="noStrike">
              <a:solidFill>
                <a:srgbClr val="00ff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wn—hand washing min 20 sec.</a:t>
            </a:r>
            <a:endParaRPr b="0" lang="en-US" sz="2600" spc="-1" strike="noStrike">
              <a:solidFill>
                <a:srgbClr val="00ff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ye protection</a:t>
            </a:r>
            <a:endParaRPr b="0" lang="en-US" sz="2600" spc="-1" strike="noStrike">
              <a:solidFill>
                <a:srgbClr val="00ff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sk—hand washing min 20 sec.</a:t>
            </a:r>
            <a:endParaRPr b="0" lang="en-US" sz="26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and Washing is Vita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0000"/>
          </a:bodyPr>
          <a:p>
            <a:pPr marL="208440" indent="-2084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most effective way to prevent spread of disea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8440" indent="-2084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ap &amp; water for at least 20 seconds or with waterless alcoho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8440" indent="-2084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all patient contact, even if you wore glo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Equipment Decontamina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completing a response to an infectious patient, must </a:t>
            </a:r>
            <a:r>
              <a:rPr b="0" lang="en-US" sz="2400" spc="-1" strike="noStrike">
                <a:solidFill>
                  <a:srgbClr val="ac0000"/>
                </a:solidFill>
                <a:latin typeface="Tahoma"/>
              </a:rPr>
              <a:t>decontamin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verything touched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1143000" y="2438280"/>
            <a:ext cx="7099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quipment that was exposed or cross-contaminated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 of kits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ethoscopes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dios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EDs, etc.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91" name="TextBox 6"/>
          <p:cNvSpPr/>
          <p:nvPr/>
        </p:nvSpPr>
        <p:spPr>
          <a:xfrm>
            <a:off x="1146240" y="5286240"/>
            <a:ext cx="739116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c0000"/>
                </a:solidFill>
                <a:latin typeface="Tahoma"/>
              </a:rPr>
              <a:t>Wear new gloves while decontaminating equipment.</a:t>
            </a:r>
            <a:endParaRPr b="0" lang="en-US" sz="1800" spc="-1" strike="noStrike">
              <a:solidFill>
                <a:srgbClr val="00ff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c0000"/>
                </a:solidFill>
                <a:latin typeface="Tahoma"/>
              </a:rPr>
              <a:t>Wear clean eye protection and mask if there is splash risk or vapors.</a:t>
            </a:r>
            <a:endParaRPr b="0" lang="en-US" sz="1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IV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053720" y="1598760"/>
            <a:ext cx="37782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DS caused by Human Immunodeficiency Virus (HIV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V attacks cells of immun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mune system fails &amp; patient becomes susceptible to "opportunistic" diseases &amp; inf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Content Placeholder 6" descr="hiv1_usdeptvetaffairs.jpg"/>
          <p:cNvPicPr/>
          <p:nvPr/>
        </p:nvPicPr>
        <p:blipFill>
          <a:blip r:embed="rId1"/>
          <a:stretch/>
        </p:blipFill>
        <p:spPr>
          <a:xfrm>
            <a:off x="4876920" y="2362320"/>
            <a:ext cx="1904760" cy="20286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hiv2_wikicomm.jpg"/>
          <p:cNvPicPr/>
          <p:nvPr/>
        </p:nvPicPr>
        <p:blipFill>
          <a:blip r:embed="rId2"/>
          <a:stretch/>
        </p:blipFill>
        <p:spPr>
          <a:xfrm>
            <a:off x="6877080" y="2362320"/>
            <a:ext cx="1536840" cy="2057400"/>
          </a:xfrm>
          <a:prstGeom prst="rect">
            <a:avLst/>
          </a:prstGeom>
          <a:ln w="0">
            <a:noFill/>
          </a:ln>
        </p:spPr>
      </p:pic>
      <p:sp>
        <p:nvSpPr>
          <p:cNvPr id="196" name="TextBox 8"/>
          <p:cNvSpPr/>
          <p:nvPr/>
        </p:nvSpPr>
        <p:spPr>
          <a:xfrm>
            <a:off x="4952880" y="4419720"/>
            <a:ext cx="1752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c0000"/>
                </a:solidFill>
                <a:latin typeface="Tahoma"/>
              </a:rPr>
              <a:t>Chest x-ray of HIV-infected man with </a:t>
            </a:r>
            <a:br>
              <a:rPr sz="1100"/>
            </a:br>
            <a:r>
              <a:rPr b="1" lang="en-US" sz="1100" spc="-1" strike="noStrike">
                <a:solidFill>
                  <a:srgbClr val="ac0000"/>
                </a:solidFill>
                <a:latin typeface="Tahoma"/>
              </a:rPr>
              <a:t>pulmonary Kaposi sarcoma</a:t>
            </a:r>
            <a:endParaRPr b="0" lang="en-US" sz="11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967440" y="4419720"/>
            <a:ext cx="1447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c0000"/>
                </a:solidFill>
                <a:latin typeface="Tahoma"/>
              </a:rPr>
              <a:t>Kaposi's sarcoma on the skin of an AIDS patient</a:t>
            </a:r>
            <a:endParaRPr b="0" lang="en-US" sz="1100" spc="-1" strike="noStrike">
              <a:solidFill>
                <a:srgbClr val="00ff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IV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685800" y="2286000"/>
            <a:ext cx="7861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protected sex with an infected partner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cted blood given during a transfusion (extremely rare)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ing of needles by IV drug users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cted mother to her baby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ccupational transmission usually by a needlestick of infected blood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IV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hospital Pres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85800" y="2286000"/>
            <a:ext cx="7861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hydration &amp; hypotension secondary to diarrheal diseases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izures or altered mental status secondary to nervous system infection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spnea secondary to respiratory infection (pneumonia, tuberculosis, etc.)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cation reactions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of life issues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IV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ccupational Risk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685800" y="2286000"/>
            <a:ext cx="7861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occupational risk of acquiring AIDS is VERY LOW.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1054080" y="3657600"/>
            <a:ext cx="791676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vention: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85800" y="4344840"/>
            <a:ext cx="8153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vention should focus on preventing significant blood exposures (needlesticks).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exposure prophylaxis (PEP) if exposed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epatitis B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053720" y="1598760"/>
            <a:ext cx="37782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d by hepatitis B virus (HBV), which damages liv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ccination against HBV has been available since 1982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ead by contact with blood of person infected with te disease, or by sexual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1" name="Content Placeholder 6" descr="hepatitusb_cdc.jpg"/>
          <p:cNvPicPr/>
          <p:nvPr/>
        </p:nvPicPr>
        <p:blipFill>
          <a:blip r:embed="rId1"/>
          <a:stretch/>
        </p:blipFill>
        <p:spPr>
          <a:xfrm>
            <a:off x="5029200" y="1828800"/>
            <a:ext cx="3324240" cy="2689200"/>
          </a:xfrm>
          <a:prstGeom prst="rect">
            <a:avLst/>
          </a:prstGeom>
          <a:ln w="0">
            <a:noFill/>
          </a:ln>
        </p:spPr>
      </p:pic>
      <p:sp>
        <p:nvSpPr>
          <p:cNvPr id="212" name="TextBox 7"/>
          <p:cNvSpPr/>
          <p:nvPr/>
        </p:nvSpPr>
        <p:spPr>
          <a:xfrm>
            <a:off x="5410080" y="457200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c0000"/>
                </a:solidFill>
                <a:latin typeface="Tahoma"/>
              </a:rPr>
              <a:t>Hepatitis B Virus</a:t>
            </a:r>
            <a:endParaRPr b="0" lang="en-US" sz="14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epatitis B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685800" y="2286000"/>
            <a:ext cx="7861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x with infected person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od &amp; other bodily fluids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ing needles with infected person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a woman to her baby during birth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epatitis B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hospital Pres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685800" y="2286000"/>
            <a:ext cx="7861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signs &amp; symptoms of Hep B mild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you will be called to respond to acute illness caused by this virus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 you may on occasion see a patient with end stage liver cancer or other complications from the disease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the types of PPE and how and when they should be applie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the characteristics infectious diseases that are a threat to EMS providers. (HEPC, HBV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appropriate measures for protecting yourself against infectious diseases obtaining 3 of 3 test items corr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the appropriate actions to take for exposure to an infectious disea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inguish between the infectious diseases EMS providers can encoun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epatitis B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ccupational Ris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685800" y="2286000"/>
            <a:ext cx="7861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ccupational risk for acquiring HBV from unvaccinated person is significant. The risk for a vaccinated person is </a:t>
            </a:r>
            <a:r>
              <a:rPr b="0" lang="en-US" sz="2800" spc="-1" strike="noStrike">
                <a:solidFill>
                  <a:srgbClr val="ac0000"/>
                </a:solidFill>
                <a:latin typeface="Tahoma"/>
              </a:rPr>
              <a:t>VERY L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66680" y="3733920"/>
            <a:ext cx="791712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ven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762120" y="4419720"/>
            <a:ext cx="8153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way to prevent occupational exposure to HBV, in addition to taking care to protect yourself from blood exposure, is to </a:t>
            </a:r>
            <a:r>
              <a:rPr b="0" lang="en-US" sz="2800" spc="-1" strike="noStrike">
                <a:solidFill>
                  <a:srgbClr val="ac0000"/>
                </a:solidFill>
                <a:latin typeface="Tahoma"/>
              </a:rPr>
              <a:t>be vaccinat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gainst the disease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uberculosis (TB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 small bacteria that travels from small airways to cells of lung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than 10% of people infected with TB develop active disea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others, bacteria hides, causing no disease until host (patient) becomes immuno-compromised or otherwise debilit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uberculosis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ansmis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685800" y="2286000"/>
            <a:ext cx="7861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a small airborne particles expelled by cough, sneezing, or speaking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les are inhaled into small airways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longed exposure in confined space confers highest risk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uberculosis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hospital Pres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685800" y="2286000"/>
            <a:ext cx="7861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gh, often productive of blood-tinged sputum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tigue &amp; weakness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ght sweats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-grade fever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appetite &amp; weight loss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uberculosis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ccupational Ris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685800" y="2286000"/>
            <a:ext cx="7861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ccupational risk low but difficult to quantify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1054080" y="3427560"/>
            <a:ext cx="791676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vention: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685800" y="4114800"/>
            <a:ext cx="8153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high index of suspicion among patients who are at risk of having TB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 precautions if patients present with suspicious signs &amp; symptoms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fluenza (flu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 the influenza virus which attacks the respiratory system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ccurs seasonally from November to April in the northern hemispher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tructure of the virus changes slightly but frequently over time; this accounts for the appearance of different strains each ye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fluenza (flu)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685800" y="2286000"/>
            <a:ext cx="7086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ghed droplets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uching contaminated surfaces (less common)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fluenza (flu)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5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hospital 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1219320" y="2881440"/>
            <a:ext cx="7543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ever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aise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ache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y cough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ches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1054080" y="2208240"/>
            <a:ext cx="7632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dden onset of: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fluenza (flu)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053720" y="1598760"/>
            <a:ext cx="37782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ccupational Risk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685800" y="2057400"/>
            <a:ext cx="4038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es depending on the strain.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1066680" y="2819520"/>
            <a:ext cx="365760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vention: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762120" y="3276720"/>
            <a:ext cx="41907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 washing, clean surfaces 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ce mask on patient or ask patient to cover mouth when coughing 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st prevention is the flu vaccine, which must be taken yearly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pic>
        <p:nvPicPr>
          <p:cNvPr id="251" name="Content Placeholder 7" descr="flu_cdc.jpg"/>
          <p:cNvPicPr/>
          <p:nvPr/>
        </p:nvPicPr>
        <p:blipFill>
          <a:blip r:embed="rId1"/>
          <a:stretch/>
        </p:blipFill>
        <p:spPr>
          <a:xfrm>
            <a:off x="5791320" y="1676520"/>
            <a:ext cx="2257200" cy="3117600"/>
          </a:xfrm>
          <a:prstGeom prst="rect">
            <a:avLst/>
          </a:prstGeom>
          <a:ln w="0">
            <a:noFill/>
          </a:ln>
        </p:spPr>
      </p:pic>
      <p:sp>
        <p:nvSpPr>
          <p:cNvPr id="252" name="TextBox 10"/>
          <p:cNvSpPr/>
          <p:nvPr/>
        </p:nvSpPr>
        <p:spPr>
          <a:xfrm>
            <a:off x="5943600" y="487692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c0000"/>
                </a:solidFill>
                <a:latin typeface="Tahoma"/>
              </a:rPr>
              <a:t>Best flu prevention is the flu vaccine</a:t>
            </a:r>
            <a:endParaRPr b="0" lang="en-US" sz="14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Noroviru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ly contagious virus responsible for outbreaks of gastrointestinal disease on cruise ship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ovirus is the general name given to viruses of this typ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ible for many cases of severe but short-lived illnesses causing vomiting, diarrhea, and stomach cramp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Stomach flu" and "food poisoning" are typical infections of a Noroviru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erm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ntibod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— Proteins made by the immune system that have a memory for an invading virus and help recognize and destroy future invasions by that viru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ntibiot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— Medicine or drug that is effective in killing bacteria or inhibiting their growt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acte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— A single-celled, microscopic organism that can cause damage to the body's cells. They multiply very quickly by divid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Norovirus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5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1219320" y="2133720"/>
            <a:ext cx="7543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ccurs via fecal-oral route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food handler does not wash his hands after using bathroomyou then ingest food that has been contaminated with small amounts of fecal matter 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1295280" y="4572000"/>
            <a:ext cx="7239240" cy="1219320"/>
          </a:xfrm>
          <a:prstGeom prst="rect">
            <a:avLst/>
          </a:prstGeom>
          <a:solidFill>
            <a:srgbClr val="ac0000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person with a Norovirus is considered contagious from the time he or she starts feeling ill to as long as two weeks after recovery.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Norovirus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5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hospital 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1219320" y="2057400"/>
            <a:ext cx="7543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usea, vomiting &amp; diarrhea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mach cramps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-grade, transient fever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feeling of malaise, headache, body aches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1295280" y="4800600"/>
            <a:ext cx="7239240" cy="1219320"/>
          </a:xfrm>
          <a:prstGeom prst="rect">
            <a:avLst/>
          </a:prstGeom>
          <a:solidFill>
            <a:srgbClr val="ac0000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mptoms begin suddenly, may last one to three days, and usually resolve on their own. Because the disease is caused by a virus, antibiotics are useless.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Norovirus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ccupational Risk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685800" y="2286000"/>
            <a:ext cx="7861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ty-acquired, usually situations where large numbers share same food or living space (cruise ships, college dorms)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al outbreaks of noroviruses among staff at hospitals &amp; nursing homes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Norovirus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ven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685800" y="2133720"/>
            <a:ext cx="7861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ar gloves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sh yor hands thoroughly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 use of protective eyewear &amp; mask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rfaces contacted by the patient must be thoroughly disinfected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1143000" y="5334120"/>
            <a:ext cx="7238880" cy="761760"/>
          </a:xfrm>
          <a:prstGeom prst="rect">
            <a:avLst/>
          </a:prstGeom>
          <a:solidFill>
            <a:srgbClr val="ac0000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you become sick, wait two days after the last of your symptoms before returning to work.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est Nile Viru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identified in Afric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virus causing the disease, West Nile Virus (WNV), infects certain types of birds (ravens, crows, and jays), mosquitoes, horses, and other animal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s are an incidental, rather than primary, ho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est Nile Virus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053720" y="1598760"/>
            <a:ext cx="37782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4" name="Content Placeholder 7" descr="westnile_cdc.jpg"/>
          <p:cNvPicPr/>
          <p:nvPr/>
        </p:nvPicPr>
        <p:blipFill>
          <a:blip r:embed="rId1"/>
          <a:stretch/>
        </p:blipFill>
        <p:spPr>
          <a:xfrm>
            <a:off x="5029200" y="2133720"/>
            <a:ext cx="3486240" cy="249552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6"/>
          <p:cNvSpPr/>
          <p:nvPr/>
        </p:nvSpPr>
        <p:spPr>
          <a:xfrm>
            <a:off x="1219320" y="2133720"/>
            <a:ext cx="3657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NV is transmitted through the bite of an infected mosquito. 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NV is NOT transmitted person-to-person except in the rare case of a blood transfusion from an infected person.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76" name="TextBox 8"/>
          <p:cNvSpPr/>
          <p:nvPr/>
        </p:nvSpPr>
        <p:spPr>
          <a:xfrm>
            <a:off x="4927680" y="4724280"/>
            <a:ext cx="394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c0000"/>
                </a:solidFill>
                <a:latin typeface="Tahoma"/>
              </a:rPr>
              <a:t>Mosquitoes like to lay eggs in standing water</a:t>
            </a:r>
            <a:endParaRPr b="0" lang="en-US" sz="14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est Nile Virus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5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hospital 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1219320" y="2133720"/>
            <a:ext cx="7238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ver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ache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tigue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rely, a rash &amp; swollen lymph nodes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1143000" y="4876920"/>
            <a:ext cx="7238880" cy="1143000"/>
          </a:xfrm>
          <a:prstGeom prst="rect">
            <a:avLst/>
          </a:prstGeom>
          <a:solidFill>
            <a:srgbClr val="ac0000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ss than 1% of the people infected with WNV will develop severe illness. These people may present with high fever, headache or altered LOC.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est Nile Virus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ccupational Ris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685800" y="2286000"/>
            <a:ext cx="7861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ccupational risk involved in caring for a person with WNV disease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054080" y="3427560"/>
            <a:ext cx="763272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vention: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685800" y="4114800"/>
            <a:ext cx="7861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transmitted person-to-person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disease prevention precautions are necessary at work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andemic Flu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break of contagious disease that affects entire population over a wide geographical ar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d by influenza virus to which humans have little or no natural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h an outbreak has potential to cause many deaths &amp; illn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t pandemic flu viruses known for virulence causing rapid death, especially in young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difficult to accurately predict which strain of influenza may give rise to next pande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andemic vs. Seasona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053720" y="1598760"/>
            <a:ext cx="37782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ndemic outbreaks different from seasonal outbreaks of influ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sonal outbreaks caused by subtypes of influenza viruses that already circulate among hum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ndemic outbreaks caused by new subtyp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btypes never circulated among people or subtypes not circulated among people for a long 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0" name="Content Placeholder 4" descr="pandemicflu_cdc.jpg"/>
          <p:cNvPicPr/>
          <p:nvPr/>
        </p:nvPicPr>
        <p:blipFill>
          <a:blip r:embed="rId1"/>
          <a:stretch/>
        </p:blipFill>
        <p:spPr>
          <a:xfrm>
            <a:off x="5105520" y="1981080"/>
            <a:ext cx="3438360" cy="2382840"/>
          </a:xfrm>
          <a:prstGeom prst="rect">
            <a:avLst/>
          </a:prstGeom>
          <a:ln w="0">
            <a:noFill/>
          </a:ln>
        </p:spPr>
      </p:pic>
      <p:sp>
        <p:nvSpPr>
          <p:cNvPr id="291" name="TextBox 5"/>
          <p:cNvSpPr/>
          <p:nvPr/>
        </p:nvSpPr>
        <p:spPr>
          <a:xfrm>
            <a:off x="5334120" y="4419720"/>
            <a:ext cx="3200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c0000"/>
                </a:solidFill>
                <a:latin typeface="Tahoma"/>
              </a:rPr>
              <a:t>Microbiologist examining reconstructed 1918 Pandemic Influenza Virus</a:t>
            </a:r>
            <a:endParaRPr b="0" lang="en-US" sz="12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erms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epidem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— An outbreak of a contagious disease that spreads among many individuals in an area or a population at the same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pandem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— An outbreak of a contagious disease that affects an entire population over a wide geographical area. A pandemic affects a far higher number of people and a much larger region than an epidemic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parasi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— An organism that grows, feeds, and is sheltered on or in a different organism while contributing nothing to the survival of its ho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ask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53720" y="1598760"/>
            <a:ext cx="73278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 a fit-tested mask before entering the scen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 a mask on the patient, if toler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tted masks provide the highest level of protec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ve and dispose of the mask without self contamin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Eye Protec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053720" y="1598760"/>
            <a:ext cx="37782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ar eye protection on all calls. You must prepare for unanticipated splashes such 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6" name="Content Placeholder 7" descr="ppe_eyeprotection.jpg"/>
          <p:cNvPicPr/>
          <p:nvPr/>
        </p:nvPicPr>
        <p:blipFill>
          <a:blip r:embed="rId1"/>
          <a:stretch/>
        </p:blipFill>
        <p:spPr>
          <a:xfrm>
            <a:off x="4952880" y="2895480"/>
            <a:ext cx="3457800" cy="255276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5"/>
          <p:cNvSpPr/>
          <p:nvPr/>
        </p:nvSpPr>
        <p:spPr>
          <a:xfrm>
            <a:off x="914400" y="3124080"/>
            <a:ext cx="3594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omiting</a:t>
            </a:r>
            <a:endParaRPr b="0" lang="en-US" sz="20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od flicked from bloody hand</a:t>
            </a:r>
            <a:endParaRPr b="0" lang="en-US" sz="20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olent spit</a:t>
            </a:r>
            <a:endParaRPr b="0" lang="en-US" sz="20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lucometer strips</a:t>
            </a:r>
            <a:endParaRPr b="0" lang="en-US" sz="20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lashing fluids</a:t>
            </a:r>
            <a:endParaRPr b="0" lang="en-US" sz="20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iratory infection </a:t>
            </a:r>
            <a:endParaRPr b="0" lang="en-US" sz="20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olent cough or sneeze</a:t>
            </a:r>
            <a:endParaRPr b="0" lang="en-US" sz="20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lov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053720" y="1598760"/>
            <a:ext cx="37782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ar medical gloves on all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st bodily fluids, such as vomit or urine, do not typically carry blood borne viru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le working in rescue or extrication environment where risk of both cut &amp; body substance exposure present, wear latex or nitrile inner gloves &amp; other protective outer glo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0" name="Content Placeholder 6" descr="ppe_gloves.jpg"/>
          <p:cNvPicPr/>
          <p:nvPr/>
        </p:nvPicPr>
        <p:blipFill>
          <a:blip r:embed="rId1"/>
          <a:stretch/>
        </p:blipFill>
        <p:spPr>
          <a:xfrm>
            <a:off x="5105520" y="1905120"/>
            <a:ext cx="3076560" cy="2214360"/>
          </a:xfrm>
          <a:prstGeom prst="rect">
            <a:avLst/>
          </a:prstGeom>
          <a:ln w="0">
            <a:noFill/>
          </a:ln>
        </p:spPr>
      </p:pic>
      <p:sp>
        <p:nvSpPr>
          <p:cNvPr id="301" name="TextBox 7"/>
          <p:cNvSpPr/>
          <p:nvPr/>
        </p:nvSpPr>
        <p:spPr>
          <a:xfrm>
            <a:off x="5105520" y="426708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c0000"/>
                </a:solidFill>
                <a:latin typeface="Tahoma"/>
              </a:rPr>
              <a:t>Glove Up!</a:t>
            </a:r>
            <a:endParaRPr b="0" lang="en-US" sz="14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Limits of Glov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ves are for use during patient contac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sh your hands after all patient contact, even if you wore glov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ves will not protect you from sharp objects such as need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harp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53720" y="1598760"/>
            <a:ext cx="74804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lesticks represent greatest risk of occupational blood bor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"exposures" involve cases where EMS providers inadvertently stuck themselves with used needle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eye on paramedics &amp; need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tch where you put your ha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Needlestick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needlestick exposur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1130400" y="2209680"/>
            <a:ext cx="7404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sh area well with soap &amp; water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use bleach or other harsh chemicals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may damage the skin, making it more likely for the virus to enter the body</a:t>
            </a:r>
            <a:endParaRPr b="0" lang="en-US" sz="2000" spc="-1" strike="noStrike">
              <a:solidFill>
                <a:srgbClr val="00ff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ort exposure immediately to your officer for testing and possible post-exposure prophylaxis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kin/Mucu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posures to non-intact ski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1130400" y="2209680"/>
            <a:ext cx="7404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sh with soap and water.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rt the exposure immediately to your officer for testing and possible post-exposure prophylaxis.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1143000" y="4495680"/>
            <a:ext cx="7238880" cy="1295640"/>
          </a:xfrm>
          <a:prstGeom prst="rect">
            <a:avLst/>
          </a:prstGeom>
          <a:solidFill>
            <a:srgbClr val="ac0000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od on intact skin is not considered a significant exposure. Non-intact skin includes abrasions and cuts.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kin/Mucus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posures to mucus membra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1130400" y="2209680"/>
            <a:ext cx="7404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ush liberally with water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rt exposure immediately to your officer for testing &amp; possible post-exposure prophylaxis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irborn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rt possible exposure to your company offic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hospital may notify exposed responders if patient is diagnosed with airborne disease (e.g., TB or bacterial meningit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iseases may require automatic &amp; immediate post-exposure prophylax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may require post-exposure testing &amp; then treatment only if you become pos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P for HIV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5564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possible exposure to a blood borne disease must be reported immediately to your company offic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exposure prophylaxis reduces the already very low risk of acquiring the dis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cations taken for PEP are TOX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tient is determined to be HIV-negative, PEP medications can be stop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erms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pathog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— An agent that causes disease such as a bacterium, virus or fungu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vaccin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— A preparation of a weakened or disabled virus that stimulates antibody production and provides immunity when injected into the bod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viru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— A very small agent made of genetic information (RNA or DNA) surrounded by a protein coat. It cannot reproduce on its own but must take over a living cell to multip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 washing is the most effective method of preventing infectious dis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n visible contamination first, then disinfect su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ar gloves when disinfecting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ccupational risk of acquiring AIDS is VERY 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ummary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way to prevent occupational exposure to HBV, in addition to taking care to protect yourself from blood exposure, is to be vaccin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ve gloves when you are done with patient contact, before getting into your rig, talking on the radio, or drivin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ummary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you suspect TB, put a mask on patient (if tolerated), &amp; wear a mask yoursel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lesticks represent the greatest risk of occupational blood bor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EP is to be started, it should be started IMMEDIATELY after exposure, if at all possible within two ho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sourc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556400" cy="14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certification exam for this module is based on a variety of resources. We recommend that you review the follow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1066680" y="3198960"/>
            <a:ext cx="708660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hapter 2 – Wellbeing of the EM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mergency Care and Transportation of the Sick and Injur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9th edition (AAOS).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1118880" y="3959640"/>
            <a:ext cx="471456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r. Mickey Eisenber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dical Director</a:t>
            </a:r>
            <a:endParaRPr b="0" lang="en-US" sz="1600" spc="-1" strike="noStrike">
              <a:solidFill>
                <a:srgbClr val="00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k the Doc: </a:t>
            </a:r>
            <a:r>
              <a:rPr b="0" lang="en-US" sz="1600" spc="-1" strike="noStrike" u="sng">
                <a:solidFill>
                  <a:srgbClr val="ff0033"/>
                </a:solidFill>
                <a:uFillTx/>
                <a:latin typeface="Tahoma"/>
                <a:hlinkClick r:id="rId1"/>
              </a:rPr>
              <a:t>http://www.emsonline.net/doc.asp</a:t>
            </a:r>
            <a:endParaRPr b="0" lang="en-US" sz="16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1103040" y="1813320"/>
            <a:ext cx="42361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MS Onlin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uidelines and Standing Orders</a:t>
            </a:r>
            <a:endParaRPr b="0" lang="en-US" sz="1600" spc="-1" strike="noStrike">
              <a:solidFill>
                <a:srgbClr val="00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33"/>
                </a:solidFill>
                <a:uFillTx/>
                <a:latin typeface="Tahoma"/>
                <a:hlinkClick r:id="rId2"/>
              </a:rPr>
              <a:t>http://www.emsonline.net/downloads.asp</a:t>
            </a:r>
            <a:r>
              <a:rPr b="0" lang="en-US" sz="1600" spc="-1" strike="noStrike" u="sng">
                <a:solidFill>
                  <a:srgbClr val="ff0033"/>
                </a:solidFill>
                <a:uFillTx/>
                <a:latin typeface="Tahoma"/>
                <a:hlinkClick r:id="rId3"/>
              </a:rPr>
              <a:t> </a:t>
            </a:r>
            <a:endParaRPr b="0" lang="en-US" sz="16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1115280" y="2892960"/>
            <a:ext cx="35701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usan Kolwitz</a:t>
            </a:r>
            <a:endParaRPr b="0" lang="en-US" sz="1600" spc="-1" strike="noStrike">
              <a:solidFill>
                <a:srgbClr val="00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gram Manager</a:t>
            </a:r>
            <a:endParaRPr b="0" lang="en-US" sz="1600" spc="-1" strike="noStrike">
              <a:solidFill>
                <a:srgbClr val="00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ail support: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600" spc="-1" strike="noStrike" u="sng">
                <a:solidFill>
                  <a:srgbClr val="ff0033"/>
                </a:solidFill>
                <a:uFillTx/>
                <a:latin typeface="Tahoma"/>
                <a:hlinkClick r:id="rId4"/>
              </a:rPr>
              <a:t>help@emsonline.net</a:t>
            </a:r>
            <a:endParaRPr b="0" lang="en-US" sz="16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New Term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54080" y="1599840"/>
            <a:ext cx="77090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body substance isolation (BSI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— An infection control practice that assumes all body substances including blood, urine, saliva, feces, tears, etc., are potentially infectiou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MRS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— Methicillin-resistant Staphylococcus Aureus (MRSA) are a type of staphylococcus or "staph" bacteria that are resistant to many antibiotic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personal protective equipment (PPE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Specialized clothing or equipment worn for protection against health and safety hazar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universal precautio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 Universal precautions should be should be observed on every incident. Universal precautions include personal protective equipment (PPE) and body substance isolation (BSI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sonal Protective Equipmen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050840" y="1598760"/>
            <a:ext cx="7178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at every scene that has a potentially infectious patient as a biological hazmat.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marL="347760" indent="-3477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oid infection from fluids and airborne particles.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marL="347760" indent="-3477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ntaminate equipment and surfaces after use and wash your hands frequently.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marL="347760" indent="-3477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 precautions should be universal – they should be observed on every incident.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at’s New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RSA is on the rise and MRSA exposure for EMTs and paramedics is greater than for the general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5T11:31:03Z</dcterms:created>
  <dc:creator>User1</dc:creator>
  <dc:description/>
  <dc:language>en-US</dc:language>
  <cp:lastModifiedBy>EE</cp:lastModifiedBy>
  <cp:lastPrinted>2009-04-22T19:24:48Z</cp:lastPrinted>
  <dcterms:modified xsi:type="dcterms:W3CDTF">2010-12-28T23:44:10Z</dcterms:modified>
  <cp:revision>703</cp:revision>
  <dc:subject>2010 Presentation</dc:subject>
  <dc:title>CBT621: Infectious Disease</dc:title>
</cp:coreProperties>
</file>