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7772400" cy="100584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327040" y="1173240"/>
            <a:ext cx="2447640" cy="316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518000"/>
            <a:ext cx="5683320" cy="369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8280"/>
            <a:ext cx="3078000" cy="46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PlaceHolder 6"/>
          <p:cNvSpPr>
            <a:spLocks noGrp="1"/>
          </p:cNvSpPr>
          <p:nvPr>
            <p:ph type="sldNum" idx="6"/>
          </p:nvPr>
        </p:nvSpPr>
        <p:spPr>
          <a:xfrm>
            <a:off x="4022280" y="8918280"/>
            <a:ext cx="3078360" cy="469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8C06-DCFF-490C-9285-C6EFB2F17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3" name="PlaceHolder 1"/>
          <p:cNvSpPr>
            <a:spLocks noGrp="1"/>
          </p:cNvSpPr>
          <p:nvPr>
            <p:ph type="sldImg"/>
          </p:nvPr>
        </p:nvSpPr>
        <p:spPr>
          <a:xfrm>
            <a:off x="2327400" y="1173240"/>
            <a:ext cx="2447640" cy="3168720"/>
          </a:xfrm>
          <a:prstGeom prst="rect">
            <a:avLst/>
          </a:prstGeom>
          <a:ln w="0">
            <a:noFill/>
          </a:ln>
        </p:spPr>
      </p:sp>
      <p:sp>
        <p:nvSpPr>
          <p:cNvPr id="4364"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5"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2F71-B4FB-488F-AF10-8486395C2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PlaceHolder 1"/>
          <p:cNvSpPr>
            <a:spLocks noGrp="1"/>
          </p:cNvSpPr>
          <p:nvPr>
            <p:ph type="sldImg"/>
          </p:nvPr>
        </p:nvSpPr>
        <p:spPr>
          <a:xfrm>
            <a:off x="2327400" y="1173240"/>
            <a:ext cx="2447640" cy="3168720"/>
          </a:xfrm>
          <a:prstGeom prst="rect">
            <a:avLst/>
          </a:prstGeom>
          <a:ln w="0">
            <a:noFill/>
          </a:ln>
        </p:spPr>
      </p:sp>
      <p:sp>
        <p:nvSpPr>
          <p:cNvPr id="4367"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8"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C791-60F2-4ABD-9C91-A600E5F2C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9" name="PlaceHolder 1"/>
          <p:cNvSpPr>
            <a:spLocks noGrp="1"/>
          </p:cNvSpPr>
          <p:nvPr>
            <p:ph type="sldImg"/>
          </p:nvPr>
        </p:nvSpPr>
        <p:spPr>
          <a:xfrm>
            <a:off x="2327400" y="1173240"/>
            <a:ext cx="2447640" cy="3168720"/>
          </a:xfrm>
          <a:prstGeom prst="rect">
            <a:avLst/>
          </a:prstGeom>
          <a:ln w="0">
            <a:noFill/>
          </a:ln>
        </p:spPr>
      </p:sp>
      <p:sp>
        <p:nvSpPr>
          <p:cNvPr id="4370"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1"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A432-6FE9-4DD9-8ADF-11042CDEA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2" name="PlaceHolder 1"/>
          <p:cNvSpPr>
            <a:spLocks noGrp="1"/>
          </p:cNvSpPr>
          <p:nvPr>
            <p:ph type="sldImg"/>
          </p:nvPr>
        </p:nvSpPr>
        <p:spPr>
          <a:xfrm>
            <a:off x="2327400" y="1173240"/>
            <a:ext cx="2447640" cy="3168720"/>
          </a:xfrm>
          <a:prstGeom prst="rect">
            <a:avLst/>
          </a:prstGeom>
          <a:ln w="0">
            <a:noFill/>
          </a:ln>
        </p:spPr>
      </p:sp>
      <p:sp>
        <p:nvSpPr>
          <p:cNvPr id="4343"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4"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D4C1A-07EB-4C24-A343-A9931382F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5" name="PlaceHolder 1"/>
          <p:cNvSpPr>
            <a:spLocks noGrp="1"/>
          </p:cNvSpPr>
          <p:nvPr>
            <p:ph type="sldImg"/>
          </p:nvPr>
        </p:nvSpPr>
        <p:spPr>
          <a:xfrm>
            <a:off x="2327400" y="1173240"/>
            <a:ext cx="2447640" cy="3168720"/>
          </a:xfrm>
          <a:prstGeom prst="rect">
            <a:avLst/>
          </a:prstGeom>
          <a:ln w="0">
            <a:noFill/>
          </a:ln>
        </p:spPr>
      </p:sp>
      <p:sp>
        <p:nvSpPr>
          <p:cNvPr id="4346"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7"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16C8-FB0B-48F9-AC0D-52107105F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8" name="PlaceHolder 1"/>
          <p:cNvSpPr>
            <a:spLocks noGrp="1"/>
          </p:cNvSpPr>
          <p:nvPr>
            <p:ph type="sldImg"/>
          </p:nvPr>
        </p:nvSpPr>
        <p:spPr>
          <a:xfrm>
            <a:off x="2327400" y="1173240"/>
            <a:ext cx="2447640" cy="3168720"/>
          </a:xfrm>
          <a:prstGeom prst="rect">
            <a:avLst/>
          </a:prstGeom>
          <a:ln w="0">
            <a:noFill/>
          </a:ln>
        </p:spPr>
      </p:sp>
      <p:sp>
        <p:nvSpPr>
          <p:cNvPr id="4349"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0"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48FA-3BDF-4E48-BA19-7AA483958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1" name="PlaceHolder 1"/>
          <p:cNvSpPr>
            <a:spLocks noGrp="1"/>
          </p:cNvSpPr>
          <p:nvPr>
            <p:ph type="sldImg"/>
          </p:nvPr>
        </p:nvSpPr>
        <p:spPr>
          <a:xfrm>
            <a:off x="2327400" y="1173240"/>
            <a:ext cx="2447640" cy="3168720"/>
          </a:xfrm>
          <a:prstGeom prst="rect">
            <a:avLst/>
          </a:prstGeom>
          <a:ln w="0">
            <a:noFill/>
          </a:ln>
        </p:spPr>
      </p:sp>
      <p:sp>
        <p:nvSpPr>
          <p:cNvPr id="4352"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3"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2595-3101-42C0-B060-663815D45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PlaceHolder 1"/>
          <p:cNvSpPr>
            <a:spLocks noGrp="1"/>
          </p:cNvSpPr>
          <p:nvPr>
            <p:ph type="sldImg"/>
          </p:nvPr>
        </p:nvSpPr>
        <p:spPr>
          <a:xfrm>
            <a:off x="2327400" y="1173240"/>
            <a:ext cx="2447640" cy="3168720"/>
          </a:xfrm>
          <a:prstGeom prst="rect">
            <a:avLst/>
          </a:prstGeom>
          <a:ln w="0">
            <a:noFill/>
          </a:ln>
        </p:spPr>
      </p:sp>
      <p:sp>
        <p:nvSpPr>
          <p:cNvPr id="4355"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6"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2E16-89EE-47DB-A446-B5E3971F0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7" name="PlaceHolder 1"/>
          <p:cNvSpPr>
            <a:spLocks noGrp="1"/>
          </p:cNvSpPr>
          <p:nvPr>
            <p:ph type="sldImg"/>
          </p:nvPr>
        </p:nvSpPr>
        <p:spPr>
          <a:xfrm>
            <a:off x="2327400" y="1173240"/>
            <a:ext cx="2447640" cy="3168720"/>
          </a:xfrm>
          <a:prstGeom prst="rect">
            <a:avLst/>
          </a:prstGeom>
          <a:ln w="0">
            <a:noFill/>
          </a:ln>
        </p:spPr>
      </p:sp>
      <p:sp>
        <p:nvSpPr>
          <p:cNvPr id="4358" name="PlaceHolder 2"/>
          <p:cNvSpPr>
            <a:spLocks noGrp="1"/>
          </p:cNvSpPr>
          <p:nvPr>
            <p:ph type="body"/>
          </p:nvPr>
        </p:nvSpPr>
        <p:spPr>
          <a:xfrm>
            <a:off x="709200" y="4518000"/>
            <a:ext cx="5683320" cy="369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kkkkk</a:t>
            </a:r>
            <a:endParaRPr b="0" lang="en-US" sz="1200" spc="-1" strike="noStrike">
              <a:solidFill>
                <a:srgbClr val="000000"/>
              </a:solidFill>
              <a:latin typeface="Calibri"/>
            </a:endParaRPr>
          </a:p>
        </p:txBody>
      </p:sp>
      <p:sp>
        <p:nvSpPr>
          <p:cNvPr id="4359"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BFF8-537B-4ED3-A999-5E81B0F36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0" name="PlaceHolder 1"/>
          <p:cNvSpPr>
            <a:spLocks noGrp="1"/>
          </p:cNvSpPr>
          <p:nvPr>
            <p:ph type="sldImg"/>
          </p:nvPr>
        </p:nvSpPr>
        <p:spPr>
          <a:xfrm>
            <a:off x="2327400" y="1173240"/>
            <a:ext cx="2447640" cy="3168720"/>
          </a:xfrm>
          <a:prstGeom prst="rect">
            <a:avLst/>
          </a:prstGeom>
          <a:ln w="0">
            <a:noFill/>
          </a:ln>
        </p:spPr>
      </p:sp>
      <p:sp>
        <p:nvSpPr>
          <p:cNvPr id="4361"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2"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813B-ED0B-4D99-8DB3-31A51FDF4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AA472-C6FD-4E32-A275-C758035C2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3A13D-AF60-4599-8201-4D15E5053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C83B5-438C-45E2-B2FA-1346F6EEA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40B6B-3815-4867-BA54-7E79B80B8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E869C-A672-45B2-8589-5A407BD52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D3A20-58A9-4B5D-855B-06CD8425E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70128-6993-4CFF-8201-EE229349A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F0EE9-4ECC-4D07-BC49-CDF57698F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F35F9-B685-493F-BBA4-BF6C62674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5112-B709-45DB-A9F1-8E4E720A8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FA703-19E5-4050-90B2-FB44B5201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B1BF4-9BAC-465F-A2C0-6183B3BAA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8800" y="9159840"/>
            <a:ext cx="1812960" cy="698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4"/>
          <p:cNvSpPr>
            <a:spLocks noGrp="1"/>
          </p:cNvSpPr>
          <p:nvPr>
            <p:ph type="ftr" idx="2"/>
          </p:nvPr>
        </p:nvSpPr>
        <p:spPr>
          <a:xfrm>
            <a:off x="2655720" y="9159840"/>
            <a:ext cx="2460960" cy="698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5"/>
          <p:cNvSpPr>
            <a:spLocks noGrp="1"/>
          </p:cNvSpPr>
          <p:nvPr>
            <p:ph type="sldNum" idx="3"/>
          </p:nvPr>
        </p:nvSpPr>
        <p:spPr>
          <a:xfrm>
            <a:off x="5570640" y="9159840"/>
            <a:ext cx="1812960" cy="698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E5AD-7F9C-4A3A-B361-CFDD57C4E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914400" y="380880"/>
            <a:ext cx="586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 1 – COMPETITION STATEMENT</a:t>
            </a:r>
            <a:endParaRPr b="0" lang="en-US" sz="2400" spc="-1" strike="noStrike">
              <a:solidFill>
                <a:srgbClr val="000000"/>
              </a:solidFill>
              <a:latin typeface="Arial"/>
            </a:endParaRPr>
          </a:p>
        </p:txBody>
      </p:sp>
      <p:sp>
        <p:nvSpPr>
          <p:cNvPr id="49" name="Rectangle 6"/>
          <p:cNvSpPr/>
          <p:nvPr/>
        </p:nvSpPr>
        <p:spPr>
          <a:xfrm>
            <a:off x="838080" y="1731240"/>
            <a:ext cx="6324840" cy="712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my name is _______________________. I am the mine foreman here at the mine. Last night on the midnight shift we had ten employees go underground to build stoppings, clean and rock dust, wash equipment and do routine maintenance work on our equipment. Our fire boss arrived at the mine at approximately 5:00 am and attempted to contact the crew before starting his examination of the mine.  He was unable to make contact with anyone underground.  He traveled to the section to determine what kind of problem existed.  When he got four breaks from the face area he encountered unsafe roof in No. 1 entry, unsafe roof in No. 2 entry and an explosive range of methane and low O2 in No. 3 entry.  None of these conditions were in the pre-shift examination book prior to the midnight crew going to the section.  Permanent stoppings were built across all three entries and a Fresh Air Base was established. He then returned to the surface of the mine to get help and notify designated persons in the mine emergency plan.  I arrived at the mine site at 7:00 am and notified all agencies and contacted our mine site rescue team and two contract teams in the area.  Your team is the first to arrive at the mine si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the mine where the missing miners are located is an three entry section and the entries are numbered from left to right with No. 1 entry being on the left side of the section looking inby to the face areas. This area of the mine is ventilated with two fans.  Each source for the fans will be capable of providing 20,000 cfm.  The No. 1 fan is located in an entry driven off No. 1 entry.  It is a blowing fan that is presently off but can be started by the briefing officer contacting the mine foreman.  Once the No. 1 fan is started it can not be stopped, reversed or stalled.  The No. 2 fan is located on the surface of the mine in No. 3 entry.  It is a exhausting fan that is presently running and can not be stopped, stalled or reversed. The No. 2 fan can not pull over 80,000 cfm at any ti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a crack in the mine floor appeared in No. 2 entry where the fresh-air base is located and large amount of methane was detected at this location.  It has been determined that a minimum of 40,000 cfm must be directed over the crack in the mine floor in order to maintain the methane level under the explosive range of methane.  As the team explores this area of the mine, it will be mandatory to maintain 40,000 cfm over this area at all times.  Both air shafts are equipped with air lock doors. The team may request that one of back up teams present at the mine close the air lock doors at the shafts by the briefing officer requesting the change thru the mine forem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provided a mine map and a written statement when you have started the clo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Lu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2"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33"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3234"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235"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6"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7"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8"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9"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3240"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1"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2"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3"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4"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5"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6"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7"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8"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9"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0"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1"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2"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3"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4"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IXTH VENTILATION</a:t>
            </a:r>
            <a:endParaRPr b="0" lang="en-US" sz="1600" spc="-1" strike="noStrike">
              <a:solidFill>
                <a:srgbClr val="000000"/>
              </a:solidFill>
              <a:latin typeface="Arial"/>
            </a:endParaRPr>
          </a:p>
        </p:txBody>
      </p:sp>
      <p:grpSp>
        <p:nvGrpSpPr>
          <p:cNvPr id="3255" name="Group 99"/>
          <p:cNvGrpSpPr/>
          <p:nvPr/>
        </p:nvGrpSpPr>
        <p:grpSpPr>
          <a:xfrm>
            <a:off x="3503520" y="6756480"/>
            <a:ext cx="848520" cy="583920"/>
            <a:chOff x="3503520" y="6756480"/>
            <a:chExt cx="848520" cy="583920"/>
          </a:xfrm>
        </p:grpSpPr>
        <p:sp>
          <p:nvSpPr>
            <p:cNvPr id="3256"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57"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58"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59"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260" name="Group 99"/>
          <p:cNvGrpSpPr/>
          <p:nvPr/>
        </p:nvGrpSpPr>
        <p:grpSpPr>
          <a:xfrm>
            <a:off x="3568680" y="3341160"/>
            <a:ext cx="812160" cy="586080"/>
            <a:chOff x="3568680" y="3341160"/>
            <a:chExt cx="812160" cy="586080"/>
          </a:xfrm>
        </p:grpSpPr>
        <p:sp>
          <p:nvSpPr>
            <p:cNvPr id="3261"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2"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3"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4"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265"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6"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7"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8"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9"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270"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271"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3272"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273"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4"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5"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6"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7"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8"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9"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80"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81"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82"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3283"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284"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285"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86"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87"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88"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289"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0"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1"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2"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293" name="Group 140"/>
          <p:cNvGrpSpPr/>
          <p:nvPr/>
        </p:nvGrpSpPr>
        <p:grpSpPr>
          <a:xfrm>
            <a:off x="6141960" y="7472160"/>
            <a:ext cx="228600" cy="609840"/>
            <a:chOff x="6141960" y="7472160"/>
            <a:chExt cx="228600" cy="609840"/>
          </a:xfrm>
        </p:grpSpPr>
        <p:sp>
          <p:nvSpPr>
            <p:cNvPr id="3294"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5"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6"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7"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8"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9"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00"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3301"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3302"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03"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304"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3305" name="Group 109"/>
          <p:cNvGrpSpPr/>
          <p:nvPr/>
        </p:nvGrpSpPr>
        <p:grpSpPr>
          <a:xfrm>
            <a:off x="5618160" y="4379760"/>
            <a:ext cx="788400" cy="237600"/>
            <a:chOff x="5618160" y="4379760"/>
            <a:chExt cx="788400" cy="237600"/>
          </a:xfrm>
        </p:grpSpPr>
        <p:grpSp>
          <p:nvGrpSpPr>
            <p:cNvPr id="3306" name="Group 110"/>
            <p:cNvGrpSpPr/>
            <p:nvPr/>
          </p:nvGrpSpPr>
          <p:grpSpPr>
            <a:xfrm>
              <a:off x="5618160" y="4379760"/>
              <a:ext cx="788400" cy="59400"/>
              <a:chOff x="5618160" y="4379760"/>
              <a:chExt cx="788400" cy="59400"/>
            </a:xfrm>
          </p:grpSpPr>
          <p:sp>
            <p:nvSpPr>
              <p:cNvPr id="3307"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08"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09" name="Group 113"/>
            <p:cNvGrpSpPr/>
            <p:nvPr/>
          </p:nvGrpSpPr>
          <p:grpSpPr>
            <a:xfrm>
              <a:off x="5618160" y="4557960"/>
              <a:ext cx="788400" cy="59400"/>
              <a:chOff x="5618160" y="4557960"/>
              <a:chExt cx="788400" cy="59400"/>
            </a:xfrm>
          </p:grpSpPr>
          <p:sp>
            <p:nvSpPr>
              <p:cNvPr id="3310"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1"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3312"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3"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4"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3315"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3316" name="Group 62"/>
          <p:cNvGrpSpPr/>
          <p:nvPr/>
        </p:nvGrpSpPr>
        <p:grpSpPr>
          <a:xfrm>
            <a:off x="6216480" y="2462040"/>
            <a:ext cx="152640" cy="228240"/>
            <a:chOff x="6216480" y="2462040"/>
            <a:chExt cx="152640" cy="228240"/>
          </a:xfrm>
        </p:grpSpPr>
        <p:sp>
          <p:nvSpPr>
            <p:cNvPr id="3317"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8"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9"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320"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321"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322"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323"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3324"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3325"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6"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7"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8"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3329"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3330"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331"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332"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33"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34"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5"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3336"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7"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8"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9"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340" name="Group 128"/>
          <p:cNvGrpSpPr/>
          <p:nvPr/>
        </p:nvGrpSpPr>
        <p:grpSpPr>
          <a:xfrm>
            <a:off x="2819520" y="3389040"/>
            <a:ext cx="159840" cy="500760"/>
            <a:chOff x="2819520" y="3389040"/>
            <a:chExt cx="159840" cy="500760"/>
          </a:xfrm>
        </p:grpSpPr>
        <p:grpSp>
          <p:nvGrpSpPr>
            <p:cNvPr id="3341" name="Group 129"/>
            <p:cNvGrpSpPr/>
            <p:nvPr/>
          </p:nvGrpSpPr>
          <p:grpSpPr>
            <a:xfrm>
              <a:off x="2819520" y="3389040"/>
              <a:ext cx="79200" cy="500760"/>
              <a:chOff x="2819520" y="3389040"/>
              <a:chExt cx="79200" cy="500760"/>
            </a:xfrm>
          </p:grpSpPr>
          <p:sp>
            <p:nvSpPr>
              <p:cNvPr id="3342"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43"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44" name="Group 132"/>
            <p:cNvGrpSpPr/>
            <p:nvPr/>
          </p:nvGrpSpPr>
          <p:grpSpPr>
            <a:xfrm>
              <a:off x="2899080" y="3389040"/>
              <a:ext cx="79920" cy="500760"/>
              <a:chOff x="2899080" y="3389040"/>
              <a:chExt cx="79920" cy="500760"/>
            </a:xfrm>
          </p:grpSpPr>
          <p:sp>
            <p:nvSpPr>
              <p:cNvPr id="3345"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46"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47"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48"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49" name="Group 128"/>
          <p:cNvGrpSpPr/>
          <p:nvPr/>
        </p:nvGrpSpPr>
        <p:grpSpPr>
          <a:xfrm>
            <a:off x="2819520" y="5108040"/>
            <a:ext cx="175680" cy="491760"/>
            <a:chOff x="2819520" y="5108040"/>
            <a:chExt cx="175680" cy="491760"/>
          </a:xfrm>
        </p:grpSpPr>
        <p:grpSp>
          <p:nvGrpSpPr>
            <p:cNvPr id="3350" name="Group 129"/>
            <p:cNvGrpSpPr/>
            <p:nvPr/>
          </p:nvGrpSpPr>
          <p:grpSpPr>
            <a:xfrm>
              <a:off x="2819520" y="5108040"/>
              <a:ext cx="87120" cy="491760"/>
              <a:chOff x="2819520" y="5108040"/>
              <a:chExt cx="87120" cy="491760"/>
            </a:xfrm>
          </p:grpSpPr>
          <p:sp>
            <p:nvSpPr>
              <p:cNvPr id="3351"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52"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53" name="Group 132"/>
            <p:cNvGrpSpPr/>
            <p:nvPr/>
          </p:nvGrpSpPr>
          <p:grpSpPr>
            <a:xfrm>
              <a:off x="2907000" y="5108040"/>
              <a:ext cx="87840" cy="491760"/>
              <a:chOff x="2907000" y="5108040"/>
              <a:chExt cx="87840" cy="491760"/>
            </a:xfrm>
          </p:grpSpPr>
          <p:sp>
            <p:nvSpPr>
              <p:cNvPr id="3354"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55"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56"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57"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58" name="Group 128"/>
          <p:cNvGrpSpPr/>
          <p:nvPr/>
        </p:nvGrpSpPr>
        <p:grpSpPr>
          <a:xfrm>
            <a:off x="4819680" y="5076720"/>
            <a:ext cx="175680" cy="491040"/>
            <a:chOff x="4819680" y="5076720"/>
            <a:chExt cx="175680" cy="491040"/>
          </a:xfrm>
        </p:grpSpPr>
        <p:grpSp>
          <p:nvGrpSpPr>
            <p:cNvPr id="3359" name="Group 129"/>
            <p:cNvGrpSpPr/>
            <p:nvPr/>
          </p:nvGrpSpPr>
          <p:grpSpPr>
            <a:xfrm>
              <a:off x="4819680" y="5076720"/>
              <a:ext cx="87120" cy="491040"/>
              <a:chOff x="4819680" y="5076720"/>
              <a:chExt cx="87120" cy="491040"/>
            </a:xfrm>
          </p:grpSpPr>
          <p:sp>
            <p:nvSpPr>
              <p:cNvPr id="3360"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61"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62" name="Group 132"/>
            <p:cNvGrpSpPr/>
            <p:nvPr/>
          </p:nvGrpSpPr>
          <p:grpSpPr>
            <a:xfrm>
              <a:off x="4907160" y="5076720"/>
              <a:ext cx="87840" cy="491040"/>
              <a:chOff x="4907160" y="5076720"/>
              <a:chExt cx="87840" cy="491040"/>
            </a:xfrm>
          </p:grpSpPr>
          <p:sp>
            <p:nvSpPr>
              <p:cNvPr id="3363"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64"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65"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66"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67"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3368"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3369"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0"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71"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372"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3"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374"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5"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3376"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7"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3378" name="Group 176"/>
          <p:cNvGrpSpPr/>
          <p:nvPr/>
        </p:nvGrpSpPr>
        <p:grpSpPr>
          <a:xfrm>
            <a:off x="1638360" y="7424640"/>
            <a:ext cx="626760" cy="861480"/>
            <a:chOff x="1638360" y="7424640"/>
            <a:chExt cx="626760" cy="861480"/>
          </a:xfrm>
        </p:grpSpPr>
        <p:sp>
          <p:nvSpPr>
            <p:cNvPr id="3379"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0"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1"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2"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83" name="Group 176"/>
          <p:cNvGrpSpPr/>
          <p:nvPr/>
        </p:nvGrpSpPr>
        <p:grpSpPr>
          <a:xfrm>
            <a:off x="1582560" y="2273040"/>
            <a:ext cx="780840" cy="604800"/>
            <a:chOff x="1582560" y="2273040"/>
            <a:chExt cx="780840" cy="604800"/>
          </a:xfrm>
        </p:grpSpPr>
        <p:sp>
          <p:nvSpPr>
            <p:cNvPr id="3384"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5"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6"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7"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88"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89"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3390"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3391" name="Group 140"/>
          <p:cNvGrpSpPr/>
          <p:nvPr/>
        </p:nvGrpSpPr>
        <p:grpSpPr>
          <a:xfrm>
            <a:off x="4979880" y="1608120"/>
            <a:ext cx="362160" cy="133200"/>
            <a:chOff x="4979880" y="1608120"/>
            <a:chExt cx="362160" cy="133200"/>
          </a:xfrm>
        </p:grpSpPr>
        <p:sp>
          <p:nvSpPr>
            <p:cNvPr id="3392"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93"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94"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95"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396"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397"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98" name="Group 176"/>
          <p:cNvGrpSpPr/>
          <p:nvPr/>
        </p:nvGrpSpPr>
        <p:grpSpPr>
          <a:xfrm>
            <a:off x="3492360" y="7531200"/>
            <a:ext cx="857160" cy="704160"/>
            <a:chOff x="3492360" y="7531200"/>
            <a:chExt cx="857160" cy="704160"/>
          </a:xfrm>
        </p:grpSpPr>
        <p:sp>
          <p:nvSpPr>
            <p:cNvPr id="3399"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0"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1"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2"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403"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404" name="Group 199"/>
          <p:cNvGrpSpPr/>
          <p:nvPr/>
        </p:nvGrpSpPr>
        <p:grpSpPr>
          <a:xfrm>
            <a:off x="3591720" y="1300320"/>
            <a:ext cx="778320" cy="45720"/>
            <a:chOff x="3591720" y="1300320"/>
            <a:chExt cx="778320" cy="45720"/>
          </a:xfrm>
        </p:grpSpPr>
        <p:sp>
          <p:nvSpPr>
            <p:cNvPr id="3405"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6"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407"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3408"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9"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410"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411"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12"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413"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14"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415"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416"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417" name="Group 62"/>
          <p:cNvGrpSpPr/>
          <p:nvPr/>
        </p:nvGrpSpPr>
        <p:grpSpPr>
          <a:xfrm>
            <a:off x="2072880" y="2670120"/>
            <a:ext cx="151920" cy="228240"/>
            <a:chOff x="2072880" y="2670120"/>
            <a:chExt cx="151920" cy="228240"/>
          </a:xfrm>
        </p:grpSpPr>
        <p:sp>
          <p:nvSpPr>
            <p:cNvPr id="3418"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9"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20"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421"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422"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423"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424"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3425"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26"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427" name="Group 1"/>
          <p:cNvGrpSpPr/>
          <p:nvPr/>
        </p:nvGrpSpPr>
        <p:grpSpPr>
          <a:xfrm>
            <a:off x="5481720" y="5948280"/>
            <a:ext cx="457200" cy="596520"/>
            <a:chOff x="5481720" y="5948280"/>
            <a:chExt cx="457200" cy="596520"/>
          </a:xfrm>
        </p:grpSpPr>
        <p:sp>
          <p:nvSpPr>
            <p:cNvPr id="3428"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429"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430"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431"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432"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33"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434" name="Group 176"/>
          <p:cNvGrpSpPr/>
          <p:nvPr/>
        </p:nvGrpSpPr>
        <p:grpSpPr>
          <a:xfrm>
            <a:off x="1582560" y="761760"/>
            <a:ext cx="607680" cy="633240"/>
            <a:chOff x="1582560" y="761760"/>
            <a:chExt cx="607680" cy="633240"/>
          </a:xfrm>
        </p:grpSpPr>
        <p:sp>
          <p:nvSpPr>
            <p:cNvPr id="3435"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36"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437"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438"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3439"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440"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41"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42"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43"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44"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445"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46"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447"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48"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3449"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450"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451"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452" name="Group 74"/>
          <p:cNvGrpSpPr/>
          <p:nvPr/>
        </p:nvGrpSpPr>
        <p:grpSpPr>
          <a:xfrm>
            <a:off x="1581120" y="2930400"/>
            <a:ext cx="794880" cy="276480"/>
            <a:chOff x="1581120" y="2930400"/>
            <a:chExt cx="794880" cy="276480"/>
          </a:xfrm>
        </p:grpSpPr>
        <p:sp>
          <p:nvSpPr>
            <p:cNvPr id="3453"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454"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455" name="Group 74"/>
          <p:cNvGrpSpPr/>
          <p:nvPr/>
        </p:nvGrpSpPr>
        <p:grpSpPr>
          <a:xfrm>
            <a:off x="1574640" y="1298520"/>
            <a:ext cx="774360" cy="276480"/>
            <a:chOff x="1574640" y="1298520"/>
            <a:chExt cx="774360" cy="276480"/>
          </a:xfrm>
        </p:grpSpPr>
        <p:sp>
          <p:nvSpPr>
            <p:cNvPr id="3456"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457"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458" name="Group 173"/>
          <p:cNvGrpSpPr/>
          <p:nvPr/>
        </p:nvGrpSpPr>
        <p:grpSpPr>
          <a:xfrm>
            <a:off x="2862360" y="1828800"/>
            <a:ext cx="123840" cy="125280"/>
            <a:chOff x="2862360" y="1828800"/>
            <a:chExt cx="123840" cy="125280"/>
          </a:xfrm>
        </p:grpSpPr>
        <p:sp>
          <p:nvSpPr>
            <p:cNvPr id="3459"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0"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61" name="Group 173"/>
          <p:cNvGrpSpPr/>
          <p:nvPr/>
        </p:nvGrpSpPr>
        <p:grpSpPr>
          <a:xfrm>
            <a:off x="4118040" y="1428840"/>
            <a:ext cx="123840" cy="125280"/>
            <a:chOff x="4118040" y="1428840"/>
            <a:chExt cx="123840" cy="125280"/>
          </a:xfrm>
        </p:grpSpPr>
        <p:sp>
          <p:nvSpPr>
            <p:cNvPr id="3462"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3"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64" name="Group 173"/>
          <p:cNvGrpSpPr/>
          <p:nvPr/>
        </p:nvGrpSpPr>
        <p:grpSpPr>
          <a:xfrm>
            <a:off x="2193840" y="1459080"/>
            <a:ext cx="123840" cy="125280"/>
            <a:chOff x="2193840" y="1459080"/>
            <a:chExt cx="123840" cy="125280"/>
          </a:xfrm>
        </p:grpSpPr>
        <p:sp>
          <p:nvSpPr>
            <p:cNvPr id="3465"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6"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67" name="Group 173"/>
          <p:cNvGrpSpPr/>
          <p:nvPr/>
        </p:nvGrpSpPr>
        <p:grpSpPr>
          <a:xfrm>
            <a:off x="2527200" y="3621240"/>
            <a:ext cx="123840" cy="125280"/>
            <a:chOff x="2527200" y="3621240"/>
            <a:chExt cx="123840" cy="125280"/>
          </a:xfrm>
        </p:grpSpPr>
        <p:sp>
          <p:nvSpPr>
            <p:cNvPr id="3468"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9"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70" name="Group 173"/>
          <p:cNvGrpSpPr/>
          <p:nvPr/>
        </p:nvGrpSpPr>
        <p:grpSpPr>
          <a:xfrm>
            <a:off x="2158920" y="3147840"/>
            <a:ext cx="123840" cy="125640"/>
            <a:chOff x="2158920" y="3147840"/>
            <a:chExt cx="123840" cy="125640"/>
          </a:xfrm>
        </p:grpSpPr>
        <p:sp>
          <p:nvSpPr>
            <p:cNvPr id="3471"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2"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73" name="Group 173"/>
          <p:cNvGrpSpPr/>
          <p:nvPr/>
        </p:nvGrpSpPr>
        <p:grpSpPr>
          <a:xfrm>
            <a:off x="3830760" y="8809200"/>
            <a:ext cx="123840" cy="125280"/>
            <a:chOff x="3830760" y="8809200"/>
            <a:chExt cx="123840" cy="125280"/>
          </a:xfrm>
        </p:grpSpPr>
        <p:sp>
          <p:nvSpPr>
            <p:cNvPr id="3474"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5"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76" name="Group 173"/>
          <p:cNvGrpSpPr/>
          <p:nvPr/>
        </p:nvGrpSpPr>
        <p:grpSpPr>
          <a:xfrm>
            <a:off x="5996160" y="3166920"/>
            <a:ext cx="123480" cy="125640"/>
            <a:chOff x="5996160" y="3166920"/>
            <a:chExt cx="123480" cy="125640"/>
          </a:xfrm>
        </p:grpSpPr>
        <p:sp>
          <p:nvSpPr>
            <p:cNvPr id="3477"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8"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479"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480"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481"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482" name="Group 1"/>
          <p:cNvGrpSpPr/>
          <p:nvPr/>
        </p:nvGrpSpPr>
        <p:grpSpPr>
          <a:xfrm>
            <a:off x="3463920" y="4003560"/>
            <a:ext cx="457200" cy="596520"/>
            <a:chOff x="3463920" y="4003560"/>
            <a:chExt cx="457200" cy="596520"/>
          </a:xfrm>
        </p:grpSpPr>
        <p:sp>
          <p:nvSpPr>
            <p:cNvPr id="3483"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484"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485"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486"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3487" name="Group 57"/>
          <p:cNvGrpSpPr/>
          <p:nvPr/>
        </p:nvGrpSpPr>
        <p:grpSpPr>
          <a:xfrm>
            <a:off x="3967200" y="2808360"/>
            <a:ext cx="63360" cy="194760"/>
            <a:chOff x="3967200" y="2808360"/>
            <a:chExt cx="63360" cy="194760"/>
          </a:xfrm>
        </p:grpSpPr>
        <p:sp>
          <p:nvSpPr>
            <p:cNvPr id="3488"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89"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90"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491"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3492" name="Group 57"/>
          <p:cNvGrpSpPr/>
          <p:nvPr/>
        </p:nvGrpSpPr>
        <p:grpSpPr>
          <a:xfrm>
            <a:off x="1973160" y="1125000"/>
            <a:ext cx="195480" cy="64080"/>
            <a:chOff x="1973160" y="1125000"/>
            <a:chExt cx="195480" cy="64080"/>
          </a:xfrm>
        </p:grpSpPr>
        <p:sp>
          <p:nvSpPr>
            <p:cNvPr id="3493"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94"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95"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496"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3497" name="Group 57"/>
          <p:cNvGrpSpPr/>
          <p:nvPr/>
        </p:nvGrpSpPr>
        <p:grpSpPr>
          <a:xfrm>
            <a:off x="5765400" y="2446200"/>
            <a:ext cx="64080" cy="195480"/>
            <a:chOff x="5765400" y="2446200"/>
            <a:chExt cx="64080" cy="195480"/>
          </a:xfrm>
        </p:grpSpPr>
        <p:sp>
          <p:nvSpPr>
            <p:cNvPr id="3498"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99"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00"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3501"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3502" name="Group 57"/>
          <p:cNvGrpSpPr/>
          <p:nvPr/>
        </p:nvGrpSpPr>
        <p:grpSpPr>
          <a:xfrm>
            <a:off x="3596760" y="4218120"/>
            <a:ext cx="64080" cy="194760"/>
            <a:chOff x="3596760" y="4218120"/>
            <a:chExt cx="64080" cy="194760"/>
          </a:xfrm>
        </p:grpSpPr>
        <p:sp>
          <p:nvSpPr>
            <p:cNvPr id="3503"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4"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05"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506"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507"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508"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09"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3510"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511"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12"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3513" name="Group 173"/>
          <p:cNvGrpSpPr/>
          <p:nvPr/>
        </p:nvGrpSpPr>
        <p:grpSpPr>
          <a:xfrm>
            <a:off x="1838160" y="4843440"/>
            <a:ext cx="123840" cy="125280"/>
            <a:chOff x="1838160" y="4843440"/>
            <a:chExt cx="123840" cy="125280"/>
          </a:xfrm>
        </p:grpSpPr>
        <p:sp>
          <p:nvSpPr>
            <p:cNvPr id="3514"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15"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16"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3517"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3518"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519"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520"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21"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22"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3"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4"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25"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6"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7" name="AutoShape 195"/>
          <p:cNvSpPr/>
          <p:nvPr/>
        </p:nvSpPr>
        <p:spPr>
          <a:xfrm>
            <a:off x="2693880" y="356868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8" name="Minus Sign 16"/>
          <p:cNvSpPr/>
          <p:nvPr/>
        </p:nvSpPr>
        <p:spPr>
          <a:xfrm rot="16200000">
            <a:off x="4450680" y="5155200"/>
            <a:ext cx="658800" cy="355680"/>
          </a:xfrm>
          <a:custGeom>
            <a:avLst/>
            <a:gdLst/>
            <a:ahLst/>
            <a:rect l="l" t="t" r="r" b="b"/>
            <a:pathLst>
              <a:path w="658813" h="355600">
                <a:moveTo>
                  <a:pt x="87326" y="135981"/>
                </a:moveTo>
                <a:lnTo>
                  <a:pt x="571487" y="135981"/>
                </a:lnTo>
                <a:lnTo>
                  <a:pt x="571487" y="219619"/>
                </a:lnTo>
                <a:lnTo>
                  <a:pt x="87326" y="219619"/>
                </a:lnTo>
                <a:lnTo>
                  <a:pt x="8732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29"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30"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31"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532" name="Group 57"/>
          <p:cNvGrpSpPr/>
          <p:nvPr/>
        </p:nvGrpSpPr>
        <p:grpSpPr>
          <a:xfrm>
            <a:off x="6305040" y="7500960"/>
            <a:ext cx="64080" cy="194760"/>
            <a:chOff x="6305040" y="7500960"/>
            <a:chExt cx="64080" cy="194760"/>
          </a:xfrm>
        </p:grpSpPr>
        <p:sp>
          <p:nvSpPr>
            <p:cNvPr id="3533"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34"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35"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536"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537"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538" name="Group 173"/>
          <p:cNvGrpSpPr/>
          <p:nvPr/>
        </p:nvGrpSpPr>
        <p:grpSpPr>
          <a:xfrm>
            <a:off x="5710320" y="2098800"/>
            <a:ext cx="123840" cy="125280"/>
            <a:chOff x="5710320" y="2098800"/>
            <a:chExt cx="123840" cy="125280"/>
          </a:xfrm>
        </p:grpSpPr>
        <p:sp>
          <p:nvSpPr>
            <p:cNvPr id="3539"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0"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41" name="Group 74"/>
          <p:cNvGrpSpPr/>
          <p:nvPr/>
        </p:nvGrpSpPr>
        <p:grpSpPr>
          <a:xfrm>
            <a:off x="5611680" y="2143080"/>
            <a:ext cx="787320" cy="276480"/>
            <a:chOff x="5611680" y="2143080"/>
            <a:chExt cx="787320" cy="276480"/>
          </a:xfrm>
        </p:grpSpPr>
        <p:sp>
          <p:nvSpPr>
            <p:cNvPr id="3542"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543"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544" name="Group 173"/>
          <p:cNvGrpSpPr/>
          <p:nvPr/>
        </p:nvGrpSpPr>
        <p:grpSpPr>
          <a:xfrm>
            <a:off x="4068720" y="4546440"/>
            <a:ext cx="123840" cy="125640"/>
            <a:chOff x="4068720" y="4546440"/>
            <a:chExt cx="123840" cy="125640"/>
          </a:xfrm>
        </p:grpSpPr>
        <p:sp>
          <p:nvSpPr>
            <p:cNvPr id="3545"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6"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47"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48"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3549" name="Group 1"/>
          <p:cNvGrpSpPr/>
          <p:nvPr/>
        </p:nvGrpSpPr>
        <p:grpSpPr>
          <a:xfrm>
            <a:off x="1496880" y="3952800"/>
            <a:ext cx="457200" cy="596520"/>
            <a:chOff x="1496880" y="3952800"/>
            <a:chExt cx="457200" cy="596520"/>
          </a:xfrm>
        </p:grpSpPr>
        <p:sp>
          <p:nvSpPr>
            <p:cNvPr id="3550"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551"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552"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553"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554"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555"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56" name="AutoShape 195"/>
          <p:cNvSpPr/>
          <p:nvPr/>
        </p:nvSpPr>
        <p:spPr>
          <a:xfrm>
            <a:off x="487188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57" name="AutoShape 195"/>
          <p:cNvSpPr/>
          <p:nvPr/>
        </p:nvSpPr>
        <p:spPr>
          <a:xfrm rot="16200000">
            <a:off x="3743280" y="6278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58" name="AutoShape 195"/>
          <p:cNvSpPr/>
          <p:nvPr/>
        </p:nvSpPr>
        <p:spPr>
          <a:xfrm rot="16200000">
            <a:off x="5709960" y="77940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59" name="AutoShape 195"/>
          <p:cNvSpPr/>
          <p:nvPr/>
        </p:nvSpPr>
        <p:spPr>
          <a:xfrm rot="16200000">
            <a:off x="3814560" y="2355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0" name="AutoShape 195"/>
          <p:cNvSpPr/>
          <p:nvPr/>
        </p:nvSpPr>
        <p:spPr>
          <a:xfrm rot="10800000">
            <a:off x="4777920" y="696888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1" name="AutoShape 195"/>
          <p:cNvSpPr/>
          <p:nvPr/>
        </p:nvSpPr>
        <p:spPr>
          <a:xfrm rot="16200000">
            <a:off x="5729040" y="132804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2" name="Text Box 69"/>
          <p:cNvSpPr/>
          <p:nvPr/>
        </p:nvSpPr>
        <p:spPr>
          <a:xfrm>
            <a:off x="434880" y="8408880"/>
            <a:ext cx="8254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Open Airlock doors puts 20,000 cfm in shaft</a:t>
            </a:r>
            <a:endParaRPr b="0" lang="en-US" sz="800" spc="-1" strike="noStrike">
              <a:solidFill>
                <a:srgbClr val="000000"/>
              </a:solidFill>
              <a:latin typeface="Arial"/>
            </a:endParaRPr>
          </a:p>
        </p:txBody>
      </p:sp>
      <p:sp>
        <p:nvSpPr>
          <p:cNvPr id="3563" name="Minus Sign 24"/>
          <p:cNvSpPr/>
          <p:nvPr/>
        </p:nvSpPr>
        <p:spPr>
          <a:xfrm rot="16200000">
            <a:off x="4649040" y="3446640"/>
            <a:ext cx="664920" cy="355680"/>
          </a:xfrm>
          <a:custGeom>
            <a:avLst/>
            <a:gdLst/>
            <a:ahLst/>
            <a:rect l="l" t="t" r="r" b="b"/>
            <a:pathLst>
              <a:path w="665163" h="355600">
                <a:moveTo>
                  <a:pt x="88167" y="135981"/>
                </a:moveTo>
                <a:lnTo>
                  <a:pt x="576996" y="135981"/>
                </a:lnTo>
                <a:lnTo>
                  <a:pt x="576996" y="219619"/>
                </a:lnTo>
                <a:lnTo>
                  <a:pt x="88167" y="219619"/>
                </a:lnTo>
                <a:lnTo>
                  <a:pt x="8816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64" name="AutoShape 195"/>
          <p:cNvSpPr/>
          <p:nvPr/>
        </p:nvSpPr>
        <p:spPr>
          <a:xfrm rot="16200000">
            <a:off x="1755720" y="4289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5" name="Oval 2"/>
          <p:cNvSpPr/>
          <p:nvPr/>
        </p:nvSpPr>
        <p:spPr>
          <a:xfrm>
            <a:off x="585720" y="4591080"/>
            <a:ext cx="9460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566" name="Oval 2"/>
          <p:cNvSpPr/>
          <p:nvPr/>
        </p:nvSpPr>
        <p:spPr>
          <a:xfrm>
            <a:off x="2197080" y="414972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567"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60,000 cfm at #2 fan</a:t>
            </a:r>
            <a:endParaRPr b="0" lang="en-US" sz="800" spc="-1" strike="noStrike">
              <a:solidFill>
                <a:srgbClr val="000000"/>
              </a:solidFill>
              <a:latin typeface="Arial"/>
            </a:endParaRPr>
          </a:p>
        </p:txBody>
      </p:sp>
      <p:grpSp>
        <p:nvGrpSpPr>
          <p:cNvPr id="3568" name="Group 173"/>
          <p:cNvGrpSpPr/>
          <p:nvPr/>
        </p:nvGrpSpPr>
        <p:grpSpPr>
          <a:xfrm>
            <a:off x="3191040" y="3629160"/>
            <a:ext cx="123840" cy="125280"/>
            <a:chOff x="3191040" y="3629160"/>
            <a:chExt cx="123840" cy="125280"/>
          </a:xfrm>
        </p:grpSpPr>
        <p:sp>
          <p:nvSpPr>
            <p:cNvPr id="3569"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0"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71"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72"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573" name="Oval 2"/>
          <p:cNvSpPr/>
          <p:nvPr/>
        </p:nvSpPr>
        <p:spPr>
          <a:xfrm>
            <a:off x="2822400" y="397512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574"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575"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576" name="Group 173"/>
          <p:cNvGrpSpPr/>
          <p:nvPr/>
        </p:nvGrpSpPr>
        <p:grpSpPr>
          <a:xfrm>
            <a:off x="5932440" y="6226200"/>
            <a:ext cx="125640" cy="125280"/>
            <a:chOff x="5932440" y="6226200"/>
            <a:chExt cx="125640" cy="125280"/>
          </a:xfrm>
        </p:grpSpPr>
        <p:sp>
          <p:nvSpPr>
            <p:cNvPr id="3577"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8"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79"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580"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581" name="Group 173"/>
          <p:cNvGrpSpPr/>
          <p:nvPr/>
        </p:nvGrpSpPr>
        <p:grpSpPr>
          <a:xfrm>
            <a:off x="5938920" y="5651640"/>
            <a:ext cx="123840" cy="125280"/>
            <a:chOff x="5938920" y="5651640"/>
            <a:chExt cx="123840" cy="125280"/>
          </a:xfrm>
        </p:grpSpPr>
        <p:sp>
          <p:nvSpPr>
            <p:cNvPr id="3582"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3"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84" name="Minus Sign 13"/>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85"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586" name="Minus Sign 25"/>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87" name="Minus Sign 26"/>
          <p:cNvSpPr/>
          <p:nvPr/>
        </p:nvSpPr>
        <p:spPr>
          <a:xfrm>
            <a:off x="1446120" y="5997600"/>
            <a:ext cx="962280" cy="355680"/>
          </a:xfrm>
          <a:custGeom>
            <a:avLst/>
            <a:gdLst/>
            <a:ahLst/>
            <a:rect l="l" t="t" r="r" b="b"/>
            <a:pathLst>
              <a:path w="962025" h="355600">
                <a:moveTo>
                  <a:pt x="127516" y="135981"/>
                </a:moveTo>
                <a:lnTo>
                  <a:pt x="834509" y="135981"/>
                </a:lnTo>
                <a:lnTo>
                  <a:pt x="834509" y="219619"/>
                </a:lnTo>
                <a:lnTo>
                  <a:pt x="127516" y="219619"/>
                </a:lnTo>
                <a:lnTo>
                  <a:pt x="12751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8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58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59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9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3592" name="Group 173"/>
          <p:cNvGrpSpPr/>
          <p:nvPr/>
        </p:nvGrpSpPr>
        <p:grpSpPr>
          <a:xfrm>
            <a:off x="2208240" y="1292400"/>
            <a:ext cx="123840" cy="125280"/>
            <a:chOff x="2208240" y="1292400"/>
            <a:chExt cx="123840" cy="125280"/>
          </a:xfrm>
        </p:grpSpPr>
        <p:sp>
          <p:nvSpPr>
            <p:cNvPr id="359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9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359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597"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3598" name="Group 173"/>
          <p:cNvGrpSpPr/>
          <p:nvPr/>
        </p:nvGrpSpPr>
        <p:grpSpPr>
          <a:xfrm>
            <a:off x="2673360" y="7034040"/>
            <a:ext cx="123840" cy="125640"/>
            <a:chOff x="2673360" y="7034040"/>
            <a:chExt cx="123840" cy="125640"/>
          </a:xfrm>
        </p:grpSpPr>
        <p:sp>
          <p:nvSpPr>
            <p:cNvPr id="3599"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0"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601"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602"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03" name="AutoShape 195"/>
          <p:cNvSpPr/>
          <p:nvPr/>
        </p:nvSpPr>
        <p:spPr>
          <a:xfrm rot="10800000">
            <a:off x="1351080" y="8616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4"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605"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06"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8"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3609"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610"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1"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2"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3"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4"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3615"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6"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7"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8"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9"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20"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21"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22"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3"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4"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5"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6"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7"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8"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9"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EVEN “A” VENTILATION</a:t>
            </a:r>
            <a:endParaRPr b="0" lang="en-US" sz="1600" spc="-1" strike="noStrike">
              <a:solidFill>
                <a:srgbClr val="000000"/>
              </a:solidFill>
              <a:latin typeface="Arial"/>
            </a:endParaRPr>
          </a:p>
        </p:txBody>
      </p:sp>
      <p:grpSp>
        <p:nvGrpSpPr>
          <p:cNvPr id="3630" name="Group 99"/>
          <p:cNvGrpSpPr/>
          <p:nvPr/>
        </p:nvGrpSpPr>
        <p:grpSpPr>
          <a:xfrm>
            <a:off x="3503520" y="6756480"/>
            <a:ext cx="848520" cy="583920"/>
            <a:chOff x="3503520" y="6756480"/>
            <a:chExt cx="848520" cy="583920"/>
          </a:xfrm>
        </p:grpSpPr>
        <p:sp>
          <p:nvSpPr>
            <p:cNvPr id="3631"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2"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3"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4"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635" name="Group 99"/>
          <p:cNvGrpSpPr/>
          <p:nvPr/>
        </p:nvGrpSpPr>
        <p:grpSpPr>
          <a:xfrm>
            <a:off x="3568680" y="3341160"/>
            <a:ext cx="812160" cy="586080"/>
            <a:chOff x="3568680" y="3341160"/>
            <a:chExt cx="812160" cy="586080"/>
          </a:xfrm>
        </p:grpSpPr>
        <p:sp>
          <p:nvSpPr>
            <p:cNvPr id="3636"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7"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8"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9"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640"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1"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2"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3"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4"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645"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646"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3647"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648"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49"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0"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1"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2"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3"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4"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5"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6"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57"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3658"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659"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660"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61"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62"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63"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664"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65"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66"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67"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668" name="Group 140"/>
          <p:cNvGrpSpPr/>
          <p:nvPr/>
        </p:nvGrpSpPr>
        <p:grpSpPr>
          <a:xfrm>
            <a:off x="6141960" y="7472160"/>
            <a:ext cx="228600" cy="609840"/>
            <a:chOff x="6141960" y="7472160"/>
            <a:chExt cx="228600" cy="609840"/>
          </a:xfrm>
        </p:grpSpPr>
        <p:sp>
          <p:nvSpPr>
            <p:cNvPr id="3669"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0"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1"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2"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3"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4"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675"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3676"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3677"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8"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679"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3680" name="Group 109"/>
          <p:cNvGrpSpPr/>
          <p:nvPr/>
        </p:nvGrpSpPr>
        <p:grpSpPr>
          <a:xfrm>
            <a:off x="5618160" y="4379760"/>
            <a:ext cx="788400" cy="237600"/>
            <a:chOff x="5618160" y="4379760"/>
            <a:chExt cx="788400" cy="237600"/>
          </a:xfrm>
        </p:grpSpPr>
        <p:grpSp>
          <p:nvGrpSpPr>
            <p:cNvPr id="3681" name="Group 110"/>
            <p:cNvGrpSpPr/>
            <p:nvPr/>
          </p:nvGrpSpPr>
          <p:grpSpPr>
            <a:xfrm>
              <a:off x="5618160" y="4379760"/>
              <a:ext cx="788400" cy="59400"/>
              <a:chOff x="5618160" y="4379760"/>
              <a:chExt cx="788400" cy="59400"/>
            </a:xfrm>
          </p:grpSpPr>
          <p:sp>
            <p:nvSpPr>
              <p:cNvPr id="3682"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3"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684" name="Group 113"/>
            <p:cNvGrpSpPr/>
            <p:nvPr/>
          </p:nvGrpSpPr>
          <p:grpSpPr>
            <a:xfrm>
              <a:off x="5618160" y="4557960"/>
              <a:ext cx="788400" cy="59400"/>
              <a:chOff x="5618160" y="4557960"/>
              <a:chExt cx="788400" cy="59400"/>
            </a:xfrm>
          </p:grpSpPr>
          <p:sp>
            <p:nvSpPr>
              <p:cNvPr id="3685"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6"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3687"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8"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9"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3690"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3691" name="Group 62"/>
          <p:cNvGrpSpPr/>
          <p:nvPr/>
        </p:nvGrpSpPr>
        <p:grpSpPr>
          <a:xfrm>
            <a:off x="6216480" y="2462040"/>
            <a:ext cx="152640" cy="228240"/>
            <a:chOff x="6216480" y="2462040"/>
            <a:chExt cx="152640" cy="228240"/>
          </a:xfrm>
        </p:grpSpPr>
        <p:sp>
          <p:nvSpPr>
            <p:cNvPr id="3692"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93"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94"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695"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696"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697"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698"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3699"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3700"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1"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2"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3"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3704"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3705"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706"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707"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08"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09"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0"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3711"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2"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3"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4"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715" name="Group 128"/>
          <p:cNvGrpSpPr/>
          <p:nvPr/>
        </p:nvGrpSpPr>
        <p:grpSpPr>
          <a:xfrm>
            <a:off x="2819520" y="3389040"/>
            <a:ext cx="159840" cy="500760"/>
            <a:chOff x="2819520" y="3389040"/>
            <a:chExt cx="159840" cy="500760"/>
          </a:xfrm>
        </p:grpSpPr>
        <p:grpSp>
          <p:nvGrpSpPr>
            <p:cNvPr id="3716" name="Group 129"/>
            <p:cNvGrpSpPr/>
            <p:nvPr/>
          </p:nvGrpSpPr>
          <p:grpSpPr>
            <a:xfrm>
              <a:off x="2819520" y="3389040"/>
              <a:ext cx="79200" cy="500760"/>
              <a:chOff x="2819520" y="3389040"/>
              <a:chExt cx="79200" cy="500760"/>
            </a:xfrm>
          </p:grpSpPr>
          <p:sp>
            <p:nvSpPr>
              <p:cNvPr id="3717"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8"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19" name="Group 132"/>
            <p:cNvGrpSpPr/>
            <p:nvPr/>
          </p:nvGrpSpPr>
          <p:grpSpPr>
            <a:xfrm>
              <a:off x="2899080" y="3389040"/>
              <a:ext cx="79920" cy="500760"/>
              <a:chOff x="2899080" y="3389040"/>
              <a:chExt cx="79920" cy="500760"/>
            </a:xfrm>
          </p:grpSpPr>
          <p:sp>
            <p:nvSpPr>
              <p:cNvPr id="3720"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21"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22"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23"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24" name="Group 128"/>
          <p:cNvGrpSpPr/>
          <p:nvPr/>
        </p:nvGrpSpPr>
        <p:grpSpPr>
          <a:xfrm>
            <a:off x="2819520" y="5108040"/>
            <a:ext cx="175680" cy="491760"/>
            <a:chOff x="2819520" y="5108040"/>
            <a:chExt cx="175680" cy="491760"/>
          </a:xfrm>
        </p:grpSpPr>
        <p:grpSp>
          <p:nvGrpSpPr>
            <p:cNvPr id="3725" name="Group 129"/>
            <p:cNvGrpSpPr/>
            <p:nvPr/>
          </p:nvGrpSpPr>
          <p:grpSpPr>
            <a:xfrm>
              <a:off x="2819520" y="5108040"/>
              <a:ext cx="87120" cy="491760"/>
              <a:chOff x="2819520" y="5108040"/>
              <a:chExt cx="87120" cy="491760"/>
            </a:xfrm>
          </p:grpSpPr>
          <p:sp>
            <p:nvSpPr>
              <p:cNvPr id="3726"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27"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28" name="Group 132"/>
            <p:cNvGrpSpPr/>
            <p:nvPr/>
          </p:nvGrpSpPr>
          <p:grpSpPr>
            <a:xfrm>
              <a:off x="2907000" y="5108040"/>
              <a:ext cx="87840" cy="491760"/>
              <a:chOff x="2907000" y="5108040"/>
              <a:chExt cx="87840" cy="491760"/>
            </a:xfrm>
          </p:grpSpPr>
          <p:sp>
            <p:nvSpPr>
              <p:cNvPr id="3729"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0"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31"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2"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33" name="Group 128"/>
          <p:cNvGrpSpPr/>
          <p:nvPr/>
        </p:nvGrpSpPr>
        <p:grpSpPr>
          <a:xfrm>
            <a:off x="4819680" y="5076720"/>
            <a:ext cx="175680" cy="491040"/>
            <a:chOff x="4819680" y="5076720"/>
            <a:chExt cx="175680" cy="491040"/>
          </a:xfrm>
        </p:grpSpPr>
        <p:grpSp>
          <p:nvGrpSpPr>
            <p:cNvPr id="3734" name="Group 129"/>
            <p:cNvGrpSpPr/>
            <p:nvPr/>
          </p:nvGrpSpPr>
          <p:grpSpPr>
            <a:xfrm>
              <a:off x="4819680" y="5076720"/>
              <a:ext cx="87120" cy="491040"/>
              <a:chOff x="4819680" y="5076720"/>
              <a:chExt cx="87120" cy="491040"/>
            </a:xfrm>
          </p:grpSpPr>
          <p:sp>
            <p:nvSpPr>
              <p:cNvPr id="3735"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6"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37" name="Group 132"/>
            <p:cNvGrpSpPr/>
            <p:nvPr/>
          </p:nvGrpSpPr>
          <p:grpSpPr>
            <a:xfrm>
              <a:off x="4907160" y="5076720"/>
              <a:ext cx="87840" cy="491040"/>
              <a:chOff x="4907160" y="5076720"/>
              <a:chExt cx="87840" cy="491040"/>
            </a:xfrm>
          </p:grpSpPr>
          <p:sp>
            <p:nvSpPr>
              <p:cNvPr id="3738"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9"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40"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1"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42"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3743"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3744"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5"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46"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747"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8"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3749"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0"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3751" name="Group 176"/>
          <p:cNvGrpSpPr/>
          <p:nvPr/>
        </p:nvGrpSpPr>
        <p:grpSpPr>
          <a:xfrm>
            <a:off x="1638360" y="7424640"/>
            <a:ext cx="626760" cy="861480"/>
            <a:chOff x="1638360" y="7424640"/>
            <a:chExt cx="626760" cy="861480"/>
          </a:xfrm>
        </p:grpSpPr>
        <p:sp>
          <p:nvSpPr>
            <p:cNvPr id="3752"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3"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4"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5"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56" name="Group 176"/>
          <p:cNvGrpSpPr/>
          <p:nvPr/>
        </p:nvGrpSpPr>
        <p:grpSpPr>
          <a:xfrm>
            <a:off x="1582560" y="2273040"/>
            <a:ext cx="780840" cy="604800"/>
            <a:chOff x="1582560" y="2273040"/>
            <a:chExt cx="780840" cy="604800"/>
          </a:xfrm>
        </p:grpSpPr>
        <p:sp>
          <p:nvSpPr>
            <p:cNvPr id="3757"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8"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9"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0"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61"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62"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3763"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3764" name="Group 140"/>
          <p:cNvGrpSpPr/>
          <p:nvPr/>
        </p:nvGrpSpPr>
        <p:grpSpPr>
          <a:xfrm>
            <a:off x="4979880" y="1608120"/>
            <a:ext cx="362160" cy="133200"/>
            <a:chOff x="4979880" y="1608120"/>
            <a:chExt cx="362160" cy="133200"/>
          </a:xfrm>
        </p:grpSpPr>
        <p:sp>
          <p:nvSpPr>
            <p:cNvPr id="3765"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6"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7"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8"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769"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770"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71" name="Group 176"/>
          <p:cNvGrpSpPr/>
          <p:nvPr/>
        </p:nvGrpSpPr>
        <p:grpSpPr>
          <a:xfrm>
            <a:off x="3492360" y="7531200"/>
            <a:ext cx="857160" cy="704160"/>
            <a:chOff x="3492360" y="7531200"/>
            <a:chExt cx="857160" cy="704160"/>
          </a:xfrm>
        </p:grpSpPr>
        <p:sp>
          <p:nvSpPr>
            <p:cNvPr id="3772"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3"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4"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5"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76"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777" name="Group 199"/>
          <p:cNvGrpSpPr/>
          <p:nvPr/>
        </p:nvGrpSpPr>
        <p:grpSpPr>
          <a:xfrm>
            <a:off x="3591720" y="1300320"/>
            <a:ext cx="778320" cy="45720"/>
            <a:chOff x="3591720" y="1300320"/>
            <a:chExt cx="778320" cy="45720"/>
          </a:xfrm>
        </p:grpSpPr>
        <p:sp>
          <p:nvSpPr>
            <p:cNvPr id="3778"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9"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80"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3781"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82"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783"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784"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85"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786"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87"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788"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789"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790" name="Group 62"/>
          <p:cNvGrpSpPr/>
          <p:nvPr/>
        </p:nvGrpSpPr>
        <p:grpSpPr>
          <a:xfrm>
            <a:off x="2072880" y="2670120"/>
            <a:ext cx="151920" cy="228240"/>
            <a:chOff x="2072880" y="2670120"/>
            <a:chExt cx="151920" cy="228240"/>
          </a:xfrm>
        </p:grpSpPr>
        <p:sp>
          <p:nvSpPr>
            <p:cNvPr id="3791"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92"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93"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794"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795"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796"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797"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3798"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99"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800" name="Group 1"/>
          <p:cNvGrpSpPr/>
          <p:nvPr/>
        </p:nvGrpSpPr>
        <p:grpSpPr>
          <a:xfrm>
            <a:off x="5481720" y="5948280"/>
            <a:ext cx="457200" cy="596520"/>
            <a:chOff x="5481720" y="5948280"/>
            <a:chExt cx="457200" cy="596520"/>
          </a:xfrm>
        </p:grpSpPr>
        <p:sp>
          <p:nvSpPr>
            <p:cNvPr id="3801"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802"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803"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804"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805"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06"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807" name="Group 176"/>
          <p:cNvGrpSpPr/>
          <p:nvPr/>
        </p:nvGrpSpPr>
        <p:grpSpPr>
          <a:xfrm>
            <a:off x="1582560" y="761760"/>
            <a:ext cx="607680" cy="633240"/>
            <a:chOff x="1582560" y="761760"/>
            <a:chExt cx="607680" cy="633240"/>
          </a:xfrm>
        </p:grpSpPr>
        <p:sp>
          <p:nvSpPr>
            <p:cNvPr id="3808"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09"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810"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811"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3812"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813"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14"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15"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16"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17"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818"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19"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820"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21"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 CFM</a:t>
            </a:r>
            <a:endParaRPr b="0" lang="en-US" sz="800" spc="-1" strike="noStrike">
              <a:solidFill>
                <a:srgbClr val="000000"/>
              </a:solidFill>
              <a:latin typeface="Arial"/>
            </a:endParaRPr>
          </a:p>
        </p:txBody>
      </p:sp>
      <p:sp>
        <p:nvSpPr>
          <p:cNvPr id="3822"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823"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824"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825" name="Group 74"/>
          <p:cNvGrpSpPr/>
          <p:nvPr/>
        </p:nvGrpSpPr>
        <p:grpSpPr>
          <a:xfrm>
            <a:off x="1581120" y="2930400"/>
            <a:ext cx="794880" cy="276480"/>
            <a:chOff x="1581120" y="2930400"/>
            <a:chExt cx="794880" cy="276480"/>
          </a:xfrm>
        </p:grpSpPr>
        <p:sp>
          <p:nvSpPr>
            <p:cNvPr id="3826"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827"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828" name="Group 74"/>
          <p:cNvGrpSpPr/>
          <p:nvPr/>
        </p:nvGrpSpPr>
        <p:grpSpPr>
          <a:xfrm>
            <a:off x="1574640" y="1298520"/>
            <a:ext cx="774360" cy="276480"/>
            <a:chOff x="1574640" y="1298520"/>
            <a:chExt cx="774360" cy="276480"/>
          </a:xfrm>
        </p:grpSpPr>
        <p:sp>
          <p:nvSpPr>
            <p:cNvPr id="3829"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830"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831" name="Group 173"/>
          <p:cNvGrpSpPr/>
          <p:nvPr/>
        </p:nvGrpSpPr>
        <p:grpSpPr>
          <a:xfrm>
            <a:off x="2862360" y="1828800"/>
            <a:ext cx="123840" cy="125280"/>
            <a:chOff x="2862360" y="1828800"/>
            <a:chExt cx="123840" cy="125280"/>
          </a:xfrm>
        </p:grpSpPr>
        <p:sp>
          <p:nvSpPr>
            <p:cNvPr id="3832"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3"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34" name="Group 173"/>
          <p:cNvGrpSpPr/>
          <p:nvPr/>
        </p:nvGrpSpPr>
        <p:grpSpPr>
          <a:xfrm>
            <a:off x="4118040" y="1428840"/>
            <a:ext cx="123840" cy="125280"/>
            <a:chOff x="4118040" y="1428840"/>
            <a:chExt cx="123840" cy="125280"/>
          </a:xfrm>
        </p:grpSpPr>
        <p:sp>
          <p:nvSpPr>
            <p:cNvPr id="3835"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6"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37" name="Group 173"/>
          <p:cNvGrpSpPr/>
          <p:nvPr/>
        </p:nvGrpSpPr>
        <p:grpSpPr>
          <a:xfrm>
            <a:off x="2193840" y="1459080"/>
            <a:ext cx="123840" cy="125280"/>
            <a:chOff x="2193840" y="1459080"/>
            <a:chExt cx="123840" cy="125280"/>
          </a:xfrm>
        </p:grpSpPr>
        <p:sp>
          <p:nvSpPr>
            <p:cNvPr id="3838"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9"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0" name="Group 173"/>
          <p:cNvGrpSpPr/>
          <p:nvPr/>
        </p:nvGrpSpPr>
        <p:grpSpPr>
          <a:xfrm>
            <a:off x="2158920" y="3147840"/>
            <a:ext cx="123840" cy="125640"/>
            <a:chOff x="2158920" y="3147840"/>
            <a:chExt cx="123840" cy="125640"/>
          </a:xfrm>
        </p:grpSpPr>
        <p:sp>
          <p:nvSpPr>
            <p:cNvPr id="3841"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2"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3" name="Group 173"/>
          <p:cNvGrpSpPr/>
          <p:nvPr/>
        </p:nvGrpSpPr>
        <p:grpSpPr>
          <a:xfrm>
            <a:off x="3830760" y="8809200"/>
            <a:ext cx="123840" cy="125280"/>
            <a:chOff x="3830760" y="8809200"/>
            <a:chExt cx="123840" cy="125280"/>
          </a:xfrm>
        </p:grpSpPr>
        <p:sp>
          <p:nvSpPr>
            <p:cNvPr id="3844"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5"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6" name="Group 173"/>
          <p:cNvGrpSpPr/>
          <p:nvPr/>
        </p:nvGrpSpPr>
        <p:grpSpPr>
          <a:xfrm>
            <a:off x="5996160" y="3166920"/>
            <a:ext cx="123480" cy="125640"/>
            <a:chOff x="5996160" y="3166920"/>
            <a:chExt cx="123480" cy="125640"/>
          </a:xfrm>
        </p:grpSpPr>
        <p:sp>
          <p:nvSpPr>
            <p:cNvPr id="3847"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8"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849"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850"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3851" name="Group 1"/>
          <p:cNvGrpSpPr/>
          <p:nvPr/>
        </p:nvGrpSpPr>
        <p:grpSpPr>
          <a:xfrm>
            <a:off x="3463920" y="4003560"/>
            <a:ext cx="457200" cy="596520"/>
            <a:chOff x="3463920" y="4003560"/>
            <a:chExt cx="457200" cy="596520"/>
          </a:xfrm>
        </p:grpSpPr>
        <p:sp>
          <p:nvSpPr>
            <p:cNvPr id="3852"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853"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854"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855"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3856" name="Group 57"/>
          <p:cNvGrpSpPr/>
          <p:nvPr/>
        </p:nvGrpSpPr>
        <p:grpSpPr>
          <a:xfrm>
            <a:off x="3967200" y="2808360"/>
            <a:ext cx="63360" cy="194760"/>
            <a:chOff x="3967200" y="2808360"/>
            <a:chExt cx="63360" cy="194760"/>
          </a:xfrm>
        </p:grpSpPr>
        <p:sp>
          <p:nvSpPr>
            <p:cNvPr id="3857"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58"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59"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860"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3861" name="Group 57"/>
          <p:cNvGrpSpPr/>
          <p:nvPr/>
        </p:nvGrpSpPr>
        <p:grpSpPr>
          <a:xfrm>
            <a:off x="1973160" y="1125000"/>
            <a:ext cx="195480" cy="64080"/>
            <a:chOff x="1973160" y="1125000"/>
            <a:chExt cx="195480" cy="64080"/>
          </a:xfrm>
        </p:grpSpPr>
        <p:sp>
          <p:nvSpPr>
            <p:cNvPr id="3862"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3"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64"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865"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3866" name="Group 57"/>
          <p:cNvGrpSpPr/>
          <p:nvPr/>
        </p:nvGrpSpPr>
        <p:grpSpPr>
          <a:xfrm>
            <a:off x="5765400" y="2446200"/>
            <a:ext cx="64080" cy="195480"/>
            <a:chOff x="5765400" y="2446200"/>
            <a:chExt cx="64080" cy="195480"/>
          </a:xfrm>
        </p:grpSpPr>
        <p:sp>
          <p:nvSpPr>
            <p:cNvPr id="3867"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8"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69"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3870"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3871" name="Group 57"/>
          <p:cNvGrpSpPr/>
          <p:nvPr/>
        </p:nvGrpSpPr>
        <p:grpSpPr>
          <a:xfrm>
            <a:off x="3596760" y="4218120"/>
            <a:ext cx="64080" cy="194760"/>
            <a:chOff x="3596760" y="4218120"/>
            <a:chExt cx="64080" cy="194760"/>
          </a:xfrm>
        </p:grpSpPr>
        <p:sp>
          <p:nvSpPr>
            <p:cNvPr id="3872"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73"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74"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875"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876"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77"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78"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3879"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80"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81"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sp>
        <p:nvSpPr>
          <p:cNvPr id="3882"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3883"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884"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885"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86"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87"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8"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9"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0"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91"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2" name="AutoShape 195"/>
          <p:cNvSpPr/>
          <p:nvPr/>
        </p:nvSpPr>
        <p:spPr>
          <a:xfrm rot="10800000">
            <a:off x="2825280" y="35463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3"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4" name="Minus Sign 16"/>
          <p:cNvSpPr/>
          <p:nvPr/>
        </p:nvSpPr>
        <p:spPr>
          <a:xfrm rot="16200000">
            <a:off x="4450680" y="5155200"/>
            <a:ext cx="658800" cy="355680"/>
          </a:xfrm>
          <a:custGeom>
            <a:avLst/>
            <a:gdLst/>
            <a:ahLst/>
            <a:rect l="l" t="t" r="r" b="b"/>
            <a:pathLst>
              <a:path w="658813" h="355600">
                <a:moveTo>
                  <a:pt x="87326" y="135981"/>
                </a:moveTo>
                <a:lnTo>
                  <a:pt x="571487" y="135981"/>
                </a:lnTo>
                <a:lnTo>
                  <a:pt x="571487" y="219619"/>
                </a:lnTo>
                <a:lnTo>
                  <a:pt x="87326" y="219619"/>
                </a:lnTo>
                <a:lnTo>
                  <a:pt x="8732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95"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96"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7"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898" name="Group 57"/>
          <p:cNvGrpSpPr/>
          <p:nvPr/>
        </p:nvGrpSpPr>
        <p:grpSpPr>
          <a:xfrm>
            <a:off x="6305040" y="7500960"/>
            <a:ext cx="64080" cy="194760"/>
            <a:chOff x="6305040" y="7500960"/>
            <a:chExt cx="64080" cy="194760"/>
          </a:xfrm>
        </p:grpSpPr>
        <p:sp>
          <p:nvSpPr>
            <p:cNvPr id="3899"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0"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01"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902"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903" name="Line 84"/>
          <p:cNvSpPr/>
          <p:nvPr/>
        </p:nvSpPr>
        <p:spPr>
          <a:xfrm flipH="1" flipV="1">
            <a:off x="1888920" y="3166920"/>
            <a:ext cx="401400" cy="720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04"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905" name="Group 173"/>
          <p:cNvGrpSpPr/>
          <p:nvPr/>
        </p:nvGrpSpPr>
        <p:grpSpPr>
          <a:xfrm>
            <a:off x="5710320" y="2098800"/>
            <a:ext cx="123840" cy="125280"/>
            <a:chOff x="5710320" y="2098800"/>
            <a:chExt cx="123840" cy="125280"/>
          </a:xfrm>
        </p:grpSpPr>
        <p:sp>
          <p:nvSpPr>
            <p:cNvPr id="3906"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7"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908" name="Group 74"/>
          <p:cNvGrpSpPr/>
          <p:nvPr/>
        </p:nvGrpSpPr>
        <p:grpSpPr>
          <a:xfrm>
            <a:off x="5611680" y="2143080"/>
            <a:ext cx="787320" cy="276480"/>
            <a:chOff x="5611680" y="2143080"/>
            <a:chExt cx="787320" cy="276480"/>
          </a:xfrm>
        </p:grpSpPr>
        <p:sp>
          <p:nvSpPr>
            <p:cNvPr id="3909"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910"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911" name="Group 173"/>
          <p:cNvGrpSpPr/>
          <p:nvPr/>
        </p:nvGrpSpPr>
        <p:grpSpPr>
          <a:xfrm>
            <a:off x="4068720" y="4546440"/>
            <a:ext cx="123840" cy="125640"/>
            <a:chOff x="4068720" y="4546440"/>
            <a:chExt cx="123840" cy="125640"/>
          </a:xfrm>
        </p:grpSpPr>
        <p:sp>
          <p:nvSpPr>
            <p:cNvPr id="3912"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13"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14"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15"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3916" name="Group 1"/>
          <p:cNvGrpSpPr/>
          <p:nvPr/>
        </p:nvGrpSpPr>
        <p:grpSpPr>
          <a:xfrm>
            <a:off x="1496880" y="3952800"/>
            <a:ext cx="457200" cy="596520"/>
            <a:chOff x="1496880" y="3952800"/>
            <a:chExt cx="457200" cy="596520"/>
          </a:xfrm>
        </p:grpSpPr>
        <p:sp>
          <p:nvSpPr>
            <p:cNvPr id="3917"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918"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919"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920"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921"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922"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23" name="AutoShape 195"/>
          <p:cNvSpPr/>
          <p:nvPr/>
        </p:nvSpPr>
        <p:spPr>
          <a:xfrm rot="10800000">
            <a:off x="487152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4" name="AutoShape 195"/>
          <p:cNvSpPr/>
          <p:nvPr/>
        </p:nvSpPr>
        <p:spPr>
          <a:xfrm rot="5400000">
            <a:off x="3822120" y="247788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5" name="AutoShape 195"/>
          <p:cNvSpPr/>
          <p:nvPr/>
        </p:nvSpPr>
        <p:spPr>
          <a:xfrm rot="5400000">
            <a:off x="5729040" y="13284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6" name="Text Box 69"/>
          <p:cNvSpPr/>
          <p:nvPr/>
        </p:nvSpPr>
        <p:spPr>
          <a:xfrm>
            <a:off x="1778040" y="8234280"/>
            <a:ext cx="11286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Shut Airlock Doors </a:t>
            </a:r>
            <a:endParaRPr b="0" lang="en-US" sz="800" spc="-1" strike="noStrike">
              <a:solidFill>
                <a:srgbClr val="000000"/>
              </a:solidFill>
              <a:latin typeface="Arial"/>
            </a:endParaRPr>
          </a:p>
        </p:txBody>
      </p:sp>
      <p:sp>
        <p:nvSpPr>
          <p:cNvPr id="3927" name="Minus Sign 24"/>
          <p:cNvSpPr/>
          <p:nvPr/>
        </p:nvSpPr>
        <p:spPr>
          <a:xfrm rot="16200000">
            <a:off x="4649040" y="3446640"/>
            <a:ext cx="664920" cy="355680"/>
          </a:xfrm>
          <a:custGeom>
            <a:avLst/>
            <a:gdLst/>
            <a:ahLst/>
            <a:rect l="l" t="t" r="r" b="b"/>
            <a:pathLst>
              <a:path w="665163" h="355600">
                <a:moveTo>
                  <a:pt x="88167" y="135981"/>
                </a:moveTo>
                <a:lnTo>
                  <a:pt x="576996" y="135981"/>
                </a:lnTo>
                <a:lnTo>
                  <a:pt x="576996" y="219619"/>
                </a:lnTo>
                <a:lnTo>
                  <a:pt x="88167" y="219619"/>
                </a:lnTo>
                <a:lnTo>
                  <a:pt x="8816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28" name="AutoShape 195"/>
          <p:cNvSpPr/>
          <p:nvPr/>
        </p:nvSpPr>
        <p:spPr>
          <a:xfrm rot="5400000">
            <a:off x="1755360" y="4289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9" name="Minus Sign 3"/>
          <p:cNvSpPr/>
          <p:nvPr/>
        </p:nvSpPr>
        <p:spPr>
          <a:xfrm rot="16200000">
            <a:off x="4583880" y="6877800"/>
            <a:ext cx="699840" cy="355320"/>
          </a:xfrm>
          <a:custGeom>
            <a:avLst/>
            <a:gdLst/>
            <a:ahLst/>
            <a:rect l="l" t="t" r="r" b="b"/>
            <a:pathLst>
              <a:path w="700088" h="355600">
                <a:moveTo>
                  <a:pt x="92797" y="135981"/>
                </a:moveTo>
                <a:lnTo>
                  <a:pt x="607291" y="135981"/>
                </a:lnTo>
                <a:lnTo>
                  <a:pt x="607291" y="219619"/>
                </a:lnTo>
                <a:lnTo>
                  <a:pt x="92797" y="219619"/>
                </a:lnTo>
                <a:lnTo>
                  <a:pt x="9279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30" name="Oval 2"/>
          <p:cNvSpPr/>
          <p:nvPr/>
        </p:nvSpPr>
        <p:spPr>
          <a:xfrm>
            <a:off x="2368440" y="29638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931"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40,000 cfm at #2 fan</a:t>
            </a:r>
            <a:endParaRPr b="0" lang="en-US" sz="800" spc="-1" strike="noStrike">
              <a:solidFill>
                <a:srgbClr val="000000"/>
              </a:solidFill>
              <a:latin typeface="Arial"/>
            </a:endParaRPr>
          </a:p>
        </p:txBody>
      </p:sp>
      <p:sp>
        <p:nvSpPr>
          <p:cNvPr id="3932"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933"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934" name="Group 173"/>
          <p:cNvGrpSpPr/>
          <p:nvPr/>
        </p:nvGrpSpPr>
        <p:grpSpPr>
          <a:xfrm>
            <a:off x="5932440" y="6226200"/>
            <a:ext cx="125640" cy="125280"/>
            <a:chOff x="5932440" y="6226200"/>
            <a:chExt cx="125640" cy="125280"/>
          </a:xfrm>
        </p:grpSpPr>
        <p:sp>
          <p:nvSpPr>
            <p:cNvPr id="3935"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36"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37"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938"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939" name="Group 173"/>
          <p:cNvGrpSpPr/>
          <p:nvPr/>
        </p:nvGrpSpPr>
        <p:grpSpPr>
          <a:xfrm>
            <a:off x="5938920" y="5651640"/>
            <a:ext cx="123840" cy="125280"/>
            <a:chOff x="5938920" y="5651640"/>
            <a:chExt cx="123840" cy="125280"/>
          </a:xfrm>
        </p:grpSpPr>
        <p:sp>
          <p:nvSpPr>
            <p:cNvPr id="3940"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41"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42" name="Minus Sign 14"/>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43"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944" name="Minus Sign 21841"/>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45"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946"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947"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48"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3949" name="Group 173"/>
          <p:cNvGrpSpPr/>
          <p:nvPr/>
        </p:nvGrpSpPr>
        <p:grpSpPr>
          <a:xfrm>
            <a:off x="2208240" y="1292400"/>
            <a:ext cx="123840" cy="125280"/>
            <a:chOff x="2208240" y="1292400"/>
            <a:chExt cx="123840" cy="125280"/>
          </a:xfrm>
        </p:grpSpPr>
        <p:sp>
          <p:nvSpPr>
            <p:cNvPr id="3950"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51"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52"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3953"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954"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3955" name="Group 173"/>
          <p:cNvGrpSpPr/>
          <p:nvPr/>
        </p:nvGrpSpPr>
        <p:grpSpPr>
          <a:xfrm>
            <a:off x="2673360" y="7034040"/>
            <a:ext cx="123840" cy="125640"/>
            <a:chOff x="2673360" y="7034040"/>
            <a:chExt cx="123840" cy="125640"/>
          </a:xfrm>
        </p:grpSpPr>
        <p:sp>
          <p:nvSpPr>
            <p:cNvPr id="3956"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57"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58"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959"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60" name="AutoShape 195"/>
          <p:cNvSpPr/>
          <p:nvPr/>
        </p:nvSpPr>
        <p:spPr>
          <a:xfrm rot="10800000">
            <a:off x="1139400" y="870876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1" name="AutoShape 195"/>
          <p:cNvSpPr/>
          <p:nvPr/>
        </p:nvSpPr>
        <p:spPr>
          <a:xfrm rot="5400000">
            <a:off x="1812960" y="917244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2" name="Text Box 81"/>
          <p:cNvSpPr/>
          <p:nvPr/>
        </p:nvSpPr>
        <p:spPr>
          <a:xfrm>
            <a:off x="1352520" y="8818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963" name="Line 85"/>
          <p:cNvSpPr/>
          <p:nvPr/>
        </p:nvSpPr>
        <p:spPr>
          <a:xfrm flipV="1">
            <a:off x="1446120" y="8991360"/>
            <a:ext cx="176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64"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965"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966"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7"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8"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3969"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970"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1"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2"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3"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4"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3975"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6"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7"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8"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9"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0"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1"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2"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3"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4"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5"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6"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7"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8"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9"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EVEN “B” VENTILATION</a:t>
            </a:r>
            <a:endParaRPr b="0" lang="en-US" sz="1600" spc="-1" strike="noStrike">
              <a:solidFill>
                <a:srgbClr val="000000"/>
              </a:solidFill>
              <a:latin typeface="Arial"/>
            </a:endParaRPr>
          </a:p>
        </p:txBody>
      </p:sp>
      <p:grpSp>
        <p:nvGrpSpPr>
          <p:cNvPr id="3990" name="Group 99"/>
          <p:cNvGrpSpPr/>
          <p:nvPr/>
        </p:nvGrpSpPr>
        <p:grpSpPr>
          <a:xfrm>
            <a:off x="3503520" y="6756480"/>
            <a:ext cx="848520" cy="583920"/>
            <a:chOff x="3503520" y="6756480"/>
            <a:chExt cx="848520" cy="583920"/>
          </a:xfrm>
        </p:grpSpPr>
        <p:sp>
          <p:nvSpPr>
            <p:cNvPr id="3991"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2"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3"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4"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995" name="Group 99"/>
          <p:cNvGrpSpPr/>
          <p:nvPr/>
        </p:nvGrpSpPr>
        <p:grpSpPr>
          <a:xfrm>
            <a:off x="3568680" y="3341160"/>
            <a:ext cx="812160" cy="586080"/>
            <a:chOff x="3568680" y="3341160"/>
            <a:chExt cx="812160" cy="586080"/>
          </a:xfrm>
        </p:grpSpPr>
        <p:sp>
          <p:nvSpPr>
            <p:cNvPr id="3996"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7"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8"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9"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00"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1"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2"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3"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4"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4005"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4006"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4007"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4008"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09"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0"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1"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2"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3"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4"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5"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6"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17"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4018"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4019"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020"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21"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22"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23"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024"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25"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26"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27"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028" name="Group 140"/>
          <p:cNvGrpSpPr/>
          <p:nvPr/>
        </p:nvGrpSpPr>
        <p:grpSpPr>
          <a:xfrm>
            <a:off x="6141960" y="7472160"/>
            <a:ext cx="228600" cy="609840"/>
            <a:chOff x="6141960" y="7472160"/>
            <a:chExt cx="228600" cy="609840"/>
          </a:xfrm>
        </p:grpSpPr>
        <p:sp>
          <p:nvSpPr>
            <p:cNvPr id="4029"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0"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1"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2"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3"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4"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35"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4036"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4037"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8"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4039"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4040" name="Group 109"/>
          <p:cNvGrpSpPr/>
          <p:nvPr/>
        </p:nvGrpSpPr>
        <p:grpSpPr>
          <a:xfrm>
            <a:off x="5618160" y="4379760"/>
            <a:ext cx="788400" cy="237600"/>
            <a:chOff x="5618160" y="4379760"/>
            <a:chExt cx="788400" cy="237600"/>
          </a:xfrm>
        </p:grpSpPr>
        <p:grpSp>
          <p:nvGrpSpPr>
            <p:cNvPr id="4041" name="Group 110"/>
            <p:cNvGrpSpPr/>
            <p:nvPr/>
          </p:nvGrpSpPr>
          <p:grpSpPr>
            <a:xfrm>
              <a:off x="5618160" y="4379760"/>
              <a:ext cx="788400" cy="59400"/>
              <a:chOff x="5618160" y="4379760"/>
              <a:chExt cx="788400" cy="59400"/>
            </a:xfrm>
          </p:grpSpPr>
          <p:sp>
            <p:nvSpPr>
              <p:cNvPr id="4042"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3"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44" name="Group 113"/>
            <p:cNvGrpSpPr/>
            <p:nvPr/>
          </p:nvGrpSpPr>
          <p:grpSpPr>
            <a:xfrm>
              <a:off x="5618160" y="4557960"/>
              <a:ext cx="788400" cy="59400"/>
              <a:chOff x="5618160" y="4557960"/>
              <a:chExt cx="788400" cy="59400"/>
            </a:xfrm>
          </p:grpSpPr>
          <p:sp>
            <p:nvSpPr>
              <p:cNvPr id="4045"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6"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047"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8"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9"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4050"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4051" name="Group 62"/>
          <p:cNvGrpSpPr/>
          <p:nvPr/>
        </p:nvGrpSpPr>
        <p:grpSpPr>
          <a:xfrm>
            <a:off x="6216480" y="2462040"/>
            <a:ext cx="152640" cy="228240"/>
            <a:chOff x="6216480" y="2462040"/>
            <a:chExt cx="152640" cy="228240"/>
          </a:xfrm>
        </p:grpSpPr>
        <p:sp>
          <p:nvSpPr>
            <p:cNvPr id="4052"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53"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54"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055"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056"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4057"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4058"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4059"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4060"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61"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62"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4063"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4064"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4065"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66"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67"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68"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4069"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0"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1"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2"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073" name="Group 128"/>
          <p:cNvGrpSpPr/>
          <p:nvPr/>
        </p:nvGrpSpPr>
        <p:grpSpPr>
          <a:xfrm>
            <a:off x="2819520" y="3389040"/>
            <a:ext cx="159840" cy="500760"/>
            <a:chOff x="2819520" y="3389040"/>
            <a:chExt cx="159840" cy="500760"/>
          </a:xfrm>
        </p:grpSpPr>
        <p:grpSp>
          <p:nvGrpSpPr>
            <p:cNvPr id="4074" name="Group 129"/>
            <p:cNvGrpSpPr/>
            <p:nvPr/>
          </p:nvGrpSpPr>
          <p:grpSpPr>
            <a:xfrm>
              <a:off x="2819520" y="3389040"/>
              <a:ext cx="79200" cy="500760"/>
              <a:chOff x="2819520" y="3389040"/>
              <a:chExt cx="79200" cy="500760"/>
            </a:xfrm>
          </p:grpSpPr>
          <p:sp>
            <p:nvSpPr>
              <p:cNvPr id="4075"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6"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77" name="Group 132"/>
            <p:cNvGrpSpPr/>
            <p:nvPr/>
          </p:nvGrpSpPr>
          <p:grpSpPr>
            <a:xfrm>
              <a:off x="2899080" y="3389040"/>
              <a:ext cx="79920" cy="500760"/>
              <a:chOff x="2899080" y="3389040"/>
              <a:chExt cx="79920" cy="500760"/>
            </a:xfrm>
          </p:grpSpPr>
          <p:sp>
            <p:nvSpPr>
              <p:cNvPr id="4078"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9"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80"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81"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82" name="Group 128"/>
          <p:cNvGrpSpPr/>
          <p:nvPr/>
        </p:nvGrpSpPr>
        <p:grpSpPr>
          <a:xfrm>
            <a:off x="2819520" y="5108040"/>
            <a:ext cx="175680" cy="491760"/>
            <a:chOff x="2819520" y="5108040"/>
            <a:chExt cx="175680" cy="491760"/>
          </a:xfrm>
        </p:grpSpPr>
        <p:grpSp>
          <p:nvGrpSpPr>
            <p:cNvPr id="4083" name="Group 129"/>
            <p:cNvGrpSpPr/>
            <p:nvPr/>
          </p:nvGrpSpPr>
          <p:grpSpPr>
            <a:xfrm>
              <a:off x="2819520" y="5108040"/>
              <a:ext cx="87120" cy="491760"/>
              <a:chOff x="2819520" y="5108040"/>
              <a:chExt cx="87120" cy="491760"/>
            </a:xfrm>
          </p:grpSpPr>
          <p:sp>
            <p:nvSpPr>
              <p:cNvPr id="4084"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85"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86" name="Group 132"/>
            <p:cNvGrpSpPr/>
            <p:nvPr/>
          </p:nvGrpSpPr>
          <p:grpSpPr>
            <a:xfrm>
              <a:off x="2907000" y="5108040"/>
              <a:ext cx="87840" cy="491760"/>
              <a:chOff x="2907000" y="5108040"/>
              <a:chExt cx="87840" cy="491760"/>
            </a:xfrm>
          </p:grpSpPr>
          <p:sp>
            <p:nvSpPr>
              <p:cNvPr id="4087"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88"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89"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0"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91" name="Group 128"/>
          <p:cNvGrpSpPr/>
          <p:nvPr/>
        </p:nvGrpSpPr>
        <p:grpSpPr>
          <a:xfrm>
            <a:off x="4819680" y="5076720"/>
            <a:ext cx="175680" cy="491040"/>
            <a:chOff x="4819680" y="5076720"/>
            <a:chExt cx="175680" cy="491040"/>
          </a:xfrm>
        </p:grpSpPr>
        <p:grpSp>
          <p:nvGrpSpPr>
            <p:cNvPr id="4092" name="Group 129"/>
            <p:cNvGrpSpPr/>
            <p:nvPr/>
          </p:nvGrpSpPr>
          <p:grpSpPr>
            <a:xfrm>
              <a:off x="4819680" y="5076720"/>
              <a:ext cx="87120" cy="491040"/>
              <a:chOff x="4819680" y="5076720"/>
              <a:chExt cx="87120" cy="491040"/>
            </a:xfrm>
          </p:grpSpPr>
          <p:sp>
            <p:nvSpPr>
              <p:cNvPr id="4093"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4"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95" name="Group 132"/>
            <p:cNvGrpSpPr/>
            <p:nvPr/>
          </p:nvGrpSpPr>
          <p:grpSpPr>
            <a:xfrm>
              <a:off x="4907160" y="5076720"/>
              <a:ext cx="87840" cy="491040"/>
              <a:chOff x="4907160" y="5076720"/>
              <a:chExt cx="87840" cy="491040"/>
            </a:xfrm>
          </p:grpSpPr>
          <p:sp>
            <p:nvSpPr>
              <p:cNvPr id="4096"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7"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98"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9"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00"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4101"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4102"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03"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04"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4105"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06"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4107"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08"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4109" name="Group 176"/>
          <p:cNvGrpSpPr/>
          <p:nvPr/>
        </p:nvGrpSpPr>
        <p:grpSpPr>
          <a:xfrm>
            <a:off x="1638360" y="7424640"/>
            <a:ext cx="626760" cy="861480"/>
            <a:chOff x="1638360" y="7424640"/>
            <a:chExt cx="626760" cy="861480"/>
          </a:xfrm>
        </p:grpSpPr>
        <p:sp>
          <p:nvSpPr>
            <p:cNvPr id="4110"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1"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2"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3"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114" name="Group 176"/>
          <p:cNvGrpSpPr/>
          <p:nvPr/>
        </p:nvGrpSpPr>
        <p:grpSpPr>
          <a:xfrm>
            <a:off x="1582560" y="2273040"/>
            <a:ext cx="780840" cy="604800"/>
            <a:chOff x="1582560" y="2273040"/>
            <a:chExt cx="780840" cy="604800"/>
          </a:xfrm>
        </p:grpSpPr>
        <p:sp>
          <p:nvSpPr>
            <p:cNvPr id="4115"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6"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7"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8"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19"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20"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4121"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4122" name="Group 140"/>
          <p:cNvGrpSpPr/>
          <p:nvPr/>
        </p:nvGrpSpPr>
        <p:grpSpPr>
          <a:xfrm>
            <a:off x="4979880" y="1608120"/>
            <a:ext cx="362160" cy="133200"/>
            <a:chOff x="4979880" y="1608120"/>
            <a:chExt cx="362160" cy="133200"/>
          </a:xfrm>
        </p:grpSpPr>
        <p:sp>
          <p:nvSpPr>
            <p:cNvPr id="4123"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24"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25"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26"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4127"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4128"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129" name="Group 176"/>
          <p:cNvGrpSpPr/>
          <p:nvPr/>
        </p:nvGrpSpPr>
        <p:grpSpPr>
          <a:xfrm>
            <a:off x="3492360" y="7531200"/>
            <a:ext cx="857160" cy="704160"/>
            <a:chOff x="3492360" y="7531200"/>
            <a:chExt cx="857160" cy="704160"/>
          </a:xfrm>
        </p:grpSpPr>
        <p:sp>
          <p:nvSpPr>
            <p:cNvPr id="4130"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1"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2"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3"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34"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135" name="Group 199"/>
          <p:cNvGrpSpPr/>
          <p:nvPr/>
        </p:nvGrpSpPr>
        <p:grpSpPr>
          <a:xfrm>
            <a:off x="3591720" y="1300320"/>
            <a:ext cx="778320" cy="45720"/>
            <a:chOff x="3591720" y="1300320"/>
            <a:chExt cx="778320" cy="45720"/>
          </a:xfrm>
        </p:grpSpPr>
        <p:sp>
          <p:nvSpPr>
            <p:cNvPr id="4136"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7"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38"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4139"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40"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4141"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4142"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43"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4144"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45"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4146"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4147"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sp>
        <p:nvSpPr>
          <p:cNvPr id="4148"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4149"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50"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4151" name="Group 1"/>
          <p:cNvGrpSpPr/>
          <p:nvPr/>
        </p:nvGrpSpPr>
        <p:grpSpPr>
          <a:xfrm>
            <a:off x="5481720" y="5948280"/>
            <a:ext cx="457200" cy="596520"/>
            <a:chOff x="5481720" y="5948280"/>
            <a:chExt cx="457200" cy="596520"/>
          </a:xfrm>
        </p:grpSpPr>
        <p:sp>
          <p:nvSpPr>
            <p:cNvPr id="4152"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153"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154"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155"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4156"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57"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158" name="Group 176"/>
          <p:cNvGrpSpPr/>
          <p:nvPr/>
        </p:nvGrpSpPr>
        <p:grpSpPr>
          <a:xfrm>
            <a:off x="1582560" y="761760"/>
            <a:ext cx="607680" cy="633240"/>
            <a:chOff x="1582560" y="761760"/>
            <a:chExt cx="607680" cy="633240"/>
          </a:xfrm>
        </p:grpSpPr>
        <p:sp>
          <p:nvSpPr>
            <p:cNvPr id="4159"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60"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61"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4162"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63"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64"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65"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66"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4167"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68"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4169"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70"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 CFM</a:t>
            </a:r>
            <a:endParaRPr b="0" lang="en-US" sz="800" spc="-1" strike="noStrike">
              <a:solidFill>
                <a:srgbClr val="000000"/>
              </a:solidFill>
              <a:latin typeface="Arial"/>
            </a:endParaRPr>
          </a:p>
        </p:txBody>
      </p:sp>
      <p:sp>
        <p:nvSpPr>
          <p:cNvPr id="4171"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4172"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4173"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4174" name="Group 74"/>
          <p:cNvGrpSpPr/>
          <p:nvPr/>
        </p:nvGrpSpPr>
        <p:grpSpPr>
          <a:xfrm>
            <a:off x="1574640" y="1298520"/>
            <a:ext cx="774360" cy="276480"/>
            <a:chOff x="1574640" y="1298520"/>
            <a:chExt cx="774360" cy="276480"/>
          </a:xfrm>
        </p:grpSpPr>
        <p:sp>
          <p:nvSpPr>
            <p:cNvPr id="4175"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176"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177" name="Group 173"/>
          <p:cNvGrpSpPr/>
          <p:nvPr/>
        </p:nvGrpSpPr>
        <p:grpSpPr>
          <a:xfrm>
            <a:off x="2862360" y="1828800"/>
            <a:ext cx="123840" cy="125280"/>
            <a:chOff x="2862360" y="1828800"/>
            <a:chExt cx="123840" cy="125280"/>
          </a:xfrm>
        </p:grpSpPr>
        <p:sp>
          <p:nvSpPr>
            <p:cNvPr id="4178"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79"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0" name="Group 173"/>
          <p:cNvGrpSpPr/>
          <p:nvPr/>
        </p:nvGrpSpPr>
        <p:grpSpPr>
          <a:xfrm>
            <a:off x="4118040" y="1428840"/>
            <a:ext cx="123840" cy="125280"/>
            <a:chOff x="4118040" y="1428840"/>
            <a:chExt cx="123840" cy="125280"/>
          </a:xfrm>
        </p:grpSpPr>
        <p:sp>
          <p:nvSpPr>
            <p:cNvPr id="4181"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82"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3" name="Group 173"/>
          <p:cNvGrpSpPr/>
          <p:nvPr/>
        </p:nvGrpSpPr>
        <p:grpSpPr>
          <a:xfrm>
            <a:off x="2193840" y="1459080"/>
            <a:ext cx="123840" cy="125280"/>
            <a:chOff x="2193840" y="1459080"/>
            <a:chExt cx="123840" cy="125280"/>
          </a:xfrm>
        </p:grpSpPr>
        <p:sp>
          <p:nvSpPr>
            <p:cNvPr id="4184"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85"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6" name="Group 173"/>
          <p:cNvGrpSpPr/>
          <p:nvPr/>
        </p:nvGrpSpPr>
        <p:grpSpPr>
          <a:xfrm>
            <a:off x="3830760" y="8809200"/>
            <a:ext cx="123840" cy="125280"/>
            <a:chOff x="3830760" y="8809200"/>
            <a:chExt cx="123840" cy="125280"/>
          </a:xfrm>
        </p:grpSpPr>
        <p:sp>
          <p:nvSpPr>
            <p:cNvPr id="4187"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88"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9" name="Group 173"/>
          <p:cNvGrpSpPr/>
          <p:nvPr/>
        </p:nvGrpSpPr>
        <p:grpSpPr>
          <a:xfrm>
            <a:off x="5996160" y="3166920"/>
            <a:ext cx="123480" cy="125640"/>
            <a:chOff x="5996160" y="3166920"/>
            <a:chExt cx="123480" cy="125640"/>
          </a:xfrm>
        </p:grpSpPr>
        <p:sp>
          <p:nvSpPr>
            <p:cNvPr id="4190"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91"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192"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193"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4194" name="Group 1"/>
          <p:cNvGrpSpPr/>
          <p:nvPr/>
        </p:nvGrpSpPr>
        <p:grpSpPr>
          <a:xfrm>
            <a:off x="3463920" y="4003560"/>
            <a:ext cx="457200" cy="596520"/>
            <a:chOff x="3463920" y="4003560"/>
            <a:chExt cx="457200" cy="596520"/>
          </a:xfrm>
        </p:grpSpPr>
        <p:sp>
          <p:nvSpPr>
            <p:cNvPr id="4195"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196"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197"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198"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4199" name="Group 57"/>
          <p:cNvGrpSpPr/>
          <p:nvPr/>
        </p:nvGrpSpPr>
        <p:grpSpPr>
          <a:xfrm>
            <a:off x="3967200" y="2808360"/>
            <a:ext cx="63360" cy="194760"/>
            <a:chOff x="3967200" y="2808360"/>
            <a:chExt cx="63360" cy="194760"/>
          </a:xfrm>
        </p:grpSpPr>
        <p:sp>
          <p:nvSpPr>
            <p:cNvPr id="4200"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1"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02"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203"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4204" name="Group 57"/>
          <p:cNvGrpSpPr/>
          <p:nvPr/>
        </p:nvGrpSpPr>
        <p:grpSpPr>
          <a:xfrm>
            <a:off x="1973160" y="1125000"/>
            <a:ext cx="195480" cy="64080"/>
            <a:chOff x="1973160" y="1125000"/>
            <a:chExt cx="195480" cy="64080"/>
          </a:xfrm>
        </p:grpSpPr>
        <p:sp>
          <p:nvSpPr>
            <p:cNvPr id="4205"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6"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07"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4208"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4209" name="Group 57"/>
          <p:cNvGrpSpPr/>
          <p:nvPr/>
        </p:nvGrpSpPr>
        <p:grpSpPr>
          <a:xfrm>
            <a:off x="5765400" y="2446200"/>
            <a:ext cx="64080" cy="195480"/>
            <a:chOff x="5765400" y="2446200"/>
            <a:chExt cx="64080" cy="195480"/>
          </a:xfrm>
        </p:grpSpPr>
        <p:sp>
          <p:nvSpPr>
            <p:cNvPr id="4210"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1"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12"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4213"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4214" name="Group 57"/>
          <p:cNvGrpSpPr/>
          <p:nvPr/>
        </p:nvGrpSpPr>
        <p:grpSpPr>
          <a:xfrm>
            <a:off x="3596760" y="4218120"/>
            <a:ext cx="64080" cy="194760"/>
            <a:chOff x="3596760" y="4218120"/>
            <a:chExt cx="64080" cy="194760"/>
          </a:xfrm>
        </p:grpSpPr>
        <p:sp>
          <p:nvSpPr>
            <p:cNvPr id="4215"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6"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17"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218"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4219"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220"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21"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4222"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223"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24"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sp>
        <p:nvSpPr>
          <p:cNvPr id="4225"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4226"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4227"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4228"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29"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0"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1"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2"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3"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4"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5" name="AutoShape 195"/>
          <p:cNvSpPr/>
          <p:nvPr/>
        </p:nvSpPr>
        <p:spPr>
          <a:xfrm rot="10800000">
            <a:off x="2825280" y="35463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6"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7" name="Minus Sign 16"/>
          <p:cNvSpPr/>
          <p:nvPr/>
        </p:nvSpPr>
        <p:spPr>
          <a:xfrm rot="16200000">
            <a:off x="4450680" y="5155200"/>
            <a:ext cx="658800" cy="355680"/>
          </a:xfrm>
          <a:custGeom>
            <a:avLst/>
            <a:gdLst/>
            <a:ahLst/>
            <a:rect l="l" t="t" r="r" b="b"/>
            <a:pathLst>
              <a:path w="658813" h="355600">
                <a:moveTo>
                  <a:pt x="87326" y="135981"/>
                </a:moveTo>
                <a:lnTo>
                  <a:pt x="571487" y="135981"/>
                </a:lnTo>
                <a:lnTo>
                  <a:pt x="571487" y="219619"/>
                </a:lnTo>
                <a:lnTo>
                  <a:pt x="87326" y="219619"/>
                </a:lnTo>
                <a:lnTo>
                  <a:pt x="8732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8"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9"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0"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241" name="Group 57"/>
          <p:cNvGrpSpPr/>
          <p:nvPr/>
        </p:nvGrpSpPr>
        <p:grpSpPr>
          <a:xfrm>
            <a:off x="6305040" y="7500960"/>
            <a:ext cx="64080" cy="194760"/>
            <a:chOff x="6305040" y="7500960"/>
            <a:chExt cx="64080" cy="194760"/>
          </a:xfrm>
        </p:grpSpPr>
        <p:sp>
          <p:nvSpPr>
            <p:cNvPr id="4242"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3"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44"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245"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4246" name="Line 84"/>
          <p:cNvSpPr/>
          <p:nvPr/>
        </p:nvSpPr>
        <p:spPr>
          <a:xfrm flipH="1" flipV="1">
            <a:off x="5598720" y="1591920"/>
            <a:ext cx="297000" cy="592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47"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248" name="Group 173"/>
          <p:cNvGrpSpPr/>
          <p:nvPr/>
        </p:nvGrpSpPr>
        <p:grpSpPr>
          <a:xfrm>
            <a:off x="5710320" y="2098800"/>
            <a:ext cx="123840" cy="125280"/>
            <a:chOff x="5710320" y="2098800"/>
            <a:chExt cx="123840" cy="125280"/>
          </a:xfrm>
        </p:grpSpPr>
        <p:sp>
          <p:nvSpPr>
            <p:cNvPr id="4249"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50"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251" name="Group 74"/>
          <p:cNvGrpSpPr/>
          <p:nvPr/>
        </p:nvGrpSpPr>
        <p:grpSpPr>
          <a:xfrm>
            <a:off x="5611680" y="2143080"/>
            <a:ext cx="787320" cy="276480"/>
            <a:chOff x="5611680" y="2143080"/>
            <a:chExt cx="787320" cy="276480"/>
          </a:xfrm>
        </p:grpSpPr>
        <p:sp>
          <p:nvSpPr>
            <p:cNvPr id="4252"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253"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254" name="Group 173"/>
          <p:cNvGrpSpPr/>
          <p:nvPr/>
        </p:nvGrpSpPr>
        <p:grpSpPr>
          <a:xfrm>
            <a:off x="4068720" y="4546440"/>
            <a:ext cx="123840" cy="125640"/>
            <a:chOff x="4068720" y="4546440"/>
            <a:chExt cx="123840" cy="125640"/>
          </a:xfrm>
        </p:grpSpPr>
        <p:sp>
          <p:nvSpPr>
            <p:cNvPr id="4255"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56"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57"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58"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4259" name="Group 1"/>
          <p:cNvGrpSpPr/>
          <p:nvPr/>
        </p:nvGrpSpPr>
        <p:grpSpPr>
          <a:xfrm>
            <a:off x="1496880" y="3952800"/>
            <a:ext cx="457200" cy="596520"/>
            <a:chOff x="1496880" y="3952800"/>
            <a:chExt cx="457200" cy="596520"/>
          </a:xfrm>
        </p:grpSpPr>
        <p:sp>
          <p:nvSpPr>
            <p:cNvPr id="4260"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261"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262"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263"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264"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4265"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66" name="AutoShape 195"/>
          <p:cNvSpPr/>
          <p:nvPr/>
        </p:nvSpPr>
        <p:spPr>
          <a:xfrm rot="10800000">
            <a:off x="487152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7" name="AutoShape 195"/>
          <p:cNvSpPr/>
          <p:nvPr/>
        </p:nvSpPr>
        <p:spPr>
          <a:xfrm rot="5400000">
            <a:off x="3822120" y="247788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8" name="AutoShape 195"/>
          <p:cNvSpPr/>
          <p:nvPr/>
        </p:nvSpPr>
        <p:spPr>
          <a:xfrm rot="5400000">
            <a:off x="5729040" y="13284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9" name="Text Box 69"/>
          <p:cNvSpPr/>
          <p:nvPr/>
        </p:nvSpPr>
        <p:spPr>
          <a:xfrm>
            <a:off x="1808280" y="8431200"/>
            <a:ext cx="11286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Shut Airlock Doors </a:t>
            </a:r>
            <a:endParaRPr b="0" lang="en-US" sz="800" spc="-1" strike="noStrike">
              <a:solidFill>
                <a:srgbClr val="000000"/>
              </a:solidFill>
              <a:latin typeface="Arial"/>
            </a:endParaRPr>
          </a:p>
        </p:txBody>
      </p:sp>
      <p:sp>
        <p:nvSpPr>
          <p:cNvPr id="4270" name="Minus Sign 24"/>
          <p:cNvSpPr/>
          <p:nvPr/>
        </p:nvSpPr>
        <p:spPr>
          <a:xfrm rot="16200000">
            <a:off x="4649040" y="3446640"/>
            <a:ext cx="664920" cy="355680"/>
          </a:xfrm>
          <a:custGeom>
            <a:avLst/>
            <a:gdLst/>
            <a:ahLst/>
            <a:rect l="l" t="t" r="r" b="b"/>
            <a:pathLst>
              <a:path w="665163" h="355600">
                <a:moveTo>
                  <a:pt x="88167" y="135981"/>
                </a:moveTo>
                <a:lnTo>
                  <a:pt x="576996" y="135981"/>
                </a:lnTo>
                <a:lnTo>
                  <a:pt x="576996" y="219619"/>
                </a:lnTo>
                <a:lnTo>
                  <a:pt x="88167" y="219619"/>
                </a:lnTo>
                <a:lnTo>
                  <a:pt x="8816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71" name="AutoShape 195"/>
          <p:cNvSpPr/>
          <p:nvPr/>
        </p:nvSpPr>
        <p:spPr>
          <a:xfrm rot="5400000">
            <a:off x="1755360" y="4289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2" name="Minus Sign 3"/>
          <p:cNvSpPr/>
          <p:nvPr/>
        </p:nvSpPr>
        <p:spPr>
          <a:xfrm rot="16200000">
            <a:off x="4583880" y="6877800"/>
            <a:ext cx="699840" cy="355320"/>
          </a:xfrm>
          <a:custGeom>
            <a:avLst/>
            <a:gdLst/>
            <a:ahLst/>
            <a:rect l="l" t="t" r="r" b="b"/>
            <a:pathLst>
              <a:path w="700088" h="355600">
                <a:moveTo>
                  <a:pt x="92797" y="135981"/>
                </a:moveTo>
                <a:lnTo>
                  <a:pt x="607291" y="135981"/>
                </a:lnTo>
                <a:lnTo>
                  <a:pt x="607291" y="219619"/>
                </a:lnTo>
                <a:lnTo>
                  <a:pt x="92797" y="219619"/>
                </a:lnTo>
                <a:lnTo>
                  <a:pt x="9279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73"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40,000 cfm at #2 fan</a:t>
            </a:r>
            <a:endParaRPr b="0" lang="en-US" sz="800" spc="-1" strike="noStrike">
              <a:solidFill>
                <a:srgbClr val="000000"/>
              </a:solidFill>
              <a:latin typeface="Arial"/>
            </a:endParaRPr>
          </a:p>
        </p:txBody>
      </p:sp>
      <p:sp>
        <p:nvSpPr>
          <p:cNvPr id="4274" name="Oval 2"/>
          <p:cNvSpPr/>
          <p:nvPr/>
        </p:nvSpPr>
        <p:spPr>
          <a:xfrm>
            <a:off x="4867200" y="23176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4275"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4276"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277" name="Group 173"/>
          <p:cNvGrpSpPr/>
          <p:nvPr/>
        </p:nvGrpSpPr>
        <p:grpSpPr>
          <a:xfrm>
            <a:off x="5932440" y="6226200"/>
            <a:ext cx="125640" cy="125280"/>
            <a:chOff x="5932440" y="6226200"/>
            <a:chExt cx="125640" cy="125280"/>
          </a:xfrm>
        </p:grpSpPr>
        <p:sp>
          <p:nvSpPr>
            <p:cNvPr id="4278"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9"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80"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4281"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282" name="Group 173"/>
          <p:cNvGrpSpPr/>
          <p:nvPr/>
        </p:nvGrpSpPr>
        <p:grpSpPr>
          <a:xfrm>
            <a:off x="5938920" y="5651640"/>
            <a:ext cx="123840" cy="125280"/>
            <a:chOff x="5938920" y="5651640"/>
            <a:chExt cx="123840" cy="125280"/>
          </a:xfrm>
        </p:grpSpPr>
        <p:sp>
          <p:nvSpPr>
            <p:cNvPr id="4283"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84"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85" name="Minus Sign 14"/>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86"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4287" name="Minus Sign 26"/>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8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28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429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9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4292" name="Group 173"/>
          <p:cNvGrpSpPr/>
          <p:nvPr/>
        </p:nvGrpSpPr>
        <p:grpSpPr>
          <a:xfrm>
            <a:off x="2208240" y="1292400"/>
            <a:ext cx="123840" cy="125280"/>
            <a:chOff x="2208240" y="1292400"/>
            <a:chExt cx="123840" cy="125280"/>
          </a:xfrm>
        </p:grpSpPr>
        <p:sp>
          <p:nvSpPr>
            <p:cNvPr id="429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9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9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429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297"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4298" name="Group 173"/>
          <p:cNvGrpSpPr/>
          <p:nvPr/>
        </p:nvGrpSpPr>
        <p:grpSpPr>
          <a:xfrm>
            <a:off x="2673360" y="7034040"/>
            <a:ext cx="123840" cy="125640"/>
            <a:chOff x="2673360" y="7034040"/>
            <a:chExt cx="123840" cy="125640"/>
          </a:xfrm>
        </p:grpSpPr>
        <p:sp>
          <p:nvSpPr>
            <p:cNvPr id="4299"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0"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301"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02" name="Text Box 81"/>
          <p:cNvSpPr/>
          <p:nvPr/>
        </p:nvSpPr>
        <p:spPr>
          <a:xfrm>
            <a:off x="1352520" y="8818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303" name="Line 85"/>
          <p:cNvSpPr/>
          <p:nvPr/>
        </p:nvSpPr>
        <p:spPr>
          <a:xfrm flipV="1">
            <a:off x="1446120" y="8991360"/>
            <a:ext cx="176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04" name="AutoShape 195"/>
          <p:cNvSpPr/>
          <p:nvPr/>
        </p:nvSpPr>
        <p:spPr>
          <a:xfrm rot="10800000">
            <a:off x="1209240" y="86580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5"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4306"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307"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8" name="Rectangle 2"/>
          <p:cNvSpPr/>
          <p:nvPr/>
        </p:nvSpPr>
        <p:spPr>
          <a:xfrm>
            <a:off x="2309760" y="745020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9" name="Rectangle 3"/>
          <p:cNvSpPr/>
          <p:nvPr/>
        </p:nvSpPr>
        <p:spPr>
          <a:xfrm>
            <a:off x="4114800" y="7459560"/>
            <a:ext cx="1208160" cy="12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0" name="Rectangle 4"/>
          <p:cNvSpPr/>
          <p:nvPr/>
        </p:nvSpPr>
        <p:spPr>
          <a:xfrm>
            <a:off x="2303640" y="5654520"/>
            <a:ext cx="1209600" cy="12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1" name="Rectangle 5"/>
          <p:cNvSpPr/>
          <p:nvPr/>
        </p:nvSpPr>
        <p:spPr>
          <a:xfrm>
            <a:off x="4114800" y="564372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2" name="Rectangle 6"/>
          <p:cNvSpPr/>
          <p:nvPr/>
        </p:nvSpPr>
        <p:spPr>
          <a:xfrm>
            <a:off x="2298600" y="384336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3" name="Rectangle 7"/>
          <p:cNvSpPr/>
          <p:nvPr/>
        </p:nvSpPr>
        <p:spPr>
          <a:xfrm>
            <a:off x="4114800" y="383868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4" name="Line 10"/>
          <p:cNvSpPr/>
          <p:nvPr/>
        </p:nvSpPr>
        <p:spPr>
          <a:xfrm flipV="1">
            <a:off x="5925960" y="585720"/>
            <a:ext cx="0" cy="888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5" name="Line 11"/>
          <p:cNvSpPr/>
          <p:nvPr/>
        </p:nvSpPr>
        <p:spPr>
          <a:xfrm>
            <a:off x="1692360" y="612720"/>
            <a:ext cx="9360" cy="141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6" name="Line 12"/>
          <p:cNvSpPr/>
          <p:nvPr/>
        </p:nvSpPr>
        <p:spPr>
          <a:xfrm>
            <a:off x="2286000" y="609480"/>
            <a:ext cx="12600" cy="10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7" name="Line 13"/>
          <p:cNvSpPr/>
          <p:nvPr/>
        </p:nvSpPr>
        <p:spPr>
          <a:xfrm>
            <a:off x="2303640" y="1625760"/>
            <a:ext cx="120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8" name="Line 14"/>
          <p:cNvSpPr/>
          <p:nvPr/>
        </p:nvSpPr>
        <p:spPr>
          <a:xfrm>
            <a:off x="3500280" y="585720"/>
            <a:ext cx="12960" cy="10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9" name="Line 15"/>
          <p:cNvSpPr/>
          <p:nvPr/>
        </p:nvSpPr>
        <p:spPr>
          <a:xfrm>
            <a:off x="4094280" y="573120"/>
            <a:ext cx="20520" cy="104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0" name="Line 16"/>
          <p:cNvSpPr/>
          <p:nvPr/>
        </p:nvSpPr>
        <p:spPr>
          <a:xfrm>
            <a:off x="4114800" y="1625760"/>
            <a:ext cx="12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1" name="Line 17"/>
          <p:cNvSpPr/>
          <p:nvPr/>
        </p:nvSpPr>
        <p:spPr>
          <a:xfrm>
            <a:off x="1701720" y="2027160"/>
            <a:ext cx="0" cy="120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2" name="Line 18"/>
          <p:cNvSpPr/>
          <p:nvPr/>
        </p:nvSpPr>
        <p:spPr>
          <a:xfrm>
            <a:off x="1701720" y="3214800"/>
            <a:ext cx="0" cy="24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3" name="Line 19"/>
          <p:cNvSpPr/>
          <p:nvPr/>
        </p:nvSpPr>
        <p:spPr>
          <a:xfrm>
            <a:off x="1701720" y="5649840"/>
            <a:ext cx="0" cy="180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4" name="Line 20"/>
          <p:cNvSpPr/>
          <p:nvPr/>
        </p:nvSpPr>
        <p:spPr>
          <a:xfrm>
            <a:off x="1701720" y="7459560"/>
            <a:ext cx="0" cy="202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5" name="Line 21"/>
          <p:cNvSpPr/>
          <p:nvPr/>
        </p:nvSpPr>
        <p:spPr>
          <a:xfrm flipH="1">
            <a:off x="4114440" y="9271080"/>
            <a:ext cx="12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6" name="Line 22"/>
          <p:cNvSpPr/>
          <p:nvPr/>
        </p:nvSpPr>
        <p:spPr>
          <a:xfrm>
            <a:off x="2303640" y="9271080"/>
            <a:ext cx="120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7" name="Line 23"/>
          <p:cNvSpPr/>
          <p:nvPr/>
        </p:nvSpPr>
        <p:spPr>
          <a:xfrm>
            <a:off x="2303640" y="9271080"/>
            <a:ext cx="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8" name="Line 24"/>
          <p:cNvSpPr/>
          <p:nvPr/>
        </p:nvSpPr>
        <p:spPr>
          <a:xfrm>
            <a:off x="3511440" y="9271080"/>
            <a:ext cx="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9" name="Line 25"/>
          <p:cNvSpPr/>
          <p:nvPr/>
        </p:nvSpPr>
        <p:spPr>
          <a:xfrm>
            <a:off x="4114800" y="9271080"/>
            <a:ext cx="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0" name="Text Box 26"/>
          <p:cNvSpPr/>
          <p:nvPr/>
        </p:nvSpPr>
        <p:spPr>
          <a:xfrm>
            <a:off x="1544760" y="6988320"/>
            <a:ext cx="203040" cy="406080"/>
          </a:xfrm>
          <a:prstGeom prst="rect">
            <a:avLst/>
          </a:prstGeom>
          <a:noFill/>
          <a:ln w="0">
            <a:noFill/>
          </a:ln>
        </p:spPr>
        <p:style>
          <a:lnRef idx="0"/>
          <a:fillRef idx="0"/>
          <a:effectRef idx="0"/>
          <a:fontRef idx="minor"/>
        </p:style>
        <p:txBody>
          <a:bodyPr lIns="100440" rIns="100440" tIns="50400" bIns="504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1" name="Text Box 30"/>
          <p:cNvSpPr/>
          <p:nvPr/>
        </p:nvSpPr>
        <p:spPr>
          <a:xfrm>
            <a:off x="4692600" y="8628120"/>
            <a:ext cx="419040" cy="222840"/>
          </a:xfrm>
          <a:prstGeom prst="rect">
            <a:avLst/>
          </a:prstGeom>
          <a:noFill/>
          <a:ln w="0">
            <a:noFill/>
          </a:ln>
        </p:spPr>
        <p:style>
          <a:lnRef idx="0"/>
          <a:fillRef idx="0"/>
          <a:effectRef idx="0"/>
          <a:fontRef idx="minor"/>
        </p:style>
        <p:txBody>
          <a:bodyPr lIns="100440" rIns="100440" tIns="50400" bIns="504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4332" name="Line 31"/>
          <p:cNvSpPr/>
          <p:nvPr/>
        </p:nvSpPr>
        <p:spPr>
          <a:xfrm>
            <a:off x="4740120" y="8691480"/>
            <a:ext cx="0" cy="136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3" name="Line 32"/>
          <p:cNvSpPr/>
          <p:nvPr/>
        </p:nvSpPr>
        <p:spPr>
          <a:xfrm>
            <a:off x="5002200" y="8696160"/>
            <a:ext cx="0" cy="125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4" name="Line 33"/>
          <p:cNvSpPr/>
          <p:nvPr/>
        </p:nvSpPr>
        <p:spPr>
          <a:xfrm flipH="1">
            <a:off x="4744800" y="8821800"/>
            <a:ext cx="261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5" name="Line 36"/>
          <p:cNvSpPr/>
          <p:nvPr/>
        </p:nvSpPr>
        <p:spPr>
          <a:xfrm>
            <a:off x="5316480" y="9277200"/>
            <a:ext cx="4680" cy="1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6" name="Line 68"/>
          <p:cNvSpPr/>
          <p:nvPr/>
        </p:nvSpPr>
        <p:spPr>
          <a:xfrm flipH="1" flipV="1">
            <a:off x="5310000" y="595440"/>
            <a:ext cx="12600" cy="10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7" name="Text Box 594"/>
          <p:cNvSpPr/>
          <p:nvPr/>
        </p:nvSpPr>
        <p:spPr>
          <a:xfrm>
            <a:off x="5991120" y="4213080"/>
            <a:ext cx="1704960" cy="1333080"/>
          </a:xfrm>
          <a:prstGeom prst="rect">
            <a:avLst/>
          </a:prstGeom>
          <a:noFill/>
          <a:ln w="0">
            <a:noFill/>
          </a:ln>
        </p:spPr>
        <p:style>
          <a:lnRef idx="0"/>
          <a:fillRef idx="0"/>
          <a:effectRef idx="0"/>
          <a:fontRef idx="minor"/>
        </p:style>
        <p:txBody>
          <a:bodyPr lIns="100440" rIns="100440" tIns="50400" bIns="504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NAL VENTILATION MAP</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ne Foreman</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______________________</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eam Captain</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______________________</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eam Number</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___________________</a:t>
            </a:r>
            <a:endParaRPr b="0" lang="en-US" sz="800" spc="-1" strike="noStrike">
              <a:solidFill>
                <a:srgbClr val="000000"/>
              </a:solidFill>
              <a:latin typeface="Arial"/>
            </a:endParaRPr>
          </a:p>
        </p:txBody>
      </p:sp>
      <p:sp>
        <p:nvSpPr>
          <p:cNvPr id="4338" name="Rectangle 7"/>
          <p:cNvSpPr/>
          <p:nvPr/>
        </p:nvSpPr>
        <p:spPr>
          <a:xfrm>
            <a:off x="2290680" y="2128680"/>
            <a:ext cx="1208160" cy="1208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9" name="Rectangle 7"/>
          <p:cNvSpPr/>
          <p:nvPr/>
        </p:nvSpPr>
        <p:spPr>
          <a:xfrm>
            <a:off x="4073400" y="2141640"/>
            <a:ext cx="12099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40" name="Line 68"/>
          <p:cNvSpPr/>
          <p:nvPr/>
        </p:nvSpPr>
        <p:spPr>
          <a:xfrm flipH="1">
            <a:off x="5310360" y="595440"/>
            <a:ext cx="61560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4341" name="Line 68"/>
          <p:cNvSpPr/>
          <p:nvPr/>
        </p:nvSpPr>
        <p:spPr>
          <a:xfrm flipH="1">
            <a:off x="1692000" y="611280"/>
            <a:ext cx="6015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838080" y="1066680"/>
            <a:ext cx="5943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RITTEN STATEMENT</a:t>
            </a:r>
            <a:endParaRPr b="0" lang="en-US" sz="3600" spc="-1" strike="noStrike">
              <a:solidFill>
                <a:srgbClr val="000000"/>
              </a:solidFill>
              <a:latin typeface="Arial"/>
            </a:endParaRPr>
          </a:p>
        </p:txBody>
      </p:sp>
      <p:sp>
        <p:nvSpPr>
          <p:cNvPr id="51" name="Text Box 3"/>
          <p:cNvSpPr/>
          <p:nvPr/>
        </p:nvSpPr>
        <p:spPr>
          <a:xfrm>
            <a:off x="1143000" y="2057400"/>
            <a:ext cx="5638680" cy="4625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the m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 for all missing min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cue all survivor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ng survivors to the fresh-air base of the m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Number 1 fan is started it can not be stopped, stalled or revers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2 fan can not be stopped, reversed or stall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am will be limited to carrying two brattice clothes when the team is travel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54"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55"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7"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60"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 name="Text Box 38"/>
          <p:cNvSpPr/>
          <p:nvPr/>
        </p:nvSpPr>
        <p:spPr>
          <a:xfrm>
            <a:off x="2351160" y="173160"/>
            <a:ext cx="33606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COMPETITION</a:t>
            </a:r>
            <a:endParaRPr b="0" lang="en-US" sz="1600" spc="-1" strike="noStrike">
              <a:solidFill>
                <a:srgbClr val="000000"/>
              </a:solidFill>
              <a:latin typeface="Arial"/>
            </a:endParaRPr>
          </a:p>
        </p:txBody>
      </p:sp>
      <p:grpSp>
        <p:nvGrpSpPr>
          <p:cNvPr id="75" name="Group 99"/>
          <p:cNvGrpSpPr/>
          <p:nvPr/>
        </p:nvGrpSpPr>
        <p:grpSpPr>
          <a:xfrm>
            <a:off x="3503520" y="6756480"/>
            <a:ext cx="848520" cy="583920"/>
            <a:chOff x="3503520" y="6756480"/>
            <a:chExt cx="848520" cy="583920"/>
          </a:xfrm>
        </p:grpSpPr>
        <p:sp>
          <p:nvSpPr>
            <p:cNvPr id="76"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7"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9"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80" name="Group 99"/>
          <p:cNvGrpSpPr/>
          <p:nvPr/>
        </p:nvGrpSpPr>
        <p:grpSpPr>
          <a:xfrm>
            <a:off x="3568680" y="3341160"/>
            <a:ext cx="812160" cy="586080"/>
            <a:chOff x="3568680" y="3341160"/>
            <a:chExt cx="812160" cy="586080"/>
          </a:xfrm>
        </p:grpSpPr>
        <p:sp>
          <p:nvSpPr>
            <p:cNvPr id="81"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2"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5"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6"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7"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8"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9"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90"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91"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92"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93"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4"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5"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6"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7"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8"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9"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0"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1"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2"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03"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04"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05"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08"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09"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110"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111"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12"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114"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15"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6"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7"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18"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2"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3" name="Group 140"/>
          <p:cNvGrpSpPr/>
          <p:nvPr/>
        </p:nvGrpSpPr>
        <p:grpSpPr>
          <a:xfrm>
            <a:off x="6141960" y="7472160"/>
            <a:ext cx="228600" cy="609840"/>
            <a:chOff x="6141960" y="7472160"/>
            <a:chExt cx="228600" cy="609840"/>
          </a:xfrm>
        </p:grpSpPr>
        <p:sp>
          <p:nvSpPr>
            <p:cNvPr id="124"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6"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7"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0" name="Text Box 69"/>
          <p:cNvSpPr/>
          <p:nvPr/>
        </p:nvSpPr>
        <p:spPr>
          <a:xfrm>
            <a:off x="2268360" y="7359480"/>
            <a:ext cx="779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31"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132"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133"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34" name="Group 62"/>
          <p:cNvGrpSpPr/>
          <p:nvPr/>
        </p:nvGrpSpPr>
        <p:grpSpPr>
          <a:xfrm>
            <a:off x="2514240" y="6934320"/>
            <a:ext cx="151920" cy="228240"/>
            <a:chOff x="2514240" y="6934320"/>
            <a:chExt cx="151920" cy="228240"/>
          </a:xfrm>
        </p:grpSpPr>
        <p:sp>
          <p:nvSpPr>
            <p:cNvPr id="135"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8"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9"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40"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41"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142"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143" name="Group 109"/>
          <p:cNvGrpSpPr/>
          <p:nvPr/>
        </p:nvGrpSpPr>
        <p:grpSpPr>
          <a:xfrm>
            <a:off x="5618160" y="4379760"/>
            <a:ext cx="788400" cy="237600"/>
            <a:chOff x="5618160" y="4379760"/>
            <a:chExt cx="788400" cy="237600"/>
          </a:xfrm>
        </p:grpSpPr>
        <p:grpSp>
          <p:nvGrpSpPr>
            <p:cNvPr id="144" name="Group 110"/>
            <p:cNvGrpSpPr/>
            <p:nvPr/>
          </p:nvGrpSpPr>
          <p:grpSpPr>
            <a:xfrm>
              <a:off x="5618160" y="4379760"/>
              <a:ext cx="788400" cy="59400"/>
              <a:chOff x="5618160" y="4379760"/>
              <a:chExt cx="788400" cy="59400"/>
            </a:xfrm>
          </p:grpSpPr>
          <p:sp>
            <p:nvSpPr>
              <p:cNvPr id="145"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6"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47" name="Group 113"/>
            <p:cNvGrpSpPr/>
            <p:nvPr/>
          </p:nvGrpSpPr>
          <p:grpSpPr>
            <a:xfrm>
              <a:off x="5618160" y="4557960"/>
              <a:ext cx="788400" cy="59400"/>
              <a:chOff x="5618160" y="4557960"/>
              <a:chExt cx="788400" cy="59400"/>
            </a:xfrm>
          </p:grpSpPr>
          <p:sp>
            <p:nvSpPr>
              <p:cNvPr id="148"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0"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151"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154"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155" name="Group 62"/>
          <p:cNvGrpSpPr/>
          <p:nvPr/>
        </p:nvGrpSpPr>
        <p:grpSpPr>
          <a:xfrm>
            <a:off x="6216480" y="2462040"/>
            <a:ext cx="152640" cy="228240"/>
            <a:chOff x="6216480" y="2462040"/>
            <a:chExt cx="152640" cy="228240"/>
          </a:xfrm>
        </p:grpSpPr>
        <p:sp>
          <p:nvSpPr>
            <p:cNvPr id="156"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59"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0"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61"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62"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163"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64"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65" name="Group 199"/>
          <p:cNvGrpSpPr/>
          <p:nvPr/>
        </p:nvGrpSpPr>
        <p:grpSpPr>
          <a:xfrm>
            <a:off x="1654920" y="8391600"/>
            <a:ext cx="629640" cy="46080"/>
            <a:chOff x="1654920" y="8391600"/>
            <a:chExt cx="629640" cy="46080"/>
          </a:xfrm>
        </p:grpSpPr>
        <p:sp>
          <p:nvSpPr>
            <p:cNvPr id="166" name="Line 200"/>
            <p:cNvSpPr/>
            <p:nvPr/>
          </p:nvSpPr>
          <p:spPr>
            <a:xfrm>
              <a:off x="1654920" y="839160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 name="Line 201"/>
            <p:cNvSpPr/>
            <p:nvPr/>
          </p:nvSpPr>
          <p:spPr>
            <a:xfrm>
              <a:off x="1654920" y="843768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8"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9"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0"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71"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172"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73"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4"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75"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6"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7"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8"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179"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0"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1"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2"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3" name="Group 128"/>
          <p:cNvGrpSpPr/>
          <p:nvPr/>
        </p:nvGrpSpPr>
        <p:grpSpPr>
          <a:xfrm>
            <a:off x="2819520" y="3389040"/>
            <a:ext cx="159840" cy="500760"/>
            <a:chOff x="2819520" y="3389040"/>
            <a:chExt cx="159840" cy="500760"/>
          </a:xfrm>
        </p:grpSpPr>
        <p:grpSp>
          <p:nvGrpSpPr>
            <p:cNvPr id="184" name="Group 129"/>
            <p:cNvGrpSpPr/>
            <p:nvPr/>
          </p:nvGrpSpPr>
          <p:grpSpPr>
            <a:xfrm>
              <a:off x="2819520" y="3389040"/>
              <a:ext cx="79200" cy="500760"/>
              <a:chOff x="2819520" y="3389040"/>
              <a:chExt cx="79200" cy="500760"/>
            </a:xfrm>
          </p:grpSpPr>
          <p:sp>
            <p:nvSpPr>
              <p:cNvPr id="185"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6"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87" name="Group 132"/>
            <p:cNvGrpSpPr/>
            <p:nvPr/>
          </p:nvGrpSpPr>
          <p:grpSpPr>
            <a:xfrm>
              <a:off x="2899080" y="3389040"/>
              <a:ext cx="79920" cy="500760"/>
              <a:chOff x="2899080" y="3389040"/>
              <a:chExt cx="79920" cy="500760"/>
            </a:xfrm>
          </p:grpSpPr>
          <p:sp>
            <p:nvSpPr>
              <p:cNvPr id="188"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9"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0"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1"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92" name="Group 128"/>
          <p:cNvGrpSpPr/>
          <p:nvPr/>
        </p:nvGrpSpPr>
        <p:grpSpPr>
          <a:xfrm>
            <a:off x="2819520" y="5108040"/>
            <a:ext cx="175680" cy="491760"/>
            <a:chOff x="2819520" y="5108040"/>
            <a:chExt cx="175680" cy="491760"/>
          </a:xfrm>
        </p:grpSpPr>
        <p:grpSp>
          <p:nvGrpSpPr>
            <p:cNvPr id="193" name="Group 129"/>
            <p:cNvGrpSpPr/>
            <p:nvPr/>
          </p:nvGrpSpPr>
          <p:grpSpPr>
            <a:xfrm>
              <a:off x="2819520" y="5108040"/>
              <a:ext cx="87120" cy="491760"/>
              <a:chOff x="2819520" y="5108040"/>
              <a:chExt cx="87120" cy="491760"/>
            </a:xfrm>
          </p:grpSpPr>
          <p:sp>
            <p:nvSpPr>
              <p:cNvPr id="194"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5"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96" name="Group 132"/>
            <p:cNvGrpSpPr/>
            <p:nvPr/>
          </p:nvGrpSpPr>
          <p:grpSpPr>
            <a:xfrm>
              <a:off x="2907000" y="5108040"/>
              <a:ext cx="87840" cy="491760"/>
              <a:chOff x="2907000" y="5108040"/>
              <a:chExt cx="87840" cy="491760"/>
            </a:xfrm>
          </p:grpSpPr>
          <p:sp>
            <p:nvSpPr>
              <p:cNvPr id="197"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9"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0"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1" name="Group 128"/>
          <p:cNvGrpSpPr/>
          <p:nvPr/>
        </p:nvGrpSpPr>
        <p:grpSpPr>
          <a:xfrm>
            <a:off x="4819680" y="5076720"/>
            <a:ext cx="175680" cy="491040"/>
            <a:chOff x="4819680" y="5076720"/>
            <a:chExt cx="175680" cy="491040"/>
          </a:xfrm>
        </p:grpSpPr>
        <p:grpSp>
          <p:nvGrpSpPr>
            <p:cNvPr id="202" name="Group 129"/>
            <p:cNvGrpSpPr/>
            <p:nvPr/>
          </p:nvGrpSpPr>
          <p:grpSpPr>
            <a:xfrm>
              <a:off x="4819680" y="5076720"/>
              <a:ext cx="87120" cy="491040"/>
              <a:chOff x="4819680" y="5076720"/>
              <a:chExt cx="87120" cy="491040"/>
            </a:xfrm>
          </p:grpSpPr>
          <p:sp>
            <p:nvSpPr>
              <p:cNvPr id="203"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5" name="Group 132"/>
            <p:cNvGrpSpPr/>
            <p:nvPr/>
          </p:nvGrpSpPr>
          <p:grpSpPr>
            <a:xfrm>
              <a:off x="4907160" y="5076720"/>
              <a:ext cx="87840" cy="491040"/>
              <a:chOff x="4907160" y="5076720"/>
              <a:chExt cx="87840" cy="491040"/>
            </a:xfrm>
          </p:grpSpPr>
          <p:sp>
            <p:nvSpPr>
              <p:cNvPr id="206"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8"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0" name="Text Box 81"/>
          <p:cNvSpPr/>
          <p:nvPr/>
        </p:nvSpPr>
        <p:spPr>
          <a:xfrm>
            <a:off x="5967360" y="2303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11"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12"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14"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 name="Line 3"/>
          <p:cNvSpPr/>
          <p:nvPr/>
        </p:nvSpPr>
        <p:spPr>
          <a:xfrm flipV="1">
            <a:off x="2004840" y="9118440"/>
            <a:ext cx="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6" name="Line 3"/>
          <p:cNvSpPr/>
          <p:nvPr/>
        </p:nvSpPr>
        <p:spPr>
          <a:xfrm flipV="1">
            <a:off x="4776840" y="8775720"/>
            <a:ext cx="374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17" name="Line 3"/>
          <p:cNvSpPr/>
          <p:nvPr/>
        </p:nvSpPr>
        <p:spPr>
          <a:xfrm>
            <a:off x="1297080" y="8769240"/>
            <a:ext cx="2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8" name="Line 3"/>
          <p:cNvSpPr/>
          <p:nvPr/>
        </p:nvSpPr>
        <p:spPr>
          <a:xfrm>
            <a:off x="5937120" y="9118440"/>
            <a:ext cx="972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 name="Line 3"/>
          <p:cNvSpPr/>
          <p:nvPr/>
        </p:nvSpPr>
        <p:spPr>
          <a:xfrm flipV="1">
            <a:off x="3951360" y="90853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0"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21"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22"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3" name="Text Box 65"/>
          <p:cNvSpPr/>
          <p:nvPr/>
        </p:nvSpPr>
        <p:spPr>
          <a:xfrm>
            <a:off x="6423120" y="52992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24" name="Line 85"/>
          <p:cNvSpPr/>
          <p:nvPr/>
        </p:nvSpPr>
        <p:spPr>
          <a:xfrm flipH="1">
            <a:off x="6151680" y="5538960"/>
            <a:ext cx="32544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5"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226"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27"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228"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9"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30"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1"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32"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3"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34" name="Group 176"/>
          <p:cNvGrpSpPr/>
          <p:nvPr/>
        </p:nvGrpSpPr>
        <p:grpSpPr>
          <a:xfrm>
            <a:off x="1638360" y="7424640"/>
            <a:ext cx="626760" cy="861480"/>
            <a:chOff x="1638360" y="7424640"/>
            <a:chExt cx="626760" cy="861480"/>
          </a:xfrm>
        </p:grpSpPr>
        <p:sp>
          <p:nvSpPr>
            <p:cNvPr id="235"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6"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7"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8"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39" name="Group 176"/>
          <p:cNvGrpSpPr/>
          <p:nvPr/>
        </p:nvGrpSpPr>
        <p:grpSpPr>
          <a:xfrm>
            <a:off x="1582560" y="2273040"/>
            <a:ext cx="780840" cy="604800"/>
            <a:chOff x="1582560" y="2273040"/>
            <a:chExt cx="780840" cy="604800"/>
          </a:xfrm>
        </p:grpSpPr>
        <p:sp>
          <p:nvSpPr>
            <p:cNvPr id="240"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1"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3"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44"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5"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46"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47" name="Group 140"/>
          <p:cNvGrpSpPr/>
          <p:nvPr/>
        </p:nvGrpSpPr>
        <p:grpSpPr>
          <a:xfrm>
            <a:off x="4979880" y="1608120"/>
            <a:ext cx="362160" cy="133200"/>
            <a:chOff x="4979880" y="1608120"/>
            <a:chExt cx="362160" cy="133200"/>
          </a:xfrm>
        </p:grpSpPr>
        <p:sp>
          <p:nvSpPr>
            <p:cNvPr id="248"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2"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3"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4" name="Group 176"/>
          <p:cNvGrpSpPr/>
          <p:nvPr/>
        </p:nvGrpSpPr>
        <p:grpSpPr>
          <a:xfrm>
            <a:off x="3492360" y="7531200"/>
            <a:ext cx="857160" cy="704160"/>
            <a:chOff x="3492360" y="7531200"/>
            <a:chExt cx="857160" cy="704160"/>
          </a:xfrm>
        </p:grpSpPr>
        <p:sp>
          <p:nvSpPr>
            <p:cNvPr id="255"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8"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9" name="Text Box 65"/>
          <p:cNvSpPr/>
          <p:nvPr/>
        </p:nvSpPr>
        <p:spPr>
          <a:xfrm>
            <a:off x="6464160" y="1012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60"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261" name="Group 199"/>
          <p:cNvGrpSpPr/>
          <p:nvPr/>
        </p:nvGrpSpPr>
        <p:grpSpPr>
          <a:xfrm>
            <a:off x="5607000" y="1336680"/>
            <a:ext cx="814680" cy="46080"/>
            <a:chOff x="5607000" y="1336680"/>
            <a:chExt cx="814680" cy="46080"/>
          </a:xfrm>
        </p:grpSpPr>
        <p:sp>
          <p:nvSpPr>
            <p:cNvPr id="262"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4"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5" name="Group 199"/>
          <p:cNvGrpSpPr/>
          <p:nvPr/>
        </p:nvGrpSpPr>
        <p:grpSpPr>
          <a:xfrm>
            <a:off x="3591720" y="1300320"/>
            <a:ext cx="778320" cy="45720"/>
            <a:chOff x="3591720" y="1300320"/>
            <a:chExt cx="778320" cy="45720"/>
          </a:xfrm>
        </p:grpSpPr>
        <p:sp>
          <p:nvSpPr>
            <p:cNvPr id="266"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7"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8"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269"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0"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71"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72"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273"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274" name="Group 62"/>
          <p:cNvGrpSpPr/>
          <p:nvPr/>
        </p:nvGrpSpPr>
        <p:grpSpPr>
          <a:xfrm>
            <a:off x="5665680" y="993600"/>
            <a:ext cx="152640" cy="228240"/>
            <a:chOff x="5665680" y="993600"/>
            <a:chExt cx="152640" cy="228240"/>
          </a:xfrm>
        </p:grpSpPr>
        <p:sp>
          <p:nvSpPr>
            <p:cNvPr id="275"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7"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78"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79"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80"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81"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2"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3"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84"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86"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87" name="Line 3"/>
          <p:cNvSpPr/>
          <p:nvPr/>
        </p:nvSpPr>
        <p:spPr>
          <a:xfrm flipV="1">
            <a:off x="2660760" y="8786520"/>
            <a:ext cx="4791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288"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89" name="Group 62"/>
          <p:cNvGrpSpPr/>
          <p:nvPr/>
        </p:nvGrpSpPr>
        <p:grpSpPr>
          <a:xfrm>
            <a:off x="2072880" y="2670120"/>
            <a:ext cx="151920" cy="228240"/>
            <a:chOff x="2072880" y="2670120"/>
            <a:chExt cx="151920" cy="228240"/>
          </a:xfrm>
        </p:grpSpPr>
        <p:sp>
          <p:nvSpPr>
            <p:cNvPr id="290"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3"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4"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95"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96"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297"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99" name="Group 1"/>
          <p:cNvGrpSpPr/>
          <p:nvPr/>
        </p:nvGrpSpPr>
        <p:grpSpPr>
          <a:xfrm>
            <a:off x="5481720" y="5948280"/>
            <a:ext cx="457200" cy="596520"/>
            <a:chOff x="5481720" y="5948280"/>
            <a:chExt cx="457200" cy="596520"/>
          </a:xfrm>
        </p:grpSpPr>
        <p:sp>
          <p:nvSpPr>
            <p:cNvPr id="300"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01"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02"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03"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04"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5"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6" name="Group 176"/>
          <p:cNvGrpSpPr/>
          <p:nvPr/>
        </p:nvGrpSpPr>
        <p:grpSpPr>
          <a:xfrm>
            <a:off x="1582560" y="761760"/>
            <a:ext cx="607680" cy="633240"/>
            <a:chOff x="1582560" y="761760"/>
            <a:chExt cx="607680" cy="633240"/>
          </a:xfrm>
        </p:grpSpPr>
        <p:sp>
          <p:nvSpPr>
            <p:cNvPr id="307"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8"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09"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10"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11"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12"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13" name="Group 74"/>
          <p:cNvGrpSpPr/>
          <p:nvPr/>
        </p:nvGrpSpPr>
        <p:grpSpPr>
          <a:xfrm>
            <a:off x="2362320" y="6808680"/>
            <a:ext cx="276480" cy="496800"/>
            <a:chOff x="2362320" y="6808680"/>
            <a:chExt cx="276480" cy="496800"/>
          </a:xfrm>
        </p:grpSpPr>
        <p:sp>
          <p:nvSpPr>
            <p:cNvPr id="314" name="Text Box 75"/>
            <p:cNvSpPr/>
            <p:nvPr/>
          </p:nvSpPr>
          <p:spPr>
            <a:xfrm rot="16200000">
              <a:off x="235908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15" name="Line 76"/>
            <p:cNvSpPr/>
            <p:nvPr/>
          </p:nvSpPr>
          <p:spPr>
            <a:xfrm flipV="1">
              <a:off x="249084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16"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7"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8"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9"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0"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21"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2"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23"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325"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7"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28"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29"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30" name="Group 74"/>
          <p:cNvGrpSpPr/>
          <p:nvPr/>
        </p:nvGrpSpPr>
        <p:grpSpPr>
          <a:xfrm>
            <a:off x="1589040" y="2930400"/>
            <a:ext cx="786960" cy="276480"/>
            <a:chOff x="1589040" y="2930400"/>
            <a:chExt cx="786960" cy="276480"/>
          </a:xfrm>
        </p:grpSpPr>
        <p:sp>
          <p:nvSpPr>
            <p:cNvPr id="331" name="Text Box 75"/>
            <p:cNvSpPr/>
            <p:nvPr/>
          </p:nvSpPr>
          <p:spPr>
            <a:xfrm>
              <a:off x="18190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32" name="Line 76"/>
            <p:cNvSpPr/>
            <p:nvPr/>
          </p:nvSpPr>
          <p:spPr>
            <a:xfrm>
              <a:off x="1589040" y="3073680"/>
              <a:ext cx="78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3" name="Group 74"/>
          <p:cNvGrpSpPr/>
          <p:nvPr/>
        </p:nvGrpSpPr>
        <p:grpSpPr>
          <a:xfrm>
            <a:off x="1574640" y="1298520"/>
            <a:ext cx="774360" cy="276480"/>
            <a:chOff x="1574640" y="1298520"/>
            <a:chExt cx="774360" cy="276480"/>
          </a:xfrm>
        </p:grpSpPr>
        <p:sp>
          <p:nvSpPr>
            <p:cNvPr id="334"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35"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6" name="Group 173"/>
          <p:cNvGrpSpPr/>
          <p:nvPr/>
        </p:nvGrpSpPr>
        <p:grpSpPr>
          <a:xfrm>
            <a:off x="5989680" y="1405080"/>
            <a:ext cx="123840" cy="125280"/>
            <a:chOff x="5989680" y="1405080"/>
            <a:chExt cx="123840" cy="125280"/>
          </a:xfrm>
        </p:grpSpPr>
        <p:sp>
          <p:nvSpPr>
            <p:cNvPr id="337"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8"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39" name="Group 173"/>
          <p:cNvGrpSpPr/>
          <p:nvPr/>
        </p:nvGrpSpPr>
        <p:grpSpPr>
          <a:xfrm>
            <a:off x="5710320" y="2098800"/>
            <a:ext cx="123840" cy="125280"/>
            <a:chOff x="5710320" y="2098800"/>
            <a:chExt cx="123840" cy="125280"/>
          </a:xfrm>
        </p:grpSpPr>
        <p:sp>
          <p:nvSpPr>
            <p:cNvPr id="340"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2" name="Group 173"/>
          <p:cNvGrpSpPr/>
          <p:nvPr/>
        </p:nvGrpSpPr>
        <p:grpSpPr>
          <a:xfrm>
            <a:off x="2862360" y="1828800"/>
            <a:ext cx="123840" cy="125280"/>
            <a:chOff x="2862360" y="1828800"/>
            <a:chExt cx="123840" cy="125280"/>
          </a:xfrm>
        </p:grpSpPr>
        <p:sp>
          <p:nvSpPr>
            <p:cNvPr id="343"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4"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5" name="Group 173"/>
          <p:cNvGrpSpPr/>
          <p:nvPr/>
        </p:nvGrpSpPr>
        <p:grpSpPr>
          <a:xfrm>
            <a:off x="4118040" y="1428840"/>
            <a:ext cx="123840" cy="125280"/>
            <a:chOff x="4118040" y="1428840"/>
            <a:chExt cx="123840" cy="125280"/>
          </a:xfrm>
        </p:grpSpPr>
        <p:sp>
          <p:nvSpPr>
            <p:cNvPr id="346"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8" name="Group 173"/>
          <p:cNvGrpSpPr/>
          <p:nvPr/>
        </p:nvGrpSpPr>
        <p:grpSpPr>
          <a:xfrm>
            <a:off x="2193840" y="1459080"/>
            <a:ext cx="123840" cy="125280"/>
            <a:chOff x="2193840" y="1459080"/>
            <a:chExt cx="123840" cy="125280"/>
          </a:xfrm>
        </p:grpSpPr>
        <p:sp>
          <p:nvSpPr>
            <p:cNvPr id="349"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1" name="Group 173"/>
          <p:cNvGrpSpPr/>
          <p:nvPr/>
        </p:nvGrpSpPr>
        <p:grpSpPr>
          <a:xfrm>
            <a:off x="2527200" y="3621240"/>
            <a:ext cx="123840" cy="125280"/>
            <a:chOff x="2527200" y="3621240"/>
            <a:chExt cx="123840" cy="125280"/>
          </a:xfrm>
        </p:grpSpPr>
        <p:sp>
          <p:nvSpPr>
            <p:cNvPr id="352"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3"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4" name="Group 173"/>
          <p:cNvGrpSpPr/>
          <p:nvPr/>
        </p:nvGrpSpPr>
        <p:grpSpPr>
          <a:xfrm>
            <a:off x="2158920" y="3147840"/>
            <a:ext cx="123840" cy="125640"/>
            <a:chOff x="2158920" y="3147840"/>
            <a:chExt cx="123840" cy="125640"/>
          </a:xfrm>
        </p:grpSpPr>
        <p:sp>
          <p:nvSpPr>
            <p:cNvPr id="355"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7" name="Group 173"/>
          <p:cNvGrpSpPr/>
          <p:nvPr/>
        </p:nvGrpSpPr>
        <p:grpSpPr>
          <a:xfrm>
            <a:off x="3830760" y="8809200"/>
            <a:ext cx="123840" cy="125280"/>
            <a:chOff x="3830760" y="8809200"/>
            <a:chExt cx="123840" cy="125280"/>
          </a:xfrm>
        </p:grpSpPr>
        <p:sp>
          <p:nvSpPr>
            <p:cNvPr id="358"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0" name="Group 173"/>
          <p:cNvGrpSpPr/>
          <p:nvPr/>
        </p:nvGrpSpPr>
        <p:grpSpPr>
          <a:xfrm>
            <a:off x="3747960" y="6519960"/>
            <a:ext cx="123840" cy="125280"/>
            <a:chOff x="3747960" y="6519960"/>
            <a:chExt cx="123840" cy="125280"/>
          </a:xfrm>
        </p:grpSpPr>
        <p:sp>
          <p:nvSpPr>
            <p:cNvPr id="361"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3" name="Group 173"/>
          <p:cNvGrpSpPr/>
          <p:nvPr/>
        </p:nvGrpSpPr>
        <p:grpSpPr>
          <a:xfrm>
            <a:off x="5996160" y="3166920"/>
            <a:ext cx="123480" cy="125640"/>
            <a:chOff x="5996160" y="3166920"/>
            <a:chExt cx="123480" cy="125640"/>
          </a:xfrm>
        </p:grpSpPr>
        <p:sp>
          <p:nvSpPr>
            <p:cNvPr id="364"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6" name="Group 173"/>
          <p:cNvGrpSpPr/>
          <p:nvPr/>
        </p:nvGrpSpPr>
        <p:grpSpPr>
          <a:xfrm>
            <a:off x="3935520" y="3051000"/>
            <a:ext cx="125280" cy="125640"/>
            <a:chOff x="3935520" y="3051000"/>
            <a:chExt cx="125280" cy="125640"/>
          </a:xfrm>
        </p:grpSpPr>
        <p:sp>
          <p:nvSpPr>
            <p:cNvPr id="367"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9" name="Group 173"/>
          <p:cNvGrpSpPr/>
          <p:nvPr/>
        </p:nvGrpSpPr>
        <p:grpSpPr>
          <a:xfrm>
            <a:off x="5983200" y="1071720"/>
            <a:ext cx="123840" cy="125280"/>
            <a:chOff x="5983200" y="1071720"/>
            <a:chExt cx="123840" cy="125280"/>
          </a:xfrm>
        </p:grpSpPr>
        <p:sp>
          <p:nvSpPr>
            <p:cNvPr id="370"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1"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2" name="Group 173"/>
          <p:cNvGrpSpPr/>
          <p:nvPr/>
        </p:nvGrpSpPr>
        <p:grpSpPr>
          <a:xfrm>
            <a:off x="5938920" y="5707080"/>
            <a:ext cx="123840" cy="125280"/>
            <a:chOff x="5938920" y="5707080"/>
            <a:chExt cx="123840" cy="125280"/>
          </a:xfrm>
        </p:grpSpPr>
        <p:sp>
          <p:nvSpPr>
            <p:cNvPr id="373" name="Rectangle 174"/>
            <p:cNvSpPr/>
            <p:nvPr/>
          </p:nvSpPr>
          <p:spPr>
            <a:xfrm>
              <a:off x="5938920" y="5707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4" name="Oval 175"/>
            <p:cNvSpPr/>
            <p:nvPr/>
          </p:nvSpPr>
          <p:spPr>
            <a:xfrm>
              <a:off x="5938920" y="5707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5" name="Group 173"/>
          <p:cNvGrpSpPr/>
          <p:nvPr/>
        </p:nvGrpSpPr>
        <p:grpSpPr>
          <a:xfrm>
            <a:off x="3855960" y="5272200"/>
            <a:ext cx="123840" cy="125280"/>
            <a:chOff x="3855960" y="5272200"/>
            <a:chExt cx="123840" cy="125280"/>
          </a:xfrm>
        </p:grpSpPr>
        <p:sp>
          <p:nvSpPr>
            <p:cNvPr id="376"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8" name="Group 173"/>
          <p:cNvGrpSpPr/>
          <p:nvPr/>
        </p:nvGrpSpPr>
        <p:grpSpPr>
          <a:xfrm>
            <a:off x="1779480" y="5286240"/>
            <a:ext cx="123840" cy="125640"/>
            <a:chOff x="1779480" y="5286240"/>
            <a:chExt cx="123840" cy="125640"/>
          </a:xfrm>
        </p:grpSpPr>
        <p:sp>
          <p:nvSpPr>
            <p:cNvPr id="379"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1" name="Group 173"/>
          <p:cNvGrpSpPr/>
          <p:nvPr/>
        </p:nvGrpSpPr>
        <p:grpSpPr>
          <a:xfrm>
            <a:off x="3892680" y="8381880"/>
            <a:ext cx="123840" cy="125640"/>
            <a:chOff x="3892680" y="8381880"/>
            <a:chExt cx="123840" cy="125640"/>
          </a:xfrm>
        </p:grpSpPr>
        <p:sp>
          <p:nvSpPr>
            <p:cNvPr id="382"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 name="Group 173"/>
          <p:cNvGrpSpPr/>
          <p:nvPr/>
        </p:nvGrpSpPr>
        <p:grpSpPr>
          <a:xfrm>
            <a:off x="5170320" y="6962760"/>
            <a:ext cx="123840" cy="125280"/>
            <a:chOff x="5170320" y="6962760"/>
            <a:chExt cx="123840" cy="125280"/>
          </a:xfrm>
        </p:grpSpPr>
        <p:sp>
          <p:nvSpPr>
            <p:cNvPr id="385"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7" name="Group 173"/>
          <p:cNvGrpSpPr/>
          <p:nvPr/>
        </p:nvGrpSpPr>
        <p:grpSpPr>
          <a:xfrm>
            <a:off x="2303640" y="7164360"/>
            <a:ext cx="123480" cy="125280"/>
            <a:chOff x="2303640" y="7164360"/>
            <a:chExt cx="123480" cy="125280"/>
          </a:xfrm>
        </p:grpSpPr>
        <p:sp>
          <p:nvSpPr>
            <p:cNvPr id="388"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90" name="Group 173"/>
          <p:cNvGrpSpPr/>
          <p:nvPr/>
        </p:nvGrpSpPr>
        <p:grpSpPr>
          <a:xfrm>
            <a:off x="5932440" y="6962760"/>
            <a:ext cx="125640" cy="125280"/>
            <a:chOff x="5932440" y="6962760"/>
            <a:chExt cx="125640" cy="125280"/>
          </a:xfrm>
        </p:grpSpPr>
        <p:sp>
          <p:nvSpPr>
            <p:cNvPr id="391"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93" name="Group 199"/>
          <p:cNvGrpSpPr/>
          <p:nvPr/>
        </p:nvGrpSpPr>
        <p:grpSpPr>
          <a:xfrm>
            <a:off x="3485160" y="8313840"/>
            <a:ext cx="861120" cy="46080"/>
            <a:chOff x="3485160" y="8313840"/>
            <a:chExt cx="861120" cy="46080"/>
          </a:xfrm>
        </p:grpSpPr>
        <p:sp>
          <p:nvSpPr>
            <p:cNvPr id="394"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5"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96" name="Group 199"/>
          <p:cNvGrpSpPr/>
          <p:nvPr/>
        </p:nvGrpSpPr>
        <p:grpSpPr>
          <a:xfrm>
            <a:off x="5569560" y="7908840"/>
            <a:ext cx="821520" cy="46080"/>
            <a:chOff x="5569560" y="7908840"/>
            <a:chExt cx="821520" cy="46080"/>
          </a:xfrm>
        </p:grpSpPr>
        <p:sp>
          <p:nvSpPr>
            <p:cNvPr id="397" name="Line 200"/>
            <p:cNvSpPr/>
            <p:nvPr/>
          </p:nvSpPr>
          <p:spPr>
            <a:xfrm>
              <a:off x="5569560" y="79088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 name="Line 201"/>
            <p:cNvSpPr/>
            <p:nvPr/>
          </p:nvSpPr>
          <p:spPr>
            <a:xfrm>
              <a:off x="5569560" y="795492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99"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0"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401" name="Group 74"/>
          <p:cNvGrpSpPr/>
          <p:nvPr/>
        </p:nvGrpSpPr>
        <p:grpSpPr>
          <a:xfrm>
            <a:off x="3556080" y="4576680"/>
            <a:ext cx="806040" cy="276480"/>
            <a:chOff x="3556080" y="4576680"/>
            <a:chExt cx="806040" cy="276480"/>
          </a:xfrm>
        </p:grpSpPr>
        <p:sp>
          <p:nvSpPr>
            <p:cNvPr id="402"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03"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4" name="Group 173"/>
          <p:cNvGrpSpPr/>
          <p:nvPr/>
        </p:nvGrpSpPr>
        <p:grpSpPr>
          <a:xfrm>
            <a:off x="3892680" y="4902120"/>
            <a:ext cx="123840" cy="125640"/>
            <a:chOff x="3892680" y="4902120"/>
            <a:chExt cx="123840" cy="125640"/>
          </a:xfrm>
        </p:grpSpPr>
        <p:sp>
          <p:nvSpPr>
            <p:cNvPr id="405"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6"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07"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408"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09" name="Group 1"/>
          <p:cNvGrpSpPr/>
          <p:nvPr/>
        </p:nvGrpSpPr>
        <p:grpSpPr>
          <a:xfrm>
            <a:off x="3463920" y="4003560"/>
            <a:ext cx="457200" cy="596520"/>
            <a:chOff x="3463920" y="4003560"/>
            <a:chExt cx="457200" cy="596520"/>
          </a:xfrm>
        </p:grpSpPr>
        <p:sp>
          <p:nvSpPr>
            <p:cNvPr id="410"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11"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12"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13"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414"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grpSp>
        <p:nvGrpSpPr>
          <p:cNvPr id="415" name="Group 57"/>
          <p:cNvGrpSpPr/>
          <p:nvPr/>
        </p:nvGrpSpPr>
        <p:grpSpPr>
          <a:xfrm>
            <a:off x="3967200" y="2808360"/>
            <a:ext cx="63360" cy="194760"/>
            <a:chOff x="3967200" y="2808360"/>
            <a:chExt cx="63360" cy="194760"/>
          </a:xfrm>
        </p:grpSpPr>
        <p:sp>
          <p:nvSpPr>
            <p:cNvPr id="416"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7"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8"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19"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420" name="Group 57"/>
          <p:cNvGrpSpPr/>
          <p:nvPr/>
        </p:nvGrpSpPr>
        <p:grpSpPr>
          <a:xfrm>
            <a:off x="1973160" y="1125000"/>
            <a:ext cx="195480" cy="64080"/>
            <a:chOff x="1973160" y="1125000"/>
            <a:chExt cx="195480" cy="64080"/>
          </a:xfrm>
        </p:grpSpPr>
        <p:sp>
          <p:nvSpPr>
            <p:cNvPr id="421"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2"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3"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424"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425" name="Group 57"/>
          <p:cNvGrpSpPr/>
          <p:nvPr/>
        </p:nvGrpSpPr>
        <p:grpSpPr>
          <a:xfrm>
            <a:off x="5765400" y="2446200"/>
            <a:ext cx="64080" cy="195480"/>
            <a:chOff x="5765400" y="2446200"/>
            <a:chExt cx="64080" cy="195480"/>
          </a:xfrm>
        </p:grpSpPr>
        <p:sp>
          <p:nvSpPr>
            <p:cNvPr id="426"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8"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429"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430" name="Group 57"/>
          <p:cNvGrpSpPr/>
          <p:nvPr/>
        </p:nvGrpSpPr>
        <p:grpSpPr>
          <a:xfrm>
            <a:off x="3596760" y="4218120"/>
            <a:ext cx="64080" cy="194760"/>
            <a:chOff x="3596760" y="4218120"/>
            <a:chExt cx="64080" cy="194760"/>
          </a:xfrm>
        </p:grpSpPr>
        <p:sp>
          <p:nvSpPr>
            <p:cNvPr id="431"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34"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435" name="Group 62"/>
          <p:cNvGrpSpPr/>
          <p:nvPr/>
        </p:nvGrpSpPr>
        <p:grpSpPr>
          <a:xfrm>
            <a:off x="4046400" y="4238640"/>
            <a:ext cx="152640" cy="228240"/>
            <a:chOff x="4046400" y="4238640"/>
            <a:chExt cx="152640" cy="228240"/>
          </a:xfrm>
        </p:grpSpPr>
        <p:sp>
          <p:nvSpPr>
            <p:cNvPr id="436"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7"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8"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39"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40"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441"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442"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443"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444" name="Group 173"/>
          <p:cNvGrpSpPr/>
          <p:nvPr/>
        </p:nvGrpSpPr>
        <p:grpSpPr>
          <a:xfrm>
            <a:off x="5913360" y="8271000"/>
            <a:ext cx="123840" cy="125280"/>
            <a:chOff x="5913360" y="8271000"/>
            <a:chExt cx="123840" cy="125280"/>
          </a:xfrm>
        </p:grpSpPr>
        <p:sp>
          <p:nvSpPr>
            <p:cNvPr id="445"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6"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47"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448"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9"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50"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1"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452"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53"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4"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455" name="Group 1"/>
          <p:cNvGrpSpPr/>
          <p:nvPr/>
        </p:nvGrpSpPr>
        <p:grpSpPr>
          <a:xfrm>
            <a:off x="1496880" y="3952800"/>
            <a:ext cx="457200" cy="596520"/>
            <a:chOff x="1496880" y="3952800"/>
            <a:chExt cx="457200" cy="596520"/>
          </a:xfrm>
        </p:grpSpPr>
        <p:sp>
          <p:nvSpPr>
            <p:cNvPr id="456"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57"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58"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grpSp>
        <p:nvGrpSpPr>
          <p:cNvPr id="459" name="Group 173"/>
          <p:cNvGrpSpPr/>
          <p:nvPr/>
        </p:nvGrpSpPr>
        <p:grpSpPr>
          <a:xfrm>
            <a:off x="1838160" y="4843440"/>
            <a:ext cx="123840" cy="125280"/>
            <a:chOff x="1838160" y="4843440"/>
            <a:chExt cx="123840" cy="125280"/>
          </a:xfrm>
        </p:grpSpPr>
        <p:sp>
          <p:nvSpPr>
            <p:cNvPr id="460"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1"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62"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463"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64"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5"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466"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467"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468"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469"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70" name="Group 173"/>
          <p:cNvGrpSpPr/>
          <p:nvPr/>
        </p:nvGrpSpPr>
        <p:grpSpPr>
          <a:xfrm>
            <a:off x="4575240" y="1801800"/>
            <a:ext cx="123840" cy="125280"/>
            <a:chOff x="4575240" y="1801800"/>
            <a:chExt cx="123840" cy="125280"/>
          </a:xfrm>
        </p:grpSpPr>
        <p:sp>
          <p:nvSpPr>
            <p:cNvPr id="471"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2"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73"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474"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75" name="Group 74"/>
          <p:cNvGrpSpPr/>
          <p:nvPr/>
        </p:nvGrpSpPr>
        <p:grpSpPr>
          <a:xfrm>
            <a:off x="5611680" y="2143080"/>
            <a:ext cx="787320" cy="276480"/>
            <a:chOff x="5611680" y="2143080"/>
            <a:chExt cx="787320" cy="276480"/>
          </a:xfrm>
        </p:grpSpPr>
        <p:sp>
          <p:nvSpPr>
            <p:cNvPr id="476"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77"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78"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479"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80" name="Group 173"/>
          <p:cNvGrpSpPr/>
          <p:nvPr/>
        </p:nvGrpSpPr>
        <p:grpSpPr>
          <a:xfrm>
            <a:off x="4068720" y="4546440"/>
            <a:ext cx="123840" cy="125640"/>
            <a:chOff x="4068720" y="4546440"/>
            <a:chExt cx="123840" cy="125640"/>
          </a:xfrm>
        </p:grpSpPr>
        <p:sp>
          <p:nvSpPr>
            <p:cNvPr id="481"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2"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83"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4"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85"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486"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87" name="Group 173"/>
          <p:cNvGrpSpPr/>
          <p:nvPr/>
        </p:nvGrpSpPr>
        <p:grpSpPr>
          <a:xfrm>
            <a:off x="3191040" y="3629160"/>
            <a:ext cx="123840" cy="125280"/>
            <a:chOff x="3191040" y="3629160"/>
            <a:chExt cx="123840" cy="125280"/>
          </a:xfrm>
        </p:grpSpPr>
        <p:sp>
          <p:nvSpPr>
            <p:cNvPr id="488"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9"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90"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1"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492"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493"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94" name="Group 173"/>
          <p:cNvGrpSpPr/>
          <p:nvPr/>
        </p:nvGrpSpPr>
        <p:grpSpPr>
          <a:xfrm>
            <a:off x="5932440" y="6226200"/>
            <a:ext cx="125640" cy="125280"/>
            <a:chOff x="5932440" y="6226200"/>
            <a:chExt cx="125640" cy="125280"/>
          </a:xfrm>
        </p:grpSpPr>
        <p:sp>
          <p:nvSpPr>
            <p:cNvPr id="495"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6"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97"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498"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499"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0"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grpSp>
        <p:nvGrpSpPr>
          <p:cNvPr id="501" name="Group 173"/>
          <p:cNvGrpSpPr/>
          <p:nvPr/>
        </p:nvGrpSpPr>
        <p:grpSpPr>
          <a:xfrm>
            <a:off x="2673360" y="7034040"/>
            <a:ext cx="123840" cy="125640"/>
            <a:chOff x="2673360" y="7034040"/>
            <a:chExt cx="123840" cy="125640"/>
          </a:xfrm>
        </p:grpSpPr>
        <p:sp>
          <p:nvSpPr>
            <p:cNvPr id="502"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3"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04" name="Group 173"/>
          <p:cNvGrpSpPr/>
          <p:nvPr/>
        </p:nvGrpSpPr>
        <p:grpSpPr>
          <a:xfrm>
            <a:off x="5856120" y="3581280"/>
            <a:ext cx="123840" cy="125640"/>
            <a:chOff x="5856120" y="3581280"/>
            <a:chExt cx="123840" cy="125640"/>
          </a:xfrm>
        </p:grpSpPr>
        <p:sp>
          <p:nvSpPr>
            <p:cNvPr id="505"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507"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8"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509"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510"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511"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512" name="Group 173"/>
          <p:cNvGrpSpPr/>
          <p:nvPr/>
        </p:nvGrpSpPr>
        <p:grpSpPr>
          <a:xfrm>
            <a:off x="2208240" y="1292400"/>
            <a:ext cx="123840" cy="125280"/>
            <a:chOff x="2208240" y="1292400"/>
            <a:chExt cx="123840" cy="125280"/>
          </a:xfrm>
        </p:grpSpPr>
        <p:sp>
          <p:nvSpPr>
            <p:cNvPr id="51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51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51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517" name="Line 3"/>
          <p:cNvSpPr/>
          <p:nvPr/>
        </p:nvSpPr>
        <p:spPr>
          <a:xfrm>
            <a:off x="1887480" y="868824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8"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519"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20"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2"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523"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524"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5"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6"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7"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8"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529"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0"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1"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2"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3"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4"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5"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6"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7"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8"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9"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0"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1"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2"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Text Box 38"/>
          <p:cNvSpPr/>
          <p:nvPr/>
        </p:nvSpPr>
        <p:spPr>
          <a:xfrm>
            <a:off x="2351160" y="173160"/>
            <a:ext cx="33606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PROCEDURE</a:t>
            </a:r>
            <a:endParaRPr b="0" lang="en-US" sz="1600" spc="-1" strike="noStrike">
              <a:solidFill>
                <a:srgbClr val="000000"/>
              </a:solidFill>
              <a:latin typeface="Arial"/>
            </a:endParaRPr>
          </a:p>
        </p:txBody>
      </p:sp>
      <p:grpSp>
        <p:nvGrpSpPr>
          <p:cNvPr id="544" name="Group 99"/>
          <p:cNvGrpSpPr/>
          <p:nvPr/>
        </p:nvGrpSpPr>
        <p:grpSpPr>
          <a:xfrm>
            <a:off x="3503520" y="6756480"/>
            <a:ext cx="848520" cy="583920"/>
            <a:chOff x="3503520" y="6756480"/>
            <a:chExt cx="848520" cy="583920"/>
          </a:xfrm>
        </p:grpSpPr>
        <p:sp>
          <p:nvSpPr>
            <p:cNvPr id="545"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6"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7"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8"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549" name="Group 99"/>
          <p:cNvGrpSpPr/>
          <p:nvPr/>
        </p:nvGrpSpPr>
        <p:grpSpPr>
          <a:xfrm>
            <a:off x="3568680" y="3341160"/>
            <a:ext cx="812160" cy="586080"/>
            <a:chOff x="3568680" y="3341160"/>
            <a:chExt cx="812160" cy="586080"/>
          </a:xfrm>
        </p:grpSpPr>
        <p:sp>
          <p:nvSpPr>
            <p:cNvPr id="550"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1"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2"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3"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54"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5"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6"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7"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8"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559"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560"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561"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562"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3"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4"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5"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6"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7"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8"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9"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70"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71"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572"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573"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574"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75"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76"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577"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578"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579"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580"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581"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2"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583"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84"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85"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86"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587"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8"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9"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0"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591" name="Group 140"/>
          <p:cNvGrpSpPr/>
          <p:nvPr/>
        </p:nvGrpSpPr>
        <p:grpSpPr>
          <a:xfrm>
            <a:off x="6141960" y="7472160"/>
            <a:ext cx="228600" cy="609840"/>
            <a:chOff x="6141960" y="7472160"/>
            <a:chExt cx="228600" cy="609840"/>
          </a:xfrm>
        </p:grpSpPr>
        <p:sp>
          <p:nvSpPr>
            <p:cNvPr id="592"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3"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4"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5"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6"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7"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98"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599"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600"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601"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2"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603"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604" name="Group 109"/>
          <p:cNvGrpSpPr/>
          <p:nvPr/>
        </p:nvGrpSpPr>
        <p:grpSpPr>
          <a:xfrm>
            <a:off x="5618160" y="4379760"/>
            <a:ext cx="788400" cy="237600"/>
            <a:chOff x="5618160" y="4379760"/>
            <a:chExt cx="788400" cy="237600"/>
          </a:xfrm>
        </p:grpSpPr>
        <p:grpSp>
          <p:nvGrpSpPr>
            <p:cNvPr id="605" name="Group 110"/>
            <p:cNvGrpSpPr/>
            <p:nvPr/>
          </p:nvGrpSpPr>
          <p:grpSpPr>
            <a:xfrm>
              <a:off x="5618160" y="4379760"/>
              <a:ext cx="788400" cy="59400"/>
              <a:chOff x="5618160" y="4379760"/>
              <a:chExt cx="788400" cy="59400"/>
            </a:xfrm>
          </p:grpSpPr>
          <p:sp>
            <p:nvSpPr>
              <p:cNvPr id="606"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7"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08" name="Group 113"/>
            <p:cNvGrpSpPr/>
            <p:nvPr/>
          </p:nvGrpSpPr>
          <p:grpSpPr>
            <a:xfrm>
              <a:off x="5618160" y="4557960"/>
              <a:ext cx="788400" cy="59400"/>
              <a:chOff x="5618160" y="4557960"/>
              <a:chExt cx="788400" cy="59400"/>
            </a:xfrm>
          </p:grpSpPr>
          <p:sp>
            <p:nvSpPr>
              <p:cNvPr id="609"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0"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611"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612"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3"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4"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615"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616" name="Group 62"/>
          <p:cNvGrpSpPr/>
          <p:nvPr/>
        </p:nvGrpSpPr>
        <p:grpSpPr>
          <a:xfrm>
            <a:off x="6216480" y="2462040"/>
            <a:ext cx="152640" cy="228240"/>
            <a:chOff x="6216480" y="2462040"/>
            <a:chExt cx="152640" cy="228240"/>
          </a:xfrm>
        </p:grpSpPr>
        <p:sp>
          <p:nvSpPr>
            <p:cNvPr id="617"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9"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620"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621"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622"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623"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624"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625"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626" name="Group 199"/>
          <p:cNvGrpSpPr/>
          <p:nvPr/>
        </p:nvGrpSpPr>
        <p:grpSpPr>
          <a:xfrm>
            <a:off x="1654920" y="8391600"/>
            <a:ext cx="629640" cy="46080"/>
            <a:chOff x="1654920" y="8391600"/>
            <a:chExt cx="629640" cy="46080"/>
          </a:xfrm>
        </p:grpSpPr>
        <p:sp>
          <p:nvSpPr>
            <p:cNvPr id="627" name="Line 200"/>
            <p:cNvSpPr/>
            <p:nvPr/>
          </p:nvSpPr>
          <p:spPr>
            <a:xfrm>
              <a:off x="1654920" y="839160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8" name="Line 201"/>
            <p:cNvSpPr/>
            <p:nvPr/>
          </p:nvSpPr>
          <p:spPr>
            <a:xfrm>
              <a:off x="1654920" y="843768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29"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0"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1"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632"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633"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634"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635"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636"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637"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8"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639"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0"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1"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2"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643" name="Group 128"/>
          <p:cNvGrpSpPr/>
          <p:nvPr/>
        </p:nvGrpSpPr>
        <p:grpSpPr>
          <a:xfrm>
            <a:off x="2819520" y="3389040"/>
            <a:ext cx="159840" cy="500760"/>
            <a:chOff x="2819520" y="3389040"/>
            <a:chExt cx="159840" cy="500760"/>
          </a:xfrm>
        </p:grpSpPr>
        <p:grpSp>
          <p:nvGrpSpPr>
            <p:cNvPr id="644" name="Group 129"/>
            <p:cNvGrpSpPr/>
            <p:nvPr/>
          </p:nvGrpSpPr>
          <p:grpSpPr>
            <a:xfrm>
              <a:off x="2819520" y="3389040"/>
              <a:ext cx="79200" cy="500760"/>
              <a:chOff x="2819520" y="3389040"/>
              <a:chExt cx="79200" cy="500760"/>
            </a:xfrm>
          </p:grpSpPr>
          <p:sp>
            <p:nvSpPr>
              <p:cNvPr id="645"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6"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47" name="Group 132"/>
            <p:cNvGrpSpPr/>
            <p:nvPr/>
          </p:nvGrpSpPr>
          <p:grpSpPr>
            <a:xfrm>
              <a:off x="2899080" y="3389040"/>
              <a:ext cx="79920" cy="500760"/>
              <a:chOff x="2899080" y="3389040"/>
              <a:chExt cx="79920" cy="500760"/>
            </a:xfrm>
          </p:grpSpPr>
          <p:sp>
            <p:nvSpPr>
              <p:cNvPr id="648"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9"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50"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1"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52" name="Group 128"/>
          <p:cNvGrpSpPr/>
          <p:nvPr/>
        </p:nvGrpSpPr>
        <p:grpSpPr>
          <a:xfrm>
            <a:off x="2819520" y="5108040"/>
            <a:ext cx="175680" cy="491760"/>
            <a:chOff x="2819520" y="5108040"/>
            <a:chExt cx="175680" cy="491760"/>
          </a:xfrm>
        </p:grpSpPr>
        <p:grpSp>
          <p:nvGrpSpPr>
            <p:cNvPr id="653" name="Group 129"/>
            <p:cNvGrpSpPr/>
            <p:nvPr/>
          </p:nvGrpSpPr>
          <p:grpSpPr>
            <a:xfrm>
              <a:off x="2819520" y="5108040"/>
              <a:ext cx="87120" cy="491760"/>
              <a:chOff x="2819520" y="5108040"/>
              <a:chExt cx="87120" cy="491760"/>
            </a:xfrm>
          </p:grpSpPr>
          <p:sp>
            <p:nvSpPr>
              <p:cNvPr id="654"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5"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56" name="Group 132"/>
            <p:cNvGrpSpPr/>
            <p:nvPr/>
          </p:nvGrpSpPr>
          <p:grpSpPr>
            <a:xfrm>
              <a:off x="2907000" y="5108040"/>
              <a:ext cx="87840" cy="491760"/>
              <a:chOff x="2907000" y="5108040"/>
              <a:chExt cx="87840" cy="491760"/>
            </a:xfrm>
          </p:grpSpPr>
          <p:sp>
            <p:nvSpPr>
              <p:cNvPr id="657"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8"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59"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0"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61" name="Group 128"/>
          <p:cNvGrpSpPr/>
          <p:nvPr/>
        </p:nvGrpSpPr>
        <p:grpSpPr>
          <a:xfrm>
            <a:off x="4819680" y="5076720"/>
            <a:ext cx="175680" cy="491040"/>
            <a:chOff x="4819680" y="5076720"/>
            <a:chExt cx="175680" cy="491040"/>
          </a:xfrm>
        </p:grpSpPr>
        <p:grpSp>
          <p:nvGrpSpPr>
            <p:cNvPr id="662" name="Group 129"/>
            <p:cNvGrpSpPr/>
            <p:nvPr/>
          </p:nvGrpSpPr>
          <p:grpSpPr>
            <a:xfrm>
              <a:off x="4819680" y="5076720"/>
              <a:ext cx="87120" cy="491040"/>
              <a:chOff x="4819680" y="5076720"/>
              <a:chExt cx="87120" cy="491040"/>
            </a:xfrm>
          </p:grpSpPr>
          <p:sp>
            <p:nvSpPr>
              <p:cNvPr id="663"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4"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65" name="Group 132"/>
            <p:cNvGrpSpPr/>
            <p:nvPr/>
          </p:nvGrpSpPr>
          <p:grpSpPr>
            <a:xfrm>
              <a:off x="4907160" y="5076720"/>
              <a:ext cx="87840" cy="491040"/>
              <a:chOff x="4907160" y="5076720"/>
              <a:chExt cx="87840" cy="491040"/>
            </a:xfrm>
          </p:grpSpPr>
          <p:sp>
            <p:nvSpPr>
              <p:cNvPr id="666"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7"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68"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9"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70"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671"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672"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3"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674"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5" name="Line 3"/>
          <p:cNvSpPr/>
          <p:nvPr/>
        </p:nvSpPr>
        <p:spPr>
          <a:xfrm flipV="1">
            <a:off x="2004840" y="9118440"/>
            <a:ext cx="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6" name="Line 3"/>
          <p:cNvSpPr/>
          <p:nvPr/>
        </p:nvSpPr>
        <p:spPr>
          <a:xfrm flipV="1">
            <a:off x="4776840" y="8775720"/>
            <a:ext cx="374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677" name="Line 3"/>
          <p:cNvSpPr/>
          <p:nvPr/>
        </p:nvSpPr>
        <p:spPr>
          <a:xfrm>
            <a:off x="1297080" y="8769240"/>
            <a:ext cx="2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8" name="Line 3"/>
          <p:cNvSpPr/>
          <p:nvPr/>
        </p:nvSpPr>
        <p:spPr>
          <a:xfrm>
            <a:off x="5937120" y="9118440"/>
            <a:ext cx="972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9" name="Line 3"/>
          <p:cNvSpPr/>
          <p:nvPr/>
        </p:nvSpPr>
        <p:spPr>
          <a:xfrm flipV="1">
            <a:off x="3951360" y="90853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0"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681"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682"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3"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684"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685"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686"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687"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8"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689"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0"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691"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2"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693" name="Group 176"/>
          <p:cNvGrpSpPr/>
          <p:nvPr/>
        </p:nvGrpSpPr>
        <p:grpSpPr>
          <a:xfrm>
            <a:off x="1638360" y="7424640"/>
            <a:ext cx="626760" cy="861480"/>
            <a:chOff x="1638360" y="7424640"/>
            <a:chExt cx="626760" cy="861480"/>
          </a:xfrm>
        </p:grpSpPr>
        <p:sp>
          <p:nvSpPr>
            <p:cNvPr id="694"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5"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6"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7"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98" name="Group 176"/>
          <p:cNvGrpSpPr/>
          <p:nvPr/>
        </p:nvGrpSpPr>
        <p:grpSpPr>
          <a:xfrm>
            <a:off x="1582560" y="2273040"/>
            <a:ext cx="780840" cy="604800"/>
            <a:chOff x="1582560" y="2273040"/>
            <a:chExt cx="780840" cy="604800"/>
          </a:xfrm>
        </p:grpSpPr>
        <p:sp>
          <p:nvSpPr>
            <p:cNvPr id="699"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0"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1"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2"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03"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04"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705"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706" name="Group 140"/>
          <p:cNvGrpSpPr/>
          <p:nvPr/>
        </p:nvGrpSpPr>
        <p:grpSpPr>
          <a:xfrm>
            <a:off x="4979880" y="1608120"/>
            <a:ext cx="362160" cy="133200"/>
            <a:chOff x="4979880" y="1608120"/>
            <a:chExt cx="362160" cy="133200"/>
          </a:xfrm>
        </p:grpSpPr>
        <p:sp>
          <p:nvSpPr>
            <p:cNvPr id="707"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8"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9"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0"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711"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712"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713" name="Group 176"/>
          <p:cNvGrpSpPr/>
          <p:nvPr/>
        </p:nvGrpSpPr>
        <p:grpSpPr>
          <a:xfrm>
            <a:off x="3492360" y="7531200"/>
            <a:ext cx="857160" cy="704160"/>
            <a:chOff x="3492360" y="7531200"/>
            <a:chExt cx="857160" cy="704160"/>
          </a:xfrm>
        </p:grpSpPr>
        <p:sp>
          <p:nvSpPr>
            <p:cNvPr id="714"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5"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6"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7"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18"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719"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720" name="Group 199"/>
          <p:cNvGrpSpPr/>
          <p:nvPr/>
        </p:nvGrpSpPr>
        <p:grpSpPr>
          <a:xfrm>
            <a:off x="5607000" y="1336680"/>
            <a:ext cx="814680" cy="46080"/>
            <a:chOff x="5607000" y="1336680"/>
            <a:chExt cx="814680" cy="46080"/>
          </a:xfrm>
        </p:grpSpPr>
        <p:sp>
          <p:nvSpPr>
            <p:cNvPr id="721"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22"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23"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724" name="Group 199"/>
          <p:cNvGrpSpPr/>
          <p:nvPr/>
        </p:nvGrpSpPr>
        <p:grpSpPr>
          <a:xfrm>
            <a:off x="3591720" y="1300320"/>
            <a:ext cx="778320" cy="45720"/>
            <a:chOff x="3591720" y="1300320"/>
            <a:chExt cx="778320" cy="45720"/>
          </a:xfrm>
        </p:grpSpPr>
        <p:sp>
          <p:nvSpPr>
            <p:cNvPr id="725"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26"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27"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728"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29"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730"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731"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732"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733" name="Group 62"/>
          <p:cNvGrpSpPr/>
          <p:nvPr/>
        </p:nvGrpSpPr>
        <p:grpSpPr>
          <a:xfrm>
            <a:off x="5665680" y="993600"/>
            <a:ext cx="152640" cy="228240"/>
            <a:chOff x="5665680" y="993600"/>
            <a:chExt cx="152640" cy="228240"/>
          </a:xfrm>
        </p:grpSpPr>
        <p:sp>
          <p:nvSpPr>
            <p:cNvPr id="734"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5"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6"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37"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38"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739"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740"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41"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42"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743"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44"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745"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746" name="Line 3"/>
          <p:cNvSpPr/>
          <p:nvPr/>
        </p:nvSpPr>
        <p:spPr>
          <a:xfrm flipV="1">
            <a:off x="2660760" y="8786520"/>
            <a:ext cx="4791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747"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748" name="Group 62"/>
          <p:cNvGrpSpPr/>
          <p:nvPr/>
        </p:nvGrpSpPr>
        <p:grpSpPr>
          <a:xfrm>
            <a:off x="2072880" y="2670120"/>
            <a:ext cx="151920" cy="228240"/>
            <a:chOff x="2072880" y="2670120"/>
            <a:chExt cx="151920" cy="228240"/>
          </a:xfrm>
        </p:grpSpPr>
        <p:sp>
          <p:nvSpPr>
            <p:cNvPr id="749"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0"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51"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52"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53"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754"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755"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756"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57"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758" name="Group 1"/>
          <p:cNvGrpSpPr/>
          <p:nvPr/>
        </p:nvGrpSpPr>
        <p:grpSpPr>
          <a:xfrm>
            <a:off x="5481720" y="5948280"/>
            <a:ext cx="457200" cy="596520"/>
            <a:chOff x="5481720" y="5948280"/>
            <a:chExt cx="457200" cy="596520"/>
          </a:xfrm>
        </p:grpSpPr>
        <p:sp>
          <p:nvSpPr>
            <p:cNvPr id="759"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760"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761"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762"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763"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64"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765" name="Group 176"/>
          <p:cNvGrpSpPr/>
          <p:nvPr/>
        </p:nvGrpSpPr>
        <p:grpSpPr>
          <a:xfrm>
            <a:off x="1582560" y="761760"/>
            <a:ext cx="607680" cy="633240"/>
            <a:chOff x="1582560" y="761760"/>
            <a:chExt cx="607680" cy="633240"/>
          </a:xfrm>
        </p:grpSpPr>
        <p:sp>
          <p:nvSpPr>
            <p:cNvPr id="766"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7"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68"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769"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770"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771" name="Group 74"/>
          <p:cNvGrpSpPr/>
          <p:nvPr/>
        </p:nvGrpSpPr>
        <p:grpSpPr>
          <a:xfrm>
            <a:off x="2357280" y="6808680"/>
            <a:ext cx="276480" cy="496800"/>
            <a:chOff x="2357280" y="6808680"/>
            <a:chExt cx="276480" cy="496800"/>
          </a:xfrm>
        </p:grpSpPr>
        <p:sp>
          <p:nvSpPr>
            <p:cNvPr id="772"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73"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74"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5"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6"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7"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8"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779"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0"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781"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2"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783"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4"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5"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786"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787"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788" name="Group 74"/>
          <p:cNvGrpSpPr/>
          <p:nvPr/>
        </p:nvGrpSpPr>
        <p:grpSpPr>
          <a:xfrm>
            <a:off x="1612800" y="2930400"/>
            <a:ext cx="763200" cy="276480"/>
            <a:chOff x="1612800" y="2930400"/>
            <a:chExt cx="763200" cy="276480"/>
          </a:xfrm>
        </p:grpSpPr>
        <p:sp>
          <p:nvSpPr>
            <p:cNvPr id="789"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0"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791" name="Group 74"/>
          <p:cNvGrpSpPr/>
          <p:nvPr/>
        </p:nvGrpSpPr>
        <p:grpSpPr>
          <a:xfrm>
            <a:off x="1574640" y="1298520"/>
            <a:ext cx="774360" cy="276480"/>
            <a:chOff x="1574640" y="1298520"/>
            <a:chExt cx="774360" cy="276480"/>
          </a:xfrm>
        </p:grpSpPr>
        <p:sp>
          <p:nvSpPr>
            <p:cNvPr id="792"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3"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794" name="Group 173"/>
          <p:cNvGrpSpPr/>
          <p:nvPr/>
        </p:nvGrpSpPr>
        <p:grpSpPr>
          <a:xfrm>
            <a:off x="5989680" y="1405080"/>
            <a:ext cx="123840" cy="125280"/>
            <a:chOff x="5989680" y="1405080"/>
            <a:chExt cx="123840" cy="125280"/>
          </a:xfrm>
        </p:grpSpPr>
        <p:sp>
          <p:nvSpPr>
            <p:cNvPr id="795"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6"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97" name="Group 173"/>
          <p:cNvGrpSpPr/>
          <p:nvPr/>
        </p:nvGrpSpPr>
        <p:grpSpPr>
          <a:xfrm>
            <a:off x="2862360" y="1828800"/>
            <a:ext cx="123840" cy="125280"/>
            <a:chOff x="2862360" y="1828800"/>
            <a:chExt cx="123840" cy="125280"/>
          </a:xfrm>
        </p:grpSpPr>
        <p:sp>
          <p:nvSpPr>
            <p:cNvPr id="798"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9"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0" name="Group 173"/>
          <p:cNvGrpSpPr/>
          <p:nvPr/>
        </p:nvGrpSpPr>
        <p:grpSpPr>
          <a:xfrm>
            <a:off x="4118040" y="1428840"/>
            <a:ext cx="123840" cy="125280"/>
            <a:chOff x="4118040" y="1428840"/>
            <a:chExt cx="123840" cy="125280"/>
          </a:xfrm>
        </p:grpSpPr>
        <p:sp>
          <p:nvSpPr>
            <p:cNvPr id="801"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2"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3" name="Group 173"/>
          <p:cNvGrpSpPr/>
          <p:nvPr/>
        </p:nvGrpSpPr>
        <p:grpSpPr>
          <a:xfrm>
            <a:off x="2193840" y="1459080"/>
            <a:ext cx="123840" cy="125280"/>
            <a:chOff x="2193840" y="1459080"/>
            <a:chExt cx="123840" cy="125280"/>
          </a:xfrm>
        </p:grpSpPr>
        <p:sp>
          <p:nvSpPr>
            <p:cNvPr id="804"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5"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6" name="Group 173"/>
          <p:cNvGrpSpPr/>
          <p:nvPr/>
        </p:nvGrpSpPr>
        <p:grpSpPr>
          <a:xfrm>
            <a:off x="2527200" y="3621240"/>
            <a:ext cx="123840" cy="125280"/>
            <a:chOff x="2527200" y="3621240"/>
            <a:chExt cx="123840" cy="125280"/>
          </a:xfrm>
        </p:grpSpPr>
        <p:sp>
          <p:nvSpPr>
            <p:cNvPr id="807"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8"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9" name="Group 173"/>
          <p:cNvGrpSpPr/>
          <p:nvPr/>
        </p:nvGrpSpPr>
        <p:grpSpPr>
          <a:xfrm>
            <a:off x="2158920" y="3147840"/>
            <a:ext cx="123840" cy="125640"/>
            <a:chOff x="2158920" y="3147840"/>
            <a:chExt cx="123840" cy="125640"/>
          </a:xfrm>
        </p:grpSpPr>
        <p:sp>
          <p:nvSpPr>
            <p:cNvPr id="810"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1"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12" name="Group 173"/>
          <p:cNvGrpSpPr/>
          <p:nvPr/>
        </p:nvGrpSpPr>
        <p:grpSpPr>
          <a:xfrm>
            <a:off x="3830760" y="8809200"/>
            <a:ext cx="123840" cy="125280"/>
            <a:chOff x="3830760" y="8809200"/>
            <a:chExt cx="123840" cy="125280"/>
          </a:xfrm>
        </p:grpSpPr>
        <p:sp>
          <p:nvSpPr>
            <p:cNvPr id="813"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15" name="Group 173"/>
          <p:cNvGrpSpPr/>
          <p:nvPr/>
        </p:nvGrpSpPr>
        <p:grpSpPr>
          <a:xfrm>
            <a:off x="3747960" y="6519960"/>
            <a:ext cx="123840" cy="125280"/>
            <a:chOff x="3747960" y="6519960"/>
            <a:chExt cx="123840" cy="125280"/>
          </a:xfrm>
        </p:grpSpPr>
        <p:sp>
          <p:nvSpPr>
            <p:cNvPr id="816"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7"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18" name="Group 173"/>
          <p:cNvGrpSpPr/>
          <p:nvPr/>
        </p:nvGrpSpPr>
        <p:grpSpPr>
          <a:xfrm>
            <a:off x="5996160" y="3166920"/>
            <a:ext cx="123480" cy="125640"/>
            <a:chOff x="5996160" y="3166920"/>
            <a:chExt cx="123480" cy="125640"/>
          </a:xfrm>
        </p:grpSpPr>
        <p:sp>
          <p:nvSpPr>
            <p:cNvPr id="819"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0"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21" name="Group 173"/>
          <p:cNvGrpSpPr/>
          <p:nvPr/>
        </p:nvGrpSpPr>
        <p:grpSpPr>
          <a:xfrm>
            <a:off x="3935520" y="3051000"/>
            <a:ext cx="125280" cy="125640"/>
            <a:chOff x="3935520" y="3051000"/>
            <a:chExt cx="125280" cy="125640"/>
          </a:xfrm>
        </p:grpSpPr>
        <p:sp>
          <p:nvSpPr>
            <p:cNvPr id="822"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3"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24" name="Group 173"/>
          <p:cNvGrpSpPr/>
          <p:nvPr/>
        </p:nvGrpSpPr>
        <p:grpSpPr>
          <a:xfrm>
            <a:off x="5983200" y="1071720"/>
            <a:ext cx="123840" cy="125280"/>
            <a:chOff x="5983200" y="1071720"/>
            <a:chExt cx="123840" cy="125280"/>
          </a:xfrm>
        </p:grpSpPr>
        <p:sp>
          <p:nvSpPr>
            <p:cNvPr id="825"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27" name="Group 173"/>
          <p:cNvGrpSpPr/>
          <p:nvPr/>
        </p:nvGrpSpPr>
        <p:grpSpPr>
          <a:xfrm>
            <a:off x="3855960" y="5272200"/>
            <a:ext cx="123840" cy="125280"/>
            <a:chOff x="3855960" y="5272200"/>
            <a:chExt cx="123840" cy="125280"/>
          </a:xfrm>
        </p:grpSpPr>
        <p:sp>
          <p:nvSpPr>
            <p:cNvPr id="828"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9"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0" name="Group 173"/>
          <p:cNvGrpSpPr/>
          <p:nvPr/>
        </p:nvGrpSpPr>
        <p:grpSpPr>
          <a:xfrm>
            <a:off x="1779480" y="5286240"/>
            <a:ext cx="123840" cy="125640"/>
            <a:chOff x="1779480" y="5286240"/>
            <a:chExt cx="123840" cy="125640"/>
          </a:xfrm>
        </p:grpSpPr>
        <p:sp>
          <p:nvSpPr>
            <p:cNvPr id="831"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2"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3" name="Group 173"/>
          <p:cNvGrpSpPr/>
          <p:nvPr/>
        </p:nvGrpSpPr>
        <p:grpSpPr>
          <a:xfrm>
            <a:off x="3892680" y="8381880"/>
            <a:ext cx="123840" cy="125640"/>
            <a:chOff x="3892680" y="8381880"/>
            <a:chExt cx="123840" cy="125640"/>
          </a:xfrm>
        </p:grpSpPr>
        <p:sp>
          <p:nvSpPr>
            <p:cNvPr id="834"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5"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6" name="Group 173"/>
          <p:cNvGrpSpPr/>
          <p:nvPr/>
        </p:nvGrpSpPr>
        <p:grpSpPr>
          <a:xfrm>
            <a:off x="5170320" y="6962760"/>
            <a:ext cx="123840" cy="125280"/>
            <a:chOff x="5170320" y="6962760"/>
            <a:chExt cx="123840" cy="125280"/>
          </a:xfrm>
        </p:grpSpPr>
        <p:sp>
          <p:nvSpPr>
            <p:cNvPr id="837"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8"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9" name="Group 173"/>
          <p:cNvGrpSpPr/>
          <p:nvPr/>
        </p:nvGrpSpPr>
        <p:grpSpPr>
          <a:xfrm>
            <a:off x="2303640" y="7164360"/>
            <a:ext cx="123480" cy="125280"/>
            <a:chOff x="2303640" y="7164360"/>
            <a:chExt cx="123480" cy="125280"/>
          </a:xfrm>
        </p:grpSpPr>
        <p:sp>
          <p:nvSpPr>
            <p:cNvPr id="840"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1"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42" name="Group 173"/>
          <p:cNvGrpSpPr/>
          <p:nvPr/>
        </p:nvGrpSpPr>
        <p:grpSpPr>
          <a:xfrm>
            <a:off x="5932440" y="6962760"/>
            <a:ext cx="125640" cy="125280"/>
            <a:chOff x="5932440" y="6962760"/>
            <a:chExt cx="125640" cy="125280"/>
          </a:xfrm>
        </p:grpSpPr>
        <p:sp>
          <p:nvSpPr>
            <p:cNvPr id="843"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4"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45" name="Group 199"/>
          <p:cNvGrpSpPr/>
          <p:nvPr/>
        </p:nvGrpSpPr>
        <p:grpSpPr>
          <a:xfrm>
            <a:off x="3485160" y="8313840"/>
            <a:ext cx="861120" cy="46080"/>
            <a:chOff x="3485160" y="8313840"/>
            <a:chExt cx="861120" cy="46080"/>
          </a:xfrm>
        </p:grpSpPr>
        <p:sp>
          <p:nvSpPr>
            <p:cNvPr id="846"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7"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848" name="Group 199"/>
          <p:cNvGrpSpPr/>
          <p:nvPr/>
        </p:nvGrpSpPr>
        <p:grpSpPr>
          <a:xfrm>
            <a:off x="5569560" y="7908840"/>
            <a:ext cx="821520" cy="46080"/>
            <a:chOff x="5569560" y="7908840"/>
            <a:chExt cx="821520" cy="46080"/>
          </a:xfrm>
        </p:grpSpPr>
        <p:sp>
          <p:nvSpPr>
            <p:cNvPr id="849" name="Line 200"/>
            <p:cNvSpPr/>
            <p:nvPr/>
          </p:nvSpPr>
          <p:spPr>
            <a:xfrm>
              <a:off x="5569560" y="79088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0" name="Line 201"/>
            <p:cNvSpPr/>
            <p:nvPr/>
          </p:nvSpPr>
          <p:spPr>
            <a:xfrm>
              <a:off x="5569560" y="795492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51"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852"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853" name="Group 74"/>
          <p:cNvGrpSpPr/>
          <p:nvPr/>
        </p:nvGrpSpPr>
        <p:grpSpPr>
          <a:xfrm>
            <a:off x="3556080" y="4576680"/>
            <a:ext cx="806040" cy="276480"/>
            <a:chOff x="3556080" y="4576680"/>
            <a:chExt cx="806040" cy="276480"/>
          </a:xfrm>
        </p:grpSpPr>
        <p:sp>
          <p:nvSpPr>
            <p:cNvPr id="854"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855"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856" name="Group 173"/>
          <p:cNvGrpSpPr/>
          <p:nvPr/>
        </p:nvGrpSpPr>
        <p:grpSpPr>
          <a:xfrm>
            <a:off x="3892680" y="4902120"/>
            <a:ext cx="123840" cy="125640"/>
            <a:chOff x="3892680" y="4902120"/>
            <a:chExt cx="123840" cy="125640"/>
          </a:xfrm>
        </p:grpSpPr>
        <p:sp>
          <p:nvSpPr>
            <p:cNvPr id="857"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8"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59"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860"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861" name="Group 1"/>
          <p:cNvGrpSpPr/>
          <p:nvPr/>
        </p:nvGrpSpPr>
        <p:grpSpPr>
          <a:xfrm>
            <a:off x="3463920" y="4003560"/>
            <a:ext cx="457200" cy="596520"/>
            <a:chOff x="3463920" y="4003560"/>
            <a:chExt cx="457200" cy="596520"/>
          </a:xfrm>
        </p:grpSpPr>
        <p:sp>
          <p:nvSpPr>
            <p:cNvPr id="862"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863"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864"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865"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866" name="Group 57"/>
          <p:cNvGrpSpPr/>
          <p:nvPr/>
        </p:nvGrpSpPr>
        <p:grpSpPr>
          <a:xfrm>
            <a:off x="3967200" y="2808360"/>
            <a:ext cx="63360" cy="194760"/>
            <a:chOff x="3967200" y="2808360"/>
            <a:chExt cx="63360" cy="194760"/>
          </a:xfrm>
        </p:grpSpPr>
        <p:sp>
          <p:nvSpPr>
            <p:cNvPr id="867"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8"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9"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870"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871" name="Group 57"/>
          <p:cNvGrpSpPr/>
          <p:nvPr/>
        </p:nvGrpSpPr>
        <p:grpSpPr>
          <a:xfrm>
            <a:off x="1973160" y="1125000"/>
            <a:ext cx="195480" cy="64080"/>
            <a:chOff x="1973160" y="1125000"/>
            <a:chExt cx="195480" cy="64080"/>
          </a:xfrm>
        </p:grpSpPr>
        <p:sp>
          <p:nvSpPr>
            <p:cNvPr id="872"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3"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74"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875"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876" name="Group 57"/>
          <p:cNvGrpSpPr/>
          <p:nvPr/>
        </p:nvGrpSpPr>
        <p:grpSpPr>
          <a:xfrm>
            <a:off x="5765400" y="2446200"/>
            <a:ext cx="64080" cy="195480"/>
            <a:chOff x="5765400" y="2446200"/>
            <a:chExt cx="64080" cy="195480"/>
          </a:xfrm>
        </p:grpSpPr>
        <p:sp>
          <p:nvSpPr>
            <p:cNvPr id="877"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8"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79"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880"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881" name="Group 57"/>
          <p:cNvGrpSpPr/>
          <p:nvPr/>
        </p:nvGrpSpPr>
        <p:grpSpPr>
          <a:xfrm>
            <a:off x="3596760" y="4218120"/>
            <a:ext cx="64080" cy="194760"/>
            <a:chOff x="3596760" y="4218120"/>
            <a:chExt cx="64080" cy="194760"/>
          </a:xfrm>
        </p:grpSpPr>
        <p:sp>
          <p:nvSpPr>
            <p:cNvPr id="882"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3"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4"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885"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886" name="Group 62"/>
          <p:cNvGrpSpPr/>
          <p:nvPr/>
        </p:nvGrpSpPr>
        <p:grpSpPr>
          <a:xfrm>
            <a:off x="4046400" y="4238640"/>
            <a:ext cx="152640" cy="228240"/>
            <a:chOff x="4046400" y="4238640"/>
            <a:chExt cx="152640" cy="228240"/>
          </a:xfrm>
        </p:grpSpPr>
        <p:sp>
          <p:nvSpPr>
            <p:cNvPr id="887"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8"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9"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890"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891"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892"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893"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894"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895" name="Group 173"/>
          <p:cNvGrpSpPr/>
          <p:nvPr/>
        </p:nvGrpSpPr>
        <p:grpSpPr>
          <a:xfrm>
            <a:off x="5913360" y="8271000"/>
            <a:ext cx="123840" cy="125280"/>
            <a:chOff x="5913360" y="8271000"/>
            <a:chExt cx="123840" cy="125280"/>
          </a:xfrm>
        </p:grpSpPr>
        <p:sp>
          <p:nvSpPr>
            <p:cNvPr id="896"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7"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98"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899"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00"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901"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02"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903"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904"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05"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906" name="Group 173"/>
          <p:cNvGrpSpPr/>
          <p:nvPr/>
        </p:nvGrpSpPr>
        <p:grpSpPr>
          <a:xfrm>
            <a:off x="1838160" y="4843440"/>
            <a:ext cx="123840" cy="125280"/>
            <a:chOff x="1838160" y="4843440"/>
            <a:chExt cx="123840" cy="125280"/>
          </a:xfrm>
        </p:grpSpPr>
        <p:sp>
          <p:nvSpPr>
            <p:cNvPr id="907"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8"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09"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910"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911"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12"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913"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914"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915"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916"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17" name="Rectangle 7"/>
          <p:cNvSpPr/>
          <p:nvPr/>
        </p:nvSpPr>
        <p:spPr>
          <a:xfrm>
            <a:off x="3778200" y="690552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918" name="Rectangle 30"/>
          <p:cNvSpPr/>
          <p:nvPr/>
        </p:nvSpPr>
        <p:spPr>
          <a:xfrm>
            <a:off x="5716440" y="6862680"/>
            <a:ext cx="36540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919" name="Rectangle 5166"/>
          <p:cNvSpPr/>
          <p:nvPr/>
        </p:nvSpPr>
        <p:spPr>
          <a:xfrm>
            <a:off x="3790800" y="5160960"/>
            <a:ext cx="36540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920" name="Rectangle 5168"/>
          <p:cNvSpPr/>
          <p:nvPr/>
        </p:nvSpPr>
        <p:spPr>
          <a:xfrm>
            <a:off x="1763640" y="514368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921" name="Rectangle 6"/>
          <p:cNvSpPr/>
          <p:nvPr/>
        </p:nvSpPr>
        <p:spPr>
          <a:xfrm>
            <a:off x="1730520" y="689616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922" name="Rectangle 5384"/>
          <p:cNvSpPr/>
          <p:nvPr/>
        </p:nvSpPr>
        <p:spPr>
          <a:xfrm>
            <a:off x="1817640" y="342900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Arial"/>
            </a:endParaRPr>
          </a:p>
        </p:txBody>
      </p:sp>
      <p:sp>
        <p:nvSpPr>
          <p:cNvPr id="923" name="Rectangle 5383"/>
          <p:cNvSpPr/>
          <p:nvPr/>
        </p:nvSpPr>
        <p:spPr>
          <a:xfrm>
            <a:off x="3797280" y="345132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Arial"/>
            </a:endParaRPr>
          </a:p>
        </p:txBody>
      </p:sp>
      <p:sp>
        <p:nvSpPr>
          <p:cNvPr id="924" name="Rectangle 5385"/>
          <p:cNvSpPr/>
          <p:nvPr/>
        </p:nvSpPr>
        <p:spPr>
          <a:xfrm>
            <a:off x="5792760" y="168264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925" name="Rectangle 5386"/>
          <p:cNvSpPr/>
          <p:nvPr/>
        </p:nvSpPr>
        <p:spPr>
          <a:xfrm>
            <a:off x="3773520" y="1647720"/>
            <a:ext cx="365040" cy="335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926" name="Rectangle 5387"/>
          <p:cNvSpPr/>
          <p:nvPr/>
        </p:nvSpPr>
        <p:spPr>
          <a:xfrm>
            <a:off x="1800360" y="1700280"/>
            <a:ext cx="36648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927" name="Text Box 81"/>
          <p:cNvSpPr/>
          <p:nvPr/>
        </p:nvSpPr>
        <p:spPr>
          <a:xfrm>
            <a:off x="3559320" y="13716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928" name="Line 85"/>
          <p:cNvSpPr/>
          <p:nvPr/>
        </p:nvSpPr>
        <p:spPr>
          <a:xfrm>
            <a:off x="3503520" y="1317600"/>
            <a:ext cx="9540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29" name="Group 173"/>
          <p:cNvGrpSpPr/>
          <p:nvPr/>
        </p:nvGrpSpPr>
        <p:grpSpPr>
          <a:xfrm>
            <a:off x="4575240" y="1801800"/>
            <a:ext cx="123840" cy="125280"/>
            <a:chOff x="4575240" y="1801800"/>
            <a:chExt cx="123840" cy="125280"/>
          </a:xfrm>
        </p:grpSpPr>
        <p:sp>
          <p:nvSpPr>
            <p:cNvPr id="930"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1"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32"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933"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34"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35" name="Group 173"/>
          <p:cNvGrpSpPr/>
          <p:nvPr/>
        </p:nvGrpSpPr>
        <p:grpSpPr>
          <a:xfrm>
            <a:off x="5710320" y="2098800"/>
            <a:ext cx="123840" cy="125280"/>
            <a:chOff x="5710320" y="2098800"/>
            <a:chExt cx="123840" cy="125280"/>
          </a:xfrm>
        </p:grpSpPr>
        <p:sp>
          <p:nvSpPr>
            <p:cNvPr id="936"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7"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938" name="Group 74"/>
          <p:cNvGrpSpPr/>
          <p:nvPr/>
        </p:nvGrpSpPr>
        <p:grpSpPr>
          <a:xfrm>
            <a:off x="5611680" y="2143080"/>
            <a:ext cx="787320" cy="276480"/>
            <a:chOff x="5611680" y="2143080"/>
            <a:chExt cx="787320" cy="276480"/>
          </a:xfrm>
        </p:grpSpPr>
        <p:sp>
          <p:nvSpPr>
            <p:cNvPr id="939"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940"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41"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942"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43" name="Group 173"/>
          <p:cNvGrpSpPr/>
          <p:nvPr/>
        </p:nvGrpSpPr>
        <p:grpSpPr>
          <a:xfrm>
            <a:off x="4068720" y="4546440"/>
            <a:ext cx="123840" cy="125640"/>
            <a:chOff x="4068720" y="4546440"/>
            <a:chExt cx="123840" cy="125640"/>
          </a:xfrm>
        </p:grpSpPr>
        <p:sp>
          <p:nvSpPr>
            <p:cNvPr id="944"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5"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46"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47" name="Group 1"/>
          <p:cNvGrpSpPr/>
          <p:nvPr/>
        </p:nvGrpSpPr>
        <p:grpSpPr>
          <a:xfrm>
            <a:off x="1496880" y="3952800"/>
            <a:ext cx="457200" cy="596520"/>
            <a:chOff x="1496880" y="3952800"/>
            <a:chExt cx="457200" cy="596520"/>
          </a:xfrm>
        </p:grpSpPr>
        <p:sp>
          <p:nvSpPr>
            <p:cNvPr id="948"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949"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950"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951"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952"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953"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4" name="Text Box 69"/>
          <p:cNvSpPr/>
          <p:nvPr/>
        </p:nvSpPr>
        <p:spPr>
          <a:xfrm>
            <a:off x="326880" y="5978520"/>
            <a:ext cx="11289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UST VENTILATE BARRICADE IN #2 AFTER STOP #6</a:t>
            </a:r>
            <a:endParaRPr b="0" lang="en-US" sz="800" spc="-1" strike="noStrike">
              <a:solidFill>
                <a:srgbClr val="000000"/>
              </a:solidFill>
              <a:latin typeface="Arial"/>
            </a:endParaRPr>
          </a:p>
        </p:txBody>
      </p:sp>
      <p:sp>
        <p:nvSpPr>
          <p:cNvPr id="955" name="Line 85"/>
          <p:cNvSpPr/>
          <p:nvPr/>
        </p:nvSpPr>
        <p:spPr>
          <a:xfrm>
            <a:off x="1308240" y="6240600"/>
            <a:ext cx="58392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6" name="Text Box 69"/>
          <p:cNvSpPr/>
          <p:nvPr/>
        </p:nvSpPr>
        <p:spPr>
          <a:xfrm>
            <a:off x="355680" y="2801880"/>
            <a:ext cx="1130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UST VENTILATE BARRICADE IN #1 AFTER FINDING TIMBERS</a:t>
            </a:r>
            <a:endParaRPr b="0" lang="en-US" sz="800" spc="-1" strike="noStrike">
              <a:solidFill>
                <a:srgbClr val="000000"/>
              </a:solidFill>
              <a:latin typeface="Arial"/>
            </a:endParaRPr>
          </a:p>
        </p:txBody>
      </p:sp>
      <p:sp>
        <p:nvSpPr>
          <p:cNvPr id="957" name="Line 85"/>
          <p:cNvSpPr/>
          <p:nvPr/>
        </p:nvSpPr>
        <p:spPr>
          <a:xfrm>
            <a:off x="1166760" y="3224160"/>
            <a:ext cx="48744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58" name="Group 173"/>
          <p:cNvGrpSpPr/>
          <p:nvPr/>
        </p:nvGrpSpPr>
        <p:grpSpPr>
          <a:xfrm>
            <a:off x="3191040" y="3629160"/>
            <a:ext cx="123840" cy="125280"/>
            <a:chOff x="3191040" y="3629160"/>
            <a:chExt cx="123840" cy="125280"/>
          </a:xfrm>
        </p:grpSpPr>
        <p:sp>
          <p:nvSpPr>
            <p:cNvPr id="959"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0"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61"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62"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963"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964"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65" name="Group 173"/>
          <p:cNvGrpSpPr/>
          <p:nvPr/>
        </p:nvGrpSpPr>
        <p:grpSpPr>
          <a:xfrm>
            <a:off x="5932440" y="6226200"/>
            <a:ext cx="125640" cy="125280"/>
            <a:chOff x="5932440" y="6226200"/>
            <a:chExt cx="125640" cy="125280"/>
          </a:xfrm>
        </p:grpSpPr>
        <p:sp>
          <p:nvSpPr>
            <p:cNvPr id="966"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7"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68"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969" name="Rectangle 5166"/>
          <p:cNvSpPr/>
          <p:nvPr/>
        </p:nvSpPr>
        <p:spPr>
          <a:xfrm>
            <a:off x="5792760" y="513720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grpSp>
        <p:nvGrpSpPr>
          <p:cNvPr id="970" name="Group 173"/>
          <p:cNvGrpSpPr/>
          <p:nvPr/>
        </p:nvGrpSpPr>
        <p:grpSpPr>
          <a:xfrm>
            <a:off x="5856120" y="3581280"/>
            <a:ext cx="123840" cy="125640"/>
            <a:chOff x="5856120" y="3581280"/>
            <a:chExt cx="123840" cy="125640"/>
          </a:xfrm>
        </p:grpSpPr>
        <p:sp>
          <p:nvSpPr>
            <p:cNvPr id="971"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2"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73"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4"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975" name="Rectangle 5385"/>
          <p:cNvSpPr/>
          <p:nvPr/>
        </p:nvSpPr>
        <p:spPr>
          <a:xfrm>
            <a:off x="5767560" y="349740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976"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977"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978"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9"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980" name="Group 173"/>
          <p:cNvGrpSpPr/>
          <p:nvPr/>
        </p:nvGrpSpPr>
        <p:grpSpPr>
          <a:xfrm>
            <a:off x="2208240" y="1292400"/>
            <a:ext cx="123840" cy="125280"/>
            <a:chOff x="2208240" y="1292400"/>
            <a:chExt cx="123840" cy="125280"/>
          </a:xfrm>
        </p:grpSpPr>
        <p:sp>
          <p:nvSpPr>
            <p:cNvPr id="981"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2"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83"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984"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985"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86"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987" name="Group 173"/>
          <p:cNvGrpSpPr/>
          <p:nvPr/>
        </p:nvGrpSpPr>
        <p:grpSpPr>
          <a:xfrm>
            <a:off x="2673360" y="7034040"/>
            <a:ext cx="123840" cy="125640"/>
            <a:chOff x="2673360" y="7034040"/>
            <a:chExt cx="123840" cy="125640"/>
          </a:xfrm>
        </p:grpSpPr>
        <p:sp>
          <p:nvSpPr>
            <p:cNvPr id="988"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90"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991" name="Group 62"/>
          <p:cNvGrpSpPr/>
          <p:nvPr/>
        </p:nvGrpSpPr>
        <p:grpSpPr>
          <a:xfrm>
            <a:off x="2514240" y="6934320"/>
            <a:ext cx="151920" cy="228240"/>
            <a:chOff x="2514240" y="6934320"/>
            <a:chExt cx="151920" cy="228240"/>
          </a:xfrm>
        </p:grpSpPr>
        <p:sp>
          <p:nvSpPr>
            <p:cNvPr id="992"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3"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4"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995"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996"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997"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998"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9" name="Line 3"/>
          <p:cNvSpPr/>
          <p:nvPr/>
        </p:nvSpPr>
        <p:spPr>
          <a:xfrm>
            <a:off x="1887480" y="868824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0"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1001"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002"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03"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5"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1006"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007"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8"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9"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0"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1"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1012"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3"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4"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5"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6"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7"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8"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9"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0"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1"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2"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3"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4"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5"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6" name="Text Box 38"/>
          <p:cNvSpPr/>
          <p:nvPr/>
        </p:nvSpPr>
        <p:spPr>
          <a:xfrm>
            <a:off x="2351160" y="173160"/>
            <a:ext cx="33606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FIRST VENTILATION</a:t>
            </a:r>
            <a:endParaRPr b="0" lang="en-US" sz="1600" spc="-1" strike="noStrike">
              <a:solidFill>
                <a:srgbClr val="000000"/>
              </a:solidFill>
              <a:latin typeface="Arial"/>
            </a:endParaRPr>
          </a:p>
        </p:txBody>
      </p:sp>
      <p:grpSp>
        <p:nvGrpSpPr>
          <p:cNvPr id="1027" name="Group 99"/>
          <p:cNvGrpSpPr/>
          <p:nvPr/>
        </p:nvGrpSpPr>
        <p:grpSpPr>
          <a:xfrm>
            <a:off x="3503520" y="6756480"/>
            <a:ext cx="848520" cy="583920"/>
            <a:chOff x="3503520" y="6756480"/>
            <a:chExt cx="848520" cy="583920"/>
          </a:xfrm>
        </p:grpSpPr>
        <p:sp>
          <p:nvSpPr>
            <p:cNvPr id="1028"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29"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0"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1"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032" name="Group 99"/>
          <p:cNvGrpSpPr/>
          <p:nvPr/>
        </p:nvGrpSpPr>
        <p:grpSpPr>
          <a:xfrm>
            <a:off x="3568680" y="3341160"/>
            <a:ext cx="812160" cy="586080"/>
            <a:chOff x="3568680" y="3341160"/>
            <a:chExt cx="812160" cy="586080"/>
          </a:xfrm>
        </p:grpSpPr>
        <p:sp>
          <p:nvSpPr>
            <p:cNvPr id="1033"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4"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5"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6"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37"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38"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39"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40"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41"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042"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043"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044"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045"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6"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7"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8"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9"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0"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1"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2"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3"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54"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055"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056"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057"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58"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59"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060"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061"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1062"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1063"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064"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5"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1066"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67"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68"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69"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070"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1"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2"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3"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074" name="Group 140"/>
          <p:cNvGrpSpPr/>
          <p:nvPr/>
        </p:nvGrpSpPr>
        <p:grpSpPr>
          <a:xfrm>
            <a:off x="6141960" y="7472160"/>
            <a:ext cx="228600" cy="609840"/>
            <a:chOff x="6141960" y="7472160"/>
            <a:chExt cx="228600" cy="609840"/>
          </a:xfrm>
        </p:grpSpPr>
        <p:sp>
          <p:nvSpPr>
            <p:cNvPr id="1075"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6"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7"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8"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9"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80"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81" name="Text Box 69"/>
          <p:cNvSpPr/>
          <p:nvPr/>
        </p:nvSpPr>
        <p:spPr>
          <a:xfrm>
            <a:off x="222408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082"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1083"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1084"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85"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1086"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1087" name="Group 109"/>
          <p:cNvGrpSpPr/>
          <p:nvPr/>
        </p:nvGrpSpPr>
        <p:grpSpPr>
          <a:xfrm>
            <a:off x="5618160" y="4379760"/>
            <a:ext cx="788400" cy="237600"/>
            <a:chOff x="5618160" y="4379760"/>
            <a:chExt cx="788400" cy="237600"/>
          </a:xfrm>
        </p:grpSpPr>
        <p:grpSp>
          <p:nvGrpSpPr>
            <p:cNvPr id="1088" name="Group 110"/>
            <p:cNvGrpSpPr/>
            <p:nvPr/>
          </p:nvGrpSpPr>
          <p:grpSpPr>
            <a:xfrm>
              <a:off x="5618160" y="4379760"/>
              <a:ext cx="788400" cy="59400"/>
              <a:chOff x="5618160" y="4379760"/>
              <a:chExt cx="788400" cy="59400"/>
            </a:xfrm>
          </p:grpSpPr>
          <p:sp>
            <p:nvSpPr>
              <p:cNvPr id="1089"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0"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091" name="Group 113"/>
            <p:cNvGrpSpPr/>
            <p:nvPr/>
          </p:nvGrpSpPr>
          <p:grpSpPr>
            <a:xfrm>
              <a:off x="5618160" y="4557960"/>
              <a:ext cx="788400" cy="59400"/>
              <a:chOff x="5618160" y="4557960"/>
              <a:chExt cx="788400" cy="59400"/>
            </a:xfrm>
          </p:grpSpPr>
          <p:sp>
            <p:nvSpPr>
              <p:cNvPr id="1092"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3"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094"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1095"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6"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7"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1098"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1099" name="Group 62"/>
          <p:cNvGrpSpPr/>
          <p:nvPr/>
        </p:nvGrpSpPr>
        <p:grpSpPr>
          <a:xfrm>
            <a:off x="6216480" y="2462040"/>
            <a:ext cx="152640" cy="228240"/>
            <a:chOff x="6216480" y="2462040"/>
            <a:chExt cx="152640" cy="228240"/>
          </a:xfrm>
        </p:grpSpPr>
        <p:sp>
          <p:nvSpPr>
            <p:cNvPr id="1100"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1"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02"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103"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104"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105"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106"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1107"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108"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109" name="Group 199"/>
          <p:cNvGrpSpPr/>
          <p:nvPr/>
        </p:nvGrpSpPr>
        <p:grpSpPr>
          <a:xfrm>
            <a:off x="1654920" y="8391600"/>
            <a:ext cx="629640" cy="46080"/>
            <a:chOff x="1654920" y="8391600"/>
            <a:chExt cx="629640" cy="46080"/>
          </a:xfrm>
        </p:grpSpPr>
        <p:sp>
          <p:nvSpPr>
            <p:cNvPr id="1110" name="Line 200"/>
            <p:cNvSpPr/>
            <p:nvPr/>
          </p:nvSpPr>
          <p:spPr>
            <a:xfrm>
              <a:off x="1654920" y="839160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1" name="Line 201"/>
            <p:cNvSpPr/>
            <p:nvPr/>
          </p:nvSpPr>
          <p:spPr>
            <a:xfrm>
              <a:off x="1654920" y="843768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12"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3"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4"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115"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1116"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117"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118"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19"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20"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1"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1122"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3"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4"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5"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126" name="Group 128"/>
          <p:cNvGrpSpPr/>
          <p:nvPr/>
        </p:nvGrpSpPr>
        <p:grpSpPr>
          <a:xfrm>
            <a:off x="2819520" y="3389040"/>
            <a:ext cx="159840" cy="500760"/>
            <a:chOff x="2819520" y="3389040"/>
            <a:chExt cx="159840" cy="500760"/>
          </a:xfrm>
        </p:grpSpPr>
        <p:grpSp>
          <p:nvGrpSpPr>
            <p:cNvPr id="1127" name="Group 129"/>
            <p:cNvGrpSpPr/>
            <p:nvPr/>
          </p:nvGrpSpPr>
          <p:grpSpPr>
            <a:xfrm>
              <a:off x="2819520" y="3389040"/>
              <a:ext cx="79200" cy="500760"/>
              <a:chOff x="2819520" y="3389040"/>
              <a:chExt cx="79200" cy="500760"/>
            </a:xfrm>
          </p:grpSpPr>
          <p:sp>
            <p:nvSpPr>
              <p:cNvPr id="1128"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9"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30" name="Group 132"/>
            <p:cNvGrpSpPr/>
            <p:nvPr/>
          </p:nvGrpSpPr>
          <p:grpSpPr>
            <a:xfrm>
              <a:off x="2899080" y="3389040"/>
              <a:ext cx="79920" cy="500760"/>
              <a:chOff x="2899080" y="3389040"/>
              <a:chExt cx="79920" cy="500760"/>
            </a:xfrm>
          </p:grpSpPr>
          <p:sp>
            <p:nvSpPr>
              <p:cNvPr id="1131"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2"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33"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4"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35" name="Group 128"/>
          <p:cNvGrpSpPr/>
          <p:nvPr/>
        </p:nvGrpSpPr>
        <p:grpSpPr>
          <a:xfrm>
            <a:off x="2819520" y="5108040"/>
            <a:ext cx="175680" cy="491760"/>
            <a:chOff x="2819520" y="5108040"/>
            <a:chExt cx="175680" cy="491760"/>
          </a:xfrm>
        </p:grpSpPr>
        <p:grpSp>
          <p:nvGrpSpPr>
            <p:cNvPr id="1136" name="Group 129"/>
            <p:cNvGrpSpPr/>
            <p:nvPr/>
          </p:nvGrpSpPr>
          <p:grpSpPr>
            <a:xfrm>
              <a:off x="2819520" y="5108040"/>
              <a:ext cx="87120" cy="491760"/>
              <a:chOff x="2819520" y="5108040"/>
              <a:chExt cx="87120" cy="491760"/>
            </a:xfrm>
          </p:grpSpPr>
          <p:sp>
            <p:nvSpPr>
              <p:cNvPr id="1137"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8"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39" name="Group 132"/>
            <p:cNvGrpSpPr/>
            <p:nvPr/>
          </p:nvGrpSpPr>
          <p:grpSpPr>
            <a:xfrm>
              <a:off x="2907000" y="5108040"/>
              <a:ext cx="87840" cy="491760"/>
              <a:chOff x="2907000" y="5108040"/>
              <a:chExt cx="87840" cy="491760"/>
            </a:xfrm>
          </p:grpSpPr>
          <p:sp>
            <p:nvSpPr>
              <p:cNvPr id="1140"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1"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42"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3"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44" name="Group 128"/>
          <p:cNvGrpSpPr/>
          <p:nvPr/>
        </p:nvGrpSpPr>
        <p:grpSpPr>
          <a:xfrm>
            <a:off x="4819680" y="5076720"/>
            <a:ext cx="175680" cy="491040"/>
            <a:chOff x="4819680" y="5076720"/>
            <a:chExt cx="175680" cy="491040"/>
          </a:xfrm>
        </p:grpSpPr>
        <p:grpSp>
          <p:nvGrpSpPr>
            <p:cNvPr id="1145" name="Group 129"/>
            <p:cNvGrpSpPr/>
            <p:nvPr/>
          </p:nvGrpSpPr>
          <p:grpSpPr>
            <a:xfrm>
              <a:off x="4819680" y="5076720"/>
              <a:ext cx="87120" cy="491040"/>
              <a:chOff x="4819680" y="5076720"/>
              <a:chExt cx="87120" cy="491040"/>
            </a:xfrm>
          </p:grpSpPr>
          <p:sp>
            <p:nvSpPr>
              <p:cNvPr id="1146"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7"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48" name="Group 132"/>
            <p:cNvGrpSpPr/>
            <p:nvPr/>
          </p:nvGrpSpPr>
          <p:grpSpPr>
            <a:xfrm>
              <a:off x="4907160" y="5076720"/>
              <a:ext cx="87840" cy="491040"/>
              <a:chOff x="4907160" y="5076720"/>
              <a:chExt cx="87840" cy="491040"/>
            </a:xfrm>
          </p:grpSpPr>
          <p:sp>
            <p:nvSpPr>
              <p:cNvPr id="1149"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0"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51"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2"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53"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1154"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1155"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6"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157"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8"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59"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160"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1"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162"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1163"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164"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1165"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6"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167"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8"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1169"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0"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1171" name="Group 176"/>
          <p:cNvGrpSpPr/>
          <p:nvPr/>
        </p:nvGrpSpPr>
        <p:grpSpPr>
          <a:xfrm>
            <a:off x="1638360" y="7424640"/>
            <a:ext cx="626760" cy="861480"/>
            <a:chOff x="1638360" y="7424640"/>
            <a:chExt cx="626760" cy="861480"/>
          </a:xfrm>
        </p:grpSpPr>
        <p:sp>
          <p:nvSpPr>
            <p:cNvPr id="1172"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3"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4"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5"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76" name="Group 176"/>
          <p:cNvGrpSpPr/>
          <p:nvPr/>
        </p:nvGrpSpPr>
        <p:grpSpPr>
          <a:xfrm>
            <a:off x="1582560" y="2273040"/>
            <a:ext cx="780840" cy="604800"/>
            <a:chOff x="1582560" y="2273040"/>
            <a:chExt cx="780840" cy="604800"/>
          </a:xfrm>
        </p:grpSpPr>
        <p:sp>
          <p:nvSpPr>
            <p:cNvPr id="1177"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8"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9"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0"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81"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82"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1183"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1184" name="Group 140"/>
          <p:cNvGrpSpPr/>
          <p:nvPr/>
        </p:nvGrpSpPr>
        <p:grpSpPr>
          <a:xfrm>
            <a:off x="4979880" y="1608120"/>
            <a:ext cx="362160" cy="133200"/>
            <a:chOff x="4979880" y="1608120"/>
            <a:chExt cx="362160" cy="133200"/>
          </a:xfrm>
        </p:grpSpPr>
        <p:sp>
          <p:nvSpPr>
            <p:cNvPr id="1185"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6"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7"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8"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189"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190"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91" name="Group 176"/>
          <p:cNvGrpSpPr/>
          <p:nvPr/>
        </p:nvGrpSpPr>
        <p:grpSpPr>
          <a:xfrm>
            <a:off x="3492360" y="7531200"/>
            <a:ext cx="857160" cy="704160"/>
            <a:chOff x="3492360" y="7531200"/>
            <a:chExt cx="857160" cy="704160"/>
          </a:xfrm>
        </p:grpSpPr>
        <p:sp>
          <p:nvSpPr>
            <p:cNvPr id="1192"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3"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4"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5"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96"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197"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1198" name="Group 199"/>
          <p:cNvGrpSpPr/>
          <p:nvPr/>
        </p:nvGrpSpPr>
        <p:grpSpPr>
          <a:xfrm>
            <a:off x="5607000" y="1336680"/>
            <a:ext cx="814680" cy="46080"/>
            <a:chOff x="5607000" y="1336680"/>
            <a:chExt cx="814680" cy="46080"/>
          </a:xfrm>
        </p:grpSpPr>
        <p:sp>
          <p:nvSpPr>
            <p:cNvPr id="1199"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0"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01"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02" name="Group 199"/>
          <p:cNvGrpSpPr/>
          <p:nvPr/>
        </p:nvGrpSpPr>
        <p:grpSpPr>
          <a:xfrm>
            <a:off x="3591720" y="1300320"/>
            <a:ext cx="778320" cy="45720"/>
            <a:chOff x="3591720" y="1300320"/>
            <a:chExt cx="778320" cy="45720"/>
          </a:xfrm>
        </p:grpSpPr>
        <p:sp>
          <p:nvSpPr>
            <p:cNvPr id="1203"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4"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05"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1206"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7"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208"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209"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1210"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1211" name="Group 62"/>
          <p:cNvGrpSpPr/>
          <p:nvPr/>
        </p:nvGrpSpPr>
        <p:grpSpPr>
          <a:xfrm>
            <a:off x="5665680" y="993600"/>
            <a:ext cx="152640" cy="228240"/>
            <a:chOff x="5665680" y="993600"/>
            <a:chExt cx="152640" cy="228240"/>
          </a:xfrm>
        </p:grpSpPr>
        <p:sp>
          <p:nvSpPr>
            <p:cNvPr id="1212"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3"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4"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15"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16"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217"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218"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9"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20"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221"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22"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223"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224"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225" name="Group 62"/>
          <p:cNvGrpSpPr/>
          <p:nvPr/>
        </p:nvGrpSpPr>
        <p:grpSpPr>
          <a:xfrm>
            <a:off x="2072880" y="2670120"/>
            <a:ext cx="151920" cy="228240"/>
            <a:chOff x="2072880" y="2670120"/>
            <a:chExt cx="151920" cy="228240"/>
          </a:xfrm>
        </p:grpSpPr>
        <p:sp>
          <p:nvSpPr>
            <p:cNvPr id="1226"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7"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28"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29"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30"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231"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232"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1233"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34"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235" name="Group 1"/>
          <p:cNvGrpSpPr/>
          <p:nvPr/>
        </p:nvGrpSpPr>
        <p:grpSpPr>
          <a:xfrm>
            <a:off x="5481720" y="5948280"/>
            <a:ext cx="457200" cy="596520"/>
            <a:chOff x="5481720" y="5948280"/>
            <a:chExt cx="457200" cy="596520"/>
          </a:xfrm>
        </p:grpSpPr>
        <p:sp>
          <p:nvSpPr>
            <p:cNvPr id="1236"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237"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238"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239"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1240"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41"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42" name="Group 176"/>
          <p:cNvGrpSpPr/>
          <p:nvPr/>
        </p:nvGrpSpPr>
        <p:grpSpPr>
          <a:xfrm>
            <a:off x="1582560" y="761760"/>
            <a:ext cx="607680" cy="633240"/>
            <a:chOff x="1582560" y="761760"/>
            <a:chExt cx="607680" cy="633240"/>
          </a:xfrm>
        </p:grpSpPr>
        <p:sp>
          <p:nvSpPr>
            <p:cNvPr id="1243"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44"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45"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1246"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1247"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48" name="Group 74"/>
          <p:cNvGrpSpPr/>
          <p:nvPr/>
        </p:nvGrpSpPr>
        <p:grpSpPr>
          <a:xfrm>
            <a:off x="2357280" y="6808680"/>
            <a:ext cx="276480" cy="496800"/>
            <a:chOff x="2357280" y="6808680"/>
            <a:chExt cx="276480" cy="496800"/>
          </a:xfrm>
        </p:grpSpPr>
        <p:sp>
          <p:nvSpPr>
            <p:cNvPr id="1249"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250"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51"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2"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3"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4"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5"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1256"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7"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258"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9"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1260"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261"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262"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1263" name="Group 74"/>
          <p:cNvGrpSpPr/>
          <p:nvPr/>
        </p:nvGrpSpPr>
        <p:grpSpPr>
          <a:xfrm>
            <a:off x="1612800" y="2930400"/>
            <a:ext cx="763200" cy="276480"/>
            <a:chOff x="1612800" y="2930400"/>
            <a:chExt cx="763200" cy="276480"/>
          </a:xfrm>
        </p:grpSpPr>
        <p:sp>
          <p:nvSpPr>
            <p:cNvPr id="1264"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265"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266" name="Group 74"/>
          <p:cNvGrpSpPr/>
          <p:nvPr/>
        </p:nvGrpSpPr>
        <p:grpSpPr>
          <a:xfrm>
            <a:off x="1574640" y="1298520"/>
            <a:ext cx="774360" cy="276480"/>
            <a:chOff x="1574640" y="1298520"/>
            <a:chExt cx="774360" cy="276480"/>
          </a:xfrm>
        </p:grpSpPr>
        <p:sp>
          <p:nvSpPr>
            <p:cNvPr id="1267"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268"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269" name="Group 173"/>
          <p:cNvGrpSpPr/>
          <p:nvPr/>
        </p:nvGrpSpPr>
        <p:grpSpPr>
          <a:xfrm>
            <a:off x="5989680" y="1405080"/>
            <a:ext cx="123840" cy="125280"/>
            <a:chOff x="5989680" y="1405080"/>
            <a:chExt cx="123840" cy="125280"/>
          </a:xfrm>
        </p:grpSpPr>
        <p:sp>
          <p:nvSpPr>
            <p:cNvPr id="1270"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1"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72" name="Group 173"/>
          <p:cNvGrpSpPr/>
          <p:nvPr/>
        </p:nvGrpSpPr>
        <p:grpSpPr>
          <a:xfrm>
            <a:off x="2862360" y="1828800"/>
            <a:ext cx="123840" cy="125280"/>
            <a:chOff x="2862360" y="1828800"/>
            <a:chExt cx="123840" cy="125280"/>
          </a:xfrm>
        </p:grpSpPr>
        <p:sp>
          <p:nvSpPr>
            <p:cNvPr id="1273"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4"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75" name="Group 173"/>
          <p:cNvGrpSpPr/>
          <p:nvPr/>
        </p:nvGrpSpPr>
        <p:grpSpPr>
          <a:xfrm>
            <a:off x="4118040" y="1428840"/>
            <a:ext cx="123840" cy="125280"/>
            <a:chOff x="4118040" y="1428840"/>
            <a:chExt cx="123840" cy="125280"/>
          </a:xfrm>
        </p:grpSpPr>
        <p:sp>
          <p:nvSpPr>
            <p:cNvPr id="1276"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7"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78" name="Group 173"/>
          <p:cNvGrpSpPr/>
          <p:nvPr/>
        </p:nvGrpSpPr>
        <p:grpSpPr>
          <a:xfrm>
            <a:off x="2193840" y="1459080"/>
            <a:ext cx="123840" cy="125280"/>
            <a:chOff x="2193840" y="1459080"/>
            <a:chExt cx="123840" cy="125280"/>
          </a:xfrm>
        </p:grpSpPr>
        <p:sp>
          <p:nvSpPr>
            <p:cNvPr id="1279"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0"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81" name="Group 173"/>
          <p:cNvGrpSpPr/>
          <p:nvPr/>
        </p:nvGrpSpPr>
        <p:grpSpPr>
          <a:xfrm>
            <a:off x="2527200" y="3621240"/>
            <a:ext cx="123840" cy="125280"/>
            <a:chOff x="2527200" y="3621240"/>
            <a:chExt cx="123840" cy="125280"/>
          </a:xfrm>
        </p:grpSpPr>
        <p:sp>
          <p:nvSpPr>
            <p:cNvPr id="1282"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3"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84" name="Group 173"/>
          <p:cNvGrpSpPr/>
          <p:nvPr/>
        </p:nvGrpSpPr>
        <p:grpSpPr>
          <a:xfrm>
            <a:off x="2158920" y="3147840"/>
            <a:ext cx="123840" cy="125640"/>
            <a:chOff x="2158920" y="3147840"/>
            <a:chExt cx="123840" cy="125640"/>
          </a:xfrm>
        </p:grpSpPr>
        <p:sp>
          <p:nvSpPr>
            <p:cNvPr id="1285"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6"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87" name="Group 173"/>
          <p:cNvGrpSpPr/>
          <p:nvPr/>
        </p:nvGrpSpPr>
        <p:grpSpPr>
          <a:xfrm>
            <a:off x="3830760" y="8809200"/>
            <a:ext cx="123840" cy="125280"/>
            <a:chOff x="3830760" y="8809200"/>
            <a:chExt cx="123840" cy="125280"/>
          </a:xfrm>
        </p:grpSpPr>
        <p:sp>
          <p:nvSpPr>
            <p:cNvPr id="1288"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9"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0" name="Group 173"/>
          <p:cNvGrpSpPr/>
          <p:nvPr/>
        </p:nvGrpSpPr>
        <p:grpSpPr>
          <a:xfrm>
            <a:off x="3747960" y="6519960"/>
            <a:ext cx="123840" cy="125280"/>
            <a:chOff x="3747960" y="6519960"/>
            <a:chExt cx="123840" cy="125280"/>
          </a:xfrm>
        </p:grpSpPr>
        <p:sp>
          <p:nvSpPr>
            <p:cNvPr id="1291"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2"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3" name="Group 173"/>
          <p:cNvGrpSpPr/>
          <p:nvPr/>
        </p:nvGrpSpPr>
        <p:grpSpPr>
          <a:xfrm>
            <a:off x="5996160" y="3166920"/>
            <a:ext cx="123480" cy="125640"/>
            <a:chOff x="5996160" y="3166920"/>
            <a:chExt cx="123480" cy="125640"/>
          </a:xfrm>
        </p:grpSpPr>
        <p:sp>
          <p:nvSpPr>
            <p:cNvPr id="1294"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5"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6" name="Group 173"/>
          <p:cNvGrpSpPr/>
          <p:nvPr/>
        </p:nvGrpSpPr>
        <p:grpSpPr>
          <a:xfrm>
            <a:off x="3935520" y="3051000"/>
            <a:ext cx="125280" cy="125640"/>
            <a:chOff x="3935520" y="3051000"/>
            <a:chExt cx="125280" cy="125640"/>
          </a:xfrm>
        </p:grpSpPr>
        <p:sp>
          <p:nvSpPr>
            <p:cNvPr id="1297"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8"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9" name="Group 173"/>
          <p:cNvGrpSpPr/>
          <p:nvPr/>
        </p:nvGrpSpPr>
        <p:grpSpPr>
          <a:xfrm>
            <a:off x="5983200" y="1071720"/>
            <a:ext cx="123840" cy="125280"/>
            <a:chOff x="5983200" y="1071720"/>
            <a:chExt cx="123840" cy="125280"/>
          </a:xfrm>
        </p:grpSpPr>
        <p:sp>
          <p:nvSpPr>
            <p:cNvPr id="1300"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1"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02" name="Group 173"/>
          <p:cNvGrpSpPr/>
          <p:nvPr/>
        </p:nvGrpSpPr>
        <p:grpSpPr>
          <a:xfrm>
            <a:off x="3855960" y="5272200"/>
            <a:ext cx="123840" cy="125280"/>
            <a:chOff x="3855960" y="5272200"/>
            <a:chExt cx="123840" cy="125280"/>
          </a:xfrm>
        </p:grpSpPr>
        <p:sp>
          <p:nvSpPr>
            <p:cNvPr id="1303"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4"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05" name="Group 173"/>
          <p:cNvGrpSpPr/>
          <p:nvPr/>
        </p:nvGrpSpPr>
        <p:grpSpPr>
          <a:xfrm>
            <a:off x="1779480" y="5286240"/>
            <a:ext cx="123840" cy="125640"/>
            <a:chOff x="1779480" y="5286240"/>
            <a:chExt cx="123840" cy="125640"/>
          </a:xfrm>
        </p:grpSpPr>
        <p:sp>
          <p:nvSpPr>
            <p:cNvPr id="1306"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7"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08" name="Group 173"/>
          <p:cNvGrpSpPr/>
          <p:nvPr/>
        </p:nvGrpSpPr>
        <p:grpSpPr>
          <a:xfrm>
            <a:off x="3892680" y="8381880"/>
            <a:ext cx="123840" cy="125640"/>
            <a:chOff x="3892680" y="8381880"/>
            <a:chExt cx="123840" cy="125640"/>
          </a:xfrm>
        </p:grpSpPr>
        <p:sp>
          <p:nvSpPr>
            <p:cNvPr id="1309"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0"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11" name="Group 173"/>
          <p:cNvGrpSpPr/>
          <p:nvPr/>
        </p:nvGrpSpPr>
        <p:grpSpPr>
          <a:xfrm>
            <a:off x="5170320" y="6962760"/>
            <a:ext cx="123840" cy="125280"/>
            <a:chOff x="5170320" y="6962760"/>
            <a:chExt cx="123840" cy="125280"/>
          </a:xfrm>
        </p:grpSpPr>
        <p:sp>
          <p:nvSpPr>
            <p:cNvPr id="1312"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3"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14" name="Group 173"/>
          <p:cNvGrpSpPr/>
          <p:nvPr/>
        </p:nvGrpSpPr>
        <p:grpSpPr>
          <a:xfrm>
            <a:off x="2303640" y="7164360"/>
            <a:ext cx="123480" cy="125280"/>
            <a:chOff x="2303640" y="7164360"/>
            <a:chExt cx="123480" cy="125280"/>
          </a:xfrm>
        </p:grpSpPr>
        <p:sp>
          <p:nvSpPr>
            <p:cNvPr id="1315"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6"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17" name="Group 173"/>
          <p:cNvGrpSpPr/>
          <p:nvPr/>
        </p:nvGrpSpPr>
        <p:grpSpPr>
          <a:xfrm>
            <a:off x="5932440" y="6962760"/>
            <a:ext cx="125640" cy="125280"/>
            <a:chOff x="5932440" y="6962760"/>
            <a:chExt cx="125640" cy="125280"/>
          </a:xfrm>
        </p:grpSpPr>
        <p:sp>
          <p:nvSpPr>
            <p:cNvPr id="1318"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9"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20" name="Group 199"/>
          <p:cNvGrpSpPr/>
          <p:nvPr/>
        </p:nvGrpSpPr>
        <p:grpSpPr>
          <a:xfrm>
            <a:off x="3485160" y="8313840"/>
            <a:ext cx="861120" cy="46080"/>
            <a:chOff x="3485160" y="8313840"/>
            <a:chExt cx="861120" cy="46080"/>
          </a:xfrm>
        </p:grpSpPr>
        <p:sp>
          <p:nvSpPr>
            <p:cNvPr id="1321"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22"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323" name="Group 199"/>
          <p:cNvGrpSpPr/>
          <p:nvPr/>
        </p:nvGrpSpPr>
        <p:grpSpPr>
          <a:xfrm>
            <a:off x="5569560" y="7908840"/>
            <a:ext cx="821520" cy="46080"/>
            <a:chOff x="5569560" y="7908840"/>
            <a:chExt cx="821520" cy="46080"/>
          </a:xfrm>
        </p:grpSpPr>
        <p:sp>
          <p:nvSpPr>
            <p:cNvPr id="1324" name="Line 200"/>
            <p:cNvSpPr/>
            <p:nvPr/>
          </p:nvSpPr>
          <p:spPr>
            <a:xfrm>
              <a:off x="5569560" y="79088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25" name="Line 201"/>
            <p:cNvSpPr/>
            <p:nvPr/>
          </p:nvSpPr>
          <p:spPr>
            <a:xfrm>
              <a:off x="5569560" y="795492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26"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327"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1328" name="Group 74"/>
          <p:cNvGrpSpPr/>
          <p:nvPr/>
        </p:nvGrpSpPr>
        <p:grpSpPr>
          <a:xfrm>
            <a:off x="3556080" y="4576680"/>
            <a:ext cx="806040" cy="276480"/>
            <a:chOff x="3556080" y="4576680"/>
            <a:chExt cx="806040" cy="276480"/>
          </a:xfrm>
        </p:grpSpPr>
        <p:sp>
          <p:nvSpPr>
            <p:cNvPr id="1329"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330"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331" name="Group 173"/>
          <p:cNvGrpSpPr/>
          <p:nvPr/>
        </p:nvGrpSpPr>
        <p:grpSpPr>
          <a:xfrm>
            <a:off x="3892680" y="4902120"/>
            <a:ext cx="123840" cy="125640"/>
            <a:chOff x="3892680" y="4902120"/>
            <a:chExt cx="123840" cy="125640"/>
          </a:xfrm>
        </p:grpSpPr>
        <p:sp>
          <p:nvSpPr>
            <p:cNvPr id="1332"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3"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34"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335"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336" name="Group 1"/>
          <p:cNvGrpSpPr/>
          <p:nvPr/>
        </p:nvGrpSpPr>
        <p:grpSpPr>
          <a:xfrm>
            <a:off x="3463920" y="4003560"/>
            <a:ext cx="457200" cy="596520"/>
            <a:chOff x="3463920" y="4003560"/>
            <a:chExt cx="457200" cy="596520"/>
          </a:xfrm>
        </p:grpSpPr>
        <p:sp>
          <p:nvSpPr>
            <p:cNvPr id="1337"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338"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339"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340"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1341" name="Group 57"/>
          <p:cNvGrpSpPr/>
          <p:nvPr/>
        </p:nvGrpSpPr>
        <p:grpSpPr>
          <a:xfrm>
            <a:off x="3967200" y="2808360"/>
            <a:ext cx="63360" cy="194760"/>
            <a:chOff x="3967200" y="2808360"/>
            <a:chExt cx="63360" cy="194760"/>
          </a:xfrm>
        </p:grpSpPr>
        <p:sp>
          <p:nvSpPr>
            <p:cNvPr id="1342"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3"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44"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345"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346" name="Group 57"/>
          <p:cNvGrpSpPr/>
          <p:nvPr/>
        </p:nvGrpSpPr>
        <p:grpSpPr>
          <a:xfrm>
            <a:off x="1973160" y="1125000"/>
            <a:ext cx="195480" cy="64080"/>
            <a:chOff x="1973160" y="1125000"/>
            <a:chExt cx="195480" cy="64080"/>
          </a:xfrm>
        </p:grpSpPr>
        <p:sp>
          <p:nvSpPr>
            <p:cNvPr id="1347"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8"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49"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350"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1351" name="Group 57"/>
          <p:cNvGrpSpPr/>
          <p:nvPr/>
        </p:nvGrpSpPr>
        <p:grpSpPr>
          <a:xfrm>
            <a:off x="5765400" y="2446200"/>
            <a:ext cx="64080" cy="195480"/>
            <a:chOff x="5765400" y="2446200"/>
            <a:chExt cx="64080" cy="195480"/>
          </a:xfrm>
        </p:grpSpPr>
        <p:sp>
          <p:nvSpPr>
            <p:cNvPr id="1352"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3"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54"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1355"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1356" name="Group 57"/>
          <p:cNvGrpSpPr/>
          <p:nvPr/>
        </p:nvGrpSpPr>
        <p:grpSpPr>
          <a:xfrm>
            <a:off x="3596760" y="4218120"/>
            <a:ext cx="64080" cy="194760"/>
            <a:chOff x="3596760" y="4218120"/>
            <a:chExt cx="64080" cy="194760"/>
          </a:xfrm>
        </p:grpSpPr>
        <p:sp>
          <p:nvSpPr>
            <p:cNvPr id="1357"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8"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59"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360"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361" name="Group 62"/>
          <p:cNvGrpSpPr/>
          <p:nvPr/>
        </p:nvGrpSpPr>
        <p:grpSpPr>
          <a:xfrm>
            <a:off x="4046400" y="4238640"/>
            <a:ext cx="152640" cy="228240"/>
            <a:chOff x="4046400" y="4238640"/>
            <a:chExt cx="152640" cy="228240"/>
          </a:xfrm>
        </p:grpSpPr>
        <p:sp>
          <p:nvSpPr>
            <p:cNvPr id="1362"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3"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64"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65"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66"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367"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368"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1369"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1370" name="Group 173"/>
          <p:cNvGrpSpPr/>
          <p:nvPr/>
        </p:nvGrpSpPr>
        <p:grpSpPr>
          <a:xfrm>
            <a:off x="5913360" y="8271000"/>
            <a:ext cx="123840" cy="125280"/>
            <a:chOff x="5913360" y="8271000"/>
            <a:chExt cx="123840" cy="125280"/>
          </a:xfrm>
        </p:grpSpPr>
        <p:sp>
          <p:nvSpPr>
            <p:cNvPr id="1371"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2"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73"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1374"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5"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376"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7"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1378"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379"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80"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1381" name="Group 173"/>
          <p:cNvGrpSpPr/>
          <p:nvPr/>
        </p:nvGrpSpPr>
        <p:grpSpPr>
          <a:xfrm>
            <a:off x="1838160" y="4843440"/>
            <a:ext cx="123840" cy="125280"/>
            <a:chOff x="1838160" y="4843440"/>
            <a:chExt cx="123840" cy="125280"/>
          </a:xfrm>
        </p:grpSpPr>
        <p:sp>
          <p:nvSpPr>
            <p:cNvPr id="1382"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3"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84"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385"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386"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87"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388"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1389"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390"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391"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92"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393" name="AutoShape 195"/>
          <p:cNvSpPr/>
          <p:nvPr/>
        </p:nvSpPr>
        <p:spPr>
          <a:xfrm rot="10800000">
            <a:off x="4719600" y="873252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4" name="AutoShape 195"/>
          <p:cNvSpPr/>
          <p:nvPr/>
        </p:nvSpPr>
        <p:spPr>
          <a:xfrm rot="10800000">
            <a:off x="2671920" y="87642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5" name="AutoShape 195"/>
          <p:cNvSpPr/>
          <p:nvPr/>
        </p:nvSpPr>
        <p:spPr>
          <a:xfrm rot="5400000">
            <a:off x="3722760" y="92217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6" name="AutoShape 195"/>
          <p:cNvSpPr/>
          <p:nvPr/>
        </p:nvSpPr>
        <p:spPr>
          <a:xfrm rot="16200000">
            <a:off x="5729400" y="92217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397" name="Group 173"/>
          <p:cNvGrpSpPr/>
          <p:nvPr/>
        </p:nvGrpSpPr>
        <p:grpSpPr>
          <a:xfrm>
            <a:off x="4575240" y="1801800"/>
            <a:ext cx="123840" cy="125280"/>
            <a:chOff x="4575240" y="1801800"/>
            <a:chExt cx="123840" cy="125280"/>
          </a:xfrm>
        </p:grpSpPr>
        <p:sp>
          <p:nvSpPr>
            <p:cNvPr id="1398"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9"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00"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401"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02"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03" name="Group 173"/>
          <p:cNvGrpSpPr/>
          <p:nvPr/>
        </p:nvGrpSpPr>
        <p:grpSpPr>
          <a:xfrm>
            <a:off x="5710320" y="2098800"/>
            <a:ext cx="123840" cy="125280"/>
            <a:chOff x="5710320" y="2098800"/>
            <a:chExt cx="123840" cy="125280"/>
          </a:xfrm>
        </p:grpSpPr>
        <p:sp>
          <p:nvSpPr>
            <p:cNvPr id="1404"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5"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406" name="Group 74"/>
          <p:cNvGrpSpPr/>
          <p:nvPr/>
        </p:nvGrpSpPr>
        <p:grpSpPr>
          <a:xfrm>
            <a:off x="5611680" y="2143080"/>
            <a:ext cx="787320" cy="276480"/>
            <a:chOff x="5611680" y="2143080"/>
            <a:chExt cx="787320" cy="276480"/>
          </a:xfrm>
        </p:grpSpPr>
        <p:sp>
          <p:nvSpPr>
            <p:cNvPr id="1407"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408"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09"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410"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11" name="Group 173"/>
          <p:cNvGrpSpPr/>
          <p:nvPr/>
        </p:nvGrpSpPr>
        <p:grpSpPr>
          <a:xfrm>
            <a:off x="4068720" y="4546440"/>
            <a:ext cx="123840" cy="125640"/>
            <a:chOff x="4068720" y="4546440"/>
            <a:chExt cx="123840" cy="125640"/>
          </a:xfrm>
        </p:grpSpPr>
        <p:sp>
          <p:nvSpPr>
            <p:cNvPr id="1412"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3"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14"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15" name="Group 1"/>
          <p:cNvGrpSpPr/>
          <p:nvPr/>
        </p:nvGrpSpPr>
        <p:grpSpPr>
          <a:xfrm>
            <a:off x="1496880" y="3952800"/>
            <a:ext cx="457200" cy="596520"/>
            <a:chOff x="1496880" y="3952800"/>
            <a:chExt cx="457200" cy="596520"/>
          </a:xfrm>
        </p:grpSpPr>
        <p:sp>
          <p:nvSpPr>
            <p:cNvPr id="1416"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417"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418"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419"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420"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421"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22" name="Text Box 69"/>
          <p:cNvSpPr/>
          <p:nvPr/>
        </p:nvSpPr>
        <p:spPr>
          <a:xfrm>
            <a:off x="6373800" y="8672400"/>
            <a:ext cx="1300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t>
            </a:r>
            <a:endParaRPr b="0" lang="en-US" sz="800" spc="-1" strike="noStrike">
              <a:solidFill>
                <a:srgbClr val="000000"/>
              </a:solidFill>
              <a:latin typeface="Arial"/>
            </a:endParaRPr>
          </a:p>
        </p:txBody>
      </p:sp>
      <p:grpSp>
        <p:nvGrpSpPr>
          <p:cNvPr id="1423" name="Group 173"/>
          <p:cNvGrpSpPr/>
          <p:nvPr/>
        </p:nvGrpSpPr>
        <p:grpSpPr>
          <a:xfrm>
            <a:off x="3191040" y="3629160"/>
            <a:ext cx="123840" cy="125280"/>
            <a:chOff x="3191040" y="3629160"/>
            <a:chExt cx="123840" cy="125280"/>
          </a:xfrm>
        </p:grpSpPr>
        <p:sp>
          <p:nvSpPr>
            <p:cNvPr id="1424"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5"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26"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27"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428"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429"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30" name="Group 173"/>
          <p:cNvGrpSpPr/>
          <p:nvPr/>
        </p:nvGrpSpPr>
        <p:grpSpPr>
          <a:xfrm>
            <a:off x="5932440" y="6226200"/>
            <a:ext cx="125640" cy="125280"/>
            <a:chOff x="5932440" y="6226200"/>
            <a:chExt cx="125640" cy="125280"/>
          </a:xfrm>
        </p:grpSpPr>
        <p:sp>
          <p:nvSpPr>
            <p:cNvPr id="1431"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2"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33"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434"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35" name="Group 173"/>
          <p:cNvGrpSpPr/>
          <p:nvPr/>
        </p:nvGrpSpPr>
        <p:grpSpPr>
          <a:xfrm>
            <a:off x="5938920" y="5651640"/>
            <a:ext cx="123840" cy="125280"/>
            <a:chOff x="5938920" y="5651640"/>
            <a:chExt cx="123840" cy="125280"/>
          </a:xfrm>
        </p:grpSpPr>
        <p:sp>
          <p:nvSpPr>
            <p:cNvPr id="1436"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7"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38"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grpSp>
        <p:nvGrpSpPr>
          <p:cNvPr id="1439" name="Group 173"/>
          <p:cNvGrpSpPr/>
          <p:nvPr/>
        </p:nvGrpSpPr>
        <p:grpSpPr>
          <a:xfrm>
            <a:off x="5856120" y="3581280"/>
            <a:ext cx="123840" cy="125640"/>
            <a:chOff x="5856120" y="3581280"/>
            <a:chExt cx="123840" cy="125640"/>
          </a:xfrm>
        </p:grpSpPr>
        <p:sp>
          <p:nvSpPr>
            <p:cNvPr id="1440"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1"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42"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43"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444"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445"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446"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47"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1448" name="Group 173"/>
          <p:cNvGrpSpPr/>
          <p:nvPr/>
        </p:nvGrpSpPr>
        <p:grpSpPr>
          <a:xfrm>
            <a:off x="2208240" y="1292400"/>
            <a:ext cx="123840" cy="125280"/>
            <a:chOff x="2208240" y="1292400"/>
            <a:chExt cx="123840" cy="125280"/>
          </a:xfrm>
        </p:grpSpPr>
        <p:sp>
          <p:nvSpPr>
            <p:cNvPr id="1449"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0"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51"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1452"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453"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54"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455" name="Group 173"/>
          <p:cNvGrpSpPr/>
          <p:nvPr/>
        </p:nvGrpSpPr>
        <p:grpSpPr>
          <a:xfrm>
            <a:off x="2673360" y="7034040"/>
            <a:ext cx="123840" cy="125640"/>
            <a:chOff x="2673360" y="7034040"/>
            <a:chExt cx="123840" cy="125640"/>
          </a:xfrm>
        </p:grpSpPr>
        <p:sp>
          <p:nvSpPr>
            <p:cNvPr id="1456"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7"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58"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459" name="Group 62"/>
          <p:cNvGrpSpPr/>
          <p:nvPr/>
        </p:nvGrpSpPr>
        <p:grpSpPr>
          <a:xfrm>
            <a:off x="2514240" y="6934320"/>
            <a:ext cx="151920" cy="228240"/>
            <a:chOff x="2514240" y="6934320"/>
            <a:chExt cx="151920" cy="228240"/>
          </a:xfrm>
        </p:grpSpPr>
        <p:sp>
          <p:nvSpPr>
            <p:cNvPr id="1460"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1"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62"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463"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464"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465"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466"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67"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1468"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469"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470"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2"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1473"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474"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5"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6"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7"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8"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1479"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0"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1"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2"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3"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4"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5"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6"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7"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8"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9"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0"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1"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2"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3" name="Text Box 38"/>
          <p:cNvSpPr/>
          <p:nvPr/>
        </p:nvSpPr>
        <p:spPr>
          <a:xfrm>
            <a:off x="1541520" y="173160"/>
            <a:ext cx="485928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ECOND VENTILATION</a:t>
            </a:r>
            <a:endParaRPr b="0" lang="en-US" sz="1600" spc="-1" strike="noStrike">
              <a:solidFill>
                <a:srgbClr val="000000"/>
              </a:solidFill>
              <a:latin typeface="Arial"/>
            </a:endParaRPr>
          </a:p>
        </p:txBody>
      </p:sp>
      <p:grpSp>
        <p:nvGrpSpPr>
          <p:cNvPr id="1494" name="Group 99"/>
          <p:cNvGrpSpPr/>
          <p:nvPr/>
        </p:nvGrpSpPr>
        <p:grpSpPr>
          <a:xfrm>
            <a:off x="3503520" y="6756480"/>
            <a:ext cx="848520" cy="583920"/>
            <a:chOff x="3503520" y="6756480"/>
            <a:chExt cx="848520" cy="583920"/>
          </a:xfrm>
        </p:grpSpPr>
        <p:sp>
          <p:nvSpPr>
            <p:cNvPr id="1495"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6"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7"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8"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499" name="Group 99"/>
          <p:cNvGrpSpPr/>
          <p:nvPr/>
        </p:nvGrpSpPr>
        <p:grpSpPr>
          <a:xfrm>
            <a:off x="3568680" y="3341160"/>
            <a:ext cx="812160" cy="586080"/>
            <a:chOff x="3568680" y="3341160"/>
            <a:chExt cx="812160" cy="586080"/>
          </a:xfrm>
        </p:grpSpPr>
        <p:sp>
          <p:nvSpPr>
            <p:cNvPr id="1500"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1"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2"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3"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04"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5"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6"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7"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8"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509"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510"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511" name="Text Box 69"/>
          <p:cNvSpPr/>
          <p:nvPr/>
        </p:nvSpPr>
        <p:spPr>
          <a:xfrm>
            <a:off x="4305240" y="6595920"/>
            <a:ext cx="654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512"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3"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4"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5"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6"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7"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8"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9"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20"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21"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522"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523"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524"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5"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6"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527"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528"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1529"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1530"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531"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2"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1533"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34"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35"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36"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537"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8"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9"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0"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541" name="Group 140"/>
          <p:cNvGrpSpPr/>
          <p:nvPr/>
        </p:nvGrpSpPr>
        <p:grpSpPr>
          <a:xfrm>
            <a:off x="6141960" y="7472160"/>
            <a:ext cx="228600" cy="609840"/>
            <a:chOff x="6141960" y="7472160"/>
            <a:chExt cx="228600" cy="609840"/>
          </a:xfrm>
        </p:grpSpPr>
        <p:sp>
          <p:nvSpPr>
            <p:cNvPr id="1542"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3"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4"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5"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6"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7"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48"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549"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1550"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1551"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2"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1553"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1554" name="Group 109"/>
          <p:cNvGrpSpPr/>
          <p:nvPr/>
        </p:nvGrpSpPr>
        <p:grpSpPr>
          <a:xfrm>
            <a:off x="5618160" y="4379760"/>
            <a:ext cx="788400" cy="237600"/>
            <a:chOff x="5618160" y="4379760"/>
            <a:chExt cx="788400" cy="237600"/>
          </a:xfrm>
        </p:grpSpPr>
        <p:grpSp>
          <p:nvGrpSpPr>
            <p:cNvPr id="1555" name="Group 110"/>
            <p:cNvGrpSpPr/>
            <p:nvPr/>
          </p:nvGrpSpPr>
          <p:grpSpPr>
            <a:xfrm>
              <a:off x="5618160" y="4379760"/>
              <a:ext cx="788400" cy="59400"/>
              <a:chOff x="5618160" y="4379760"/>
              <a:chExt cx="788400" cy="59400"/>
            </a:xfrm>
          </p:grpSpPr>
          <p:sp>
            <p:nvSpPr>
              <p:cNvPr id="1556"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7"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558" name="Group 113"/>
            <p:cNvGrpSpPr/>
            <p:nvPr/>
          </p:nvGrpSpPr>
          <p:grpSpPr>
            <a:xfrm>
              <a:off x="5618160" y="4557960"/>
              <a:ext cx="788400" cy="59400"/>
              <a:chOff x="5618160" y="4557960"/>
              <a:chExt cx="788400" cy="59400"/>
            </a:xfrm>
          </p:grpSpPr>
          <p:sp>
            <p:nvSpPr>
              <p:cNvPr id="1559"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0"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61"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1562"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3"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4"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1565"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1566" name="Group 62"/>
          <p:cNvGrpSpPr/>
          <p:nvPr/>
        </p:nvGrpSpPr>
        <p:grpSpPr>
          <a:xfrm>
            <a:off x="6216480" y="2462040"/>
            <a:ext cx="152640" cy="228240"/>
            <a:chOff x="6216480" y="2462040"/>
            <a:chExt cx="152640" cy="228240"/>
          </a:xfrm>
        </p:grpSpPr>
        <p:sp>
          <p:nvSpPr>
            <p:cNvPr id="1567"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8"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9"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570"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571"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572"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573"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1574"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575"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6"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7"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8"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579"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1580"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581"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582"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83"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84"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5"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1586"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7"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8"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9"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590" name="Group 128"/>
          <p:cNvGrpSpPr/>
          <p:nvPr/>
        </p:nvGrpSpPr>
        <p:grpSpPr>
          <a:xfrm>
            <a:off x="2819520" y="3389040"/>
            <a:ext cx="159840" cy="500760"/>
            <a:chOff x="2819520" y="3389040"/>
            <a:chExt cx="159840" cy="500760"/>
          </a:xfrm>
        </p:grpSpPr>
        <p:grpSp>
          <p:nvGrpSpPr>
            <p:cNvPr id="1591" name="Group 129"/>
            <p:cNvGrpSpPr/>
            <p:nvPr/>
          </p:nvGrpSpPr>
          <p:grpSpPr>
            <a:xfrm>
              <a:off x="2819520" y="3389040"/>
              <a:ext cx="79200" cy="500760"/>
              <a:chOff x="2819520" y="3389040"/>
              <a:chExt cx="79200" cy="500760"/>
            </a:xfrm>
          </p:grpSpPr>
          <p:sp>
            <p:nvSpPr>
              <p:cNvPr id="1592"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3"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594" name="Group 132"/>
            <p:cNvGrpSpPr/>
            <p:nvPr/>
          </p:nvGrpSpPr>
          <p:grpSpPr>
            <a:xfrm>
              <a:off x="2899080" y="3389040"/>
              <a:ext cx="79920" cy="500760"/>
              <a:chOff x="2899080" y="3389040"/>
              <a:chExt cx="79920" cy="500760"/>
            </a:xfrm>
          </p:grpSpPr>
          <p:sp>
            <p:nvSpPr>
              <p:cNvPr id="1595"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6"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97"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8"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599" name="Group 128"/>
          <p:cNvGrpSpPr/>
          <p:nvPr/>
        </p:nvGrpSpPr>
        <p:grpSpPr>
          <a:xfrm>
            <a:off x="2819520" y="5108040"/>
            <a:ext cx="175680" cy="491760"/>
            <a:chOff x="2819520" y="5108040"/>
            <a:chExt cx="175680" cy="491760"/>
          </a:xfrm>
        </p:grpSpPr>
        <p:grpSp>
          <p:nvGrpSpPr>
            <p:cNvPr id="1600" name="Group 129"/>
            <p:cNvGrpSpPr/>
            <p:nvPr/>
          </p:nvGrpSpPr>
          <p:grpSpPr>
            <a:xfrm>
              <a:off x="2819520" y="5108040"/>
              <a:ext cx="87120" cy="491760"/>
              <a:chOff x="2819520" y="5108040"/>
              <a:chExt cx="87120" cy="491760"/>
            </a:xfrm>
          </p:grpSpPr>
          <p:sp>
            <p:nvSpPr>
              <p:cNvPr id="1601"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2"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03" name="Group 132"/>
            <p:cNvGrpSpPr/>
            <p:nvPr/>
          </p:nvGrpSpPr>
          <p:grpSpPr>
            <a:xfrm>
              <a:off x="2907000" y="5108040"/>
              <a:ext cx="87840" cy="491760"/>
              <a:chOff x="2907000" y="5108040"/>
              <a:chExt cx="87840" cy="491760"/>
            </a:xfrm>
          </p:grpSpPr>
          <p:sp>
            <p:nvSpPr>
              <p:cNvPr id="1604"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5"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06"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7"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08" name="Group 128"/>
          <p:cNvGrpSpPr/>
          <p:nvPr/>
        </p:nvGrpSpPr>
        <p:grpSpPr>
          <a:xfrm>
            <a:off x="4819680" y="5076720"/>
            <a:ext cx="175680" cy="491040"/>
            <a:chOff x="4819680" y="5076720"/>
            <a:chExt cx="175680" cy="491040"/>
          </a:xfrm>
        </p:grpSpPr>
        <p:grpSp>
          <p:nvGrpSpPr>
            <p:cNvPr id="1609" name="Group 129"/>
            <p:cNvGrpSpPr/>
            <p:nvPr/>
          </p:nvGrpSpPr>
          <p:grpSpPr>
            <a:xfrm>
              <a:off x="4819680" y="5076720"/>
              <a:ext cx="87120" cy="491040"/>
              <a:chOff x="4819680" y="5076720"/>
              <a:chExt cx="87120" cy="491040"/>
            </a:xfrm>
          </p:grpSpPr>
          <p:sp>
            <p:nvSpPr>
              <p:cNvPr id="1610"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11"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12" name="Group 132"/>
            <p:cNvGrpSpPr/>
            <p:nvPr/>
          </p:nvGrpSpPr>
          <p:grpSpPr>
            <a:xfrm>
              <a:off x="4907160" y="5076720"/>
              <a:ext cx="87840" cy="491040"/>
              <a:chOff x="4907160" y="5076720"/>
              <a:chExt cx="87840" cy="491040"/>
            </a:xfrm>
          </p:grpSpPr>
          <p:sp>
            <p:nvSpPr>
              <p:cNvPr id="1613"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14"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15"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16"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17"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1618"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1619"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0"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621"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2" name="Line 3"/>
          <p:cNvSpPr/>
          <p:nvPr/>
        </p:nvSpPr>
        <p:spPr>
          <a:xfrm flipV="1">
            <a:off x="2004840" y="9118440"/>
            <a:ext cx="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3" name="Line 3"/>
          <p:cNvSpPr/>
          <p:nvPr/>
        </p:nvSpPr>
        <p:spPr>
          <a:xfrm flipV="1">
            <a:off x="4776840" y="8775720"/>
            <a:ext cx="374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624" name="Line 3"/>
          <p:cNvSpPr/>
          <p:nvPr/>
        </p:nvSpPr>
        <p:spPr>
          <a:xfrm>
            <a:off x="1297080" y="8769240"/>
            <a:ext cx="2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5" name="Line 3"/>
          <p:cNvSpPr/>
          <p:nvPr/>
        </p:nvSpPr>
        <p:spPr>
          <a:xfrm>
            <a:off x="5937120" y="9118440"/>
            <a:ext cx="972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6" name="Line 3"/>
          <p:cNvSpPr/>
          <p:nvPr/>
        </p:nvSpPr>
        <p:spPr>
          <a:xfrm flipV="1">
            <a:off x="3951360" y="90853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7"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628"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629"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0"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631"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1632"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633"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1634"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5"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636"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7"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1638"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9"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1640" name="Group 176"/>
          <p:cNvGrpSpPr/>
          <p:nvPr/>
        </p:nvGrpSpPr>
        <p:grpSpPr>
          <a:xfrm>
            <a:off x="1638360" y="7424640"/>
            <a:ext cx="626760" cy="861480"/>
            <a:chOff x="1638360" y="7424640"/>
            <a:chExt cx="626760" cy="861480"/>
          </a:xfrm>
        </p:grpSpPr>
        <p:sp>
          <p:nvSpPr>
            <p:cNvPr id="1641"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2"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3"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4"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45" name="Group 176"/>
          <p:cNvGrpSpPr/>
          <p:nvPr/>
        </p:nvGrpSpPr>
        <p:grpSpPr>
          <a:xfrm>
            <a:off x="1582560" y="2273040"/>
            <a:ext cx="780840" cy="604800"/>
            <a:chOff x="1582560" y="2273040"/>
            <a:chExt cx="780840" cy="604800"/>
          </a:xfrm>
        </p:grpSpPr>
        <p:sp>
          <p:nvSpPr>
            <p:cNvPr id="1646"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7"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8"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9"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50"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651"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1652"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1653" name="Group 140"/>
          <p:cNvGrpSpPr/>
          <p:nvPr/>
        </p:nvGrpSpPr>
        <p:grpSpPr>
          <a:xfrm>
            <a:off x="4979880" y="1608120"/>
            <a:ext cx="362160" cy="133200"/>
            <a:chOff x="4979880" y="1608120"/>
            <a:chExt cx="362160" cy="133200"/>
          </a:xfrm>
        </p:grpSpPr>
        <p:sp>
          <p:nvSpPr>
            <p:cNvPr id="1654"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55"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56"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57"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658"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659"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60" name="Group 176"/>
          <p:cNvGrpSpPr/>
          <p:nvPr/>
        </p:nvGrpSpPr>
        <p:grpSpPr>
          <a:xfrm>
            <a:off x="3492360" y="7531200"/>
            <a:ext cx="857160" cy="704160"/>
            <a:chOff x="3492360" y="7531200"/>
            <a:chExt cx="857160" cy="704160"/>
          </a:xfrm>
        </p:grpSpPr>
        <p:sp>
          <p:nvSpPr>
            <p:cNvPr id="1661"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2"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3"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4"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65"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666"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1667" name="Group 199"/>
          <p:cNvGrpSpPr/>
          <p:nvPr/>
        </p:nvGrpSpPr>
        <p:grpSpPr>
          <a:xfrm>
            <a:off x="5607000" y="1336680"/>
            <a:ext cx="814680" cy="46080"/>
            <a:chOff x="5607000" y="1336680"/>
            <a:chExt cx="814680" cy="46080"/>
          </a:xfrm>
        </p:grpSpPr>
        <p:sp>
          <p:nvSpPr>
            <p:cNvPr id="1668"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9"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70"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671" name="Group 199"/>
          <p:cNvGrpSpPr/>
          <p:nvPr/>
        </p:nvGrpSpPr>
        <p:grpSpPr>
          <a:xfrm>
            <a:off x="3591720" y="1300320"/>
            <a:ext cx="778320" cy="45720"/>
            <a:chOff x="3591720" y="1300320"/>
            <a:chExt cx="778320" cy="45720"/>
          </a:xfrm>
        </p:grpSpPr>
        <p:sp>
          <p:nvSpPr>
            <p:cNvPr id="1672"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3"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74"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1675"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6"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677"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678"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1679"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1680" name="Group 62"/>
          <p:cNvGrpSpPr/>
          <p:nvPr/>
        </p:nvGrpSpPr>
        <p:grpSpPr>
          <a:xfrm>
            <a:off x="5665680" y="993600"/>
            <a:ext cx="152640" cy="228240"/>
            <a:chOff x="5665680" y="993600"/>
            <a:chExt cx="152640" cy="228240"/>
          </a:xfrm>
        </p:grpSpPr>
        <p:sp>
          <p:nvSpPr>
            <p:cNvPr id="1681"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2"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83"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84"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85"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686"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687"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88"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689"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690"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91"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692"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693" name="Line 3"/>
          <p:cNvSpPr/>
          <p:nvPr/>
        </p:nvSpPr>
        <p:spPr>
          <a:xfrm flipV="1">
            <a:off x="2660760" y="8786520"/>
            <a:ext cx="4791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1694"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695" name="Group 62"/>
          <p:cNvGrpSpPr/>
          <p:nvPr/>
        </p:nvGrpSpPr>
        <p:grpSpPr>
          <a:xfrm>
            <a:off x="2072880" y="2670120"/>
            <a:ext cx="151920" cy="228240"/>
            <a:chOff x="2072880" y="2670120"/>
            <a:chExt cx="151920" cy="228240"/>
          </a:xfrm>
        </p:grpSpPr>
        <p:sp>
          <p:nvSpPr>
            <p:cNvPr id="1696"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97"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98"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99"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700"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701"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702"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1703"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04"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705" name="Group 1"/>
          <p:cNvGrpSpPr/>
          <p:nvPr/>
        </p:nvGrpSpPr>
        <p:grpSpPr>
          <a:xfrm>
            <a:off x="5481720" y="5948280"/>
            <a:ext cx="457200" cy="596520"/>
            <a:chOff x="5481720" y="5948280"/>
            <a:chExt cx="457200" cy="596520"/>
          </a:xfrm>
        </p:grpSpPr>
        <p:sp>
          <p:nvSpPr>
            <p:cNvPr id="1706"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707"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708"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709"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1710"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11"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712" name="Group 176"/>
          <p:cNvGrpSpPr/>
          <p:nvPr/>
        </p:nvGrpSpPr>
        <p:grpSpPr>
          <a:xfrm>
            <a:off x="1582560" y="761760"/>
            <a:ext cx="607680" cy="633240"/>
            <a:chOff x="1582560" y="761760"/>
            <a:chExt cx="607680" cy="633240"/>
          </a:xfrm>
        </p:grpSpPr>
        <p:sp>
          <p:nvSpPr>
            <p:cNvPr id="1713"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14"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15"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1716"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1717"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718" name="Group 74"/>
          <p:cNvGrpSpPr/>
          <p:nvPr/>
        </p:nvGrpSpPr>
        <p:grpSpPr>
          <a:xfrm>
            <a:off x="2357280" y="6808680"/>
            <a:ext cx="276480" cy="496800"/>
            <a:chOff x="2357280" y="6808680"/>
            <a:chExt cx="276480" cy="496800"/>
          </a:xfrm>
        </p:grpSpPr>
        <p:sp>
          <p:nvSpPr>
            <p:cNvPr id="1719"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20"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21"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2"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3"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4"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5"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1726"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27"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728"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29"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1730"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31"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732"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733"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1734" name="Group 74"/>
          <p:cNvGrpSpPr/>
          <p:nvPr/>
        </p:nvGrpSpPr>
        <p:grpSpPr>
          <a:xfrm>
            <a:off x="1612800" y="2930400"/>
            <a:ext cx="763200" cy="276480"/>
            <a:chOff x="1612800" y="2930400"/>
            <a:chExt cx="763200" cy="276480"/>
          </a:xfrm>
        </p:grpSpPr>
        <p:sp>
          <p:nvSpPr>
            <p:cNvPr id="1735"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6"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737" name="Group 74"/>
          <p:cNvGrpSpPr/>
          <p:nvPr/>
        </p:nvGrpSpPr>
        <p:grpSpPr>
          <a:xfrm>
            <a:off x="1574640" y="1298520"/>
            <a:ext cx="774360" cy="276480"/>
            <a:chOff x="1574640" y="1298520"/>
            <a:chExt cx="774360" cy="276480"/>
          </a:xfrm>
        </p:grpSpPr>
        <p:sp>
          <p:nvSpPr>
            <p:cNvPr id="1738"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9"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740" name="Group 173"/>
          <p:cNvGrpSpPr/>
          <p:nvPr/>
        </p:nvGrpSpPr>
        <p:grpSpPr>
          <a:xfrm>
            <a:off x="5989680" y="1405080"/>
            <a:ext cx="123840" cy="125280"/>
            <a:chOff x="5989680" y="1405080"/>
            <a:chExt cx="123840" cy="125280"/>
          </a:xfrm>
        </p:grpSpPr>
        <p:sp>
          <p:nvSpPr>
            <p:cNvPr id="1741"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2"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43" name="Group 173"/>
          <p:cNvGrpSpPr/>
          <p:nvPr/>
        </p:nvGrpSpPr>
        <p:grpSpPr>
          <a:xfrm>
            <a:off x="2862360" y="1828800"/>
            <a:ext cx="123840" cy="125280"/>
            <a:chOff x="2862360" y="1828800"/>
            <a:chExt cx="123840" cy="125280"/>
          </a:xfrm>
        </p:grpSpPr>
        <p:sp>
          <p:nvSpPr>
            <p:cNvPr id="1744"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5"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46" name="Group 173"/>
          <p:cNvGrpSpPr/>
          <p:nvPr/>
        </p:nvGrpSpPr>
        <p:grpSpPr>
          <a:xfrm>
            <a:off x="4118040" y="1428840"/>
            <a:ext cx="123840" cy="125280"/>
            <a:chOff x="4118040" y="1428840"/>
            <a:chExt cx="123840" cy="125280"/>
          </a:xfrm>
        </p:grpSpPr>
        <p:sp>
          <p:nvSpPr>
            <p:cNvPr id="1747"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8"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49" name="Group 173"/>
          <p:cNvGrpSpPr/>
          <p:nvPr/>
        </p:nvGrpSpPr>
        <p:grpSpPr>
          <a:xfrm>
            <a:off x="2193840" y="1459080"/>
            <a:ext cx="123840" cy="125280"/>
            <a:chOff x="2193840" y="1459080"/>
            <a:chExt cx="123840" cy="125280"/>
          </a:xfrm>
        </p:grpSpPr>
        <p:sp>
          <p:nvSpPr>
            <p:cNvPr id="1750"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1"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52" name="Group 173"/>
          <p:cNvGrpSpPr/>
          <p:nvPr/>
        </p:nvGrpSpPr>
        <p:grpSpPr>
          <a:xfrm>
            <a:off x="2527200" y="3621240"/>
            <a:ext cx="123840" cy="125280"/>
            <a:chOff x="2527200" y="3621240"/>
            <a:chExt cx="123840" cy="125280"/>
          </a:xfrm>
        </p:grpSpPr>
        <p:sp>
          <p:nvSpPr>
            <p:cNvPr id="1753"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4"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55" name="Group 173"/>
          <p:cNvGrpSpPr/>
          <p:nvPr/>
        </p:nvGrpSpPr>
        <p:grpSpPr>
          <a:xfrm>
            <a:off x="2158920" y="3147840"/>
            <a:ext cx="123840" cy="125640"/>
            <a:chOff x="2158920" y="3147840"/>
            <a:chExt cx="123840" cy="125640"/>
          </a:xfrm>
        </p:grpSpPr>
        <p:sp>
          <p:nvSpPr>
            <p:cNvPr id="1756"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7"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58" name="Group 173"/>
          <p:cNvGrpSpPr/>
          <p:nvPr/>
        </p:nvGrpSpPr>
        <p:grpSpPr>
          <a:xfrm>
            <a:off x="3830760" y="8809200"/>
            <a:ext cx="123840" cy="125280"/>
            <a:chOff x="3830760" y="8809200"/>
            <a:chExt cx="123840" cy="125280"/>
          </a:xfrm>
        </p:grpSpPr>
        <p:sp>
          <p:nvSpPr>
            <p:cNvPr id="1759"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0"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61" name="Group 173"/>
          <p:cNvGrpSpPr/>
          <p:nvPr/>
        </p:nvGrpSpPr>
        <p:grpSpPr>
          <a:xfrm>
            <a:off x="3747960" y="6519960"/>
            <a:ext cx="123840" cy="125280"/>
            <a:chOff x="3747960" y="6519960"/>
            <a:chExt cx="123840" cy="125280"/>
          </a:xfrm>
        </p:grpSpPr>
        <p:sp>
          <p:nvSpPr>
            <p:cNvPr id="1762"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3"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64" name="Group 173"/>
          <p:cNvGrpSpPr/>
          <p:nvPr/>
        </p:nvGrpSpPr>
        <p:grpSpPr>
          <a:xfrm>
            <a:off x="5996160" y="3166920"/>
            <a:ext cx="123480" cy="125640"/>
            <a:chOff x="5996160" y="3166920"/>
            <a:chExt cx="123480" cy="125640"/>
          </a:xfrm>
        </p:grpSpPr>
        <p:sp>
          <p:nvSpPr>
            <p:cNvPr id="1765"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6"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67" name="Group 173"/>
          <p:cNvGrpSpPr/>
          <p:nvPr/>
        </p:nvGrpSpPr>
        <p:grpSpPr>
          <a:xfrm>
            <a:off x="3935520" y="3051000"/>
            <a:ext cx="125280" cy="125640"/>
            <a:chOff x="3935520" y="3051000"/>
            <a:chExt cx="125280" cy="125640"/>
          </a:xfrm>
        </p:grpSpPr>
        <p:sp>
          <p:nvSpPr>
            <p:cNvPr id="1768"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9"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0" name="Group 173"/>
          <p:cNvGrpSpPr/>
          <p:nvPr/>
        </p:nvGrpSpPr>
        <p:grpSpPr>
          <a:xfrm>
            <a:off x="5983200" y="1071720"/>
            <a:ext cx="123840" cy="125280"/>
            <a:chOff x="5983200" y="1071720"/>
            <a:chExt cx="123840" cy="125280"/>
          </a:xfrm>
        </p:grpSpPr>
        <p:sp>
          <p:nvSpPr>
            <p:cNvPr id="1771"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2"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3" name="Group 173"/>
          <p:cNvGrpSpPr/>
          <p:nvPr/>
        </p:nvGrpSpPr>
        <p:grpSpPr>
          <a:xfrm>
            <a:off x="3855960" y="5272200"/>
            <a:ext cx="123840" cy="125280"/>
            <a:chOff x="3855960" y="5272200"/>
            <a:chExt cx="123840" cy="125280"/>
          </a:xfrm>
        </p:grpSpPr>
        <p:sp>
          <p:nvSpPr>
            <p:cNvPr id="1774"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5"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6" name="Group 173"/>
          <p:cNvGrpSpPr/>
          <p:nvPr/>
        </p:nvGrpSpPr>
        <p:grpSpPr>
          <a:xfrm>
            <a:off x="1779480" y="5286240"/>
            <a:ext cx="123840" cy="125640"/>
            <a:chOff x="1779480" y="5286240"/>
            <a:chExt cx="123840" cy="125640"/>
          </a:xfrm>
        </p:grpSpPr>
        <p:sp>
          <p:nvSpPr>
            <p:cNvPr id="1777"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8"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9" name="Group 173"/>
          <p:cNvGrpSpPr/>
          <p:nvPr/>
        </p:nvGrpSpPr>
        <p:grpSpPr>
          <a:xfrm>
            <a:off x="3892680" y="8381880"/>
            <a:ext cx="123840" cy="125640"/>
            <a:chOff x="3892680" y="8381880"/>
            <a:chExt cx="123840" cy="125640"/>
          </a:xfrm>
        </p:grpSpPr>
        <p:sp>
          <p:nvSpPr>
            <p:cNvPr id="1780"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1"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82" name="Group 173"/>
          <p:cNvGrpSpPr/>
          <p:nvPr/>
        </p:nvGrpSpPr>
        <p:grpSpPr>
          <a:xfrm>
            <a:off x="5170320" y="6962760"/>
            <a:ext cx="123840" cy="125280"/>
            <a:chOff x="5170320" y="6962760"/>
            <a:chExt cx="123840" cy="125280"/>
          </a:xfrm>
        </p:grpSpPr>
        <p:sp>
          <p:nvSpPr>
            <p:cNvPr id="1783"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4"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85" name="Group 173"/>
          <p:cNvGrpSpPr/>
          <p:nvPr/>
        </p:nvGrpSpPr>
        <p:grpSpPr>
          <a:xfrm>
            <a:off x="2303640" y="7164360"/>
            <a:ext cx="123480" cy="125280"/>
            <a:chOff x="2303640" y="7164360"/>
            <a:chExt cx="123480" cy="125280"/>
          </a:xfrm>
        </p:grpSpPr>
        <p:sp>
          <p:nvSpPr>
            <p:cNvPr id="1786"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7"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88" name="Group 173"/>
          <p:cNvGrpSpPr/>
          <p:nvPr/>
        </p:nvGrpSpPr>
        <p:grpSpPr>
          <a:xfrm>
            <a:off x="5932440" y="6962760"/>
            <a:ext cx="125640" cy="125280"/>
            <a:chOff x="5932440" y="6962760"/>
            <a:chExt cx="125640" cy="125280"/>
          </a:xfrm>
        </p:grpSpPr>
        <p:sp>
          <p:nvSpPr>
            <p:cNvPr id="1789"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0"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91" name="Group 199"/>
          <p:cNvGrpSpPr/>
          <p:nvPr/>
        </p:nvGrpSpPr>
        <p:grpSpPr>
          <a:xfrm>
            <a:off x="3485160" y="8313840"/>
            <a:ext cx="861120" cy="46080"/>
            <a:chOff x="3485160" y="8313840"/>
            <a:chExt cx="861120" cy="46080"/>
          </a:xfrm>
        </p:grpSpPr>
        <p:sp>
          <p:nvSpPr>
            <p:cNvPr id="1792"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93"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94"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795"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1796" name="Group 74"/>
          <p:cNvGrpSpPr/>
          <p:nvPr/>
        </p:nvGrpSpPr>
        <p:grpSpPr>
          <a:xfrm>
            <a:off x="3556080" y="4576680"/>
            <a:ext cx="806040" cy="276480"/>
            <a:chOff x="3556080" y="4576680"/>
            <a:chExt cx="806040" cy="276480"/>
          </a:xfrm>
        </p:grpSpPr>
        <p:sp>
          <p:nvSpPr>
            <p:cNvPr id="1797"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98"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799" name="Group 173"/>
          <p:cNvGrpSpPr/>
          <p:nvPr/>
        </p:nvGrpSpPr>
        <p:grpSpPr>
          <a:xfrm>
            <a:off x="3892680" y="4902120"/>
            <a:ext cx="123840" cy="125640"/>
            <a:chOff x="3892680" y="4902120"/>
            <a:chExt cx="123840" cy="125640"/>
          </a:xfrm>
        </p:grpSpPr>
        <p:sp>
          <p:nvSpPr>
            <p:cNvPr id="1800"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1"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02"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803"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04" name="Group 1"/>
          <p:cNvGrpSpPr/>
          <p:nvPr/>
        </p:nvGrpSpPr>
        <p:grpSpPr>
          <a:xfrm>
            <a:off x="3463920" y="4003560"/>
            <a:ext cx="457200" cy="596520"/>
            <a:chOff x="3463920" y="4003560"/>
            <a:chExt cx="457200" cy="596520"/>
          </a:xfrm>
        </p:grpSpPr>
        <p:sp>
          <p:nvSpPr>
            <p:cNvPr id="1805"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806"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807"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808"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1809" name="Group 57"/>
          <p:cNvGrpSpPr/>
          <p:nvPr/>
        </p:nvGrpSpPr>
        <p:grpSpPr>
          <a:xfrm>
            <a:off x="3967200" y="2808360"/>
            <a:ext cx="63360" cy="194760"/>
            <a:chOff x="3967200" y="2808360"/>
            <a:chExt cx="63360" cy="194760"/>
          </a:xfrm>
        </p:grpSpPr>
        <p:sp>
          <p:nvSpPr>
            <p:cNvPr id="1810"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1"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12"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813"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814" name="Group 57"/>
          <p:cNvGrpSpPr/>
          <p:nvPr/>
        </p:nvGrpSpPr>
        <p:grpSpPr>
          <a:xfrm>
            <a:off x="1973160" y="1125000"/>
            <a:ext cx="195480" cy="64080"/>
            <a:chOff x="1973160" y="1125000"/>
            <a:chExt cx="195480" cy="64080"/>
          </a:xfrm>
        </p:grpSpPr>
        <p:sp>
          <p:nvSpPr>
            <p:cNvPr id="1815"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6"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17"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818"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1819" name="Group 57"/>
          <p:cNvGrpSpPr/>
          <p:nvPr/>
        </p:nvGrpSpPr>
        <p:grpSpPr>
          <a:xfrm>
            <a:off x="5765400" y="2446200"/>
            <a:ext cx="64080" cy="195480"/>
            <a:chOff x="5765400" y="2446200"/>
            <a:chExt cx="64080" cy="195480"/>
          </a:xfrm>
        </p:grpSpPr>
        <p:sp>
          <p:nvSpPr>
            <p:cNvPr id="1820"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1"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22"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1823"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1824" name="Group 57"/>
          <p:cNvGrpSpPr/>
          <p:nvPr/>
        </p:nvGrpSpPr>
        <p:grpSpPr>
          <a:xfrm>
            <a:off x="3596760" y="4218120"/>
            <a:ext cx="64080" cy="194760"/>
            <a:chOff x="3596760" y="4218120"/>
            <a:chExt cx="64080" cy="194760"/>
          </a:xfrm>
        </p:grpSpPr>
        <p:sp>
          <p:nvSpPr>
            <p:cNvPr id="1825"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6"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27"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828"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829" name="Group 62"/>
          <p:cNvGrpSpPr/>
          <p:nvPr/>
        </p:nvGrpSpPr>
        <p:grpSpPr>
          <a:xfrm>
            <a:off x="4046400" y="4238640"/>
            <a:ext cx="152640" cy="228240"/>
            <a:chOff x="4046400" y="4238640"/>
            <a:chExt cx="152640" cy="228240"/>
          </a:xfrm>
        </p:grpSpPr>
        <p:sp>
          <p:nvSpPr>
            <p:cNvPr id="1830"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31"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32"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833"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834"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835"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836"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1837"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1838" name="Group 173"/>
          <p:cNvGrpSpPr/>
          <p:nvPr/>
        </p:nvGrpSpPr>
        <p:grpSpPr>
          <a:xfrm>
            <a:off x="5913360" y="8271000"/>
            <a:ext cx="123840" cy="125280"/>
            <a:chOff x="5913360" y="8271000"/>
            <a:chExt cx="123840" cy="125280"/>
          </a:xfrm>
        </p:grpSpPr>
        <p:sp>
          <p:nvSpPr>
            <p:cNvPr id="1839"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0"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41"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1842"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3"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844"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5"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1846"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847"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8"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1849" name="Group 173"/>
          <p:cNvGrpSpPr/>
          <p:nvPr/>
        </p:nvGrpSpPr>
        <p:grpSpPr>
          <a:xfrm>
            <a:off x="1838160" y="4843440"/>
            <a:ext cx="123840" cy="125280"/>
            <a:chOff x="1838160" y="4843440"/>
            <a:chExt cx="123840" cy="125280"/>
          </a:xfrm>
        </p:grpSpPr>
        <p:sp>
          <p:nvSpPr>
            <p:cNvPr id="1850"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1"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52"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853"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854"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5"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856"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1857"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858"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859"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60"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61"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2"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3" name="AutoShape 195"/>
          <p:cNvSpPr/>
          <p:nvPr/>
        </p:nvSpPr>
        <p:spPr>
          <a:xfrm rot="16200000">
            <a:off x="5802120" y="91818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4"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5" name="AutoShape 195"/>
          <p:cNvSpPr/>
          <p:nvPr/>
        </p:nvSpPr>
        <p:spPr>
          <a:xfrm rot="16200000">
            <a:off x="5749920" y="7773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6" name="Oval 2"/>
          <p:cNvSpPr/>
          <p:nvPr/>
        </p:nvSpPr>
        <p:spPr>
          <a:xfrm>
            <a:off x="6353280" y="6672240"/>
            <a:ext cx="94752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67" name="AutoShape 195"/>
          <p:cNvSpPr/>
          <p:nvPr/>
        </p:nvSpPr>
        <p:spPr>
          <a:xfrm rot="16200000">
            <a:off x="3692520" y="59324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8" name="Oval 2"/>
          <p:cNvSpPr/>
          <p:nvPr/>
        </p:nvSpPr>
        <p:spPr>
          <a:xfrm>
            <a:off x="4732200" y="64468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69" name="AutoShape 195"/>
          <p:cNvSpPr/>
          <p:nvPr/>
        </p:nvSpPr>
        <p:spPr>
          <a:xfrm rot="10800000">
            <a:off x="4603320" y="69624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0" name="AutoShape 195"/>
          <p:cNvSpPr/>
          <p:nvPr/>
        </p:nvSpPr>
        <p:spPr>
          <a:xfrm rot="5400000">
            <a:off x="1746360" y="593712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1" name="AutoShape 95"/>
          <p:cNvSpPr/>
          <p:nvPr/>
        </p:nvSpPr>
        <p:spPr>
          <a:xfrm rot="16463400">
            <a:off x="3479040" y="6893640"/>
            <a:ext cx="234720" cy="268200"/>
          </a:xfrm>
          <a:custGeom>
            <a:avLst/>
            <a:gdLst>
              <a:gd name="textAreaLeft" fmla="*/ 0 w 234720"/>
              <a:gd name="textAreaRight" fmla="*/ 66240 w 234720"/>
              <a:gd name="textAreaTop" fmla="*/ 103320 h 268200"/>
              <a:gd name="textAreaBottom" fmla="*/ 268560 h 26820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872" name="Oval 2"/>
          <p:cNvSpPr/>
          <p:nvPr/>
        </p:nvSpPr>
        <p:spPr>
          <a:xfrm>
            <a:off x="6338880" y="8236080"/>
            <a:ext cx="94788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73" name="Minus Sign 17"/>
          <p:cNvSpPr/>
          <p:nvPr/>
        </p:nvSpPr>
        <p:spPr>
          <a:xfrm>
            <a:off x="1465200" y="4614840"/>
            <a:ext cx="936720" cy="355680"/>
          </a:xfrm>
          <a:custGeom>
            <a:avLst/>
            <a:gdLst/>
            <a:ahLst/>
            <a:rect l="l" t="t" r="r" b="b"/>
            <a:pathLst>
              <a:path w="936625" h="355600">
                <a:moveTo>
                  <a:pt x="124150" y="135981"/>
                </a:moveTo>
                <a:lnTo>
                  <a:pt x="812475" y="135981"/>
                </a:lnTo>
                <a:lnTo>
                  <a:pt x="812475" y="219619"/>
                </a:lnTo>
                <a:lnTo>
                  <a:pt x="124150" y="219619"/>
                </a:lnTo>
                <a:lnTo>
                  <a:pt x="124150"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74" name="Minus Sign 18"/>
          <p:cNvSpPr/>
          <p:nvPr/>
        </p:nvSpPr>
        <p:spPr>
          <a:xfrm>
            <a:off x="5464080" y="4684680"/>
            <a:ext cx="1069920" cy="355680"/>
          </a:xfrm>
          <a:custGeom>
            <a:avLst/>
            <a:gdLst/>
            <a:ahLst/>
            <a:rect l="l" t="t" r="r" b="b"/>
            <a:pathLst>
              <a:path w="1069975" h="355600">
                <a:moveTo>
                  <a:pt x="141825" y="135981"/>
                </a:moveTo>
                <a:lnTo>
                  <a:pt x="928150" y="135981"/>
                </a:lnTo>
                <a:lnTo>
                  <a:pt x="928150" y="219619"/>
                </a:lnTo>
                <a:lnTo>
                  <a:pt x="141825" y="219619"/>
                </a:lnTo>
                <a:lnTo>
                  <a:pt x="14182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75"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6" name="Oval 2"/>
          <p:cNvSpPr/>
          <p:nvPr/>
        </p:nvSpPr>
        <p:spPr>
          <a:xfrm>
            <a:off x="706320" y="5151600"/>
            <a:ext cx="94788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77" name="Minus Sign 22"/>
          <p:cNvSpPr/>
          <p:nvPr/>
        </p:nvSpPr>
        <p:spPr>
          <a:xfrm rot="12907200">
            <a:off x="3286080" y="5171400"/>
            <a:ext cx="1354320" cy="336600"/>
          </a:xfrm>
          <a:custGeom>
            <a:avLst/>
            <a:gdLst/>
            <a:ahLst/>
            <a:rect l="l" t="t" r="r" b="b"/>
            <a:pathLst>
              <a:path w="1354138" h="336550">
                <a:moveTo>
                  <a:pt x="179491" y="112408"/>
                </a:moveTo>
                <a:lnTo>
                  <a:pt x="1174647" y="112408"/>
                </a:lnTo>
                <a:lnTo>
                  <a:pt x="1174647" y="224142"/>
                </a:lnTo>
                <a:lnTo>
                  <a:pt x="179491" y="224142"/>
                </a:lnTo>
                <a:lnTo>
                  <a:pt x="179491" y="112408"/>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78" name="Oval 2"/>
          <p:cNvSpPr/>
          <p:nvPr/>
        </p:nvSpPr>
        <p:spPr>
          <a:xfrm>
            <a:off x="2620800" y="622764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grpSp>
        <p:nvGrpSpPr>
          <p:cNvPr id="1879" name="Group 173"/>
          <p:cNvGrpSpPr/>
          <p:nvPr/>
        </p:nvGrpSpPr>
        <p:grpSpPr>
          <a:xfrm>
            <a:off x="4575240" y="1801800"/>
            <a:ext cx="123840" cy="125280"/>
            <a:chOff x="4575240" y="1801800"/>
            <a:chExt cx="123840" cy="125280"/>
          </a:xfrm>
        </p:grpSpPr>
        <p:sp>
          <p:nvSpPr>
            <p:cNvPr id="1880"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1"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82"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883"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84"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85" name="Group 173"/>
          <p:cNvGrpSpPr/>
          <p:nvPr/>
        </p:nvGrpSpPr>
        <p:grpSpPr>
          <a:xfrm>
            <a:off x="5710320" y="2098800"/>
            <a:ext cx="123840" cy="125280"/>
            <a:chOff x="5710320" y="2098800"/>
            <a:chExt cx="123840" cy="125280"/>
          </a:xfrm>
        </p:grpSpPr>
        <p:sp>
          <p:nvSpPr>
            <p:cNvPr id="1886"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7"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888" name="Group 74"/>
          <p:cNvGrpSpPr/>
          <p:nvPr/>
        </p:nvGrpSpPr>
        <p:grpSpPr>
          <a:xfrm>
            <a:off x="5611680" y="2143080"/>
            <a:ext cx="787320" cy="276480"/>
            <a:chOff x="5611680" y="2143080"/>
            <a:chExt cx="787320" cy="276480"/>
          </a:xfrm>
        </p:grpSpPr>
        <p:sp>
          <p:nvSpPr>
            <p:cNvPr id="1889"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90"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91"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892"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93" name="Group 173"/>
          <p:cNvGrpSpPr/>
          <p:nvPr/>
        </p:nvGrpSpPr>
        <p:grpSpPr>
          <a:xfrm>
            <a:off x="4068720" y="4546440"/>
            <a:ext cx="123840" cy="125640"/>
            <a:chOff x="4068720" y="4546440"/>
            <a:chExt cx="123840" cy="125640"/>
          </a:xfrm>
        </p:grpSpPr>
        <p:sp>
          <p:nvSpPr>
            <p:cNvPr id="1894"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5"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96"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97" name="Group 1"/>
          <p:cNvGrpSpPr/>
          <p:nvPr/>
        </p:nvGrpSpPr>
        <p:grpSpPr>
          <a:xfrm>
            <a:off x="1496880" y="3952800"/>
            <a:ext cx="457200" cy="596520"/>
            <a:chOff x="1496880" y="3952800"/>
            <a:chExt cx="457200" cy="596520"/>
          </a:xfrm>
        </p:grpSpPr>
        <p:sp>
          <p:nvSpPr>
            <p:cNvPr id="1898"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899"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900"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901"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902"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903"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04"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80,000 cfm at #2 fan</a:t>
            </a:r>
            <a:endParaRPr b="0" lang="en-US" sz="800" spc="-1" strike="noStrike">
              <a:solidFill>
                <a:srgbClr val="000000"/>
              </a:solidFill>
              <a:latin typeface="Arial"/>
            </a:endParaRPr>
          </a:p>
        </p:txBody>
      </p:sp>
      <p:sp>
        <p:nvSpPr>
          <p:cNvPr id="1905" name="Line 22"/>
          <p:cNvSpPr/>
          <p:nvPr/>
        </p:nvSpPr>
        <p:spPr>
          <a:xfrm flipH="1">
            <a:off x="1486080" y="8750160"/>
            <a:ext cx="28080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906" name="Group 173"/>
          <p:cNvGrpSpPr/>
          <p:nvPr/>
        </p:nvGrpSpPr>
        <p:grpSpPr>
          <a:xfrm>
            <a:off x="3191040" y="3629160"/>
            <a:ext cx="123840" cy="125280"/>
            <a:chOff x="3191040" y="3629160"/>
            <a:chExt cx="123840" cy="125280"/>
          </a:xfrm>
        </p:grpSpPr>
        <p:sp>
          <p:nvSpPr>
            <p:cNvPr id="1907"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8"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09"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10"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911"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912"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913" name="Group 173"/>
          <p:cNvGrpSpPr/>
          <p:nvPr/>
        </p:nvGrpSpPr>
        <p:grpSpPr>
          <a:xfrm>
            <a:off x="5932440" y="6226200"/>
            <a:ext cx="125640" cy="125280"/>
            <a:chOff x="5932440" y="6226200"/>
            <a:chExt cx="125640" cy="125280"/>
          </a:xfrm>
        </p:grpSpPr>
        <p:sp>
          <p:nvSpPr>
            <p:cNvPr id="1914"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5"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16"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917"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918" name="Group 173"/>
          <p:cNvGrpSpPr/>
          <p:nvPr/>
        </p:nvGrpSpPr>
        <p:grpSpPr>
          <a:xfrm>
            <a:off x="5938920" y="5651640"/>
            <a:ext cx="123840" cy="125280"/>
            <a:chOff x="5938920" y="5651640"/>
            <a:chExt cx="123840" cy="125280"/>
          </a:xfrm>
        </p:grpSpPr>
        <p:sp>
          <p:nvSpPr>
            <p:cNvPr id="1919"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0"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21"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922" name="Minus Sign 21"/>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1923" name="Group 173"/>
          <p:cNvGrpSpPr/>
          <p:nvPr/>
        </p:nvGrpSpPr>
        <p:grpSpPr>
          <a:xfrm>
            <a:off x="5856120" y="3581280"/>
            <a:ext cx="123840" cy="125640"/>
            <a:chOff x="5856120" y="3581280"/>
            <a:chExt cx="123840" cy="125640"/>
          </a:xfrm>
        </p:grpSpPr>
        <p:sp>
          <p:nvSpPr>
            <p:cNvPr id="1924"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5"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26"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27"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92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92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93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3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1932" name="Group 173"/>
          <p:cNvGrpSpPr/>
          <p:nvPr/>
        </p:nvGrpSpPr>
        <p:grpSpPr>
          <a:xfrm>
            <a:off x="2208240" y="1292400"/>
            <a:ext cx="123840" cy="125280"/>
            <a:chOff x="2208240" y="1292400"/>
            <a:chExt cx="123840" cy="125280"/>
          </a:xfrm>
        </p:grpSpPr>
        <p:sp>
          <p:nvSpPr>
            <p:cNvPr id="193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3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193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937"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38"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939" name="Group 173"/>
          <p:cNvGrpSpPr/>
          <p:nvPr/>
        </p:nvGrpSpPr>
        <p:grpSpPr>
          <a:xfrm>
            <a:off x="2673360" y="7034040"/>
            <a:ext cx="123840" cy="125640"/>
            <a:chOff x="2673360" y="7034040"/>
            <a:chExt cx="123840" cy="125640"/>
          </a:xfrm>
        </p:grpSpPr>
        <p:sp>
          <p:nvSpPr>
            <p:cNvPr id="1940"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1"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42"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943" name="Group 62"/>
          <p:cNvGrpSpPr/>
          <p:nvPr/>
        </p:nvGrpSpPr>
        <p:grpSpPr>
          <a:xfrm>
            <a:off x="2514240" y="6934320"/>
            <a:ext cx="151920" cy="228240"/>
            <a:chOff x="2514240" y="6934320"/>
            <a:chExt cx="151920" cy="228240"/>
          </a:xfrm>
        </p:grpSpPr>
        <p:sp>
          <p:nvSpPr>
            <p:cNvPr id="1944"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5"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46"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947"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948"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949"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950"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51"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1952"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953"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954"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6"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1957"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958"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59"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0"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1"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2"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1963"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4"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5"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6"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7"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8"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9"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70"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1"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2"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3"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4"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5"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6"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7" name="Text Box 38"/>
          <p:cNvSpPr/>
          <p:nvPr/>
        </p:nvSpPr>
        <p:spPr>
          <a:xfrm>
            <a:off x="2351160" y="173160"/>
            <a:ext cx="3360600" cy="58788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THIRD VENTILATION</a:t>
            </a:r>
            <a:endParaRPr b="0" lang="en-US" sz="1600" spc="-1" strike="noStrike">
              <a:solidFill>
                <a:srgbClr val="000000"/>
              </a:solidFill>
              <a:latin typeface="Arial"/>
            </a:endParaRPr>
          </a:p>
        </p:txBody>
      </p:sp>
      <p:grpSp>
        <p:nvGrpSpPr>
          <p:cNvPr id="1978" name="Group 99"/>
          <p:cNvGrpSpPr/>
          <p:nvPr/>
        </p:nvGrpSpPr>
        <p:grpSpPr>
          <a:xfrm>
            <a:off x="3503520" y="6756480"/>
            <a:ext cx="848520" cy="583920"/>
            <a:chOff x="3503520" y="6756480"/>
            <a:chExt cx="848520" cy="583920"/>
          </a:xfrm>
        </p:grpSpPr>
        <p:sp>
          <p:nvSpPr>
            <p:cNvPr id="1979"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0"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1"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2"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983" name="Group 99"/>
          <p:cNvGrpSpPr/>
          <p:nvPr/>
        </p:nvGrpSpPr>
        <p:grpSpPr>
          <a:xfrm>
            <a:off x="3568680" y="3341160"/>
            <a:ext cx="812160" cy="586080"/>
            <a:chOff x="3568680" y="3341160"/>
            <a:chExt cx="812160" cy="586080"/>
          </a:xfrm>
        </p:grpSpPr>
        <p:sp>
          <p:nvSpPr>
            <p:cNvPr id="1984"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5"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6"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7"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88"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89"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90"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91"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92"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993"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994"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995" name="Text Box 69"/>
          <p:cNvSpPr/>
          <p:nvPr/>
        </p:nvSpPr>
        <p:spPr>
          <a:xfrm>
            <a:off x="4346640" y="6593040"/>
            <a:ext cx="598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996"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997"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998"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999"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0"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1"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2"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3"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4"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05"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006"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007"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008"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09"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010"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2011"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12"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13"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14"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015"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16"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17"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18"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019" name="Group 140"/>
          <p:cNvGrpSpPr/>
          <p:nvPr/>
        </p:nvGrpSpPr>
        <p:grpSpPr>
          <a:xfrm>
            <a:off x="6141960" y="7472160"/>
            <a:ext cx="228600" cy="609840"/>
            <a:chOff x="6141960" y="7472160"/>
            <a:chExt cx="228600" cy="609840"/>
          </a:xfrm>
        </p:grpSpPr>
        <p:sp>
          <p:nvSpPr>
            <p:cNvPr id="2020"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1"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2"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3"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4"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5"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26"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027"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2028"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2029"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30"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2031"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2032" name="Group 109"/>
          <p:cNvGrpSpPr/>
          <p:nvPr/>
        </p:nvGrpSpPr>
        <p:grpSpPr>
          <a:xfrm>
            <a:off x="5618160" y="4379760"/>
            <a:ext cx="788400" cy="237600"/>
            <a:chOff x="5618160" y="4379760"/>
            <a:chExt cx="788400" cy="237600"/>
          </a:xfrm>
        </p:grpSpPr>
        <p:grpSp>
          <p:nvGrpSpPr>
            <p:cNvPr id="2033" name="Group 110"/>
            <p:cNvGrpSpPr/>
            <p:nvPr/>
          </p:nvGrpSpPr>
          <p:grpSpPr>
            <a:xfrm>
              <a:off x="5618160" y="4379760"/>
              <a:ext cx="788400" cy="59400"/>
              <a:chOff x="5618160" y="4379760"/>
              <a:chExt cx="788400" cy="59400"/>
            </a:xfrm>
          </p:grpSpPr>
          <p:sp>
            <p:nvSpPr>
              <p:cNvPr id="2034"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35"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36" name="Group 113"/>
            <p:cNvGrpSpPr/>
            <p:nvPr/>
          </p:nvGrpSpPr>
          <p:grpSpPr>
            <a:xfrm>
              <a:off x="5618160" y="4557960"/>
              <a:ext cx="788400" cy="59400"/>
              <a:chOff x="5618160" y="4557960"/>
              <a:chExt cx="788400" cy="59400"/>
            </a:xfrm>
          </p:grpSpPr>
          <p:sp>
            <p:nvSpPr>
              <p:cNvPr id="2037"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38"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39"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2040"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1"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2"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2043"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2044" name="Group 62"/>
          <p:cNvGrpSpPr/>
          <p:nvPr/>
        </p:nvGrpSpPr>
        <p:grpSpPr>
          <a:xfrm>
            <a:off x="6216480" y="2462040"/>
            <a:ext cx="152640" cy="228240"/>
            <a:chOff x="6216480" y="2462040"/>
            <a:chExt cx="152640" cy="228240"/>
          </a:xfrm>
        </p:grpSpPr>
        <p:sp>
          <p:nvSpPr>
            <p:cNvPr id="2045"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6"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7"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048"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049"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050"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051"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2052"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2053"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4"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5"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6"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057"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2058"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059"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060"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61"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62"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3"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2064"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5"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6"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7"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068" name="Group 128"/>
          <p:cNvGrpSpPr/>
          <p:nvPr/>
        </p:nvGrpSpPr>
        <p:grpSpPr>
          <a:xfrm>
            <a:off x="2819520" y="3389040"/>
            <a:ext cx="159840" cy="500760"/>
            <a:chOff x="2819520" y="3389040"/>
            <a:chExt cx="159840" cy="500760"/>
          </a:xfrm>
        </p:grpSpPr>
        <p:grpSp>
          <p:nvGrpSpPr>
            <p:cNvPr id="2069" name="Group 129"/>
            <p:cNvGrpSpPr/>
            <p:nvPr/>
          </p:nvGrpSpPr>
          <p:grpSpPr>
            <a:xfrm>
              <a:off x="2819520" y="3389040"/>
              <a:ext cx="79200" cy="500760"/>
              <a:chOff x="2819520" y="3389040"/>
              <a:chExt cx="79200" cy="500760"/>
            </a:xfrm>
          </p:grpSpPr>
          <p:sp>
            <p:nvSpPr>
              <p:cNvPr id="2070"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1"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72" name="Group 132"/>
            <p:cNvGrpSpPr/>
            <p:nvPr/>
          </p:nvGrpSpPr>
          <p:grpSpPr>
            <a:xfrm>
              <a:off x="2899080" y="3389040"/>
              <a:ext cx="79920" cy="500760"/>
              <a:chOff x="2899080" y="3389040"/>
              <a:chExt cx="79920" cy="500760"/>
            </a:xfrm>
          </p:grpSpPr>
          <p:sp>
            <p:nvSpPr>
              <p:cNvPr id="2073"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4"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75"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6"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77" name="Group 128"/>
          <p:cNvGrpSpPr/>
          <p:nvPr/>
        </p:nvGrpSpPr>
        <p:grpSpPr>
          <a:xfrm>
            <a:off x="2819520" y="5108040"/>
            <a:ext cx="175680" cy="491760"/>
            <a:chOff x="2819520" y="5108040"/>
            <a:chExt cx="175680" cy="491760"/>
          </a:xfrm>
        </p:grpSpPr>
        <p:grpSp>
          <p:nvGrpSpPr>
            <p:cNvPr id="2078" name="Group 129"/>
            <p:cNvGrpSpPr/>
            <p:nvPr/>
          </p:nvGrpSpPr>
          <p:grpSpPr>
            <a:xfrm>
              <a:off x="2819520" y="5108040"/>
              <a:ext cx="87120" cy="491760"/>
              <a:chOff x="2819520" y="5108040"/>
              <a:chExt cx="87120" cy="491760"/>
            </a:xfrm>
          </p:grpSpPr>
          <p:sp>
            <p:nvSpPr>
              <p:cNvPr id="2079"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0"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81" name="Group 132"/>
            <p:cNvGrpSpPr/>
            <p:nvPr/>
          </p:nvGrpSpPr>
          <p:grpSpPr>
            <a:xfrm>
              <a:off x="2907000" y="5108040"/>
              <a:ext cx="87840" cy="491760"/>
              <a:chOff x="2907000" y="5108040"/>
              <a:chExt cx="87840" cy="491760"/>
            </a:xfrm>
          </p:grpSpPr>
          <p:sp>
            <p:nvSpPr>
              <p:cNvPr id="2082"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3"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84"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5"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86" name="Group 128"/>
          <p:cNvGrpSpPr/>
          <p:nvPr/>
        </p:nvGrpSpPr>
        <p:grpSpPr>
          <a:xfrm>
            <a:off x="4819680" y="5076720"/>
            <a:ext cx="175680" cy="491040"/>
            <a:chOff x="4819680" y="5076720"/>
            <a:chExt cx="175680" cy="491040"/>
          </a:xfrm>
        </p:grpSpPr>
        <p:grpSp>
          <p:nvGrpSpPr>
            <p:cNvPr id="2087" name="Group 129"/>
            <p:cNvGrpSpPr/>
            <p:nvPr/>
          </p:nvGrpSpPr>
          <p:grpSpPr>
            <a:xfrm>
              <a:off x="4819680" y="5076720"/>
              <a:ext cx="87120" cy="491040"/>
              <a:chOff x="4819680" y="5076720"/>
              <a:chExt cx="87120" cy="491040"/>
            </a:xfrm>
          </p:grpSpPr>
          <p:sp>
            <p:nvSpPr>
              <p:cNvPr id="2088"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9"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90" name="Group 132"/>
            <p:cNvGrpSpPr/>
            <p:nvPr/>
          </p:nvGrpSpPr>
          <p:grpSpPr>
            <a:xfrm>
              <a:off x="4907160" y="5076720"/>
              <a:ext cx="87840" cy="491040"/>
              <a:chOff x="4907160" y="5076720"/>
              <a:chExt cx="87840" cy="491040"/>
            </a:xfrm>
          </p:grpSpPr>
          <p:sp>
            <p:nvSpPr>
              <p:cNvPr id="2091"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2"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93"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4"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95"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096"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097"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8"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99"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100"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1"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102"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103"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4"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105"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6"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107" name="Group 176"/>
          <p:cNvGrpSpPr/>
          <p:nvPr/>
        </p:nvGrpSpPr>
        <p:grpSpPr>
          <a:xfrm>
            <a:off x="1638360" y="7424640"/>
            <a:ext cx="626760" cy="861480"/>
            <a:chOff x="1638360" y="7424640"/>
            <a:chExt cx="626760" cy="861480"/>
          </a:xfrm>
        </p:grpSpPr>
        <p:sp>
          <p:nvSpPr>
            <p:cNvPr id="2108"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9"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0"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1"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112" name="Group 176"/>
          <p:cNvGrpSpPr/>
          <p:nvPr/>
        </p:nvGrpSpPr>
        <p:grpSpPr>
          <a:xfrm>
            <a:off x="1582560" y="2273040"/>
            <a:ext cx="780840" cy="604800"/>
            <a:chOff x="1582560" y="2273040"/>
            <a:chExt cx="780840" cy="604800"/>
          </a:xfrm>
        </p:grpSpPr>
        <p:sp>
          <p:nvSpPr>
            <p:cNvPr id="2113"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4"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5"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6"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17"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18"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119"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120" name="Group 140"/>
          <p:cNvGrpSpPr/>
          <p:nvPr/>
        </p:nvGrpSpPr>
        <p:grpSpPr>
          <a:xfrm>
            <a:off x="4979880" y="1608120"/>
            <a:ext cx="362160" cy="133200"/>
            <a:chOff x="4979880" y="1608120"/>
            <a:chExt cx="362160" cy="133200"/>
          </a:xfrm>
        </p:grpSpPr>
        <p:sp>
          <p:nvSpPr>
            <p:cNvPr id="2121"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2"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3"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4"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125"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126"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127" name="Group 176"/>
          <p:cNvGrpSpPr/>
          <p:nvPr/>
        </p:nvGrpSpPr>
        <p:grpSpPr>
          <a:xfrm>
            <a:off x="3492360" y="7531200"/>
            <a:ext cx="857160" cy="704160"/>
            <a:chOff x="3492360" y="7531200"/>
            <a:chExt cx="857160" cy="704160"/>
          </a:xfrm>
        </p:grpSpPr>
        <p:sp>
          <p:nvSpPr>
            <p:cNvPr id="2128"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9"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0"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1"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32"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133"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2134" name="Group 199"/>
          <p:cNvGrpSpPr/>
          <p:nvPr/>
        </p:nvGrpSpPr>
        <p:grpSpPr>
          <a:xfrm>
            <a:off x="5607000" y="1336680"/>
            <a:ext cx="814680" cy="46080"/>
            <a:chOff x="5607000" y="1336680"/>
            <a:chExt cx="814680" cy="46080"/>
          </a:xfrm>
        </p:grpSpPr>
        <p:sp>
          <p:nvSpPr>
            <p:cNvPr id="2135"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6"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37"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138" name="Group 199"/>
          <p:cNvGrpSpPr/>
          <p:nvPr/>
        </p:nvGrpSpPr>
        <p:grpSpPr>
          <a:xfrm>
            <a:off x="3591720" y="1300320"/>
            <a:ext cx="778320" cy="45720"/>
            <a:chOff x="3591720" y="1300320"/>
            <a:chExt cx="778320" cy="45720"/>
          </a:xfrm>
        </p:grpSpPr>
        <p:sp>
          <p:nvSpPr>
            <p:cNvPr id="2139"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40"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41"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2142"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43"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144"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145"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2146"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2147" name="Group 62"/>
          <p:cNvGrpSpPr/>
          <p:nvPr/>
        </p:nvGrpSpPr>
        <p:grpSpPr>
          <a:xfrm>
            <a:off x="5665680" y="993600"/>
            <a:ext cx="152640" cy="228240"/>
            <a:chOff x="5665680" y="993600"/>
            <a:chExt cx="152640" cy="228240"/>
          </a:xfrm>
        </p:grpSpPr>
        <p:sp>
          <p:nvSpPr>
            <p:cNvPr id="2148"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9"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0"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51"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52"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153"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154"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5"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56"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157"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8"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159"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160"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161" name="Group 62"/>
          <p:cNvGrpSpPr/>
          <p:nvPr/>
        </p:nvGrpSpPr>
        <p:grpSpPr>
          <a:xfrm>
            <a:off x="2072880" y="2670120"/>
            <a:ext cx="151920" cy="228240"/>
            <a:chOff x="2072880" y="2670120"/>
            <a:chExt cx="151920" cy="228240"/>
          </a:xfrm>
        </p:grpSpPr>
        <p:sp>
          <p:nvSpPr>
            <p:cNvPr id="2162"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3"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64"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65"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66"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167"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168"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2169"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70"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171" name="Group 1"/>
          <p:cNvGrpSpPr/>
          <p:nvPr/>
        </p:nvGrpSpPr>
        <p:grpSpPr>
          <a:xfrm>
            <a:off x="5481720" y="5948280"/>
            <a:ext cx="457200" cy="596520"/>
            <a:chOff x="5481720" y="5948280"/>
            <a:chExt cx="457200" cy="596520"/>
          </a:xfrm>
        </p:grpSpPr>
        <p:sp>
          <p:nvSpPr>
            <p:cNvPr id="2172"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173"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174"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175"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2176"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77"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178" name="Group 176"/>
          <p:cNvGrpSpPr/>
          <p:nvPr/>
        </p:nvGrpSpPr>
        <p:grpSpPr>
          <a:xfrm>
            <a:off x="1582560" y="761760"/>
            <a:ext cx="607680" cy="633240"/>
            <a:chOff x="1582560" y="761760"/>
            <a:chExt cx="607680" cy="633240"/>
          </a:xfrm>
        </p:grpSpPr>
        <p:sp>
          <p:nvSpPr>
            <p:cNvPr id="2179"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80"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81"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2182"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2183"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184" name="Group 74"/>
          <p:cNvGrpSpPr/>
          <p:nvPr/>
        </p:nvGrpSpPr>
        <p:grpSpPr>
          <a:xfrm>
            <a:off x="2357280" y="6808680"/>
            <a:ext cx="276480" cy="496800"/>
            <a:chOff x="2357280" y="6808680"/>
            <a:chExt cx="276480" cy="496800"/>
          </a:xfrm>
        </p:grpSpPr>
        <p:sp>
          <p:nvSpPr>
            <p:cNvPr id="2185"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186"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87"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88"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89"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90"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91"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2192"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3"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194"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5"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00 CFM</a:t>
            </a:r>
            <a:endParaRPr b="0" lang="en-US" sz="800" spc="-1" strike="noStrike">
              <a:solidFill>
                <a:srgbClr val="000000"/>
              </a:solidFill>
              <a:latin typeface="Arial"/>
            </a:endParaRPr>
          </a:p>
        </p:txBody>
      </p:sp>
      <p:sp>
        <p:nvSpPr>
          <p:cNvPr id="2196"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7"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8"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199"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200"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2201" name="Group 74"/>
          <p:cNvGrpSpPr/>
          <p:nvPr/>
        </p:nvGrpSpPr>
        <p:grpSpPr>
          <a:xfrm>
            <a:off x="1612800" y="2930400"/>
            <a:ext cx="763200" cy="276480"/>
            <a:chOff x="1612800" y="2930400"/>
            <a:chExt cx="763200" cy="276480"/>
          </a:xfrm>
        </p:grpSpPr>
        <p:sp>
          <p:nvSpPr>
            <p:cNvPr id="2202"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203"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204" name="Group 74"/>
          <p:cNvGrpSpPr/>
          <p:nvPr/>
        </p:nvGrpSpPr>
        <p:grpSpPr>
          <a:xfrm>
            <a:off x="1574640" y="1298520"/>
            <a:ext cx="774360" cy="276480"/>
            <a:chOff x="1574640" y="1298520"/>
            <a:chExt cx="774360" cy="276480"/>
          </a:xfrm>
        </p:grpSpPr>
        <p:sp>
          <p:nvSpPr>
            <p:cNvPr id="2205"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206"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207" name="Group 173"/>
          <p:cNvGrpSpPr/>
          <p:nvPr/>
        </p:nvGrpSpPr>
        <p:grpSpPr>
          <a:xfrm>
            <a:off x="5989680" y="1405080"/>
            <a:ext cx="123840" cy="125280"/>
            <a:chOff x="5989680" y="1405080"/>
            <a:chExt cx="123840" cy="125280"/>
          </a:xfrm>
        </p:grpSpPr>
        <p:sp>
          <p:nvSpPr>
            <p:cNvPr id="2208"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9"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0" name="Group 173"/>
          <p:cNvGrpSpPr/>
          <p:nvPr/>
        </p:nvGrpSpPr>
        <p:grpSpPr>
          <a:xfrm>
            <a:off x="2862360" y="1828800"/>
            <a:ext cx="123840" cy="125280"/>
            <a:chOff x="2862360" y="1828800"/>
            <a:chExt cx="123840" cy="125280"/>
          </a:xfrm>
        </p:grpSpPr>
        <p:sp>
          <p:nvSpPr>
            <p:cNvPr id="2211"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2"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3" name="Group 173"/>
          <p:cNvGrpSpPr/>
          <p:nvPr/>
        </p:nvGrpSpPr>
        <p:grpSpPr>
          <a:xfrm>
            <a:off x="4118040" y="1428840"/>
            <a:ext cx="123840" cy="125280"/>
            <a:chOff x="4118040" y="1428840"/>
            <a:chExt cx="123840" cy="125280"/>
          </a:xfrm>
        </p:grpSpPr>
        <p:sp>
          <p:nvSpPr>
            <p:cNvPr id="2214"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5"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6" name="Group 173"/>
          <p:cNvGrpSpPr/>
          <p:nvPr/>
        </p:nvGrpSpPr>
        <p:grpSpPr>
          <a:xfrm>
            <a:off x="2193840" y="1459080"/>
            <a:ext cx="123840" cy="125280"/>
            <a:chOff x="2193840" y="1459080"/>
            <a:chExt cx="123840" cy="125280"/>
          </a:xfrm>
        </p:grpSpPr>
        <p:sp>
          <p:nvSpPr>
            <p:cNvPr id="2217"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8"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9" name="Group 173"/>
          <p:cNvGrpSpPr/>
          <p:nvPr/>
        </p:nvGrpSpPr>
        <p:grpSpPr>
          <a:xfrm>
            <a:off x="2527200" y="3621240"/>
            <a:ext cx="123840" cy="125280"/>
            <a:chOff x="2527200" y="3621240"/>
            <a:chExt cx="123840" cy="125280"/>
          </a:xfrm>
        </p:grpSpPr>
        <p:sp>
          <p:nvSpPr>
            <p:cNvPr id="2220"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1"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22" name="Group 173"/>
          <p:cNvGrpSpPr/>
          <p:nvPr/>
        </p:nvGrpSpPr>
        <p:grpSpPr>
          <a:xfrm>
            <a:off x="2158920" y="3147840"/>
            <a:ext cx="123840" cy="125640"/>
            <a:chOff x="2158920" y="3147840"/>
            <a:chExt cx="123840" cy="125640"/>
          </a:xfrm>
        </p:grpSpPr>
        <p:sp>
          <p:nvSpPr>
            <p:cNvPr id="2223"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4"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25" name="Group 173"/>
          <p:cNvGrpSpPr/>
          <p:nvPr/>
        </p:nvGrpSpPr>
        <p:grpSpPr>
          <a:xfrm>
            <a:off x="3830760" y="8809200"/>
            <a:ext cx="123840" cy="125280"/>
            <a:chOff x="3830760" y="8809200"/>
            <a:chExt cx="123840" cy="125280"/>
          </a:xfrm>
        </p:grpSpPr>
        <p:sp>
          <p:nvSpPr>
            <p:cNvPr id="2226"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7"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28" name="Group 173"/>
          <p:cNvGrpSpPr/>
          <p:nvPr/>
        </p:nvGrpSpPr>
        <p:grpSpPr>
          <a:xfrm>
            <a:off x="5996160" y="3166920"/>
            <a:ext cx="123480" cy="125640"/>
            <a:chOff x="5996160" y="3166920"/>
            <a:chExt cx="123480" cy="125640"/>
          </a:xfrm>
        </p:grpSpPr>
        <p:sp>
          <p:nvSpPr>
            <p:cNvPr id="2229"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0"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31" name="Group 173"/>
          <p:cNvGrpSpPr/>
          <p:nvPr/>
        </p:nvGrpSpPr>
        <p:grpSpPr>
          <a:xfrm>
            <a:off x="3935520" y="3051000"/>
            <a:ext cx="125280" cy="125640"/>
            <a:chOff x="3935520" y="3051000"/>
            <a:chExt cx="125280" cy="125640"/>
          </a:xfrm>
        </p:grpSpPr>
        <p:sp>
          <p:nvSpPr>
            <p:cNvPr id="2232"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3"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34" name="Group 173"/>
          <p:cNvGrpSpPr/>
          <p:nvPr/>
        </p:nvGrpSpPr>
        <p:grpSpPr>
          <a:xfrm>
            <a:off x="5983200" y="1071720"/>
            <a:ext cx="123840" cy="125280"/>
            <a:chOff x="5983200" y="1071720"/>
            <a:chExt cx="123840" cy="125280"/>
          </a:xfrm>
        </p:grpSpPr>
        <p:sp>
          <p:nvSpPr>
            <p:cNvPr id="2235"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6"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37" name="Group 173"/>
          <p:cNvGrpSpPr/>
          <p:nvPr/>
        </p:nvGrpSpPr>
        <p:grpSpPr>
          <a:xfrm>
            <a:off x="2303640" y="7164360"/>
            <a:ext cx="123480" cy="125280"/>
            <a:chOff x="2303640" y="7164360"/>
            <a:chExt cx="123480" cy="125280"/>
          </a:xfrm>
        </p:grpSpPr>
        <p:sp>
          <p:nvSpPr>
            <p:cNvPr id="2238"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9"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40"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241"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2242" name="Group 74"/>
          <p:cNvGrpSpPr/>
          <p:nvPr/>
        </p:nvGrpSpPr>
        <p:grpSpPr>
          <a:xfrm>
            <a:off x="3556080" y="4576680"/>
            <a:ext cx="806040" cy="276480"/>
            <a:chOff x="3556080" y="4576680"/>
            <a:chExt cx="806040" cy="276480"/>
          </a:xfrm>
        </p:grpSpPr>
        <p:sp>
          <p:nvSpPr>
            <p:cNvPr id="2243"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244"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245" name="Group 173"/>
          <p:cNvGrpSpPr/>
          <p:nvPr/>
        </p:nvGrpSpPr>
        <p:grpSpPr>
          <a:xfrm>
            <a:off x="3892680" y="4902120"/>
            <a:ext cx="123840" cy="125640"/>
            <a:chOff x="3892680" y="4902120"/>
            <a:chExt cx="123840" cy="125640"/>
          </a:xfrm>
        </p:grpSpPr>
        <p:sp>
          <p:nvSpPr>
            <p:cNvPr id="2246"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7"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48"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249"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250" name="Group 1"/>
          <p:cNvGrpSpPr/>
          <p:nvPr/>
        </p:nvGrpSpPr>
        <p:grpSpPr>
          <a:xfrm>
            <a:off x="3463920" y="4003560"/>
            <a:ext cx="457200" cy="596520"/>
            <a:chOff x="3463920" y="4003560"/>
            <a:chExt cx="457200" cy="596520"/>
          </a:xfrm>
        </p:grpSpPr>
        <p:sp>
          <p:nvSpPr>
            <p:cNvPr id="2251"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252"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253"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254"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2255" name="Group 57"/>
          <p:cNvGrpSpPr/>
          <p:nvPr/>
        </p:nvGrpSpPr>
        <p:grpSpPr>
          <a:xfrm>
            <a:off x="3967200" y="2808360"/>
            <a:ext cx="63360" cy="194760"/>
            <a:chOff x="3967200" y="2808360"/>
            <a:chExt cx="63360" cy="194760"/>
          </a:xfrm>
        </p:grpSpPr>
        <p:sp>
          <p:nvSpPr>
            <p:cNvPr id="2256"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7"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58"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259"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2260" name="Group 57"/>
          <p:cNvGrpSpPr/>
          <p:nvPr/>
        </p:nvGrpSpPr>
        <p:grpSpPr>
          <a:xfrm>
            <a:off x="1973160" y="1125000"/>
            <a:ext cx="195480" cy="64080"/>
            <a:chOff x="1973160" y="1125000"/>
            <a:chExt cx="195480" cy="64080"/>
          </a:xfrm>
        </p:grpSpPr>
        <p:sp>
          <p:nvSpPr>
            <p:cNvPr id="2261"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2"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63"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264"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2265" name="Group 57"/>
          <p:cNvGrpSpPr/>
          <p:nvPr/>
        </p:nvGrpSpPr>
        <p:grpSpPr>
          <a:xfrm>
            <a:off x="5765400" y="2446200"/>
            <a:ext cx="64080" cy="195480"/>
            <a:chOff x="5765400" y="2446200"/>
            <a:chExt cx="64080" cy="195480"/>
          </a:xfrm>
        </p:grpSpPr>
        <p:sp>
          <p:nvSpPr>
            <p:cNvPr id="2266"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7"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68"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2269"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2270" name="Group 57"/>
          <p:cNvGrpSpPr/>
          <p:nvPr/>
        </p:nvGrpSpPr>
        <p:grpSpPr>
          <a:xfrm>
            <a:off x="3596760" y="4218120"/>
            <a:ext cx="64080" cy="194760"/>
            <a:chOff x="3596760" y="4218120"/>
            <a:chExt cx="64080" cy="194760"/>
          </a:xfrm>
        </p:grpSpPr>
        <p:sp>
          <p:nvSpPr>
            <p:cNvPr id="2271"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2"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73"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274"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2275" name="Group 62"/>
          <p:cNvGrpSpPr/>
          <p:nvPr/>
        </p:nvGrpSpPr>
        <p:grpSpPr>
          <a:xfrm>
            <a:off x="4046400" y="4238640"/>
            <a:ext cx="152640" cy="228240"/>
            <a:chOff x="4046400" y="4238640"/>
            <a:chExt cx="152640" cy="228240"/>
          </a:xfrm>
        </p:grpSpPr>
        <p:sp>
          <p:nvSpPr>
            <p:cNvPr id="2276"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7"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78"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279"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280"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281"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282"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2283"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2284" name="Group 173"/>
          <p:cNvGrpSpPr/>
          <p:nvPr/>
        </p:nvGrpSpPr>
        <p:grpSpPr>
          <a:xfrm>
            <a:off x="5913360" y="8271000"/>
            <a:ext cx="123840" cy="125280"/>
            <a:chOff x="5913360" y="8271000"/>
            <a:chExt cx="123840" cy="125280"/>
          </a:xfrm>
        </p:grpSpPr>
        <p:sp>
          <p:nvSpPr>
            <p:cNvPr id="2285"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6"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87"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2288"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89"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290"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91"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2292"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293"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94"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2295" name="Group 173"/>
          <p:cNvGrpSpPr/>
          <p:nvPr/>
        </p:nvGrpSpPr>
        <p:grpSpPr>
          <a:xfrm>
            <a:off x="1838160" y="4843440"/>
            <a:ext cx="123840" cy="125280"/>
            <a:chOff x="1838160" y="4843440"/>
            <a:chExt cx="123840" cy="125280"/>
          </a:xfrm>
        </p:grpSpPr>
        <p:sp>
          <p:nvSpPr>
            <p:cNvPr id="2296"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7"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98"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299"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300"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01"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302"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2303"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304"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305"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06"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07"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8"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9" name="AutoShape 195"/>
          <p:cNvSpPr/>
          <p:nvPr/>
        </p:nvSpPr>
        <p:spPr>
          <a:xfrm rot="10800000">
            <a:off x="4729320" y="8673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0" name="AutoShape 195"/>
          <p:cNvSpPr/>
          <p:nvPr/>
        </p:nvSpPr>
        <p:spPr>
          <a:xfrm rot="16200000">
            <a:off x="5802120" y="91818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1" name="AutoShape 195"/>
          <p:cNvSpPr/>
          <p:nvPr/>
        </p:nvSpPr>
        <p:spPr>
          <a:xfrm rot="16200000">
            <a:off x="3692520" y="59324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2"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3"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4" name="AutoShape 195"/>
          <p:cNvSpPr/>
          <p:nvPr/>
        </p:nvSpPr>
        <p:spPr>
          <a:xfrm rot="16200000">
            <a:off x="3747960" y="74070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5" name="Minus Sign 14"/>
          <p:cNvSpPr/>
          <p:nvPr/>
        </p:nvSpPr>
        <p:spPr>
          <a:xfrm>
            <a:off x="1487520" y="4614840"/>
            <a:ext cx="914400" cy="355680"/>
          </a:xfrm>
          <a:custGeom>
            <a:avLst/>
            <a:gdLst/>
            <a:ahLst/>
            <a:rect l="l" t="t" r="r" b="b"/>
            <a:pathLst>
              <a:path w="914400" h="355600">
                <a:moveTo>
                  <a:pt x="121204" y="135981"/>
                </a:moveTo>
                <a:lnTo>
                  <a:pt x="793196" y="135981"/>
                </a:lnTo>
                <a:lnTo>
                  <a:pt x="793196" y="219619"/>
                </a:lnTo>
                <a:lnTo>
                  <a:pt x="121204" y="219619"/>
                </a:lnTo>
                <a:lnTo>
                  <a:pt x="12120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16" name="Minus Sign 15"/>
          <p:cNvSpPr/>
          <p:nvPr/>
        </p:nvSpPr>
        <p:spPr>
          <a:xfrm rot="16200000">
            <a:off x="4448160" y="5165280"/>
            <a:ext cx="698760" cy="304920"/>
          </a:xfrm>
          <a:custGeom>
            <a:avLst/>
            <a:gdLst/>
            <a:ahLst/>
            <a:rect l="l" t="t" r="r" b="b"/>
            <a:pathLst>
              <a:path w="698500" h="304800">
                <a:moveTo>
                  <a:pt x="92586" y="116556"/>
                </a:moveTo>
                <a:lnTo>
                  <a:pt x="605914" y="116556"/>
                </a:lnTo>
                <a:lnTo>
                  <a:pt x="605914" y="188244"/>
                </a:lnTo>
                <a:lnTo>
                  <a:pt x="92586" y="188244"/>
                </a:lnTo>
                <a:lnTo>
                  <a:pt x="92586" y="116556"/>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17" name="Minus Sign 16"/>
          <p:cNvSpPr/>
          <p:nvPr/>
        </p:nvSpPr>
        <p:spPr>
          <a:xfrm>
            <a:off x="5464080" y="4684680"/>
            <a:ext cx="1069920" cy="355680"/>
          </a:xfrm>
          <a:custGeom>
            <a:avLst/>
            <a:gdLst/>
            <a:ahLst/>
            <a:rect l="l" t="t" r="r" b="b"/>
            <a:pathLst>
              <a:path w="1069975" h="355600">
                <a:moveTo>
                  <a:pt x="141825" y="135981"/>
                </a:moveTo>
                <a:lnTo>
                  <a:pt x="928150" y="135981"/>
                </a:lnTo>
                <a:lnTo>
                  <a:pt x="928150" y="219619"/>
                </a:lnTo>
                <a:lnTo>
                  <a:pt x="141825" y="219619"/>
                </a:lnTo>
                <a:lnTo>
                  <a:pt x="14182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18"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9" name="Oval 2"/>
          <p:cNvSpPr/>
          <p:nvPr/>
        </p:nvSpPr>
        <p:spPr>
          <a:xfrm>
            <a:off x="3865680" y="4883040"/>
            <a:ext cx="94752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2320" name="Line 84"/>
          <p:cNvSpPr/>
          <p:nvPr/>
        </p:nvSpPr>
        <p:spPr>
          <a:xfrm flipV="1">
            <a:off x="3489480" y="4935600"/>
            <a:ext cx="322200" cy="7048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21" name="Group 173"/>
          <p:cNvGrpSpPr/>
          <p:nvPr/>
        </p:nvGrpSpPr>
        <p:grpSpPr>
          <a:xfrm>
            <a:off x="4575240" y="1801800"/>
            <a:ext cx="123840" cy="125280"/>
            <a:chOff x="4575240" y="1801800"/>
            <a:chExt cx="123840" cy="125280"/>
          </a:xfrm>
        </p:grpSpPr>
        <p:sp>
          <p:nvSpPr>
            <p:cNvPr id="2322"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3"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24"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325"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26"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27" name="Group 173"/>
          <p:cNvGrpSpPr/>
          <p:nvPr/>
        </p:nvGrpSpPr>
        <p:grpSpPr>
          <a:xfrm>
            <a:off x="5710320" y="2098800"/>
            <a:ext cx="123840" cy="125280"/>
            <a:chOff x="5710320" y="2098800"/>
            <a:chExt cx="123840" cy="125280"/>
          </a:xfrm>
        </p:grpSpPr>
        <p:sp>
          <p:nvSpPr>
            <p:cNvPr id="2328"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9"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330" name="Group 74"/>
          <p:cNvGrpSpPr/>
          <p:nvPr/>
        </p:nvGrpSpPr>
        <p:grpSpPr>
          <a:xfrm>
            <a:off x="5611680" y="2143080"/>
            <a:ext cx="787320" cy="276480"/>
            <a:chOff x="5611680" y="2143080"/>
            <a:chExt cx="787320" cy="276480"/>
          </a:xfrm>
        </p:grpSpPr>
        <p:sp>
          <p:nvSpPr>
            <p:cNvPr id="2331"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332"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333"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334"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35" name="Group 173"/>
          <p:cNvGrpSpPr/>
          <p:nvPr/>
        </p:nvGrpSpPr>
        <p:grpSpPr>
          <a:xfrm>
            <a:off x="4068720" y="4546440"/>
            <a:ext cx="123840" cy="125640"/>
            <a:chOff x="4068720" y="4546440"/>
            <a:chExt cx="123840" cy="125640"/>
          </a:xfrm>
        </p:grpSpPr>
        <p:sp>
          <p:nvSpPr>
            <p:cNvPr id="2336"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37"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38"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39" name="Group 1"/>
          <p:cNvGrpSpPr/>
          <p:nvPr/>
        </p:nvGrpSpPr>
        <p:grpSpPr>
          <a:xfrm>
            <a:off x="1496880" y="3952800"/>
            <a:ext cx="457200" cy="596520"/>
            <a:chOff x="1496880" y="3952800"/>
            <a:chExt cx="457200" cy="596520"/>
          </a:xfrm>
        </p:grpSpPr>
        <p:sp>
          <p:nvSpPr>
            <p:cNvPr id="2340"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341"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342"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343"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344"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345"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46"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80,000 cfm over crack in bottom and 80,000 cfm at #2 fan</a:t>
            </a:r>
            <a:endParaRPr b="0" lang="en-US" sz="800" spc="-1" strike="noStrike">
              <a:solidFill>
                <a:srgbClr val="000000"/>
              </a:solidFill>
              <a:latin typeface="Arial"/>
            </a:endParaRPr>
          </a:p>
        </p:txBody>
      </p:sp>
      <p:grpSp>
        <p:nvGrpSpPr>
          <p:cNvPr id="2347" name="Group 173"/>
          <p:cNvGrpSpPr/>
          <p:nvPr/>
        </p:nvGrpSpPr>
        <p:grpSpPr>
          <a:xfrm>
            <a:off x="3191040" y="3629160"/>
            <a:ext cx="123840" cy="125280"/>
            <a:chOff x="3191040" y="3629160"/>
            <a:chExt cx="123840" cy="125280"/>
          </a:xfrm>
        </p:grpSpPr>
        <p:sp>
          <p:nvSpPr>
            <p:cNvPr id="2348"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49"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50"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51"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352"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353"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54" name="Group 173"/>
          <p:cNvGrpSpPr/>
          <p:nvPr/>
        </p:nvGrpSpPr>
        <p:grpSpPr>
          <a:xfrm>
            <a:off x="5932440" y="6226200"/>
            <a:ext cx="125640" cy="125280"/>
            <a:chOff x="5932440" y="6226200"/>
            <a:chExt cx="125640" cy="125280"/>
          </a:xfrm>
        </p:grpSpPr>
        <p:sp>
          <p:nvSpPr>
            <p:cNvPr id="2355"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6"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57"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358"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59" name="Group 173"/>
          <p:cNvGrpSpPr/>
          <p:nvPr/>
        </p:nvGrpSpPr>
        <p:grpSpPr>
          <a:xfrm>
            <a:off x="5938920" y="5651640"/>
            <a:ext cx="123840" cy="125280"/>
            <a:chOff x="5938920" y="5651640"/>
            <a:chExt cx="123840" cy="125280"/>
          </a:xfrm>
        </p:grpSpPr>
        <p:sp>
          <p:nvSpPr>
            <p:cNvPr id="2360"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1"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62"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363" name="Minus Sign 22"/>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2364" name="Group 173"/>
          <p:cNvGrpSpPr/>
          <p:nvPr/>
        </p:nvGrpSpPr>
        <p:grpSpPr>
          <a:xfrm>
            <a:off x="5856120" y="3581280"/>
            <a:ext cx="123840" cy="125640"/>
            <a:chOff x="5856120" y="3581280"/>
            <a:chExt cx="123840" cy="125640"/>
          </a:xfrm>
        </p:grpSpPr>
        <p:sp>
          <p:nvSpPr>
            <p:cNvPr id="2365"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6"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67"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68"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369"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370"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371"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72"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2373" name="Group 173"/>
          <p:cNvGrpSpPr/>
          <p:nvPr/>
        </p:nvGrpSpPr>
        <p:grpSpPr>
          <a:xfrm>
            <a:off x="2208240" y="1292400"/>
            <a:ext cx="123840" cy="125280"/>
            <a:chOff x="2208240" y="1292400"/>
            <a:chExt cx="123840" cy="125280"/>
          </a:xfrm>
        </p:grpSpPr>
        <p:sp>
          <p:nvSpPr>
            <p:cNvPr id="2374"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75"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76"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2377"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378"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79"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380" name="Group 173"/>
          <p:cNvGrpSpPr/>
          <p:nvPr/>
        </p:nvGrpSpPr>
        <p:grpSpPr>
          <a:xfrm>
            <a:off x="2673360" y="7034040"/>
            <a:ext cx="123840" cy="125640"/>
            <a:chOff x="2673360" y="7034040"/>
            <a:chExt cx="123840" cy="125640"/>
          </a:xfrm>
        </p:grpSpPr>
        <p:sp>
          <p:nvSpPr>
            <p:cNvPr id="2381"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82"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83"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384" name="Group 62"/>
          <p:cNvGrpSpPr/>
          <p:nvPr/>
        </p:nvGrpSpPr>
        <p:grpSpPr>
          <a:xfrm>
            <a:off x="2514240" y="6934320"/>
            <a:ext cx="151920" cy="228240"/>
            <a:chOff x="2514240" y="6934320"/>
            <a:chExt cx="151920" cy="228240"/>
          </a:xfrm>
        </p:grpSpPr>
        <p:sp>
          <p:nvSpPr>
            <p:cNvPr id="2385"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86"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87"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388"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389"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390"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391"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92"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2393"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394"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395"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7"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2398"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399"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0"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1"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2"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3"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2404"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5"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6"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7"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8"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9"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10"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11"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2"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3"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4"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5"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6"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7"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8"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FOURTH VENTILATION</a:t>
            </a:r>
            <a:endParaRPr b="0" lang="en-US" sz="1600" spc="-1" strike="noStrike">
              <a:solidFill>
                <a:srgbClr val="000000"/>
              </a:solidFill>
              <a:latin typeface="Arial"/>
            </a:endParaRPr>
          </a:p>
        </p:txBody>
      </p:sp>
      <p:grpSp>
        <p:nvGrpSpPr>
          <p:cNvPr id="2419" name="Group 99"/>
          <p:cNvGrpSpPr/>
          <p:nvPr/>
        </p:nvGrpSpPr>
        <p:grpSpPr>
          <a:xfrm>
            <a:off x="3503520" y="6756480"/>
            <a:ext cx="848520" cy="583920"/>
            <a:chOff x="3503520" y="6756480"/>
            <a:chExt cx="848520" cy="583920"/>
          </a:xfrm>
        </p:grpSpPr>
        <p:sp>
          <p:nvSpPr>
            <p:cNvPr id="2420"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1"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2"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3"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424" name="Group 99"/>
          <p:cNvGrpSpPr/>
          <p:nvPr/>
        </p:nvGrpSpPr>
        <p:grpSpPr>
          <a:xfrm>
            <a:off x="3568680" y="3341160"/>
            <a:ext cx="812160" cy="586080"/>
            <a:chOff x="3568680" y="3341160"/>
            <a:chExt cx="812160" cy="586080"/>
          </a:xfrm>
        </p:grpSpPr>
        <p:sp>
          <p:nvSpPr>
            <p:cNvPr id="2425"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6"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7"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8"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429"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0"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1"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2"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3"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434"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435"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2436"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437"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38"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39"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0"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1"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2"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3"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4"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5"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46"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447"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448"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449"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0"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451"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2452"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53"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54"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55"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456"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7"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8"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9"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460" name="Group 140"/>
          <p:cNvGrpSpPr/>
          <p:nvPr/>
        </p:nvGrpSpPr>
        <p:grpSpPr>
          <a:xfrm>
            <a:off x="6141960" y="7472160"/>
            <a:ext cx="228600" cy="609840"/>
            <a:chOff x="6141960" y="7472160"/>
            <a:chExt cx="228600" cy="609840"/>
          </a:xfrm>
        </p:grpSpPr>
        <p:sp>
          <p:nvSpPr>
            <p:cNvPr id="2461"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2"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3"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4"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5"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6"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467"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468"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2469"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2470"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71"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2472"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2473" name="Group 109"/>
          <p:cNvGrpSpPr/>
          <p:nvPr/>
        </p:nvGrpSpPr>
        <p:grpSpPr>
          <a:xfrm>
            <a:off x="5618160" y="4379760"/>
            <a:ext cx="788400" cy="237600"/>
            <a:chOff x="5618160" y="4379760"/>
            <a:chExt cx="788400" cy="237600"/>
          </a:xfrm>
        </p:grpSpPr>
        <p:grpSp>
          <p:nvGrpSpPr>
            <p:cNvPr id="2474" name="Group 110"/>
            <p:cNvGrpSpPr/>
            <p:nvPr/>
          </p:nvGrpSpPr>
          <p:grpSpPr>
            <a:xfrm>
              <a:off x="5618160" y="4379760"/>
              <a:ext cx="788400" cy="59400"/>
              <a:chOff x="5618160" y="4379760"/>
              <a:chExt cx="788400" cy="59400"/>
            </a:xfrm>
          </p:grpSpPr>
          <p:sp>
            <p:nvSpPr>
              <p:cNvPr id="2475"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76"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477" name="Group 113"/>
            <p:cNvGrpSpPr/>
            <p:nvPr/>
          </p:nvGrpSpPr>
          <p:grpSpPr>
            <a:xfrm>
              <a:off x="5618160" y="4557960"/>
              <a:ext cx="788400" cy="59400"/>
              <a:chOff x="5618160" y="4557960"/>
              <a:chExt cx="788400" cy="59400"/>
            </a:xfrm>
          </p:grpSpPr>
          <p:sp>
            <p:nvSpPr>
              <p:cNvPr id="2478"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79"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480"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2481"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82"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83"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2484"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2485" name="Group 62"/>
          <p:cNvGrpSpPr/>
          <p:nvPr/>
        </p:nvGrpSpPr>
        <p:grpSpPr>
          <a:xfrm>
            <a:off x="6216480" y="2462040"/>
            <a:ext cx="152640" cy="228240"/>
            <a:chOff x="6216480" y="2462040"/>
            <a:chExt cx="152640" cy="228240"/>
          </a:xfrm>
        </p:grpSpPr>
        <p:sp>
          <p:nvSpPr>
            <p:cNvPr id="2486"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87"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88"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489"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490"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491"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492"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2493"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2494"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5"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6"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7"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498"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2499"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500"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501"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02"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03"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4"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2505"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6"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7"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8"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509" name="Group 128"/>
          <p:cNvGrpSpPr/>
          <p:nvPr/>
        </p:nvGrpSpPr>
        <p:grpSpPr>
          <a:xfrm>
            <a:off x="2819520" y="3389040"/>
            <a:ext cx="159840" cy="500760"/>
            <a:chOff x="2819520" y="3389040"/>
            <a:chExt cx="159840" cy="500760"/>
          </a:xfrm>
        </p:grpSpPr>
        <p:grpSp>
          <p:nvGrpSpPr>
            <p:cNvPr id="2510" name="Group 129"/>
            <p:cNvGrpSpPr/>
            <p:nvPr/>
          </p:nvGrpSpPr>
          <p:grpSpPr>
            <a:xfrm>
              <a:off x="2819520" y="3389040"/>
              <a:ext cx="79200" cy="500760"/>
              <a:chOff x="2819520" y="3389040"/>
              <a:chExt cx="79200" cy="500760"/>
            </a:xfrm>
          </p:grpSpPr>
          <p:sp>
            <p:nvSpPr>
              <p:cNvPr id="2511"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2"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13" name="Group 132"/>
            <p:cNvGrpSpPr/>
            <p:nvPr/>
          </p:nvGrpSpPr>
          <p:grpSpPr>
            <a:xfrm>
              <a:off x="2899080" y="3389040"/>
              <a:ext cx="79920" cy="500760"/>
              <a:chOff x="2899080" y="3389040"/>
              <a:chExt cx="79920" cy="500760"/>
            </a:xfrm>
          </p:grpSpPr>
          <p:sp>
            <p:nvSpPr>
              <p:cNvPr id="2514"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5"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16"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7"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18" name="Group 128"/>
          <p:cNvGrpSpPr/>
          <p:nvPr/>
        </p:nvGrpSpPr>
        <p:grpSpPr>
          <a:xfrm>
            <a:off x="2819520" y="5108040"/>
            <a:ext cx="175680" cy="491760"/>
            <a:chOff x="2819520" y="5108040"/>
            <a:chExt cx="175680" cy="491760"/>
          </a:xfrm>
        </p:grpSpPr>
        <p:grpSp>
          <p:nvGrpSpPr>
            <p:cNvPr id="2519" name="Group 129"/>
            <p:cNvGrpSpPr/>
            <p:nvPr/>
          </p:nvGrpSpPr>
          <p:grpSpPr>
            <a:xfrm>
              <a:off x="2819520" y="5108040"/>
              <a:ext cx="87120" cy="491760"/>
              <a:chOff x="2819520" y="5108040"/>
              <a:chExt cx="87120" cy="491760"/>
            </a:xfrm>
          </p:grpSpPr>
          <p:sp>
            <p:nvSpPr>
              <p:cNvPr id="2520"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21"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22" name="Group 132"/>
            <p:cNvGrpSpPr/>
            <p:nvPr/>
          </p:nvGrpSpPr>
          <p:grpSpPr>
            <a:xfrm>
              <a:off x="2907000" y="5108040"/>
              <a:ext cx="87840" cy="491760"/>
              <a:chOff x="2907000" y="5108040"/>
              <a:chExt cx="87840" cy="491760"/>
            </a:xfrm>
          </p:grpSpPr>
          <p:sp>
            <p:nvSpPr>
              <p:cNvPr id="2523"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24"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25"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26"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27" name="Group 128"/>
          <p:cNvGrpSpPr/>
          <p:nvPr/>
        </p:nvGrpSpPr>
        <p:grpSpPr>
          <a:xfrm>
            <a:off x="4819680" y="5076720"/>
            <a:ext cx="175680" cy="491040"/>
            <a:chOff x="4819680" y="5076720"/>
            <a:chExt cx="175680" cy="491040"/>
          </a:xfrm>
        </p:grpSpPr>
        <p:grpSp>
          <p:nvGrpSpPr>
            <p:cNvPr id="2528" name="Group 129"/>
            <p:cNvGrpSpPr/>
            <p:nvPr/>
          </p:nvGrpSpPr>
          <p:grpSpPr>
            <a:xfrm>
              <a:off x="4819680" y="5076720"/>
              <a:ext cx="87120" cy="491040"/>
              <a:chOff x="4819680" y="5076720"/>
              <a:chExt cx="87120" cy="491040"/>
            </a:xfrm>
          </p:grpSpPr>
          <p:sp>
            <p:nvSpPr>
              <p:cNvPr id="2529"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0"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31" name="Group 132"/>
            <p:cNvGrpSpPr/>
            <p:nvPr/>
          </p:nvGrpSpPr>
          <p:grpSpPr>
            <a:xfrm>
              <a:off x="4907160" y="5076720"/>
              <a:ext cx="87840" cy="491040"/>
              <a:chOff x="4907160" y="5076720"/>
              <a:chExt cx="87840" cy="491040"/>
            </a:xfrm>
          </p:grpSpPr>
          <p:sp>
            <p:nvSpPr>
              <p:cNvPr id="2532"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3"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34"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5"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36"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537"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538"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9"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40"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541"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42"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543"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544"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45"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546"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47"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548" name="Group 176"/>
          <p:cNvGrpSpPr/>
          <p:nvPr/>
        </p:nvGrpSpPr>
        <p:grpSpPr>
          <a:xfrm>
            <a:off x="1638360" y="7424640"/>
            <a:ext cx="626760" cy="861480"/>
            <a:chOff x="1638360" y="7424640"/>
            <a:chExt cx="626760" cy="861480"/>
          </a:xfrm>
        </p:grpSpPr>
        <p:sp>
          <p:nvSpPr>
            <p:cNvPr id="2549"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0"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1"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2"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53" name="Group 176"/>
          <p:cNvGrpSpPr/>
          <p:nvPr/>
        </p:nvGrpSpPr>
        <p:grpSpPr>
          <a:xfrm>
            <a:off x="1582560" y="2273040"/>
            <a:ext cx="780840" cy="604800"/>
            <a:chOff x="1582560" y="2273040"/>
            <a:chExt cx="780840" cy="604800"/>
          </a:xfrm>
        </p:grpSpPr>
        <p:sp>
          <p:nvSpPr>
            <p:cNvPr id="2554"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5"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6"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7"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58"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59"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560"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561" name="Group 140"/>
          <p:cNvGrpSpPr/>
          <p:nvPr/>
        </p:nvGrpSpPr>
        <p:grpSpPr>
          <a:xfrm>
            <a:off x="4979880" y="1608120"/>
            <a:ext cx="362160" cy="133200"/>
            <a:chOff x="4979880" y="1608120"/>
            <a:chExt cx="362160" cy="133200"/>
          </a:xfrm>
        </p:grpSpPr>
        <p:sp>
          <p:nvSpPr>
            <p:cNvPr id="2562"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3"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4"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5"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66"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67"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68" name="Group 176"/>
          <p:cNvGrpSpPr/>
          <p:nvPr/>
        </p:nvGrpSpPr>
        <p:grpSpPr>
          <a:xfrm>
            <a:off x="3492360" y="7531200"/>
            <a:ext cx="857160" cy="704160"/>
            <a:chOff x="3492360" y="7531200"/>
            <a:chExt cx="857160" cy="704160"/>
          </a:xfrm>
        </p:grpSpPr>
        <p:sp>
          <p:nvSpPr>
            <p:cNvPr id="2569"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0"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1"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2"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73"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574"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2575" name="Group 199"/>
          <p:cNvGrpSpPr/>
          <p:nvPr/>
        </p:nvGrpSpPr>
        <p:grpSpPr>
          <a:xfrm>
            <a:off x="5607000" y="1336680"/>
            <a:ext cx="814680" cy="46080"/>
            <a:chOff x="5607000" y="1336680"/>
            <a:chExt cx="814680" cy="46080"/>
          </a:xfrm>
        </p:grpSpPr>
        <p:sp>
          <p:nvSpPr>
            <p:cNvPr id="2576"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7"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78"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579" name="Group 199"/>
          <p:cNvGrpSpPr/>
          <p:nvPr/>
        </p:nvGrpSpPr>
        <p:grpSpPr>
          <a:xfrm>
            <a:off x="3591720" y="1300320"/>
            <a:ext cx="778320" cy="45720"/>
            <a:chOff x="3591720" y="1300320"/>
            <a:chExt cx="778320" cy="45720"/>
          </a:xfrm>
        </p:grpSpPr>
        <p:sp>
          <p:nvSpPr>
            <p:cNvPr id="2580"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81"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82"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2583"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84"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585"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586"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2587"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2588" name="Group 62"/>
          <p:cNvGrpSpPr/>
          <p:nvPr/>
        </p:nvGrpSpPr>
        <p:grpSpPr>
          <a:xfrm>
            <a:off x="5665680" y="993600"/>
            <a:ext cx="152640" cy="228240"/>
            <a:chOff x="5665680" y="993600"/>
            <a:chExt cx="152640" cy="228240"/>
          </a:xfrm>
        </p:grpSpPr>
        <p:sp>
          <p:nvSpPr>
            <p:cNvPr id="2589"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0"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91"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592"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593"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594"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595"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96"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97"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598"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99"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600"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601"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602" name="Group 62"/>
          <p:cNvGrpSpPr/>
          <p:nvPr/>
        </p:nvGrpSpPr>
        <p:grpSpPr>
          <a:xfrm>
            <a:off x="2072880" y="2670120"/>
            <a:ext cx="151920" cy="228240"/>
            <a:chOff x="2072880" y="2670120"/>
            <a:chExt cx="151920" cy="228240"/>
          </a:xfrm>
        </p:grpSpPr>
        <p:sp>
          <p:nvSpPr>
            <p:cNvPr id="2603"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04"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05"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606"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607"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608"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609"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2610"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11"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612" name="Group 1"/>
          <p:cNvGrpSpPr/>
          <p:nvPr/>
        </p:nvGrpSpPr>
        <p:grpSpPr>
          <a:xfrm>
            <a:off x="5481720" y="5948280"/>
            <a:ext cx="457200" cy="596520"/>
            <a:chOff x="5481720" y="5948280"/>
            <a:chExt cx="457200" cy="596520"/>
          </a:xfrm>
        </p:grpSpPr>
        <p:sp>
          <p:nvSpPr>
            <p:cNvPr id="2613"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614"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615"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616"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2617"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18"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19" name="Group 176"/>
          <p:cNvGrpSpPr/>
          <p:nvPr/>
        </p:nvGrpSpPr>
        <p:grpSpPr>
          <a:xfrm>
            <a:off x="1582560" y="761760"/>
            <a:ext cx="607680" cy="633240"/>
            <a:chOff x="1582560" y="761760"/>
            <a:chExt cx="607680" cy="633240"/>
          </a:xfrm>
        </p:grpSpPr>
        <p:sp>
          <p:nvSpPr>
            <p:cNvPr id="2620"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21"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22"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2623"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624"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2625"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26" name="Group 74"/>
          <p:cNvGrpSpPr/>
          <p:nvPr/>
        </p:nvGrpSpPr>
        <p:grpSpPr>
          <a:xfrm>
            <a:off x="2357280" y="6808680"/>
            <a:ext cx="276480" cy="496800"/>
            <a:chOff x="2357280" y="6808680"/>
            <a:chExt cx="276480" cy="496800"/>
          </a:xfrm>
        </p:grpSpPr>
        <p:sp>
          <p:nvSpPr>
            <p:cNvPr id="2627"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628"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29"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30"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31"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32"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2633"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4"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635"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6"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2637"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8"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639"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640"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2641" name="Group 74"/>
          <p:cNvGrpSpPr/>
          <p:nvPr/>
        </p:nvGrpSpPr>
        <p:grpSpPr>
          <a:xfrm>
            <a:off x="1581120" y="2930400"/>
            <a:ext cx="794880" cy="276480"/>
            <a:chOff x="1581120" y="2930400"/>
            <a:chExt cx="794880" cy="276480"/>
          </a:xfrm>
        </p:grpSpPr>
        <p:sp>
          <p:nvSpPr>
            <p:cNvPr id="2642"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643"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644" name="Group 74"/>
          <p:cNvGrpSpPr/>
          <p:nvPr/>
        </p:nvGrpSpPr>
        <p:grpSpPr>
          <a:xfrm>
            <a:off x="1574640" y="1298520"/>
            <a:ext cx="774360" cy="276480"/>
            <a:chOff x="1574640" y="1298520"/>
            <a:chExt cx="774360" cy="276480"/>
          </a:xfrm>
        </p:grpSpPr>
        <p:sp>
          <p:nvSpPr>
            <p:cNvPr id="2645"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646"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647" name="Group 173"/>
          <p:cNvGrpSpPr/>
          <p:nvPr/>
        </p:nvGrpSpPr>
        <p:grpSpPr>
          <a:xfrm>
            <a:off x="5989680" y="1405080"/>
            <a:ext cx="123840" cy="125280"/>
            <a:chOff x="5989680" y="1405080"/>
            <a:chExt cx="123840" cy="125280"/>
          </a:xfrm>
        </p:grpSpPr>
        <p:sp>
          <p:nvSpPr>
            <p:cNvPr id="2648"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9"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0" name="Group 173"/>
          <p:cNvGrpSpPr/>
          <p:nvPr/>
        </p:nvGrpSpPr>
        <p:grpSpPr>
          <a:xfrm>
            <a:off x="2862360" y="1828800"/>
            <a:ext cx="123840" cy="125280"/>
            <a:chOff x="2862360" y="1828800"/>
            <a:chExt cx="123840" cy="125280"/>
          </a:xfrm>
        </p:grpSpPr>
        <p:sp>
          <p:nvSpPr>
            <p:cNvPr id="2651"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2"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3" name="Group 173"/>
          <p:cNvGrpSpPr/>
          <p:nvPr/>
        </p:nvGrpSpPr>
        <p:grpSpPr>
          <a:xfrm>
            <a:off x="4118040" y="1428840"/>
            <a:ext cx="123840" cy="125280"/>
            <a:chOff x="4118040" y="1428840"/>
            <a:chExt cx="123840" cy="125280"/>
          </a:xfrm>
        </p:grpSpPr>
        <p:sp>
          <p:nvSpPr>
            <p:cNvPr id="2654"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5"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6" name="Group 173"/>
          <p:cNvGrpSpPr/>
          <p:nvPr/>
        </p:nvGrpSpPr>
        <p:grpSpPr>
          <a:xfrm>
            <a:off x="2193840" y="1459080"/>
            <a:ext cx="123840" cy="125280"/>
            <a:chOff x="2193840" y="1459080"/>
            <a:chExt cx="123840" cy="125280"/>
          </a:xfrm>
        </p:grpSpPr>
        <p:sp>
          <p:nvSpPr>
            <p:cNvPr id="2657"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8"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9" name="Group 173"/>
          <p:cNvGrpSpPr/>
          <p:nvPr/>
        </p:nvGrpSpPr>
        <p:grpSpPr>
          <a:xfrm>
            <a:off x="2527200" y="3621240"/>
            <a:ext cx="123840" cy="125280"/>
            <a:chOff x="2527200" y="3621240"/>
            <a:chExt cx="123840" cy="125280"/>
          </a:xfrm>
        </p:grpSpPr>
        <p:sp>
          <p:nvSpPr>
            <p:cNvPr id="2660"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61"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62" name="Group 173"/>
          <p:cNvGrpSpPr/>
          <p:nvPr/>
        </p:nvGrpSpPr>
        <p:grpSpPr>
          <a:xfrm>
            <a:off x="2158920" y="3147840"/>
            <a:ext cx="123840" cy="125640"/>
            <a:chOff x="2158920" y="3147840"/>
            <a:chExt cx="123840" cy="125640"/>
          </a:xfrm>
        </p:grpSpPr>
        <p:sp>
          <p:nvSpPr>
            <p:cNvPr id="2663"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64"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65" name="Group 173"/>
          <p:cNvGrpSpPr/>
          <p:nvPr/>
        </p:nvGrpSpPr>
        <p:grpSpPr>
          <a:xfrm>
            <a:off x="3830760" y="8809200"/>
            <a:ext cx="123840" cy="125280"/>
            <a:chOff x="3830760" y="8809200"/>
            <a:chExt cx="123840" cy="125280"/>
          </a:xfrm>
        </p:grpSpPr>
        <p:sp>
          <p:nvSpPr>
            <p:cNvPr id="2666"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67"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68" name="Group 173"/>
          <p:cNvGrpSpPr/>
          <p:nvPr/>
        </p:nvGrpSpPr>
        <p:grpSpPr>
          <a:xfrm>
            <a:off x="5996160" y="3166920"/>
            <a:ext cx="123480" cy="125640"/>
            <a:chOff x="5996160" y="3166920"/>
            <a:chExt cx="123480" cy="125640"/>
          </a:xfrm>
        </p:grpSpPr>
        <p:sp>
          <p:nvSpPr>
            <p:cNvPr id="2669"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0"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71" name="Group 173"/>
          <p:cNvGrpSpPr/>
          <p:nvPr/>
        </p:nvGrpSpPr>
        <p:grpSpPr>
          <a:xfrm>
            <a:off x="3935520" y="3051000"/>
            <a:ext cx="125280" cy="125640"/>
            <a:chOff x="3935520" y="3051000"/>
            <a:chExt cx="125280" cy="125640"/>
          </a:xfrm>
        </p:grpSpPr>
        <p:sp>
          <p:nvSpPr>
            <p:cNvPr id="2672"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3"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74" name="Group 173"/>
          <p:cNvGrpSpPr/>
          <p:nvPr/>
        </p:nvGrpSpPr>
        <p:grpSpPr>
          <a:xfrm>
            <a:off x="5983200" y="1071720"/>
            <a:ext cx="123840" cy="125280"/>
            <a:chOff x="5983200" y="1071720"/>
            <a:chExt cx="123840" cy="125280"/>
          </a:xfrm>
        </p:grpSpPr>
        <p:sp>
          <p:nvSpPr>
            <p:cNvPr id="2675"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6"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77" name="Group 173"/>
          <p:cNvGrpSpPr/>
          <p:nvPr/>
        </p:nvGrpSpPr>
        <p:grpSpPr>
          <a:xfrm>
            <a:off x="2303640" y="7164360"/>
            <a:ext cx="123480" cy="125280"/>
            <a:chOff x="2303640" y="7164360"/>
            <a:chExt cx="123480" cy="125280"/>
          </a:xfrm>
        </p:grpSpPr>
        <p:sp>
          <p:nvSpPr>
            <p:cNvPr id="2678"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9"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680"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681"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682"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83" name="Group 1"/>
          <p:cNvGrpSpPr/>
          <p:nvPr/>
        </p:nvGrpSpPr>
        <p:grpSpPr>
          <a:xfrm>
            <a:off x="3463920" y="4003560"/>
            <a:ext cx="457200" cy="596520"/>
            <a:chOff x="3463920" y="4003560"/>
            <a:chExt cx="457200" cy="596520"/>
          </a:xfrm>
        </p:grpSpPr>
        <p:sp>
          <p:nvSpPr>
            <p:cNvPr id="2684"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685"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686"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687"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2688" name="Group 57"/>
          <p:cNvGrpSpPr/>
          <p:nvPr/>
        </p:nvGrpSpPr>
        <p:grpSpPr>
          <a:xfrm>
            <a:off x="3967200" y="2808360"/>
            <a:ext cx="63360" cy="194760"/>
            <a:chOff x="3967200" y="2808360"/>
            <a:chExt cx="63360" cy="194760"/>
          </a:xfrm>
        </p:grpSpPr>
        <p:sp>
          <p:nvSpPr>
            <p:cNvPr id="2689"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90"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91"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692"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2693" name="Group 57"/>
          <p:cNvGrpSpPr/>
          <p:nvPr/>
        </p:nvGrpSpPr>
        <p:grpSpPr>
          <a:xfrm>
            <a:off x="1973160" y="1125000"/>
            <a:ext cx="195480" cy="64080"/>
            <a:chOff x="1973160" y="1125000"/>
            <a:chExt cx="195480" cy="64080"/>
          </a:xfrm>
        </p:grpSpPr>
        <p:sp>
          <p:nvSpPr>
            <p:cNvPr id="2694"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95"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96"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697"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2698" name="Group 57"/>
          <p:cNvGrpSpPr/>
          <p:nvPr/>
        </p:nvGrpSpPr>
        <p:grpSpPr>
          <a:xfrm>
            <a:off x="5765400" y="2446200"/>
            <a:ext cx="64080" cy="195480"/>
            <a:chOff x="5765400" y="2446200"/>
            <a:chExt cx="64080" cy="195480"/>
          </a:xfrm>
        </p:grpSpPr>
        <p:sp>
          <p:nvSpPr>
            <p:cNvPr id="2699"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0"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01"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2702"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2703" name="Group 57"/>
          <p:cNvGrpSpPr/>
          <p:nvPr/>
        </p:nvGrpSpPr>
        <p:grpSpPr>
          <a:xfrm>
            <a:off x="3596760" y="4218120"/>
            <a:ext cx="64080" cy="194760"/>
            <a:chOff x="3596760" y="4218120"/>
            <a:chExt cx="64080" cy="194760"/>
          </a:xfrm>
        </p:grpSpPr>
        <p:sp>
          <p:nvSpPr>
            <p:cNvPr id="2704"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5"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06"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707"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2708"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709"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10"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2711"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712"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13"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2714" name="Group 173"/>
          <p:cNvGrpSpPr/>
          <p:nvPr/>
        </p:nvGrpSpPr>
        <p:grpSpPr>
          <a:xfrm>
            <a:off x="1838160" y="4843440"/>
            <a:ext cx="123840" cy="125280"/>
            <a:chOff x="1838160" y="4843440"/>
            <a:chExt cx="123840" cy="125280"/>
          </a:xfrm>
        </p:grpSpPr>
        <p:sp>
          <p:nvSpPr>
            <p:cNvPr id="2715"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6"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17"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718"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719"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20"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721"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2722"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723"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724"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25"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26"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7"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8" name="AutoShape 195"/>
          <p:cNvSpPr/>
          <p:nvPr/>
        </p:nvSpPr>
        <p:spPr>
          <a:xfrm rot="16200000">
            <a:off x="5802120" y="91818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9"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0" name="AutoShape 195"/>
          <p:cNvSpPr/>
          <p:nvPr/>
        </p:nvSpPr>
        <p:spPr>
          <a:xfrm rot="16200000">
            <a:off x="5670360" y="768168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1"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2"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3" name="AutoShape 195"/>
          <p:cNvSpPr/>
          <p:nvPr/>
        </p:nvSpPr>
        <p:spPr>
          <a:xfrm rot="10800000">
            <a:off x="4782600" y="701316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4" name="AutoShape 195"/>
          <p:cNvSpPr/>
          <p:nvPr/>
        </p:nvSpPr>
        <p:spPr>
          <a:xfrm rot="16200000">
            <a:off x="3692520" y="59324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5"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6" name="Minus Sign 16"/>
          <p:cNvSpPr/>
          <p:nvPr/>
        </p:nvSpPr>
        <p:spPr>
          <a:xfrm>
            <a:off x="1487520" y="4614840"/>
            <a:ext cx="914400" cy="355680"/>
          </a:xfrm>
          <a:custGeom>
            <a:avLst/>
            <a:gdLst/>
            <a:ahLst/>
            <a:rect l="l" t="t" r="r" b="b"/>
            <a:pathLst>
              <a:path w="914400" h="355600">
                <a:moveTo>
                  <a:pt x="121204" y="135981"/>
                </a:moveTo>
                <a:lnTo>
                  <a:pt x="793196" y="135981"/>
                </a:lnTo>
                <a:lnTo>
                  <a:pt x="793196" y="219619"/>
                </a:lnTo>
                <a:lnTo>
                  <a:pt x="121204" y="219619"/>
                </a:lnTo>
                <a:lnTo>
                  <a:pt x="12120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7" name="Minus Sign 17"/>
          <p:cNvSpPr/>
          <p:nvPr/>
        </p:nvSpPr>
        <p:spPr>
          <a:xfrm>
            <a:off x="5464080" y="4684680"/>
            <a:ext cx="1069920" cy="355680"/>
          </a:xfrm>
          <a:custGeom>
            <a:avLst/>
            <a:gdLst/>
            <a:ahLst/>
            <a:rect l="l" t="t" r="r" b="b"/>
            <a:pathLst>
              <a:path w="1069975" h="355600">
                <a:moveTo>
                  <a:pt x="141825" y="135981"/>
                </a:moveTo>
                <a:lnTo>
                  <a:pt x="928150" y="135981"/>
                </a:lnTo>
                <a:lnTo>
                  <a:pt x="928150" y="219619"/>
                </a:lnTo>
                <a:lnTo>
                  <a:pt x="141825" y="219619"/>
                </a:lnTo>
                <a:lnTo>
                  <a:pt x="14182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8"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9" name="Text Box 69"/>
          <p:cNvSpPr/>
          <p:nvPr/>
        </p:nvSpPr>
        <p:spPr>
          <a:xfrm>
            <a:off x="355680" y="2801880"/>
            <a:ext cx="1130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UST VENTILATE BARRICADE IN #1 AFTER FINDING TIMBERS</a:t>
            </a:r>
            <a:endParaRPr b="0" lang="en-US" sz="800" spc="-1" strike="noStrike">
              <a:solidFill>
                <a:srgbClr val="000000"/>
              </a:solidFill>
              <a:latin typeface="Arial"/>
            </a:endParaRPr>
          </a:p>
        </p:txBody>
      </p:sp>
      <p:sp>
        <p:nvSpPr>
          <p:cNvPr id="2740" name="Line 85"/>
          <p:cNvSpPr/>
          <p:nvPr/>
        </p:nvSpPr>
        <p:spPr>
          <a:xfrm>
            <a:off x="1166760" y="3224160"/>
            <a:ext cx="48744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41"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2"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743" name="Group 57"/>
          <p:cNvGrpSpPr/>
          <p:nvPr/>
        </p:nvGrpSpPr>
        <p:grpSpPr>
          <a:xfrm>
            <a:off x="6305040" y="7500960"/>
            <a:ext cx="64080" cy="194760"/>
            <a:chOff x="6305040" y="7500960"/>
            <a:chExt cx="64080" cy="194760"/>
          </a:xfrm>
        </p:grpSpPr>
        <p:sp>
          <p:nvSpPr>
            <p:cNvPr id="2744"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5"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46"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747"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2748" name="Line 84"/>
          <p:cNvSpPr/>
          <p:nvPr/>
        </p:nvSpPr>
        <p:spPr>
          <a:xfrm flipV="1">
            <a:off x="1639800" y="7053120"/>
            <a:ext cx="719280" cy="270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49" name="Oval 2"/>
          <p:cNvSpPr/>
          <p:nvPr/>
        </p:nvSpPr>
        <p:spPr>
          <a:xfrm>
            <a:off x="852480" y="742140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grpSp>
        <p:nvGrpSpPr>
          <p:cNvPr id="2750" name="Group 173"/>
          <p:cNvGrpSpPr/>
          <p:nvPr/>
        </p:nvGrpSpPr>
        <p:grpSpPr>
          <a:xfrm>
            <a:off x="4575240" y="1801800"/>
            <a:ext cx="123840" cy="125280"/>
            <a:chOff x="4575240" y="1801800"/>
            <a:chExt cx="123840" cy="125280"/>
          </a:xfrm>
        </p:grpSpPr>
        <p:sp>
          <p:nvSpPr>
            <p:cNvPr id="2751"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2"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53"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754"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55"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756" name="Group 173"/>
          <p:cNvGrpSpPr/>
          <p:nvPr/>
        </p:nvGrpSpPr>
        <p:grpSpPr>
          <a:xfrm>
            <a:off x="5710320" y="2098800"/>
            <a:ext cx="123840" cy="125280"/>
            <a:chOff x="5710320" y="2098800"/>
            <a:chExt cx="123840" cy="125280"/>
          </a:xfrm>
        </p:grpSpPr>
        <p:sp>
          <p:nvSpPr>
            <p:cNvPr id="2757"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8"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759" name="Group 74"/>
          <p:cNvGrpSpPr/>
          <p:nvPr/>
        </p:nvGrpSpPr>
        <p:grpSpPr>
          <a:xfrm>
            <a:off x="5611680" y="2143080"/>
            <a:ext cx="787320" cy="276480"/>
            <a:chOff x="5611680" y="2143080"/>
            <a:chExt cx="787320" cy="276480"/>
          </a:xfrm>
        </p:grpSpPr>
        <p:sp>
          <p:nvSpPr>
            <p:cNvPr id="2760"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761"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762" name="Group 173"/>
          <p:cNvGrpSpPr/>
          <p:nvPr/>
        </p:nvGrpSpPr>
        <p:grpSpPr>
          <a:xfrm>
            <a:off x="4068720" y="4546440"/>
            <a:ext cx="123840" cy="125640"/>
            <a:chOff x="4068720" y="4546440"/>
            <a:chExt cx="123840" cy="125640"/>
          </a:xfrm>
        </p:grpSpPr>
        <p:sp>
          <p:nvSpPr>
            <p:cNvPr id="2763"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4"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65"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66"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2767" name="Group 1"/>
          <p:cNvGrpSpPr/>
          <p:nvPr/>
        </p:nvGrpSpPr>
        <p:grpSpPr>
          <a:xfrm>
            <a:off x="1496880" y="3952800"/>
            <a:ext cx="457200" cy="596520"/>
            <a:chOff x="1496880" y="3952800"/>
            <a:chExt cx="457200" cy="596520"/>
          </a:xfrm>
        </p:grpSpPr>
        <p:sp>
          <p:nvSpPr>
            <p:cNvPr id="2768"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769"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770"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771"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772"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773"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74"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80,000 cfm at #2 fan</a:t>
            </a:r>
            <a:endParaRPr b="0" lang="en-US" sz="800" spc="-1" strike="noStrike">
              <a:solidFill>
                <a:srgbClr val="000000"/>
              </a:solidFill>
              <a:latin typeface="Arial"/>
            </a:endParaRPr>
          </a:p>
        </p:txBody>
      </p:sp>
      <p:grpSp>
        <p:nvGrpSpPr>
          <p:cNvPr id="2775" name="Group 173"/>
          <p:cNvGrpSpPr/>
          <p:nvPr/>
        </p:nvGrpSpPr>
        <p:grpSpPr>
          <a:xfrm>
            <a:off x="3191040" y="3629160"/>
            <a:ext cx="123840" cy="125280"/>
            <a:chOff x="3191040" y="3629160"/>
            <a:chExt cx="123840" cy="125280"/>
          </a:xfrm>
        </p:grpSpPr>
        <p:sp>
          <p:nvSpPr>
            <p:cNvPr id="2776"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7"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78"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79"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780" name="Minus Sign 1"/>
          <p:cNvSpPr/>
          <p:nvPr/>
        </p:nvSpPr>
        <p:spPr>
          <a:xfrm rot="12907200">
            <a:off x="3286080" y="5171400"/>
            <a:ext cx="1354320" cy="336600"/>
          </a:xfrm>
          <a:custGeom>
            <a:avLst/>
            <a:gdLst/>
            <a:ahLst/>
            <a:rect l="l" t="t" r="r" b="b"/>
            <a:pathLst>
              <a:path w="1354138" h="336550">
                <a:moveTo>
                  <a:pt x="179491" y="112408"/>
                </a:moveTo>
                <a:lnTo>
                  <a:pt x="1174647" y="112408"/>
                </a:lnTo>
                <a:lnTo>
                  <a:pt x="1174647" y="224142"/>
                </a:lnTo>
                <a:lnTo>
                  <a:pt x="179491" y="224142"/>
                </a:lnTo>
                <a:lnTo>
                  <a:pt x="179491" y="112408"/>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81"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782"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783" name="Group 173"/>
          <p:cNvGrpSpPr/>
          <p:nvPr/>
        </p:nvGrpSpPr>
        <p:grpSpPr>
          <a:xfrm>
            <a:off x="5932440" y="6226200"/>
            <a:ext cx="125640" cy="125280"/>
            <a:chOff x="5932440" y="6226200"/>
            <a:chExt cx="125640" cy="125280"/>
          </a:xfrm>
        </p:grpSpPr>
        <p:sp>
          <p:nvSpPr>
            <p:cNvPr id="2784"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85"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86"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787"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788" name="Group 173"/>
          <p:cNvGrpSpPr/>
          <p:nvPr/>
        </p:nvGrpSpPr>
        <p:grpSpPr>
          <a:xfrm>
            <a:off x="5938920" y="5651640"/>
            <a:ext cx="123840" cy="125280"/>
            <a:chOff x="5938920" y="5651640"/>
            <a:chExt cx="123840" cy="125280"/>
          </a:xfrm>
        </p:grpSpPr>
        <p:sp>
          <p:nvSpPr>
            <p:cNvPr id="2789"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0"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91"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792" name="Minus Sign 25"/>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2793" name="Group 173"/>
          <p:cNvGrpSpPr/>
          <p:nvPr/>
        </p:nvGrpSpPr>
        <p:grpSpPr>
          <a:xfrm>
            <a:off x="5856120" y="3581280"/>
            <a:ext cx="123840" cy="125640"/>
            <a:chOff x="5856120" y="3581280"/>
            <a:chExt cx="123840" cy="125640"/>
          </a:xfrm>
        </p:grpSpPr>
        <p:sp>
          <p:nvSpPr>
            <p:cNvPr id="2794"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5"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96"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97"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79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79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80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0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2802" name="Group 173"/>
          <p:cNvGrpSpPr/>
          <p:nvPr/>
        </p:nvGrpSpPr>
        <p:grpSpPr>
          <a:xfrm>
            <a:off x="2208240" y="1292400"/>
            <a:ext cx="123840" cy="125280"/>
            <a:chOff x="2208240" y="1292400"/>
            <a:chExt cx="123840" cy="125280"/>
          </a:xfrm>
        </p:grpSpPr>
        <p:sp>
          <p:nvSpPr>
            <p:cNvPr id="280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80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280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807"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08"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809" name="Group 173"/>
          <p:cNvGrpSpPr/>
          <p:nvPr/>
        </p:nvGrpSpPr>
        <p:grpSpPr>
          <a:xfrm>
            <a:off x="2673360" y="7034040"/>
            <a:ext cx="123840" cy="125640"/>
            <a:chOff x="2673360" y="7034040"/>
            <a:chExt cx="123840" cy="125640"/>
          </a:xfrm>
        </p:grpSpPr>
        <p:sp>
          <p:nvSpPr>
            <p:cNvPr id="2810"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1"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812"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813" name="Group 62"/>
          <p:cNvGrpSpPr/>
          <p:nvPr/>
        </p:nvGrpSpPr>
        <p:grpSpPr>
          <a:xfrm>
            <a:off x="2514240" y="6934320"/>
            <a:ext cx="151920" cy="228240"/>
            <a:chOff x="2514240" y="6934320"/>
            <a:chExt cx="151920" cy="228240"/>
          </a:xfrm>
        </p:grpSpPr>
        <p:sp>
          <p:nvSpPr>
            <p:cNvPr id="2814"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5"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16"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817"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818"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819"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820"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21"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2822"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823"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24"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5"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6"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2827"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828"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29"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0"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1"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2"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2833"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4"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5"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6"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7"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8"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9"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40"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1"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2"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3"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4"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5"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6"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7"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FIFTH VENTILATION</a:t>
            </a:r>
            <a:endParaRPr b="0" lang="en-US" sz="1600" spc="-1" strike="noStrike">
              <a:solidFill>
                <a:srgbClr val="000000"/>
              </a:solidFill>
              <a:latin typeface="Arial"/>
            </a:endParaRPr>
          </a:p>
        </p:txBody>
      </p:sp>
      <p:grpSp>
        <p:nvGrpSpPr>
          <p:cNvPr id="2848" name="Group 99"/>
          <p:cNvGrpSpPr/>
          <p:nvPr/>
        </p:nvGrpSpPr>
        <p:grpSpPr>
          <a:xfrm>
            <a:off x="3503520" y="6756480"/>
            <a:ext cx="848520" cy="583920"/>
            <a:chOff x="3503520" y="6756480"/>
            <a:chExt cx="848520" cy="583920"/>
          </a:xfrm>
        </p:grpSpPr>
        <p:sp>
          <p:nvSpPr>
            <p:cNvPr id="2849"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0"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1"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2"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853" name="Group 99"/>
          <p:cNvGrpSpPr/>
          <p:nvPr/>
        </p:nvGrpSpPr>
        <p:grpSpPr>
          <a:xfrm>
            <a:off x="3568680" y="3341160"/>
            <a:ext cx="812160" cy="586080"/>
            <a:chOff x="3568680" y="3341160"/>
            <a:chExt cx="812160" cy="586080"/>
          </a:xfrm>
        </p:grpSpPr>
        <p:sp>
          <p:nvSpPr>
            <p:cNvPr id="2854"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5"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6"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7"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858"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59"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60"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61"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62"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863"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864"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2865"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866"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67"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68"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69"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0"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1"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2"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3"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4"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75"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876"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877"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878"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879"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80"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81"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82"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883"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4"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5"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6"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887" name="Group 140"/>
          <p:cNvGrpSpPr/>
          <p:nvPr/>
        </p:nvGrpSpPr>
        <p:grpSpPr>
          <a:xfrm>
            <a:off x="6141960" y="7472160"/>
            <a:ext cx="228600" cy="609840"/>
            <a:chOff x="6141960" y="7472160"/>
            <a:chExt cx="228600" cy="609840"/>
          </a:xfrm>
        </p:grpSpPr>
        <p:sp>
          <p:nvSpPr>
            <p:cNvPr id="2888"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9"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0"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1"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2"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3"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894"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2895"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2896"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7"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2898"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2899" name="Group 109"/>
          <p:cNvGrpSpPr/>
          <p:nvPr/>
        </p:nvGrpSpPr>
        <p:grpSpPr>
          <a:xfrm>
            <a:off x="5618160" y="4379760"/>
            <a:ext cx="788400" cy="237600"/>
            <a:chOff x="5618160" y="4379760"/>
            <a:chExt cx="788400" cy="237600"/>
          </a:xfrm>
        </p:grpSpPr>
        <p:grpSp>
          <p:nvGrpSpPr>
            <p:cNvPr id="2900" name="Group 110"/>
            <p:cNvGrpSpPr/>
            <p:nvPr/>
          </p:nvGrpSpPr>
          <p:grpSpPr>
            <a:xfrm>
              <a:off x="5618160" y="4379760"/>
              <a:ext cx="788400" cy="59400"/>
              <a:chOff x="5618160" y="4379760"/>
              <a:chExt cx="788400" cy="59400"/>
            </a:xfrm>
          </p:grpSpPr>
          <p:sp>
            <p:nvSpPr>
              <p:cNvPr id="2901"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2"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03" name="Group 113"/>
            <p:cNvGrpSpPr/>
            <p:nvPr/>
          </p:nvGrpSpPr>
          <p:grpSpPr>
            <a:xfrm>
              <a:off x="5618160" y="4557960"/>
              <a:ext cx="788400" cy="59400"/>
              <a:chOff x="5618160" y="4557960"/>
              <a:chExt cx="788400" cy="59400"/>
            </a:xfrm>
          </p:grpSpPr>
          <p:sp>
            <p:nvSpPr>
              <p:cNvPr id="2904"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5"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906"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7"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8"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2909"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2910" name="Group 62"/>
          <p:cNvGrpSpPr/>
          <p:nvPr/>
        </p:nvGrpSpPr>
        <p:grpSpPr>
          <a:xfrm>
            <a:off x="6216480" y="2462040"/>
            <a:ext cx="152640" cy="228240"/>
            <a:chOff x="6216480" y="2462040"/>
            <a:chExt cx="152640" cy="228240"/>
          </a:xfrm>
        </p:grpSpPr>
        <p:sp>
          <p:nvSpPr>
            <p:cNvPr id="2911"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2"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13"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14"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15"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916"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917"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2918"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2919"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0"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1"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2"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923"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2924"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925"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926"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27"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28"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9"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2930"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1"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2"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3"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934" name="Group 128"/>
          <p:cNvGrpSpPr/>
          <p:nvPr/>
        </p:nvGrpSpPr>
        <p:grpSpPr>
          <a:xfrm>
            <a:off x="2819520" y="3389040"/>
            <a:ext cx="159840" cy="500760"/>
            <a:chOff x="2819520" y="3389040"/>
            <a:chExt cx="159840" cy="500760"/>
          </a:xfrm>
        </p:grpSpPr>
        <p:grpSp>
          <p:nvGrpSpPr>
            <p:cNvPr id="2935" name="Group 129"/>
            <p:cNvGrpSpPr/>
            <p:nvPr/>
          </p:nvGrpSpPr>
          <p:grpSpPr>
            <a:xfrm>
              <a:off x="2819520" y="3389040"/>
              <a:ext cx="79200" cy="500760"/>
              <a:chOff x="2819520" y="3389040"/>
              <a:chExt cx="79200" cy="500760"/>
            </a:xfrm>
          </p:grpSpPr>
          <p:sp>
            <p:nvSpPr>
              <p:cNvPr id="2936"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7"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38" name="Group 132"/>
            <p:cNvGrpSpPr/>
            <p:nvPr/>
          </p:nvGrpSpPr>
          <p:grpSpPr>
            <a:xfrm>
              <a:off x="2899080" y="3389040"/>
              <a:ext cx="79920" cy="500760"/>
              <a:chOff x="2899080" y="3389040"/>
              <a:chExt cx="79920" cy="500760"/>
            </a:xfrm>
          </p:grpSpPr>
          <p:sp>
            <p:nvSpPr>
              <p:cNvPr id="2939"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0"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41"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2"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43" name="Group 128"/>
          <p:cNvGrpSpPr/>
          <p:nvPr/>
        </p:nvGrpSpPr>
        <p:grpSpPr>
          <a:xfrm>
            <a:off x="2819520" y="5108040"/>
            <a:ext cx="175680" cy="491760"/>
            <a:chOff x="2819520" y="5108040"/>
            <a:chExt cx="175680" cy="491760"/>
          </a:xfrm>
        </p:grpSpPr>
        <p:grpSp>
          <p:nvGrpSpPr>
            <p:cNvPr id="2944" name="Group 129"/>
            <p:cNvGrpSpPr/>
            <p:nvPr/>
          </p:nvGrpSpPr>
          <p:grpSpPr>
            <a:xfrm>
              <a:off x="2819520" y="5108040"/>
              <a:ext cx="87120" cy="491760"/>
              <a:chOff x="2819520" y="5108040"/>
              <a:chExt cx="87120" cy="491760"/>
            </a:xfrm>
          </p:grpSpPr>
          <p:sp>
            <p:nvSpPr>
              <p:cNvPr id="2945"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6"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47" name="Group 132"/>
            <p:cNvGrpSpPr/>
            <p:nvPr/>
          </p:nvGrpSpPr>
          <p:grpSpPr>
            <a:xfrm>
              <a:off x="2907000" y="5108040"/>
              <a:ext cx="87840" cy="491760"/>
              <a:chOff x="2907000" y="5108040"/>
              <a:chExt cx="87840" cy="491760"/>
            </a:xfrm>
          </p:grpSpPr>
          <p:sp>
            <p:nvSpPr>
              <p:cNvPr id="2948"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9"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50"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51"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52" name="Group 128"/>
          <p:cNvGrpSpPr/>
          <p:nvPr/>
        </p:nvGrpSpPr>
        <p:grpSpPr>
          <a:xfrm>
            <a:off x="4819680" y="5076720"/>
            <a:ext cx="175680" cy="491040"/>
            <a:chOff x="4819680" y="5076720"/>
            <a:chExt cx="175680" cy="491040"/>
          </a:xfrm>
        </p:grpSpPr>
        <p:grpSp>
          <p:nvGrpSpPr>
            <p:cNvPr id="2953" name="Group 129"/>
            <p:cNvGrpSpPr/>
            <p:nvPr/>
          </p:nvGrpSpPr>
          <p:grpSpPr>
            <a:xfrm>
              <a:off x="4819680" y="5076720"/>
              <a:ext cx="87120" cy="491040"/>
              <a:chOff x="4819680" y="5076720"/>
              <a:chExt cx="87120" cy="491040"/>
            </a:xfrm>
          </p:grpSpPr>
          <p:sp>
            <p:nvSpPr>
              <p:cNvPr id="2954"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55"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56" name="Group 132"/>
            <p:cNvGrpSpPr/>
            <p:nvPr/>
          </p:nvGrpSpPr>
          <p:grpSpPr>
            <a:xfrm>
              <a:off x="4907160" y="5076720"/>
              <a:ext cx="87840" cy="491040"/>
              <a:chOff x="4907160" y="5076720"/>
              <a:chExt cx="87840" cy="491040"/>
            </a:xfrm>
          </p:grpSpPr>
          <p:sp>
            <p:nvSpPr>
              <p:cNvPr id="2957"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58"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59"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60"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61"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962"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963"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64"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65"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966"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67"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968"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969"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0"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971"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2"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973" name="Group 176"/>
          <p:cNvGrpSpPr/>
          <p:nvPr/>
        </p:nvGrpSpPr>
        <p:grpSpPr>
          <a:xfrm>
            <a:off x="1638360" y="7424640"/>
            <a:ext cx="626760" cy="861480"/>
            <a:chOff x="1638360" y="7424640"/>
            <a:chExt cx="626760" cy="861480"/>
          </a:xfrm>
        </p:grpSpPr>
        <p:sp>
          <p:nvSpPr>
            <p:cNvPr id="2974"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5"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6"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7"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78" name="Group 176"/>
          <p:cNvGrpSpPr/>
          <p:nvPr/>
        </p:nvGrpSpPr>
        <p:grpSpPr>
          <a:xfrm>
            <a:off x="1582560" y="2273040"/>
            <a:ext cx="780840" cy="604800"/>
            <a:chOff x="1582560" y="2273040"/>
            <a:chExt cx="780840" cy="604800"/>
          </a:xfrm>
        </p:grpSpPr>
        <p:sp>
          <p:nvSpPr>
            <p:cNvPr id="2979"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0"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1"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2"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83"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84"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985"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986" name="Group 140"/>
          <p:cNvGrpSpPr/>
          <p:nvPr/>
        </p:nvGrpSpPr>
        <p:grpSpPr>
          <a:xfrm>
            <a:off x="4979880" y="1608120"/>
            <a:ext cx="362160" cy="133200"/>
            <a:chOff x="4979880" y="1608120"/>
            <a:chExt cx="362160" cy="133200"/>
          </a:xfrm>
        </p:grpSpPr>
        <p:sp>
          <p:nvSpPr>
            <p:cNvPr id="2987"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8"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9"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0"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991"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992"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93" name="Group 176"/>
          <p:cNvGrpSpPr/>
          <p:nvPr/>
        </p:nvGrpSpPr>
        <p:grpSpPr>
          <a:xfrm>
            <a:off x="3492360" y="7531200"/>
            <a:ext cx="857160" cy="704160"/>
            <a:chOff x="3492360" y="7531200"/>
            <a:chExt cx="857160" cy="704160"/>
          </a:xfrm>
        </p:grpSpPr>
        <p:sp>
          <p:nvSpPr>
            <p:cNvPr id="2994"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5"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6"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7"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98"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999"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000"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01" name="Group 199"/>
          <p:cNvGrpSpPr/>
          <p:nvPr/>
        </p:nvGrpSpPr>
        <p:grpSpPr>
          <a:xfrm>
            <a:off x="3591720" y="1300320"/>
            <a:ext cx="778320" cy="45720"/>
            <a:chOff x="3591720" y="1300320"/>
            <a:chExt cx="778320" cy="45720"/>
          </a:xfrm>
        </p:grpSpPr>
        <p:sp>
          <p:nvSpPr>
            <p:cNvPr id="3002"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03"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004"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3005"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06"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007"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008"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3009"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sp>
        <p:nvSpPr>
          <p:cNvPr id="3010"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11"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012"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13"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014"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015"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016" name="Group 62"/>
          <p:cNvGrpSpPr/>
          <p:nvPr/>
        </p:nvGrpSpPr>
        <p:grpSpPr>
          <a:xfrm>
            <a:off x="2072880" y="2670120"/>
            <a:ext cx="151920" cy="228240"/>
            <a:chOff x="2072880" y="2670120"/>
            <a:chExt cx="151920" cy="228240"/>
          </a:xfrm>
        </p:grpSpPr>
        <p:sp>
          <p:nvSpPr>
            <p:cNvPr id="3017"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18"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19"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020"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021"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022"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023"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3024"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25"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026" name="Group 1"/>
          <p:cNvGrpSpPr/>
          <p:nvPr/>
        </p:nvGrpSpPr>
        <p:grpSpPr>
          <a:xfrm>
            <a:off x="5481720" y="5948280"/>
            <a:ext cx="457200" cy="596520"/>
            <a:chOff x="5481720" y="5948280"/>
            <a:chExt cx="457200" cy="596520"/>
          </a:xfrm>
        </p:grpSpPr>
        <p:sp>
          <p:nvSpPr>
            <p:cNvPr id="3027"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028"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029"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030"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031"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32"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33" name="Group 176"/>
          <p:cNvGrpSpPr/>
          <p:nvPr/>
        </p:nvGrpSpPr>
        <p:grpSpPr>
          <a:xfrm>
            <a:off x="1582560" y="761760"/>
            <a:ext cx="607680" cy="633240"/>
            <a:chOff x="1582560" y="761760"/>
            <a:chExt cx="607680" cy="633240"/>
          </a:xfrm>
        </p:grpSpPr>
        <p:sp>
          <p:nvSpPr>
            <p:cNvPr id="3034"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35"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036"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037"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3038"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039"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0"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41"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42"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43"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044"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5"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046"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7"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 CFM</a:t>
            </a:r>
            <a:endParaRPr b="0" lang="en-US" sz="800" spc="-1" strike="noStrike">
              <a:solidFill>
                <a:srgbClr val="000000"/>
              </a:solidFill>
              <a:latin typeface="Arial"/>
            </a:endParaRPr>
          </a:p>
        </p:txBody>
      </p:sp>
      <p:sp>
        <p:nvSpPr>
          <p:cNvPr id="3048"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9"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050"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051"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052" name="Group 74"/>
          <p:cNvGrpSpPr/>
          <p:nvPr/>
        </p:nvGrpSpPr>
        <p:grpSpPr>
          <a:xfrm>
            <a:off x="1581120" y="2930400"/>
            <a:ext cx="794880" cy="276480"/>
            <a:chOff x="1581120" y="2930400"/>
            <a:chExt cx="794880" cy="276480"/>
          </a:xfrm>
        </p:grpSpPr>
        <p:sp>
          <p:nvSpPr>
            <p:cNvPr id="3053"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054"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055" name="Group 74"/>
          <p:cNvGrpSpPr/>
          <p:nvPr/>
        </p:nvGrpSpPr>
        <p:grpSpPr>
          <a:xfrm>
            <a:off x="1574640" y="1298520"/>
            <a:ext cx="774360" cy="276480"/>
            <a:chOff x="1574640" y="1298520"/>
            <a:chExt cx="774360" cy="276480"/>
          </a:xfrm>
        </p:grpSpPr>
        <p:sp>
          <p:nvSpPr>
            <p:cNvPr id="3056"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057"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058" name="Group 173"/>
          <p:cNvGrpSpPr/>
          <p:nvPr/>
        </p:nvGrpSpPr>
        <p:grpSpPr>
          <a:xfrm>
            <a:off x="5989680" y="1405080"/>
            <a:ext cx="123840" cy="125280"/>
            <a:chOff x="5989680" y="1405080"/>
            <a:chExt cx="123840" cy="125280"/>
          </a:xfrm>
        </p:grpSpPr>
        <p:sp>
          <p:nvSpPr>
            <p:cNvPr id="3059"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0"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61" name="Group 173"/>
          <p:cNvGrpSpPr/>
          <p:nvPr/>
        </p:nvGrpSpPr>
        <p:grpSpPr>
          <a:xfrm>
            <a:off x="2862360" y="1828800"/>
            <a:ext cx="123840" cy="125280"/>
            <a:chOff x="2862360" y="1828800"/>
            <a:chExt cx="123840" cy="125280"/>
          </a:xfrm>
        </p:grpSpPr>
        <p:sp>
          <p:nvSpPr>
            <p:cNvPr id="3062"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3"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64" name="Group 173"/>
          <p:cNvGrpSpPr/>
          <p:nvPr/>
        </p:nvGrpSpPr>
        <p:grpSpPr>
          <a:xfrm>
            <a:off x="4118040" y="1428840"/>
            <a:ext cx="123840" cy="125280"/>
            <a:chOff x="4118040" y="1428840"/>
            <a:chExt cx="123840" cy="125280"/>
          </a:xfrm>
        </p:grpSpPr>
        <p:sp>
          <p:nvSpPr>
            <p:cNvPr id="3065"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6"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67" name="Group 173"/>
          <p:cNvGrpSpPr/>
          <p:nvPr/>
        </p:nvGrpSpPr>
        <p:grpSpPr>
          <a:xfrm>
            <a:off x="2193840" y="1459080"/>
            <a:ext cx="123840" cy="125280"/>
            <a:chOff x="2193840" y="1459080"/>
            <a:chExt cx="123840" cy="125280"/>
          </a:xfrm>
        </p:grpSpPr>
        <p:sp>
          <p:nvSpPr>
            <p:cNvPr id="3068"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9"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0" name="Group 173"/>
          <p:cNvGrpSpPr/>
          <p:nvPr/>
        </p:nvGrpSpPr>
        <p:grpSpPr>
          <a:xfrm>
            <a:off x="2527200" y="3621240"/>
            <a:ext cx="123840" cy="125280"/>
            <a:chOff x="2527200" y="3621240"/>
            <a:chExt cx="123840" cy="125280"/>
          </a:xfrm>
        </p:grpSpPr>
        <p:sp>
          <p:nvSpPr>
            <p:cNvPr id="3071"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2"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3" name="Group 173"/>
          <p:cNvGrpSpPr/>
          <p:nvPr/>
        </p:nvGrpSpPr>
        <p:grpSpPr>
          <a:xfrm>
            <a:off x="2158920" y="3147840"/>
            <a:ext cx="123840" cy="125640"/>
            <a:chOff x="2158920" y="3147840"/>
            <a:chExt cx="123840" cy="125640"/>
          </a:xfrm>
        </p:grpSpPr>
        <p:sp>
          <p:nvSpPr>
            <p:cNvPr id="3074"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5"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6" name="Group 173"/>
          <p:cNvGrpSpPr/>
          <p:nvPr/>
        </p:nvGrpSpPr>
        <p:grpSpPr>
          <a:xfrm>
            <a:off x="3830760" y="8809200"/>
            <a:ext cx="123840" cy="125280"/>
            <a:chOff x="3830760" y="8809200"/>
            <a:chExt cx="123840" cy="125280"/>
          </a:xfrm>
        </p:grpSpPr>
        <p:sp>
          <p:nvSpPr>
            <p:cNvPr id="3077"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8"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9" name="Group 173"/>
          <p:cNvGrpSpPr/>
          <p:nvPr/>
        </p:nvGrpSpPr>
        <p:grpSpPr>
          <a:xfrm>
            <a:off x="5996160" y="3166920"/>
            <a:ext cx="123480" cy="125640"/>
            <a:chOff x="5996160" y="3166920"/>
            <a:chExt cx="123480" cy="125640"/>
          </a:xfrm>
        </p:grpSpPr>
        <p:sp>
          <p:nvSpPr>
            <p:cNvPr id="3080"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1"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82" name="Group 173"/>
          <p:cNvGrpSpPr/>
          <p:nvPr/>
        </p:nvGrpSpPr>
        <p:grpSpPr>
          <a:xfrm>
            <a:off x="3935520" y="3051000"/>
            <a:ext cx="125280" cy="125640"/>
            <a:chOff x="3935520" y="3051000"/>
            <a:chExt cx="125280" cy="125640"/>
          </a:xfrm>
        </p:grpSpPr>
        <p:sp>
          <p:nvSpPr>
            <p:cNvPr id="3083"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4"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85" name="Group 173"/>
          <p:cNvGrpSpPr/>
          <p:nvPr/>
        </p:nvGrpSpPr>
        <p:grpSpPr>
          <a:xfrm>
            <a:off x="5983200" y="1071720"/>
            <a:ext cx="123840" cy="125280"/>
            <a:chOff x="5983200" y="1071720"/>
            <a:chExt cx="123840" cy="125280"/>
          </a:xfrm>
        </p:grpSpPr>
        <p:sp>
          <p:nvSpPr>
            <p:cNvPr id="3086"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7"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088"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089"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090"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91" name="Group 1"/>
          <p:cNvGrpSpPr/>
          <p:nvPr/>
        </p:nvGrpSpPr>
        <p:grpSpPr>
          <a:xfrm>
            <a:off x="3463920" y="4003560"/>
            <a:ext cx="457200" cy="596520"/>
            <a:chOff x="3463920" y="4003560"/>
            <a:chExt cx="457200" cy="596520"/>
          </a:xfrm>
        </p:grpSpPr>
        <p:sp>
          <p:nvSpPr>
            <p:cNvPr id="3092"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093"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094"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095"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3096" name="Group 57"/>
          <p:cNvGrpSpPr/>
          <p:nvPr/>
        </p:nvGrpSpPr>
        <p:grpSpPr>
          <a:xfrm>
            <a:off x="3967200" y="2808360"/>
            <a:ext cx="63360" cy="194760"/>
            <a:chOff x="3967200" y="2808360"/>
            <a:chExt cx="63360" cy="194760"/>
          </a:xfrm>
        </p:grpSpPr>
        <p:sp>
          <p:nvSpPr>
            <p:cNvPr id="3097"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98"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99"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100"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3101" name="Group 57"/>
          <p:cNvGrpSpPr/>
          <p:nvPr/>
        </p:nvGrpSpPr>
        <p:grpSpPr>
          <a:xfrm>
            <a:off x="1973160" y="1125000"/>
            <a:ext cx="195480" cy="64080"/>
            <a:chOff x="1973160" y="1125000"/>
            <a:chExt cx="195480" cy="64080"/>
          </a:xfrm>
        </p:grpSpPr>
        <p:sp>
          <p:nvSpPr>
            <p:cNvPr id="3102"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03"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04"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105"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3106" name="Group 57"/>
          <p:cNvGrpSpPr/>
          <p:nvPr/>
        </p:nvGrpSpPr>
        <p:grpSpPr>
          <a:xfrm>
            <a:off x="5765400" y="2446200"/>
            <a:ext cx="64080" cy="195480"/>
            <a:chOff x="5765400" y="2446200"/>
            <a:chExt cx="64080" cy="195480"/>
          </a:xfrm>
        </p:grpSpPr>
        <p:sp>
          <p:nvSpPr>
            <p:cNvPr id="3107"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08"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09"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3110"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3111" name="Group 57"/>
          <p:cNvGrpSpPr/>
          <p:nvPr/>
        </p:nvGrpSpPr>
        <p:grpSpPr>
          <a:xfrm>
            <a:off x="3596760" y="4218120"/>
            <a:ext cx="64080" cy="194760"/>
            <a:chOff x="3596760" y="4218120"/>
            <a:chExt cx="64080" cy="194760"/>
          </a:xfrm>
        </p:grpSpPr>
        <p:sp>
          <p:nvSpPr>
            <p:cNvPr id="3112"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13"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14"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115"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116"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17"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18"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3119"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20"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21"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3122" name="Group 173"/>
          <p:cNvGrpSpPr/>
          <p:nvPr/>
        </p:nvGrpSpPr>
        <p:grpSpPr>
          <a:xfrm>
            <a:off x="1838160" y="4843440"/>
            <a:ext cx="123840" cy="125280"/>
            <a:chOff x="1838160" y="4843440"/>
            <a:chExt cx="123840" cy="125280"/>
          </a:xfrm>
        </p:grpSpPr>
        <p:sp>
          <p:nvSpPr>
            <p:cNvPr id="3123"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24"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25"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3126"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127"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28"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3129"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3130"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131"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132"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33"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34"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5"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6"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7"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38" name="Minus Sign 11"/>
          <p:cNvSpPr/>
          <p:nvPr/>
        </p:nvSpPr>
        <p:spPr>
          <a:xfrm>
            <a:off x="3381480" y="5346720"/>
            <a:ext cx="1114200" cy="804960"/>
          </a:xfrm>
          <a:custGeom>
            <a:avLst/>
            <a:gdLst/>
            <a:ahLst/>
            <a:rect l="l" t="t" r="r" b="b"/>
            <a:pathLst>
              <a:path w="1114425" h="804863">
                <a:moveTo>
                  <a:pt x="147717" y="370442"/>
                </a:moveTo>
                <a:lnTo>
                  <a:pt x="966708" y="370442"/>
                </a:lnTo>
                <a:lnTo>
                  <a:pt x="966708" y="434421"/>
                </a:lnTo>
                <a:lnTo>
                  <a:pt x="147717" y="434421"/>
                </a:lnTo>
                <a:lnTo>
                  <a:pt x="147717" y="370442"/>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39"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0"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1" name="AutoShape 195"/>
          <p:cNvSpPr/>
          <p:nvPr/>
        </p:nvSpPr>
        <p:spPr>
          <a:xfrm>
            <a:off x="5111640" y="35226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2"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3" name="Minus Sign 16"/>
          <p:cNvSpPr/>
          <p:nvPr/>
        </p:nvSpPr>
        <p:spPr>
          <a:xfrm>
            <a:off x="1487520" y="4614840"/>
            <a:ext cx="914400" cy="355680"/>
          </a:xfrm>
          <a:custGeom>
            <a:avLst/>
            <a:gdLst/>
            <a:ahLst/>
            <a:rect l="l" t="t" r="r" b="b"/>
            <a:pathLst>
              <a:path w="914400" h="355600">
                <a:moveTo>
                  <a:pt x="121204" y="135981"/>
                </a:moveTo>
                <a:lnTo>
                  <a:pt x="793196" y="135981"/>
                </a:lnTo>
                <a:lnTo>
                  <a:pt x="793196" y="219619"/>
                </a:lnTo>
                <a:lnTo>
                  <a:pt x="121204" y="219619"/>
                </a:lnTo>
                <a:lnTo>
                  <a:pt x="12120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44" name="Minus Sign 17"/>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45"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46"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7"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148" name="Group 57"/>
          <p:cNvGrpSpPr/>
          <p:nvPr/>
        </p:nvGrpSpPr>
        <p:grpSpPr>
          <a:xfrm>
            <a:off x="6305040" y="7500960"/>
            <a:ext cx="64080" cy="194760"/>
            <a:chOff x="6305040" y="7500960"/>
            <a:chExt cx="64080" cy="194760"/>
          </a:xfrm>
        </p:grpSpPr>
        <p:sp>
          <p:nvSpPr>
            <p:cNvPr id="3149"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50"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51"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152"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153" name="Oval 2"/>
          <p:cNvSpPr/>
          <p:nvPr/>
        </p:nvSpPr>
        <p:spPr>
          <a:xfrm>
            <a:off x="6354720" y="11620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grpSp>
        <p:nvGrpSpPr>
          <p:cNvPr id="3154" name="Group 173"/>
          <p:cNvGrpSpPr/>
          <p:nvPr/>
        </p:nvGrpSpPr>
        <p:grpSpPr>
          <a:xfrm>
            <a:off x="4575240" y="1801800"/>
            <a:ext cx="123840" cy="125280"/>
            <a:chOff x="4575240" y="1801800"/>
            <a:chExt cx="123840" cy="125280"/>
          </a:xfrm>
        </p:grpSpPr>
        <p:sp>
          <p:nvSpPr>
            <p:cNvPr id="3155"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56"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57"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3158"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59"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160" name="Group 173"/>
          <p:cNvGrpSpPr/>
          <p:nvPr/>
        </p:nvGrpSpPr>
        <p:grpSpPr>
          <a:xfrm>
            <a:off x="5710320" y="2098800"/>
            <a:ext cx="123840" cy="125280"/>
            <a:chOff x="5710320" y="2098800"/>
            <a:chExt cx="123840" cy="125280"/>
          </a:xfrm>
        </p:grpSpPr>
        <p:sp>
          <p:nvSpPr>
            <p:cNvPr id="3161"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2"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163" name="Group 74"/>
          <p:cNvGrpSpPr/>
          <p:nvPr/>
        </p:nvGrpSpPr>
        <p:grpSpPr>
          <a:xfrm>
            <a:off x="5611680" y="2143080"/>
            <a:ext cx="787320" cy="276480"/>
            <a:chOff x="5611680" y="2143080"/>
            <a:chExt cx="787320" cy="276480"/>
          </a:xfrm>
        </p:grpSpPr>
        <p:sp>
          <p:nvSpPr>
            <p:cNvPr id="3164"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165"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166" name="Group 173"/>
          <p:cNvGrpSpPr/>
          <p:nvPr/>
        </p:nvGrpSpPr>
        <p:grpSpPr>
          <a:xfrm>
            <a:off x="4068720" y="4546440"/>
            <a:ext cx="123840" cy="125640"/>
            <a:chOff x="4068720" y="4546440"/>
            <a:chExt cx="123840" cy="125640"/>
          </a:xfrm>
        </p:grpSpPr>
        <p:sp>
          <p:nvSpPr>
            <p:cNvPr id="3167"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8"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69"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70"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3171" name="Group 1"/>
          <p:cNvGrpSpPr/>
          <p:nvPr/>
        </p:nvGrpSpPr>
        <p:grpSpPr>
          <a:xfrm>
            <a:off x="1496880" y="3952800"/>
            <a:ext cx="457200" cy="596520"/>
            <a:chOff x="1496880" y="3952800"/>
            <a:chExt cx="457200" cy="596520"/>
          </a:xfrm>
        </p:grpSpPr>
        <p:sp>
          <p:nvSpPr>
            <p:cNvPr id="3172"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173"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174"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175"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176"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177"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78" name="AutoShape 195"/>
          <p:cNvSpPr/>
          <p:nvPr/>
        </p:nvSpPr>
        <p:spPr>
          <a:xfrm rot="10800000">
            <a:off x="487152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79" name="AutoShape 195"/>
          <p:cNvSpPr/>
          <p:nvPr/>
        </p:nvSpPr>
        <p:spPr>
          <a:xfrm rot="5400000">
            <a:off x="5820840" y="48099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0" name="Oval 2"/>
          <p:cNvSpPr/>
          <p:nvPr/>
        </p:nvSpPr>
        <p:spPr>
          <a:xfrm>
            <a:off x="4282920" y="218916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1" name="Oval 2"/>
          <p:cNvSpPr/>
          <p:nvPr/>
        </p:nvSpPr>
        <p:spPr>
          <a:xfrm>
            <a:off x="4346640" y="2865600"/>
            <a:ext cx="94752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2" name="Oval 2"/>
          <p:cNvSpPr/>
          <p:nvPr/>
        </p:nvSpPr>
        <p:spPr>
          <a:xfrm>
            <a:off x="6437160" y="5253120"/>
            <a:ext cx="94788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3" name="AutoShape 195"/>
          <p:cNvSpPr/>
          <p:nvPr/>
        </p:nvSpPr>
        <p:spPr>
          <a:xfrm rot="5400000">
            <a:off x="3811680" y="353844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4" name="AutoShape 195"/>
          <p:cNvSpPr/>
          <p:nvPr/>
        </p:nvSpPr>
        <p:spPr>
          <a:xfrm rot="5400000">
            <a:off x="3814200" y="2355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5" name="AutoShape 195"/>
          <p:cNvSpPr/>
          <p:nvPr/>
        </p:nvSpPr>
        <p:spPr>
          <a:xfrm rot="10800000">
            <a:off x="4818240" y="52290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6" name="Oval 2"/>
          <p:cNvSpPr/>
          <p:nvPr/>
        </p:nvSpPr>
        <p:spPr>
          <a:xfrm>
            <a:off x="6373800" y="158436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7" name="AutoShape 195"/>
          <p:cNvSpPr/>
          <p:nvPr/>
        </p:nvSpPr>
        <p:spPr>
          <a:xfrm rot="5400000">
            <a:off x="5729040" y="13284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8" name="Text Box 69"/>
          <p:cNvSpPr/>
          <p:nvPr/>
        </p:nvSpPr>
        <p:spPr>
          <a:xfrm>
            <a:off x="90360" y="8604360"/>
            <a:ext cx="112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Shut Airlock doors and turn #1 Fan On</a:t>
            </a:r>
            <a:endParaRPr b="0" lang="en-US" sz="800" spc="-1" strike="noStrike">
              <a:solidFill>
                <a:srgbClr val="000000"/>
              </a:solidFill>
              <a:latin typeface="Arial"/>
            </a:endParaRPr>
          </a:p>
        </p:txBody>
      </p:sp>
      <p:sp>
        <p:nvSpPr>
          <p:cNvPr id="3189"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40,000 cfm at #2 fan</a:t>
            </a:r>
            <a:endParaRPr b="0" lang="en-US" sz="800" spc="-1" strike="noStrike">
              <a:solidFill>
                <a:srgbClr val="000000"/>
              </a:solidFill>
              <a:latin typeface="Arial"/>
            </a:endParaRPr>
          </a:p>
        </p:txBody>
      </p:sp>
      <p:grpSp>
        <p:nvGrpSpPr>
          <p:cNvPr id="3190" name="Group 173"/>
          <p:cNvGrpSpPr/>
          <p:nvPr/>
        </p:nvGrpSpPr>
        <p:grpSpPr>
          <a:xfrm>
            <a:off x="3191040" y="3629160"/>
            <a:ext cx="123840" cy="125280"/>
            <a:chOff x="3191040" y="3629160"/>
            <a:chExt cx="123840" cy="125280"/>
          </a:xfrm>
        </p:grpSpPr>
        <p:sp>
          <p:nvSpPr>
            <p:cNvPr id="3191"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92"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93"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94"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195"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196"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197" name="Group 173"/>
          <p:cNvGrpSpPr/>
          <p:nvPr/>
        </p:nvGrpSpPr>
        <p:grpSpPr>
          <a:xfrm>
            <a:off x="5932440" y="6226200"/>
            <a:ext cx="125640" cy="125280"/>
            <a:chOff x="5932440" y="6226200"/>
            <a:chExt cx="125640" cy="125280"/>
          </a:xfrm>
        </p:grpSpPr>
        <p:sp>
          <p:nvSpPr>
            <p:cNvPr id="3198"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99"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00"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201"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202" name="Group 173"/>
          <p:cNvGrpSpPr/>
          <p:nvPr/>
        </p:nvGrpSpPr>
        <p:grpSpPr>
          <a:xfrm>
            <a:off x="5938920" y="5651640"/>
            <a:ext cx="123840" cy="125280"/>
            <a:chOff x="5938920" y="5651640"/>
            <a:chExt cx="123840" cy="125280"/>
          </a:xfrm>
        </p:grpSpPr>
        <p:sp>
          <p:nvSpPr>
            <p:cNvPr id="3203"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04"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05"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206" name="Minus Sign 24"/>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207" name="Minus Sign 25"/>
          <p:cNvSpPr/>
          <p:nvPr/>
        </p:nvSpPr>
        <p:spPr>
          <a:xfrm rot="5400000">
            <a:off x="2377440" y="3457440"/>
            <a:ext cx="727200" cy="355320"/>
          </a:xfrm>
          <a:custGeom>
            <a:avLst/>
            <a:gdLst/>
            <a:ahLst/>
            <a:rect l="l" t="t" r="r" b="b"/>
            <a:pathLst>
              <a:path w="727076" h="355600">
                <a:moveTo>
                  <a:pt x="96374" y="135981"/>
                </a:moveTo>
                <a:lnTo>
                  <a:pt x="630702" y="135981"/>
                </a:lnTo>
                <a:lnTo>
                  <a:pt x="630702" y="219619"/>
                </a:lnTo>
                <a:lnTo>
                  <a:pt x="96374" y="219619"/>
                </a:lnTo>
                <a:lnTo>
                  <a:pt x="9637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3208" name="Group 173"/>
          <p:cNvGrpSpPr/>
          <p:nvPr/>
        </p:nvGrpSpPr>
        <p:grpSpPr>
          <a:xfrm>
            <a:off x="5856120" y="3581280"/>
            <a:ext cx="123840" cy="125640"/>
            <a:chOff x="5856120" y="3581280"/>
            <a:chExt cx="123840" cy="125640"/>
          </a:xfrm>
        </p:grpSpPr>
        <p:sp>
          <p:nvSpPr>
            <p:cNvPr id="3209"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10"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11"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12"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3213" name="Oval 2"/>
          <p:cNvSpPr/>
          <p:nvPr/>
        </p:nvSpPr>
        <p:spPr>
          <a:xfrm>
            <a:off x="4844880" y="310356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214"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215"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216"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17"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3218" name="Group 173"/>
          <p:cNvGrpSpPr/>
          <p:nvPr/>
        </p:nvGrpSpPr>
        <p:grpSpPr>
          <a:xfrm>
            <a:off x="2208240" y="1292400"/>
            <a:ext cx="123840" cy="125280"/>
            <a:chOff x="2208240" y="1292400"/>
            <a:chExt cx="123840" cy="125280"/>
          </a:xfrm>
        </p:grpSpPr>
        <p:sp>
          <p:nvSpPr>
            <p:cNvPr id="3219"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20"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21"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3222"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223"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3224" name="Group 173"/>
          <p:cNvGrpSpPr/>
          <p:nvPr/>
        </p:nvGrpSpPr>
        <p:grpSpPr>
          <a:xfrm>
            <a:off x="2673360" y="7034040"/>
            <a:ext cx="123840" cy="125640"/>
            <a:chOff x="2673360" y="7034040"/>
            <a:chExt cx="123840" cy="125640"/>
          </a:xfrm>
        </p:grpSpPr>
        <p:sp>
          <p:nvSpPr>
            <p:cNvPr id="3225"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26"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27"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228"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29"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230"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31"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8T02:39:38Z</dcterms:created>
  <dc:creator>Harvey Ferrell</dc:creator>
  <dc:description/>
  <dc:language>en-US</dc:language>
  <cp:lastModifiedBy>Owner</cp:lastModifiedBy>
  <cp:lastPrinted>2023-12-17T14:09:41Z</cp:lastPrinted>
  <dcterms:modified xsi:type="dcterms:W3CDTF">2024-01-23T18:37:24Z</dcterms:modified>
  <cp:revision>248</cp:revision>
  <dc:subject/>
  <dc:title>Slide 1</dc:title>
</cp:coreProperties>
</file>