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EAF-4F2D-4EE4-ACC0-D61FB545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798-5869-44AC-A4C7-F16ABC5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87A-0EB7-43F3-B059-69DE53E8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57F-B65F-4E6C-AEE5-86AED0BD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6D7-3013-4D8B-A4E2-0CF73C7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884-245F-499E-836F-5DB96B53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73D-EFE0-4025-BC33-B2275BAA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05C-80A3-495D-9022-A35D62A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C61-EDB6-4123-AD22-C5CCC0D2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EC8-BAD7-4512-A4DC-B76F68B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6C3-786A-40B6-AF52-9C59A1F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A40-DD4D-46BC-8152-10A7836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2C7F-2EAC-46F5-A1D3-7830A2D4A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4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entry Barricade response: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”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8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523520" y="2971440"/>
            <a:ext cx="563976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3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4-03-14T19:33:24Z</dcterms:modified>
  <cp:revision>19</cp:revision>
  <dc:subject/>
  <dc:title>PowerPoint Presentation</dc:title>
</cp:coreProperties>
</file>