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BCF-3608-419C-ADF3-A6AB66A6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FEF-2BD3-428B-8B06-3C2C82EF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C9F-534D-405B-A58F-9094FB78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9EB-4C83-4B17-AC2C-592FFC1B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9C6-F3B9-468C-8CCD-7F5F18FB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B29-D878-4826-9F4D-139AA413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889-CFFE-456A-901E-6B92FD29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DC1-96D1-4D55-BBC3-727E399B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82B2-7906-472D-A461-84D8338A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604-FEBB-4BC6-94A2-6F485DFE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C16-9830-4885-AC1B-85D2A734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9E8-6A28-4A8E-98CB-3D22F6BE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D239-5C79-45F2-BCCA-F7E0EFCD0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24 Craig DAY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 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960" y="2437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Unconscious 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8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4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9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4.8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ommand Cent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960" y="2437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Conscious 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 entry Barricade response: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”Help”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 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ll of Overcas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ith Door Clos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ll of Overcast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509840" y="1273320"/>
            <a:ext cx="5819760" cy="4311360"/>
          </a:xfrm>
          <a:prstGeom prst="rect">
            <a:avLst/>
          </a:prstGeom>
          <a:noFill/>
          <a:ln w="190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Arial Black"/>
              </a:rPr>
              <a:t>LC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4" name="Straight Arrow Connector 7"/>
          <p:cNvCxnSpPr/>
          <p:nvPr/>
        </p:nvCxnSpPr>
        <p:spPr>
          <a:xfrm flipH="1">
            <a:off x="2171160" y="2209680"/>
            <a:ext cx="38520" cy="335376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" name="Straight Connector 9"/>
          <p:cNvSpPr/>
          <p:nvPr/>
        </p:nvSpPr>
        <p:spPr>
          <a:xfrm>
            <a:off x="2133720" y="2209680"/>
            <a:ext cx="4647960" cy="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ll of Overcas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ith Door Clos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ll of Overcast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8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6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3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2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Straight Arrow Connector 7"/>
          <p:cNvCxnSpPr/>
          <p:nvPr/>
        </p:nvCxnSpPr>
        <p:spPr>
          <a:xfrm flipH="1">
            <a:off x="1523520" y="2971440"/>
            <a:ext cx="5639760" cy="10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3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0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5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6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3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Straight Arrow Connector 7"/>
          <p:cNvCxnSpPr/>
          <p:nvPr/>
        </p:nvCxnSpPr>
        <p:spPr>
          <a:xfrm flipH="1">
            <a:off x="2171160" y="2209680"/>
            <a:ext cx="38520" cy="335376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Straight Connector 9"/>
          <p:cNvSpPr/>
          <p:nvPr/>
        </p:nvSpPr>
        <p:spPr>
          <a:xfrm>
            <a:off x="2133720" y="2209680"/>
            <a:ext cx="4647960" cy="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.O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6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9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13:30:35Z</dcterms:created>
  <dc:creator>Barton, John - MSHA</dc:creator>
  <dc:description/>
  <dc:language>en-US</dc:language>
  <cp:lastModifiedBy>JCB</cp:lastModifiedBy>
  <cp:lastPrinted>2017-07-06T15:10:40Z</cp:lastPrinted>
  <dcterms:modified xsi:type="dcterms:W3CDTF">2024-03-14T19:33:24Z</dcterms:modified>
  <cp:revision>19</cp:revision>
  <dc:subject/>
  <dc:title>PowerPoint Presentation</dc:title>
</cp:coreProperties>
</file>