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4E0-41C7-49F8-B0F3-D8E28B00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411-C789-4414-8307-537EA30E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F48-7DFE-4A33-A48A-721BE4FE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851-BAE2-4EAB-98AC-B8C7CEB2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D38-3834-42E2-B482-12E5B84F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CA0-29FC-4596-BF52-FA8E278A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593-BF92-4852-9571-A2B51DAC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03F-1618-4AD3-AD87-88F8D270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73D-653E-4C85-9A1F-C498BF0E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D5A-CF5B-4D4C-A6B3-CF0F0C66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79C-612E-4A79-84CF-1328015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229-DB6E-4194-B5A8-54DBB30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47DA-D81B-49D2-A255-334687CA4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4 Craig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960" y="2437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Un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8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4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4.8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ommand Cen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24379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 entry Barricade response: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”Help”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ith Door Clos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09840" y="1273320"/>
            <a:ext cx="5819760" cy="4311360"/>
          </a:xfrm>
          <a:prstGeom prst="rect">
            <a:avLst/>
          </a:prstGeom>
          <a:noFill/>
          <a:ln w="190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Arial Black"/>
              </a:rPr>
              <a:t>L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" name="Straight Arrow Connector 7"/>
          <p:cNvCxnSpPr/>
          <p:nvPr/>
        </p:nvCxnSpPr>
        <p:spPr>
          <a:xfrm flipH="1">
            <a:off x="2171160" y="2209680"/>
            <a:ext cx="38520" cy="335376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Straight Connector 9"/>
          <p:cNvSpPr/>
          <p:nvPr/>
        </p:nvSpPr>
        <p:spPr>
          <a:xfrm>
            <a:off x="2133720" y="2209680"/>
            <a:ext cx="4647960" cy="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ith Door Clos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ll of Overcast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8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2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Straight Arrow Connector 7"/>
          <p:cNvCxnSpPr/>
          <p:nvPr/>
        </p:nvCxnSpPr>
        <p:spPr>
          <a:xfrm flipH="1">
            <a:off x="1523520" y="2971440"/>
            <a:ext cx="563976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0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5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3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Straight Arrow Connector 7"/>
          <p:cNvCxnSpPr/>
          <p:nvPr/>
        </p:nvCxnSpPr>
        <p:spPr>
          <a:xfrm flipH="1">
            <a:off x="2171160" y="2209680"/>
            <a:ext cx="38520" cy="335376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Straight Connector 9"/>
          <p:cNvSpPr/>
          <p:nvPr/>
        </p:nvSpPr>
        <p:spPr>
          <a:xfrm>
            <a:off x="2133720" y="2209680"/>
            <a:ext cx="4647960" cy="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.O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9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13:30:35Z</dcterms:created>
  <dc:creator>Barton, John - MSHA</dc:creator>
  <dc:description/>
  <dc:language>en-US</dc:language>
  <cp:lastModifiedBy>JCB</cp:lastModifiedBy>
  <cp:lastPrinted>2017-07-06T15:10:40Z</cp:lastPrinted>
  <dcterms:modified xsi:type="dcterms:W3CDTF">2024-03-14T19:33:24Z</dcterms:modified>
  <cp:revision>19</cp:revision>
  <dc:subject/>
  <dc:title>PowerPoint Presentation</dc:title>
</cp:coreProperties>
</file>