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4F6-D22F-4DF1-B181-64E6AEC3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19D-31BE-477C-939C-06E285B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45B-7868-4EB8-8DA8-1D47B5D6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7B0-DE71-45E8-A055-E20950A8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0D5-F08A-4E54-88B2-8B84F59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FA8-E25A-460C-8016-0C3FD930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31C-9D6F-4B99-A018-81F02A5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79D-0AB3-4E17-A08E-7A11586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005-7397-41BE-BDD1-40241221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AD5-FB8C-4A49-AF77-D96D833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9AC-1903-4BE5-88F1-D549C00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A90-7D4C-4A69-B140-AD90F7B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3872-F342-4A65-AAD4-5F66D998F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4 Craig DAY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Stoppin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nno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 With Door Closed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437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Unconsciou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Timbe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9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7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Straight Arrow Connector 7"/>
          <p:cNvCxnSpPr/>
          <p:nvPr/>
        </p:nvCxnSpPr>
        <p:spPr>
          <a:xfrm flipH="1">
            <a:off x="1294560" y="213336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Straight Connector 9"/>
          <p:cNvSpPr/>
          <p:nvPr/>
        </p:nvSpPr>
        <p:spPr>
          <a:xfrm>
            <a:off x="6553080" y="205740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o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ir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aging</a:t>
            </a:r>
            <a:br>
              <a:rPr sz="96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Inextinguishab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4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90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2.2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9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 With Door Closed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8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 in 3 entry response: “Help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Timbe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5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24-03-14T18:57:22Z</cp:lastPrinted>
  <dcterms:modified xsi:type="dcterms:W3CDTF">2024-03-14T19:16:57Z</dcterms:modified>
  <cp:revision>19</cp:revision>
  <dc:subject/>
  <dc:title>PowerPoint Presentation</dc:title>
</cp:coreProperties>
</file>