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668-C721-47FF-AFA6-C0B86702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A11-E7F3-47BD-BEA9-FF1D63D5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4D4-FF83-434F-9302-DEC0D9DE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30D-4F18-4CC4-9E1A-16F40779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61F-8A31-4094-BA13-1F8C4ED4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297-612A-4057-A9DD-DECA805D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27B-C046-448B-AEC5-429850B3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556-D1A5-49CF-A605-D7058F8F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319-6B44-47F7-98A2-39E16D6C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638-38F5-416E-A72C-6CE4371A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98D-B3DF-4927-BC70-05DD97A9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B2B-8BCC-4336-B0F1-1AAC311B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2A41-3B82-423B-92A9-50282340D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4 Craig DAY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Stopping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nno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M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 Stopping With Door Closed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437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Unconscious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ommand Cen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 Timbe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9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mok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-------------------</a:t>
            </a:r>
            <a:br>
              <a:rPr sz="9600"/>
            </a:b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nd of Smok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09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7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09840" y="1273320"/>
            <a:ext cx="5819760" cy="4311360"/>
          </a:xfrm>
          <a:prstGeom prst="rect">
            <a:avLst/>
          </a:prstGeom>
          <a:noFill/>
          <a:ln w="190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Arial Black"/>
              </a:rPr>
              <a:t>LC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" name="Straight Arrow Connector 7"/>
          <p:cNvCxnSpPr/>
          <p:nvPr/>
        </p:nvCxnSpPr>
        <p:spPr>
          <a:xfrm flipH="1">
            <a:off x="1294560" y="213336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Straight Connector 9"/>
          <p:cNvSpPr/>
          <p:nvPr/>
        </p:nvSpPr>
        <p:spPr>
          <a:xfrm>
            <a:off x="6553080" y="2057400"/>
            <a:ext cx="0" cy="34671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mok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-------------------</a:t>
            </a:r>
            <a:br>
              <a:rPr sz="9600"/>
            </a:b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nd of Smok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o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ir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aging</a:t>
            </a:r>
            <a:br>
              <a:rPr sz="9600"/>
            </a:b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Inextinguishabl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4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90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2.2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safe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2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9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 Stopping With Door Closed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8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6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Straight Arrow Connector 7"/>
          <p:cNvCxnSpPr/>
          <p:nvPr/>
        </p:nvCxnSpPr>
        <p:spPr>
          <a:xfrm flipH="1">
            <a:off x="1828080" y="320004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 in 3 entry response: “Help”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8763120" y="6458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 Timber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 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2437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mok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-------------------</a:t>
            </a:r>
            <a:br>
              <a:rPr sz="9600"/>
            </a:b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nd of Smok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8763120" y="6553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3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9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5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Straight Arrow Connector 7"/>
          <p:cNvCxnSpPr/>
          <p:nvPr/>
        </p:nvCxnSpPr>
        <p:spPr>
          <a:xfrm flipH="1">
            <a:off x="1828080" y="320004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7"/>
          <p:cNvCxnSpPr/>
          <p:nvPr/>
        </p:nvCxnSpPr>
        <p:spPr>
          <a:xfrm flipH="1">
            <a:off x="1828080" y="3200040"/>
            <a:ext cx="5258520" cy="10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.O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13:30:35Z</dcterms:created>
  <dc:creator>Barton, John - MSHA</dc:creator>
  <dc:description/>
  <dc:language>en-US</dc:language>
  <cp:lastModifiedBy>JCB</cp:lastModifiedBy>
  <cp:lastPrinted>2024-03-14T18:57:22Z</cp:lastPrinted>
  <dcterms:modified xsi:type="dcterms:W3CDTF">2024-03-14T19:16:57Z</dcterms:modified>
  <cp:revision>19</cp:revision>
  <dc:subject/>
  <dc:title>PowerPoint Presentation</dc:title>
</cp:coreProperties>
</file>