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09B-FC30-489E-B121-43DE2276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A98-CBD1-4271-9C70-14EBD58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1917C-1319-4E47-8016-7552597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739A5-4FC7-448B-918D-74B5B8A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4C282-1E27-4CFB-BDC1-37DEAEC6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F4301-E274-489B-A38F-85FA38E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2FA95-48BA-498E-ADB2-BBBB293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34C92-A8A4-4469-9192-5E32571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136F9-053B-4EBC-9F8C-F6F26C09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3F242-8BB7-42D1-9366-9B5A9226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78088-B1C4-453D-9AF5-8C87948E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9275E-6EC7-46EA-9A52-5831C8BD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BB1-A873-49FF-88BD-3DDE4ED8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DBD38-341D-4816-8ABE-6AF31DB1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66AC9-5F56-4EA7-B14E-5DA8A505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24849-E6DE-4222-A3D0-E0132444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755C4-272B-4880-A429-DD6C6218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FD2EC-69CF-4A32-A1BF-2130B00A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15209-46CF-4FF8-9B7D-8854BBB5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5B618-D6BB-4587-A27B-E42F75BD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5DBD6-5512-448F-B5FD-28A77F1D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F46D8-F4A0-4A60-AC38-142A47B1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F65FE-09FA-4376-9AB6-88E4B9BF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61A-814C-4187-B565-CB8443C5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52F21-E93B-4E32-9CEB-6D7E1FA7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B67D9-C906-4348-A57E-43269CF6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594FE-3DC9-4732-BCE4-1ABA8178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47750-A0DC-41A3-B735-BC75BC24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E9822-B3C6-4762-AD8B-FB23075E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659E4-D97A-4470-ADE4-0753660A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8E1AB-3491-49BD-A06A-F175AFF4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52DA7-B11E-4274-8741-93E89F78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2FB5F-3815-46C3-BBED-D5CD11F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1DE67-39CE-49A2-BCE3-7BE13B40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517C-04DD-45EA-A15B-5922FD44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073A3-C108-4802-BB78-7A1F015B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B21C5-6D35-4C00-AEB5-011EFAF7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198B0-2844-4C13-B55D-2BC263F6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6B291-B1F9-404A-A2C0-F4B1E380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F21D7-AD5F-4A20-878C-C77732FD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CA649-2F2D-4C76-B5D9-A9E3C3B5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54D47-58A6-4384-8620-A0021446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E3492-88F7-4C8A-A2CC-68166645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3285A-7DAE-43D4-9C40-BA900AFC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7C4AD-CFEF-4236-8150-AA97A476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F666-F3D3-462B-8D13-2AD80FB5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12539-245B-4EDE-A50C-F51F2089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9B8C8-929C-489B-B351-535542F6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EC51F-DADB-4F53-BF47-00AB62F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76BF3-EB5A-405F-98E9-99844EA9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7E51D-A5B5-40B1-B428-E393A5C7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190B6-7C3C-4F73-AD34-E62C0906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05B6D-EB92-459D-9444-47ECDCC8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E3FCD-77F4-4D4D-9B4E-5D0871F5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C3866-C6A5-487B-88A4-9776F40B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B8CC7-8954-4CF6-BA5F-766AE1EF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BA1F-F68E-411D-9577-6AF5F209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C9A80-A6B0-416C-B139-8760B304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F7744-0186-4D79-8C13-D8103C46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B0E9C-AFEE-45F5-9628-929A81E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9A249-E928-4CD8-9AC0-22A10FC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C3501-EBC8-4453-A6B5-65B9A694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D4EDB-77C4-46EE-9478-2461FDE8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8C98C-AD68-4748-AE55-D86F8A81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7B1A-F3C8-4698-85E8-42CB7048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8239-EEB7-4674-A4A6-850D6B2C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8411-7D1A-4318-8269-04D52A55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92A1-4087-40DB-AAE4-03C475F9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1A6-DA6B-4B34-A684-C187DD01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86B1-1FAB-4598-BC81-A0A1DBA7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A9C8-DE07-4B3F-8FC8-A38DFB2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8598-3E5B-4C64-8E61-B674356B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D58C-8CD8-4B22-AF8E-1B126DAD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754E-7361-42E8-939A-ADA39167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0541-9998-4E8B-9EAF-F1625235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B46C-8118-41D2-AB43-32D08937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2611-EA22-4A97-BE0B-8B290E46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2C67-8B86-45C4-A340-E0CE87EB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AD53A-C2C2-4A59-9B73-9F06F968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E61-CFB3-415A-BDBA-80D4B9AA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27BB-4F44-44A9-B01C-B4F4A2E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90D6-9104-403C-BE48-32C6B95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32D6-7011-4CF0-9C26-1894757A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9150-B264-4C19-91AF-A4A7F37E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B66F-1D13-4D0D-835C-ED30EBBB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9A43-2A6E-4F4A-9564-BAC99264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5FE2-A738-4099-9669-E0767B62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A1B44-5522-48DA-B6B6-578400E6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1B9C-932D-43E9-9D86-B8628E9D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85F6B-C1CB-4122-ABFE-41E36F0C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C80-90E7-49D0-A0E6-281C23F3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847E-F119-434E-8DB3-F2BBFA1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267A-1707-425B-BEFE-A5575BF8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AF86D-086D-48DE-801C-26C301A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4155-188E-4968-995F-AAF07304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51B9E-BB85-4CE0-A5D6-CA0C31A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8653-2506-43AB-AC95-44343AD6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45B9-496B-423F-A191-A9BCB1D1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A774-A478-4C20-83AC-FC174DA4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F4D55-73D2-4121-A0C7-267EFC00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D5536-4731-48B0-8F8F-F2E0AA79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273-1EF1-4B00-82D3-AAAE3D1C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06C34-6D7C-4054-AB38-33A09593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E3C4-E7A5-45D8-916B-659B0CBE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BFE8-B4C7-4D4A-B546-2928304E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31C37-24A8-4FCE-9259-C1762750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330B4-5A5C-41C1-8D6D-265F687A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5AEC-B1AC-4816-A48B-81062993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2549-317E-46D9-A979-8A506A28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DC88C-7AB3-404E-8F70-4F103C1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9064D-A8DC-41AB-B538-FAF74857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E30BF-57EF-48D6-8E5A-187D6329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DC5-2AE6-4CCA-8E15-A65282FC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E1051-0AD9-4FC9-9740-44059C01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AB868-9C43-466D-9211-4EEB6F06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E5D5-A59A-40BE-9D22-AE765CCA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A755B-05EE-4F3F-88BB-CC63E0E3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9C866-5C7F-41B9-B390-A010DE9A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B2FAE-5163-4AC6-8A93-20D306E6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8248B-E3C3-4128-A200-C6FC6A3E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D0BB0-CFBE-4E92-A144-0ED84E64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E7C8D-6EC1-4DBC-A81D-BF7ED18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37CDD-9884-4612-98D9-2CCE58D2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8A2-DF81-43E6-A4EE-D0B0852A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DCFCB-A98A-4571-A398-97DBFD27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4CF26-2CFC-4D2C-971D-DA3449D9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CFB4B-15BA-4997-A73E-88912DE6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9852F-9D8F-459E-A412-C8208ED8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ED5BA-C92B-4397-B705-DC14FEB3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6B5BF-8806-4423-942C-8E37585D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89EE9-9DE4-4EE1-B2DD-DF197753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A55E8-2846-4297-8076-E47E94F4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D2352-9CE1-4E67-90F5-E10E4F02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60D7-0C6F-4B12-AF08-3042B53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4F2-5E96-451B-87F6-5C6DBB5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14B39-ED0E-46CB-89DF-78E561A6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C1484-EE85-4E58-8626-737C62D8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30A41-E118-489D-B6A5-8B24B13E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55A9F-06C8-4293-94D5-F894ED41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F0C1-C805-48FD-A984-A8ED1D48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30D4C-D231-4E05-A048-406426EC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87AD7-06DD-472E-B35A-37C74EB1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29A3-76C9-4A6D-A0A4-F34E20D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EE83-A463-4049-9AB8-97FB4BAB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0460D-4E08-4562-BB8C-E99611B4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234-F840-4A8F-B56C-001D126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E4AEC-A351-41FD-A3C4-0122DA72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49260-3B4F-4999-B0AD-AE8C09F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26822-92F3-4D87-AD1F-A1DB237D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E5DC5-4720-4AC8-BA3C-FB689BCE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D9B56-AA67-41C8-B426-660BC08D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E7EC3-E253-4081-ADB2-9A9788D0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8F846-59AE-4B08-B1BA-5E259723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F45CE-7C74-4639-9B18-63723F75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DB108-FE32-4952-BE35-3338CAC6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DD345-77D8-438B-A5FF-B68C6ABC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2C4A-B0AF-4DEA-B206-DC590336A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E701-AF2B-4B3B-A8CA-0FF50DF9A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306F-552B-4898-A5BC-0BCBC0DB4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2DBD-9380-4648-B127-339078CBF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9B6E-B906-40C2-B12C-6404DE8CD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391A-3D39-4786-ABA3-0C4F8C9F6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17E1-B65D-450D-A71D-BE5D8993F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555A-05A7-4636-AFE3-041C11826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6F2A-0FD1-4F5D-AAEC-A9DD84D04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2C5E-352A-4BAC-815C-876F2A0F2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30F2-2BCE-4E79-A2C7-849B38076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26DB-B617-4E87-8D62-513511643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1C82-A599-40B2-A693-B65783D7F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3 Loveland Coal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.O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47" name="Straight Arrow Connector 7"/>
          <p:cNvCxnSpPr/>
          <p:nvPr/>
        </p:nvCxnSpPr>
        <p:spPr>
          <a:xfrm flipV="1">
            <a:off x="2209320" y="2133000"/>
            <a:ext cx="4420440" cy="766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8" name="Straight Connector 9"/>
          <p:cNvSpPr/>
          <p:nvPr/>
        </p:nvSpPr>
        <p:spPr>
          <a:xfrm>
            <a:off x="2214720" y="2133720"/>
            <a:ext cx="0" cy="34671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 C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 C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or Judges: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 E Barricade Response “Help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8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ommand Cen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conscious Live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ter Over Knee D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ter Over Knee D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topp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Electric Water Pump Switch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 ON     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Oval 2"/>
          <p:cNvSpPr/>
          <p:nvPr/>
        </p:nvSpPr>
        <p:spPr>
          <a:xfrm>
            <a:off x="3581280" y="2720880"/>
            <a:ext cx="533520" cy="533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traight Connector 6"/>
          <p:cNvSpPr/>
          <p:nvPr/>
        </p:nvSpPr>
        <p:spPr>
          <a:xfrm>
            <a:off x="4037040" y="3174840"/>
            <a:ext cx="763560" cy="635040"/>
          </a:xfrm>
          <a:prstGeom prst="line">
            <a:avLst/>
          </a:prstGeom>
          <a:ln w="139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or Judges: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Barricade off 2 Entry in XC 3 Response “Help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2.0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9" name="Straight Arrow Connector 7"/>
          <p:cNvCxnSpPr/>
          <p:nvPr/>
        </p:nvCxnSpPr>
        <p:spPr>
          <a:xfrm flipV="1">
            <a:off x="2209320" y="2133000"/>
            <a:ext cx="4420440" cy="766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0" name="Straight Connector 9"/>
          <p:cNvSpPr/>
          <p:nvPr/>
        </p:nvSpPr>
        <p:spPr>
          <a:xfrm>
            <a:off x="2214720" y="2133720"/>
            <a:ext cx="0" cy="34671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6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6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o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Electric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um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ump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b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Discharge L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 Stopp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509840" y="1273320"/>
            <a:ext cx="5819760" cy="4311360"/>
          </a:xfrm>
          <a:prstGeom prst="rect">
            <a:avLst/>
          </a:prstGeom>
          <a:noFill/>
          <a:ln w="190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Arial Black"/>
              </a:rPr>
              <a:t>L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13:30:35Z</dcterms:created>
  <dc:creator>Barton, John - MSHA</dc:creator>
  <dc:description/>
  <dc:language>en-US</dc:language>
  <cp:lastModifiedBy>JCB</cp:lastModifiedBy>
  <cp:lastPrinted>2017-07-06T15:10:40Z</cp:lastPrinted>
  <dcterms:modified xsi:type="dcterms:W3CDTF">2023-04-26T22:26:46Z</dcterms:modified>
  <cp:revision>10</cp:revision>
  <dc:subject/>
  <dc:title>PowerPoint Presentation</dc:title>
</cp:coreProperties>
</file>