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C52A-084A-480B-9CBE-2A9F559F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F193-D989-4A12-9951-F8805649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B209B-1BFF-40F1-B4B8-19DE9E2C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C3652-3558-4C99-80A1-1E4AA2E5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165AC-C4ED-4CF6-8F5F-4B17795A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55A07-33FF-47BF-9A73-B4CDE61C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262F8-78C6-45EC-A4B7-D8576C07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EA9D9-AC6B-4531-9A23-63E604D7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4DF84-5E91-4256-BE47-719BD673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64E1E-0C95-4C60-8D69-78D60D39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61C58-6DE0-4EA2-82A6-6DC7ED5D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113992-3CB6-4B25-871C-7E9C7D30B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6480-698B-45A5-B3D4-09793F3F2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244F1-9089-4FAF-8E1B-15AC2FF3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8A860-6E54-40D1-8220-B3981055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1ABAC-085F-4F1C-B5CB-A94E2B8A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37447-D4AE-4B86-81AA-3F6C6C86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2065F-F6AC-401B-BFCD-AB71F5BB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614BE-A5D7-42FE-85D5-6E738475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ACD3F-E436-483B-9BA2-06753A80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FD563-5D53-4572-9511-E8ABCAE8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EBEAE-D510-4402-B74A-A478F864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4ECC0-BF2E-43D1-8360-8CD3E6E8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6544-14D6-4924-ABF3-5FE4661FD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6EAED-D149-4B22-B071-82527356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A9C2A-256C-48CB-A1CC-430ADD91E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873B5-FF5C-4C20-9E7A-6C5EF486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CBA15-6E36-40E7-8A89-42A46D54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E14B8-F06E-439A-BE64-26A66FDD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ADAD9-1EF3-424E-8C4B-B7A1280A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2F279-9672-4812-82CD-117B5921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65771-F41E-42DD-AF7A-069495E9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FE924-7369-4565-9C0B-079F4AEF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EDDAE-93DB-4B1E-B866-5CBA0367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A69C-4F3E-4014-91ED-5AD1B7E41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6F1FF-214D-4018-B943-A129391D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37727-FC54-4491-AF6A-0142F8A39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22028-47CA-45AF-A834-283CD126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6A795-4C8D-4F08-97D9-9FE18FA49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3681A-C260-486D-8610-C8B193A6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78679E-D816-4505-87CB-9D19062B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47CEFE-32EE-4F48-B0ED-BA330EC1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D763CF-4D5F-46B9-BEFB-98FE70A5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DFE41-5312-4D12-AF55-2865D77C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D6BB0D-62B8-4D05-9C81-6024C7C0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EA72-72E5-4AC8-8294-33488342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B3F0B5-0752-42DA-9D18-0386EE0D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02A81-7214-43B3-9B82-66029093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7A339B-7508-45B3-8726-ACE5EB69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F9EE3-1F3F-46E3-BB0F-0FA2C5E6B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1CFB96-D811-4369-B4C7-2BB1FB769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84DA1E-00CE-438E-8B03-1E1CC8BA2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B8D1D3-B8DC-4DAD-845B-0C097425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B38FAE-5402-471C-A465-B64C32E7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D00375-8E5A-473C-ADA1-B965CC4C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FDEA8B-7AD2-4E99-9C6A-7A105B93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38FD-7F0F-43CF-B475-C4B8F117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6B6C7D-7B5B-4B58-BEEA-A6335360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ED34D6-58D4-4FC0-9174-2D61110E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B87450-4DC4-4E17-8CA7-4F1FF153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6BC2C3-4D12-4842-A46F-76CE55BD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2A75B9-D746-4F11-8D87-7B18A122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B30442-F63F-47AE-AA89-A3E2D9091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EB24A8-5615-49B9-92C4-1B80B1DEE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CC4E-3D62-43E7-ADDA-5F7D09A8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A80F-2A73-49D1-9B43-1B46DEEE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D896-1C49-49AB-97C9-C5B847AE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A805-9374-4C03-92FB-31CCB589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FB69-FCAF-4849-B98D-106C8E81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ECF5-5099-4CB9-96A5-38F5D015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2DD5-41FC-4BDA-A693-547C15A9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5E71-CE8A-4FFE-AB30-F3D909F8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E192-CA2C-4B04-A0E0-A3FD3EC10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3459-0433-4AEE-956A-C677EF37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9C8CD-A2DD-4E49-B2D4-C3E209DF8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6FD1B-6B94-49E0-97E6-BFDAF4D6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F356C-1ACF-4B48-B87F-17A8401E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669B0-CCCE-4CFA-AA2D-C712FC3D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42F57-246C-45B1-89B6-78FE3481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E1A1-60C8-4D2A-81F2-7118E4BA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79D5F-89D7-4FB1-AA59-A77B17AB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1EE60-475E-418D-8326-F478E919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75003-706B-4DDC-A049-067D1BB5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28813-BBD4-4F2C-B29F-442324F5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9F1EB-79B8-46EA-A4E9-2332AB88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CCBD6-9BE1-422F-9F7C-AC4AB9504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5BB9B-05F9-4E87-8AC4-F5E2BDCF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72256-8160-4F6A-885E-07B9CB8B2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0F9A4-0CDE-4B2B-9E1E-94DDE6DE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7C2B5-5FAA-4C54-B234-F07B9394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C0EF-1B0C-454F-982A-8F9D9ADA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A4F11-D9BD-427B-9E72-2DE87F62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00945-FF34-422F-8DC7-546FEE8C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F7D89-CC5E-4448-A99A-0EE88624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36973-43A6-49F0-A6F7-AAE619B8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026B9-125E-4B82-9B25-803F298B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41972-1004-40E0-92BE-A68AEF97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D4907-04A1-4B11-86A4-728ED386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BF8CD-7A5B-4B77-A123-097320C3F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AF90C-0DC0-4295-95BD-2CA90DAA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F3587-C805-4AE1-82C1-1D1BCA51E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C629-9418-41FA-80C1-314E6073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4A965-0495-4E61-A516-FD8D63B6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610C7-D0CE-47A3-A023-F3DDEE1A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74057-A99C-4849-8D68-A73EEF70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4DB19-C625-4C30-A8D4-5A1BA94A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FCC22-077D-4577-8300-C53B29FD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93D28-D372-4C66-85BF-97F156C2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2B580-B16A-4A23-92DB-F0E70FE1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E8359-F0E4-49CD-98EB-F772ABD1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418F9-68E9-4409-A77C-C5D0E9C1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1EDAD-C1DB-4918-B39E-F501AEBEB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1657-0D40-42E2-9488-34491559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96293-BAA8-4AD3-96D7-C76CD0022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AF230-D611-48C0-B42D-B8DC1335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524A7-6D22-413C-AA6F-2B80524B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F2295-A557-4E35-B92C-2E5743C6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7FDC6-1650-4770-A59C-3E507504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14F21-BE00-40F7-9135-DC38888F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57EF4-D8D3-4883-884D-022C6CB4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DDC64-2C0E-40AD-9456-77B146EE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8F060-E1DC-4358-A05F-A0DE8485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40D9D-77B3-4585-BC43-C972681C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99F5-E045-4A13-9532-2518F118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97BF4-8D7A-4519-AC28-1D46D82B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B6407-018F-4ED2-9AA0-BE94F6744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614DD-5ACB-4B79-9218-7D8C78B3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8F586-1040-4014-A9EB-CB145297A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8F81C-7C3B-4194-BF1C-6D5A60E9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F6369-43CB-4DC5-8083-03190821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FE335-D18D-45CB-BA94-A1E3AE9A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59F9D-8F9C-4EE7-848C-CD6512CA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7341B-853B-49DA-8A6B-D3395B39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760C5-C447-4CC4-B3B3-61DECCD2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B695-C489-46FC-A440-E1C7F68D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DEBD1-A602-4B2E-A192-CD9272EC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6645F-18EB-43E7-A16A-07D2C7A2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A9712-523A-4633-8EA1-AAA61B79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2A036-76AF-4FA8-BDD9-1EAE9842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2782F-EDA5-45D1-AE83-F25C151A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90E41-C680-49F8-A277-7E228A08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26D01-62CE-43A2-982B-1589602C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7703B-3CFC-4BF1-8FBD-A6518C5B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BF57D-1B59-4E3E-A53B-7A4AF40E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3669C-A42D-48C1-99AC-716CE999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6C59-AAB8-47AA-9FBB-50918F73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76662-25AA-46CD-85EE-871E394E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CD5F0-F13A-492C-AF9A-1BABDEAD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44585-A7E2-4837-92F5-CD53D7DC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6BF07-15E0-4B11-A37B-ACCC9868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AF802-C7C1-459A-9F71-FF98049B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6624B-8F57-4573-B768-A6D6F930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19B53-A7B9-4416-B21D-2650CF64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2EB21-6FDE-4B0F-8167-51E2CEA4E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CF02F-4A17-4C53-8DA5-47DE5703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2FA6E-E513-416F-AE6E-CDE7887A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AB2C-0629-458A-BB37-F4D6646154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46F0-9357-4C7F-B713-D813FC7925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326A-D664-4645-A97E-88BC2BF64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133E-09F9-4F75-943E-F8DB009470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97B9-F847-44AC-A2D0-9BFE3F79CB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EFE5-EA73-47C7-B29A-256A1D1536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E725-DD3F-4B23-92BA-2779825DDA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A7F6-965A-456F-9414-B975FDFECF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3EA9-F5EC-4BB5-A7A5-3394A5BEEA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56A0-BA91-4D27-8977-0C06663059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E762-F401-4A0E-8EF4-1641EADB9A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DD54-C0B1-4781-95C0-770BE91BF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AC69-C8D1-46F0-83D4-2DEC27B7A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23 Loveland Coal DAY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.O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47" name="Straight Arrow Connector 7"/>
          <p:cNvCxnSpPr/>
          <p:nvPr/>
        </p:nvCxnSpPr>
        <p:spPr>
          <a:xfrm flipV="1">
            <a:off x="2209320" y="2133000"/>
            <a:ext cx="4420440" cy="76680"/>
          </a:xfrm>
          <a:prstGeom prst="straightConnector1">
            <a:avLst/>
          </a:prstGeom>
          <a:ln cap="sq" w="254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8" name="Straight Connector 9"/>
          <p:cNvSpPr/>
          <p:nvPr/>
        </p:nvSpPr>
        <p:spPr>
          <a:xfrm>
            <a:off x="2214720" y="2133720"/>
            <a:ext cx="0" cy="346716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Airtight Ca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Airtight Ca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Live Conscious Min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For Judges: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1 E Barricade Response “Help”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arricad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2.9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0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8.8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Oval 2"/>
          <p:cNvSpPr/>
          <p:nvPr/>
        </p:nvSpPr>
        <p:spPr>
          <a:xfrm>
            <a:off x="1143000" y="228600"/>
            <a:ext cx="6629400" cy="6095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Oval 2"/>
          <p:cNvSpPr/>
          <p:nvPr/>
        </p:nvSpPr>
        <p:spPr>
          <a:xfrm>
            <a:off x="1143000" y="228600"/>
            <a:ext cx="6629400" cy="6095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ommand Cent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Oval 2"/>
          <p:cNvSpPr/>
          <p:nvPr/>
        </p:nvSpPr>
        <p:spPr>
          <a:xfrm>
            <a:off x="1143000" y="228600"/>
            <a:ext cx="6629400" cy="6095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Calibri"/>
              </a:rPr>
              <a:t>BC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Oval 2"/>
          <p:cNvSpPr/>
          <p:nvPr/>
        </p:nvSpPr>
        <p:spPr>
          <a:xfrm>
            <a:off x="1143000" y="228600"/>
            <a:ext cx="6629400" cy="60958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arricad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-360" y="24379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Unconscious Live Min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5.2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6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9.1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Fa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Water Over Knee Dee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Water Over Knee Dee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Permanent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Stoppin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ave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Electric Water Pump Switch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 ON     OFF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Oval 2"/>
          <p:cNvSpPr/>
          <p:nvPr/>
        </p:nvSpPr>
        <p:spPr>
          <a:xfrm>
            <a:off x="3581280" y="2720880"/>
            <a:ext cx="533520" cy="5335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traight Connector 6"/>
          <p:cNvSpPr/>
          <p:nvPr/>
        </p:nvSpPr>
        <p:spPr>
          <a:xfrm>
            <a:off x="4037040" y="3174840"/>
            <a:ext cx="763560" cy="635040"/>
          </a:xfrm>
          <a:prstGeom prst="line">
            <a:avLst/>
          </a:prstGeom>
          <a:ln w="139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ave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arricad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Live Conscious Min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For Judges: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Barricade off 2 Entry in XC 3 Response “Help”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ave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ave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5.0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4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2.0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Fa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attery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Scoo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 Black"/>
              </a:rPr>
              <a:t>Unsafe Roof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9" name="Straight Arrow Connector 7"/>
          <p:cNvCxnSpPr/>
          <p:nvPr/>
        </p:nvCxnSpPr>
        <p:spPr>
          <a:xfrm flipV="1">
            <a:off x="2209320" y="2133000"/>
            <a:ext cx="4420440" cy="76680"/>
          </a:xfrm>
          <a:prstGeom prst="straightConnector1">
            <a:avLst/>
          </a:prstGeom>
          <a:ln cap="sq" w="254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0" name="Straight Connector 9"/>
          <p:cNvSpPr/>
          <p:nvPr/>
        </p:nvSpPr>
        <p:spPr>
          <a:xfrm>
            <a:off x="2214720" y="2133720"/>
            <a:ext cx="0" cy="346716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 Black"/>
              </a:rPr>
              <a:t>Unsafe Roof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5.2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4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9.6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6.0 % CH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2 PPM CO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19.6 % O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Bod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Fa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Electric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Pum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Pump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abl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Discharge Lin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Permanent Stoppin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1509840" y="1273320"/>
            <a:ext cx="5819760" cy="4311360"/>
          </a:xfrm>
          <a:prstGeom prst="rect">
            <a:avLst/>
          </a:prstGeom>
          <a:noFill/>
          <a:ln w="190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Arial Black"/>
              </a:rPr>
              <a:t>LC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31T13:30:35Z</dcterms:created>
  <dc:creator>Barton, John - MSHA</dc:creator>
  <dc:description/>
  <dc:language>en-US</dc:language>
  <cp:lastModifiedBy>JCB</cp:lastModifiedBy>
  <cp:lastPrinted>2017-07-06T15:10:40Z</cp:lastPrinted>
  <dcterms:modified xsi:type="dcterms:W3CDTF">2023-04-26T22:26:46Z</dcterms:modified>
  <cp:revision>10</cp:revision>
  <dc:subject/>
  <dc:title>PowerPoint Presentation</dc:title>
</cp:coreProperties>
</file>