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C3E4-2BD6-4EAB-A163-EF673F3DE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6E18-2871-4AFC-962E-32580919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6EC63-8876-4318-B90F-422A0C9E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A1C369-ADB6-4603-B7A9-72D7B0D5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67C1E-B78F-4E1F-A1AF-ED7957F8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F340F1-F34A-42FD-AB7D-30E21D97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27ED5-658B-4F5B-B434-25253E0A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C065A9-FCD9-45A4-94B5-73179D12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9F4192-B778-4A39-871C-65CC2A75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72A65A-F6AB-4BE6-B1ED-73F172D7D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3FE28D-5F80-41FE-A04E-116556FFB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8949C1-9AC1-421F-9151-68514100E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5983-7BD1-4EF6-9D3F-4F1E19FBE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5A946-7F6E-4D36-8005-118B2B84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B805BF-C012-4178-802F-93926D30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FBD5DD-949B-4DCA-BA3D-18AC9BB6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B40AA8-0F0A-41FA-A45A-905C06A9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0CCC7C-416A-4777-9DF3-14D9CB59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C2976C-B17D-41D0-A3B7-A9E7D848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6AD1AA-CEC6-450A-B32E-ACD25268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A94678-2046-48B6-9D93-A63F4412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3592FF-0A1D-4648-9CD5-7A31F615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84540F-D6FC-43D9-9FCA-8FA205D30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4041-6606-48C8-82BF-C3C400757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793577-0DDC-4536-9011-56ED87FA8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14890-8CB8-41AB-96B4-38AEABF8A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BD7E1-E534-43F1-B9D5-F47242D9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64336-854C-4022-8ECA-DD5B49B5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1F63F-250C-4DF8-9FCC-0916B96A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76425F-20DD-4221-83EF-C7DD32C3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DB855-A6C2-4478-B418-137FDC4A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69AC4-A4DD-461B-AA8E-2B23112E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830AC-2EC2-4508-B893-343DAC52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5DBD3-BC4A-4904-A1FB-39DB633A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FA17-18BE-4A4B-BDEC-07290D8F3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2AD7F-99EB-4D71-97F5-517FF5F6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185217-150B-4C20-96FD-15D106C48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D1A83-505D-4A34-B567-E761BE41B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E92326-26A7-4E37-AC49-F4208054A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685EE5-A233-4276-A1C1-249B6E7C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F5C45A-86BB-4795-92AA-F6349542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FAA4C1-F864-4C4B-9D0B-86EA0BD4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D82D86-131D-476C-A0DF-EAC1BC87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E58942-623F-4D18-AE98-B1C8884D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62D0DC-605E-4C47-B3FA-FBB78FBF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33FD-28D7-49CA-90C0-807BE9BF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EA20A8-6323-4334-A26E-ECDA1F99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C4BAFC-0C75-496E-81C1-0A0CF5C1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A943E-104D-4E75-AF67-2F753724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C75514-4754-4E1C-8937-A290311B5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B1F0E0-5B64-40DC-B497-2E0EA7C0F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FB9F2E-2374-499B-A214-4D2E68080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A0D531-99E1-4867-AA06-6435BB1C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DFA40D-63CB-4B29-A663-DBC5A89E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C1600C-0AD6-4ECD-9C39-FE6EE765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783930-F643-4458-9E2C-EA9C3299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9E4F-8707-4AA5-B35F-46DC2F41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EAC377-899A-4969-BDC5-84FEDEFE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2C3EA2-167F-4D62-BCC6-F12EA10C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E701ED-30C0-4F13-8D34-D9D865E6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E88153-EEB8-40E2-B37E-162F3489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117C75-7BEA-48C9-93FB-AB9375D4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C5F991-08FA-4C85-8C96-002C99A37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14EF85-BCEC-4FB0-BE97-5C2E5B5C5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295F-A474-48F3-BFC8-F4C74360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682B-ECE8-46E6-B761-0070BA43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EB6A-C0E6-4CFF-A551-B5B0CD44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CD1F-A66F-4AA5-8CAD-F5ECD007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BF3E-A50E-49B9-8A55-AAB6AFAE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2779-C73E-4458-A32A-05DCF955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E51B-8AD6-4C09-9D84-550FC161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1656-D20C-4F34-BCCE-60779722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D0A3-63D0-4543-B0EE-5DE923B98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4CEB-CD7A-4B22-BFC8-1CEC01DB2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B6881-9D05-4F03-80DA-37AE82148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0BCAF-ABB5-40E4-8E42-97E62212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C2FF7-BAA0-4F72-9ED4-6DB485DD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7EF03-6774-41C9-9F11-19CCC350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E50E3-5AEA-4D14-9A48-B30F347F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A8EC-9D2D-4B62-B83B-9966D52C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4C0C9-EDFD-4B43-8EA9-2834BA60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84FB5-A955-4C93-8C0C-B129C92F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F2A30-100C-4076-BE11-2C22448C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EB67D-A6F8-4D4E-BDD4-60A98F74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BE856-0951-44C6-98F1-0728D8B0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DD278-FC4C-4FDF-9924-03CE00DA4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1B4B0-8611-4768-B10A-1DBCDDCB0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BE5DC-3E8F-427A-BB0B-7F1F392EE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4F9AE-DAFF-4900-98DE-83B2DEE5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B98B5-E529-4C03-BA4E-CFB13F78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0D91-23A5-43A8-8784-FBE0C223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B4A46-7573-4F87-AF51-5FF57A4E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4B5E8-CB07-4B26-BBCB-BB655377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63DE0-402D-4413-BE87-54438174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8177C-9830-4900-975E-944F00EC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327DE-7467-4969-839B-51780D4F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CFFB1-049A-410E-801E-FDF0A536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E52EC-F708-4DFF-AEF6-3DE45A52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55FD8-50FB-4DD4-9BBB-26C1C9482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D08DF-D005-44CA-B60A-BAD911882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1C4C4-E42F-47F6-BA01-DFEBC452E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EF10-73BD-4FAE-B824-2F5DDE15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0CABC-B68A-4A4A-848A-B5007FDA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C0254-D7BC-4792-8C03-0F670317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87C55-DD58-47C0-B822-6BF46106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944E6-3EBE-426E-AF9B-6FF618B2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61E12-EE07-4E0F-B5C1-AB47E4C0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22653-6DD7-42FB-B8BE-3A2F8270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17217-C373-41D4-AF9F-6B4C1474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B0F95-5756-4317-842E-E46DA941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90A8F-04A6-42BB-BBCC-4D25318A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8E886-E823-4E53-A97F-FE13485D2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B6B5-7D07-41BD-A8AD-23416F38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8DD49-2833-4812-BC24-79AACDCD3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4AF2D-51DD-4C9A-ABE1-A33F224C0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97E6B-7DB6-41E4-9B6D-E55FCFBA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420CE-2BC4-4538-91BE-1D3208FD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8D89C-78FF-4A2E-BDD8-DE07CA22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6D06C-D757-46B8-A052-6EC8C3FD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16A1A-DAED-4944-9E1E-0CD2CF43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763F3-581F-4BBA-B75A-9600B7E1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2553F-52AC-443A-BF63-7145E387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B1678-A429-4DCE-8306-4C890759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38DC-5488-41DA-8A5C-1CA62EA5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B9D1E-15AB-499D-BEAC-2561D956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38ED3-DB2B-4F96-BC55-46D4835E9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60041-1268-49DB-9B89-6CF466BA2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971CD-D9F0-4E99-B11C-544A883A0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22811-8D0E-4431-9F68-E6D3135F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00914-A0C5-470A-A4DC-45974DA9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D83C2-399A-4AFD-8AD3-4703C654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78446-922D-416E-BDE9-FA0A7E30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0EB53-6A29-4449-A8D4-99711B95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0A840-B47C-4AB9-975E-8A4AC6EE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0E26-E94B-4CBF-A274-843FB683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2D9B9-7377-4BF7-87DF-BDFFBD45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2FC11-B64D-40E8-83FE-7F39E996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44845-C1E6-4080-BC03-16AF3286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4F5B5-3ECA-43F3-B9A6-9838AC831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78CAE-A000-4240-BEEC-EDF661CAE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B51D6-A753-474C-AFD2-D018EAC3D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17A01-4893-4CA1-804F-D6C11221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9481B-4009-4DBF-86C8-79B3B852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13F53-2A63-4E91-9733-E98EB0FA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967BF-EC7D-4449-A682-CB15442B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A675-A081-48F2-80BB-44BD30CF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5EFCA-E20C-43EB-B7E6-ADC12D51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9D4E6-774A-41C8-A8B4-8FEAEF2C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738BD-ECBD-4D90-8307-008A6623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125E7-69D4-4896-88B8-ED03AC13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8B31F-2BFB-41B8-8EF3-69D367B0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68193-D22B-45E6-A125-C7DAFD524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045DC-B774-428F-BC1D-491C601A5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C3C0D-E130-41FB-87C9-2834BA08C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908498-8E85-4E48-BEDA-717346D5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8E9E07-A2F7-4D74-85DA-B5F8AF54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053C-6C3B-44BD-A718-0A15ECBA4C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3070-92BA-43CA-BFE4-8B4CA2AFD3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0FE0-8AE6-4F46-9CF7-37540236A6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D0A2-2530-4B75-9B0E-014AEA4251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E427-06AA-461B-BF46-A88A098B2D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265D-4D4D-447C-AF78-C5B414CA69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4ECA-841A-4C06-844F-D49385593C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B579-0F33-431F-853A-8C695C356B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E41A-FCA5-42A7-8116-F4A0AE2D24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6BF8-0BC4-43F4-855E-A1B7D4511B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14AA-7AA8-4DF6-8F26-7A52AD7F80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020E-14FB-4375-AB32-9E3ACE4D29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8322-3884-483C-BCA6-7EA5D42BA1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23 Loveland Coal DAY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B.O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47" name="Straight Arrow Connector 7"/>
          <p:cNvCxnSpPr/>
          <p:nvPr/>
        </p:nvCxnSpPr>
        <p:spPr>
          <a:xfrm flipV="1">
            <a:off x="2209320" y="2133000"/>
            <a:ext cx="4420440" cy="76680"/>
          </a:xfrm>
          <a:prstGeom prst="straightConnector1">
            <a:avLst/>
          </a:prstGeom>
          <a:ln cap="sq" w="254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8" name="Straight Connector 9"/>
          <p:cNvSpPr/>
          <p:nvPr/>
        </p:nvSpPr>
        <p:spPr>
          <a:xfrm>
            <a:off x="2214720" y="2133720"/>
            <a:ext cx="0" cy="346716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Airtight Cav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Airtight Cav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Live Conscious Min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For Judges: 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1 E Barricade Response “Help”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Barricad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2.9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0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8.8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Calibri"/>
              </a:rPr>
              <a:t>BC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Oval 2"/>
          <p:cNvSpPr/>
          <p:nvPr/>
        </p:nvSpPr>
        <p:spPr>
          <a:xfrm>
            <a:off x="1143000" y="228600"/>
            <a:ext cx="6629400" cy="60958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Calibri"/>
              </a:rPr>
              <a:t>BC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Oval 2"/>
          <p:cNvSpPr/>
          <p:nvPr/>
        </p:nvSpPr>
        <p:spPr>
          <a:xfrm>
            <a:off x="1143000" y="228600"/>
            <a:ext cx="6629400" cy="60958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Command Cent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Calibri"/>
              </a:rPr>
              <a:t>BC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Oval 2"/>
          <p:cNvSpPr/>
          <p:nvPr/>
        </p:nvSpPr>
        <p:spPr>
          <a:xfrm>
            <a:off x="1143000" y="228600"/>
            <a:ext cx="6629400" cy="60958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Calibri"/>
              </a:rPr>
              <a:t>BC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Oval 2"/>
          <p:cNvSpPr/>
          <p:nvPr/>
        </p:nvSpPr>
        <p:spPr>
          <a:xfrm>
            <a:off x="1143000" y="228600"/>
            <a:ext cx="6629400" cy="60958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Barricad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-360" y="24379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Unconscious Live Min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5.2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6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9.1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Fac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Water Over Knee Dee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Water Over Knee Dee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Permanent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Stopping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Cave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Electric Water Pump Switch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 ON     OFF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Oval 2"/>
          <p:cNvSpPr/>
          <p:nvPr/>
        </p:nvSpPr>
        <p:spPr>
          <a:xfrm>
            <a:off x="3581280" y="2720880"/>
            <a:ext cx="533520" cy="5335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traight Connector 6"/>
          <p:cNvSpPr/>
          <p:nvPr/>
        </p:nvSpPr>
        <p:spPr>
          <a:xfrm>
            <a:off x="4037040" y="3174840"/>
            <a:ext cx="763560" cy="635040"/>
          </a:xfrm>
          <a:prstGeom prst="line">
            <a:avLst/>
          </a:prstGeom>
          <a:ln w="139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Cave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Barricad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Live Conscious Min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For Judges: 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Barricade off 2 Entry in XC 3 Response “Help”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Cave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Cave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5.0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4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2.0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Fac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Battery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Scoo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 Black"/>
              </a:rPr>
              <a:t>Unsafe Roof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9" name="Straight Arrow Connector 7"/>
          <p:cNvCxnSpPr/>
          <p:nvPr/>
        </p:nvCxnSpPr>
        <p:spPr>
          <a:xfrm flipV="1">
            <a:off x="2209320" y="2133000"/>
            <a:ext cx="4420440" cy="76680"/>
          </a:xfrm>
          <a:prstGeom prst="straightConnector1">
            <a:avLst/>
          </a:prstGeom>
          <a:ln cap="sq" w="254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0" name="Straight Connector 9"/>
          <p:cNvSpPr/>
          <p:nvPr/>
        </p:nvSpPr>
        <p:spPr>
          <a:xfrm>
            <a:off x="2214720" y="2133720"/>
            <a:ext cx="0" cy="346716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 Black"/>
              </a:rPr>
              <a:t>Unsafe Roof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5.2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4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9.6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6.0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2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9.6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Bod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Fac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Electric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Pum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Pump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Cabl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Discharge Lin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Permanent Stopping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1509840" y="1273320"/>
            <a:ext cx="5819760" cy="4311360"/>
          </a:xfrm>
          <a:prstGeom prst="rect">
            <a:avLst/>
          </a:prstGeom>
          <a:noFill/>
          <a:ln w="190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Arial Black"/>
              </a:rPr>
              <a:t>LC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31T13:30:35Z</dcterms:created>
  <dc:creator>Barton, John - MSHA</dc:creator>
  <dc:description/>
  <dc:language>en-US</dc:language>
  <cp:lastModifiedBy>JCB</cp:lastModifiedBy>
  <cp:lastPrinted>2017-07-06T15:10:40Z</cp:lastPrinted>
  <dcterms:modified xsi:type="dcterms:W3CDTF">2023-04-26T22:26:46Z</dcterms:modified>
  <cp:revision>10</cp:revision>
  <dc:subject/>
  <dc:title>PowerPoint Presentation</dc:title>
</cp:coreProperties>
</file>